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1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41.jpeg" ContentType="image/jpeg"/>
  <Override PartName="/ppt/media/image43.png" ContentType="image/png"/>
  <Override PartName="/ppt/media/image37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39C95-92CF-4157-9C43-1C0C562F8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E9DF2-ADDD-4052-8C51-9A01391D0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Many approaches view digital circuit as a ’rigid black box of noise’ (an evil you must live wi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Hence noise reduction methods focus on optimizations in the physical dom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he PDN is a passive fi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y actively using Dynamic Power Shaping to change the dynamic current profile of the circuit, the noise and dynamic voltage drop characteristics of the system is improved, </a:t>
            </a:r>
            <a:r>
              <a:rPr b="0" i="1" lang="da-DK" sz="1200" spc="-1" strike="noStrike">
                <a:solidFill>
                  <a:srgbClr val="000000"/>
                </a:solidFill>
                <a:latin typeface="Arial"/>
              </a:rPr>
              <a:t>for any given physical PDN implementation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As such, Power Shaping optimization is orthogonal to existing optim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888AE-D374-4ECB-A79E-2D66D8DC21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5245-8A48-43E3-8000-62753DFB6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98D2-C756-4464-9AA1-E3CA8E9A1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6901-9CBA-4BEB-B45A-6D674417B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77EC-FECC-41AC-8ABD-FD4B95954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9C4F-0278-4084-B73D-47A47C54D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D7DE-E084-4DD5-826C-A3ED407DE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5E2A-D1D4-4280-9881-2D5CE8520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B0FF-2A1C-4C58-A1C0-C6C1AAF3C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2E80-AB72-4B91-9E37-368186A43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4669-FD15-4267-A860-08BBBAF57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FC52-2F91-4ADF-A0CB-C58A0916B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7C5D-9968-46F9-9D5C-DEE004A21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5D36-1C2B-4449-B526-1E728348FA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4"/>
          <p:cNvSpPr/>
          <p:nvPr/>
        </p:nvSpPr>
        <p:spPr>
          <a:xfrm>
            <a:off x="0" y="857160"/>
            <a:ext cx="8879040" cy="0"/>
          </a:xfrm>
          <a:prstGeom prst="line">
            <a:avLst/>
          </a:prstGeom>
          <a:ln w="2844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7"/>
          <p:cNvSpPr/>
          <p:nvPr/>
        </p:nvSpPr>
        <p:spPr>
          <a:xfrm>
            <a:off x="2042640" y="6437160"/>
            <a:ext cx="46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ower Shaping Methodology for Supply Noise and EMI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30"/>
          <p:cNvSpPr/>
          <p:nvPr/>
        </p:nvSpPr>
        <p:spPr>
          <a:xfrm>
            <a:off x="0" y="2863800"/>
            <a:ext cx="8874000" cy="0"/>
          </a:xfrm>
          <a:prstGeom prst="line">
            <a:avLst/>
          </a:prstGeom>
          <a:ln w="381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4" descr="stlogo3"/>
          <p:cNvPicPr/>
          <p:nvPr/>
        </p:nvPicPr>
        <p:blipFill>
          <a:blip r:embed="rId2"/>
          <a:stretch/>
        </p:blipFill>
        <p:spPr>
          <a:xfrm>
            <a:off x="8099280" y="228600"/>
            <a:ext cx="809640" cy="482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249120"/>
            <a:ext cx="205740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8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5680" y="2057040"/>
            <a:ext cx="8229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28e"/>
                </a:solidFill>
                <a:latin typeface="Arial"/>
              </a:rPr>
              <a:t>Power Shaping Methodology for Supply Noise and EMI Reduction</a:t>
            </a:r>
            <a:endParaRPr b="1" lang="en-US" sz="36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4320" y="361944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io Campi, Davide Pan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Microelectronics, Central Cad &amp; Design Solu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ate Brianza,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52280" y="5067360"/>
            <a:ext cx="82296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bias Bjerregaard, Mikkel Stensga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late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ehaghen,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ower Integrity Analysi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ntegrity is performed with Apache RedHawk vectorless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tatic IR-drop and dynamic voltage drop are verified at wire and insta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makes use of package spice models extracted with Ansoft’s HFSS and Q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the Power Shaping deployment is to minimize static/dynamic IR-drop across the die and voltage noise transmitted to th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1F07-4E7F-4927-B788-359EC27015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88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Back End</a:t>
            </a: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9200" y="1003320"/>
            <a:ext cx="8337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end was performed with Cadence 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XTRACTION / TIMING ANALYSIS  performed @100 MHZ with Synopsys StarRC / PrimeTime, all violations were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3098880"/>
          <a:ext cx="5384520" cy="1770120"/>
        </p:xfrm>
        <a:graphic>
          <a:graphicData uri="http://schemas.openxmlformats.org/drawingml/2006/table">
            <a:tbl>
              <a:tblPr/>
              <a:tblGrid>
                <a:gridCol w="1295280"/>
                <a:gridCol w="952560"/>
                <a:gridCol w="895320"/>
                <a:gridCol w="1346040"/>
                <a:gridCol w="8953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 Margin (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Margin (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Std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Buff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-Sha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88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Power Analysi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9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alysis was performed with Apache RedHaw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_1.32V_125C, RC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less Analysis, toggle rate 2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920" y="2927520"/>
          <a:ext cx="8534160" cy="164448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914400"/>
                <a:gridCol w="1143000"/>
                <a:gridCol w="914400"/>
                <a:gridCol w="1066680"/>
                <a:gridCol w="914400"/>
                <a:gridCol w="1219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k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k Tree Bu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 Clk P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 Data P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Sha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88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Static IR-Drop Analysis (Wires)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320" y="3429000"/>
            <a:ext cx="3581280" cy="2476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3581280" cy="2496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48320" y="3429000"/>
            <a:ext cx="3504960" cy="2496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648320" y="914400"/>
            <a:ext cx="3504960" cy="2496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19800" y="1050840"/>
            <a:ext cx="951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d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19800" y="3429000"/>
            <a:ext cx="951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68400" y="3429000"/>
            <a:ext cx="822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68400" y="1052640"/>
            <a:ext cx="822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d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338640"/>
            <a:ext cx="3657600" cy="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352680"/>
            <a:ext cx="3581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4"/>
          <p:cNvSpPr/>
          <p:nvPr/>
        </p:nvSpPr>
        <p:spPr>
          <a:xfrm>
            <a:off x="0" y="5805360"/>
            <a:ext cx="91440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andard P&amp;R caused congestion in the SW corner, opposite to the only gnd supp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wer Shaping induces uniform spatial spreading of ClkTree buffers and flops, resolving the iss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88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Dynamic Voltage Drop Analysis (Wires)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581280" cy="2496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1000" y="3390840"/>
            <a:ext cx="3576600" cy="2552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648320" y="914400"/>
            <a:ext cx="3504960" cy="2514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3504960" cy="2514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619800" y="1050840"/>
            <a:ext cx="951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d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19800" y="3429000"/>
            <a:ext cx="951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154000" y="3429000"/>
            <a:ext cx="822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54000" y="1052640"/>
            <a:ext cx="822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d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38640"/>
            <a:ext cx="3733920" cy="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3352680"/>
            <a:ext cx="38098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5894280"/>
            <a:ext cx="91440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e to high package impedance, and small number of supply pads, PG-grid is inadequate in terms of 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Shaping allows local resolution of the issue during P&amp;R, with no impact on PG-grid, package and boar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520" y="51814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margin for DvD was fixed at 500mV (37.8% of reference value) Severe criticalities appear in SW corner of standard c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Power Shaping: worst DvD value 478 vs. 630 (25% gain), no critic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tk_instance_DvD"/>
          <p:cNvPicPr/>
          <p:nvPr/>
        </p:nvPicPr>
        <p:blipFill>
          <a:blip r:embed="rId1"/>
          <a:stretch/>
        </p:blipFill>
        <p:spPr>
          <a:xfrm>
            <a:off x="4648320" y="1219320"/>
            <a:ext cx="4417920" cy="3581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instance_Dvd"/>
          <p:cNvPicPr/>
          <p:nvPr/>
        </p:nvPicPr>
        <p:blipFill>
          <a:blip r:embed="rId2"/>
          <a:stretch/>
        </p:blipFill>
        <p:spPr>
          <a:xfrm>
            <a:off x="152280" y="1241280"/>
            <a:ext cx="4343400" cy="35593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349200" y="76320"/>
            <a:ext cx="810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Dynamic Voltage Drop Analysis (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00040" y="838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897160" y="8380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76320" y="4710240"/>
            <a:ext cx="8991360" cy="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88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Max Dynamic Voltage Drop Summary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1600200"/>
          <a:ext cx="7696440" cy="1554120"/>
        </p:xfrm>
        <a:graphic>
          <a:graphicData uri="http://schemas.openxmlformats.org/drawingml/2006/table">
            <a:tbl>
              <a:tblPr/>
              <a:tblGrid>
                <a:gridCol w="1143000"/>
                <a:gridCol w="1019160"/>
                <a:gridCol w="1121040"/>
                <a:gridCol w="984240"/>
                <a:gridCol w="990360"/>
                <a:gridCol w="1219320"/>
                <a:gridCol w="121932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 (m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re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dd (m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d (m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ge Vdd (m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ge gnd (m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-Sha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7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9200" y="75960"/>
            <a:ext cx="780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Domain Current Demand &amp; Pad Response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510552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Shaping induces evident smoothing of the cells current demand  (55%), leading to a consequent smoothing of the relative pad currents (2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comparable, hence the integral of the I(t) currents is ~ same, but peak is smaller. This leads to better DvD behavior and smaller E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2000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38240" y="2895480"/>
            <a:ext cx="6829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9200" y="75960"/>
            <a:ext cx="780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Voltage Fluctuations at IC Supply Pads 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approximation of the EMI aggressiveness of a given IC can be provided evaluating harmonic content of voltage fluctuations at the die supply p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nalysis may feature only rough package modeling and no board modeling. It does not provide quantitative results but significant qualitative indications before correct package and board-related information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88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Voltage Harmonic content at supply pad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5715000"/>
            <a:ext cx="8915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wer Shaped design provides small gains at low harmonics, that become significant after the GHz 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even harmonics are reported as they are more significant due to the doubled frequency of the clock tr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53452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28600" y="4191120"/>
          <a:ext cx="8763120" cy="1306440"/>
        </p:xfrm>
        <a:graphic>
          <a:graphicData uri="http://schemas.openxmlformats.org/drawingml/2006/table">
            <a:tbl>
              <a:tblPr/>
              <a:tblGrid>
                <a:gridCol w="1143000"/>
                <a:gridCol w="762120"/>
                <a:gridCol w="685800"/>
                <a:gridCol w="761760"/>
                <a:gridCol w="762120"/>
                <a:gridCol w="762120"/>
                <a:gridCol w="83808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Sha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 rot="16200000">
            <a:off x="-313200" y="2445840"/>
            <a:ext cx="1695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Magnitude (dB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µ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F877-5BB7-47D3-94FA-BADD2A1DDB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0" y="106668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Power Supply noise and EMI Inter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Front-End level estimation and mitigation of power supply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h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deployment of power shaping on a supply critical microcontrolle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/Dynamic Voltage Drop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 behavior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30320" y="5172120"/>
            <a:ext cx="4686480" cy="6476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ce-Level Simulation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320" y="1044720"/>
            <a:ext cx="4190760" cy="672840"/>
          </a:xfrm>
          <a:prstGeom prst="can">
            <a:avLst>
              <a:gd name="adj" fmla="val 25000"/>
            </a:avLst>
          </a:prstGeom>
          <a:solidFill>
            <a:srgbClr val="00528e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1717560"/>
            <a:ext cx="76320" cy="559080"/>
          </a:xfrm>
          <a:prstGeom prst="downArrow">
            <a:avLst>
              <a:gd name="adj1" fmla="val 50000"/>
              <a:gd name="adj2" fmla="val 183137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56480" y="1108080"/>
            <a:ext cx="1523880" cy="609480"/>
          </a:xfrm>
          <a:prstGeom prst="can">
            <a:avLst>
              <a:gd name="adj" fmla="val 25000"/>
            </a:avLst>
          </a:prstGeom>
          <a:solidFill>
            <a:srgbClr val="0052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ard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80440" y="1717560"/>
            <a:ext cx="74520" cy="520920"/>
          </a:xfrm>
          <a:prstGeom prst="downArrow">
            <a:avLst>
              <a:gd name="adj1" fmla="val 50000"/>
              <a:gd name="adj2" fmla="val 174758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4410000"/>
            <a:ext cx="838440" cy="479520"/>
          </a:xfrm>
          <a:prstGeom prst="can">
            <a:avLst>
              <a:gd name="adj" fmla="val 25000"/>
            </a:avLst>
          </a:prstGeom>
          <a:solidFill>
            <a:srgbClr val="00528e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577240" y="4067280"/>
            <a:ext cx="101880" cy="330120"/>
          </a:xfrm>
          <a:prstGeom prst="downArrow">
            <a:avLst>
              <a:gd name="adj1" fmla="val 50000"/>
              <a:gd name="adj2" fmla="val 81007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179388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187020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99160" y="1488960"/>
            <a:ext cx="903240" cy="762120"/>
            <a:chOff x="4799160" y="1488960"/>
            <a:chExt cx="903240" cy="762120"/>
          </a:xfrm>
        </p:grpSpPr>
        <p:grpSp>
          <p:nvGrpSpPr>
            <p:cNvPr id="225" name=""/>
            <p:cNvGrpSpPr/>
            <p:nvPr/>
          </p:nvGrpSpPr>
          <p:grpSpPr>
            <a:xfrm>
              <a:off x="4799160" y="1488960"/>
              <a:ext cx="903240" cy="584280"/>
              <a:chOff x="4799160" y="1488960"/>
              <a:chExt cx="903240" cy="584280"/>
            </a:xfrm>
          </p:grpSpPr>
          <p:sp>
            <p:nvSpPr>
              <p:cNvPr id="226" name=""/>
              <p:cNvSpPr/>
              <p:nvPr/>
            </p:nvSpPr>
            <p:spPr>
              <a:xfrm>
                <a:off x="4870800" y="1488960"/>
                <a:ext cx="761760" cy="584280"/>
              </a:xfrm>
              <a:prstGeom prst="can">
                <a:avLst>
                  <a:gd name="adj" fmla="val 25000"/>
                </a:avLst>
              </a:prstGeom>
              <a:solidFill>
                <a:srgbClr val="00528e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99160" y="1541520"/>
                <a:ext cx="90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ckag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b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213520" y="2098800"/>
              <a:ext cx="75960" cy="152280"/>
            </a:xfrm>
            <a:prstGeom prst="downArrow">
              <a:avLst>
                <a:gd name="adj1" fmla="val 50000"/>
                <a:gd name="adj2" fmla="val 50118"/>
              </a:avLst>
            </a:prstGeom>
            <a:solidFill>
              <a:srgbClr val="8799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572000" y="2289240"/>
            <a:ext cx="1371600" cy="2044800"/>
            <a:chOff x="4572000" y="2289240"/>
            <a:chExt cx="1371600" cy="2044800"/>
          </a:xfrm>
        </p:grpSpPr>
        <p:sp>
          <p:nvSpPr>
            <p:cNvPr id="230" name=""/>
            <p:cNvSpPr/>
            <p:nvPr/>
          </p:nvSpPr>
          <p:spPr>
            <a:xfrm flipH="1">
              <a:off x="5219640" y="4079880"/>
              <a:ext cx="76320" cy="254160"/>
            </a:xfrm>
            <a:prstGeom prst="downArrow">
              <a:avLst>
                <a:gd name="adj1" fmla="val 50000"/>
                <a:gd name="adj2" fmla="val 83255"/>
              </a:avLst>
            </a:prstGeom>
            <a:solidFill>
              <a:srgbClr val="8799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0" y="2289240"/>
              <a:ext cx="1371600" cy="1752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4686480" y="2390760"/>
              <a:ext cx="11430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2133720" y="3057480"/>
            <a:ext cx="75960" cy="15228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3057480"/>
            <a:ext cx="75960" cy="15228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057480"/>
            <a:ext cx="75960" cy="15228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2286000"/>
            <a:ext cx="3429000" cy="1752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85160" y="34290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Ha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rcRect l="0" t="21774" r="0" b="0"/>
          <a:stretch/>
        </p:blipFill>
        <p:spPr>
          <a:xfrm>
            <a:off x="1143000" y="2413080"/>
            <a:ext cx="2057400" cy="81576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6553080" y="2314440"/>
            <a:ext cx="1981440" cy="2027520"/>
            <a:chOff x="6553080" y="2314440"/>
            <a:chExt cx="1981440" cy="2027520"/>
          </a:xfrm>
        </p:grpSpPr>
        <p:sp>
          <p:nvSpPr>
            <p:cNvPr id="240" name=""/>
            <p:cNvSpPr/>
            <p:nvPr/>
          </p:nvSpPr>
          <p:spPr>
            <a:xfrm>
              <a:off x="6553080" y="2314440"/>
              <a:ext cx="1981440" cy="175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wer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486560" y="4079880"/>
              <a:ext cx="114480" cy="262080"/>
            </a:xfrm>
            <a:prstGeom prst="downArrow">
              <a:avLst>
                <a:gd name="adj1" fmla="val 50000"/>
                <a:gd name="adj2" fmla="val 57233"/>
              </a:avLst>
            </a:prstGeom>
            <a:solidFill>
              <a:srgbClr val="8799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6781680" y="2530440"/>
              <a:ext cx="152424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4826160" y="4410000"/>
            <a:ext cx="888840" cy="749520"/>
            <a:chOff x="4826160" y="4410000"/>
            <a:chExt cx="888840" cy="749520"/>
          </a:xfrm>
        </p:grpSpPr>
        <p:sp>
          <p:nvSpPr>
            <p:cNvPr id="244" name=""/>
            <p:cNvSpPr/>
            <p:nvPr/>
          </p:nvSpPr>
          <p:spPr>
            <a:xfrm>
              <a:off x="4826160" y="4410000"/>
              <a:ext cx="888840" cy="470160"/>
            </a:xfrm>
            <a:prstGeom prst="can">
              <a:avLst>
                <a:gd name="adj" fmla="val 25000"/>
              </a:avLst>
            </a:prstGeom>
            <a:solidFill>
              <a:srgbClr val="00528e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0000" y="4917960"/>
              <a:ext cx="101520" cy="241560"/>
            </a:xfrm>
            <a:prstGeom prst="downArrow">
              <a:avLst>
                <a:gd name="adj1" fmla="val 50000"/>
                <a:gd name="adj2" fmla="val 59486"/>
              </a:avLst>
            </a:prstGeom>
            <a:solidFill>
              <a:srgbClr val="8799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18379800">
            <a:off x="3733560" y="4905000"/>
            <a:ext cx="101520" cy="304920"/>
          </a:xfrm>
          <a:prstGeom prst="downArrow">
            <a:avLst>
              <a:gd name="adj1" fmla="val 50000"/>
              <a:gd name="adj2" fmla="val 75089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rot="3220200">
            <a:off x="6921360" y="4854600"/>
            <a:ext cx="101880" cy="685800"/>
          </a:xfrm>
          <a:prstGeom prst="downArrow">
            <a:avLst>
              <a:gd name="adj1" fmla="val 50000"/>
              <a:gd name="adj2" fmla="val 168286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89520" y="5886360"/>
            <a:ext cx="762120" cy="479520"/>
          </a:xfrm>
          <a:prstGeom prst="can">
            <a:avLst>
              <a:gd name="adj" fmla="val 25000"/>
            </a:avLst>
          </a:prstGeom>
          <a:solidFill>
            <a:srgbClr val="00528e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58080" y="590868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rot="16200000">
            <a:off x="5810400" y="5978520"/>
            <a:ext cx="101520" cy="241200"/>
          </a:xfrm>
          <a:prstGeom prst="downArrow">
            <a:avLst>
              <a:gd name="adj1" fmla="val 50000"/>
              <a:gd name="adj2" fmla="val 59397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rot="16200000">
            <a:off x="6889680" y="5978520"/>
            <a:ext cx="101520" cy="241200"/>
          </a:xfrm>
          <a:prstGeom prst="downArrow">
            <a:avLst>
              <a:gd name="adj1" fmla="val 50000"/>
              <a:gd name="adj2" fmla="val 59397"/>
            </a:avLst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2280" y="4232160"/>
            <a:ext cx="8839440" cy="797040"/>
            <a:chOff x="152280" y="4232160"/>
            <a:chExt cx="8839440" cy="797040"/>
          </a:xfrm>
        </p:grpSpPr>
        <p:pic>
          <p:nvPicPr>
            <p:cNvPr id="253" name="" descr=""/>
            <p:cNvPicPr/>
            <p:nvPr/>
          </p:nvPicPr>
          <p:blipFill>
            <a:blip r:embed="rId4"/>
            <a:srcRect l="6154" t="0" r="0" b="0"/>
            <a:stretch/>
          </p:blipFill>
          <p:spPr>
            <a:xfrm>
              <a:off x="5872320" y="4232160"/>
              <a:ext cx="83340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52280" y="4357800"/>
              <a:ext cx="8839440" cy="54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5520" y="4395960"/>
              <a:ext cx="762120" cy="469800"/>
            </a:xfrm>
            <a:prstGeom prst="can">
              <a:avLst>
                <a:gd name="adj" fmla="val 25000"/>
              </a:avLst>
            </a:prstGeom>
            <a:solidFill>
              <a:srgbClr val="00528e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040" y="4371840"/>
              <a:ext cx="150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I SPICE-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ct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988400" y="4414680"/>
              <a:ext cx="941040" cy="432000"/>
              <a:chOff x="7988400" y="4414680"/>
              <a:chExt cx="941040" cy="432000"/>
            </a:xfrm>
          </p:grpSpPr>
          <p:sp>
            <p:nvSpPr>
              <p:cNvPr id="258" name=""/>
              <p:cNvSpPr/>
              <p:nvPr/>
            </p:nvSpPr>
            <p:spPr>
              <a:xfrm>
                <a:off x="8046000" y="456516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46000" y="458388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92080" y="458388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92080" y="451800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46000" y="446148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46000" y="448056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092080" y="448056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092080" y="441468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61120" y="4414680"/>
                <a:ext cx="612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61120" y="4846680"/>
                <a:ext cx="612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46000" y="478080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46000" y="479988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2080" y="479988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92080" y="473364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46000" y="466848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046000" y="468684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092080" y="468684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92080" y="462132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98440" y="4565160"/>
                <a:ext cx="9144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398440" y="4583880"/>
                <a:ext cx="9144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444880" y="458388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444880" y="451800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398440" y="4461480"/>
                <a:ext cx="9144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98440" y="4480560"/>
                <a:ext cx="9144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444880" y="448056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444880" y="441468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13920" y="4414680"/>
                <a:ext cx="612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413920" y="4846680"/>
                <a:ext cx="612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98440" y="4780800"/>
                <a:ext cx="9144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398440" y="4799880"/>
                <a:ext cx="9144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444880" y="479988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444880" y="473364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398440" y="4668480"/>
                <a:ext cx="9144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98440" y="4686840"/>
                <a:ext cx="9144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444880" y="468684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44880" y="462132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782200" y="456516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782200" y="458388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828280" y="458388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828280" y="451800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82200" y="446148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782200" y="448056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828280" y="448056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828280" y="441468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797320" y="4414680"/>
                <a:ext cx="612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797320" y="4846680"/>
                <a:ext cx="612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782200" y="478080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782200" y="479988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828280" y="479988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828280" y="473364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782200" y="466848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782200" y="4686840"/>
                <a:ext cx="9180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828280" y="468684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828280" y="4621320"/>
                <a:ext cx="0" cy="4680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092080" y="4628160"/>
                <a:ext cx="36756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163720" y="4616280"/>
                <a:ext cx="92160" cy="23760"/>
              </a:xfrm>
              <a:prstGeom prst="rect">
                <a:avLst/>
              </a:prstGeom>
              <a:solidFill>
                <a:srgbClr val="ffffff"/>
              </a:solidFill>
              <a:ln cap="rnd"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306640" y="4616280"/>
                <a:ext cx="92160" cy="23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460000" y="4628160"/>
                <a:ext cx="36756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531640" y="4616280"/>
                <a:ext cx="92160" cy="23760"/>
              </a:xfrm>
              <a:prstGeom prst="rect">
                <a:avLst/>
              </a:prstGeom>
              <a:solidFill>
                <a:srgbClr val="ffffff"/>
              </a:solidFill>
              <a:ln cap="rnd"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674560" y="4616280"/>
                <a:ext cx="92160" cy="23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092080" y="4732200"/>
                <a:ext cx="36756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163720" y="4720320"/>
                <a:ext cx="92160" cy="23400"/>
              </a:xfrm>
              <a:prstGeom prst="rect">
                <a:avLst/>
              </a:prstGeom>
              <a:solidFill>
                <a:srgbClr val="ffffff"/>
              </a:solidFill>
              <a:ln cap="rnd"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306640" y="4720320"/>
                <a:ext cx="92160" cy="234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460000" y="4732200"/>
                <a:ext cx="36756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31640" y="4720320"/>
                <a:ext cx="92160" cy="23400"/>
              </a:xfrm>
              <a:prstGeom prst="rect">
                <a:avLst/>
              </a:prstGeom>
              <a:solidFill>
                <a:srgbClr val="ffffff"/>
              </a:solidFill>
              <a:ln cap="rnd"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674560" y="4720320"/>
                <a:ext cx="92160" cy="234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092080" y="4524840"/>
                <a:ext cx="36756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163720" y="4512960"/>
                <a:ext cx="92160" cy="23400"/>
              </a:xfrm>
              <a:prstGeom prst="rect">
                <a:avLst/>
              </a:prstGeom>
              <a:solidFill>
                <a:srgbClr val="ffffff"/>
              </a:solidFill>
              <a:ln cap="rnd"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06640" y="4512960"/>
                <a:ext cx="92160" cy="234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460000" y="4524840"/>
                <a:ext cx="36756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531640" y="4512960"/>
                <a:ext cx="92160" cy="23400"/>
              </a:xfrm>
              <a:prstGeom prst="rect">
                <a:avLst/>
              </a:prstGeom>
              <a:solidFill>
                <a:srgbClr val="ffffff"/>
              </a:solidFill>
              <a:ln cap="rnd"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674560" y="4512960"/>
                <a:ext cx="92160" cy="234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88400" y="4525920"/>
                <a:ext cx="10188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88400" y="4629240"/>
                <a:ext cx="10188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88400" y="4731120"/>
                <a:ext cx="10188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827560" y="4525920"/>
                <a:ext cx="10188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827560" y="4629240"/>
                <a:ext cx="10188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827560" y="4731120"/>
                <a:ext cx="101880" cy="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" descr=""/>
            <p:cNvPicPr/>
            <p:nvPr/>
          </p:nvPicPr>
          <p:blipFill>
            <a:blip r:embed="rId5"/>
            <a:srcRect l="3959" t="7805" r="0" b="7805"/>
            <a:stretch/>
          </p:blipFill>
          <p:spPr>
            <a:xfrm>
              <a:off x="3132000" y="4384800"/>
              <a:ext cx="1106640" cy="49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7149960" y="5527800"/>
            <a:ext cx="144468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2057400" y="5211720"/>
            <a:ext cx="1682640" cy="5954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886200" y="583236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88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EMI Modeling Flow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49200" y="42670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rding to IEC regulations, conducted EMI is measured as the frequency spectrum of the voltage fluctuation at a specific measurement pin of a standardize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ice model of the board, extracted by SIGRITY tool suite, is plugged in a spice macro-model comprising Chip Power Model generated by Apache RedHawk and Package model extracted by Ansoft’s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lot shows time-domain voltage fluctuations at the board pin representing EMI measurement at power supply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847800" y="1066680"/>
            <a:ext cx="7458120" cy="3181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349200" y="75960"/>
            <a:ext cx="833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Voltage Fluctuations at EMI Measurement Pin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Voltage Harmonic content at EMI Measurement Pin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200" y="5715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EMI simulation confirm the expected trend: EMI behavior of the Power shaped design shows advantages, that become significant after the GHz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85800" y="923760"/>
            <a:ext cx="8001000" cy="31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228600" y="4191120"/>
          <a:ext cx="8763120" cy="1306440"/>
        </p:xfrm>
        <a:graphic>
          <a:graphicData uri="http://schemas.openxmlformats.org/drawingml/2006/table">
            <a:tbl>
              <a:tblPr/>
              <a:tblGrid>
                <a:gridCol w="1143000"/>
                <a:gridCol w="762120"/>
                <a:gridCol w="685800"/>
                <a:gridCol w="761760"/>
                <a:gridCol w="762120"/>
                <a:gridCol w="762120"/>
                <a:gridCol w="838080"/>
                <a:gridCol w="762120"/>
                <a:gridCol w="761760"/>
                <a:gridCol w="762120"/>
                <a:gridCol w="7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Sha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b034"/>
                    </a:solidFill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rot="16200000">
            <a:off x="-8280" y="2445840"/>
            <a:ext cx="1695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Magnitude (dB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µ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920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Shaping proved an interesting design option for limiting digital core supply Dynamic Voltage Drop and Electromagnetic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s on a reference design provi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% reduction of IC pad current pea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% reduction of Max Dynamic Voltage 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5% reduction of IC pad voltage fluct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to 20 d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V reduction of digital core conducted EMI harmonics (with maximum effect in the 1 to 2GHz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the EMI standpoint results are encouraging but only relevant at high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is reason Power Shaping completes well with Spread Spectrum Clock, or Decap insertion, that reduce the lower harmon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Shaping showed small impact on the physical design quality, and no impact on PG-grid, package and board design, so that it can be applied as non-invasive mitigation technique or “last-minute life-saver” in case of DvD/EMI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especially true in case of strict board-package-pad frame specifications which are usual for low-cost, average-low volum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528e"/>
                </a:solidFill>
                <a:latin typeface="Arial"/>
              </a:rPr>
              <a:t>Power Supply Noise</a:t>
            </a:r>
            <a:r>
              <a:rPr b="1" lang="da-DK" sz="3200" spc="-1" strike="noStrike">
                <a:solidFill>
                  <a:srgbClr val="00528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0663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echnology scaling leads to increasing cell and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Power Integrity becomes a significant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Voltage scaling reduces noise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Sensibility to noise peaks increases in terms of timing and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962160" cy="3321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5568840" y="5978520"/>
            <a:ext cx="12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ource:ITRS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528e"/>
                </a:solidFill>
                <a:latin typeface="Arial"/>
              </a:rPr>
              <a:t>Electro-Magnetic Interference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Growing concern for Electromagnetic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uscep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1087560" y="3693960"/>
            <a:ext cx="2635200" cy="1689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5869080" y="2895480"/>
            <a:ext cx="2989080" cy="153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pod touch"/>
          <p:cNvPicPr/>
          <p:nvPr/>
        </p:nvPicPr>
        <p:blipFill>
          <a:blip r:embed="rId3"/>
          <a:stretch/>
        </p:blipFill>
        <p:spPr>
          <a:xfrm>
            <a:off x="3711600" y="4344840"/>
            <a:ext cx="3003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7"/>
          <p:cNvSpPr/>
          <p:nvPr/>
        </p:nvSpPr>
        <p:spPr>
          <a:xfrm>
            <a:off x="500040" y="1674720"/>
            <a:ext cx="3429000" cy="50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00040" y="1143000"/>
            <a:ext cx="3429000" cy="50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528e"/>
                </a:solidFill>
                <a:latin typeface="Arial"/>
              </a:rPr>
              <a:t>Emission: Coupling Method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106" name="Picture 3" descr="iphone inside"/>
          <p:cNvPicPr/>
          <p:nvPr/>
        </p:nvPicPr>
        <p:blipFill>
          <a:blip r:embed="rId1"/>
          <a:stretch/>
        </p:blipFill>
        <p:spPr>
          <a:xfrm>
            <a:off x="5591160" y="4238640"/>
            <a:ext cx="99540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pod touch"/>
          <p:cNvPicPr/>
          <p:nvPr/>
        </p:nvPicPr>
        <p:blipFill>
          <a:blip r:embed="rId2"/>
          <a:stretch/>
        </p:blipFill>
        <p:spPr>
          <a:xfrm>
            <a:off x="3625920" y="4086360"/>
            <a:ext cx="3340080" cy="200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ed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Radiated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traight Connector 11" descr=""/>
          <p:cNvPicPr/>
          <p:nvPr/>
        </p:nvPicPr>
        <p:blipFill>
          <a:blip r:embed="rId3"/>
          <a:stretch/>
        </p:blipFill>
        <p:spPr>
          <a:xfrm>
            <a:off x="5602320" y="1938240"/>
            <a:ext cx="590400" cy="268560"/>
          </a:xfrm>
          <a:prstGeom prst="rect">
            <a:avLst/>
          </a:prstGeom>
          <a:ln w="0">
            <a:noFill/>
          </a:ln>
        </p:spPr>
      </p:pic>
      <p:pic>
        <p:nvPicPr>
          <p:cNvPr id="110" name="Straight Connector 14" descr=""/>
          <p:cNvPicPr/>
          <p:nvPr/>
        </p:nvPicPr>
        <p:blipFill>
          <a:blip r:embed="rId4"/>
          <a:stretch/>
        </p:blipFill>
        <p:spPr>
          <a:xfrm>
            <a:off x="5937120" y="1743120"/>
            <a:ext cx="268560" cy="446040"/>
          </a:xfrm>
          <a:prstGeom prst="rect">
            <a:avLst/>
          </a:prstGeom>
          <a:ln w="0">
            <a:noFill/>
          </a:ln>
        </p:spPr>
      </p:pic>
      <p:pic>
        <p:nvPicPr>
          <p:cNvPr id="111" name="Straight Connector 17" descr=""/>
          <p:cNvPicPr/>
          <p:nvPr/>
        </p:nvPicPr>
        <p:blipFill>
          <a:blip r:embed="rId5"/>
          <a:stretch/>
        </p:blipFill>
        <p:spPr>
          <a:xfrm>
            <a:off x="5956200" y="1725480"/>
            <a:ext cx="2017800" cy="268560"/>
          </a:xfrm>
          <a:prstGeom prst="rect">
            <a:avLst/>
          </a:prstGeom>
          <a:ln w="0">
            <a:noFill/>
          </a:ln>
        </p:spPr>
      </p:pic>
      <p:pic>
        <p:nvPicPr>
          <p:cNvPr id="112" name="Straight Connector 23" descr=""/>
          <p:cNvPicPr/>
          <p:nvPr/>
        </p:nvPicPr>
        <p:blipFill>
          <a:blip r:embed="rId6"/>
          <a:stretch/>
        </p:blipFill>
        <p:spPr>
          <a:xfrm>
            <a:off x="7723080" y="1743120"/>
            <a:ext cx="26856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Straight Connector 26" descr=""/>
          <p:cNvPicPr/>
          <p:nvPr/>
        </p:nvPicPr>
        <p:blipFill>
          <a:blip r:embed="rId7"/>
          <a:stretch/>
        </p:blipFill>
        <p:spPr>
          <a:xfrm>
            <a:off x="6168960" y="2724120"/>
            <a:ext cx="1444680" cy="268200"/>
          </a:xfrm>
          <a:prstGeom prst="rect">
            <a:avLst/>
          </a:prstGeom>
          <a:ln w="0">
            <a:noFill/>
          </a:ln>
        </p:spPr>
      </p:pic>
      <p:pic>
        <p:nvPicPr>
          <p:cNvPr id="114" name="Straight Connector 28" descr=""/>
          <p:cNvPicPr/>
          <p:nvPr/>
        </p:nvPicPr>
        <p:blipFill>
          <a:blip r:embed="rId8"/>
          <a:stretch/>
        </p:blipFill>
        <p:spPr>
          <a:xfrm>
            <a:off x="7083360" y="2743200"/>
            <a:ext cx="268200" cy="444600"/>
          </a:xfrm>
          <a:prstGeom prst="rect">
            <a:avLst/>
          </a:prstGeom>
          <a:ln w="0">
            <a:noFill/>
          </a:ln>
        </p:spPr>
      </p:pic>
      <p:pic>
        <p:nvPicPr>
          <p:cNvPr id="115" name="Straight Connector 37" descr=""/>
          <p:cNvPicPr/>
          <p:nvPr/>
        </p:nvPicPr>
        <p:blipFill>
          <a:blip r:embed="rId9"/>
          <a:stretch/>
        </p:blipFill>
        <p:spPr>
          <a:xfrm>
            <a:off x="6151680" y="2743200"/>
            <a:ext cx="268200" cy="371520"/>
          </a:xfrm>
          <a:prstGeom prst="rect">
            <a:avLst/>
          </a:prstGeom>
          <a:ln w="0">
            <a:noFill/>
          </a:ln>
        </p:spPr>
      </p:pic>
      <p:pic>
        <p:nvPicPr>
          <p:cNvPr id="116" name="Straight Connector 43" descr=""/>
          <p:cNvPicPr/>
          <p:nvPr/>
        </p:nvPicPr>
        <p:blipFill>
          <a:blip r:embed="rId10"/>
          <a:stretch/>
        </p:blipFill>
        <p:spPr>
          <a:xfrm>
            <a:off x="7364520" y="2170080"/>
            <a:ext cx="268200" cy="804960"/>
          </a:xfrm>
          <a:prstGeom prst="rect">
            <a:avLst/>
          </a:prstGeom>
          <a:ln w="0">
            <a:noFill/>
          </a:ln>
        </p:spPr>
      </p:pic>
      <p:pic>
        <p:nvPicPr>
          <p:cNvPr id="117" name="Straight Connector 45" descr=""/>
          <p:cNvPicPr/>
          <p:nvPr/>
        </p:nvPicPr>
        <p:blipFill>
          <a:blip r:embed="rId11"/>
          <a:stretch/>
        </p:blipFill>
        <p:spPr>
          <a:xfrm>
            <a:off x="7381800" y="2152800"/>
            <a:ext cx="592200" cy="266400"/>
          </a:xfrm>
          <a:prstGeom prst="rect">
            <a:avLst/>
          </a:prstGeom>
          <a:ln w="0">
            <a:noFill/>
          </a:ln>
        </p:spPr>
      </p:pic>
      <p:grpSp>
        <p:nvGrpSpPr>
          <p:cNvPr id="118" name="Lightning Bolt 48"/>
          <p:cNvGrpSpPr/>
          <p:nvPr/>
        </p:nvGrpSpPr>
        <p:grpSpPr>
          <a:xfrm>
            <a:off x="5370480" y="1944720"/>
            <a:ext cx="2475000" cy="1182600"/>
            <a:chOff x="5370480" y="1944720"/>
            <a:chExt cx="2475000" cy="1182600"/>
          </a:xfrm>
        </p:grpSpPr>
        <p:pic>
          <p:nvPicPr>
            <p:cNvPr id="119" name="Lightning Bolt 48" descr=""/>
            <p:cNvPicPr/>
            <p:nvPr/>
          </p:nvPicPr>
          <p:blipFill>
            <a:blip r:embed="rId12"/>
            <a:stretch/>
          </p:blipFill>
          <p:spPr>
            <a:xfrm>
              <a:off x="5370480" y="1944720"/>
              <a:ext cx="24750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399360" y="2390760"/>
              <a:ext cx="528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50"/>
          <p:cNvSpPr/>
          <p:nvPr/>
        </p:nvSpPr>
        <p:spPr>
          <a:xfrm>
            <a:off x="656280" y="341640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EM wave propagates through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9"/>
          <p:cNvSpPr/>
          <p:nvPr/>
        </p:nvSpPr>
        <p:spPr>
          <a:xfrm>
            <a:off x="666720" y="3402000"/>
            <a:ext cx="59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Noise propagates along supply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Straight Connector 51" descr=""/>
          <p:cNvPicPr/>
          <p:nvPr/>
        </p:nvPicPr>
        <p:blipFill>
          <a:blip r:embed="rId13"/>
          <a:stretch/>
        </p:blipFill>
        <p:spPr>
          <a:xfrm>
            <a:off x="7437600" y="1457280"/>
            <a:ext cx="2682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69942E-006 L 0.04687 -0.33387 E">
                                      <p:cBhvr>
                                        <p:cTn id="13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528e"/>
                </a:solidFill>
                <a:latin typeface="Arial"/>
              </a:rPr>
              <a:t>Single-Chip Mixed-Signal System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n RF mixed-signal designs, high frequency noise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059280" y="2514600"/>
            <a:ext cx="2885760" cy="2908440"/>
          </a:xfrm>
          <a:prstGeom prst="rect">
            <a:avLst/>
          </a:prstGeom>
          <a:solidFill>
            <a:srgbClr val="8799c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6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a-DK" sz="6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3105000" y="2565360"/>
            <a:ext cx="1132200" cy="1765440"/>
          </a:xfrm>
          <a:prstGeom prst="rect">
            <a:avLst/>
          </a:prstGeom>
          <a:solidFill>
            <a:srgbClr val="ff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44360" y="2938320"/>
            <a:ext cx="2441520" cy="1434600"/>
          </a:xfrm>
          <a:prstGeom prst="rect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Analog world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quency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6256440" y="2951280"/>
            <a:ext cx="2622600" cy="1008000"/>
          </a:xfrm>
          <a:prstGeom prst="rect">
            <a:avLst/>
          </a:prstGeom>
          <a:solidFill>
            <a:srgbClr val="8799c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igital world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 flipV="1" rot="15976200">
            <a:off x="3478680" y="4097880"/>
            <a:ext cx="985680" cy="5972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 flipV="1" rot="14812800">
            <a:off x="4141080" y="3485520"/>
            <a:ext cx="685800" cy="6987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 flipV="1" rot="11740800">
            <a:off x="4030200" y="2671200"/>
            <a:ext cx="897120" cy="657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357800" y="5159520"/>
            <a:ext cx="3849480" cy="885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Calibri"/>
              </a:rPr>
              <a:t>Noise optimization needed in digital tool cha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 rot="20739000">
            <a:off x="2565360" y="3492360"/>
            <a:ext cx="566640" cy="428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 rot="685800">
            <a:off x="5927760" y="3313080"/>
            <a:ext cx="365040" cy="42840"/>
          </a:xfrm>
          <a:prstGeom prst="rect">
            <a:avLst/>
          </a:prstGeom>
          <a:solidFill>
            <a:srgbClr val="8799c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269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528e"/>
                </a:solidFill>
                <a:latin typeface="Arial"/>
              </a:rPr>
              <a:t>Dynamic Power Shaping</a:t>
            </a:r>
            <a:br>
              <a:rPr sz="2800"/>
            </a:b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7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February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E377-4F07-4433-99A5-9AF7317369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349200" y="11430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ptimizing the current demand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PDN"/>
          <p:cNvPicPr/>
          <p:nvPr/>
        </p:nvPicPr>
        <p:blipFill>
          <a:blip r:embed="rId1"/>
          <a:stretch/>
        </p:blipFill>
        <p:spPr>
          <a:xfrm>
            <a:off x="752400" y="2448000"/>
            <a:ext cx="6554880" cy="2415960"/>
          </a:xfrm>
          <a:prstGeom prst="rect">
            <a:avLst/>
          </a:prstGeom>
          <a:ln w="0">
            <a:noFill/>
          </a:ln>
        </p:spPr>
      </p:pic>
      <p:sp>
        <p:nvSpPr>
          <p:cNvPr id="141" name="Line 4"/>
          <p:cNvSpPr/>
          <p:nvPr/>
        </p:nvSpPr>
        <p:spPr>
          <a:xfrm>
            <a:off x="1824120" y="2077920"/>
            <a:ext cx="0" cy="3384720"/>
          </a:xfrm>
          <a:prstGeom prst="line">
            <a:avLst/>
          </a:prstGeom>
          <a:ln w="25560">
            <a:solidFill>
              <a:srgbClr val="1d61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6396120" y="2077920"/>
            <a:ext cx="0" cy="3384720"/>
          </a:xfrm>
          <a:prstGeom prst="line">
            <a:avLst/>
          </a:prstGeom>
          <a:ln w="25560">
            <a:solidFill>
              <a:srgbClr val="1d61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I1"/>
          <p:cNvPicPr/>
          <p:nvPr/>
        </p:nvPicPr>
        <p:blipFill>
          <a:blip r:embed="rId2"/>
          <a:srcRect l="0" t="0" r="17637" b="0"/>
          <a:stretch/>
        </p:blipFill>
        <p:spPr>
          <a:xfrm>
            <a:off x="7824960" y="3305160"/>
            <a:ext cx="117612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I2"/>
          <p:cNvPicPr/>
          <p:nvPr/>
        </p:nvPicPr>
        <p:blipFill>
          <a:blip r:embed="rId3"/>
          <a:srcRect l="0" t="0" r="17637" b="0"/>
          <a:stretch/>
        </p:blipFill>
        <p:spPr>
          <a:xfrm>
            <a:off x="7824960" y="3305160"/>
            <a:ext cx="117612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I12"/>
          <p:cNvPicPr/>
          <p:nvPr/>
        </p:nvPicPr>
        <p:blipFill>
          <a:blip r:embed="rId4"/>
          <a:srcRect l="0" t="0" r="17637" b="0"/>
          <a:stretch/>
        </p:blipFill>
        <p:spPr>
          <a:xfrm>
            <a:off x="7824960" y="3305160"/>
            <a:ext cx="1176120" cy="952560"/>
          </a:xfrm>
          <a:prstGeom prst="rect">
            <a:avLst/>
          </a:prstGeom>
          <a:ln w="0">
            <a:noFill/>
          </a:ln>
        </p:spPr>
      </p:pic>
      <p:sp>
        <p:nvSpPr>
          <p:cNvPr id="146" name="Line 12"/>
          <p:cNvSpPr/>
          <p:nvPr/>
        </p:nvSpPr>
        <p:spPr>
          <a:xfrm>
            <a:off x="7850160" y="3855960"/>
            <a:ext cx="1055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7850160" y="3475080"/>
            <a:ext cx="1055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7"/>
          <p:cNvSpPr/>
          <p:nvPr/>
        </p:nvSpPr>
        <p:spPr>
          <a:xfrm>
            <a:off x="7430760" y="34480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28"/>
          <p:cNvCxnSpPr/>
          <p:nvPr/>
        </p:nvCxnSpPr>
        <p:spPr>
          <a:xfrm flipH="1">
            <a:off x="7393680" y="3449520"/>
            <a:ext cx="252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Box 29"/>
          <p:cNvSpPr/>
          <p:nvPr/>
        </p:nvSpPr>
        <p:spPr>
          <a:xfrm>
            <a:off x="6543720" y="1752480"/>
            <a:ext cx="200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1d61a6"/>
                </a:solidFill>
                <a:latin typeface="Arial"/>
                <a:ea typeface="Times New Roman"/>
              </a:rPr>
              <a:t>IC Current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1d61a6"/>
                </a:solidFill>
                <a:latin typeface="Arial"/>
                <a:ea typeface="Times New Roman"/>
              </a:rPr>
              <a:t>[StdCells, Macro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0"/>
          <p:cNvSpPr/>
          <p:nvPr/>
        </p:nvSpPr>
        <p:spPr>
          <a:xfrm>
            <a:off x="2733480" y="1752480"/>
            <a:ext cx="310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1d61a6"/>
                </a:solidFill>
                <a:latin typeface="Arial"/>
                <a:ea typeface="Times New Roman"/>
              </a:rPr>
              <a:t>Power Delivery Network (PD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1d61a6"/>
                </a:solidFill>
                <a:latin typeface="Arial"/>
                <a:ea typeface="Times New Roman"/>
              </a:rPr>
              <a:t>[Board / package / IC PG-Gri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1"/>
          <p:cNvSpPr/>
          <p:nvPr/>
        </p:nvSpPr>
        <p:spPr>
          <a:xfrm>
            <a:off x="155160" y="182880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1d61a6"/>
                </a:solidFill>
                <a:latin typeface="Arial"/>
                <a:ea typeface="Times New Roman"/>
              </a:rPr>
              <a:t>Power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8840" y="-3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Dynamic Power Shaping (2)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47239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Shaping allows automated dynamic current analysis and optimization, driving the CTS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ization is applied post-synthesis or after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-end current optimization is available both in time and frequenc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good correlation with post-layout results, aiding in closing the FE to B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724280" cy="3436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562720" y="16002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nt-end full clock cycle estimation in the standard (red) and power-shaped (green) 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reference corner for FE current estimation is wc_1.2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Trial Design Description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907920"/>
            <a:ext cx="89758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 Case: jtd_m10_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Core Microcontro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MOS090 6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2641680"/>
            <a:ext cx="9067680" cy="37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1.89x1.65=3.12 m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dCells (Final)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0.283 m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(65 Kga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ockDomai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08 Sinks @100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8 Sinks @40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9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ck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Lead Wing Quad Flat P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e to pkg / board constraints, the design can support MAX 3 Package pins for power supply: 1 Gnd, 2 Vdd Pins, hence becoming supply-critical, especially in dynamic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3434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0:25:18Z</dcterms:created>
  <dc:creator>fabio campi</dc:creator>
  <dc:description/>
  <dc:language>en-US</dc:language>
  <cp:lastModifiedBy>fabio campi</cp:lastModifiedBy>
  <cp:lastPrinted>2009-12-10T10:33:55Z</cp:lastPrinted>
  <dcterms:modified xsi:type="dcterms:W3CDTF">2010-03-02T08:11:23Z</dcterms:modified>
  <cp:revision>48</cp:revision>
  <dc:subject/>
  <dc:title>Cover Title – Arial Bold, 40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