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DAE-37C1-40F1-A958-9BAB90CA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30B-24BE-4909-B6ED-6AE1DE3B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65A-D9AF-4CB1-B99B-4735BF7C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A7C-6049-42D2-9A6D-9B8ACC31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EA2B-FB79-4039-A409-C384912F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753-77F1-4C99-9254-A9268C55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A428-8CDA-4A38-8603-8197D1B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6EB3-3655-4361-A8C0-F7B0B4F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D918-CBD7-4BC7-B66F-4AE5298E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E75A-AF1E-4DC6-AA69-4E463718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A09A-9B35-494F-910F-D5FFC30E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61F-3EF5-4045-9E03-2D59E8F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962-3097-404E-B5AC-3FFC34E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7FC9-FFC7-4C6A-B43C-D1184FF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2E0A-AD0D-4B02-9A6C-51E9B84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CFC-76A5-4095-AB00-6CCBD3EF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93E-C1D4-4F75-B594-FEE6913B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7C2-6C56-4166-9C6A-437A870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F3A-6F26-42E4-BB14-A8ED3A8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341-F038-4B68-A946-35E75896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E59-EE75-4285-BB7C-63077C4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D6D-7C65-42BF-9B10-C3EB53F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FC5-3C02-4F82-9526-640239C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FAD-9341-4981-80AB-0C32DBA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C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tthew A. Hsu Consul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sulting@mhsu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08-439-87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5CF-D1D2-4900-8F17-604F07BB88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5A1B-184C-4C67-985F-C190B1303F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onsulting@mhsu.com" TargetMode="External"/><Relationship Id="rId3" Type="http://schemas.openxmlformats.org/officeDocument/2006/relationships/hyperlink" Target="http://www.mhsu.com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thesizable Testbench Constraint Solver: Let’s See You Simulate Thi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thew A. Hsu Consul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onsulting@mhsu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mhsu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8-439-87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Magic Constra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221120" y="1741320"/>
            <a:ext cx="6048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/ hold valid until sol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g pending_vali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lways @( posedge clock ) 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     ( reset )            pending_valid &lt;= 1'b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if ( constraint_solve ) pending_valid &lt;= 1'b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if ( constraint_valid ) pending_valid &lt;= 1'b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/ hold constraints cons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g [15:0] constraint1_re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g [15:0] constraint2_re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lways @( posedge clock ) 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( constraint_solve &amp; ( ~pending_valid | constraint_valid ) ) be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raint1_reg &lt;= constraint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raint2_reg &lt;= constraint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/ the 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perty value_within_constraints_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@( posedge clock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able iff ( reset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 constraint_valid |-&gt; ( ( constraint_value &lt;= constraint2_reg &amp;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raint_value &gt;= constraint1_reg )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 constraint_value &lt;= constraint1_reg &amp;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raint_value &gt;= constraint2_reg ) )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prop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ue_within_constraints_A : assert property( value_within_constraints_P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sig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thesizable Constraint Sol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ynthesizable constraint solver is a synthesizable testbench block that solves this proble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% of the time generate: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% of the time generate: random( 10,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% of the time generate: random( 100, 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Randomizations Requir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we must randomize a b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ables with locations 0 to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Table and maxTable hold minimum and maximum values for each b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omize address from 1 to numValidE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xt, must randomize between minimum and maximum value from t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randomizations require this sol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om( M, N ) where M ≥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 part is random is non-even power of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4956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7242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0384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2670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4100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6386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9528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1814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2860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5146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18288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0574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2004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4290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7432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9718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342720" y="3619080"/>
            <a:ext cx="3962520" cy="380880"/>
          </a:xfrm>
          <a:prstGeom prst="leftRightArrow">
            <a:avLst>
              <a:gd name="adj1" fmla="val 61667"/>
              <a:gd name="adj2" fmla="val 573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ress/dat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88620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657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867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x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114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mValid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053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10080" y="1981080"/>
            <a:ext cx="609840" cy="1371600"/>
            <a:chOff x="5410080" y="1981080"/>
            <a:chExt cx="609840" cy="1371600"/>
          </a:xfrm>
        </p:grpSpPr>
        <p:sp>
          <p:nvSpPr>
            <p:cNvPr id="117" name=""/>
            <p:cNvSpPr/>
            <p:nvPr/>
          </p:nvSpPr>
          <p:spPr>
            <a:xfrm rot="16200000">
              <a:off x="5029200" y="2514600"/>
              <a:ext cx="1371600" cy="304560"/>
            </a:xfrm>
            <a:custGeom>
              <a:avLst/>
              <a:gdLst>
                <a:gd name="textAreaLeft" fmla="*/ 234360 w 1371600"/>
                <a:gd name="textAreaRight" fmla="*/ 1137240 w 1371600"/>
                <a:gd name="textAreaTop" fmla="*/ 51840 h 304560"/>
                <a:gd name="textAreaBottom" fmla="*/ 2527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00" y="21600"/>
                  </a:lnTo>
                  <a:lnTo>
                    <a:pt x="35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2133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2438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2590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1008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0080" y="2895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080" y="3048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320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72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410080" y="4267080"/>
            <a:ext cx="609840" cy="1371600"/>
            <a:chOff x="5410080" y="4267080"/>
            <a:chExt cx="609840" cy="1371600"/>
          </a:xfrm>
        </p:grpSpPr>
        <p:sp>
          <p:nvSpPr>
            <p:cNvPr id="128" name=""/>
            <p:cNvSpPr/>
            <p:nvPr/>
          </p:nvSpPr>
          <p:spPr>
            <a:xfrm rot="16200000">
              <a:off x="5029200" y="4800600"/>
              <a:ext cx="1371600" cy="304560"/>
            </a:xfrm>
            <a:custGeom>
              <a:avLst/>
              <a:gdLst>
                <a:gd name="textAreaLeft" fmla="*/ 234360 w 1371600"/>
                <a:gd name="textAreaRight" fmla="*/ 1137240 w 1371600"/>
                <a:gd name="textAreaTop" fmla="*/ 51840 h 304560"/>
                <a:gd name="textAreaBottom" fmla="*/ 2527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00" y="21600"/>
                  </a:lnTo>
                  <a:lnTo>
                    <a:pt x="35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4419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724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487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0080" y="5029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51814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548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4952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410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686120" y="4609800"/>
            <a:ext cx="685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F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23920" y="3352680"/>
            <a:ext cx="609480" cy="1066680"/>
            <a:chOff x="4723920" y="3352680"/>
            <a:chExt cx="609480" cy="1066680"/>
          </a:xfrm>
        </p:grpSpPr>
        <p:sp>
          <p:nvSpPr>
            <p:cNvPr id="147" name=""/>
            <p:cNvSpPr/>
            <p:nvPr/>
          </p:nvSpPr>
          <p:spPr>
            <a:xfrm rot="16200000">
              <a:off x="4571640" y="3657240"/>
              <a:ext cx="914400" cy="304920"/>
            </a:xfrm>
            <a:custGeom>
              <a:avLst/>
              <a:gdLst>
                <a:gd name="textAreaLeft" fmla="*/ 35640 w 914400"/>
                <a:gd name="textAreaRight" fmla="*/ 878760 w 914400"/>
                <a:gd name="textAreaTop" fmla="*/ 35640 h 304920"/>
                <a:gd name="textAreaBottom" fmla="*/ 269280 h 304920"/>
              </a:gdLst>
              <a:ahLst/>
              <a:rect l="textAreaLeft" t="textAreaTop" r="textAreaRight" b="textAreaBottom"/>
              <a:pathLst>
                <a:path w="647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1124" y="21600"/>
                  </a:lnTo>
                  <a:arcTo wR="3600" hR="3600" stAng="10800000" swAng="5400000"/>
                  <a:lnTo>
                    <a:pt x="647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n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23920" y="3657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723920" y="3962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81120" y="3809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884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120" y="3352680"/>
            <a:ext cx="609480" cy="1066680"/>
            <a:chOff x="6324120" y="3352680"/>
            <a:chExt cx="609480" cy="1066680"/>
          </a:xfrm>
        </p:grpSpPr>
        <p:sp>
          <p:nvSpPr>
            <p:cNvPr id="153" name=""/>
            <p:cNvSpPr/>
            <p:nvPr/>
          </p:nvSpPr>
          <p:spPr>
            <a:xfrm rot="16200000">
              <a:off x="6171840" y="3657240"/>
              <a:ext cx="914400" cy="304920"/>
            </a:xfrm>
            <a:custGeom>
              <a:avLst/>
              <a:gdLst>
                <a:gd name="textAreaLeft" fmla="*/ 35640 w 914400"/>
                <a:gd name="textAreaRight" fmla="*/ 878760 w 914400"/>
                <a:gd name="textAreaTop" fmla="*/ 35640 h 304920"/>
                <a:gd name="textAreaBottom" fmla="*/ 269280 h 304920"/>
              </a:gdLst>
              <a:ahLst/>
              <a:rect l="textAreaLeft" t="textAreaTop" r="textAreaRight" b="textAreaBottom"/>
              <a:pathLst>
                <a:path w="647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1124" y="21600"/>
                  </a:lnTo>
                  <a:arcTo wR="3600" hR="3600" stAng="10800000" swAng="5400000"/>
                  <a:lnTo>
                    <a:pt x="647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n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24120" y="3657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324120" y="3962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781320" y="3809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04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6200000">
            <a:off x="6286320" y="4609800"/>
            <a:ext cx="685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F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ndom Core Inputs and Outpu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2743200"/>
            <a:ext cx="1295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895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traint Max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6576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traint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49528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352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1240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428640" y="29718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12640" y="2819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124080" y="396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428640" y="3809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12640" y="3657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2884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34290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7760" y="32767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434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91120" y="46483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74760" y="449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Mat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v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(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*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$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/ 2^16 +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rmalizes range to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random / 2^16 is a fraction between 0 and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hifts value back up within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er implemented with shift-accumul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takes number of cycles = highest set bit of 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lus cons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to Verify With Simulation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≥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values of rand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minimum constraint val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maximum constraint val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nt to simply prove th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≤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≤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s with Simul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will take too lo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^16 * 2^ 16 * 2^16 combinations of in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n if you wrote a ‘C’ algorithm it would take too lo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onditionals as easy, it’s the LFSR that gets y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n the multiplier gets y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ing Jasp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th default engines took overn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nding the right engine, solved problem in 2 ho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nd other problems while constructing constra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ed to latch constra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with re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t Hsu</cp:lastModifiedBy>
  <dcterms:modified xsi:type="dcterms:W3CDTF">2010-03-03T06:49:37Z</dcterms:modified>
  <cp:revision>9</cp:revision>
  <dc:subject/>
  <dc:title>PowerPoint Presentation</dc:title>
</cp:coreProperties>
</file>