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329184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45920" y="365040"/>
            <a:ext cx="312721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166292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167956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4628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1166292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2167956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645920" y="365040"/>
            <a:ext cx="312721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66292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67956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64628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1166292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2167956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166292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167956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64628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1166292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2167956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45920" y="365040"/>
            <a:ext cx="312721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66292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67956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4628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166292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167956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45920" y="365040"/>
            <a:ext cx="312721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66292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67956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4628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166292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2167956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45920" y="365040"/>
            <a:ext cx="312721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66292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167956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64628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1166292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2167956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45920" y="365040"/>
            <a:ext cx="312721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45920" y="365040"/>
            <a:ext cx="312721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66292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167956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64628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1166292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2167956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645920" y="365040"/>
            <a:ext cx="312721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66292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167956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64628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1166292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2167956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645920" y="365040"/>
            <a:ext cx="312721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66292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167956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64628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1166292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2167956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45920" y="365040"/>
            <a:ext cx="3127212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646280" y="18296640"/>
            <a:ext cx="296258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6826760" y="695016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64628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6826760" y="18296640"/>
            <a:ext cx="1445724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166292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1679560" y="695016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64628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1166292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21679560" y="18296640"/>
            <a:ext cx="9539280" cy="10361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0920"/>
                <a:tab algn="l" pos="7521480"/>
              </a:tabLst>
            </a:pP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ppt_gradient_2010.jpg"/>
          <p:cNvPicPr/>
          <p:nvPr/>
        </p:nvPicPr>
        <p:blipFill>
          <a:blip r:embed="rId2"/>
          <a:stretch/>
        </p:blipFill>
        <p:spPr>
          <a:xfrm>
            <a:off x="0" y="30138840"/>
            <a:ext cx="32918400" cy="2779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1" lang="en-US" sz="1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09760" indent="-14097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7"/>
          <p:cNvSpPr/>
          <p:nvPr/>
        </p:nvSpPr>
        <p:spPr>
          <a:xfrm>
            <a:off x="8229600" y="31305600"/>
            <a:ext cx="13716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6200" rIns="376200" tIns="188280" bIns="18828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fld id="{FFA4BDCC-F545-4542-9B57-EE6A630FD802}" type="slidenum">
              <a:rPr b="0" lang="en-US" sz="4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2" descr="ppt_gradient_2010.jpg"/>
          <p:cNvPicPr/>
          <p:nvPr/>
        </p:nvPicPr>
        <p:blipFill>
          <a:blip r:embed="rId2"/>
          <a:stretch/>
        </p:blipFill>
        <p:spPr>
          <a:xfrm>
            <a:off x="0" y="30138840"/>
            <a:ext cx="32918400" cy="2779560"/>
          </a:xfrm>
          <a:prstGeom prst="rect">
            <a:avLst/>
          </a:prstGeom>
          <a:ln w="0">
            <a:noFill/>
          </a:ln>
        </p:spPr>
      </p:pic>
      <p:sp>
        <p:nvSpPr>
          <p:cNvPr id="370" name="TextBox 7"/>
          <p:cNvSpPr/>
          <p:nvPr/>
        </p:nvSpPr>
        <p:spPr>
          <a:xfrm>
            <a:off x="8229600" y="31305600"/>
            <a:ext cx="13716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6200" rIns="376200" tIns="188280" bIns="18828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fld id="{BE3D2BC7-4D4A-461F-9DC5-97D4AEBFF30D}" type="slidenum">
              <a:rPr b="0" lang="en-US" sz="4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1" lang="en-US" sz="1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09760" indent="-14097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8"/>
          </p:nvPr>
        </p:nvSpPr>
        <p:spPr>
          <a:xfrm>
            <a:off x="11247480" y="30800160"/>
            <a:ext cx="10423440" cy="17528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2" descr="ppt_gradient_2010.jpg"/>
          <p:cNvPicPr/>
          <p:nvPr/>
        </p:nvPicPr>
        <p:blipFill>
          <a:blip r:embed="rId2"/>
          <a:stretch/>
        </p:blipFill>
        <p:spPr>
          <a:xfrm>
            <a:off x="0" y="30138840"/>
            <a:ext cx="32918400" cy="2779560"/>
          </a:xfrm>
          <a:prstGeom prst="rect">
            <a:avLst/>
          </a:prstGeom>
          <a:ln w="0">
            <a:noFill/>
          </a:ln>
        </p:spPr>
      </p:pic>
      <p:sp>
        <p:nvSpPr>
          <p:cNvPr id="41" name="TextBox 7"/>
          <p:cNvSpPr/>
          <p:nvPr/>
        </p:nvSpPr>
        <p:spPr>
          <a:xfrm>
            <a:off x="8229600" y="31305600"/>
            <a:ext cx="13716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6200" rIns="376200" tIns="188280" bIns="18828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fld id="{5AC2579B-5A7E-4BFD-AD1C-C98C4CFE4F1A}" type="slidenum">
              <a:rPr b="0" lang="en-US" sz="4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29625840"/>
            <a:ext cx="329184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6200" rIns="376200" tIns="188280" bIns="18828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29625840"/>
            <a:ext cx="329184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6200" rIns="376200" tIns="188280" bIns="18828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1" lang="en-US" sz="1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09760" indent="-14097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ppt_gradient_2010.jpg"/>
          <p:cNvPicPr/>
          <p:nvPr/>
        </p:nvPicPr>
        <p:blipFill>
          <a:blip r:embed="rId2"/>
          <a:stretch/>
        </p:blipFill>
        <p:spPr>
          <a:xfrm>
            <a:off x="0" y="30138840"/>
            <a:ext cx="32918400" cy="277956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229600" y="31305600"/>
            <a:ext cx="13716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6200" rIns="376200" tIns="188280" bIns="18828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fld id="{87BC6001-E8A1-4661-B6DA-E7F5FD5C38F0}" type="slidenum">
              <a:rPr b="0" lang="en-US" sz="4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1" lang="en-US" sz="1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09760" indent="-14097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1"/>
          </p:nvPr>
        </p:nvSpPr>
        <p:spPr>
          <a:xfrm>
            <a:off x="11247480" y="30800160"/>
            <a:ext cx="10423440" cy="17528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ppt_gradient_2010.jpg"/>
          <p:cNvPicPr/>
          <p:nvPr/>
        </p:nvPicPr>
        <p:blipFill>
          <a:blip r:embed="rId2"/>
          <a:stretch/>
        </p:blipFill>
        <p:spPr>
          <a:xfrm>
            <a:off x="0" y="30138840"/>
            <a:ext cx="32918400" cy="27795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8229600" y="31305600"/>
            <a:ext cx="13716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6200" rIns="376200" tIns="188280" bIns="18828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fld id="{99BC6CEE-13E6-4E09-94F6-66AF5680192D}" type="slidenum">
              <a:rPr b="0" lang="en-US" sz="4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1" lang="en-US" sz="1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09760" indent="-14097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2"/>
          </p:nvPr>
        </p:nvSpPr>
        <p:spPr>
          <a:xfrm>
            <a:off x="11247480" y="30800160"/>
            <a:ext cx="10423440" cy="17528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2" descr="ppt_gradient_2010.jpg"/>
          <p:cNvPicPr/>
          <p:nvPr/>
        </p:nvPicPr>
        <p:blipFill>
          <a:blip r:embed="rId2"/>
          <a:stretch/>
        </p:blipFill>
        <p:spPr>
          <a:xfrm>
            <a:off x="0" y="30138840"/>
            <a:ext cx="32918400" cy="27795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7"/>
          <p:cNvSpPr/>
          <p:nvPr/>
        </p:nvSpPr>
        <p:spPr>
          <a:xfrm>
            <a:off x="8229600" y="31305600"/>
            <a:ext cx="13716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6200" rIns="376200" tIns="188280" bIns="18828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fld id="{68490BBE-602B-48EA-8A51-54F69C718CA2}" type="slidenum">
              <a:rPr b="0" lang="en-US" sz="4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1" lang="en-US" sz="1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09760" indent="-14097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3"/>
          </p:nvPr>
        </p:nvSpPr>
        <p:spPr>
          <a:xfrm>
            <a:off x="11247480" y="30800160"/>
            <a:ext cx="10423440" cy="17528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2" descr="ppt_gradient_2010.jpg"/>
          <p:cNvPicPr/>
          <p:nvPr/>
        </p:nvPicPr>
        <p:blipFill>
          <a:blip r:embed="rId2"/>
          <a:stretch/>
        </p:blipFill>
        <p:spPr>
          <a:xfrm>
            <a:off x="0" y="30138840"/>
            <a:ext cx="32918400" cy="27795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7"/>
          <p:cNvSpPr/>
          <p:nvPr/>
        </p:nvSpPr>
        <p:spPr>
          <a:xfrm>
            <a:off x="8229600" y="31305600"/>
            <a:ext cx="13716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6200" rIns="376200" tIns="188280" bIns="18828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fld id="{55694E7D-3036-48E3-A777-E98A8B687515}" type="slidenum">
              <a:rPr b="0" lang="en-US" sz="4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1" lang="en-US" sz="1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09760" indent="-14097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4"/>
          </p:nvPr>
        </p:nvSpPr>
        <p:spPr>
          <a:xfrm>
            <a:off x="11247480" y="30800160"/>
            <a:ext cx="10423440" cy="17528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2" descr="ppt_gradient_2010.jpg"/>
          <p:cNvPicPr/>
          <p:nvPr/>
        </p:nvPicPr>
        <p:blipFill>
          <a:blip r:embed="rId2"/>
          <a:stretch/>
        </p:blipFill>
        <p:spPr>
          <a:xfrm>
            <a:off x="0" y="30138840"/>
            <a:ext cx="32918400" cy="27795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7"/>
          <p:cNvSpPr/>
          <p:nvPr/>
        </p:nvSpPr>
        <p:spPr>
          <a:xfrm>
            <a:off x="8229600" y="31305600"/>
            <a:ext cx="13716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6200" rIns="376200" tIns="188280" bIns="18828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fld id="{E57EF829-0DCF-4D94-B821-F96419893B89}" type="slidenum">
              <a:rPr b="0" lang="en-US" sz="4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1" lang="en-US" sz="1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09760" indent="-14097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5"/>
          </p:nvPr>
        </p:nvSpPr>
        <p:spPr>
          <a:xfrm>
            <a:off x="11247480" y="30800160"/>
            <a:ext cx="10423440" cy="17528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2" descr="ppt_gradient_2010.jpg"/>
          <p:cNvPicPr/>
          <p:nvPr/>
        </p:nvPicPr>
        <p:blipFill>
          <a:blip r:embed="rId2"/>
          <a:stretch/>
        </p:blipFill>
        <p:spPr>
          <a:xfrm>
            <a:off x="0" y="30138840"/>
            <a:ext cx="32918400" cy="2779560"/>
          </a:xfrm>
          <a:prstGeom prst="rect">
            <a:avLst/>
          </a:prstGeom>
          <a:ln w="0">
            <a:noFill/>
          </a:ln>
        </p:spPr>
      </p:pic>
      <p:sp>
        <p:nvSpPr>
          <p:cNvPr id="288" name="TextBox 7"/>
          <p:cNvSpPr/>
          <p:nvPr/>
        </p:nvSpPr>
        <p:spPr>
          <a:xfrm>
            <a:off x="8229600" y="31305600"/>
            <a:ext cx="13716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6200" rIns="376200" tIns="188280" bIns="18828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fld id="{550677D1-C9BC-4D39-ABD1-26309E8EDAD7}" type="slidenum">
              <a:rPr b="0" lang="en-US" sz="4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1" lang="en-US" sz="1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09760" indent="-14097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6"/>
          </p:nvPr>
        </p:nvSpPr>
        <p:spPr>
          <a:xfrm>
            <a:off x="11247480" y="30800160"/>
            <a:ext cx="10423440" cy="17528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2" descr="ppt_gradient_2010.jpg"/>
          <p:cNvPicPr/>
          <p:nvPr/>
        </p:nvPicPr>
        <p:blipFill>
          <a:blip r:embed="rId2"/>
          <a:stretch/>
        </p:blipFill>
        <p:spPr>
          <a:xfrm>
            <a:off x="0" y="30138840"/>
            <a:ext cx="32918400" cy="2779560"/>
          </a:xfrm>
          <a:prstGeom prst="rect">
            <a:avLst/>
          </a:prstGeom>
          <a:ln w="0">
            <a:noFill/>
          </a:ln>
        </p:spPr>
      </p:pic>
      <p:sp>
        <p:nvSpPr>
          <p:cNvPr id="329" name="TextBox 7"/>
          <p:cNvSpPr/>
          <p:nvPr/>
        </p:nvSpPr>
        <p:spPr>
          <a:xfrm>
            <a:off x="8229600" y="31305600"/>
            <a:ext cx="13716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6200" rIns="376200" tIns="188280" bIns="18828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fld id="{68FA02B3-DA05-407E-A45E-5E2F0AA36E61}" type="slidenum">
              <a:rPr b="0" lang="en-US" sz="4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45920" y="365040"/>
            <a:ext cx="31272120" cy="54864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r>
              <a:rPr b="1" lang="en-US" sz="1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646280" y="6950160"/>
            <a:ext cx="29625840" cy="217231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09760" indent="-14097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2" marL="4702320" indent="-939960">
              <a:spcBef>
                <a:spcPts val="3300"/>
              </a:spcBef>
              <a:buClr>
                <a:srgbClr val="000000"/>
              </a:buClr>
              <a:buFont typeface="Arial"/>
              <a:buChar char="•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3" marL="6583320" indent="-939600">
              <a:spcBef>
                <a:spcPts val="3300"/>
              </a:spcBef>
              <a:buClr>
                <a:srgbClr val="000000"/>
              </a:buClr>
              <a:buFont typeface="Arial"/>
              <a:buChar char="–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4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5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  <a:p>
            <a:pPr lvl="6" marL="8464680" indent="-939960">
              <a:spcBef>
                <a:spcPts val="3300"/>
              </a:spcBef>
              <a:buClr>
                <a:srgbClr val="000000"/>
              </a:buClr>
              <a:buFont typeface="Arial"/>
              <a:buChar char="»"/>
              <a:tabLst>
                <a:tab algn="l" pos="3760920"/>
                <a:tab algn="l" pos="752148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7"/>
          </p:nvPr>
        </p:nvSpPr>
        <p:spPr>
          <a:xfrm>
            <a:off x="11247480" y="30800160"/>
            <a:ext cx="10423440" cy="175284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Autofit/>
          </a:bodyPr>
          <a:p>
            <a:pPr indent="0">
              <a:buNone/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78"/>
          <p:cNvSpPr/>
          <p:nvPr/>
        </p:nvSpPr>
        <p:spPr>
          <a:xfrm>
            <a:off x="13639680" y="12344400"/>
            <a:ext cx="17754840" cy="1181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77"/>
          <p:cNvGrpSpPr/>
          <p:nvPr/>
        </p:nvGrpSpPr>
        <p:grpSpPr>
          <a:xfrm>
            <a:off x="21412080" y="24155280"/>
            <a:ext cx="9982440" cy="7086600"/>
            <a:chOff x="21412080" y="24155280"/>
            <a:chExt cx="9982440" cy="7086600"/>
          </a:xfrm>
        </p:grpSpPr>
        <p:sp>
          <p:nvSpPr>
            <p:cNvPr id="412" name="Title 2"/>
            <p:cNvSpPr/>
            <p:nvPr/>
          </p:nvSpPr>
          <p:spPr>
            <a:xfrm>
              <a:off x="21412080" y="24155280"/>
              <a:ext cx="9982440" cy="1433520"/>
            </a:xfrm>
            <a:prstGeom prst="rect">
              <a:avLst/>
            </a:prstGeom>
            <a:solidFill>
              <a:srgbClr val="e7e4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1199"/>
                </a:spcBef>
                <a:tabLst>
                  <a:tab algn="l" pos="0"/>
                  <a:tab algn="l" pos="3133800"/>
                  <a:tab algn="l" pos="6267600"/>
                  <a:tab algn="l" pos="940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3133800"/>
                  <a:tab algn="l" pos="6267600"/>
                  <a:tab algn="l" pos="940104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Arial"/>
                </a:rPr>
                <a:t>Quickgrade Impac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Content Placeholder 1"/>
            <p:cNvSpPr/>
            <p:nvPr/>
          </p:nvSpPr>
          <p:spPr>
            <a:xfrm>
              <a:off x="21412080" y="25526880"/>
              <a:ext cx="9982440" cy="5715000"/>
            </a:xfrm>
            <a:prstGeom prst="rect">
              <a:avLst/>
            </a:prstGeom>
            <a:solidFill>
              <a:srgbClr val="e7e4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174680" indent="-11746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3133800"/>
                  <a:tab algn="l" pos="6267600"/>
                  <a:tab algn="l" pos="94010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1174680" indent="-1174680">
                <a:spcBef>
                  <a:spcPts val="601"/>
                </a:spcBef>
                <a:tabLst>
                  <a:tab algn="l" pos="0"/>
                  <a:tab algn="l" pos="3133800"/>
                  <a:tab algn="l" pos="6267600"/>
                  <a:tab algn="l" pos="94010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Rectangle 146"/>
          <p:cNvSpPr/>
          <p:nvPr/>
        </p:nvSpPr>
        <p:spPr>
          <a:xfrm>
            <a:off x="1447920" y="12344400"/>
            <a:ext cx="17754480" cy="1181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0" y="0"/>
            <a:ext cx="3291840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33cc"/>
                </a:solidFill>
                <a:latin typeface="Arial"/>
              </a:rPr>
              <a:t>Quickgrade : An Efficient Algorithm for Managing Coverage Grading in Complex Multi-Core Microprocessor Environme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            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James Young                        Michael Sanders                             Vernon Lee                                      Paul Graykows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MD.                                                   AMD                                                                Synopsys, Inc.                                                Synopsys,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james.young@amd.com                     michael.sanders@amd.com                           vernon.lee@synopsys.com                             paul.graykowski@synopsy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0920"/>
                <a:tab algn="l" pos="75214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"/>
          <p:cNvPicPr/>
          <p:nvPr/>
        </p:nvPicPr>
        <p:blipFill>
          <a:blip r:embed="rId1"/>
          <a:stretch/>
        </p:blipFill>
        <p:spPr>
          <a:xfrm>
            <a:off x="28879920" y="27812880"/>
            <a:ext cx="3163680" cy="4678560"/>
          </a:xfrm>
          <a:prstGeom prst="rect">
            <a:avLst/>
          </a:prstGeom>
          <a:ln w="0">
            <a:noFill/>
          </a:ln>
        </p:spPr>
      </p:pic>
      <p:sp>
        <p:nvSpPr>
          <p:cNvPr id="417" name="Content Placeholder 1"/>
          <p:cNvSpPr/>
          <p:nvPr/>
        </p:nvSpPr>
        <p:spPr>
          <a:xfrm>
            <a:off x="1447920" y="6629400"/>
            <a:ext cx="9829800" cy="5715000"/>
          </a:xfrm>
          <a:prstGeom prst="rect">
            <a:avLst/>
          </a:prstGeom>
          <a:solidFill>
            <a:srgbClr val="fee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quired for sign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anity check on functional coverag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eckpointing progression of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ternal tool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est priorit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133800"/>
                <a:tab algn="l" pos="6267600"/>
                <a:tab algn="l" pos="9401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itle 2"/>
          <p:cNvSpPr/>
          <p:nvPr/>
        </p:nvSpPr>
        <p:spPr>
          <a:xfrm>
            <a:off x="1447920" y="5257800"/>
            <a:ext cx="9829800" cy="1371600"/>
          </a:xfrm>
          <a:prstGeom prst="rect">
            <a:avLst/>
          </a:prstGeom>
          <a:solidFill>
            <a:srgbClr val="fee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133800"/>
                <a:tab algn="l" pos="6267600"/>
                <a:tab algn="l" pos="940104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What is Code Coverage Good F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itle 2"/>
          <p:cNvSpPr/>
          <p:nvPr/>
        </p:nvSpPr>
        <p:spPr>
          <a:xfrm>
            <a:off x="21259800" y="5257800"/>
            <a:ext cx="9982080" cy="1433520"/>
          </a:xfrm>
          <a:prstGeom prst="rect">
            <a:avLst/>
          </a:prstGeom>
          <a:solidFill>
            <a:srgbClr val="e7e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99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 Prototype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Content Placeholder 1"/>
          <p:cNvSpPr/>
          <p:nvPr/>
        </p:nvSpPr>
        <p:spPr>
          <a:xfrm>
            <a:off x="21259800" y="6629400"/>
            <a:ext cx="9982080" cy="5715000"/>
          </a:xfrm>
          <a:prstGeom prst="rect">
            <a:avLst/>
          </a:prstGeom>
          <a:solidFill>
            <a:srgbClr val="e7e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ad data directly from Synopsys db (UCA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eam effort between AMD and Synopsys to develop a new gra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cremental contribution of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umulative running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eed out tests that add no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133800"/>
                <a:tab algn="l" pos="6267600"/>
                <a:tab algn="l" pos="9401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tle 2"/>
          <p:cNvSpPr/>
          <p:nvPr/>
        </p:nvSpPr>
        <p:spPr>
          <a:xfrm>
            <a:off x="11277720" y="5257800"/>
            <a:ext cx="9982080" cy="1433520"/>
          </a:xfrm>
          <a:prstGeom prst="rect">
            <a:avLst/>
          </a:prstGeom>
          <a:solidFill>
            <a:srgbClr val="e7f3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Need Prioritized Test List in 1 Mon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Content Placeholder 1"/>
          <p:cNvSpPr/>
          <p:nvPr/>
        </p:nvSpPr>
        <p:spPr>
          <a:xfrm>
            <a:off x="11277720" y="6629400"/>
            <a:ext cx="9982080" cy="5715000"/>
          </a:xfrm>
          <a:prstGeom prst="rect">
            <a:avLst/>
          </a:prstGeom>
          <a:solidFill>
            <a:srgbClr val="e7f3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0K+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reedy’ grading would take 5 months (x^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ould be happy with ‘good enough”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133800"/>
                <a:tab algn="l" pos="6267600"/>
                <a:tab algn="l" pos="9401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lowchart: Magnetic Disk 127"/>
          <p:cNvSpPr/>
          <p:nvPr/>
        </p:nvSpPr>
        <p:spPr>
          <a:xfrm>
            <a:off x="2971800" y="13106520"/>
            <a:ext cx="3809880" cy="1828800"/>
          </a:xfrm>
          <a:prstGeom prst="flowChartMagneticDisk">
            <a:avLst/>
          </a:prstGeom>
          <a:solidFill>
            <a:srgbClr val="85b634"/>
          </a:solidFill>
          <a:ln w="38160">
            <a:solidFill>
              <a:srgbClr val="608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ag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28"/>
          <p:cNvSpPr/>
          <p:nvPr/>
        </p:nvSpPr>
        <p:spPr>
          <a:xfrm>
            <a:off x="3200400" y="16230600"/>
            <a:ext cx="3886200" cy="1752480"/>
          </a:xfrm>
          <a:prstGeom prst="rect">
            <a:avLst/>
          </a:prstGeom>
          <a:solidFill>
            <a:srgbClr val="897aba"/>
          </a:solidFill>
          <a:ln w="38160">
            <a:solidFill>
              <a:srgbClr val="635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is loaded from list of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9"/>
          <p:cNvSpPr/>
          <p:nvPr/>
        </p:nvSpPr>
        <p:spPr>
          <a:xfrm>
            <a:off x="3124080" y="18745200"/>
            <a:ext cx="3886200" cy="1752480"/>
          </a:xfrm>
          <a:prstGeom prst="rect">
            <a:avLst/>
          </a:prstGeom>
          <a:solidFill>
            <a:srgbClr val="897aba"/>
          </a:solidFill>
          <a:ln w="38160">
            <a:solidFill>
              <a:srgbClr val="635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age metric (toggle) is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30"/>
          <p:cNvSpPr/>
          <p:nvPr/>
        </p:nvSpPr>
        <p:spPr>
          <a:xfrm>
            <a:off x="8381880" y="18288000"/>
            <a:ext cx="3886200" cy="1752480"/>
          </a:xfrm>
          <a:prstGeom prst="rect">
            <a:avLst/>
          </a:prstGeom>
          <a:solidFill>
            <a:srgbClr val="897aba"/>
          </a:solidFill>
          <a:ln w="38160">
            <a:solidFill>
              <a:srgbClr val="635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31"/>
          <p:cNvSpPr/>
          <p:nvPr/>
        </p:nvSpPr>
        <p:spPr>
          <a:xfrm>
            <a:off x="8534520" y="18440280"/>
            <a:ext cx="3886200" cy="1752840"/>
          </a:xfrm>
          <a:prstGeom prst="rect">
            <a:avLst/>
          </a:prstGeom>
          <a:solidFill>
            <a:srgbClr val="897aba"/>
          </a:solidFill>
          <a:ln w="38160">
            <a:solidFill>
              <a:srgbClr val="635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32"/>
          <p:cNvSpPr/>
          <p:nvPr/>
        </p:nvSpPr>
        <p:spPr>
          <a:xfrm>
            <a:off x="8686800" y="18592920"/>
            <a:ext cx="3886200" cy="1752480"/>
          </a:xfrm>
          <a:prstGeom prst="rect">
            <a:avLst/>
          </a:prstGeom>
          <a:solidFill>
            <a:srgbClr val="897aba"/>
          </a:solidFill>
          <a:ln w="38160">
            <a:solidFill>
              <a:srgbClr val="635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33"/>
          <p:cNvSpPr/>
          <p:nvPr/>
        </p:nvSpPr>
        <p:spPr>
          <a:xfrm>
            <a:off x="8839080" y="18745200"/>
            <a:ext cx="3886200" cy="1752480"/>
          </a:xfrm>
          <a:prstGeom prst="rect">
            <a:avLst/>
          </a:prstGeom>
          <a:solidFill>
            <a:srgbClr val="897aba"/>
          </a:solidFill>
          <a:ln w="38160">
            <a:solidFill>
              <a:srgbClr val="635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34"/>
          <p:cNvSpPr/>
          <p:nvPr/>
        </p:nvSpPr>
        <p:spPr>
          <a:xfrm>
            <a:off x="8991720" y="18897480"/>
            <a:ext cx="3886200" cy="1752840"/>
          </a:xfrm>
          <a:prstGeom prst="rect">
            <a:avLst/>
          </a:prstGeom>
          <a:solidFill>
            <a:srgbClr val="897aba"/>
          </a:solidFill>
          <a:ln w="38160">
            <a:solidFill>
              <a:srgbClr val="635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instances (insta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5"/>
          <p:cNvSpPr/>
          <p:nvPr/>
        </p:nvSpPr>
        <p:spPr>
          <a:xfrm>
            <a:off x="13792320" y="18668880"/>
            <a:ext cx="3886200" cy="1752840"/>
          </a:xfrm>
          <a:prstGeom prst="rect">
            <a:avLst/>
          </a:prstGeom>
          <a:solidFill>
            <a:srgbClr val="897aba"/>
          </a:solidFill>
          <a:ln w="38160">
            <a:solidFill>
              <a:srgbClr val="635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 up the covered and coverable for the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36"/>
          <p:cNvSpPr/>
          <p:nvPr/>
        </p:nvSpPr>
        <p:spPr>
          <a:xfrm>
            <a:off x="13868280" y="21107520"/>
            <a:ext cx="3886200" cy="1752480"/>
          </a:xfrm>
          <a:prstGeom prst="rect">
            <a:avLst/>
          </a:prstGeom>
          <a:solidFill>
            <a:srgbClr val="897aba"/>
          </a:solidFill>
          <a:ln w="38160">
            <a:solidFill>
              <a:srgbClr val="635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ta calculated and compared / sum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Down Arrow 137"/>
          <p:cNvSpPr/>
          <p:nvPr/>
        </p:nvSpPr>
        <p:spPr>
          <a:xfrm>
            <a:off x="4876920" y="15544800"/>
            <a:ext cx="53316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97aba"/>
          </a:solidFill>
          <a:ln w="38160">
            <a:solidFill>
              <a:srgbClr val="635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Down Arrow 138"/>
          <p:cNvSpPr/>
          <p:nvPr/>
        </p:nvSpPr>
        <p:spPr>
          <a:xfrm>
            <a:off x="4876920" y="18211680"/>
            <a:ext cx="53316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97aba"/>
          </a:solidFill>
          <a:ln w="38160">
            <a:solidFill>
              <a:srgbClr val="635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own Arrow 140"/>
          <p:cNvSpPr/>
          <p:nvPr/>
        </p:nvSpPr>
        <p:spPr>
          <a:xfrm>
            <a:off x="15544800" y="20574000"/>
            <a:ext cx="53352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97aba"/>
          </a:solidFill>
          <a:ln w="38160">
            <a:solidFill>
              <a:srgbClr val="635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ight Arrow 141"/>
          <p:cNvSpPr/>
          <p:nvPr/>
        </p:nvSpPr>
        <p:spPr>
          <a:xfrm>
            <a:off x="7467480" y="192024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97aba"/>
          </a:solidFill>
          <a:ln w="38160">
            <a:solidFill>
              <a:srgbClr val="635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ight Arrow 142"/>
          <p:cNvSpPr/>
          <p:nvPr/>
        </p:nvSpPr>
        <p:spPr>
          <a:xfrm>
            <a:off x="13106520" y="19278720"/>
            <a:ext cx="45720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97aba"/>
          </a:solidFill>
          <a:ln w="38160">
            <a:solidFill>
              <a:srgbClr val="635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Curved Left Arrow 143"/>
          <p:cNvSpPr/>
          <p:nvPr/>
        </p:nvSpPr>
        <p:spPr>
          <a:xfrm rot="10800000">
            <a:off x="3276720" y="20878560"/>
            <a:ext cx="838080" cy="1904760"/>
          </a:xfrm>
          <a:custGeom>
            <a:avLst/>
            <a:gdLst>
              <a:gd name="textAreaLeft" fmla="*/ 112320 w 838080"/>
              <a:gd name="textAreaRight" fmla="*/ 725760 w 838080"/>
              <a:gd name="textAreaTop" fmla="*/ 397440 h 1904760"/>
              <a:gd name="textAreaBottom" fmla="*/ 140256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18" stAng="-5400000" swAng="5400000"/>
                <a:lnTo>
                  <a:pt x="21600" y="11394"/>
                </a:lnTo>
                <a:arcTo wR="21600" hR="9018" stAng="0" swAng="3495941"/>
                <a:lnTo>
                  <a:pt x="5400" y="21314"/>
                </a:lnTo>
                <a:lnTo>
                  <a:pt x="0" y="19224"/>
                </a:lnTo>
                <a:lnTo>
                  <a:pt x="5400" y="16562"/>
                </a:lnTo>
                <a:lnTo>
                  <a:pt x="5400" y="17750"/>
                </a:lnTo>
                <a:arcTo wR="21600" hR="9018" stAng="3495941" swAng="-3305398"/>
                <a:lnTo>
                  <a:pt x="21412" y="10206"/>
                </a:lnTo>
                <a:arcTo wR="21600" hR="9018" stAng="-190543" swAng="-5209457"/>
                <a:close/>
              </a:path>
              <a:path fill="darkenLess" w="21600" h="21600">
                <a:moveTo>
                  <a:pt x="0" y="0"/>
                </a:moveTo>
                <a:arcTo wR="21600" hR="9018" stAng="-5400000" swAng="5400000"/>
                <a:lnTo>
                  <a:pt x="21600" y="11394"/>
                </a:lnTo>
                <a:arcTo wR="21600" hR="9018" stAng="0" swAng="-190543"/>
                <a:lnTo>
                  <a:pt x="21412" y="10206"/>
                </a:lnTo>
                <a:arcTo wR="21600" hR="9018" stAng="-190543" swAng="-5209457"/>
                <a:close/>
              </a:path>
            </a:pathLst>
          </a:custGeom>
          <a:solidFill>
            <a:srgbClr val="897aba"/>
          </a:solidFill>
          <a:ln w="38160">
            <a:solidFill>
              <a:srgbClr val="635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45"/>
          <p:cNvSpPr/>
          <p:nvPr/>
        </p:nvSpPr>
        <p:spPr>
          <a:xfrm>
            <a:off x="4034520" y="21564720"/>
            <a:ext cx="423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for each metri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itle 2"/>
          <p:cNvSpPr/>
          <p:nvPr/>
        </p:nvSpPr>
        <p:spPr>
          <a:xfrm>
            <a:off x="20954880" y="14630400"/>
            <a:ext cx="9982440" cy="1433520"/>
          </a:xfrm>
          <a:prstGeom prst="rect">
            <a:avLst/>
          </a:prstGeom>
          <a:solidFill>
            <a:srgbClr val="ffcd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99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 Sample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ontent Placeholder 1"/>
          <p:cNvSpPr/>
          <p:nvPr/>
        </p:nvSpPr>
        <p:spPr>
          <a:xfrm>
            <a:off x="20954880" y="16002000"/>
            <a:ext cx="9982440" cy="5715000"/>
          </a:xfrm>
          <a:prstGeom prst="rect">
            <a:avLst/>
          </a:prstGeom>
          <a:solidFill>
            <a:srgbClr val="ffcd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Quickgrade results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133800"/>
                <a:tab algn="l" pos="6267600"/>
                <a:tab algn="l" pos="9401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22250520" y="17145000"/>
            <a:ext cx="6933960" cy="393336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g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  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0.20  60.2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7.65  67.85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.82  72.66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  83.4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.00  83.42      test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Straight Arrow Connector 153"/>
          <p:cNvCxnSpPr/>
          <p:nvPr/>
        </p:nvCxnSpPr>
        <p:spPr>
          <a:xfrm>
            <a:off x="20116800" y="15544440"/>
            <a:ext cx="1905840" cy="2591640"/>
          </a:xfrm>
          <a:prstGeom prst="straightConnector1">
            <a:avLst/>
          </a:prstGeom>
          <a:ln w="792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4" name="TextBox 148"/>
          <p:cNvSpPr/>
          <p:nvPr/>
        </p:nvSpPr>
        <p:spPr>
          <a:xfrm>
            <a:off x="19447200" y="14935320"/>
            <a:ext cx="309168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Straight Arrow Connector 156"/>
          <p:cNvCxnSpPr>
            <a:stCxn id="446" idx="0"/>
          </p:cNvCxnSpPr>
          <p:nvPr/>
        </p:nvCxnSpPr>
        <p:spPr>
          <a:xfrm flipH="1" flipV="1">
            <a:off x="24459840" y="21182760"/>
            <a:ext cx="1296000" cy="1144080"/>
          </a:xfrm>
          <a:prstGeom prst="straightConnector1">
            <a:avLst/>
          </a:prstGeom>
          <a:ln w="792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6" name="TextBox 157"/>
          <p:cNvSpPr/>
          <p:nvPr/>
        </p:nvSpPr>
        <p:spPr>
          <a:xfrm>
            <a:off x="24231600" y="2232648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ativ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Straight Arrow Connector 161"/>
          <p:cNvCxnSpPr/>
          <p:nvPr/>
        </p:nvCxnSpPr>
        <p:spPr>
          <a:xfrm flipV="1">
            <a:off x="20193120" y="19964160"/>
            <a:ext cx="2134080" cy="2743920"/>
          </a:xfrm>
          <a:prstGeom prst="straightConnector1">
            <a:avLst/>
          </a:prstGeom>
          <a:ln w="792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8" name="TextBox 162"/>
          <p:cNvSpPr/>
          <p:nvPr/>
        </p:nvSpPr>
        <p:spPr>
          <a:xfrm>
            <a:off x="19507320" y="22183560"/>
            <a:ext cx="3124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valu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itle 2"/>
          <p:cNvSpPr/>
          <p:nvPr/>
        </p:nvSpPr>
        <p:spPr>
          <a:xfrm>
            <a:off x="1447920" y="24155280"/>
            <a:ext cx="9982080" cy="1433520"/>
          </a:xfrm>
          <a:prstGeom prst="rect">
            <a:avLst/>
          </a:prstGeom>
          <a:solidFill>
            <a:srgbClr val="cfe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99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Quickgrade in the Real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Content Placeholder 1"/>
          <p:cNvSpPr/>
          <p:nvPr/>
        </p:nvSpPr>
        <p:spPr>
          <a:xfrm>
            <a:off x="1447920" y="25526880"/>
            <a:ext cx="9982080" cy="5715000"/>
          </a:xfrm>
          <a:prstGeom prst="rect">
            <a:avLst/>
          </a:prstGeom>
          <a:solidFill>
            <a:srgbClr val="cfe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0K + tests ran in 18 days – beats 5 months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raded tests used to identify test of 1k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gt;90% toggle coverage (requi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92.4% (actual) i.e. ‘good enough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sage of 1k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attern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vernight/weekend high coverage reg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icking gate simulation su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133800"/>
                <a:tab algn="l" pos="6267600"/>
                <a:tab algn="l" pos="9401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itle 2"/>
          <p:cNvSpPr/>
          <p:nvPr/>
        </p:nvSpPr>
        <p:spPr>
          <a:xfrm>
            <a:off x="11430000" y="24155280"/>
            <a:ext cx="9982080" cy="1433520"/>
          </a:xfrm>
          <a:prstGeom prst="rect">
            <a:avLst/>
          </a:prstGeom>
          <a:solidFill>
            <a:srgbClr val="fdc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99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Future Work - Ord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Content Placeholder 1"/>
          <p:cNvSpPr/>
          <p:nvPr/>
        </p:nvSpPr>
        <p:spPr>
          <a:xfrm>
            <a:off x="11430000" y="25526880"/>
            <a:ext cx="9982080" cy="5715000"/>
          </a:xfrm>
          <a:prstGeom prst="rect">
            <a:avLst/>
          </a:prstGeom>
          <a:solidFill>
            <a:srgbClr val="fdc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est list is order 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ore passes in different orders improv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dentification of this sweet 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an list be sorted for better results in one p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hat are the crite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56040" indent="-11746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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orting must be linear to maintain performance / linearity of g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133800"/>
                <a:tab algn="l" pos="6267600"/>
                <a:tab algn="l" pos="9401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74680" indent="-1174680">
              <a:spcBef>
                <a:spcPts val="601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3138" descr="bigtestgrid.png"/>
          <p:cNvPicPr/>
          <p:nvPr/>
        </p:nvPicPr>
        <p:blipFill>
          <a:blip r:embed="rId2"/>
          <a:stretch/>
        </p:blipFill>
        <p:spPr>
          <a:xfrm>
            <a:off x="21869280" y="25374600"/>
            <a:ext cx="4583160" cy="27432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2" descr="smaltestgrid.png"/>
          <p:cNvPicPr/>
          <p:nvPr/>
        </p:nvPicPr>
        <p:blipFill>
          <a:blip r:embed="rId3"/>
          <a:stretch/>
        </p:blipFill>
        <p:spPr>
          <a:xfrm>
            <a:off x="21945600" y="29565720"/>
            <a:ext cx="1600200" cy="1135080"/>
          </a:xfrm>
          <a:prstGeom prst="rect">
            <a:avLst/>
          </a:prstGeom>
          <a:ln w="0">
            <a:noFill/>
          </a:ln>
        </p:spPr>
      </p:pic>
      <p:sp>
        <p:nvSpPr>
          <p:cNvPr id="455" name="TextBox 170"/>
          <p:cNvSpPr/>
          <p:nvPr/>
        </p:nvSpPr>
        <p:spPr>
          <a:xfrm>
            <a:off x="24155280" y="27584280"/>
            <a:ext cx="3124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grade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Down Arrow 172"/>
          <p:cNvSpPr/>
          <p:nvPr/>
        </p:nvSpPr>
        <p:spPr>
          <a:xfrm>
            <a:off x="22479120" y="28422720"/>
            <a:ext cx="533160" cy="83808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897aba"/>
          </a:solidFill>
          <a:ln w="38160">
            <a:solidFill>
              <a:srgbClr val="635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73"/>
          <p:cNvSpPr/>
          <p:nvPr/>
        </p:nvSpPr>
        <p:spPr>
          <a:xfrm>
            <a:off x="23329080" y="2857500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synopsys"/>
          <p:cNvPicPr/>
          <p:nvPr/>
        </p:nvPicPr>
        <p:blipFill>
          <a:blip r:embed="rId4"/>
          <a:stretch/>
        </p:blipFill>
        <p:spPr>
          <a:xfrm>
            <a:off x="24917400" y="31546800"/>
            <a:ext cx="3505320" cy="838080"/>
          </a:xfrm>
          <a:prstGeom prst="rect">
            <a:avLst/>
          </a:prstGeom>
          <a:ln w="0">
            <a:noFill/>
          </a:ln>
        </p:spPr>
      </p:pic>
      <p:sp>
        <p:nvSpPr>
          <p:cNvPr id="459" name="Flowchart: Magnetic Disk 179"/>
          <p:cNvSpPr/>
          <p:nvPr/>
        </p:nvSpPr>
        <p:spPr>
          <a:xfrm>
            <a:off x="3124080" y="13258800"/>
            <a:ext cx="3810240" cy="1828800"/>
          </a:xfrm>
          <a:prstGeom prst="flowChartMagneticDisk">
            <a:avLst/>
          </a:prstGeom>
          <a:solidFill>
            <a:srgbClr val="85b634"/>
          </a:solidFill>
          <a:ln w="38160">
            <a:solidFill>
              <a:srgbClr val="608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ag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lowchart: Magnetic Disk 180"/>
          <p:cNvSpPr/>
          <p:nvPr/>
        </p:nvSpPr>
        <p:spPr>
          <a:xfrm>
            <a:off x="3276720" y="13411080"/>
            <a:ext cx="3809880" cy="1828800"/>
          </a:xfrm>
          <a:prstGeom prst="flowChartMagneticDisk">
            <a:avLst/>
          </a:prstGeom>
          <a:solidFill>
            <a:srgbClr val="85b634"/>
          </a:solidFill>
          <a:ln w="38160">
            <a:solidFill>
              <a:srgbClr val="608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ag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lowchart: Magnetic Disk 181"/>
          <p:cNvSpPr/>
          <p:nvPr/>
        </p:nvSpPr>
        <p:spPr>
          <a:xfrm>
            <a:off x="3429000" y="13563720"/>
            <a:ext cx="3809880" cy="1828800"/>
          </a:xfrm>
          <a:prstGeom prst="flowChartMagneticDisk">
            <a:avLst/>
          </a:prstGeom>
          <a:solidFill>
            <a:srgbClr val="85b634"/>
          </a:solidFill>
          <a:ln w="38160">
            <a:solidFill>
              <a:srgbClr val="608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760920"/>
                <a:tab algn="l" pos="752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ag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00:11:35Z</dcterms:created>
  <dc:creator>Synopsys</dc:creator>
  <dc:description/>
  <dc:language>en-US</dc:language>
  <cp:lastModifiedBy>Synopsys</cp:lastModifiedBy>
  <dcterms:modified xsi:type="dcterms:W3CDTF">2010-05-19T18:07:17Z</dcterms:modified>
  <cp:revision>3</cp:revision>
  <dc:subject/>
  <dc:title>Slide 1</dc:title>
</cp:coreProperties>
</file>