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32888" cy="1217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EB1-B747-4A98-BFD2-B5224B54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03944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876-F657-4F4B-B3FE-0B42D8B9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665-0F91-4E47-A38C-083569B4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284112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7039440"/>
            <a:ext cx="26467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FAE-3698-4C29-86D4-B381DFF7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AC8-F9AA-45DC-A232-BAA34079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EFC-8CF6-414A-A593-2543BCA9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A3C-4204-40DC-9B07-A256AB41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CE2-AE64-46F0-88FF-910A3125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7440"/>
            <a:ext cx="8220240" cy="9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147-830F-436A-8550-5A4C5126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00-61EE-446A-B6ED-48773DC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703944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2D8-D2BA-4532-B408-14F34D9C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2841120"/>
            <a:ext cx="401112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039440"/>
            <a:ext cx="82202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BFF-7BAE-4726-B0BA-8B81181F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7440"/>
            <a:ext cx="82202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841120"/>
            <a:ext cx="8220240" cy="80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11089800"/>
            <a:ext cx="2130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1200" y="11089800"/>
            <a:ext cx="28922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6960" y="11089800"/>
            <a:ext cx="213048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01A8-D72A-421E-AA97-9D3BA801E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9899640"/>
            <a:ext cx="8148600" cy="1295280"/>
          </a:xfrm>
          <a:custGeom>
            <a:avLst/>
            <a:gdLst>
              <a:gd name="textAreaLeft" fmla="*/ 1454040 w 8148600"/>
              <a:gd name="textAreaRight" fmla="*/ 6694560 w 814860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6555" y="18900"/>
                </a:moveTo>
                <a:lnTo>
                  <a:pt x="6555" y="20925"/>
                </a:lnTo>
                <a:cubicBezTo>
                  <a:pt x="6555" y="21263"/>
                  <a:pt x="6135" y="21600"/>
                  <a:pt x="5715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855" y="2700"/>
                </a:lnTo>
                <a:lnTo>
                  <a:pt x="3855" y="675"/>
                </a:lnTo>
                <a:cubicBezTo>
                  <a:pt x="3855" y="338"/>
                  <a:pt x="4275" y="0"/>
                  <a:pt x="4695" y="0"/>
                </a:cubicBezTo>
                <a:lnTo>
                  <a:pt x="16905" y="0"/>
                </a:lnTo>
                <a:cubicBezTo>
                  <a:pt x="17325" y="0"/>
                  <a:pt x="17745" y="338"/>
                  <a:pt x="17745" y="675"/>
                </a:cubicBezTo>
                <a:lnTo>
                  <a:pt x="17745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885" y="21600"/>
                </a:lnTo>
                <a:cubicBezTo>
                  <a:pt x="15465" y="21600"/>
                  <a:pt x="15045" y="21263"/>
                  <a:pt x="15045" y="20925"/>
                </a:cubicBezTo>
                <a:lnTo>
                  <a:pt x="15045" y="18900"/>
                </a:lnTo>
                <a:close/>
              </a:path>
              <a:path fill="darkenLess" w="21600" h="21600">
                <a:moveTo>
                  <a:pt x="6555" y="18900"/>
                </a:moveTo>
                <a:lnTo>
                  <a:pt x="6555" y="20925"/>
                </a:lnTo>
                <a:cubicBezTo>
                  <a:pt x="6555" y="20588"/>
                  <a:pt x="6135" y="20250"/>
                  <a:pt x="5715" y="20250"/>
                </a:cubicBezTo>
                <a:lnTo>
                  <a:pt x="4695" y="20250"/>
                </a:lnTo>
                <a:cubicBezTo>
                  <a:pt x="4275" y="20250"/>
                  <a:pt x="3855" y="19913"/>
                  <a:pt x="3855" y="19575"/>
                </a:cubicBezTo>
                <a:cubicBezTo>
                  <a:pt x="3855" y="19238"/>
                  <a:pt x="4275" y="18900"/>
                  <a:pt x="4695" y="18900"/>
                </a:cubicBezTo>
                <a:close/>
              </a:path>
              <a:path fill="darkenLess" w="21600" h="21600">
                <a:moveTo>
                  <a:pt x="15045" y="18900"/>
                </a:moveTo>
                <a:lnTo>
                  <a:pt x="15045" y="20925"/>
                </a:lnTo>
                <a:cubicBezTo>
                  <a:pt x="15045" y="20588"/>
                  <a:pt x="15465" y="20250"/>
                  <a:pt x="15885" y="20250"/>
                </a:cubicBezTo>
                <a:lnTo>
                  <a:pt x="16905" y="20250"/>
                </a:lnTo>
                <a:cubicBezTo>
                  <a:pt x="17325" y="20250"/>
                  <a:pt x="17745" y="19913"/>
                  <a:pt x="17745" y="19575"/>
                </a:cubicBezTo>
                <a:cubicBezTo>
                  <a:pt x="17745" y="19238"/>
                  <a:pt x="17325" y="18900"/>
                  <a:pt x="16905" y="18900"/>
                </a:cubicBezTo>
                <a:close/>
              </a:path>
              <a:path fill="darkenLess" w="21600" h="21600">
                <a:moveTo>
                  <a:pt x="3855" y="19575"/>
                </a:moveTo>
                <a:lnTo>
                  <a:pt x="3855" y="2700"/>
                </a:lnTo>
              </a:path>
              <a:path fill="darkenLess" w="21600" h="21600">
                <a:moveTo>
                  <a:pt x="17745" y="19575"/>
                </a:moveTo>
                <a:lnTo>
                  <a:pt x="17745" y="2700"/>
                </a:lnTo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Si validation using Advanced Delay modeling hel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arth high value bugs very early in the design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sts functional coverage confi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tly model complex communication behavi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803840"/>
            <a:ext cx="913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3840"/>
            <a:ext cx="913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29080" y="2965320"/>
          <a:ext cx="3657600" cy="274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9080" y="2965320"/>
                    <a:ext cx="3657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4803840"/>
            <a:ext cx="913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29080" y="6851520"/>
          <a:ext cx="3429000" cy="25718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9080" y="6851520"/>
                    <a:ext cx="34290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4803840"/>
            <a:ext cx="913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7600" y="2889360"/>
          <a:ext cx="4191120" cy="31431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00" y="2889360"/>
                    <a:ext cx="41911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 rot="20077200">
            <a:off x="2814480" y="2736720"/>
            <a:ext cx="2743200" cy="266724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c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913000">
            <a:off x="5138280" y="4146120"/>
            <a:ext cx="2743200" cy="26668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c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024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of Complex Design/Architecture Problems using BFMs with Advanced Delay Mo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1120" y="2203560"/>
            <a:ext cx="1676160" cy="533160"/>
          </a:xfrm>
          <a:custGeom>
            <a:avLst/>
            <a:gdLst>
              <a:gd name="textAreaLeft" fmla="*/ 0 w 1676160"/>
              <a:gd name="textAreaRight" fmla="*/ 1676520 w 167616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49019"/>
                </a:srgbClr>
              </a:gs>
              <a:gs pos="100000">
                <a:srgbClr val="536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lem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86280" y="2203560"/>
            <a:ext cx="2057400" cy="533160"/>
          </a:xfrm>
          <a:custGeom>
            <a:avLst/>
            <a:gdLst>
              <a:gd name="textAreaLeft" fmla="*/ 0 w 2057400"/>
              <a:gd name="textAreaRight" fmla="*/ 2057400 w 205740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49019"/>
                </a:srgbClr>
              </a:gs>
              <a:gs pos="100000">
                <a:srgbClr val="536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olve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57680" y="6165720"/>
            <a:ext cx="2057400" cy="533520"/>
          </a:xfrm>
          <a:custGeom>
            <a:avLst/>
            <a:gdLst>
              <a:gd name="textAreaLeft" fmla="*/ 0 w 2057400"/>
              <a:gd name="textAreaRight" fmla="*/ 2057400 w 205740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49019"/>
                </a:srgbClr>
              </a:gs>
              <a:gs pos="100000">
                <a:srgbClr val="536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00" y="6318360"/>
            <a:ext cx="3657600" cy="380880"/>
          </a:xfrm>
          <a:custGeom>
            <a:avLst/>
            <a:gdLst>
              <a:gd name="textAreaLeft" fmla="*/ 834840 w 3657600"/>
              <a:gd name="textAreaRight" fmla="*/ 2822760 w 365760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49019"/>
                </a:srgbClr>
              </a:gs>
              <a:gs pos="100000">
                <a:srgbClr val="536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productivity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1920" y="28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56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69120" y="890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6851520"/>
          <a:ext cx="3729240" cy="2600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6851520"/>
                    <a:ext cx="37292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rot="9240600">
            <a:off x="3042720" y="6851160"/>
            <a:ext cx="2743200" cy="266724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0c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-2111400" y="773892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7891560" y="1746360"/>
            <a:ext cx="8730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2585880" y="1898640"/>
            <a:ext cx="81288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7767720" y="5861160"/>
            <a:ext cx="914400" cy="896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3652920" y="6024600"/>
            <a:ext cx="12128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1:54:27Z</dcterms:created>
  <dc:creator>Ravi</dc:creator>
  <dc:description/>
  <dc:language>en-US</dc:language>
  <cp:lastModifiedBy>Ravi</cp:lastModifiedBy>
  <dcterms:modified xsi:type="dcterms:W3CDTF">2010-04-29T00:44:26Z</dcterms:modified>
  <cp:revision>8</cp:revision>
  <dc:subject/>
  <dc:title>Slide 1</dc:title>
</cp:coreProperties>
</file>