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B1F8-5F5C-4095-9A4E-88E935C42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4ADC-2CA2-4A8A-82AD-BC3D42EB7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1091-6A05-4925-AE6A-903E71EDA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6328-4A30-433B-94DA-5446E9624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47C1-ADD1-49EF-B35B-478DB7AF1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6C70-8EDE-429F-97A2-8E9EE1B49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1747-7307-4179-A6A0-7A3B60016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B724-9640-4CAC-90C7-07FF719DE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5F22-3724-42CD-9E65-772072427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6011-7F61-440F-A3A5-2E4F23908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3744-D65F-4AC8-8F6A-D5360B1DB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FCC4-AA8B-49A1-9D4E-8E1E830A3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418C-ADAC-47DC-AC78-5FF7AC296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68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Billion Cycle Chall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2D41-C24C-41AE-8614-D1678C42A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FC7F-543D-412E-9AAC-FE967BB17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48D7-6859-4DA7-8818-83A6D77F0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FB990-A311-48F6-BBD2-F8CB568E39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71629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1F83B-1914-4310-90F8-482F4435A2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71629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C1344-9A08-444A-AC1E-B7D2D1795D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71629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E83D6-8ABC-4564-967E-7D6086B2B8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71629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11B25-B8DB-4941-8ECA-B464C6F7FC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71629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B3BD0-EFB8-47E1-A840-31C54EE911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71629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5D11E-8D18-41A5-BF6B-A9DFD2798E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71629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2080E-01C6-4AD8-90D1-CF3C2429EF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980720" y="274320"/>
            <a:ext cx="71629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C2BE0-55D8-4DD0-A147-BDCAE08507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71629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F3FEA-2FC5-46E3-837D-6309EBAB2D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71629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71B65-C9F3-48C8-99F6-82F7F60682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71629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5CFE8-08D3-4CDC-9701-EF18BB6244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71629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E041-7B60-48D8-BD12-1CBBC03A5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jpe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PPT1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"/>
              </a:rPr>
              <a:t>Migrating HW/SW Co-verification Platforms from </a:t>
            </a:r>
            <a:br>
              <a:rPr sz="3200"/>
            </a:br>
            <a:r>
              <a:rPr b="1" lang="en-US" sz="3200" spc="-1" strike="noStrike">
                <a:solidFill>
                  <a:srgbClr val="4d4d4d"/>
                </a:solidFill>
                <a:latin typeface="Arial"/>
              </a:rPr>
              <a:t>Simulator to Emulat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066680" y="4267080"/>
          <a:ext cx="7696440" cy="1193760"/>
        </p:xfrm>
        <a:graphic>
          <a:graphicData uri="http://schemas.openxmlformats.org/drawingml/2006/table">
            <a:tbl>
              <a:tblPr/>
              <a:tblGrid>
                <a:gridCol w="2565360"/>
                <a:gridCol w="2565720"/>
                <a:gridCol w="2565360"/>
              </a:tblGrid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Alicia Str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Marvell Semiconductor, Inc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4d4d4d"/>
                          </a:solidFill>
                          <a:uFillTx/>
                          <a:latin typeface="Arial"/>
                        </a:rPr>
                        <a:t>astrang@marvell.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Robert C. Card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Marvell Semiconductor, Inc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4d4d4d"/>
                          </a:solidFill>
                          <a:uFillTx/>
                          <a:latin typeface="Arial"/>
                        </a:rPr>
                        <a:t>rcarden@marvell.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Ron Cho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EVE-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4d4d4d"/>
                          </a:solidFill>
                          <a:uFillTx/>
                          <a:latin typeface="Arial"/>
                        </a:rPr>
                        <a:t>ronchoi@eve-usa.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655308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E240-291E-4CA9-AF57-63D41433D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71629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ory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: ASIC/IP Vendor simulation models may need to be re-modeled for emul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ulators use real HW to implement memories, while simulation models have non-synthesizable code, e.g. initial blocks, UDP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ulators need to handle bit/byte enables, active low/high control signals which may differ from the actual hardwa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igation: Commercial emulators usually have automatic/semi-automatic memory modeling tools, and accept some non-synthesizable code, e.g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inference and UDP in synthesi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ipted memory modeling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655308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7586-3E7E-4FF1-9A7B-FCD60DB54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71629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ck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: Generating the primary clocks in emulation;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ulators must prevent clock/data races in hardwa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ulators need to handle sarious synchronous/asynchronous clock domains/phas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igation: Commercial emulators typically have automatic clock generation and handling featur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take clock input from simulator, or generate clocks internall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ally minimizes skew and handles clock/data rac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655308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4F4E-62A7-43F9-BB08-04B499BEF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71629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 Clock Network in FPGA-based Em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96"/>
          <p:cNvSpPr/>
          <p:nvPr/>
        </p:nvSpPr>
        <p:spPr>
          <a:xfrm>
            <a:off x="533520" y="4724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ock generator drives the primary clocks of the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ains the original clock tree; no internal clock schedu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mary clocks are routed on a low skew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ve clock frequencies and duty cycles are defined at run-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9933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55"/>
          <p:cNvGrpSpPr/>
          <p:nvPr/>
        </p:nvGrpSpPr>
        <p:grpSpPr>
          <a:xfrm>
            <a:off x="304920" y="1630440"/>
            <a:ext cx="4760640" cy="2740320"/>
            <a:chOff x="304920" y="1630440"/>
            <a:chExt cx="4760640" cy="2740320"/>
          </a:xfrm>
        </p:grpSpPr>
        <p:sp>
          <p:nvSpPr>
            <p:cNvPr id="235" name="Rectangle 116"/>
            <p:cNvSpPr/>
            <p:nvPr/>
          </p:nvSpPr>
          <p:spPr>
            <a:xfrm>
              <a:off x="2524680" y="1630440"/>
              <a:ext cx="2409480" cy="24764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15"/>
            <p:cNvSpPr/>
            <p:nvPr/>
          </p:nvSpPr>
          <p:spPr>
            <a:xfrm>
              <a:off x="2568240" y="1697040"/>
              <a:ext cx="2409480" cy="24764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14"/>
            <p:cNvSpPr/>
            <p:nvPr/>
          </p:nvSpPr>
          <p:spPr>
            <a:xfrm>
              <a:off x="2612160" y="1764000"/>
              <a:ext cx="2409480" cy="24764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"/>
            <p:cNvSpPr/>
            <p:nvPr/>
          </p:nvSpPr>
          <p:spPr>
            <a:xfrm>
              <a:off x="2656080" y="1830960"/>
              <a:ext cx="2409480" cy="24638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40"/>
            <p:cNvSpPr/>
            <p:nvPr/>
          </p:nvSpPr>
          <p:spPr>
            <a:xfrm>
              <a:off x="3313080" y="1964880"/>
              <a:ext cx="832320" cy="113760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4"/>
            <p:cNvSpPr/>
            <p:nvPr/>
          </p:nvSpPr>
          <p:spPr>
            <a:xfrm>
              <a:off x="859680" y="1952280"/>
              <a:ext cx="1182960" cy="19407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67"/>
            <p:cNvSpPr/>
            <p:nvPr/>
          </p:nvSpPr>
          <p:spPr>
            <a:xfrm flipH="1">
              <a:off x="1292760" y="2956320"/>
              <a:ext cx="87480" cy="13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68"/>
            <p:cNvSpPr/>
            <p:nvPr/>
          </p:nvSpPr>
          <p:spPr>
            <a:xfrm>
              <a:off x="950040" y="292716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f5f5f"/>
                  </a:solidFill>
                  <a:latin typeface="55 Helvetica Roman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3"/>
            <p:cNvSpPr/>
            <p:nvPr/>
          </p:nvSpPr>
          <p:spPr>
            <a:xfrm>
              <a:off x="784080" y="1968840"/>
              <a:ext cx="127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f5f5f"/>
                  </a:solidFill>
                  <a:latin typeface="55 Helvetica Roman"/>
                </a:rPr>
                <a:t>Clock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00"/>
            <p:cNvSpPr/>
            <p:nvPr/>
          </p:nvSpPr>
          <p:spPr>
            <a:xfrm flipV="1">
              <a:off x="1582560" y="3759120"/>
              <a:ext cx="0" cy="33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04"/>
            <p:cNvSpPr/>
            <p:nvPr/>
          </p:nvSpPr>
          <p:spPr>
            <a:xfrm>
              <a:off x="874440" y="4094280"/>
              <a:ext cx="121896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55 Helvetica Roman"/>
                </a:rPr>
                <a:t>System Clo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09"/>
            <p:cNvSpPr/>
            <p:nvPr/>
          </p:nvSpPr>
          <p:spPr>
            <a:xfrm>
              <a:off x="3733560" y="3956040"/>
              <a:ext cx="126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55 Helvetica Roman"/>
                </a:rPr>
                <a:t>FPGA Boar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10"/>
            <p:cNvSpPr/>
            <p:nvPr/>
          </p:nvSpPr>
          <p:spPr>
            <a:xfrm>
              <a:off x="3400920" y="2098800"/>
              <a:ext cx="832320" cy="113760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112"/>
            <p:cNvGrpSpPr/>
            <p:nvPr/>
          </p:nvGrpSpPr>
          <p:grpSpPr>
            <a:xfrm>
              <a:off x="3488400" y="2835000"/>
              <a:ext cx="708120" cy="267480"/>
              <a:chOff x="3488400" y="2835000"/>
              <a:chExt cx="708120" cy="267480"/>
            </a:xfrm>
          </p:grpSpPr>
          <p:sp>
            <p:nvSpPr>
              <p:cNvPr id="249" name="Rectangle 3"/>
              <p:cNvSpPr/>
              <p:nvPr/>
            </p:nvSpPr>
            <p:spPr>
              <a:xfrm>
                <a:off x="3488400" y="2835000"/>
                <a:ext cx="708120" cy="267480"/>
              </a:xfrm>
              <a:prstGeom prst="rect">
                <a:avLst/>
              </a:prstGeom>
              <a:solidFill>
                <a:srgbClr val="cc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AutoShape 79"/>
              <p:cNvSpPr/>
              <p:nvPr/>
            </p:nvSpPr>
            <p:spPr>
              <a:xfrm>
                <a:off x="3853800" y="2899440"/>
                <a:ext cx="90720" cy="178200"/>
              </a:xfrm>
              <a:prstGeom prst="triangle">
                <a:avLst>
                  <a:gd name="adj" fmla="val 50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 algn="ctr">
                  <a:lnSpc>
                    <a:spcPct val="9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AutoShape 80"/>
              <p:cNvSpPr/>
              <p:nvPr/>
            </p:nvSpPr>
            <p:spPr>
              <a:xfrm>
                <a:off x="3968280" y="2899440"/>
                <a:ext cx="90720" cy="178200"/>
              </a:xfrm>
              <a:prstGeom prst="triangle">
                <a:avLst>
                  <a:gd name="adj" fmla="val 50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 algn="ctr">
                  <a:lnSpc>
                    <a:spcPct val="9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AutoShape 81"/>
              <p:cNvSpPr/>
              <p:nvPr/>
            </p:nvSpPr>
            <p:spPr>
              <a:xfrm>
                <a:off x="3625560" y="2899440"/>
                <a:ext cx="90720" cy="178200"/>
              </a:xfrm>
              <a:prstGeom prst="triangle">
                <a:avLst>
                  <a:gd name="adj" fmla="val 50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AutoShape 82"/>
              <p:cNvSpPr/>
              <p:nvPr/>
            </p:nvSpPr>
            <p:spPr>
              <a:xfrm>
                <a:off x="3510720" y="2899440"/>
                <a:ext cx="91440" cy="178200"/>
              </a:xfrm>
              <a:prstGeom prst="triangle">
                <a:avLst>
                  <a:gd name="adj" fmla="val 50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 algn="ctr">
                  <a:lnSpc>
                    <a:spcPct val="9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AutoShape 83"/>
              <p:cNvSpPr/>
              <p:nvPr/>
            </p:nvSpPr>
            <p:spPr>
              <a:xfrm>
                <a:off x="4082400" y="2899440"/>
                <a:ext cx="91440" cy="178200"/>
              </a:xfrm>
              <a:prstGeom prst="triangle">
                <a:avLst>
                  <a:gd name="adj" fmla="val 50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 algn="ctr">
                  <a:lnSpc>
                    <a:spcPct val="9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AutoShape 111"/>
              <p:cNvSpPr/>
              <p:nvPr/>
            </p:nvSpPr>
            <p:spPr>
              <a:xfrm>
                <a:off x="3749040" y="2899440"/>
                <a:ext cx="90720" cy="178200"/>
              </a:xfrm>
              <a:prstGeom prst="triangle">
                <a:avLst>
                  <a:gd name="adj" fmla="val 50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Line 113"/>
            <p:cNvSpPr/>
            <p:nvPr/>
          </p:nvSpPr>
          <p:spPr>
            <a:xfrm>
              <a:off x="2042640" y="3090240"/>
              <a:ext cx="744840" cy="0"/>
            </a:xfrm>
            <a:prstGeom prst="line">
              <a:avLst/>
            </a:prstGeom>
            <a:ln w="5724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17"/>
            <p:cNvSpPr/>
            <p:nvPr/>
          </p:nvSpPr>
          <p:spPr>
            <a:xfrm>
              <a:off x="2042640" y="2822400"/>
              <a:ext cx="569520" cy="0"/>
            </a:xfrm>
            <a:prstGeom prst="line">
              <a:avLst/>
            </a:prstGeom>
            <a:ln w="5724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18"/>
            <p:cNvSpPr/>
            <p:nvPr/>
          </p:nvSpPr>
          <p:spPr>
            <a:xfrm>
              <a:off x="2042640" y="2554920"/>
              <a:ext cx="525600" cy="0"/>
            </a:xfrm>
            <a:prstGeom prst="line">
              <a:avLst/>
            </a:prstGeom>
            <a:ln w="5724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19"/>
            <p:cNvSpPr/>
            <p:nvPr/>
          </p:nvSpPr>
          <p:spPr>
            <a:xfrm>
              <a:off x="2042640" y="2287080"/>
              <a:ext cx="481680" cy="0"/>
            </a:xfrm>
            <a:prstGeom prst="line">
              <a:avLst/>
            </a:prstGeom>
            <a:ln w="5724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20"/>
            <p:cNvSpPr/>
            <p:nvPr/>
          </p:nvSpPr>
          <p:spPr>
            <a:xfrm flipH="1">
              <a:off x="3821400" y="3437280"/>
              <a:ext cx="131400" cy="2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121"/>
            <p:cNvSpPr/>
            <p:nvPr/>
          </p:nvSpPr>
          <p:spPr>
            <a:xfrm>
              <a:off x="3943440" y="3239640"/>
              <a:ext cx="1026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55 Helvetica Roman"/>
                </a:rPr>
                <a:t>Route t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55 Helvetica Roman"/>
                </a:rPr>
                <a:t>FPGA Clo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55 Helvetica Roman"/>
                </a:rPr>
                <a:t>Buff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22"/>
            <p:cNvSpPr/>
            <p:nvPr/>
          </p:nvSpPr>
          <p:spPr>
            <a:xfrm flipV="1">
              <a:off x="3882600" y="3236400"/>
              <a:ext cx="0" cy="46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23"/>
            <p:cNvSpPr/>
            <p:nvPr/>
          </p:nvSpPr>
          <p:spPr>
            <a:xfrm flipH="1">
              <a:off x="3094200" y="3705120"/>
              <a:ext cx="78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24"/>
            <p:cNvSpPr/>
            <p:nvPr/>
          </p:nvSpPr>
          <p:spPr>
            <a:xfrm flipV="1">
              <a:off x="3094200" y="2768040"/>
              <a:ext cx="0" cy="936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25"/>
            <p:cNvSpPr/>
            <p:nvPr/>
          </p:nvSpPr>
          <p:spPr>
            <a:xfrm>
              <a:off x="2787480" y="3102840"/>
              <a:ext cx="30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26"/>
            <p:cNvSpPr/>
            <p:nvPr/>
          </p:nvSpPr>
          <p:spPr>
            <a:xfrm>
              <a:off x="3094200" y="3571200"/>
              <a:ext cx="174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27"/>
            <p:cNvSpPr/>
            <p:nvPr/>
          </p:nvSpPr>
          <p:spPr>
            <a:xfrm>
              <a:off x="3094200" y="3437280"/>
              <a:ext cx="174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28"/>
            <p:cNvSpPr/>
            <p:nvPr/>
          </p:nvSpPr>
          <p:spPr>
            <a:xfrm>
              <a:off x="3094200" y="3303720"/>
              <a:ext cx="174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29"/>
            <p:cNvSpPr/>
            <p:nvPr/>
          </p:nvSpPr>
          <p:spPr>
            <a:xfrm>
              <a:off x="3094200" y="3169800"/>
              <a:ext cx="174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30"/>
            <p:cNvSpPr/>
            <p:nvPr/>
          </p:nvSpPr>
          <p:spPr>
            <a:xfrm>
              <a:off x="3094200" y="3035880"/>
              <a:ext cx="174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31"/>
            <p:cNvSpPr/>
            <p:nvPr/>
          </p:nvSpPr>
          <p:spPr>
            <a:xfrm>
              <a:off x="3094200" y="2901960"/>
              <a:ext cx="174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37"/>
            <p:cNvSpPr/>
            <p:nvPr/>
          </p:nvSpPr>
          <p:spPr>
            <a:xfrm>
              <a:off x="3094200" y="2768040"/>
              <a:ext cx="174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38"/>
            <p:cNvSpPr/>
            <p:nvPr/>
          </p:nvSpPr>
          <p:spPr>
            <a:xfrm flipH="1">
              <a:off x="2305080" y="3023280"/>
              <a:ext cx="87480" cy="20052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94"/>
            <p:cNvSpPr/>
            <p:nvPr/>
          </p:nvSpPr>
          <p:spPr>
            <a:xfrm>
              <a:off x="3480120" y="2165760"/>
              <a:ext cx="706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be0e3"/>
                  </a:solidFill>
                  <a:latin typeface="55 Helvetica Roman"/>
                </a:rPr>
                <a:t>DU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be0e3"/>
                  </a:solidFill>
                  <a:latin typeface="55 Helvetica Roman"/>
                </a:rPr>
                <a:t>FPG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41"/>
            <p:cNvSpPr/>
            <p:nvPr/>
          </p:nvSpPr>
          <p:spPr>
            <a:xfrm>
              <a:off x="991080" y="2220120"/>
              <a:ext cx="620640" cy="535320"/>
            </a:xfrm>
            <a:custGeom>
              <a:avLst/>
              <a:gdLst>
                <a:gd name="textAreaLeft" fmla="*/ 0 w 620640"/>
                <a:gd name="textAreaRight" fmla="*/ 621000 w 620640"/>
                <a:gd name="textAreaTop" fmla="*/ 0 h 535320"/>
                <a:gd name="textAreaBottom" fmla="*/ 535680 h 535320"/>
              </a:gdLst>
              <a:ahLst/>
              <a:rect l="textAreaLeft" t="textAreaTop" r="textAreaRight" b="textAreaBottom"/>
              <a:pathLst>
                <a:path w="680" h="377">
                  <a:moveTo>
                    <a:pt x="19" y="46"/>
                  </a:moveTo>
                  <a:cubicBezTo>
                    <a:pt x="10" y="98"/>
                    <a:pt x="0" y="162"/>
                    <a:pt x="28" y="211"/>
                  </a:cubicBezTo>
                  <a:cubicBezTo>
                    <a:pt x="70" y="283"/>
                    <a:pt x="145" y="293"/>
                    <a:pt x="220" y="311"/>
                  </a:cubicBezTo>
                  <a:cubicBezTo>
                    <a:pt x="275" y="325"/>
                    <a:pt x="328" y="343"/>
                    <a:pt x="385" y="348"/>
                  </a:cubicBezTo>
                  <a:cubicBezTo>
                    <a:pt x="437" y="352"/>
                    <a:pt x="488" y="354"/>
                    <a:pt x="540" y="357"/>
                  </a:cubicBezTo>
                  <a:cubicBezTo>
                    <a:pt x="546" y="363"/>
                    <a:pt x="550" y="377"/>
                    <a:pt x="559" y="375"/>
                  </a:cubicBezTo>
                  <a:cubicBezTo>
                    <a:pt x="574" y="372"/>
                    <a:pt x="615" y="305"/>
                    <a:pt x="623" y="293"/>
                  </a:cubicBezTo>
                  <a:cubicBezTo>
                    <a:pt x="629" y="284"/>
                    <a:pt x="641" y="266"/>
                    <a:pt x="641" y="266"/>
                  </a:cubicBezTo>
                  <a:cubicBezTo>
                    <a:pt x="647" y="248"/>
                    <a:pt x="653" y="229"/>
                    <a:pt x="659" y="211"/>
                  </a:cubicBezTo>
                  <a:cubicBezTo>
                    <a:pt x="680" y="146"/>
                    <a:pt x="586" y="94"/>
                    <a:pt x="540" y="83"/>
                  </a:cubicBezTo>
                  <a:cubicBezTo>
                    <a:pt x="476" y="38"/>
                    <a:pt x="377" y="34"/>
                    <a:pt x="303" y="28"/>
                  </a:cubicBezTo>
                  <a:cubicBezTo>
                    <a:pt x="269" y="17"/>
                    <a:pt x="235" y="12"/>
                    <a:pt x="202" y="0"/>
                  </a:cubicBezTo>
                  <a:cubicBezTo>
                    <a:pt x="156" y="3"/>
                    <a:pt x="110" y="5"/>
                    <a:pt x="65" y="10"/>
                  </a:cubicBezTo>
                  <a:cubicBezTo>
                    <a:pt x="15" y="16"/>
                    <a:pt x="48" y="46"/>
                    <a:pt x="19" y="46"/>
                  </a:cubicBezTo>
                  <a:close/>
                </a:path>
              </a:pathLst>
            </a:custGeom>
            <a:solidFill>
              <a:srgbClr val="9797b7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43"/>
            <p:cNvSpPr/>
            <p:nvPr/>
          </p:nvSpPr>
          <p:spPr>
            <a:xfrm flipV="1">
              <a:off x="1560600" y="2286720"/>
              <a:ext cx="481680" cy="13356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44"/>
            <p:cNvSpPr/>
            <p:nvPr/>
          </p:nvSpPr>
          <p:spPr>
            <a:xfrm>
              <a:off x="1604520" y="2554920"/>
              <a:ext cx="43812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47"/>
            <p:cNvSpPr/>
            <p:nvPr/>
          </p:nvSpPr>
          <p:spPr>
            <a:xfrm>
              <a:off x="1560600" y="2688480"/>
              <a:ext cx="481680" cy="13356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48"/>
            <p:cNvSpPr/>
            <p:nvPr/>
          </p:nvSpPr>
          <p:spPr>
            <a:xfrm>
              <a:off x="1516680" y="2822400"/>
              <a:ext cx="525600" cy="26748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59"/>
            <p:cNvSpPr/>
            <p:nvPr/>
          </p:nvSpPr>
          <p:spPr>
            <a:xfrm flipV="1">
              <a:off x="1333440" y="2755080"/>
              <a:ext cx="7920" cy="7030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167"/>
            <p:cNvGrpSpPr/>
            <p:nvPr/>
          </p:nvGrpSpPr>
          <p:grpSpPr>
            <a:xfrm>
              <a:off x="1078560" y="3462480"/>
              <a:ext cx="864000" cy="596160"/>
              <a:chOff x="1078560" y="3462480"/>
              <a:chExt cx="864000" cy="596160"/>
            </a:xfrm>
          </p:grpSpPr>
          <p:sp>
            <p:nvSpPr>
              <p:cNvPr id="282" name="Text Box 168"/>
              <p:cNvSpPr/>
              <p:nvPr/>
            </p:nvSpPr>
            <p:spPr>
              <a:xfrm>
                <a:off x="1078560" y="3462480"/>
                <a:ext cx="864000" cy="59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5f5f5f"/>
                    </a:solidFill>
                    <a:latin typeface="55 Helvetica Roman"/>
                  </a:rPr>
                  <a:t>Clock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5f5f5f"/>
                    </a:solidFill>
                    <a:latin typeface="55 Helvetica Roman"/>
                  </a:rPr>
                  <a:t>Generato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AutoShape 169"/>
              <p:cNvSpPr/>
              <p:nvPr/>
            </p:nvSpPr>
            <p:spPr>
              <a:xfrm>
                <a:off x="1547280" y="3778560"/>
                <a:ext cx="66960" cy="111240"/>
              </a:xfrm>
              <a:prstGeom prst="flowChartExtra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 algn="ctr">
                  <a:lnSpc>
                    <a:spcPct val="9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Text Box 104"/>
            <p:cNvSpPr/>
            <p:nvPr/>
          </p:nvSpPr>
          <p:spPr>
            <a:xfrm rot="16200000">
              <a:off x="-122760" y="3277080"/>
              <a:ext cx="13150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55 Helvetica Roman"/>
                </a:rPr>
                <a:t>Run-time clo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55 Helvetica Roman"/>
                </a:rPr>
                <a:t>defini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48"/>
            <p:cNvSpPr/>
            <p:nvPr/>
          </p:nvSpPr>
          <p:spPr>
            <a:xfrm>
              <a:off x="728280" y="3558600"/>
              <a:ext cx="3502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37"/>
          <p:cNvSpPr/>
          <p:nvPr/>
        </p:nvSpPr>
        <p:spPr>
          <a:xfrm flipV="1">
            <a:off x="7391520" y="2849400"/>
            <a:ext cx="7596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8"/>
          <p:cNvSpPr/>
          <p:nvPr/>
        </p:nvSpPr>
        <p:spPr>
          <a:xfrm flipH="1" flipV="1">
            <a:off x="7467480" y="2849400"/>
            <a:ext cx="7632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39"/>
          <p:cNvSpPr/>
          <p:nvPr/>
        </p:nvSpPr>
        <p:spPr>
          <a:xfrm>
            <a:off x="7238880" y="3002040"/>
            <a:ext cx="152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40"/>
          <p:cNvSpPr/>
          <p:nvPr/>
        </p:nvSpPr>
        <p:spPr>
          <a:xfrm>
            <a:off x="7543800" y="3002040"/>
            <a:ext cx="152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41"/>
          <p:cNvSpPr/>
          <p:nvPr/>
        </p:nvSpPr>
        <p:spPr>
          <a:xfrm>
            <a:off x="5867280" y="2620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42"/>
          <p:cNvSpPr/>
          <p:nvPr/>
        </p:nvSpPr>
        <p:spPr>
          <a:xfrm flipV="1">
            <a:off x="7238880" y="2849400"/>
            <a:ext cx="45720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43"/>
          <p:cNvSpPr/>
          <p:nvPr/>
        </p:nvSpPr>
        <p:spPr>
          <a:xfrm>
            <a:off x="7238880" y="2849400"/>
            <a:ext cx="45720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ounded Rectangular Callout 114"/>
          <p:cNvSpPr/>
          <p:nvPr/>
        </p:nvSpPr>
        <p:spPr>
          <a:xfrm>
            <a:off x="5410080" y="1782720"/>
            <a:ext cx="3505320" cy="2438280"/>
          </a:xfrm>
          <a:prstGeom prst="wedgeRoundRectCallout">
            <a:avLst>
              <a:gd name="adj1" fmla="val -86407"/>
              <a:gd name="adj2" fmla="val -21162"/>
              <a:gd name="adj3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ay and Filter insertion prevents races/glit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Rectangle 36"/>
          <p:cNvGrpSpPr/>
          <p:nvPr/>
        </p:nvGrpSpPr>
        <p:grpSpPr>
          <a:xfrm>
            <a:off x="6224760" y="2749680"/>
            <a:ext cx="1566720" cy="652320"/>
            <a:chOff x="6224760" y="2749680"/>
            <a:chExt cx="1566720" cy="652320"/>
          </a:xfrm>
        </p:grpSpPr>
        <p:pic>
          <p:nvPicPr>
            <p:cNvPr id="295" name="Rectangle 36" descr=""/>
            <p:cNvPicPr/>
            <p:nvPr/>
          </p:nvPicPr>
          <p:blipFill>
            <a:blip r:embed="rId1"/>
            <a:stretch/>
          </p:blipFill>
          <p:spPr>
            <a:xfrm>
              <a:off x="6224760" y="2749680"/>
              <a:ext cx="156672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6248520" y="2773440"/>
              <a:ext cx="1523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Rectangle 15"/>
          <p:cNvGrpSpPr/>
          <p:nvPr/>
        </p:nvGrpSpPr>
        <p:grpSpPr>
          <a:xfrm>
            <a:off x="7900920" y="2212920"/>
            <a:ext cx="500040" cy="652680"/>
            <a:chOff x="7900920" y="2212920"/>
            <a:chExt cx="500040" cy="652680"/>
          </a:xfrm>
        </p:grpSpPr>
        <p:pic>
          <p:nvPicPr>
            <p:cNvPr id="298" name="Rectangle 15" descr=""/>
            <p:cNvPicPr/>
            <p:nvPr/>
          </p:nvPicPr>
          <p:blipFill>
            <a:blip r:embed="rId2"/>
            <a:stretch/>
          </p:blipFill>
          <p:spPr>
            <a:xfrm>
              <a:off x="7900920" y="2212920"/>
              <a:ext cx="50004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7924680" y="2239920"/>
              <a:ext cx="457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Line 16"/>
          <p:cNvSpPr/>
          <p:nvPr/>
        </p:nvSpPr>
        <p:spPr>
          <a:xfrm>
            <a:off x="8153280" y="2849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7"/>
          <p:cNvSpPr/>
          <p:nvPr/>
        </p:nvSpPr>
        <p:spPr>
          <a:xfrm flipH="1">
            <a:off x="7009920" y="3078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9"/>
          <p:cNvSpPr/>
          <p:nvPr/>
        </p:nvSpPr>
        <p:spPr>
          <a:xfrm flipH="1">
            <a:off x="5867280" y="2925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0"/>
          <p:cNvSpPr/>
          <p:nvPr/>
        </p:nvSpPr>
        <p:spPr>
          <a:xfrm flipH="1">
            <a:off x="5714640" y="3078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1"/>
          <p:cNvSpPr/>
          <p:nvPr/>
        </p:nvSpPr>
        <p:spPr>
          <a:xfrm flipH="1">
            <a:off x="5714640" y="32306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2"/>
          <p:cNvSpPr/>
          <p:nvPr/>
        </p:nvSpPr>
        <p:spPr>
          <a:xfrm>
            <a:off x="8381880" y="2468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3"/>
          <p:cNvSpPr/>
          <p:nvPr/>
        </p:nvSpPr>
        <p:spPr>
          <a:xfrm flipH="1">
            <a:off x="6857640" y="2468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5"/>
          <p:cNvSpPr/>
          <p:nvPr/>
        </p:nvSpPr>
        <p:spPr>
          <a:xfrm flipH="1">
            <a:off x="5715000" y="2468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6"/>
          <p:cNvSpPr/>
          <p:nvPr/>
        </p:nvSpPr>
        <p:spPr>
          <a:xfrm flipH="1">
            <a:off x="5715000" y="2620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7"/>
          <p:cNvSpPr/>
          <p:nvPr/>
        </p:nvSpPr>
        <p:spPr>
          <a:xfrm flipH="1">
            <a:off x="5715000" y="2316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AutoShape 18"/>
          <p:cNvGrpSpPr/>
          <p:nvPr/>
        </p:nvGrpSpPr>
        <p:grpSpPr>
          <a:xfrm>
            <a:off x="6284880" y="2809800"/>
            <a:ext cx="744480" cy="519120"/>
            <a:chOff x="6284880" y="2809800"/>
            <a:chExt cx="744480" cy="519120"/>
          </a:xfrm>
        </p:grpSpPr>
        <p:pic>
          <p:nvPicPr>
            <p:cNvPr id="311" name="AutoShape 18" descr=""/>
            <p:cNvPicPr/>
            <p:nvPr/>
          </p:nvPicPr>
          <p:blipFill>
            <a:blip r:embed="rId3"/>
            <a:stretch/>
          </p:blipFill>
          <p:spPr>
            <a:xfrm>
              <a:off x="6284880" y="2809800"/>
              <a:ext cx="74448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6419880" y="2917800"/>
              <a:ext cx="44748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AutoShape 24"/>
          <p:cNvGrpSpPr/>
          <p:nvPr/>
        </p:nvGrpSpPr>
        <p:grpSpPr>
          <a:xfrm>
            <a:off x="6138720" y="2200320"/>
            <a:ext cx="738360" cy="523800"/>
            <a:chOff x="6138720" y="2200320"/>
            <a:chExt cx="738360" cy="523800"/>
          </a:xfrm>
        </p:grpSpPr>
        <p:pic>
          <p:nvPicPr>
            <p:cNvPr id="314" name="AutoShape 24" descr=""/>
            <p:cNvPicPr/>
            <p:nvPr/>
          </p:nvPicPr>
          <p:blipFill>
            <a:blip r:embed="rId4"/>
            <a:stretch/>
          </p:blipFill>
          <p:spPr>
            <a:xfrm>
              <a:off x="6138720" y="2200320"/>
              <a:ext cx="73836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6267600" y="2308320"/>
              <a:ext cx="44748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35"/>
          <p:cNvGrpSpPr/>
          <p:nvPr/>
        </p:nvGrpSpPr>
        <p:grpSpPr>
          <a:xfrm>
            <a:off x="7238880" y="2316240"/>
            <a:ext cx="533520" cy="304560"/>
            <a:chOff x="7238880" y="2316240"/>
            <a:chExt cx="533520" cy="304560"/>
          </a:xfrm>
        </p:grpSpPr>
        <p:grpSp>
          <p:nvGrpSpPr>
            <p:cNvPr id="317" name="Rectangle 28"/>
            <p:cNvGrpSpPr/>
            <p:nvPr/>
          </p:nvGrpSpPr>
          <p:grpSpPr>
            <a:xfrm>
              <a:off x="7238880" y="2316240"/>
              <a:ext cx="533520" cy="304560"/>
              <a:chOff x="7238880" y="2316240"/>
              <a:chExt cx="533520" cy="304560"/>
            </a:xfrm>
          </p:grpSpPr>
          <p:pic>
            <p:nvPicPr>
              <p:cNvPr id="318" name="Rectangle 28" descr=""/>
              <p:cNvPicPr/>
              <p:nvPr/>
            </p:nvPicPr>
            <p:blipFill>
              <a:blip r:embed="rId5"/>
              <a:stretch/>
            </p:blipFill>
            <p:spPr>
              <a:xfrm>
                <a:off x="7238880" y="2316240"/>
                <a:ext cx="53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9" name=""/>
              <p:cNvSpPr/>
              <p:nvPr/>
            </p:nvSpPr>
            <p:spPr>
              <a:xfrm>
                <a:off x="7264080" y="2337120"/>
                <a:ext cx="49140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Line 29"/>
            <p:cNvGrpSpPr/>
            <p:nvPr/>
          </p:nvGrpSpPr>
          <p:grpSpPr>
            <a:xfrm>
              <a:off x="7244640" y="2316240"/>
              <a:ext cx="246600" cy="171000"/>
              <a:chOff x="7244640" y="2316240"/>
              <a:chExt cx="246600" cy="171000"/>
            </a:xfrm>
          </p:grpSpPr>
          <p:pic>
            <p:nvPicPr>
              <p:cNvPr id="321" name="Line 29" descr=""/>
              <p:cNvPicPr/>
              <p:nvPr/>
            </p:nvPicPr>
            <p:blipFill>
              <a:blip r:embed="rId6"/>
              <a:stretch/>
            </p:blipFill>
            <p:spPr>
              <a:xfrm>
                <a:off x="7244640" y="2316240"/>
                <a:ext cx="246600" cy="17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"/>
              <p:cNvSpPr/>
              <p:nvPr/>
            </p:nvSpPr>
            <p:spPr>
              <a:xfrm>
                <a:off x="7264080" y="23371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Line 30"/>
            <p:cNvGrpSpPr/>
            <p:nvPr/>
          </p:nvGrpSpPr>
          <p:grpSpPr>
            <a:xfrm>
              <a:off x="7384680" y="2316240"/>
              <a:ext cx="246960" cy="171000"/>
              <a:chOff x="7384680" y="2316240"/>
              <a:chExt cx="246960" cy="171000"/>
            </a:xfrm>
          </p:grpSpPr>
          <p:pic>
            <p:nvPicPr>
              <p:cNvPr id="324" name="Line 30" descr=""/>
              <p:cNvPicPr/>
              <p:nvPr/>
            </p:nvPicPr>
            <p:blipFill>
              <a:blip r:embed="rId7"/>
              <a:stretch/>
            </p:blipFill>
            <p:spPr>
              <a:xfrm>
                <a:off x="7384680" y="2316240"/>
                <a:ext cx="246960" cy="17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5" name=""/>
              <p:cNvSpPr/>
              <p:nvPr/>
            </p:nvSpPr>
            <p:spPr>
              <a:xfrm>
                <a:off x="7404120" y="23371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Line 31"/>
            <p:cNvGrpSpPr/>
            <p:nvPr/>
          </p:nvGrpSpPr>
          <p:grpSpPr>
            <a:xfrm>
              <a:off x="7525440" y="2316240"/>
              <a:ext cx="246600" cy="171000"/>
              <a:chOff x="7525440" y="2316240"/>
              <a:chExt cx="246600" cy="171000"/>
            </a:xfrm>
          </p:grpSpPr>
          <p:pic>
            <p:nvPicPr>
              <p:cNvPr id="327" name="Line 31" descr=""/>
              <p:cNvPicPr/>
              <p:nvPr/>
            </p:nvPicPr>
            <p:blipFill>
              <a:blip r:embed="rId8"/>
              <a:stretch/>
            </p:blipFill>
            <p:spPr>
              <a:xfrm>
                <a:off x="7525440" y="2316240"/>
                <a:ext cx="246600" cy="17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"/>
              <p:cNvSpPr/>
              <p:nvPr/>
            </p:nvSpPr>
            <p:spPr>
              <a:xfrm>
                <a:off x="7544880" y="23371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Line 32"/>
            <p:cNvGrpSpPr/>
            <p:nvPr/>
          </p:nvGrpSpPr>
          <p:grpSpPr>
            <a:xfrm>
              <a:off x="7244640" y="2449800"/>
              <a:ext cx="246600" cy="170640"/>
              <a:chOff x="7244640" y="2449800"/>
              <a:chExt cx="246600" cy="170640"/>
            </a:xfrm>
          </p:grpSpPr>
          <p:pic>
            <p:nvPicPr>
              <p:cNvPr id="330" name="Line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7244640" y="2449800"/>
                <a:ext cx="246600" cy="17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1" name=""/>
              <p:cNvSpPr/>
              <p:nvPr/>
            </p:nvSpPr>
            <p:spPr>
              <a:xfrm rot="10800000">
                <a:off x="7263720" y="2603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Line 33"/>
            <p:cNvGrpSpPr/>
            <p:nvPr/>
          </p:nvGrpSpPr>
          <p:grpSpPr>
            <a:xfrm>
              <a:off x="7384680" y="2449800"/>
              <a:ext cx="246960" cy="170640"/>
              <a:chOff x="7384680" y="2449800"/>
              <a:chExt cx="246960" cy="170640"/>
            </a:xfrm>
          </p:grpSpPr>
          <p:pic>
            <p:nvPicPr>
              <p:cNvPr id="333" name="Line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384680" y="2449800"/>
                <a:ext cx="246960" cy="17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"/>
              <p:cNvSpPr/>
              <p:nvPr/>
            </p:nvSpPr>
            <p:spPr>
              <a:xfrm rot="10800000">
                <a:off x="7403760" y="2603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Line 34"/>
            <p:cNvGrpSpPr/>
            <p:nvPr/>
          </p:nvGrpSpPr>
          <p:grpSpPr>
            <a:xfrm>
              <a:off x="7525440" y="2449800"/>
              <a:ext cx="246600" cy="170640"/>
              <a:chOff x="7525440" y="2449800"/>
              <a:chExt cx="246600" cy="170640"/>
            </a:xfrm>
          </p:grpSpPr>
          <p:pic>
            <p:nvPicPr>
              <p:cNvPr id="336" name="Line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7525440" y="2449800"/>
                <a:ext cx="246600" cy="17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 rot="10800000">
                <a:off x="7544520" y="2603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6"/>
          <p:cNvSpPr/>
          <p:nvPr/>
        </p:nvSpPr>
        <p:spPr>
          <a:xfrm>
            <a:off x="655308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0717-4FF6-4894-A747-51371B8B8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71629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bench Adap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: Improved performance requires testbench adapt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VL environments (e.g. VMM, OVM) are transaction-based, but are not written for emul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bench drivers and VIP are non-synthesizable, and TB is sequentially in-sync with the desig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r performance in emulation requires synthesizable drivers, parallelization between TB/desig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igation: Leverage emulation specific transactor I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simulator VIP with emulator transactors (e.g. AXI master/slave) that separate the transaction-level API from the synthesizable driver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hesizable drivers and parallelized TBs can be used in pure simulation environments as wel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projects can use a single implementation with no adaptation required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71629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X better than simulation (Phase 1) with cycle-level co-emulation (Phase 2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X improvement after design and testbench optimization (Phase 3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ag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 functional coverage goals earlier than anticipated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ulator provided full waveform dumping for hardware debugging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655308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75B7-84E4-4860-8FC1-B5AA22605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Chart 6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095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6"/>
          <p:cNvSpPr/>
          <p:nvPr/>
        </p:nvSpPr>
        <p:spPr>
          <a:xfrm>
            <a:off x="655308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5F13-F090-4FB4-A247-387DBDC01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71629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 single HW/SW co-verification environment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d our development ti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d the need for separate simulation and emulation testbench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dged the critical gap between software tests and hardware verific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6"/>
          <p:cNvSpPr/>
          <p:nvPr/>
        </p:nvSpPr>
        <p:spPr>
          <a:xfrm>
            <a:off x="655308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A52F-48EC-4F6E-A8AF-003F90C15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71629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future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improvements to this flow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HVL testbench environments with future emulation in mind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ment suggestions for EDA vendors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need for design &amp; testbench re-modeling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integration of emulator transactors with testbench environment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 activity of transaction level model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verification sessions in high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 an intuitive feel of the both software and hardware of a SOC desig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6"/>
          <p:cNvSpPr/>
          <p:nvPr/>
        </p:nvSpPr>
        <p:spPr>
          <a:xfrm>
            <a:off x="655308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CDEA-75BA-4131-BB52-4E1D1899F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71629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ed for HW/SW co-ver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OC designs usually contain one or more processors, with increasingly large, complex, multi-threaded softwa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operly verify these designs, we need to run tests where both hardware and software are co-simulated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iggest bottleneck of the HW/SW co-verification is the speed of the simulation engine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W/SW co-verification requires billions of cycles of simul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ulators offer a high-performance solution for HW/SW co-verific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ulators execute a design in real hardware – typically custom processors or FPGAs (standard or custom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6"/>
          <p:cNvSpPr/>
          <p:nvPr/>
        </p:nvSpPr>
        <p:spPr>
          <a:xfrm>
            <a:off x="655308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CA45-8614-4AEF-8E16-7D089931E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71629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itional emulation enviro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, simulation and emulation environments are completely different, and are often incompatible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mulation test environment utilizes test vectors, synthesizable Verilog test code, or uses real hardware to provide the stimulu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benches used in the simulation environment are class based, utilize coverage driven constrained random verification methodologies, and may leverage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y verification IP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2 separate environments creates redundant work, and takes up more time in the projec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ergent development effort drives the need for a unified HW/SW co-verification platfor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71629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Simulation Meets Em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Dac2010"/>
          <p:cNvPicPr/>
          <p:nvPr/>
        </p:nvPicPr>
        <p:blipFill>
          <a:blip r:embed="rId1"/>
          <a:stretch/>
        </p:blipFill>
        <p:spPr>
          <a:xfrm>
            <a:off x="0" y="1339920"/>
            <a:ext cx="914400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655308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230C-D9D8-4AA5-8D6F-86B3FCA2C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71629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ng a single HW/SW co-verification platfor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use the same test environment for simulation and emulation, creating a unified HW/SW co-verification platfor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ion IP block with AXI, JTAG, and other internal interfac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efits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-use: Leverages the work already completed for hardware verific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VL verification classes/components re-usable across projects as wel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per Verification: Emulation performance enables simulation of orders of magnitude more cycl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ential to hit deeper corner case bugs and provide better coverag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W/SW co-verification: Emulators provide simulator-like debug &amp; contro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bles hardware debugging with software debugging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655308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8FE0-E995-4E1B-8E70-D79AE1222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724280" y="1371600"/>
            <a:ext cx="3962520" cy="36576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ZeB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31"/>
          <p:cNvSpPr/>
          <p:nvPr/>
        </p:nvSpPr>
        <p:spPr>
          <a:xfrm>
            <a:off x="4871880" y="1676520"/>
            <a:ext cx="3686400" cy="3276360"/>
          </a:xfrm>
          <a:custGeom>
            <a:avLst/>
            <a:gdLst>
              <a:gd name="textAreaLeft" fmla="*/ 0 w 3686400"/>
              <a:gd name="textAreaRight" fmla="*/ 3686760 w 3686400"/>
              <a:gd name="textAreaTop" fmla="*/ 0 h 3276360"/>
              <a:gd name="textAreaBottom" fmla="*/ 3276720 h 3276360"/>
            </a:gdLst>
            <a:ahLst/>
            <a:rect l="textAreaLeft" t="textAreaTop" r="textAreaRight" b="textAreaBottom"/>
            <a:pathLst>
              <a:path w="2321" h="1951">
                <a:moveTo>
                  <a:pt x="5" y="845"/>
                </a:moveTo>
                <a:lnTo>
                  <a:pt x="1440" y="840"/>
                </a:lnTo>
                <a:lnTo>
                  <a:pt x="1435" y="1951"/>
                </a:lnTo>
                <a:lnTo>
                  <a:pt x="2321" y="1951"/>
                </a:lnTo>
                <a:lnTo>
                  <a:pt x="2320" y="0"/>
                </a:lnTo>
                <a:lnTo>
                  <a:pt x="0" y="0"/>
                </a:lnTo>
                <a:lnTo>
                  <a:pt x="5" y="845"/>
                </a:lnTo>
                <a:close/>
              </a:path>
            </a:pathLst>
          </a:custGeom>
          <a:solidFill>
            <a:srgbClr val="cccccc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Rectangle 22"/>
          <p:cNvGrpSpPr/>
          <p:nvPr/>
        </p:nvGrpSpPr>
        <p:grpSpPr>
          <a:xfrm>
            <a:off x="7192800" y="1712880"/>
            <a:ext cx="1317960" cy="3237120"/>
            <a:chOff x="7192800" y="1712880"/>
            <a:chExt cx="1317960" cy="3237120"/>
          </a:xfrm>
        </p:grpSpPr>
        <p:pic>
          <p:nvPicPr>
            <p:cNvPr id="64" name="Rectangle 22" descr=""/>
            <p:cNvPicPr/>
            <p:nvPr/>
          </p:nvPicPr>
          <p:blipFill>
            <a:blip r:embed="rId1"/>
            <a:stretch/>
          </p:blipFill>
          <p:spPr>
            <a:xfrm>
              <a:off x="7192800" y="1712880"/>
              <a:ext cx="1317960" cy="323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7256520" y="1752480"/>
              <a:ext cx="1198440" cy="312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rray of FPGA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Rectangle 23"/>
          <p:cNvGrpSpPr/>
          <p:nvPr/>
        </p:nvGrpSpPr>
        <p:grpSpPr>
          <a:xfrm>
            <a:off x="4889520" y="1719360"/>
            <a:ext cx="2157480" cy="1328760"/>
            <a:chOff x="4889520" y="1719360"/>
            <a:chExt cx="2157480" cy="1328760"/>
          </a:xfrm>
        </p:grpSpPr>
        <p:pic>
          <p:nvPicPr>
            <p:cNvPr id="67" name="Rectangle 23" descr=""/>
            <p:cNvPicPr/>
            <p:nvPr/>
          </p:nvPicPr>
          <p:blipFill>
            <a:blip r:embed="rId2"/>
            <a:stretch/>
          </p:blipFill>
          <p:spPr>
            <a:xfrm>
              <a:off x="4889520" y="1719360"/>
              <a:ext cx="21574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948200" y="1752480"/>
              <a:ext cx="20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Group 24" descr=""/>
          <p:cNvPicPr/>
          <p:nvPr/>
        </p:nvPicPr>
        <p:blipFill>
          <a:blip r:embed="rId3"/>
          <a:stretch/>
        </p:blipFill>
        <p:spPr>
          <a:xfrm>
            <a:off x="5383080" y="2328840"/>
            <a:ext cx="1090800" cy="500040"/>
          </a:xfrm>
          <a:prstGeom prst="rect">
            <a:avLst/>
          </a:prstGeom>
          <a:ln w="0">
            <a:noFill/>
          </a:ln>
        </p:spPr>
      </p:pic>
      <p:grpSp>
        <p:nvGrpSpPr>
          <p:cNvPr id="70" name="Rectangle 29"/>
          <p:cNvGrpSpPr/>
          <p:nvPr/>
        </p:nvGrpSpPr>
        <p:grpSpPr>
          <a:xfrm>
            <a:off x="5029200" y="1773360"/>
            <a:ext cx="890640" cy="579240"/>
            <a:chOff x="5029200" y="1773360"/>
            <a:chExt cx="890640" cy="579240"/>
          </a:xfrm>
        </p:grpSpPr>
        <p:pic>
          <p:nvPicPr>
            <p:cNvPr id="71" name="Rectangle 29" descr=""/>
            <p:cNvPicPr/>
            <p:nvPr/>
          </p:nvPicPr>
          <p:blipFill>
            <a:blip r:embed="rId4"/>
            <a:stretch/>
          </p:blipFill>
          <p:spPr>
            <a:xfrm>
              <a:off x="5029200" y="1773360"/>
              <a:ext cx="8906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089680" y="1808280"/>
              <a:ext cx="77472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m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Rectangle 30"/>
          <p:cNvGrpSpPr/>
          <p:nvPr/>
        </p:nvGrpSpPr>
        <p:grpSpPr>
          <a:xfrm>
            <a:off x="5943600" y="1773360"/>
            <a:ext cx="890640" cy="579240"/>
            <a:chOff x="5943600" y="1773360"/>
            <a:chExt cx="890640" cy="579240"/>
          </a:xfrm>
        </p:grpSpPr>
        <p:pic>
          <p:nvPicPr>
            <p:cNvPr id="74" name="Rectangle 30" descr=""/>
            <p:cNvPicPr/>
            <p:nvPr/>
          </p:nvPicPr>
          <p:blipFill>
            <a:blip r:embed="rId5"/>
            <a:stretch/>
          </p:blipFill>
          <p:spPr>
            <a:xfrm>
              <a:off x="5943600" y="1773360"/>
              <a:ext cx="8906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6005520" y="1808280"/>
              <a:ext cx="77472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ock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71629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ulated HW/SW co-verification plat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" name="Rectangle 27"/>
          <p:cNvGrpSpPr/>
          <p:nvPr/>
        </p:nvGrpSpPr>
        <p:grpSpPr>
          <a:xfrm>
            <a:off x="7375680" y="2189160"/>
            <a:ext cx="488880" cy="487440"/>
            <a:chOff x="7375680" y="2189160"/>
            <a:chExt cx="488880" cy="487440"/>
          </a:xfrm>
        </p:grpSpPr>
        <p:pic>
          <p:nvPicPr>
            <p:cNvPr id="78" name="Rectangle 27" descr=""/>
            <p:cNvPicPr/>
            <p:nvPr/>
          </p:nvPicPr>
          <p:blipFill>
            <a:blip r:embed="rId6"/>
            <a:stretch/>
          </p:blipFill>
          <p:spPr>
            <a:xfrm>
              <a:off x="7375680" y="2189160"/>
              <a:ext cx="48888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7391520" y="22096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FPG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Rectangle 28"/>
          <p:cNvGrpSpPr/>
          <p:nvPr/>
        </p:nvGrpSpPr>
        <p:grpSpPr>
          <a:xfrm>
            <a:off x="7527960" y="2346480"/>
            <a:ext cx="482400" cy="488880"/>
            <a:chOff x="7527960" y="2346480"/>
            <a:chExt cx="482400" cy="488880"/>
          </a:xfrm>
        </p:grpSpPr>
        <p:pic>
          <p:nvPicPr>
            <p:cNvPr id="81" name="Rectangle 28" descr=""/>
            <p:cNvPicPr/>
            <p:nvPr/>
          </p:nvPicPr>
          <p:blipFill>
            <a:blip r:embed="rId7"/>
            <a:stretch/>
          </p:blipFill>
          <p:spPr>
            <a:xfrm>
              <a:off x="7527960" y="2346480"/>
              <a:ext cx="48240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7543800" y="236232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FPG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Rectangle 29"/>
          <p:cNvGrpSpPr/>
          <p:nvPr/>
        </p:nvGrpSpPr>
        <p:grpSpPr>
          <a:xfrm>
            <a:off x="7675560" y="2498760"/>
            <a:ext cx="487440" cy="488880"/>
            <a:chOff x="7675560" y="2498760"/>
            <a:chExt cx="487440" cy="488880"/>
          </a:xfrm>
        </p:grpSpPr>
        <p:pic>
          <p:nvPicPr>
            <p:cNvPr id="84" name="Rectangle 29" descr=""/>
            <p:cNvPicPr/>
            <p:nvPr/>
          </p:nvPicPr>
          <p:blipFill>
            <a:blip r:embed="rId8"/>
            <a:stretch/>
          </p:blipFill>
          <p:spPr>
            <a:xfrm>
              <a:off x="7675560" y="2498760"/>
              <a:ext cx="48744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7696080" y="251460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FPG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Rectangle 30"/>
          <p:cNvGrpSpPr/>
          <p:nvPr/>
        </p:nvGrpSpPr>
        <p:grpSpPr>
          <a:xfrm>
            <a:off x="7832880" y="2646360"/>
            <a:ext cx="488880" cy="487440"/>
            <a:chOff x="7832880" y="2646360"/>
            <a:chExt cx="488880" cy="487440"/>
          </a:xfrm>
        </p:grpSpPr>
        <p:pic>
          <p:nvPicPr>
            <p:cNvPr id="87" name="Rectangle 30" descr=""/>
            <p:cNvPicPr/>
            <p:nvPr/>
          </p:nvPicPr>
          <p:blipFill>
            <a:blip r:embed="rId9"/>
            <a:stretch/>
          </p:blipFill>
          <p:spPr>
            <a:xfrm>
              <a:off x="7832880" y="2646360"/>
              <a:ext cx="48888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7848720" y="26668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FPG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Rectangle 31"/>
          <p:cNvGrpSpPr/>
          <p:nvPr/>
        </p:nvGrpSpPr>
        <p:grpSpPr>
          <a:xfrm>
            <a:off x="7375680" y="3108240"/>
            <a:ext cx="488880" cy="482760"/>
            <a:chOff x="7375680" y="3108240"/>
            <a:chExt cx="488880" cy="482760"/>
          </a:xfrm>
        </p:grpSpPr>
        <p:pic>
          <p:nvPicPr>
            <p:cNvPr id="90" name="Rectangle 31" descr=""/>
            <p:cNvPicPr/>
            <p:nvPr/>
          </p:nvPicPr>
          <p:blipFill>
            <a:blip r:embed="rId10"/>
            <a:stretch/>
          </p:blipFill>
          <p:spPr>
            <a:xfrm>
              <a:off x="7375680" y="3108240"/>
              <a:ext cx="48888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7391520" y="31240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FPG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Rectangle 32"/>
          <p:cNvGrpSpPr/>
          <p:nvPr/>
        </p:nvGrpSpPr>
        <p:grpSpPr>
          <a:xfrm>
            <a:off x="7527960" y="3255840"/>
            <a:ext cx="482400" cy="487440"/>
            <a:chOff x="7527960" y="3255840"/>
            <a:chExt cx="482400" cy="487440"/>
          </a:xfrm>
        </p:grpSpPr>
        <p:pic>
          <p:nvPicPr>
            <p:cNvPr id="93" name="Rectangle 32" descr=""/>
            <p:cNvPicPr/>
            <p:nvPr/>
          </p:nvPicPr>
          <p:blipFill>
            <a:blip r:embed="rId11"/>
            <a:stretch/>
          </p:blipFill>
          <p:spPr>
            <a:xfrm>
              <a:off x="7527960" y="3255840"/>
              <a:ext cx="4824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7543800" y="327672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FPG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Rectangle 35"/>
          <p:cNvGrpSpPr/>
          <p:nvPr/>
        </p:nvGrpSpPr>
        <p:grpSpPr>
          <a:xfrm>
            <a:off x="7675560" y="3413160"/>
            <a:ext cx="487440" cy="482400"/>
            <a:chOff x="7675560" y="3413160"/>
            <a:chExt cx="487440" cy="482400"/>
          </a:xfrm>
        </p:grpSpPr>
        <p:pic>
          <p:nvPicPr>
            <p:cNvPr id="96" name="Rectangle 35" descr=""/>
            <p:cNvPicPr/>
            <p:nvPr/>
          </p:nvPicPr>
          <p:blipFill>
            <a:blip r:embed="rId12"/>
            <a:stretch/>
          </p:blipFill>
          <p:spPr>
            <a:xfrm>
              <a:off x="7675560" y="3413160"/>
              <a:ext cx="48744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696080" y="342900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FPG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Rectangle 36"/>
          <p:cNvGrpSpPr/>
          <p:nvPr/>
        </p:nvGrpSpPr>
        <p:grpSpPr>
          <a:xfrm>
            <a:off x="7832880" y="3565440"/>
            <a:ext cx="488880" cy="482760"/>
            <a:chOff x="7832880" y="3565440"/>
            <a:chExt cx="488880" cy="482760"/>
          </a:xfrm>
        </p:grpSpPr>
        <p:pic>
          <p:nvPicPr>
            <p:cNvPr id="99" name="Rectangle 36" descr=""/>
            <p:cNvPicPr/>
            <p:nvPr/>
          </p:nvPicPr>
          <p:blipFill>
            <a:blip r:embed="rId13"/>
            <a:stretch/>
          </p:blipFill>
          <p:spPr>
            <a:xfrm>
              <a:off x="7832880" y="3565440"/>
              <a:ext cx="48888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7848720" y="35812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FPG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Rectangle 4"/>
          <p:cNvSpPr/>
          <p:nvPr/>
        </p:nvSpPr>
        <p:spPr>
          <a:xfrm>
            <a:off x="4946760" y="3352680"/>
            <a:ext cx="2043000" cy="15066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nfigu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Bench (RT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008760" y="4083120"/>
            <a:ext cx="846000" cy="4111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5087880" y="4083120"/>
            <a:ext cx="851040" cy="4111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4876920" y="3208320"/>
            <a:ext cx="2209680" cy="1752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1600200" y="1981080"/>
            <a:ext cx="2414520" cy="2438640"/>
          </a:xfrm>
          <a:prstGeom prst="rect">
            <a:avLst/>
          </a:pr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 / Lin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Rectangle 11"/>
          <p:cNvGrpSpPr/>
          <p:nvPr/>
        </p:nvGrpSpPr>
        <p:grpSpPr>
          <a:xfrm>
            <a:off x="4091040" y="3236760"/>
            <a:ext cx="633240" cy="1189080"/>
            <a:chOff x="4091040" y="3236760"/>
            <a:chExt cx="633240" cy="1189080"/>
          </a:xfrm>
        </p:grpSpPr>
        <p:pic>
          <p:nvPicPr>
            <p:cNvPr id="107" name="Rectangle 11" descr=""/>
            <p:cNvPicPr/>
            <p:nvPr/>
          </p:nvPicPr>
          <p:blipFill>
            <a:blip r:embed="rId14"/>
            <a:stretch/>
          </p:blipFill>
          <p:spPr>
            <a:xfrm>
              <a:off x="4091040" y="3236760"/>
              <a:ext cx="6332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4195800" y="3276720"/>
              <a:ext cx="42876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C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/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Rectangle 35"/>
          <p:cNvGrpSpPr/>
          <p:nvPr/>
        </p:nvGrpSpPr>
        <p:grpSpPr>
          <a:xfrm>
            <a:off x="1616040" y="2170080"/>
            <a:ext cx="2359080" cy="1103400"/>
            <a:chOff x="1616040" y="2170080"/>
            <a:chExt cx="2359080" cy="1103400"/>
          </a:xfrm>
        </p:grpSpPr>
        <p:pic>
          <p:nvPicPr>
            <p:cNvPr id="110" name="Rectangle 35" descr=""/>
            <p:cNvPicPr/>
            <p:nvPr/>
          </p:nvPicPr>
          <p:blipFill>
            <a:blip r:embed="rId15"/>
            <a:stretch/>
          </p:blipFill>
          <p:spPr>
            <a:xfrm>
              <a:off x="1616040" y="2170080"/>
              <a:ext cx="235908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676520" y="2209680"/>
              <a:ext cx="22446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d3f9b"/>
                  </a:solidFill>
                  <a:latin typeface="Arial"/>
                </a:rPr>
                <a:t>Constrained Rando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d3f9b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37"/>
          <p:cNvGrpSpPr/>
          <p:nvPr/>
        </p:nvGrpSpPr>
        <p:grpSpPr>
          <a:xfrm>
            <a:off x="1689120" y="2627280"/>
            <a:ext cx="2193840" cy="579600"/>
            <a:chOff x="1689120" y="2627280"/>
            <a:chExt cx="2193840" cy="579600"/>
          </a:xfrm>
        </p:grpSpPr>
        <p:pic>
          <p:nvPicPr>
            <p:cNvPr id="113" name="Rectangle 37" descr=""/>
            <p:cNvPicPr/>
            <p:nvPr/>
          </p:nvPicPr>
          <p:blipFill>
            <a:blip r:embed="rId16"/>
            <a:stretch/>
          </p:blipFill>
          <p:spPr>
            <a:xfrm>
              <a:off x="1689120" y="2627280"/>
              <a:ext cx="219384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752480" y="2666880"/>
              <a:ext cx="2070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VL Testbenc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09"/>
          <p:cNvGrpSpPr/>
          <p:nvPr/>
        </p:nvGrpSpPr>
        <p:grpSpPr>
          <a:xfrm>
            <a:off x="3962520" y="3276720"/>
            <a:ext cx="898560" cy="631800"/>
            <a:chOff x="3962520" y="3276720"/>
            <a:chExt cx="898560" cy="631800"/>
          </a:xfrm>
        </p:grpSpPr>
        <p:grpSp>
          <p:nvGrpSpPr>
            <p:cNvPr id="116" name="AutoShape 43"/>
            <p:cNvGrpSpPr/>
            <p:nvPr/>
          </p:nvGrpSpPr>
          <p:grpSpPr>
            <a:xfrm>
              <a:off x="3962520" y="3276720"/>
              <a:ext cx="898560" cy="631800"/>
              <a:chOff x="3962520" y="3276720"/>
              <a:chExt cx="898560" cy="631800"/>
            </a:xfrm>
          </p:grpSpPr>
          <p:pic>
            <p:nvPicPr>
              <p:cNvPr id="117" name="AutoShape 43" descr=""/>
              <p:cNvPicPr/>
              <p:nvPr/>
            </p:nvPicPr>
            <p:blipFill>
              <a:blip r:embed="rId17"/>
              <a:stretch/>
            </p:blipFill>
            <p:spPr>
              <a:xfrm>
                <a:off x="3962520" y="3276720"/>
                <a:ext cx="898560" cy="63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"/>
              <p:cNvSpPr/>
              <p:nvPr/>
            </p:nvSpPr>
            <p:spPr>
              <a:xfrm>
                <a:off x="4096440" y="3440520"/>
                <a:ext cx="638280" cy="27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AutoShape 44"/>
            <p:cNvSpPr/>
            <p:nvPr/>
          </p:nvSpPr>
          <p:spPr>
            <a:xfrm>
              <a:off x="4176000" y="3490200"/>
              <a:ext cx="264960" cy="7200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45"/>
            <p:cNvSpPr/>
            <p:nvPr/>
          </p:nvSpPr>
          <p:spPr>
            <a:xfrm flipH="1">
              <a:off x="4388760" y="3578760"/>
              <a:ext cx="235440" cy="72000"/>
            </a:xfrm>
            <a:custGeom>
              <a:avLst/>
              <a:gdLst>
                <a:gd name="textAreaLeft" fmla="*/ 360 w 235440"/>
                <a:gd name="textAreaRight" fmla="*/ 236160 w 23544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Rectangle 7"/>
          <p:cNvGrpSpPr/>
          <p:nvPr/>
        </p:nvGrpSpPr>
        <p:grpSpPr>
          <a:xfrm>
            <a:off x="5022720" y="3736800"/>
            <a:ext cx="1884600" cy="358920"/>
            <a:chOff x="5022720" y="3736800"/>
            <a:chExt cx="1884600" cy="358920"/>
          </a:xfrm>
        </p:grpSpPr>
        <p:pic>
          <p:nvPicPr>
            <p:cNvPr id="122" name="Rectangle 7" descr=""/>
            <p:cNvPicPr/>
            <p:nvPr/>
          </p:nvPicPr>
          <p:blipFill>
            <a:blip r:embed="rId18"/>
            <a:stretch/>
          </p:blipFill>
          <p:spPr>
            <a:xfrm>
              <a:off x="5022720" y="3736800"/>
              <a:ext cx="1884600" cy="3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087880" y="3809880"/>
              <a:ext cx="176076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ardware Transacto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53"/>
          <p:cNvGrpSpPr/>
          <p:nvPr/>
        </p:nvGrpSpPr>
        <p:grpSpPr>
          <a:xfrm>
            <a:off x="304920" y="4573440"/>
            <a:ext cx="961920" cy="952200"/>
            <a:chOff x="304920" y="4573440"/>
            <a:chExt cx="961920" cy="952200"/>
          </a:xfrm>
        </p:grpSpPr>
        <p:grpSp>
          <p:nvGrpSpPr>
            <p:cNvPr id="125" name="Group 54"/>
            <p:cNvGrpSpPr/>
            <p:nvPr/>
          </p:nvGrpSpPr>
          <p:grpSpPr>
            <a:xfrm>
              <a:off x="449640" y="5094360"/>
              <a:ext cx="674280" cy="240840"/>
              <a:chOff x="449640" y="5094360"/>
              <a:chExt cx="674280" cy="240840"/>
            </a:xfrm>
          </p:grpSpPr>
          <p:sp>
            <p:nvSpPr>
              <p:cNvPr id="126" name="Freeform 55"/>
              <p:cNvSpPr/>
              <p:nvPr/>
            </p:nvSpPr>
            <p:spPr>
              <a:xfrm>
                <a:off x="449640" y="5094360"/>
                <a:ext cx="674280" cy="24084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240840"/>
                  <a:gd name="textAreaBottom" fmla="*/ 241200 h 240840"/>
                </a:gdLst>
                <a:ahLst/>
                <a:rect l="textAreaLeft" t="textAreaTop" r="textAreaRight" b="textAreaBottom"/>
                <a:pathLst>
                  <a:path w="1135" h="337">
                    <a:moveTo>
                      <a:pt x="126" y="0"/>
                    </a:moveTo>
                    <a:lnTo>
                      <a:pt x="0" y="168"/>
                    </a:lnTo>
                    <a:lnTo>
                      <a:pt x="0" y="336"/>
                    </a:lnTo>
                    <a:lnTo>
                      <a:pt x="1134" y="336"/>
                    </a:lnTo>
                    <a:lnTo>
                      <a:pt x="1134" y="168"/>
                    </a:lnTo>
                    <a:lnTo>
                      <a:pt x="1008" y="0"/>
                    </a:lnTo>
                    <a:lnTo>
                      <a:pt x="126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5454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56"/>
              <p:cNvSpPr/>
              <p:nvPr/>
            </p:nvSpPr>
            <p:spPr>
              <a:xfrm>
                <a:off x="449640" y="5214240"/>
                <a:ext cx="673920" cy="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57"/>
            <p:cNvGrpSpPr/>
            <p:nvPr/>
          </p:nvGrpSpPr>
          <p:grpSpPr>
            <a:xfrm>
              <a:off x="550080" y="5124960"/>
              <a:ext cx="474480" cy="62280"/>
              <a:chOff x="550080" y="5124960"/>
              <a:chExt cx="474480" cy="62280"/>
            </a:xfrm>
          </p:grpSpPr>
          <p:sp>
            <p:nvSpPr>
              <p:cNvPr id="129" name="Freeform 58"/>
              <p:cNvSpPr/>
              <p:nvPr/>
            </p:nvSpPr>
            <p:spPr>
              <a:xfrm>
                <a:off x="550080" y="5124960"/>
                <a:ext cx="474480" cy="6228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800" h="85">
                    <a:moveTo>
                      <a:pt x="42" y="0"/>
                    </a:moveTo>
                    <a:lnTo>
                      <a:pt x="0" y="42"/>
                    </a:lnTo>
                    <a:lnTo>
                      <a:pt x="0" y="84"/>
                    </a:lnTo>
                    <a:lnTo>
                      <a:pt x="799" y="84"/>
                    </a:lnTo>
                    <a:lnTo>
                      <a:pt x="799" y="42"/>
                    </a:lnTo>
                    <a:lnTo>
                      <a:pt x="757" y="0"/>
                    </a:lnTo>
                    <a:lnTo>
                      <a:pt x="42" y="0"/>
                    </a:lnTo>
                  </a:path>
                </a:pathLst>
              </a:custGeom>
              <a:solidFill>
                <a:srgbClr val="cbcbcb"/>
              </a:solidFill>
              <a:ln cap="rnd" w="12600">
                <a:solidFill>
                  <a:srgbClr val="5454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59"/>
              <p:cNvSpPr/>
              <p:nvPr/>
            </p:nvSpPr>
            <p:spPr>
              <a:xfrm>
                <a:off x="550080" y="5155560"/>
                <a:ext cx="473760" cy="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Freeform 60"/>
            <p:cNvSpPr/>
            <p:nvPr/>
          </p:nvSpPr>
          <p:spPr>
            <a:xfrm>
              <a:off x="667080" y="5094360"/>
              <a:ext cx="238680" cy="4860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403" h="66">
                  <a:moveTo>
                    <a:pt x="0" y="36"/>
                  </a:moveTo>
                  <a:lnTo>
                    <a:pt x="0" y="0"/>
                  </a:lnTo>
                  <a:lnTo>
                    <a:pt x="402" y="0"/>
                  </a:lnTo>
                  <a:lnTo>
                    <a:pt x="402" y="38"/>
                  </a:lnTo>
                  <a:lnTo>
                    <a:pt x="402" y="42"/>
                  </a:lnTo>
                  <a:lnTo>
                    <a:pt x="396" y="43"/>
                  </a:lnTo>
                  <a:lnTo>
                    <a:pt x="391" y="47"/>
                  </a:lnTo>
                  <a:lnTo>
                    <a:pt x="380" y="49"/>
                  </a:lnTo>
                  <a:lnTo>
                    <a:pt x="369" y="52"/>
                  </a:lnTo>
                  <a:lnTo>
                    <a:pt x="360" y="54"/>
                  </a:lnTo>
                  <a:lnTo>
                    <a:pt x="346" y="56"/>
                  </a:lnTo>
                  <a:lnTo>
                    <a:pt x="329" y="58"/>
                  </a:lnTo>
                  <a:lnTo>
                    <a:pt x="318" y="60"/>
                  </a:lnTo>
                  <a:lnTo>
                    <a:pt x="296" y="61"/>
                  </a:lnTo>
                  <a:lnTo>
                    <a:pt x="279" y="63"/>
                  </a:lnTo>
                  <a:lnTo>
                    <a:pt x="262" y="63"/>
                  </a:lnTo>
                  <a:lnTo>
                    <a:pt x="243" y="65"/>
                  </a:lnTo>
                  <a:lnTo>
                    <a:pt x="221" y="65"/>
                  </a:lnTo>
                  <a:lnTo>
                    <a:pt x="190" y="65"/>
                  </a:lnTo>
                  <a:lnTo>
                    <a:pt x="165" y="65"/>
                  </a:lnTo>
                  <a:lnTo>
                    <a:pt x="140" y="63"/>
                  </a:lnTo>
                  <a:lnTo>
                    <a:pt x="117" y="63"/>
                  </a:lnTo>
                  <a:lnTo>
                    <a:pt x="101" y="61"/>
                  </a:lnTo>
                  <a:lnTo>
                    <a:pt x="84" y="60"/>
                  </a:lnTo>
                  <a:lnTo>
                    <a:pt x="67" y="58"/>
                  </a:lnTo>
                  <a:lnTo>
                    <a:pt x="50" y="56"/>
                  </a:lnTo>
                  <a:lnTo>
                    <a:pt x="36" y="52"/>
                  </a:lnTo>
                  <a:lnTo>
                    <a:pt x="25" y="51"/>
                  </a:lnTo>
                  <a:lnTo>
                    <a:pt x="17" y="47"/>
                  </a:lnTo>
                  <a:lnTo>
                    <a:pt x="11" y="45"/>
                  </a:lnTo>
                  <a:lnTo>
                    <a:pt x="6" y="43"/>
                  </a:lnTo>
                  <a:lnTo>
                    <a:pt x="3" y="40"/>
                  </a:lnTo>
                  <a:lnTo>
                    <a:pt x="0" y="36"/>
                  </a:lnTo>
                </a:path>
              </a:pathLst>
            </a:custGeom>
            <a:solidFill>
              <a:srgbClr val="cbcbcb"/>
            </a:solidFill>
            <a:ln cap="rnd" w="12600">
              <a:solidFill>
                <a:srgbClr val="5454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61"/>
            <p:cNvSpPr/>
            <p:nvPr/>
          </p:nvSpPr>
          <p:spPr>
            <a:xfrm>
              <a:off x="497160" y="4573440"/>
              <a:ext cx="577080" cy="5238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62"/>
            <p:cNvSpPr/>
            <p:nvPr/>
          </p:nvSpPr>
          <p:spPr>
            <a:xfrm>
              <a:off x="535680" y="4620600"/>
              <a:ext cx="500040" cy="428400"/>
            </a:xfrm>
            <a:prstGeom prst="rect">
              <a:avLst/>
            </a:prstGeom>
            <a:solidFill>
              <a:srgbClr val="a7ccd9"/>
            </a:solidFill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3"/>
            <p:cNvSpPr/>
            <p:nvPr/>
          </p:nvSpPr>
          <p:spPr>
            <a:xfrm>
              <a:off x="304920" y="5335200"/>
              <a:ext cx="961920" cy="14256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142560"/>
                <a:gd name="textAreaBottom" fmla="*/ 142560 h 142560"/>
              </a:gdLst>
              <a:ahLst/>
              <a:rect l="textAreaLeft" t="textAreaTop" r="textAreaRight" b="textAreaBottom"/>
              <a:pathLst>
                <a:path w="1621" h="169">
                  <a:moveTo>
                    <a:pt x="126" y="0"/>
                  </a:moveTo>
                  <a:lnTo>
                    <a:pt x="0" y="168"/>
                  </a:lnTo>
                  <a:lnTo>
                    <a:pt x="1620" y="168"/>
                  </a:lnTo>
                  <a:lnTo>
                    <a:pt x="1494" y="0"/>
                  </a:lnTo>
                  <a:lnTo>
                    <a:pt x="126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5454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64"/>
            <p:cNvSpPr/>
            <p:nvPr/>
          </p:nvSpPr>
          <p:spPr>
            <a:xfrm>
              <a:off x="304920" y="5478120"/>
              <a:ext cx="961920" cy="475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65"/>
            <p:cNvSpPr/>
            <p:nvPr/>
          </p:nvSpPr>
          <p:spPr>
            <a:xfrm>
              <a:off x="458640" y="5383080"/>
              <a:ext cx="298800" cy="0"/>
            </a:xfrm>
            <a:prstGeom prst="line">
              <a:avLst/>
            </a:prstGeom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66"/>
            <p:cNvSpPr/>
            <p:nvPr/>
          </p:nvSpPr>
          <p:spPr>
            <a:xfrm>
              <a:off x="766440" y="5383080"/>
              <a:ext cx="50400" cy="0"/>
            </a:xfrm>
            <a:prstGeom prst="line">
              <a:avLst/>
            </a:prstGeom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67"/>
            <p:cNvSpPr/>
            <p:nvPr/>
          </p:nvSpPr>
          <p:spPr>
            <a:xfrm>
              <a:off x="833040" y="5383080"/>
              <a:ext cx="60120" cy="0"/>
            </a:xfrm>
            <a:prstGeom prst="line">
              <a:avLst/>
            </a:prstGeom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68"/>
            <p:cNvSpPr/>
            <p:nvPr/>
          </p:nvSpPr>
          <p:spPr>
            <a:xfrm>
              <a:off x="920520" y="5383080"/>
              <a:ext cx="115200" cy="0"/>
            </a:xfrm>
            <a:prstGeom prst="line">
              <a:avLst/>
            </a:prstGeom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69"/>
            <p:cNvSpPr/>
            <p:nvPr/>
          </p:nvSpPr>
          <p:spPr>
            <a:xfrm>
              <a:off x="381600" y="5383080"/>
              <a:ext cx="50400" cy="0"/>
            </a:xfrm>
            <a:prstGeom prst="line">
              <a:avLst/>
            </a:prstGeom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70"/>
            <p:cNvSpPr/>
            <p:nvPr/>
          </p:nvSpPr>
          <p:spPr>
            <a:xfrm>
              <a:off x="1074240" y="5383080"/>
              <a:ext cx="115200" cy="0"/>
            </a:xfrm>
            <a:prstGeom prst="line">
              <a:avLst/>
            </a:prstGeom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1"/>
            <p:cNvSpPr/>
            <p:nvPr/>
          </p:nvSpPr>
          <p:spPr>
            <a:xfrm>
              <a:off x="1036080" y="5240160"/>
              <a:ext cx="38160" cy="47520"/>
            </a:xfrm>
            <a:prstGeom prst="rect">
              <a:avLst/>
            </a:prstGeom>
            <a:solidFill>
              <a:srgbClr val="545472"/>
            </a:solidFill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72"/>
            <p:cNvSpPr/>
            <p:nvPr/>
          </p:nvSpPr>
          <p:spPr>
            <a:xfrm>
              <a:off x="1084680" y="5401800"/>
              <a:ext cx="115200" cy="0"/>
            </a:xfrm>
            <a:prstGeom prst="line">
              <a:avLst/>
            </a:prstGeom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73"/>
            <p:cNvSpPr/>
            <p:nvPr/>
          </p:nvSpPr>
          <p:spPr>
            <a:xfrm>
              <a:off x="1101600" y="5420880"/>
              <a:ext cx="115200" cy="0"/>
            </a:xfrm>
            <a:prstGeom prst="line">
              <a:avLst/>
            </a:prstGeom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74"/>
            <p:cNvSpPr/>
            <p:nvPr/>
          </p:nvSpPr>
          <p:spPr>
            <a:xfrm>
              <a:off x="1118520" y="5438520"/>
              <a:ext cx="115200" cy="0"/>
            </a:xfrm>
            <a:prstGeom prst="line">
              <a:avLst/>
            </a:prstGeom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75"/>
            <p:cNvSpPr/>
            <p:nvPr/>
          </p:nvSpPr>
          <p:spPr>
            <a:xfrm>
              <a:off x="482040" y="5401800"/>
              <a:ext cx="270720" cy="0"/>
            </a:xfrm>
            <a:prstGeom prst="line">
              <a:avLst/>
            </a:prstGeom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76"/>
            <p:cNvSpPr/>
            <p:nvPr/>
          </p:nvSpPr>
          <p:spPr>
            <a:xfrm>
              <a:off x="776160" y="5400720"/>
              <a:ext cx="50400" cy="0"/>
            </a:xfrm>
            <a:prstGeom prst="line">
              <a:avLst/>
            </a:prstGeom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77"/>
            <p:cNvSpPr/>
            <p:nvPr/>
          </p:nvSpPr>
          <p:spPr>
            <a:xfrm>
              <a:off x="838800" y="5401800"/>
              <a:ext cx="49320" cy="0"/>
            </a:xfrm>
            <a:prstGeom prst="line">
              <a:avLst/>
            </a:prstGeom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78"/>
            <p:cNvSpPr/>
            <p:nvPr/>
          </p:nvSpPr>
          <p:spPr>
            <a:xfrm flipV="1">
              <a:off x="915480" y="5400360"/>
              <a:ext cx="145800" cy="1080"/>
            </a:xfrm>
            <a:prstGeom prst="line">
              <a:avLst/>
            </a:prstGeom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79"/>
            <p:cNvSpPr/>
            <p:nvPr/>
          </p:nvSpPr>
          <p:spPr>
            <a:xfrm>
              <a:off x="376920" y="5401800"/>
              <a:ext cx="80640" cy="0"/>
            </a:xfrm>
            <a:prstGeom prst="line">
              <a:avLst/>
            </a:prstGeom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80"/>
            <p:cNvSpPr/>
            <p:nvPr/>
          </p:nvSpPr>
          <p:spPr>
            <a:xfrm>
              <a:off x="435600" y="5421600"/>
              <a:ext cx="298800" cy="0"/>
            </a:xfrm>
            <a:prstGeom prst="line">
              <a:avLst/>
            </a:prstGeom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81"/>
            <p:cNvSpPr/>
            <p:nvPr/>
          </p:nvSpPr>
          <p:spPr>
            <a:xfrm>
              <a:off x="743400" y="5421600"/>
              <a:ext cx="50400" cy="0"/>
            </a:xfrm>
            <a:prstGeom prst="line">
              <a:avLst/>
            </a:prstGeom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82"/>
            <p:cNvSpPr/>
            <p:nvPr/>
          </p:nvSpPr>
          <p:spPr>
            <a:xfrm>
              <a:off x="820080" y="5421600"/>
              <a:ext cx="49680" cy="0"/>
            </a:xfrm>
            <a:prstGeom prst="line">
              <a:avLst/>
            </a:prstGeom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83"/>
            <p:cNvSpPr/>
            <p:nvPr/>
          </p:nvSpPr>
          <p:spPr>
            <a:xfrm>
              <a:off x="897120" y="5421600"/>
              <a:ext cx="180000" cy="0"/>
            </a:xfrm>
            <a:prstGeom prst="line">
              <a:avLst/>
            </a:prstGeom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84"/>
            <p:cNvSpPr/>
            <p:nvPr/>
          </p:nvSpPr>
          <p:spPr>
            <a:xfrm>
              <a:off x="358200" y="5421600"/>
              <a:ext cx="50400" cy="0"/>
            </a:xfrm>
            <a:prstGeom prst="line">
              <a:avLst/>
            </a:prstGeom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85"/>
            <p:cNvSpPr/>
            <p:nvPr/>
          </p:nvSpPr>
          <p:spPr>
            <a:xfrm>
              <a:off x="490680" y="5439600"/>
              <a:ext cx="298800" cy="0"/>
            </a:xfrm>
            <a:prstGeom prst="line">
              <a:avLst/>
            </a:prstGeom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86"/>
            <p:cNvSpPr/>
            <p:nvPr/>
          </p:nvSpPr>
          <p:spPr>
            <a:xfrm>
              <a:off x="798480" y="5439600"/>
              <a:ext cx="50400" cy="0"/>
            </a:xfrm>
            <a:prstGeom prst="line">
              <a:avLst/>
            </a:prstGeom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87"/>
            <p:cNvSpPr/>
            <p:nvPr/>
          </p:nvSpPr>
          <p:spPr>
            <a:xfrm>
              <a:off x="875520" y="5439600"/>
              <a:ext cx="49320" cy="0"/>
            </a:xfrm>
            <a:prstGeom prst="line">
              <a:avLst/>
            </a:prstGeom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88"/>
            <p:cNvSpPr/>
            <p:nvPr/>
          </p:nvSpPr>
          <p:spPr>
            <a:xfrm>
              <a:off x="952560" y="5439600"/>
              <a:ext cx="115200" cy="0"/>
            </a:xfrm>
            <a:prstGeom prst="line">
              <a:avLst/>
            </a:prstGeom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89"/>
            <p:cNvSpPr/>
            <p:nvPr/>
          </p:nvSpPr>
          <p:spPr>
            <a:xfrm>
              <a:off x="346320" y="5439600"/>
              <a:ext cx="117720" cy="0"/>
            </a:xfrm>
            <a:prstGeom prst="line">
              <a:avLst/>
            </a:prstGeom>
            <a:ln w="1260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Picture 90" descr="ddd2"/>
          <p:cNvPicPr/>
          <p:nvPr/>
        </p:nvPicPr>
        <p:blipFill>
          <a:blip r:embed="rId19"/>
          <a:stretch/>
        </p:blipFill>
        <p:spPr>
          <a:xfrm>
            <a:off x="762120" y="4587840"/>
            <a:ext cx="1371600" cy="974880"/>
          </a:xfrm>
          <a:prstGeom prst="rect">
            <a:avLst/>
          </a:prstGeom>
          <a:ln w="0">
            <a:noFill/>
          </a:ln>
        </p:spPr>
      </p:pic>
      <p:sp>
        <p:nvSpPr>
          <p:cNvPr id="162" name="Left-Right Arrow 105"/>
          <p:cNvSpPr/>
          <p:nvPr/>
        </p:nvSpPr>
        <p:spPr>
          <a:xfrm>
            <a:off x="2133720" y="4648320"/>
            <a:ext cx="2743200" cy="304560"/>
          </a:xfrm>
          <a:prstGeom prst="leftRightArrow">
            <a:avLst>
              <a:gd name="adj1" fmla="val 50000"/>
              <a:gd name="adj2" fmla="val 50039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Smart-ZI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Rectangle 52"/>
          <p:cNvGrpSpPr/>
          <p:nvPr/>
        </p:nvGrpSpPr>
        <p:grpSpPr>
          <a:xfrm>
            <a:off x="2987640" y="4584600"/>
            <a:ext cx="944640" cy="468360"/>
            <a:chOff x="2987640" y="4584600"/>
            <a:chExt cx="944640" cy="468360"/>
          </a:xfrm>
        </p:grpSpPr>
        <p:pic>
          <p:nvPicPr>
            <p:cNvPr id="164" name="Rectangle 52" descr=""/>
            <p:cNvPicPr/>
            <p:nvPr/>
          </p:nvPicPr>
          <p:blipFill>
            <a:blip r:embed="rId20"/>
            <a:stretch/>
          </p:blipFill>
          <p:spPr>
            <a:xfrm>
              <a:off x="2987640" y="4584600"/>
              <a:ext cx="94464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3048120" y="4662360"/>
              <a:ext cx="826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JT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o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Picture 2" descr="UART Waveform2"/>
          <p:cNvPicPr/>
          <p:nvPr/>
        </p:nvPicPr>
        <p:blipFill>
          <a:blip r:embed="rId21"/>
          <a:stretch/>
        </p:blipFill>
        <p:spPr>
          <a:xfrm>
            <a:off x="1752480" y="3352680"/>
            <a:ext cx="205740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655308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F265-6785-4D16-9391-C9E851AB5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934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1: HW Verification &amp; Emulation Prepa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23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2"/>
          <p:cNvSpPr/>
          <p:nvPr/>
        </p:nvSpPr>
        <p:spPr>
          <a:xfrm>
            <a:off x="914400" y="1371600"/>
            <a:ext cx="7162920" cy="46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21"/>
          <p:cNvSpPr/>
          <p:nvPr/>
        </p:nvSpPr>
        <p:spPr>
          <a:xfrm>
            <a:off x="914400" y="1343160"/>
            <a:ext cx="7162920" cy="4676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0"/>
          <p:cNvSpPr/>
          <p:nvPr/>
        </p:nvSpPr>
        <p:spPr>
          <a:xfrm>
            <a:off x="1222200" y="2057400"/>
            <a:ext cx="4569120" cy="7621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Calibri"/>
              </a:rPr>
              <a:t>Describe design (Verilog) and Cre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Calibri"/>
              </a:rPr>
              <a:t>constrained random simulation environment (SystemVerilog + 3</a:t>
            </a:r>
            <a:r>
              <a:rPr b="1" lang="en-US" sz="1400" spc="-1" strike="noStrike" baseline="30000">
                <a:solidFill>
                  <a:srgbClr val="4d4d4d"/>
                </a:solidFill>
                <a:latin typeface="Arial"/>
                <a:ea typeface="Calibri"/>
              </a:rPr>
              <a:t>rd</a:t>
            </a: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Calibri"/>
              </a:rPr>
              <a:t> party AXI VI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9"/>
          <p:cNvSpPr/>
          <p:nvPr/>
        </p:nvSpPr>
        <p:spPr>
          <a:xfrm>
            <a:off x="1222200" y="3048120"/>
            <a:ext cx="4569120" cy="5490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Calibri"/>
              </a:rPr>
              <a:t>Model design memories and library cells for emulation (Synthesizable Verilo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8"/>
          <p:cNvSpPr/>
          <p:nvPr/>
        </p:nvSpPr>
        <p:spPr>
          <a:xfrm>
            <a:off x="1224000" y="3859200"/>
            <a:ext cx="4567320" cy="54936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Calibri"/>
              </a:rPr>
              <a:t>Simulate design (w/ emulation models) and original testbe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7"/>
          <p:cNvSpPr/>
          <p:nvPr/>
        </p:nvSpPr>
        <p:spPr>
          <a:xfrm>
            <a:off x="2676600" y="4648320"/>
            <a:ext cx="1646280" cy="612720"/>
          </a:xfrm>
          <a:prstGeom prst="flowChartDecision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  <a:ea typeface="Calibri"/>
              </a:rPr>
              <a:t>Results Mat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AutoShape 16"/>
          <p:cNvCxnSpPr>
            <a:stCxn id="175" idx="3"/>
            <a:endCxn id="177" idx="2"/>
          </p:cNvCxnSpPr>
          <p:nvPr/>
        </p:nvCxnSpPr>
        <p:spPr>
          <a:xfrm flipV="1">
            <a:off x="4322880" y="4408200"/>
            <a:ext cx="2612160" cy="546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AutoShape 15"/>
          <p:cNvSpPr/>
          <p:nvPr/>
        </p:nvSpPr>
        <p:spPr>
          <a:xfrm>
            <a:off x="6019920" y="3859200"/>
            <a:ext cx="1828800" cy="54936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Calibri"/>
              </a:rPr>
              <a:t>Debu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AutoShape 14"/>
          <p:cNvCxnSpPr>
            <a:stCxn id="177" idx="0"/>
            <a:endCxn id="173" idx="3"/>
          </p:cNvCxnSpPr>
          <p:nvPr/>
        </p:nvCxnSpPr>
        <p:spPr>
          <a:xfrm flipV="1" rot="16200000">
            <a:off x="6094080" y="3019320"/>
            <a:ext cx="5367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Text Box 13"/>
          <p:cNvSpPr/>
          <p:nvPr/>
        </p:nvSpPr>
        <p:spPr>
          <a:xfrm>
            <a:off x="4321080" y="4572000"/>
            <a:ext cx="708120" cy="311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Calibri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2"/>
          <p:cNvSpPr/>
          <p:nvPr/>
        </p:nvSpPr>
        <p:spPr>
          <a:xfrm>
            <a:off x="350532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0"/>
          <p:cNvSpPr/>
          <p:nvPr/>
        </p:nvSpPr>
        <p:spPr>
          <a:xfrm>
            <a:off x="2590920" y="1496880"/>
            <a:ext cx="1828800" cy="3668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Calibri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2590920" y="5486400"/>
            <a:ext cx="1828800" cy="36504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Calibri"/>
              </a:rPr>
              <a:t>Go to Phas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350532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2"/>
          <p:cNvSpPr/>
          <p:nvPr/>
        </p:nvSpPr>
        <p:spPr>
          <a:xfrm>
            <a:off x="3505320" y="358128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35053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2"/>
          <p:cNvSpPr/>
          <p:nvPr/>
        </p:nvSpPr>
        <p:spPr>
          <a:xfrm>
            <a:off x="3505320" y="526716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655308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22D9-7F27-4DE4-BE3A-597E2778D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934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2: Initial Design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23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2"/>
          <p:cNvSpPr/>
          <p:nvPr/>
        </p:nvSpPr>
        <p:spPr>
          <a:xfrm>
            <a:off x="914400" y="1371600"/>
            <a:ext cx="7162920" cy="46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1"/>
          <p:cNvSpPr/>
          <p:nvPr/>
        </p:nvSpPr>
        <p:spPr>
          <a:xfrm>
            <a:off x="914400" y="1343160"/>
            <a:ext cx="7162920" cy="4676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0"/>
          <p:cNvSpPr/>
          <p:nvPr/>
        </p:nvSpPr>
        <p:spPr>
          <a:xfrm>
            <a:off x="1222200" y="2449440"/>
            <a:ext cx="4569120" cy="549360"/>
          </a:xfrm>
          <a:prstGeom prst="flowChartProcess">
            <a:avLst/>
          </a:prstGeom>
          <a:solidFill>
            <a:srgbClr val="dae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Calibri"/>
              </a:rPr>
              <a:t>Compile design (with emulation models) to emulator in HDL Co-simulation m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8"/>
          <p:cNvSpPr/>
          <p:nvPr/>
        </p:nvSpPr>
        <p:spPr>
          <a:xfrm>
            <a:off x="1224000" y="3610080"/>
            <a:ext cx="4567320" cy="547560"/>
          </a:xfrm>
          <a:prstGeom prst="flowChartProcess">
            <a:avLst/>
          </a:prstGeom>
          <a:solidFill>
            <a:srgbClr val="dae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Calibri"/>
              </a:rPr>
              <a:t>Co-emulate design with origi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Calibri"/>
              </a:rPr>
              <a:t>testbench at cycle-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7"/>
          <p:cNvSpPr/>
          <p:nvPr/>
        </p:nvSpPr>
        <p:spPr>
          <a:xfrm>
            <a:off x="2676600" y="4645080"/>
            <a:ext cx="1646280" cy="612720"/>
          </a:xfrm>
          <a:prstGeom prst="flowChartDecision">
            <a:avLst/>
          </a:prstGeom>
          <a:solidFill>
            <a:srgbClr val="dae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  <a:ea typeface="Calibri"/>
              </a:rPr>
              <a:t>Results Mat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AutoShape 16"/>
          <p:cNvCxnSpPr>
            <a:stCxn id="194" idx="3"/>
            <a:endCxn id="196" idx="2"/>
          </p:cNvCxnSpPr>
          <p:nvPr/>
        </p:nvCxnSpPr>
        <p:spPr>
          <a:xfrm flipV="1">
            <a:off x="4322880" y="4160520"/>
            <a:ext cx="2612160" cy="791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AutoShape 15"/>
          <p:cNvSpPr/>
          <p:nvPr/>
        </p:nvSpPr>
        <p:spPr>
          <a:xfrm>
            <a:off x="6019920" y="3611520"/>
            <a:ext cx="1828800" cy="549360"/>
          </a:xfrm>
          <a:prstGeom prst="flowChartProcess">
            <a:avLst/>
          </a:prstGeom>
          <a:solidFill>
            <a:srgbClr val="dae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Calibri"/>
              </a:rPr>
              <a:t>Debu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AutoShape 14"/>
          <p:cNvCxnSpPr>
            <a:stCxn id="196" idx="0"/>
            <a:endCxn id="192" idx="3"/>
          </p:cNvCxnSpPr>
          <p:nvPr/>
        </p:nvCxnSpPr>
        <p:spPr>
          <a:xfrm flipV="1" rot="16200000">
            <a:off x="5918400" y="2595600"/>
            <a:ext cx="88812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Text Box 13"/>
          <p:cNvSpPr/>
          <p:nvPr/>
        </p:nvSpPr>
        <p:spPr>
          <a:xfrm>
            <a:off x="4321080" y="4641840"/>
            <a:ext cx="708120" cy="311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Calibri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2"/>
          <p:cNvSpPr/>
          <p:nvPr/>
        </p:nvSpPr>
        <p:spPr>
          <a:xfrm>
            <a:off x="3505320" y="1828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0"/>
          <p:cNvSpPr/>
          <p:nvPr/>
        </p:nvSpPr>
        <p:spPr>
          <a:xfrm>
            <a:off x="2590920" y="1496880"/>
            <a:ext cx="1828800" cy="366840"/>
          </a:xfrm>
          <a:prstGeom prst="flowChartTerminator">
            <a:avLst/>
          </a:prstGeom>
          <a:solidFill>
            <a:srgbClr val="dae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Calibri"/>
              </a:rPr>
              <a:t>From Ph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2590920" y="5486400"/>
            <a:ext cx="1828800" cy="365040"/>
          </a:xfrm>
          <a:prstGeom prst="flowChartTerminator">
            <a:avLst/>
          </a:prstGeom>
          <a:solidFill>
            <a:srgbClr val="dae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Calibri"/>
              </a:rPr>
              <a:t>Go to Phas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2"/>
          <p:cNvSpPr/>
          <p:nvPr/>
        </p:nvSpPr>
        <p:spPr>
          <a:xfrm>
            <a:off x="3505320" y="2998800"/>
            <a:ext cx="0" cy="58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2"/>
          <p:cNvSpPr/>
          <p:nvPr/>
        </p:nvSpPr>
        <p:spPr>
          <a:xfrm>
            <a:off x="3505320" y="4170240"/>
            <a:ext cx="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3505320" y="526716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655308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1ABF-C150-4872-8088-42A72A729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934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3: Performance Optim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23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2"/>
          <p:cNvSpPr/>
          <p:nvPr/>
        </p:nvSpPr>
        <p:spPr>
          <a:xfrm>
            <a:off x="914400" y="1371600"/>
            <a:ext cx="7162920" cy="46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1"/>
          <p:cNvSpPr/>
          <p:nvPr/>
        </p:nvSpPr>
        <p:spPr>
          <a:xfrm>
            <a:off x="914400" y="1343160"/>
            <a:ext cx="7162920" cy="4676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0"/>
          <p:cNvSpPr/>
          <p:nvPr/>
        </p:nvSpPr>
        <p:spPr>
          <a:xfrm>
            <a:off x="1222200" y="2057400"/>
            <a:ext cx="4569120" cy="685800"/>
          </a:xfrm>
          <a:prstGeom prst="flowChartProcess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Calibri"/>
              </a:rPr>
              <a:t>Optimize testbench performance (Replace AXI VIP with emulator transactor, modify testbench for parallelization &amp; perform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9"/>
          <p:cNvSpPr/>
          <p:nvPr/>
        </p:nvSpPr>
        <p:spPr>
          <a:xfrm>
            <a:off x="1222200" y="3048120"/>
            <a:ext cx="4569120" cy="549000"/>
          </a:xfrm>
          <a:prstGeom prst="flowChartProcess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Calibri"/>
              </a:rPr>
              <a:t>Compile design for transaction-based emulation. Co-emulate design with adapted testbe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7"/>
          <p:cNvSpPr/>
          <p:nvPr/>
        </p:nvSpPr>
        <p:spPr>
          <a:xfrm>
            <a:off x="2676600" y="3809880"/>
            <a:ext cx="1646280" cy="612720"/>
          </a:xfrm>
          <a:prstGeom prst="flowChartDecision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  <a:ea typeface="Calibri"/>
              </a:rPr>
              <a:t>Results Mat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AutoShape 16"/>
          <p:cNvCxnSpPr>
            <a:stCxn id="212" idx="3"/>
            <a:endCxn id="214" idx="2"/>
          </p:cNvCxnSpPr>
          <p:nvPr/>
        </p:nvCxnSpPr>
        <p:spPr>
          <a:xfrm flipV="1">
            <a:off x="4322880" y="3596760"/>
            <a:ext cx="2612160" cy="519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AutoShape 15"/>
          <p:cNvSpPr/>
          <p:nvPr/>
        </p:nvSpPr>
        <p:spPr>
          <a:xfrm>
            <a:off x="6019920" y="3048120"/>
            <a:ext cx="1828800" cy="549000"/>
          </a:xfrm>
          <a:prstGeom prst="flowChartProcess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Calibri"/>
              </a:rPr>
              <a:t>Debu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AutoShape 14"/>
          <p:cNvCxnSpPr>
            <a:stCxn id="214" idx="0"/>
            <a:endCxn id="210" idx="3"/>
          </p:cNvCxnSpPr>
          <p:nvPr/>
        </p:nvCxnSpPr>
        <p:spPr>
          <a:xfrm flipV="1" rot="16200000">
            <a:off x="6038280" y="2152080"/>
            <a:ext cx="6483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Text Box 13"/>
          <p:cNvSpPr/>
          <p:nvPr/>
        </p:nvSpPr>
        <p:spPr>
          <a:xfrm>
            <a:off x="4321080" y="3803760"/>
            <a:ext cx="708120" cy="311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Calibri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>
            <a:off x="350532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0"/>
          <p:cNvSpPr/>
          <p:nvPr/>
        </p:nvSpPr>
        <p:spPr>
          <a:xfrm>
            <a:off x="2590920" y="1496880"/>
            <a:ext cx="1828800" cy="366840"/>
          </a:xfrm>
          <a:prstGeom prst="flowChartTerminator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Calibri"/>
              </a:rPr>
              <a:t>From Phas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9"/>
          <p:cNvSpPr/>
          <p:nvPr/>
        </p:nvSpPr>
        <p:spPr>
          <a:xfrm>
            <a:off x="2590920" y="5486400"/>
            <a:ext cx="1828800" cy="365040"/>
          </a:xfrm>
          <a:prstGeom prst="flowChartTerminator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Calibri"/>
              </a:rPr>
              <a:t>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2"/>
          <p:cNvSpPr/>
          <p:nvPr/>
        </p:nvSpPr>
        <p:spPr>
          <a:xfrm>
            <a:off x="350532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2"/>
          <p:cNvSpPr/>
          <p:nvPr/>
        </p:nvSpPr>
        <p:spPr>
          <a:xfrm>
            <a:off x="3505320" y="3608280"/>
            <a:ext cx="0" cy="20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3505320" y="4419720"/>
            <a:ext cx="0" cy="27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2"/>
          <p:cNvSpPr/>
          <p:nvPr/>
        </p:nvSpPr>
        <p:spPr>
          <a:xfrm>
            <a:off x="3505320" y="526716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9"/>
          <p:cNvSpPr/>
          <p:nvPr/>
        </p:nvSpPr>
        <p:spPr>
          <a:xfrm>
            <a:off x="1219320" y="4708440"/>
            <a:ext cx="4568760" cy="549360"/>
          </a:xfrm>
          <a:prstGeom prst="flowChartProcess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Calibri"/>
              </a:rPr>
              <a:t>Optimize design performance (Resource utilization/placement, clock handl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00:39:08Z</dcterms:created>
  <dc:creator>Alicia Strang</dc:creator>
  <dc:description/>
  <dc:language>en-US</dc:language>
  <cp:lastModifiedBy>Ron Choi</cp:lastModifiedBy>
  <dcterms:modified xsi:type="dcterms:W3CDTF">2010-05-07T18:58:58Z</dcterms:modified>
  <cp:revision>64</cp:revision>
  <dc:subject/>
  <dc:title>Migrating HW/SW Co-verification Platforms from  Simulator to Emulator </dc:title>
</cp:coreProperties>
</file>