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25239663" cy="36025138"/>
  <p:notesSz cx="35542538" cy="24742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75F2-1925-4483-BA2F-A96EB3BC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87240" y="1601280"/>
            <a:ext cx="22082040" cy="63882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b">
            <a:noAutofit/>
          </a:bodyPr>
          <a:p>
            <a:pPr indent="0" rtl="1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65280" y="9205560"/>
            <a:ext cx="2208384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65280" y="20913840"/>
            <a:ext cx="2208384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42FF-B429-4811-8DDD-38331434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87240" y="1601280"/>
            <a:ext cx="22082040" cy="63882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b">
            <a:noAutofit/>
          </a:bodyPr>
          <a:p>
            <a:pPr indent="0" rtl="1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65280" y="9205560"/>
            <a:ext cx="1077660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881160" y="9205560"/>
            <a:ext cx="1077660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65280" y="20913840"/>
            <a:ext cx="1077660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2881160" y="20913840"/>
            <a:ext cx="1077660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E20-7160-46B0-BA5C-DCE4D250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87240" y="1601280"/>
            <a:ext cx="22082040" cy="63882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b">
            <a:noAutofit/>
          </a:bodyPr>
          <a:p>
            <a:pPr indent="0" rtl="1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65280" y="9205560"/>
            <a:ext cx="711072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32040" y="9205560"/>
            <a:ext cx="711072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498440" y="9205560"/>
            <a:ext cx="711072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65280" y="20913840"/>
            <a:ext cx="711072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032040" y="20913840"/>
            <a:ext cx="711072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6498440" y="20913840"/>
            <a:ext cx="711072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AB21-5F69-4B27-8660-08CDBD7C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5F3D-4A5E-4ACA-A4ED-BEC026BD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87240" y="1601280"/>
            <a:ext cx="22082040" cy="63882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b">
            <a:noAutofit/>
          </a:bodyPr>
          <a:p>
            <a:pPr indent="0" rtl="1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65280" y="9205560"/>
            <a:ext cx="22083840" cy="2241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0514-D3D8-4736-8D52-C6A570A8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87240" y="1601280"/>
            <a:ext cx="22082040" cy="63882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b">
            <a:noAutofit/>
          </a:bodyPr>
          <a:p>
            <a:pPr indent="0" rtl="1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65280" y="9205560"/>
            <a:ext cx="22083840" cy="22415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0C03-49CC-45BE-928F-39B278F6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87240" y="1601280"/>
            <a:ext cx="22082040" cy="63882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b">
            <a:noAutofit/>
          </a:bodyPr>
          <a:p>
            <a:pPr indent="0" rtl="1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65280" y="9205560"/>
            <a:ext cx="10776600" cy="22415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881160" y="9205560"/>
            <a:ext cx="10776600" cy="22415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113B-0900-4427-A2C8-937FC2F1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87240" y="1601280"/>
            <a:ext cx="22082040" cy="63882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b">
            <a:noAutofit/>
          </a:bodyPr>
          <a:p>
            <a:pPr indent="0" rtl="1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9CAD-C647-4AC3-BCFE-B7A6D677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87240" y="1601280"/>
            <a:ext cx="22082040" cy="296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9C11-4E2F-46BF-8C60-0933129D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87240" y="1601280"/>
            <a:ext cx="22082040" cy="63882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b">
            <a:noAutofit/>
          </a:bodyPr>
          <a:p>
            <a:pPr indent="0" rtl="1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65280" y="9205560"/>
            <a:ext cx="1077660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2881160" y="9205560"/>
            <a:ext cx="10776600" cy="22415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65280" y="20913840"/>
            <a:ext cx="1077660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D0C6-DDF3-4989-A703-012586D6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87240" y="1601280"/>
            <a:ext cx="22082040" cy="63882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b">
            <a:noAutofit/>
          </a:bodyPr>
          <a:p>
            <a:pPr indent="0" rtl="1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65280" y="9205560"/>
            <a:ext cx="22083840" cy="2241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BF1-5C99-4FD3-8F81-85769247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87240" y="1601280"/>
            <a:ext cx="22082040" cy="63882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b">
            <a:noAutofit/>
          </a:bodyPr>
          <a:p>
            <a:pPr indent="0" rtl="1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65280" y="9205560"/>
            <a:ext cx="10776600" cy="22415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2881160" y="9205560"/>
            <a:ext cx="1077660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881160" y="20913840"/>
            <a:ext cx="1077660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83BD-E91F-4B86-841B-2ED6D6A1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87240" y="1601280"/>
            <a:ext cx="22082040" cy="63882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b">
            <a:noAutofit/>
          </a:bodyPr>
          <a:p>
            <a:pPr indent="0" rtl="1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65280" y="9205560"/>
            <a:ext cx="1077660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2881160" y="9205560"/>
            <a:ext cx="1077660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65280" y="20913840"/>
            <a:ext cx="2208384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A350-A370-4DE7-BABB-0DE1D997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87240" y="1601280"/>
            <a:ext cx="22082040" cy="63882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b">
            <a:noAutofit/>
          </a:bodyPr>
          <a:p>
            <a:pPr indent="0" rtl="1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65280" y="9205560"/>
            <a:ext cx="2208384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65280" y="20913840"/>
            <a:ext cx="2208384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5CA8-C6E9-4DF2-A6CA-A836570D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87240" y="1601280"/>
            <a:ext cx="22082040" cy="63882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b">
            <a:noAutofit/>
          </a:bodyPr>
          <a:p>
            <a:pPr indent="0" rtl="1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65280" y="9205560"/>
            <a:ext cx="1077660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881160" y="9205560"/>
            <a:ext cx="1077660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65280" y="20913840"/>
            <a:ext cx="1077660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881160" y="20913840"/>
            <a:ext cx="1077660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898C-6592-46A7-81BB-466B1822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87240" y="1601280"/>
            <a:ext cx="22082040" cy="63882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b">
            <a:noAutofit/>
          </a:bodyPr>
          <a:p>
            <a:pPr indent="0" rtl="1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65280" y="9205560"/>
            <a:ext cx="711072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032040" y="9205560"/>
            <a:ext cx="711072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498440" y="9205560"/>
            <a:ext cx="711072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65280" y="20913840"/>
            <a:ext cx="711072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9032040" y="20913840"/>
            <a:ext cx="711072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16498440" y="20913840"/>
            <a:ext cx="711072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5055-8721-4D30-85BB-220988F0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7240" y="1601280"/>
            <a:ext cx="22082040" cy="63882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b">
            <a:noAutofit/>
          </a:bodyPr>
          <a:p>
            <a:pPr indent="0" rtl="1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65280" y="9205560"/>
            <a:ext cx="22083840" cy="22415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777-DBFC-4B65-BD5A-F4D52C77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7240" y="1601280"/>
            <a:ext cx="22082040" cy="63882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b">
            <a:noAutofit/>
          </a:bodyPr>
          <a:p>
            <a:pPr indent="0" rtl="1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5280" y="9205560"/>
            <a:ext cx="10776600" cy="22415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2881160" y="9205560"/>
            <a:ext cx="10776600" cy="22415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CBEF-2758-40F1-89DE-B290DBCC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87240" y="1601280"/>
            <a:ext cx="22082040" cy="63882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b">
            <a:noAutofit/>
          </a:bodyPr>
          <a:p>
            <a:pPr indent="0" rtl="1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34C1-DECB-477B-9951-77210111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87240" y="1601280"/>
            <a:ext cx="22082040" cy="296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875F-27B0-4EB0-953E-F77E18D2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7240" y="1601280"/>
            <a:ext cx="22082040" cy="63882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b">
            <a:noAutofit/>
          </a:bodyPr>
          <a:p>
            <a:pPr indent="0" rtl="1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65280" y="9205560"/>
            <a:ext cx="1077660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2881160" y="9205560"/>
            <a:ext cx="10776600" cy="22415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65280" y="20913840"/>
            <a:ext cx="1077660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E6C-9B6E-4933-93CE-9E1443DD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87240" y="1601280"/>
            <a:ext cx="22082040" cy="63882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b">
            <a:noAutofit/>
          </a:bodyPr>
          <a:p>
            <a:pPr indent="0" rtl="1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65280" y="9205560"/>
            <a:ext cx="10776600" cy="22415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2881160" y="9205560"/>
            <a:ext cx="1077660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81160" y="20913840"/>
            <a:ext cx="1077660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F279-105E-47EF-84A2-BB3C63B7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87240" y="1601280"/>
            <a:ext cx="22082040" cy="63882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b">
            <a:noAutofit/>
          </a:bodyPr>
          <a:p>
            <a:pPr indent="0" rtl="1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65280" y="9205560"/>
            <a:ext cx="1077660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881160" y="9205560"/>
            <a:ext cx="1077660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65280" y="20913840"/>
            <a:ext cx="22083840" cy="106920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5A9-4D5F-43F3-874B-A9C11E70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7240" y="1601280"/>
            <a:ext cx="22082040" cy="63882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b">
            <a:noAutofit/>
          </a:bodyPr>
          <a:p>
            <a:pPr indent="0" rtl="1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5280" y="9205560"/>
            <a:ext cx="22083840" cy="2241540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rmAutofit/>
          </a:bodyPr>
          <a:p>
            <a:pPr marL="1517760" indent="-151776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932200" indent="-140976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4213080" indent="-127764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5468760" indent="-125064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6759720" indent="-128592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6759720" indent="-1285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6759720" indent="-1285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80840" y="32808600"/>
            <a:ext cx="5468760" cy="25016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2952720"/>
                <a:tab algn="l" pos="5905440"/>
                <a:tab algn="l" pos="8858160"/>
              </a:tabLst>
              <a:defRPr b="0" lang="he-IL" sz="3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0" lang="he-IL" sz="39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623440" y="32808600"/>
            <a:ext cx="7991280" cy="25016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2952720"/>
                <a:tab algn="l" pos="5905440"/>
                <a:tab algn="l" pos="8858160"/>
              </a:tabLst>
              <a:defRPr b="0" lang="en-US" sz="3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087840" y="32808600"/>
            <a:ext cx="5469120" cy="250164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952720"/>
                <a:tab algn="l" pos="5905440"/>
                <a:tab algn="l" pos="8858160"/>
              </a:tabLst>
              <a:defRPr b="0" lang="en-US" sz="3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fld id="{0DCE9164-ECA7-43B0-9092-3AAF87509C5C}" type="slidenum">
              <a:rPr b="0" lang="en-US" sz="3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91800" y="5203440"/>
            <a:ext cx="21453480" cy="720396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b">
            <a:noAutofit/>
          </a:bodyPr>
          <a:p>
            <a:pPr indent="0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891800" y="32824440"/>
            <a:ext cx="5257800" cy="240012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2952720"/>
                <a:tab algn="l" pos="5905440"/>
                <a:tab algn="l" pos="8858160"/>
              </a:tabLst>
              <a:defRPr b="0" lang="he-IL" sz="3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0" lang="he-IL" sz="39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8623440" y="32824440"/>
            <a:ext cx="7991280" cy="240012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2952720"/>
                <a:tab algn="l" pos="5905440"/>
                <a:tab algn="l" pos="8858160"/>
              </a:tabLst>
              <a:defRPr b="0" lang="en-US" sz="3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18087480" y="32824440"/>
            <a:ext cx="5257800" cy="2400120"/>
          </a:xfrm>
          <a:prstGeom prst="rect">
            <a:avLst/>
          </a:prstGeom>
          <a:noFill/>
          <a:ln w="0">
            <a:noFill/>
          </a:ln>
        </p:spPr>
        <p:txBody>
          <a:bodyPr lIns="295200" rIns="295200" tIns="147600" bIns="147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952720"/>
                <a:tab algn="l" pos="5905440"/>
                <a:tab algn="l" pos="8858160"/>
              </a:tabLst>
              <a:defRPr b="0" lang="en-US" sz="3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fld id="{BEA5B6E2-32F5-4B6A-8DA8-82C3F7C81BB4}" type="slidenum">
              <a:rPr b="0" lang="en-US" sz="3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92160" y="12576240"/>
            <a:ext cx="21453480" cy="5745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95200" rIns="295200" tIns="147600" bIns="147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8839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998520" y="28306800"/>
            <a:ext cx="11376000" cy="6086520"/>
          </a:xfrm>
          <a:prstGeom prst="rect">
            <a:avLst/>
          </a:prstGeom>
          <a:solidFill>
            <a:srgbClr val="dddddd"/>
          </a:solidFill>
          <a:ln w="9360">
            <a:solidFill>
              <a:srgbClr val="d1ff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lvl="1" marL="1085760" indent="-399960">
              <a:lnSpc>
                <a:spcPct val="110000"/>
              </a:lnSpc>
              <a:spcBef>
                <a:spcPts val="2401"/>
              </a:spcBef>
              <a:spcAft>
                <a:spcPts val="601"/>
              </a:spcAft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977760" y="29368800"/>
            <a:ext cx="14125320" cy="34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00120"/>
            <a:ext cx="25238160" cy="35103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5800" spc="-1" strike="noStrike">
                <a:solidFill>
                  <a:srgbClr val="ffffff"/>
                </a:solidFill>
                <a:latin typeface="Verdana"/>
              </a:rPr>
              <a:t>Hybrid System-Level Test Generation </a:t>
            </a:r>
            <a:br>
              <a:rPr sz="5800"/>
            </a:br>
            <a:r>
              <a:rPr b="1" lang="en-US" sz="5800" spc="-1" strike="noStrike">
                <a:solidFill>
                  <a:srgbClr val="ffffff"/>
                </a:solidFill>
                <a:latin typeface="Verdana"/>
              </a:rPr>
              <a:t>Approach for Heterogeneous Systems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1" lang="en-US" sz="3600" spc="-1" strike="noStrike">
                <a:solidFill>
                  <a:srgbClr val="d1fffe"/>
                </a:solidFill>
                <a:latin typeface="Verdana"/>
              </a:rPr>
              <a:t>Wisam Kadry, Alex Goryachev, and Ronny Morad </a:t>
            </a:r>
            <a:r>
              <a:rPr b="1" i="1" lang="en-US" sz="3600" spc="-1" strike="noStrike">
                <a:solidFill>
                  <a:srgbClr val="d1fffe"/>
                </a:solidFill>
                <a:latin typeface="Verdana"/>
              </a:rPr>
              <a:t>                                                                     </a:t>
            </a:r>
            <a:br>
              <a:rPr sz="3600"/>
            </a:br>
            <a:r>
              <a:rPr b="1" i="1" lang="en-US" sz="3600" spc="-1" strike="noStrike">
                <a:solidFill>
                  <a:srgbClr val="d1fffe"/>
                </a:solidFill>
                <a:latin typeface="Verdana"/>
              </a:rPr>
              <a:t> IBM Research - Haif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60280" y="30051360"/>
            <a:ext cx="980460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or more information contac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isam Kad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isamk@il.ibm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055760" y="4162320"/>
            <a:ext cx="11376000" cy="6405840"/>
          </a:xfrm>
          <a:prstGeom prst="rect">
            <a:avLst/>
          </a:prstGeom>
          <a:solidFill>
            <a:srgbClr val="dddddd"/>
          </a:solidFill>
          <a:ln w="9360">
            <a:solidFill>
              <a:srgbClr val="d1ff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marL="857160" indent="-399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1" lang="en-US" sz="2800" spc="-1" strike="noStrike">
                <a:solidFill>
                  <a:srgbClr val="007d7a"/>
                </a:solidFill>
                <a:latin typeface="Verdana"/>
              </a:rPr>
              <a:t>2. New Challenge for System-Level Test Generation</a:t>
            </a:r>
            <a:r>
              <a:rPr b="0" lang="en-US" sz="2400" spc="-1" strike="noStrike">
                <a:solidFill>
                  <a:srgbClr val="007d7a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399960">
              <a:lnSpc>
                <a:spcPct val="80000"/>
              </a:lnSpc>
              <a:spcBef>
                <a:spcPts val="24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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ystem-level verification focuses on the integra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several previously verified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399960">
              <a:lnSpc>
                <a:spcPct val="80000"/>
              </a:lnSpc>
              <a:spcBef>
                <a:spcPts val="24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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ditionally, all stimuli are generated by the system-leve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generator (CSP b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399960">
              <a:lnSpc>
                <a:spcPct val="80000"/>
              </a:lnSpc>
              <a:spcBef>
                <a:spcPts val="24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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lerator’s complex functions (e.g. pattern matching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cryptographic) require very complicat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399960">
              <a:lnSpc>
                <a:spcPct val="80000"/>
              </a:lnSpc>
              <a:spcBef>
                <a:spcPts val="24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Modeling this complex input is too cos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399960">
              <a:lnSpc>
                <a:spcPct val="80000"/>
              </a:lnSpc>
              <a:spcBef>
                <a:spcPts val="24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omplex inputs would produce an extremely hard constraint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399960">
              <a:lnSpc>
                <a:spcPts val="0"/>
              </a:lnSpc>
              <a:spcBef>
                <a:spcPts val="24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2952720"/>
                <a:tab algn="l" pos="5905440"/>
                <a:tab algn="l" pos="8858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399960">
              <a:lnSpc>
                <a:spcPts val="0"/>
              </a:lnSpc>
              <a:spcBef>
                <a:spcPts val="24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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r goal is to provide rich and valid inputs for th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399960">
              <a:lnSpc>
                <a:spcPct val="10000"/>
              </a:lnSpc>
              <a:spcBef>
                <a:spcPts val="2401"/>
              </a:spcBef>
              <a:spcAft>
                <a:spcPts val="601"/>
              </a:spcAft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l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399960">
              <a:lnSpc>
                <a:spcPct val="90000"/>
              </a:lnSpc>
              <a:spcBef>
                <a:spcPts val="2401"/>
              </a:spcBef>
              <a:spcAft>
                <a:spcPts val="601"/>
              </a:spcAft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9040" y="28276560"/>
            <a:ext cx="11437920" cy="6146640"/>
          </a:xfrm>
          <a:prstGeom prst="rect">
            <a:avLst/>
          </a:prstGeom>
          <a:solidFill>
            <a:srgbClr val="dddddd"/>
          </a:solidFill>
          <a:ln w="9360">
            <a:solidFill>
              <a:srgbClr val="d1ff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marL="507960" indent="-3333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1" lang="en-US" sz="2800" spc="-1" strike="noStrike">
                <a:solidFill>
                  <a:srgbClr val="007d7a"/>
                </a:solidFill>
                <a:latin typeface="Verdana"/>
              </a:rPr>
              <a:t>7. Summary and Futur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7960" indent="-33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7960" indent="-333360">
              <a:lnSpc>
                <a:spcPct val="100000"/>
              </a:lnSpc>
              <a:spcBef>
                <a:spcPts val="2100"/>
              </a:spcBef>
              <a:spcAft>
                <a:spcPts val="2100"/>
              </a:spcAft>
              <a:buClr>
                <a:srgbClr val="cc0000"/>
              </a:buClr>
              <a:buFont typeface="Wingdings" charset="2"/>
              <a:buChar char="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lerators stimuli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7960" indent="-333360">
              <a:lnSpc>
                <a:spcPct val="100000"/>
              </a:lnSpc>
              <a:spcBef>
                <a:spcPts val="2100"/>
              </a:spcBef>
              <a:spcAft>
                <a:spcPts val="2100"/>
              </a:spcAft>
              <a:buClr>
                <a:srgbClr val="cc0000"/>
              </a:buClr>
              <a:buFont typeface="Wingdings" charset="2"/>
              <a:buChar char="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ution: Hybrid system-level tes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7960" indent="-333360">
              <a:lnSpc>
                <a:spcPct val="100000"/>
              </a:lnSpc>
              <a:spcBef>
                <a:spcPts val="2100"/>
              </a:spcBef>
              <a:spcAft>
                <a:spcPts val="2100"/>
              </a:spcAft>
              <a:buClr>
                <a:srgbClr val="cc0000"/>
              </a:buClr>
              <a:buFont typeface="Wingdings" charset="2"/>
              <a:buChar char="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pplied hybrid approach to an IBM S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7960" indent="-333360">
              <a:lnSpc>
                <a:spcPct val="100000"/>
              </a:lnSpc>
              <a:spcBef>
                <a:spcPts val="2100"/>
              </a:spcBef>
              <a:spcAft>
                <a:spcPts val="2100"/>
              </a:spcAft>
              <a:buClr>
                <a:srgbClr val="cc0000"/>
              </a:buClr>
              <a:buFont typeface="Wingdings" charset="2"/>
              <a:buChar char="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ture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406440">
              <a:lnSpc>
                <a:spcPct val="100000"/>
              </a:lnSpc>
              <a:spcBef>
                <a:spcPts val="2100"/>
              </a:spcBef>
              <a:spcAft>
                <a:spcPts val="2100"/>
              </a:spcAft>
              <a:buClr>
                <a:srgbClr val="cc0000"/>
              </a:buClr>
              <a:buFont typeface="Wingdings" charset="2"/>
              <a:buChar char="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Extend hybrid approach to other components with complex behavior (e.g., address trans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8160" y="4157640"/>
            <a:ext cx="11430000" cy="6397560"/>
          </a:xfrm>
          <a:prstGeom prst="rect">
            <a:avLst/>
          </a:prstGeom>
          <a:solidFill>
            <a:srgbClr val="dddddd"/>
          </a:solidFill>
          <a:ln w="9360">
            <a:solidFill>
              <a:srgbClr val="d1ff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marL="566640" indent="-392040" algn="ctr">
              <a:lnSpc>
                <a:spcPct val="90000"/>
              </a:lnSpc>
              <a:spcBef>
                <a:spcPts val="1225"/>
              </a:spcBef>
              <a:spcAft>
                <a:spcPts val="524"/>
              </a:spcAft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1" lang="en-US" sz="2800" spc="-1" strike="noStrike">
                <a:solidFill>
                  <a:srgbClr val="007d7a"/>
                </a:solidFill>
                <a:latin typeface="Verdana"/>
              </a:rPr>
              <a:t>1. Heterogeneous S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392040">
              <a:lnSpc>
                <a:spcPct val="90000"/>
              </a:lnSpc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terogeneous SoCs have complex architectures that include special purpose accelerators performing software-lik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039560" y="11090160"/>
            <a:ext cx="11408040" cy="8145720"/>
          </a:xfrm>
          <a:prstGeom prst="rect">
            <a:avLst/>
          </a:prstGeom>
          <a:solidFill>
            <a:srgbClr val="dddddd"/>
          </a:solidFill>
          <a:ln w="9360">
            <a:solidFill>
              <a:srgbClr val="d1ff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1" lang="en-US" sz="2800" spc="-1" strike="noStrike">
                <a:solidFill>
                  <a:srgbClr val="007d7a"/>
                </a:solidFill>
                <a:latin typeface="Verdana"/>
              </a:rPr>
              <a:t>4. Hybrid System-Level Test Generation Approach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51400" cy="2043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57360" y="5905440"/>
            <a:ext cx="11317320" cy="4478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400880" y="6172200"/>
            <a:ext cx="3743280" cy="1114560"/>
          </a:xfrm>
          <a:prstGeom prst="rect">
            <a:avLst/>
          </a:prstGeom>
          <a:solidFill>
            <a:srgbClr val="ff990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9800" y="11020320"/>
            <a:ext cx="11376000" cy="8263080"/>
          </a:xfrm>
          <a:prstGeom prst="rect">
            <a:avLst/>
          </a:prstGeom>
          <a:solidFill>
            <a:srgbClr val="dddddd"/>
          </a:solidFill>
          <a:ln w="9360">
            <a:solidFill>
              <a:srgbClr val="d1ff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marL="171360" indent="114480"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1" lang="en-US" sz="2800" spc="-1" strike="noStrike">
                <a:solidFill>
                  <a:srgbClr val="007d7a"/>
                </a:solidFill>
                <a:latin typeface="Verdana"/>
              </a:rPr>
              <a:t>3. Hybrid System-Level Test Generation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114480">
              <a:lnSpc>
                <a:spcPct val="80000"/>
              </a:lnSpc>
              <a:spcBef>
                <a:spcPts val="24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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imuli generatio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 divided between the system-leve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and the unit level gen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114480">
              <a:lnSpc>
                <a:spcPct val="80000"/>
              </a:lnSpc>
              <a:spcBef>
                <a:spcPts val="24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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system level generator is responsible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99960">
              <a:lnSpc>
                <a:spcPct val="30000"/>
              </a:lnSpc>
              <a:spcBef>
                <a:spcPts val="24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llocating memory and initializing po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99960">
              <a:lnSpc>
                <a:spcPct val="30000"/>
              </a:lnSpc>
              <a:spcBef>
                <a:spcPts val="2401"/>
              </a:spcBef>
              <a:spcAft>
                <a:spcPts val="601"/>
              </a:spcAft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accelerator input/output buffer poin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99960">
              <a:lnSpc>
                <a:spcPct val="30000"/>
              </a:lnSpc>
              <a:spcBef>
                <a:spcPts val="24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riggering the accelerator interaction with the m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99960">
              <a:lnSpc>
                <a:spcPct val="30000"/>
              </a:lnSpc>
              <a:spcBef>
                <a:spcPts val="2401"/>
              </a:spcBef>
              <a:spcAft>
                <a:spcPts val="601"/>
              </a:spcAft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99960">
              <a:lnSpc>
                <a:spcPct val="30000"/>
              </a:lnSpc>
              <a:spcBef>
                <a:spcPts val="24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Creating translation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99960">
              <a:lnSpc>
                <a:spcPts val="0"/>
              </a:lnSpc>
              <a:spcBef>
                <a:spcPts val="2401"/>
              </a:spcBef>
              <a:spcAft>
                <a:spcPts val="601"/>
              </a:spcAft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114480">
              <a:lnSpc>
                <a:spcPct val="10000"/>
              </a:lnSpc>
              <a:spcBef>
                <a:spcPts val="24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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lerator’s unit stimuli generator produc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114480">
              <a:lnSpc>
                <a:spcPct val="10000"/>
              </a:lnSpc>
              <a:spcBef>
                <a:spcPts val="2401"/>
              </a:spcBef>
              <a:spcAft>
                <a:spcPts val="601"/>
              </a:spcAft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lerators’ specific input and parameters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114480">
              <a:lnSpc>
                <a:spcPct val="10000"/>
              </a:lnSpc>
              <a:spcBef>
                <a:spcPts val="2401"/>
              </a:spcBef>
              <a:spcAft>
                <a:spcPts val="601"/>
              </a:spcAft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99960">
              <a:lnSpc>
                <a:spcPct val="10000"/>
              </a:lnSpc>
              <a:spcBef>
                <a:spcPts val="24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ata for encryption/de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99960">
              <a:lnSpc>
                <a:spcPct val="10000"/>
              </a:lnSpc>
              <a:spcBef>
                <a:spcPts val="24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Data for compression/decompress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99960">
              <a:lnSpc>
                <a:spcPct val="10000"/>
              </a:lnSpc>
              <a:spcBef>
                <a:spcPts val="24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Patterns and data to be sear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132400" y="16189200"/>
            <a:ext cx="2657520" cy="1100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461000" y="13276800"/>
            <a:ext cx="2911680" cy="36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99960" indent="-39996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1ab3"/>
                </a:solidFill>
                <a:latin typeface="Arial"/>
              </a:rPr>
              <a:t>Test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endCxn id="95" idx="1"/>
          </p:cNvCxnSpPr>
          <p:nvPr/>
        </p:nvCxnSpPr>
        <p:spPr>
          <a:xfrm flipV="1">
            <a:off x="15906240" y="13460760"/>
            <a:ext cx="555120" cy="108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5" idx="3"/>
            <a:endCxn id="98" idx="2"/>
          </p:cNvCxnSpPr>
          <p:nvPr/>
        </p:nvCxnSpPr>
        <p:spPr>
          <a:xfrm>
            <a:off x="19372680" y="13460760"/>
            <a:ext cx="533160" cy="2052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8" idx="3"/>
            <a:endCxn id="100" idx="0"/>
          </p:cNvCxnSpPr>
          <p:nvPr/>
        </p:nvCxnSpPr>
        <p:spPr>
          <a:xfrm flipH="1">
            <a:off x="18457920" y="13802040"/>
            <a:ext cx="1807200" cy="83808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4" idx="2"/>
            <a:endCxn id="102" idx="0"/>
          </p:cNvCxnSpPr>
          <p:nvPr/>
        </p:nvCxnSpPr>
        <p:spPr>
          <a:xfrm flipH="1">
            <a:off x="18454320" y="17289360"/>
            <a:ext cx="7200" cy="46044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15813000" y="13561920"/>
            <a:ext cx="5019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129160" y="14639760"/>
            <a:ext cx="2657520" cy="414360"/>
          </a:xfrm>
          <a:prstGeom prst="rect">
            <a:avLst/>
          </a:prstGeom>
          <a:solidFill>
            <a:srgbClr val="d1ff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-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124480" y="15069960"/>
            <a:ext cx="2657520" cy="1100160"/>
          </a:xfrm>
          <a:prstGeom prst="rect">
            <a:avLst/>
          </a:prstGeom>
          <a:solidFill>
            <a:srgbClr val="d1ff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e acceler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416040" y="16282080"/>
            <a:ext cx="1916640" cy="908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-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5" idx="2"/>
          </p:cNvCxnSpPr>
          <p:nvPr/>
        </p:nvCxnSpPr>
        <p:spPr>
          <a:xfrm flipH="1" flipV="1">
            <a:off x="19790640" y="16730280"/>
            <a:ext cx="1625760" cy="648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9905480" y="13026600"/>
            <a:ext cx="2455200" cy="908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-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004480" y="14622480"/>
            <a:ext cx="3726720" cy="699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99960" indent="-399960"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1ab3"/>
                </a:solidFill>
                <a:latin typeface="Arial"/>
              </a:rPr>
              <a:t>Instructions for uni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1ab3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98" idx="4"/>
            <a:endCxn id="107" idx="0"/>
          </p:cNvCxnSpPr>
          <p:nvPr/>
        </p:nvCxnSpPr>
        <p:spPr>
          <a:xfrm>
            <a:off x="21133080" y="13934880"/>
            <a:ext cx="735120" cy="68796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5903720" y="15589080"/>
            <a:ext cx="4717800" cy="820800"/>
          </a:xfrm>
          <a:custGeom>
            <a:avLst/>
            <a:gdLst/>
            <a:ahLst/>
            <a:rect l="l" t="t" r="r" b="b"/>
            <a:pathLst>
              <a:path w="2972" h="409">
                <a:moveTo>
                  <a:pt x="2347" y="0"/>
                </a:moveTo>
                <a:cubicBezTo>
                  <a:pt x="2659" y="26"/>
                  <a:pt x="2972" y="53"/>
                  <a:pt x="2635" y="93"/>
                </a:cubicBezTo>
                <a:cubicBezTo>
                  <a:pt x="2298" y="133"/>
                  <a:pt x="644" y="188"/>
                  <a:pt x="322" y="241"/>
                </a:cubicBezTo>
                <a:cubicBezTo>
                  <a:pt x="0" y="294"/>
                  <a:pt x="636" y="373"/>
                  <a:pt x="703" y="40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517240" y="17749440"/>
            <a:ext cx="1873800" cy="908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4081040" y="12676320"/>
            <a:ext cx="2054160" cy="1366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236560" y="14187600"/>
            <a:ext cx="17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/>
          <p:nvPr/>
        </p:nvCxnSpPr>
        <p:spPr>
          <a:xfrm>
            <a:off x="21895920" y="15355800"/>
            <a:ext cx="506880" cy="96912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17185680" y="16224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800" y="19878840"/>
            <a:ext cx="11376000" cy="7719840"/>
          </a:xfrm>
          <a:prstGeom prst="rect">
            <a:avLst/>
          </a:prstGeom>
          <a:solidFill>
            <a:srgbClr val="dddddd"/>
          </a:solidFill>
          <a:ln w="9360">
            <a:solidFill>
              <a:srgbClr val="d1ff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marL="171360" indent="114480"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1" lang="en-US" sz="2800" spc="-1" strike="noStrike">
                <a:solidFill>
                  <a:srgbClr val="007d7a"/>
                </a:solidFill>
                <a:latin typeface="Verdana"/>
              </a:rPr>
              <a:t>5. Hybrid System-Level Test Generation Approach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114480">
              <a:lnSpc>
                <a:spcPct val="80000"/>
              </a:lnSpc>
              <a:spcBef>
                <a:spcPts val="24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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brid approach main 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99960">
              <a:lnSpc>
                <a:spcPct val="80000"/>
              </a:lnSpc>
              <a:spcBef>
                <a:spcPts val="2401"/>
              </a:spcBef>
              <a:spcAft>
                <a:spcPts val="601"/>
              </a:spcAft>
              <a:buClr>
                <a:srgbClr val="027c02"/>
              </a:buClr>
              <a:buFont typeface="Wingdings" charset="2"/>
              <a:buChar char="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Generic method that can be used for various accelerators in a S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99960">
              <a:lnSpc>
                <a:spcPct val="30000"/>
              </a:lnSpc>
              <a:spcBef>
                <a:spcPts val="2401"/>
              </a:spcBef>
              <a:spcAft>
                <a:spcPts val="601"/>
              </a:spcAft>
              <a:buClr>
                <a:srgbClr val="027c02"/>
              </a:buClr>
              <a:buFont typeface="Wingdings" charset="2"/>
              <a:buChar char="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ich accelerator input (still utilize unit verification c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99960">
              <a:lnSpc>
                <a:spcPct val="80000"/>
              </a:lnSpc>
              <a:spcBef>
                <a:spcPts val="2401"/>
              </a:spcBef>
              <a:spcAft>
                <a:spcPts val="601"/>
              </a:spcAft>
              <a:buClr>
                <a:srgbClr val="027c02"/>
              </a:buClr>
              <a:buFont typeface="Wingdings" charset="2"/>
              <a:buChar char="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ystem level scenarios that involve CPU, memory , and accel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99960">
              <a:lnSpc>
                <a:spcPct val="30000"/>
              </a:lnSpc>
              <a:spcBef>
                <a:spcPts val="2401"/>
              </a:spcBef>
              <a:spcAft>
                <a:spcPts val="601"/>
              </a:spcAft>
              <a:buClr>
                <a:srgbClr val="027c02"/>
              </a:buClr>
              <a:buFont typeface="Wingdings" charset="2"/>
              <a:buChar char="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easonable implementation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99960">
              <a:lnSpc>
                <a:spcPct val="30000"/>
              </a:lnSpc>
              <a:spcBef>
                <a:spcPts val="2401"/>
              </a:spcBef>
              <a:spcAft>
                <a:spcPts val="601"/>
              </a:spcAft>
              <a:buClr>
                <a:srgbClr val="027c02"/>
              </a:buClr>
              <a:buFont typeface="Wingdings" charset="2"/>
              <a:buChar char="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Reuse of on-the-fly-unit che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99960">
              <a:lnSpc>
                <a:spcPct val="30000"/>
              </a:lnSpc>
              <a:spcBef>
                <a:spcPts val="2401"/>
              </a:spcBef>
              <a:spcAft>
                <a:spcPts val="601"/>
              </a:spcAft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114480">
              <a:lnSpc>
                <a:spcPct val="10000"/>
              </a:lnSpc>
              <a:spcBef>
                <a:spcPts val="24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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brid approach main disadvan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99960">
              <a:lnSpc>
                <a:spcPct val="110000"/>
              </a:lnSpc>
              <a:spcBef>
                <a:spcPts val="2401"/>
              </a:spcBef>
              <a:spcAft>
                <a:spcPts val="601"/>
              </a:spcAft>
              <a:buClr>
                <a:srgbClr val="fd3548"/>
              </a:buClr>
              <a:buFont typeface="Wingdings" charset="2"/>
              <a:buChar char="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Lack of redundancy: The same type of stimuli is used to    exercise an accelerator at both the unit and the system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998520" y="19878840"/>
            <a:ext cx="11376000" cy="7719840"/>
          </a:xfrm>
          <a:prstGeom prst="rect">
            <a:avLst/>
          </a:prstGeom>
          <a:solidFill>
            <a:srgbClr val="dddddd"/>
          </a:solidFill>
          <a:ln w="9360">
            <a:solidFill>
              <a:srgbClr val="d1ff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marL="171360" indent="114480"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1" lang="en-US" sz="2800" spc="-1" strike="noStrike">
                <a:solidFill>
                  <a:srgbClr val="007d7a"/>
                </a:solidFill>
                <a:latin typeface="Verdana"/>
              </a:rPr>
              <a:t>6. Applying Hybrid Approach to IBM Test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114480">
              <a:lnSpc>
                <a:spcPct val="80000"/>
              </a:lnSpc>
              <a:spcBef>
                <a:spcPts val="24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"/>
              <a:tabLst>
                <a:tab algn="l" pos="2952720"/>
                <a:tab algn="l" pos="5905440"/>
                <a:tab algn="l" pos="8858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hybrid method was implemented in X-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99960">
              <a:lnSpc>
                <a:spcPct val="50000"/>
              </a:lnSpc>
              <a:spcBef>
                <a:spcPts val="24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-Gen is the primary IBM system-level test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99960">
              <a:lnSpc>
                <a:spcPct val="50000"/>
              </a:lnSpc>
              <a:spcBef>
                <a:spcPts val="24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Used in pSeries, zSeries, PS/3 and X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114480">
              <a:lnSpc>
                <a:spcPct val="50000"/>
              </a:lnSpc>
              <a:spcBef>
                <a:spcPts val="24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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pplied to an IBM Soc that has XML, Crypto, Pattern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114480">
              <a:lnSpc>
                <a:spcPct val="50000"/>
              </a:lnSpc>
              <a:spcBef>
                <a:spcPts val="2401"/>
              </a:spcBef>
              <a:spcAft>
                <a:spcPts val="601"/>
              </a:spcAft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 Compression accel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99960">
              <a:lnSpc>
                <a:spcPct val="30000"/>
              </a:lnSpc>
              <a:spcBef>
                <a:spcPts val="2401"/>
              </a:spcBef>
              <a:spcAft>
                <a:spcPts val="601"/>
              </a:spcAft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114480">
              <a:lnSpc>
                <a:spcPct val="10000"/>
              </a:lnSpc>
              <a:spcBef>
                <a:spcPts val="24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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99960">
              <a:lnSpc>
                <a:spcPct val="110000"/>
              </a:lnSpc>
              <a:spcBef>
                <a:spcPts val="24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Found numerous hardware bugs related to the accel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114480">
              <a:lnSpc>
                <a:spcPct val="110000"/>
              </a:lnSpc>
              <a:spcBef>
                <a:spcPts val="24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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asonable implementation effo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99960">
              <a:lnSpc>
                <a:spcPct val="110000"/>
              </a:lnSpc>
              <a:spcBef>
                <a:spcPts val="2401"/>
              </a:spcBef>
              <a:spcAft>
                <a:spcPts val="601"/>
              </a:spcAft>
              <a:buClr>
                <a:srgbClr val="cc0000"/>
              </a:buClr>
              <a:buFont typeface="Wingdings" charset="2"/>
              <a:buChar char=""/>
              <a:tabLst>
                <a:tab algn="l" pos="2952720"/>
                <a:tab algn="l" pos="5905440"/>
                <a:tab algn="l" pos="8858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x10 less compared to new IO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99960">
              <a:lnSpc>
                <a:spcPct val="110000"/>
              </a:lnSpc>
              <a:spcBef>
                <a:spcPts val="2401"/>
              </a:spcBef>
              <a:spcAft>
                <a:spcPts val="601"/>
              </a:spcAft>
              <a:buClr>
                <a:srgbClr val="fd3548"/>
              </a:buClr>
              <a:buFont typeface="Wingdings" charset="2"/>
              <a:buChar char=""/>
              <a:tabLst>
                <a:tab algn="l" pos="2952720"/>
                <a:tab algn="l" pos="5905440"/>
                <a:tab algn="l" pos="8858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09:42:59Z</dcterms:created>
  <dc:creator>Lisa Amitai</dc:creator>
  <dc:description/>
  <dc:language>en-US</dc:language>
  <cp:lastModifiedBy>Tammy Dekel</cp:lastModifiedBy>
  <dcterms:modified xsi:type="dcterms:W3CDTF">2010-04-26T07:14:44Z</dcterms:modified>
  <cp:revision>377</cp:revision>
  <dc:subject/>
  <dc:title>UML poster</dc:title>
</cp:coreProperties>
</file>