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560" y="362340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520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264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272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256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264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272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683D-885B-4796-BE96-5023EA2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D9A84-E1C5-410E-B400-ABC54DEB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259A-C074-42C7-9F02-CBC03D3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F27E1-9B3F-48D4-9E1D-587AAF6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D051E-BADF-40EE-8A55-4C9281C3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1120" y="0"/>
            <a:ext cx="9082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635CD-F3AD-4860-91E5-7664BBC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BDCC-8B56-42DD-8CB2-DA59194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520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7E37-B7A8-40B1-87AB-C073899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13DD7-0DAD-4A3E-BA8C-6007AC9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560" y="362340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60E9-75BC-4AB2-86F2-6F66F61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520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A61EB-0263-49B9-B639-EE8643CF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264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2720" y="83628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56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8264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52720" y="3623400"/>
            <a:ext cx="292356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9B2C-BC59-4FC6-B047-504FFFC5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1120" y="0"/>
            <a:ext cx="9082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5200" y="362340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5200" y="836280"/>
            <a:ext cx="44308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2560" y="3623400"/>
            <a:ext cx="908028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43640" y="6477120"/>
            <a:ext cx="14320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50600" y="6477120"/>
            <a:ext cx="5692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99061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853480" y="6477120"/>
            <a:ext cx="6238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867-71A3-490D-B0FB-D9B85EE5FA78}" type="slidenum"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2920" y="692280"/>
            <a:ext cx="908028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1844640"/>
            <a:ext cx="81280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1154160" y="5524560"/>
            <a:ext cx="812808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178240" y="6477120"/>
            <a:ext cx="4065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0" y="6477120"/>
            <a:ext cx="1155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D93F-3235-4940-8988-C595164AFF2D}" type="slidenum">
              <a:rPr b="0" lang="ja-JP" sz="1100" spc="-1" strike="noStrike">
                <a:solidFill>
                  <a:srgbClr val="cccccc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1440" y="189000"/>
            <a:ext cx="35892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68280"/>
            <a:ext cx="990612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ctr"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8960" algn="ctr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1560" algn="ctr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160" y="1844640"/>
            <a:ext cx="81280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A New Timing Closure Methodology for an SoC with Multiple On-chip Regulator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1080" y="3428640"/>
            <a:ext cx="93632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Tatsuo Shiozaw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Tetsuya Fujita, Hiroyuki Har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uuji Matsumoto, Keiko Seki-Fukud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shio Fujisawa, Masanori Kuwahar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shitada Saito, Yasuo Unekawa, Mototsugu Ham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SHIBA Corp. Semiconductor Compan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awasaki, Jap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tsuo.shiozawa at toshiba.co.j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351080" y="2736720"/>
            <a:ext cx="7993080" cy="1081080"/>
          </a:xfrm>
          <a:prstGeom prst="rect">
            <a:avLst/>
          </a:prstGeom>
          <a:gradFill rotWithShape="0">
            <a:gsLst>
              <a:gs pos="0">
                <a:srgbClr val="ccffcc">
                  <a:alpha val="80392"/>
                </a:srgbClr>
              </a:gs>
              <a:gs pos="50000">
                <a:srgbClr val="ffffff"/>
              </a:gs>
              <a:gs pos="100000">
                <a:srgbClr val="ccffcc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51080" y="4033800"/>
            <a:ext cx="7993080" cy="2448000"/>
          </a:xfrm>
          <a:prstGeom prst="rect">
            <a:avLst/>
          </a:prstGeom>
          <a:gradFill rotWithShape="0">
            <a:gsLst>
              <a:gs pos="0">
                <a:srgbClr val="ffff99">
                  <a:alpha val="80392"/>
                </a:srgbClr>
              </a:gs>
              <a:gs pos="50000">
                <a:srgbClr val="ffffff"/>
              </a:gs>
              <a:gs pos="100000">
                <a:srgbClr val="ffff99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12560" y="765000"/>
            <a:ext cx="914868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fference between capture clock delays at the supply voltage of corner libraries and the actual voltage supplied by on-chip regulator is incorporated in the clock uncertainty value in the P&amp;R st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344160" y="4124160"/>
            <a:ext cx="360360" cy="3603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How to Keep Consistency in P&amp;R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44160" y="2035080"/>
            <a:ext cx="0" cy="453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12160" y="2827440"/>
            <a:ext cx="1760400" cy="35856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CLK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875800" y="2638440"/>
            <a:ext cx="1440" cy="47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876880" y="2709720"/>
            <a:ext cx="468360" cy="0"/>
          </a:xfrm>
          <a:prstGeom prst="line">
            <a:avLst/>
          </a:prstGeom>
          <a:ln w="38160">
            <a:solidFill>
              <a:srgbClr val="3366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99120" y="2278080"/>
            <a:ext cx="2273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quired logic dela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79000" y="3835440"/>
            <a:ext cx="11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K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08200" y="3402720"/>
            <a:ext cx="3240" cy="107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443720" y="6165720"/>
            <a:ext cx="1325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K Uncertain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51080" y="4987800"/>
            <a:ext cx="1800" cy="573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553600" y="5059440"/>
            <a:ext cx="79056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45240" y="4627440"/>
            <a:ext cx="269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quired logic dela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is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51800" y="5203800"/>
            <a:ext cx="180180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CLK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751800" y="5778360"/>
            <a:ext cx="223200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344160" y="4340160"/>
            <a:ext cx="457200" cy="1569960"/>
          </a:xfrm>
          <a:custGeom>
            <a:avLst/>
            <a:gdLst/>
            <a:ahLst/>
            <a:rect l="l" t="t" r="r" b="b"/>
            <a:pathLst>
              <a:path w="266" h="981">
                <a:moveTo>
                  <a:pt x="0" y="981"/>
                </a:moveTo>
                <a:cubicBezTo>
                  <a:pt x="23" y="960"/>
                  <a:pt x="94" y="917"/>
                  <a:pt x="136" y="851"/>
                </a:cubicBezTo>
                <a:cubicBezTo>
                  <a:pt x="178" y="785"/>
                  <a:pt x="235" y="683"/>
                  <a:pt x="250" y="582"/>
                </a:cubicBezTo>
                <a:cubicBezTo>
                  <a:pt x="266" y="481"/>
                  <a:pt x="254" y="341"/>
                  <a:pt x="229" y="244"/>
                </a:cubicBezTo>
                <a:cubicBezTo>
                  <a:pt x="204" y="147"/>
                  <a:pt x="124" y="51"/>
                  <a:pt x="9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lg" type="triangle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51800" y="5203800"/>
            <a:ext cx="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71680" y="4122720"/>
            <a:ext cx="36036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76800" y="2035080"/>
            <a:ext cx="0" cy="453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31920" y="2736720"/>
            <a:ext cx="192240" cy="1081080"/>
          </a:xfrm>
          <a:custGeom>
            <a:avLst/>
            <a:gdLst>
              <a:gd name="textAreaLeft" fmla="*/ 122760 w 192240"/>
              <a:gd name="textAreaRight" fmla="*/ 192600 w 1922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4"/>
                  <a:pt x="10800" y="1808"/>
                </a:cubicBezTo>
                <a:lnTo>
                  <a:pt x="10800" y="8992"/>
                </a:lnTo>
                <a:cubicBezTo>
                  <a:pt x="10800" y="9896"/>
                  <a:pt x="5400" y="10800"/>
                  <a:pt x="0" y="10800"/>
                </a:cubicBezTo>
                <a:cubicBezTo>
                  <a:pt x="5400" y="10800"/>
                  <a:pt x="10800" y="11704"/>
                  <a:pt x="10800" y="12608"/>
                </a:cubicBezTo>
                <a:lnTo>
                  <a:pt x="10800" y="19792"/>
                </a:lnTo>
                <a:cubicBezTo>
                  <a:pt x="10800" y="2069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0520" y="2997360"/>
            <a:ext cx="768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nt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th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08160" y="403380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0"/>
                </a:lnTo>
                <a:cubicBezTo>
                  <a:pt x="10800" y="9690"/>
                  <a:pt x="5400" y="10590"/>
                  <a:pt x="0" y="10590"/>
                </a:cubicBezTo>
                <a:cubicBezTo>
                  <a:pt x="5400" y="10590"/>
                  <a:pt x="10800" y="11490"/>
                  <a:pt x="10800" y="123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689440" y="203508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71680" y="3312360"/>
            <a:ext cx="1440" cy="107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831320" y="4124160"/>
            <a:ext cx="216036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71680" y="4124160"/>
            <a:ext cx="36036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91680" y="2638440"/>
            <a:ext cx="1800" cy="455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992400" y="2709720"/>
            <a:ext cx="2084400" cy="0"/>
          </a:xfrm>
          <a:prstGeom prst="line">
            <a:avLst/>
          </a:prstGeom>
          <a:ln w="38160">
            <a:solidFill>
              <a:srgbClr val="3366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21120" y="2279520"/>
            <a:ext cx="2077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ogic delay budge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0520" y="50864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is 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352040" y="5978520"/>
            <a:ext cx="172404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33480" y="5086440"/>
            <a:ext cx="2519280" cy="35856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CLK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832040" y="5618160"/>
            <a:ext cx="252072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12720" y="4484520"/>
            <a:ext cx="1327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K Delay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32040" y="5086440"/>
            <a:ext cx="0" cy="890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92400" y="33861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44880" y="6381720"/>
            <a:ext cx="1325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K Uncertain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2400" y="5978520"/>
            <a:ext cx="36036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71680" y="4321080"/>
            <a:ext cx="2520720" cy="2264040"/>
          </a:xfrm>
          <a:custGeom>
            <a:avLst/>
            <a:gdLst/>
            <a:ahLst/>
            <a:rect l="l" t="t" r="r" b="b"/>
            <a:pathLst>
              <a:path w="1624" h="1471">
                <a:moveTo>
                  <a:pt x="130" y="0"/>
                </a:moveTo>
                <a:cubicBezTo>
                  <a:pt x="110" y="127"/>
                  <a:pt x="0" y="542"/>
                  <a:pt x="10" y="765"/>
                </a:cubicBezTo>
                <a:cubicBezTo>
                  <a:pt x="20" y="988"/>
                  <a:pt x="43" y="1225"/>
                  <a:pt x="192" y="1339"/>
                </a:cubicBezTo>
                <a:cubicBezTo>
                  <a:pt x="341" y="1453"/>
                  <a:pt x="665" y="1471"/>
                  <a:pt x="903" y="1451"/>
                </a:cubicBezTo>
                <a:cubicBezTo>
                  <a:pt x="1142" y="1431"/>
                  <a:pt x="1474" y="1266"/>
                  <a:pt x="1624" y="121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51320" y="4825440"/>
            <a:ext cx="1440" cy="572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352760" y="5014800"/>
            <a:ext cx="17272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4160" rIns="7416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76760" y="458136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gic delay budge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is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322280" y="1773360"/>
            <a:ext cx="382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r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73680" y="1773360"/>
            <a:ext cx="2094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9000" bIns="9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r Hol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8929800" y="203508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856720" y="151272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64400" y="1728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83600" y="1730520"/>
            <a:ext cx="722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o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03880" y="1728720"/>
            <a:ext cx="77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888160" y="17305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o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111440" y="3403440"/>
            <a:ext cx="222876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112160" y="4124160"/>
            <a:ext cx="223200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985240" y="5780160"/>
            <a:ext cx="36036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12160" y="2827440"/>
            <a:ext cx="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992400" y="3403440"/>
            <a:ext cx="208440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1475640" y="3403440"/>
            <a:ext cx="2516040" cy="35892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CLK Delay@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76360" y="2827440"/>
            <a:ext cx="2516040" cy="358560"/>
          </a:xfrm>
          <a:prstGeom prst="leftArrow">
            <a:avLst>
              <a:gd name="adj1" fmla="val 100000"/>
              <a:gd name="adj2" fmla="val 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CLK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86080" y="2827440"/>
            <a:ext cx="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4291E-006 C -0.01788 0.06061 -0.03593 0.12283 -0.03541 0.17372 C -0.03489 0.22461 -0.02621 0.27805 0.0033 0.30511 C 0.03282 0.33218 0.08941 0.34213 0.1415 0.33657 C 0.19358 0.33102 0.27934 0.28545 0.31563 0.27203 E">
                                      <p:cBhvr>
                                        <p:cTn id="62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hysical Design Resul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methodology is applied to the actual product desig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55520" y="1692360"/>
          <a:ext cx="5159520" cy="4113000"/>
        </p:xfrm>
        <a:graphic>
          <a:graphicData uri="http://schemas.openxmlformats.org/drawingml/2006/table">
            <a:tbl>
              <a:tblPr/>
              <a:tblGrid>
                <a:gridCol w="1673280"/>
                <a:gridCol w="3486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02.11 a/b/g/n Wireless 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0nm 6-layer metal (Cu) C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upply Vol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re 1.2V, I/O 3.3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ate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 2.0Mg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mory 3.4M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hip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70mm x 4.70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ock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/ 40 / 80 / 160 MHz, 32k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-bit RISC x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wer Do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3 Power Domains w/ Regula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0mW    @ 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W    @ Sl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1mW @ DeepSl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602" name=""/>
          <p:cNvGrpSpPr/>
          <p:nvPr/>
        </p:nvGrpSpPr>
        <p:grpSpPr>
          <a:xfrm>
            <a:off x="5421240" y="1692360"/>
            <a:ext cx="4404960" cy="4066920"/>
            <a:chOff x="5421240" y="1692360"/>
            <a:chExt cx="4404960" cy="4066920"/>
          </a:xfrm>
        </p:grpSpPr>
        <p:pic>
          <p:nvPicPr>
            <p:cNvPr id="603" name="" descr=""/>
            <p:cNvPicPr/>
            <p:nvPr/>
          </p:nvPicPr>
          <p:blipFill>
            <a:blip r:embed="rId1"/>
            <a:stretch/>
          </p:blipFill>
          <p:spPr>
            <a:xfrm>
              <a:off x="5421240" y="1692360"/>
              <a:ext cx="440496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6884280" y="1844280"/>
              <a:ext cx="2768400" cy="3732120"/>
            </a:xfrm>
            <a:custGeom>
              <a:avLst/>
              <a:gdLst/>
              <a:ahLst/>
              <a:rect l="l" t="t" r="r" b="b"/>
              <a:pathLst>
                <a:path w="1390" h="2029">
                  <a:moveTo>
                    <a:pt x="12" y="0"/>
                  </a:moveTo>
                  <a:lnTo>
                    <a:pt x="12" y="804"/>
                  </a:lnTo>
                  <a:lnTo>
                    <a:pt x="582" y="797"/>
                  </a:lnTo>
                  <a:lnTo>
                    <a:pt x="582" y="1726"/>
                  </a:lnTo>
                  <a:lnTo>
                    <a:pt x="2" y="1724"/>
                  </a:lnTo>
                  <a:lnTo>
                    <a:pt x="0" y="2029"/>
                  </a:lnTo>
                  <a:lnTo>
                    <a:pt x="1387" y="2024"/>
                  </a:lnTo>
                  <a:lnTo>
                    <a:pt x="1390" y="1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57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24600" y="5005080"/>
              <a:ext cx="823680" cy="571320"/>
            </a:xfrm>
            <a:prstGeom prst="rect">
              <a:avLst/>
            </a:prstGeom>
            <a:noFill/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omain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w/ On-chip Re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240" y="2255400"/>
              <a:ext cx="248652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  <a:ea typeface="ＭＳ Ｐゴシック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  <a:ea typeface="ＭＳ Ｐゴシック"/>
                </a:rPr>
                <a:t>Domai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  <a:ea typeface="ＭＳ Ｐゴシック"/>
                </a:rPr>
                <a:t>w/ On-chip Re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35800" y="3755880"/>
              <a:ext cx="21024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Arial"/>
                  <a:ea typeface="ＭＳ Ｐゴシック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Arial"/>
                  <a:ea typeface="ＭＳ Ｐゴシック"/>
                </a:rPr>
                <a:t>Domai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000" spc="-1" strike="noStrike">
                  <a:solidFill>
                    <a:srgbClr val="ccffff"/>
                  </a:solidFill>
                  <a:latin typeface="Arial"/>
                  <a:ea typeface="ＭＳ Ｐゴシック"/>
                </a:rPr>
                <a:t>w/ On-chip Re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08440" y="3379680"/>
              <a:ext cx="2357280" cy="1572840"/>
            </a:xfrm>
            <a:prstGeom prst="rect">
              <a:avLst/>
            </a:prstGeom>
            <a:noFill/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79200" y="58723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p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903360" y="58532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p 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28760" y="836640"/>
            <a:ext cx="9080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 in the path dela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introducing the new timing closure methodology in the P&amp;R stage, path delay distributions of setup and hold are substantially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66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ults of the New Timing Closure Methodolo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5288040" y="2430360"/>
          <a:ext cx="3943440" cy="38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8040" y="2430360"/>
                    <a:ext cx="394344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5264280" y="3940200"/>
            <a:ext cx="397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9056520" y="33634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19960" y="350820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i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10200" y="5740560"/>
            <a:ext cx="17938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27960" y="5740560"/>
            <a:ext cx="17938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576760" y="4660920"/>
            <a:ext cx="3276360" cy="1081080"/>
            <a:chOff x="5576760" y="4660920"/>
            <a:chExt cx="3276360" cy="1081080"/>
          </a:xfrm>
        </p:grpSpPr>
        <p:sp>
          <p:nvSpPr>
            <p:cNvPr id="621" name=""/>
            <p:cNvSpPr/>
            <p:nvPr/>
          </p:nvSpPr>
          <p:spPr>
            <a:xfrm>
              <a:off x="5576760" y="4660920"/>
              <a:ext cx="3276360" cy="504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47% decreas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65200" y="5237280"/>
              <a:ext cx="2575080" cy="504720"/>
            </a:xfrm>
            <a:custGeom>
              <a:avLst/>
              <a:gdLst>
                <a:gd name="textAreaLeft" fmla="*/ 450360 w 2575080"/>
                <a:gd name="textAreaRight" fmla="*/ 1866960 w 257508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750960" y="2430360"/>
          <a:ext cx="3943440" cy="379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960" y="2430360"/>
                    <a:ext cx="394344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708120" y="3622680"/>
            <a:ext cx="397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521240" y="305712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65600" y="3147840"/>
            <a:ext cx="16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i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31800" y="5732640"/>
            <a:ext cx="17938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94040" y="5732640"/>
            <a:ext cx="179388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255680" y="4653000"/>
            <a:ext cx="2885760" cy="1081080"/>
            <a:chOff x="1255680" y="4653000"/>
            <a:chExt cx="2885760" cy="1081080"/>
          </a:xfrm>
        </p:grpSpPr>
        <p:sp>
          <p:nvSpPr>
            <p:cNvPr id="631" name=""/>
            <p:cNvSpPr/>
            <p:nvPr/>
          </p:nvSpPr>
          <p:spPr>
            <a:xfrm>
              <a:off x="1255680" y="4653000"/>
              <a:ext cx="2885760" cy="5047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No 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11920" y="5229360"/>
              <a:ext cx="2574720" cy="504720"/>
            </a:xfrm>
            <a:custGeom>
              <a:avLst/>
              <a:gdLst>
                <a:gd name="textAreaLeft" fmla="*/ 450360 w 2574720"/>
                <a:gd name="textAreaRight" fmla="*/ 1866600 w 257472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timing closure methodology for an SoC with multiple on-chip regulators has been presen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introducing Voltage Conversion Factors (VCF), the proposed methodology does not need a new tool and a specific libra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reflecting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CF to clock uncertainty, the methodology is consistent from the P&amp;R stage to the STA stag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timization for path delay distribution of the design with on-chip regulators is achiev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2560" y="836280"/>
            <a:ext cx="90802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SoC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e power doma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inimize the leakage power, and some SoC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e on-chip regul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inimize supply voltage variation and power consump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is an unaddressed issue in the design of 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 with multiple on-chip voltage regul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using conventional CAD tool, where P&amp;R tool cannot foresee the timing violations in the signoff STA st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propose a novel timing closure methodology, which is consistent from the P&amp;R stage to the signoff STA st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29000" y="372420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12560" y="836280"/>
            <a:ext cx="90802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variation of voltage between launch and capture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iming Analysis in Single-supply Desig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287360" y="227160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9000" y="3135240"/>
            <a:ext cx="936720" cy="1224000"/>
          </a:xfrm>
          <a:custGeom>
            <a:avLst/>
            <a:gdLst>
              <a:gd name="textAreaLeft" fmla="*/ 22320 w 936720"/>
              <a:gd name="textAreaRight" fmla="*/ 914400 w 936720"/>
              <a:gd name="textAreaTop" fmla="*/ 22320 h 1224000"/>
              <a:gd name="textAreaBottom" fmla="*/ 1201680 h 1224000"/>
            </a:gdLst>
            <a:ahLst/>
            <a:rect l="textAreaLeft" t="textAreaTop" r="textAreaRight" b="textAreaBottom"/>
            <a:pathLst>
              <a:path w="21600" h="28222">
                <a:moveTo>
                  <a:pt x="1780" y="0"/>
                </a:moveTo>
                <a:arcTo wR="1780" hR="1780" stAng="16200000" swAng="-5400000"/>
                <a:lnTo>
                  <a:pt x="0" y="26442"/>
                </a:lnTo>
                <a:arcTo wR="1780" hR="1780" stAng="10800000" swAng="-5400000"/>
                <a:lnTo>
                  <a:pt x="19820" y="28222"/>
                </a:lnTo>
                <a:arcTo wR="1780" hR="1780" stAng="5400000" swAng="-5400000"/>
                <a:lnTo>
                  <a:pt x="21600" y="1780"/>
                </a:lnTo>
                <a:arcTo wR="1780" hR="1780" stAng="0" swAng="-5400000"/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6920" y="227160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5720" y="2271600"/>
            <a:ext cx="37450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760" y="4503600"/>
            <a:ext cx="3821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60" y="19177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7360" y="414972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2487600"/>
            <a:ext cx="933480" cy="1871640"/>
          </a:xfrm>
          <a:custGeom>
            <a:avLst/>
            <a:gdLst>
              <a:gd name="textAreaLeft" fmla="*/ 21240 w 933480"/>
              <a:gd name="textAreaRight" fmla="*/ 912240 w 933480"/>
              <a:gd name="textAreaTop" fmla="*/ 21240 h 1871640"/>
              <a:gd name="textAreaBottom" fmla="*/ 1850400 h 1871640"/>
            </a:gdLst>
            <a:ahLst/>
            <a:rect l="textAreaLeft" t="textAreaTop" r="textAreaRight" b="textAreaBottom"/>
            <a:pathLst>
              <a:path w="21600" h="43300">
                <a:moveTo>
                  <a:pt x="1695" y="0"/>
                </a:moveTo>
                <a:arcTo wR="1695" hR="1695" stAng="16200000" swAng="-5400000"/>
                <a:lnTo>
                  <a:pt x="0" y="41605"/>
                </a:lnTo>
                <a:arcTo wR="1695" hR="1695" stAng="10800000" swAng="-5400000"/>
                <a:lnTo>
                  <a:pt x="19905" y="43300"/>
                </a:lnTo>
                <a:arcTo wR="1695" hR="1695" stAng="5400000" swAng="-5400000"/>
                <a:lnTo>
                  <a:pt x="21600" y="1695"/>
                </a:lnTo>
                <a:arcTo wR="1695" hR="1695" stAng="0" swAng="-5400000"/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9000" y="2487600"/>
            <a:ext cx="2419560" cy="647640"/>
          </a:xfrm>
          <a:prstGeom prst="roundRect">
            <a:avLst>
              <a:gd name="adj" fmla="val 5444"/>
            </a:avLst>
          </a:prstGeom>
          <a:solidFill>
            <a:srgbClr val="ccff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9000" y="3135240"/>
            <a:ext cx="936720" cy="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01640" y="2836800"/>
            <a:ext cx="240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35280" y="327924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3279600"/>
            <a:ext cx="117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160800" y="33512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3279600"/>
            <a:ext cx="1263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440" y="2644920"/>
            <a:ext cx="588960" cy="706320"/>
            <a:chOff x="3430440" y="2644920"/>
            <a:chExt cx="588960" cy="706320"/>
          </a:xfrm>
        </p:grpSpPr>
        <p:sp>
          <p:nvSpPr>
            <p:cNvPr id="109" name=""/>
            <p:cNvSpPr/>
            <p:nvPr/>
          </p:nvSpPr>
          <p:spPr>
            <a:xfrm>
              <a:off x="3430440" y="2644920"/>
              <a:ext cx="588960" cy="706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36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F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9520" y="3265560"/>
              <a:ext cx="210960" cy="85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706920" y="33512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7960" y="3867120"/>
            <a:ext cx="148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7360" y="33512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33640" y="3495600"/>
            <a:ext cx="31248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6320" y="2631960"/>
            <a:ext cx="625320" cy="719280"/>
            <a:chOff x="976320" y="2631960"/>
            <a:chExt cx="625320" cy="719280"/>
          </a:xfrm>
        </p:grpSpPr>
        <p:sp>
          <p:nvSpPr>
            <p:cNvPr id="116" name=""/>
            <p:cNvSpPr/>
            <p:nvPr/>
          </p:nvSpPr>
          <p:spPr>
            <a:xfrm>
              <a:off x="976320" y="2631960"/>
              <a:ext cx="6253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36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F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187640" y="3264120"/>
              <a:ext cx="223920" cy="86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rot="5400000">
            <a:off x="1845000" y="2691360"/>
            <a:ext cx="288720" cy="31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2315520" y="2691720"/>
            <a:ext cx="288720" cy="31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784600" y="2690640"/>
            <a:ext cx="288720" cy="314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33640" y="3855960"/>
            <a:ext cx="31248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51400" y="3495600"/>
            <a:ext cx="31248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51400" y="3855960"/>
            <a:ext cx="312480" cy="289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9000" y="185112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9000" y="250020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00440" y="1484280"/>
            <a:ext cx="343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tup Tim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4520" y="1811160"/>
            <a:ext cx="0" cy="13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1840" y="3284640"/>
            <a:ext cx="343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old Tim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9000" y="430056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5013360"/>
            <a:ext cx="9518760" cy="1295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 Slac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on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MIN(CLK Cycle Delay + Capture Path Del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–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(Launch Path Del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d Slac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conv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MIN(Launch Path Delay) – MAX(Capture Path Del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4520" y="1917720"/>
            <a:ext cx="195120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. CLK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520" y="2492280"/>
            <a:ext cx="351000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. 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05720" y="1917720"/>
            <a:ext cx="194940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. 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4520" y="3716280"/>
            <a:ext cx="257364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. 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Be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4520" y="4292640"/>
            <a:ext cx="296568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. 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Be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555120" y="170172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64520" y="1773360"/>
            <a:ext cx="39060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3573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20200" y="3573360"/>
            <a:ext cx="0" cy="1008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29600" y="3645000"/>
            <a:ext cx="39060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18560" y="321300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53480" y="13413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64520" y="1701720"/>
            <a:ext cx="0" cy="865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4520" y="364500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12920" y="836280"/>
            <a:ext cx="949320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space (D/S) at conventional STA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ngle-suppl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Design Space in Dual-supply Desig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415800" y="836640"/>
            <a:ext cx="9293400" cy="53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space (D/S) at conventional STA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al-suppl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icult to close the tim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e to enlarged design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4760" y="521496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04800" y="56181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6840" y="56181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0920" y="5670720"/>
            <a:ext cx="105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0280" y="5670720"/>
            <a:ext cx="106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6080" y="2847960"/>
            <a:ext cx="75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673200" y="4118040"/>
            <a:ext cx="206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68520" y="59007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0844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4160" y="4984920"/>
            <a:ext cx="81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066320" y="2795760"/>
            <a:ext cx="1800" cy="286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5675400"/>
            <a:ext cx="312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66320" y="30844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73600" y="308376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76520" y="2560680"/>
            <a:ext cx="273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5157720"/>
            <a:ext cx="2885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or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04800" y="3084480"/>
            <a:ext cx="2370240" cy="213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13120" y="3025800"/>
            <a:ext cx="125640" cy="1159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320" y="5157720"/>
            <a:ext cx="500040" cy="517320"/>
            <a:chOff x="1066320" y="5157720"/>
            <a:chExt cx="500040" cy="517320"/>
          </a:xfrm>
        </p:grpSpPr>
        <p:sp>
          <p:nvSpPr>
            <p:cNvPr id="167" name=""/>
            <p:cNvSpPr/>
            <p:nvPr/>
          </p:nvSpPr>
          <p:spPr>
            <a:xfrm flipV="1">
              <a:off x="1504800" y="521460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066320" y="521496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1440" y="5157720"/>
              <a:ext cx="12492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754600" y="520236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54640" y="56052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26320" y="56052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0760" y="5657760"/>
            <a:ext cx="105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50120" y="5657760"/>
            <a:ext cx="106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67360" y="2835360"/>
            <a:ext cx="74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18360" y="58881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54600" y="30718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5440" y="4971960"/>
            <a:ext cx="81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816160" y="2782440"/>
            <a:ext cx="1800" cy="286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16520" y="5662440"/>
            <a:ext cx="312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16160" y="30718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23440" y="3071880"/>
            <a:ext cx="0" cy="2590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40720" y="2747880"/>
            <a:ext cx="12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st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53200" y="5157720"/>
            <a:ext cx="3198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or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54640" y="3071880"/>
            <a:ext cx="2370240" cy="213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91280" y="3013200"/>
            <a:ext cx="125280" cy="2186280"/>
            <a:chOff x="6191280" y="3013200"/>
            <a:chExt cx="125280" cy="2186280"/>
          </a:xfrm>
        </p:grpSpPr>
        <p:sp>
          <p:nvSpPr>
            <p:cNvPr id="187" name=""/>
            <p:cNvSpPr/>
            <p:nvPr/>
          </p:nvSpPr>
          <p:spPr>
            <a:xfrm>
              <a:off x="6254640" y="3070800"/>
              <a:ext cx="0" cy="2128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91280" y="3013200"/>
              <a:ext cx="125280" cy="1155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256080" y="5145120"/>
            <a:ext cx="2431800" cy="115920"/>
            <a:chOff x="6256080" y="5145120"/>
            <a:chExt cx="2431800" cy="115920"/>
          </a:xfrm>
        </p:grpSpPr>
        <p:sp>
          <p:nvSpPr>
            <p:cNvPr id="190" name=""/>
            <p:cNvSpPr/>
            <p:nvPr/>
          </p:nvSpPr>
          <p:spPr>
            <a:xfrm flipH="1">
              <a:off x="6256080" y="5202360"/>
              <a:ext cx="236844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62600" y="5145120"/>
              <a:ext cx="125280" cy="1159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624880" y="51498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54640" y="2725560"/>
            <a:ext cx="168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62960" y="3013200"/>
            <a:ext cx="125280" cy="1159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816160" y="5145120"/>
            <a:ext cx="500040" cy="516960"/>
            <a:chOff x="5816160" y="5145120"/>
            <a:chExt cx="500040" cy="516960"/>
          </a:xfrm>
        </p:grpSpPr>
        <p:sp>
          <p:nvSpPr>
            <p:cNvPr id="196" name=""/>
            <p:cNvSpPr/>
            <p:nvPr/>
          </p:nvSpPr>
          <p:spPr>
            <a:xfrm flipV="1">
              <a:off x="6254640" y="5202000"/>
              <a:ext cx="0" cy="460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816160" y="520200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91280" y="5145120"/>
              <a:ext cx="12492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 rot="16200000">
            <a:off x="4090320" y="4116600"/>
            <a:ext cx="20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8040" y="2060640"/>
            <a:ext cx="375120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w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single-suppl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95800" y="2060640"/>
            <a:ext cx="375120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w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dual-suppl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6520" y="3716280"/>
            <a:ext cx="936360" cy="1152720"/>
          </a:xfrm>
          <a:custGeom>
            <a:avLst/>
            <a:gdLst>
              <a:gd name="textAreaLeft" fmla="*/ 146160 w 936360"/>
              <a:gd name="textAreaRight" fmla="*/ 748080 w 936360"/>
              <a:gd name="textAreaTop" fmla="*/ 264960 h 1152720"/>
              <a:gd name="textAreaBottom" fmla="*/ 88776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4969"/>
                </a:moveTo>
                <a:lnTo>
                  <a:pt x="13546" y="4969"/>
                </a:lnTo>
                <a:lnTo>
                  <a:pt x="13546" y="0"/>
                </a:lnTo>
                <a:lnTo>
                  <a:pt x="21600" y="10800"/>
                </a:lnTo>
                <a:lnTo>
                  <a:pt x="13546" y="21600"/>
                </a:lnTo>
                <a:lnTo>
                  <a:pt x="13546" y="16631"/>
                </a:lnTo>
                <a:lnTo>
                  <a:pt x="3375" y="16631"/>
                </a:lnTo>
                <a:close/>
              </a:path>
              <a:path w="21600" h="21600">
                <a:moveTo>
                  <a:pt x="0" y="4969"/>
                </a:moveTo>
                <a:lnTo>
                  <a:pt x="675" y="4969"/>
                </a:lnTo>
                <a:lnTo>
                  <a:pt x="675" y="16631"/>
                </a:lnTo>
                <a:lnTo>
                  <a:pt x="0" y="16631"/>
                </a:lnTo>
                <a:close/>
              </a:path>
              <a:path w="21600" h="21600">
                <a:moveTo>
                  <a:pt x="1350" y="4969"/>
                </a:moveTo>
                <a:lnTo>
                  <a:pt x="2700" y="4969"/>
                </a:lnTo>
                <a:lnTo>
                  <a:pt x="2700" y="16631"/>
                </a:lnTo>
                <a:lnTo>
                  <a:pt x="1350" y="1663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cc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12920" y="836640"/>
            <a:ext cx="94932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space can be narrowed with on-chip regu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89640" y="24224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89640" y="420696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88968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926136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65800" y="4662360"/>
            <a:ext cx="105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885160" y="4662360"/>
            <a:ext cx="102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00600" y="1839960"/>
            <a:ext cx="7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4520" y="4892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76132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6264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4320" y="2244600"/>
            <a:ext cx="687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97920" y="4656240"/>
            <a:ext cx="118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4400" y="4662360"/>
            <a:ext cx="118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8160" y="3510000"/>
            <a:ext cx="563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9640" y="36892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89640" y="20764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978360"/>
            <a:ext cx="81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451200" y="1789200"/>
            <a:ext cx="1800" cy="28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51560" y="4667400"/>
            <a:ext cx="312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451560" y="2076480"/>
            <a:ext cx="3368880" cy="2590200"/>
            <a:chOff x="6451560" y="2076480"/>
            <a:chExt cx="3368880" cy="2590200"/>
          </a:xfrm>
        </p:grpSpPr>
        <p:sp>
          <p:nvSpPr>
            <p:cNvPr id="224" name=""/>
            <p:cNvSpPr/>
            <p:nvPr/>
          </p:nvSpPr>
          <p:spPr>
            <a:xfrm>
              <a:off x="7263000" y="2421720"/>
              <a:ext cx="1496520" cy="1266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451560" y="3630240"/>
              <a:ext cx="2370960" cy="1036440"/>
              <a:chOff x="6451560" y="3630240"/>
              <a:chExt cx="2370960" cy="103644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8759160" y="3688200"/>
                <a:ext cx="1080" cy="97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451560" y="3688200"/>
                <a:ext cx="2309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697600" y="3630240"/>
                <a:ext cx="124920" cy="115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51560" y="2363400"/>
              <a:ext cx="873360" cy="2303280"/>
              <a:chOff x="6451560" y="2363400"/>
              <a:chExt cx="873360" cy="2303280"/>
            </a:xfrm>
          </p:grpSpPr>
          <p:sp>
            <p:nvSpPr>
              <p:cNvPr id="230" name=""/>
              <p:cNvSpPr/>
              <p:nvPr/>
            </p:nvSpPr>
            <p:spPr>
              <a:xfrm>
                <a:off x="7263000" y="2421720"/>
                <a:ext cx="0" cy="224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451560" y="2421360"/>
                <a:ext cx="8114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99640" y="2363400"/>
                <a:ext cx="125280" cy="115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8636040" y="3690000"/>
              <a:ext cx="118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1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, 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63000" y="2076480"/>
              <a:ext cx="118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1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, 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51200" y="4149720"/>
            <a:ext cx="500040" cy="517320"/>
            <a:chOff x="6451200" y="4149720"/>
            <a:chExt cx="500040" cy="517320"/>
          </a:xfrm>
        </p:grpSpPr>
        <p:sp>
          <p:nvSpPr>
            <p:cNvPr id="236" name=""/>
            <p:cNvSpPr/>
            <p:nvPr/>
          </p:nvSpPr>
          <p:spPr>
            <a:xfrm flipV="1">
              <a:off x="6889680" y="420660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51200" y="420696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26320" y="4149720"/>
              <a:ext cx="12492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51200" y="2017800"/>
            <a:ext cx="2871720" cy="2648520"/>
            <a:chOff x="6451200" y="2017800"/>
            <a:chExt cx="2871720" cy="2648520"/>
          </a:xfrm>
        </p:grpSpPr>
        <p:sp>
          <p:nvSpPr>
            <p:cNvPr id="240" name=""/>
            <p:cNvSpPr/>
            <p:nvPr/>
          </p:nvSpPr>
          <p:spPr>
            <a:xfrm flipH="1">
              <a:off x="6451200" y="2076120"/>
              <a:ext cx="280836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258120" y="2076840"/>
              <a:ext cx="0" cy="258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97640" y="2017800"/>
              <a:ext cx="125280" cy="11556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0760" y="0"/>
            <a:ext cx="92235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/S in Dual-supply Design w/ On-chip Regulators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094280" y="5300640"/>
          <a:ext cx="5165640" cy="1247760"/>
        </p:xfrm>
        <a:graphic>
          <a:graphicData uri="http://schemas.openxmlformats.org/drawingml/2006/table">
            <a:tbl>
              <a:tblPr/>
              <a:tblGrid>
                <a:gridCol w="2681280"/>
                <a:gridCol w="1201680"/>
                <a:gridCol w="1282680"/>
              </a:tblGrid>
              <a:tr h="288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utput Vol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gulator of Capture P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gulator of Launch P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1004760" y="24224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04760" y="420696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50480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7684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0920" y="4662360"/>
            <a:ext cx="105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0280" y="4662360"/>
            <a:ext cx="106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6080" y="1839960"/>
            <a:ext cx="75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-739080" y="3177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66720" y="489276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7644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878120" y="460980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440" y="2244600"/>
            <a:ext cx="687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4656240"/>
            <a:ext cx="118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9520" y="4662360"/>
            <a:ext cx="118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3510000"/>
            <a:ext cx="563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4760" y="36892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04760" y="20764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4160" y="3978360"/>
            <a:ext cx="81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1066320" y="1789200"/>
            <a:ext cx="1800" cy="28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4667400"/>
            <a:ext cx="312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75040" y="1746360"/>
            <a:ext cx="1701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st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2880" y="4156200"/>
            <a:ext cx="3618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or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04800" y="2077920"/>
            <a:ext cx="2370240" cy="212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5040" y="4154400"/>
            <a:ext cx="168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4800" y="1731960"/>
            <a:ext cx="1686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066680" y="2017800"/>
            <a:ext cx="2871720" cy="2648520"/>
            <a:chOff x="1066680" y="2017800"/>
            <a:chExt cx="2871720" cy="2648520"/>
          </a:xfrm>
        </p:grpSpPr>
        <p:sp>
          <p:nvSpPr>
            <p:cNvPr id="271" name=""/>
            <p:cNvSpPr/>
            <p:nvPr/>
          </p:nvSpPr>
          <p:spPr>
            <a:xfrm flipH="1">
              <a:off x="1066680" y="2076120"/>
              <a:ext cx="280872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73600" y="2076840"/>
              <a:ext cx="0" cy="258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13120" y="2017800"/>
              <a:ext cx="125280" cy="11556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4661280" y="31759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29000" y="2787480"/>
            <a:ext cx="1092240" cy="1152720"/>
          </a:xfrm>
          <a:custGeom>
            <a:avLst/>
            <a:gdLst>
              <a:gd name="textAreaLeft" fmla="*/ 170640 w 1092240"/>
              <a:gd name="textAreaRight" fmla="*/ 955800 w 109224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cc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555040" y="1731960"/>
            <a:ext cx="1351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24520" y="4227480"/>
            <a:ext cx="14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06600" y="4149720"/>
            <a:ext cx="2431800" cy="115920"/>
            <a:chOff x="1506600" y="4149720"/>
            <a:chExt cx="2431800" cy="115920"/>
          </a:xfrm>
        </p:grpSpPr>
        <p:sp>
          <p:nvSpPr>
            <p:cNvPr id="279" name=""/>
            <p:cNvSpPr/>
            <p:nvPr/>
          </p:nvSpPr>
          <p:spPr>
            <a:xfrm flipH="1">
              <a:off x="1506600" y="4206960"/>
              <a:ext cx="236880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13120" y="4149720"/>
              <a:ext cx="125280" cy="1159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41440" y="2019240"/>
            <a:ext cx="125280" cy="2184840"/>
            <a:chOff x="1441440" y="2019240"/>
            <a:chExt cx="125280" cy="2184840"/>
          </a:xfrm>
        </p:grpSpPr>
        <p:sp>
          <p:nvSpPr>
            <p:cNvPr id="282" name=""/>
            <p:cNvSpPr/>
            <p:nvPr/>
          </p:nvSpPr>
          <p:spPr>
            <a:xfrm>
              <a:off x="1504800" y="2076840"/>
              <a:ext cx="0" cy="21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1440" y="2019240"/>
              <a:ext cx="125280" cy="11556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66320" y="4149720"/>
            <a:ext cx="500040" cy="517320"/>
            <a:chOff x="1066320" y="4149720"/>
            <a:chExt cx="500040" cy="517320"/>
          </a:xfrm>
        </p:grpSpPr>
        <p:sp>
          <p:nvSpPr>
            <p:cNvPr id="285" name=""/>
            <p:cNvSpPr/>
            <p:nvPr/>
          </p:nvSpPr>
          <p:spPr>
            <a:xfrm flipV="1">
              <a:off x="1504800" y="420660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66320" y="420696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1440" y="4149720"/>
              <a:ext cx="12492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44520" y="1274760"/>
            <a:ext cx="375120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w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dual-suppl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84880" y="1274760"/>
            <a:ext cx="375120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w/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on-chip reg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12920" y="836280"/>
            <a:ext cx="92217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ssues are arose with on-chip regula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close the timing using conventional corner libraries with less marg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keep consistency between the timing constraints in the conventional P&amp;R tool and signoff STA t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224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P&amp;R tool cannot handle with the clock tree design of multiple-supp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15800" y="0"/>
            <a:ext cx="907416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sues to be Solved w/ On-chip Regula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"/>
          <p:cNvSpPr/>
          <p:nvPr/>
        </p:nvSpPr>
        <p:spPr>
          <a:xfrm>
            <a:off x="4278240" y="489420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78240" y="547056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05560" y="3032280"/>
            <a:ext cx="0" cy="13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881920" y="471492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81920" y="4786200"/>
            <a:ext cx="3193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66040" y="435456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i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05560" y="3103560"/>
            <a:ext cx="195084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05560" y="4894200"/>
            <a:ext cx="195084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0" y="3103560"/>
            <a:ext cx="202716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05560" y="3679920"/>
            <a:ext cx="3744720" cy="5760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81680" y="263700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ingle-supply Design (P&amp;R s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78240" y="310356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78240" y="3679920"/>
            <a:ext cx="132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01240" y="471492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83560" y="285264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59680" y="2492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350280" y="2852640"/>
            <a:ext cx="0" cy="936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350280" y="2924280"/>
            <a:ext cx="23328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81680" y="442584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al-supply Design (Act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5560" y="4822920"/>
            <a:ext cx="0" cy="13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4080" y="2625840"/>
            <a:ext cx="4231800" cy="3539160"/>
            <a:chOff x="154080" y="2625840"/>
            <a:chExt cx="4231800" cy="3539160"/>
          </a:xfrm>
        </p:grpSpPr>
        <p:sp>
          <p:nvSpPr>
            <p:cNvPr id="313" name=""/>
            <p:cNvSpPr/>
            <p:nvPr/>
          </p:nvSpPr>
          <p:spPr>
            <a:xfrm>
              <a:off x="1294200" y="3452760"/>
              <a:ext cx="0" cy="270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3360" y="4695840"/>
              <a:ext cx="963000" cy="1317240"/>
            </a:xfrm>
            <a:custGeom>
              <a:avLst/>
              <a:gdLst>
                <a:gd name="textAreaLeft" fmla="*/ 23040 w 963000"/>
                <a:gd name="textAreaRight" fmla="*/ 939960 w 963000"/>
                <a:gd name="textAreaTop" fmla="*/ 23040 h 1317240"/>
                <a:gd name="textAreaBottom" fmla="*/ 1294200 h 1317240"/>
              </a:gdLst>
              <a:ahLst/>
              <a:rect l="textAreaLeft" t="textAreaTop" r="textAreaRight" b="textAreaBottom"/>
              <a:pathLst>
                <a:path w="21600" h="29543">
                  <a:moveTo>
                    <a:pt x="1780" y="0"/>
                  </a:moveTo>
                  <a:arcTo wR="1780" hR="1780" stAng="16200000" swAng="-5400000"/>
                  <a:lnTo>
                    <a:pt x="0" y="27763"/>
                  </a:lnTo>
                  <a:arcTo wR="1780" hR="1780" stAng="10800000" swAng="-5400000"/>
                  <a:lnTo>
                    <a:pt x="19820" y="29543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0960" y="3452760"/>
              <a:ext cx="0" cy="270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4880" y="3452760"/>
              <a:ext cx="377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0720" y="6157800"/>
              <a:ext cx="384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1400" y="3096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4080" y="5796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0240" y="4070160"/>
              <a:ext cx="993960" cy="1942920"/>
            </a:xfrm>
            <a:custGeom>
              <a:avLst/>
              <a:gdLst>
                <a:gd name="textAreaLeft" fmla="*/ 22680 w 993960"/>
                <a:gd name="textAreaRight" fmla="*/ 971280 w 993960"/>
                <a:gd name="textAreaTop" fmla="*/ 22680 h 1942920"/>
                <a:gd name="textAreaBottom" fmla="*/ 1920240 h 1942920"/>
              </a:gdLst>
              <a:ahLst/>
              <a:rect l="textAreaLeft" t="textAreaTop" r="textAreaRight" b="textAreaBottom"/>
              <a:pathLst>
                <a:path w="21600" h="42215">
                  <a:moveTo>
                    <a:pt x="1695" y="0"/>
                  </a:moveTo>
                  <a:arcTo wR="1695" hR="1695" stAng="16200000" swAng="-5400000"/>
                  <a:lnTo>
                    <a:pt x="0" y="40520"/>
                  </a:lnTo>
                  <a:arcTo wR="1695" hR="1695" stAng="10800000" swAng="-5400000"/>
                  <a:lnTo>
                    <a:pt x="19905" y="42215"/>
                  </a:lnTo>
                  <a:arcTo wR="1695" hR="1695" stAng="5400000" swAng="-5400000"/>
                  <a:lnTo>
                    <a:pt x="21600" y="1695"/>
                  </a:lnTo>
                  <a:arcTo wR="1695" hR="1695" stAng="0" swAng="-5400000"/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3360" y="4070160"/>
              <a:ext cx="2396880" cy="625320"/>
            </a:xfrm>
            <a:prstGeom prst="roundRect">
              <a:avLst>
                <a:gd name="adj" fmla="val 5444"/>
              </a:avLst>
            </a:prstGeom>
            <a:solidFill>
              <a:srgbClr val="ff99c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3360" y="4695840"/>
              <a:ext cx="96300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96600" y="4408200"/>
              <a:ext cx="232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821960" y="4836600"/>
              <a:ext cx="0" cy="960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97920" y="4836960"/>
              <a:ext cx="1132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104640" y="4905000"/>
              <a:ext cx="0" cy="891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364200" y="4222440"/>
              <a:ext cx="648000" cy="682560"/>
              <a:chOff x="3364200" y="4222440"/>
              <a:chExt cx="648000" cy="682560"/>
            </a:xfrm>
          </p:grpSpPr>
          <p:sp>
            <p:nvSpPr>
              <p:cNvPr id="328" name=""/>
              <p:cNvSpPr/>
              <p:nvPr/>
            </p:nvSpPr>
            <p:spPr>
              <a:xfrm>
                <a:off x="3364200" y="4222440"/>
                <a:ext cx="648000" cy="682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" rIns="36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F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582720" y="4822200"/>
                <a:ext cx="232200" cy="82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630960" y="4905360"/>
              <a:ext cx="0" cy="83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94200" y="4905360"/>
              <a:ext cx="0" cy="83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144440" y="5043240"/>
              <a:ext cx="302400" cy="280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898560" y="4209840"/>
              <a:ext cx="697320" cy="695160"/>
              <a:chOff x="898560" y="4209840"/>
              <a:chExt cx="697320" cy="695160"/>
            </a:xfrm>
          </p:grpSpPr>
          <p:sp>
            <p:nvSpPr>
              <p:cNvPr id="334" name=""/>
              <p:cNvSpPr/>
              <p:nvPr/>
            </p:nvSpPr>
            <p:spPr>
              <a:xfrm>
                <a:off x="898560" y="4209840"/>
                <a:ext cx="697320" cy="695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36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F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134360" y="4820760"/>
                <a:ext cx="249840" cy="8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rot="5400000">
              <a:off x="1833120" y="4268160"/>
              <a:ext cx="277560" cy="30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2287440" y="4267800"/>
              <a:ext cx="277560" cy="30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740680" y="4267080"/>
              <a:ext cx="277560" cy="302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144440" y="5392440"/>
              <a:ext cx="3024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480480" y="5043240"/>
              <a:ext cx="304200" cy="280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480480" y="5392440"/>
              <a:ext cx="3042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3120" y="3555720"/>
              <a:ext cx="1416600" cy="3474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ulato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38320" y="3555720"/>
              <a:ext cx="1413000" cy="3474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ulato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13680" y="4827600"/>
              <a:ext cx="12636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56720" y="5414760"/>
              <a:ext cx="148248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240" y="2625840"/>
              <a:ext cx="1717560" cy="50472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111611"/>
                <a:gd name="adj5" fmla="val 310064"/>
                <a:gd name="adj6" fmla="val 12512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Min. 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Supplie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03000" y="2625840"/>
              <a:ext cx="1714320" cy="50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640" y="4891"/>
                  </a:moveTo>
                  <a:lnTo>
                    <a:pt x="26280" y="4891"/>
                  </a:lnTo>
                  <a:lnTo>
                    <a:pt x="26280" y="56649"/>
                  </a:lnTo>
                  <a:lnTo>
                    <a:pt x="21253" y="681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Max. 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Supplie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56400" y="4894200"/>
            <a:ext cx="132552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5560" y="5470560"/>
            <a:ext cx="359568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12560" y="836280"/>
            <a:ext cx="90802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setup timing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version Factor (VCF) is newly introduced to calculate the timing using the conventional corner libr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66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posed Timing Analysis Methodolog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4249800" y="429408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49800" y="487044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76760" y="4870440"/>
            <a:ext cx="358956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Min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76760" y="2278080"/>
            <a:ext cx="195120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76760" y="4294080"/>
            <a:ext cx="195120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K Cycl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7960" y="2278080"/>
            <a:ext cx="2027160" cy="576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76760" y="2854440"/>
            <a:ext cx="3745080" cy="5760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Worst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96840" y="2493360"/>
            <a:ext cx="4231800" cy="2954160"/>
            <a:chOff x="96840" y="2493360"/>
            <a:chExt cx="4231800" cy="2954160"/>
          </a:xfrm>
        </p:grpSpPr>
        <p:sp>
          <p:nvSpPr>
            <p:cNvPr id="360" name=""/>
            <p:cNvSpPr/>
            <p:nvPr/>
          </p:nvSpPr>
          <p:spPr>
            <a:xfrm>
              <a:off x="1236960" y="2849760"/>
              <a:ext cx="0" cy="25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6120" y="4092480"/>
              <a:ext cx="963000" cy="1182960"/>
            </a:xfrm>
            <a:custGeom>
              <a:avLst/>
              <a:gdLst>
                <a:gd name="textAreaLeft" fmla="*/ 23040 w 963000"/>
                <a:gd name="textAreaRight" fmla="*/ 939960 w 963000"/>
                <a:gd name="textAreaTop" fmla="*/ 23040 h 1182960"/>
                <a:gd name="textAreaBottom" fmla="*/ 1159920 h 1182960"/>
              </a:gdLst>
              <a:ahLst/>
              <a:rect l="textAreaLeft" t="textAreaTop" r="textAreaRight" b="textAreaBottom"/>
              <a:pathLst>
                <a:path w="21600" h="26532">
                  <a:moveTo>
                    <a:pt x="1780" y="0"/>
                  </a:moveTo>
                  <a:arcTo wR="1780" hR="1780" stAng="16200000" swAng="-5400000"/>
                  <a:lnTo>
                    <a:pt x="0" y="24752"/>
                  </a:lnTo>
                  <a:arcTo wR="1780" hR="1780" stAng="10800000" swAng="-5400000"/>
                  <a:lnTo>
                    <a:pt x="19820" y="26532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3720" y="2849760"/>
              <a:ext cx="0" cy="254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7640" y="2849760"/>
              <a:ext cx="377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840" y="5416560"/>
              <a:ext cx="384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4520" y="249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6840" y="5079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23360" y="3467160"/>
              <a:ext cx="993240" cy="1808280"/>
            </a:xfrm>
            <a:custGeom>
              <a:avLst/>
              <a:gdLst>
                <a:gd name="textAreaLeft" fmla="*/ 22680 w 993240"/>
                <a:gd name="textAreaRight" fmla="*/ 970560 w 993240"/>
                <a:gd name="textAreaTop" fmla="*/ 22680 h 1808280"/>
                <a:gd name="textAreaBottom" fmla="*/ 1785600 h 1808280"/>
              </a:gdLst>
              <a:ahLst/>
              <a:rect l="textAreaLeft" t="textAreaTop" r="textAreaRight" b="textAreaBottom"/>
              <a:pathLst>
                <a:path w="21600" h="39318">
                  <a:moveTo>
                    <a:pt x="1695" y="0"/>
                  </a:moveTo>
                  <a:arcTo wR="1695" hR="1695" stAng="16200000" swAng="-5400000"/>
                  <a:lnTo>
                    <a:pt x="0" y="37623"/>
                  </a:lnTo>
                  <a:arcTo wR="1695" hR="1695" stAng="10800000" swAng="-5400000"/>
                  <a:lnTo>
                    <a:pt x="19905" y="39318"/>
                  </a:lnTo>
                  <a:arcTo wR="1695" hR="1695" stAng="5400000" swAng="-5400000"/>
                  <a:lnTo>
                    <a:pt x="21600" y="1695"/>
                  </a:lnTo>
                  <a:arcTo wR="1695" hR="1695" stAng="0" swAng="-5400000"/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6120" y="3467160"/>
              <a:ext cx="2397240" cy="625320"/>
            </a:xfrm>
            <a:prstGeom prst="roundRect">
              <a:avLst>
                <a:gd name="adj" fmla="val 5444"/>
              </a:avLst>
            </a:prstGeom>
            <a:solidFill>
              <a:srgbClr val="ff99cc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120" y="4092480"/>
              <a:ext cx="96300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539360" y="3805200"/>
              <a:ext cx="232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764720" y="4233600"/>
              <a:ext cx="0" cy="1041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40680" y="4233960"/>
              <a:ext cx="1132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047760" y="4302000"/>
              <a:ext cx="0" cy="973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306960" y="3619440"/>
              <a:ext cx="648000" cy="682920"/>
              <a:chOff x="3306960" y="3619440"/>
              <a:chExt cx="648000" cy="682920"/>
            </a:xfrm>
          </p:grpSpPr>
          <p:sp>
            <p:nvSpPr>
              <p:cNvPr id="375" name=""/>
              <p:cNvSpPr/>
              <p:nvPr/>
            </p:nvSpPr>
            <p:spPr>
              <a:xfrm>
                <a:off x="3306960" y="3619440"/>
                <a:ext cx="648000" cy="682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" rIns="36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F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525480" y="4219560"/>
                <a:ext cx="232200" cy="82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573720" y="4302360"/>
              <a:ext cx="0" cy="83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36960" y="4302360"/>
              <a:ext cx="0" cy="83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086480" y="4440240"/>
              <a:ext cx="302760" cy="281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841320" y="3606840"/>
              <a:ext cx="697320" cy="695520"/>
              <a:chOff x="841320" y="3606840"/>
              <a:chExt cx="697320" cy="695520"/>
            </a:xfrm>
          </p:grpSpPr>
          <p:sp>
            <p:nvSpPr>
              <p:cNvPr id="381" name=""/>
              <p:cNvSpPr/>
              <p:nvPr/>
            </p:nvSpPr>
            <p:spPr>
              <a:xfrm>
                <a:off x="841320" y="3606840"/>
                <a:ext cx="697320" cy="695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36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F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077120" y="4218120"/>
                <a:ext cx="249840" cy="83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rot="5400000">
              <a:off x="1776240" y="3665160"/>
              <a:ext cx="277920" cy="30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2230200" y="3665160"/>
              <a:ext cx="277920" cy="30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5400000">
              <a:off x="2683440" y="3664440"/>
              <a:ext cx="277920" cy="302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086480" y="4789440"/>
              <a:ext cx="30276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3423240" y="4440240"/>
              <a:ext cx="304200" cy="281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423240" y="4789440"/>
              <a:ext cx="3042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5880" y="2952720"/>
              <a:ext cx="1416600" cy="34776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ulato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81080" y="2952720"/>
              <a:ext cx="1413360" cy="3477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gulato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6440" y="4224240"/>
              <a:ext cx="12636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99840" y="4811760"/>
              <a:ext cx="1482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6000"/>
                </a:lnSpc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249800" y="2278080"/>
            <a:ext cx="1325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49800" y="2854440"/>
            <a:ext cx="132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680" y="1989000"/>
            <a:ext cx="1719360" cy="50508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11611"/>
              <a:gd name="adj5" fmla="val 322328"/>
              <a:gd name="adj6" fmla="val 12502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upplie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78160" y="1989000"/>
            <a:ext cx="171432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0" y="4891"/>
                </a:moveTo>
                <a:lnTo>
                  <a:pt x="25868" y="4891"/>
                </a:lnTo>
                <a:lnTo>
                  <a:pt x="25868" y="59638"/>
                </a:lnTo>
                <a:lnTo>
                  <a:pt x="20538" y="7179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x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upplie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21760" y="1628640"/>
            <a:ext cx="1168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x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apture_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3680" y="5589720"/>
            <a:ext cx="9518760" cy="792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 Slac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u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MIN(CLK Cycle Delay + Capture Path Delay                    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–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(Launch Path Delay                    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27960" y="4294080"/>
            <a:ext cx="132552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@ Max.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76760" y="2170080"/>
            <a:ext cx="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17748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ingle-supply 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3789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ual-supply 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76760" y="4186080"/>
            <a:ext cx="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47040" y="5648400"/>
            <a:ext cx="18698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21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apture_s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50040" y="5950080"/>
            <a:ext cx="1950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x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VCF</a:t>
            </a:r>
            <a:r>
              <a:rPr b="1" lang="en-US" sz="2100" spc="-1" strike="noStrike" baseline="-25000">
                <a:solidFill>
                  <a:srgbClr val="0000ff"/>
                </a:solidFill>
                <a:latin typeface="Arial"/>
                <a:ea typeface="ＭＳ Ｐゴシック"/>
              </a:rPr>
              <a:t>Launch_s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555120" y="198900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853480" y="2062080"/>
            <a:ext cx="70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53480" y="1989000"/>
            <a:ext cx="0" cy="2305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321840" y="3430440"/>
            <a:ext cx="0" cy="7923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64520" y="40068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64520" y="4078440"/>
            <a:ext cx="15732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321760" y="3646440"/>
            <a:ext cx="1168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x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VC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ＭＳ Ｐゴシック"/>
              </a:rPr>
              <a:t>Launch_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28760" y="765000"/>
            <a:ext cx="9061200" cy="53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roducing VCF, the condition of conventional corner libraries are shifted to that of worst corner and best corner with on-chip regula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52880" y="5445000"/>
            <a:ext cx="4321440" cy="1152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D/S Covered by Analysi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676840" y="26384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76840" y="44388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176880" y="479556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548560" y="479556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53000" y="4848120"/>
            <a:ext cx="105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72360" y="4848120"/>
            <a:ext cx="102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89600" y="2025720"/>
            <a:ext cx="74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1720" y="507852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048520" y="479556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581880" y="479556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30640" y="251784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86560" y="4842000"/>
            <a:ext cx="118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51600" y="4848120"/>
            <a:ext cx="118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76800" y="3695760"/>
            <a:ext cx="5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76840" y="38750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76840" y="226224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27680" y="4164120"/>
            <a:ext cx="81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5734080" y="1990800"/>
            <a:ext cx="1440" cy="28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38760" y="4853160"/>
            <a:ext cx="312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744880" y="2205000"/>
            <a:ext cx="2871720" cy="2648520"/>
            <a:chOff x="5744880" y="2205000"/>
            <a:chExt cx="2871720" cy="2648520"/>
          </a:xfrm>
        </p:grpSpPr>
        <p:sp>
          <p:nvSpPr>
            <p:cNvPr id="436" name=""/>
            <p:cNvSpPr/>
            <p:nvPr/>
          </p:nvSpPr>
          <p:spPr>
            <a:xfrm flipH="1">
              <a:off x="5744880" y="2263320"/>
              <a:ext cx="280836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51800" y="2264040"/>
              <a:ext cx="0" cy="258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91320" y="2205000"/>
              <a:ext cx="125280" cy="11556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004760" y="263988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04760" y="442440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504800" y="48272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76840" y="48272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0920" y="4879800"/>
            <a:ext cx="105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00280" y="4879800"/>
            <a:ext cx="106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6080" y="2057400"/>
            <a:ext cx="750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-734400" y="33570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28840" y="51354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376440" y="48272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878120" y="48272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9440" y="2462040"/>
            <a:ext cx="687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6520" y="4896000"/>
            <a:ext cx="118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63680" y="4896000"/>
            <a:ext cx="118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280" y="3727440"/>
            <a:ext cx="563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04760" y="386856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04760" y="2293920"/>
            <a:ext cx="12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4160" y="4195800"/>
            <a:ext cx="81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1052640" y="1996920"/>
            <a:ext cx="1440" cy="28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51920" y="4876920"/>
            <a:ext cx="3120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2880" y="4365720"/>
            <a:ext cx="3618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or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52280" y="4365720"/>
            <a:ext cx="500040" cy="516960"/>
            <a:chOff x="1052280" y="4365720"/>
            <a:chExt cx="500040" cy="516960"/>
          </a:xfrm>
        </p:grpSpPr>
        <p:sp>
          <p:nvSpPr>
            <p:cNvPr id="461" name=""/>
            <p:cNvSpPr/>
            <p:nvPr/>
          </p:nvSpPr>
          <p:spPr>
            <a:xfrm flipV="1">
              <a:off x="1490760" y="4422600"/>
              <a:ext cx="0" cy="460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052280" y="4422600"/>
              <a:ext cx="438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27400" y="4365720"/>
              <a:ext cx="12492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22440" y="2284560"/>
            <a:ext cx="1870200" cy="15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392640" y="3867840"/>
            <a:ext cx="2880" cy="1008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052640" y="3868560"/>
            <a:ext cx="2342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16320" y="3797280"/>
            <a:ext cx="1555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91240" y="2638440"/>
            <a:ext cx="195120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81880" y="2613960"/>
            <a:ext cx="0" cy="223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5733720" y="2638080"/>
            <a:ext cx="85716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13480" y="2565360"/>
            <a:ext cx="1555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542440" y="191772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st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590880" y="227808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92520" y="2205000"/>
            <a:ext cx="2183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Launch_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91240" y="2278080"/>
            <a:ext cx="0" cy="301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1000" y="443880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98040" y="3965400"/>
            <a:ext cx="1628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apture_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36760" y="3938760"/>
            <a:ext cx="2184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Launch_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392640" y="3933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87960" y="2638440"/>
            <a:ext cx="148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70400" y="3502080"/>
            <a:ext cx="148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0160" y="1413000"/>
            <a:ext cx="432108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Cover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st Setu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413000"/>
            <a:ext cx="4321440" cy="431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/S Cover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est Hol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60" y="5445000"/>
            <a:ext cx="4321080" cy="1152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45960" y="5445000"/>
                <a:ext cx="3598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tur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15800" y="6013440"/>
                <a:ext cx="3489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unc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189400" y="5425920"/>
                <a:ext cx="3651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tur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208480" y="6021360"/>
                <a:ext cx="3824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unc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ellDelay</m:t>
                            </m:r>
                            <m:r>
                              <m:t xml:space="preserve">@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6591240" y="1779480"/>
            <a:ext cx="196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VCF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Capture_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12920" y="836280"/>
            <a:ext cx="949320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combination of setup and hold timing analysis, the design space is covered exac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11120" y="0"/>
            <a:ext cx="90820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D/S of Setup and Hold Timing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500800" y="2565360"/>
          <a:ext cx="4140000" cy="2016000"/>
        </p:xfrm>
        <a:graphic>
          <a:graphicData uri="http://schemas.openxmlformats.org/drawingml/2006/table">
            <a:tbl>
              <a:tblPr/>
              <a:tblGrid>
                <a:gridCol w="1636560"/>
                <a:gridCol w="1200240"/>
                <a:gridCol w="130320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utput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gulator of Capture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gulator of Launch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363680" y="230508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63680" y="40892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863720" y="44924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235400" y="44924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39840" y="4545000"/>
            <a:ext cx="105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9200" y="4545000"/>
            <a:ext cx="106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6440" y="1722600"/>
            <a:ext cx="74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6200000">
            <a:off x="-374040" y="3021840"/>
            <a:ext cx="21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unch Pa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89200" y="480060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Path V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705120" y="44924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236680" y="449244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9800" y="212724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5080" y="4560840"/>
            <a:ext cx="118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24040" y="4560840"/>
            <a:ext cx="118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63640" y="3392640"/>
            <a:ext cx="5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63680" y="353376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63680" y="195912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4520" y="3860640"/>
            <a:ext cx="81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1410840" y="1662120"/>
            <a:ext cx="3240" cy="28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1200" y="4541760"/>
            <a:ext cx="3122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01800" y="4030560"/>
            <a:ext cx="3619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orst Corner 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410840" y="4030560"/>
            <a:ext cx="501840" cy="517320"/>
            <a:chOff x="1410840" y="4030560"/>
            <a:chExt cx="501840" cy="517320"/>
          </a:xfrm>
        </p:grpSpPr>
        <p:sp>
          <p:nvSpPr>
            <p:cNvPr id="515" name=""/>
            <p:cNvSpPr/>
            <p:nvPr/>
          </p:nvSpPr>
          <p:spPr>
            <a:xfrm flipV="1">
              <a:off x="1850760" y="408744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410840" y="4087800"/>
              <a:ext cx="439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87040" y="4030560"/>
              <a:ext cx="125640" cy="11520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833480" y="1951200"/>
            <a:ext cx="1871640" cy="158400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22640" y="2311560"/>
            <a:ext cx="2028600" cy="1800000"/>
          </a:xfrm>
          <a:prstGeom prst="rect">
            <a:avLst/>
          </a:prstGeom>
          <a:blipFill rotWithShape="0">
            <a:blip r:embed="rId2">
              <a:alphaModFix amt="80000"/>
            </a:blip>
            <a:srcRect/>
            <a:tile tx="0" ty="0" sx="100000" sy="100000" algn="ctr"/>
          </a:blip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22640" y="23115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363680" y="2311560"/>
            <a:ext cx="8589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704760" y="3535200"/>
            <a:ext cx="1800" cy="1046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363680" y="3535200"/>
            <a:ext cx="22622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144880" y="2238480"/>
            <a:ext cx="1637640" cy="1368000"/>
            <a:chOff x="2144880" y="2238480"/>
            <a:chExt cx="1637640" cy="1368000"/>
          </a:xfrm>
        </p:grpSpPr>
        <p:sp>
          <p:nvSpPr>
            <p:cNvPr id="525" name=""/>
            <p:cNvSpPr/>
            <p:nvPr/>
          </p:nvSpPr>
          <p:spPr>
            <a:xfrm>
              <a:off x="2208600" y="2295000"/>
              <a:ext cx="1511640" cy="125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4880" y="2238480"/>
              <a:ext cx="126360" cy="1141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56520" y="3492360"/>
              <a:ext cx="126000" cy="1141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442880" y="1893960"/>
            <a:ext cx="2871720" cy="2648520"/>
            <a:chOff x="1442880" y="1893960"/>
            <a:chExt cx="2871720" cy="2648520"/>
          </a:xfrm>
        </p:grpSpPr>
        <p:sp>
          <p:nvSpPr>
            <p:cNvPr id="529" name=""/>
            <p:cNvSpPr/>
            <p:nvPr/>
          </p:nvSpPr>
          <p:spPr>
            <a:xfrm flipH="1">
              <a:off x="1442880" y="1952280"/>
              <a:ext cx="280872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49800" y="1953000"/>
              <a:ext cx="0" cy="258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89320" y="1893960"/>
              <a:ext cx="125280" cy="115560"/>
            </a:xfrm>
            <a:prstGeom prst="ellipse">
              <a:avLst/>
            </a:prstGeom>
            <a:solidFill>
              <a:srgbClr val="3366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4249800" y="1628640"/>
            <a:ext cx="2106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est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f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11240" y="231156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05120" y="3168720"/>
            <a:ext cx="14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3680" y="5229360"/>
            <a:ext cx="9518760" cy="1008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tion of the VCF to the timing constraints of the conventional P&amp;R tool is the key to establish the consistent design flow from P&amp;R stage to signoff STA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720" y="3813120"/>
            <a:ext cx="18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Hold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88400" y="165276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st Setup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2:14:01Z</dcterms:created>
  <dc:creator>Tatsuo Shiozawa</dc:creator>
  <dc:description/>
  <dc:language>en-US</dc:language>
  <cp:lastModifiedBy>Tatsuo Shiozawa</cp:lastModifiedBy>
  <dcterms:modified xsi:type="dcterms:W3CDTF">2010-05-08T02:21:53Z</dcterms:modified>
  <cp:revision>580</cp:revision>
  <dc:subject/>
  <dc:title>Presentation title (on one or two lines)</dc:title>
</cp:coreProperties>
</file>