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7770-2588-46B6-9D5C-901765182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48120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AA6A-1A08-4136-84C8-4B1F35283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9920" y="144288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48120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9920" y="348120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C228-FC21-46AE-8D45-008200C61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4520" y="144288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3600" y="144288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48120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4520" y="348120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3600" y="348120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ED1D-CD88-4334-B0B1-1E6A2EE8E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440" y="144288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44288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4080" y="53784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288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48120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44288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AD99-E4C1-48F5-910E-2588F19EF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288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9920" y="348120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44288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48120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440" y="348120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44288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348120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9920" y="348120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4520" y="144288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3600" y="144288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440" y="348120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4520" y="348120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3600" y="348120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83A9-9305-458B-BF1B-DEFFF42E4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44288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C5A2-0B48-4902-8209-43B6ADF89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2CC4-2659-4CE1-B2F1-8FBCB4655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4080" y="53784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1788-4484-4D93-9943-A07790AC1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44288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48120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C8A8-9934-4F96-BBC4-FFBB066E3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44288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9920" y="348120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85F9-51D7-4A73-9572-C7932BF55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44288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48120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EE19-68CB-4B18-AA23-43DAD7AF8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44288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90720" y="77760"/>
            <a:ext cx="7392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tistical Timing in 32nm with Industry Standard Models: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Netrabile, Buck, For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910280" y="6500520"/>
            <a:ext cx="100620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D1D2-CE37-4B87-BFB7-B629AD2DE04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7560" y="6500520"/>
            <a:ext cx="3811320" cy="2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2010 Design Automation Co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90720" y="146160"/>
            <a:ext cx="0" cy="23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720" y="648000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3565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456840" y="6248520"/>
            <a:ext cx="3887640" cy="3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2010 Design Automation Confer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71640" y="6248520"/>
            <a:ext cx="2228760" cy="3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11120" y="1347480"/>
            <a:ext cx="0" cy="32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24560" y="6270480"/>
            <a:ext cx="15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10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-227160" algn="ctr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451"/>
              </a:spcBef>
              <a:buClr>
                <a:srgbClr val="2db6b3"/>
              </a:buClr>
              <a:buFont typeface="Arial"/>
              <a:buChar char="&gt;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0240" y="214596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ablement of Statistical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ic Timing Sign-off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thodology Using Industry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ndard Liberty Timing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dels for 32n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98600" y="4106880"/>
            <a:ext cx="640080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leep N. Netrabi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dileepn@us.ibm.co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2db6b3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han C. Buck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nbuck@us.ibm.co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ic A. Forem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eforeman@us.ibm.com)</a:t>
            </a:r>
            <a:endParaRPr b="0" lang="en-US" sz="1800" spc="-1" strike="noStrike">
              <a:solidFill>
                <a:srgbClr val="2db6b3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b6b3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M Systems and Technology Group, Essex Junction, V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nsitivity Analysis</a:t>
            </a: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233000"/>
            <a:ext cx="7775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nite Differenc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sed to compute the sensitivity for each source of vari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137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dela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source of variation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rner1, Corner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rocess distribu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from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g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number of standard devi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ints on the parameter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957240" y="2368440"/>
                <a:ext cx="42386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rner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rner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0" name=""/>
          <p:cNvGrpSpPr/>
          <p:nvPr/>
        </p:nvGrpSpPr>
        <p:grpSpPr>
          <a:xfrm>
            <a:off x="5708160" y="2712960"/>
            <a:ext cx="2657160" cy="1420200"/>
            <a:chOff x="5708160" y="2712960"/>
            <a:chExt cx="2657160" cy="1420200"/>
          </a:xfrm>
        </p:grpSpPr>
        <p:grpSp>
          <p:nvGrpSpPr>
            <p:cNvPr id="341" name=""/>
            <p:cNvGrpSpPr/>
            <p:nvPr/>
          </p:nvGrpSpPr>
          <p:grpSpPr>
            <a:xfrm>
              <a:off x="6087960" y="2840040"/>
              <a:ext cx="1898640" cy="736200"/>
              <a:chOff x="6087960" y="2840040"/>
              <a:chExt cx="1898640" cy="736200"/>
            </a:xfrm>
          </p:grpSpPr>
          <p:sp>
            <p:nvSpPr>
              <p:cNvPr id="342" name=""/>
              <p:cNvSpPr/>
              <p:nvPr/>
            </p:nvSpPr>
            <p:spPr>
              <a:xfrm>
                <a:off x="6087960" y="2840040"/>
                <a:ext cx="1808280" cy="729360"/>
              </a:xfrm>
              <a:custGeom>
                <a:avLst/>
                <a:gdLst/>
                <a:ahLst/>
                <a:rect l="l" t="t" r="r" b="b"/>
                <a:pathLst>
                  <a:path w="3872" h="2054">
                    <a:moveTo>
                      <a:pt x="0" y="2053"/>
                    </a:moveTo>
                    <a:cubicBezTo>
                      <a:pt x="78" y="2049"/>
                      <a:pt x="156" y="2046"/>
                      <a:pt x="224" y="2045"/>
                    </a:cubicBezTo>
                    <a:cubicBezTo>
                      <a:pt x="292" y="2044"/>
                      <a:pt x="343" y="2054"/>
                      <a:pt x="408" y="2045"/>
                    </a:cubicBezTo>
                    <a:cubicBezTo>
                      <a:pt x="473" y="2036"/>
                      <a:pt x="551" y="2013"/>
                      <a:pt x="616" y="1989"/>
                    </a:cubicBezTo>
                    <a:cubicBezTo>
                      <a:pt x="681" y="1965"/>
                      <a:pt x="736" y="1945"/>
                      <a:pt x="800" y="1901"/>
                    </a:cubicBezTo>
                    <a:cubicBezTo>
                      <a:pt x="864" y="1857"/>
                      <a:pt x="931" y="1809"/>
                      <a:pt x="1000" y="1725"/>
                    </a:cubicBezTo>
                    <a:cubicBezTo>
                      <a:pt x="1069" y="1641"/>
                      <a:pt x="1151" y="1512"/>
                      <a:pt x="1216" y="1397"/>
                    </a:cubicBezTo>
                    <a:cubicBezTo>
                      <a:pt x="1281" y="1282"/>
                      <a:pt x="1331" y="1166"/>
                      <a:pt x="1392" y="1037"/>
                    </a:cubicBezTo>
                    <a:cubicBezTo>
                      <a:pt x="1453" y="908"/>
                      <a:pt x="1532" y="734"/>
                      <a:pt x="1584" y="621"/>
                    </a:cubicBezTo>
                    <a:cubicBezTo>
                      <a:pt x="1636" y="508"/>
                      <a:pt x="1660" y="438"/>
                      <a:pt x="1704" y="357"/>
                    </a:cubicBezTo>
                    <a:cubicBezTo>
                      <a:pt x="1748" y="276"/>
                      <a:pt x="1801" y="189"/>
                      <a:pt x="1848" y="133"/>
                    </a:cubicBezTo>
                    <a:cubicBezTo>
                      <a:pt x="1895" y="77"/>
                      <a:pt x="1948" y="42"/>
                      <a:pt x="1984" y="21"/>
                    </a:cubicBezTo>
                    <a:cubicBezTo>
                      <a:pt x="2020" y="0"/>
                      <a:pt x="2035" y="1"/>
                      <a:pt x="2064" y="5"/>
                    </a:cubicBezTo>
                    <a:cubicBezTo>
                      <a:pt x="2093" y="9"/>
                      <a:pt x="2119" y="6"/>
                      <a:pt x="2160" y="45"/>
                    </a:cubicBezTo>
                    <a:cubicBezTo>
                      <a:pt x="2201" y="84"/>
                      <a:pt x="2271" y="176"/>
                      <a:pt x="2312" y="237"/>
                    </a:cubicBezTo>
                    <a:cubicBezTo>
                      <a:pt x="2353" y="298"/>
                      <a:pt x="2375" y="350"/>
                      <a:pt x="2408" y="413"/>
                    </a:cubicBezTo>
                    <a:cubicBezTo>
                      <a:pt x="2441" y="476"/>
                      <a:pt x="2475" y="530"/>
                      <a:pt x="2512" y="613"/>
                    </a:cubicBezTo>
                    <a:cubicBezTo>
                      <a:pt x="2549" y="696"/>
                      <a:pt x="2593" y="822"/>
                      <a:pt x="2632" y="909"/>
                    </a:cubicBezTo>
                    <a:cubicBezTo>
                      <a:pt x="2671" y="996"/>
                      <a:pt x="2707" y="1056"/>
                      <a:pt x="2744" y="1133"/>
                    </a:cubicBezTo>
                    <a:cubicBezTo>
                      <a:pt x="2781" y="1210"/>
                      <a:pt x="2820" y="1304"/>
                      <a:pt x="2856" y="1373"/>
                    </a:cubicBezTo>
                    <a:cubicBezTo>
                      <a:pt x="2892" y="1442"/>
                      <a:pt x="2921" y="1492"/>
                      <a:pt x="2960" y="1549"/>
                    </a:cubicBezTo>
                    <a:cubicBezTo>
                      <a:pt x="2999" y="1606"/>
                      <a:pt x="3036" y="1661"/>
                      <a:pt x="3088" y="1717"/>
                    </a:cubicBezTo>
                    <a:cubicBezTo>
                      <a:pt x="3140" y="1773"/>
                      <a:pt x="3209" y="1840"/>
                      <a:pt x="3272" y="1885"/>
                    </a:cubicBezTo>
                    <a:cubicBezTo>
                      <a:pt x="3335" y="1930"/>
                      <a:pt x="3400" y="1965"/>
                      <a:pt x="3464" y="1989"/>
                    </a:cubicBezTo>
                    <a:cubicBezTo>
                      <a:pt x="3528" y="2013"/>
                      <a:pt x="3588" y="2018"/>
                      <a:pt x="3656" y="2029"/>
                    </a:cubicBezTo>
                    <a:cubicBezTo>
                      <a:pt x="3724" y="2040"/>
                      <a:pt x="3798" y="2046"/>
                      <a:pt x="3872" y="2053"/>
                    </a:cubicBezTo>
                  </a:path>
                </a:pathLst>
              </a:custGeom>
              <a:noFill/>
              <a:ln w="442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884720" y="3571920"/>
                <a:ext cx="101880" cy="4320"/>
              </a:xfrm>
              <a:prstGeom prst="line">
                <a:avLst/>
              </a:prstGeom>
              <a:ln w="442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6140520" y="3711600"/>
              <a:ext cx="17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138720" y="3382560"/>
              <a:ext cx="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42320" y="2712960"/>
              <a:ext cx="0" cy="1108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08160" y="3132000"/>
              <a:ext cx="866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orne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927920" y="3381120"/>
              <a:ext cx="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98800" y="3132000"/>
              <a:ext cx="866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orner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95080" y="3733920"/>
              <a:ext cx="31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26520" y="3767040"/>
              <a:ext cx="80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µ - 3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54880" y="3733920"/>
              <a:ext cx="860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µ + 3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 flipV="1">
            <a:off x="5910120" y="435096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86280" y="5292720"/>
            <a:ext cx="2436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40480" y="4154400"/>
            <a:ext cx="592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66160" y="5038560"/>
            <a:ext cx="9320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me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173640" y="4586040"/>
            <a:ext cx="1748160" cy="50940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00640" y="5083200"/>
            <a:ext cx="0" cy="204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53120" y="484992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945560" y="4560840"/>
            <a:ext cx="0" cy="72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3360" y="5305320"/>
            <a:ext cx="300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629120" y="5318280"/>
            <a:ext cx="643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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914800" y="5321160"/>
            <a:ext cx="592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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6886440" y="4403880"/>
            <a:ext cx="468360" cy="46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27080" y="4167360"/>
            <a:ext cx="16815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sitivity of dela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parameter =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/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73880" y="2633760"/>
            <a:ext cx="3439800" cy="3058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6551640" y="4745880"/>
            <a:ext cx="798480" cy="219240"/>
          </a:xfrm>
          <a:custGeom>
            <a:avLst/>
            <a:gdLst/>
            <a:ahLst/>
            <a:rect l="l" t="t" r="r" b="b"/>
            <a:pathLst>
              <a:path w="503" h="138">
                <a:moveTo>
                  <a:pt x="503" y="0"/>
                </a:moveTo>
                <a:lnTo>
                  <a:pt x="0" y="0"/>
                </a:lnTo>
                <a:lnTo>
                  <a:pt x="0" y="138"/>
                </a:lnTo>
                <a:lnTo>
                  <a:pt x="459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7BFF-3345-4275-A34E-6769E67E0CCA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deling Sources of Variation</a:t>
            </a: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242720"/>
            <a:ext cx="8034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erty models at 2 process corners are required for each source of var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sources of variation share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Corner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t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model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‘n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ources of variation, dotlibs @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‘n+1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rne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 sources of vari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, P2, and P3, Liberty model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 corners are requi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source of variation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nite Differenc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used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 sensi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6431040" y="3400560"/>
            <a:ext cx="2217600" cy="221760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002360" y="5502240"/>
            <a:ext cx="1935000" cy="901080"/>
            <a:chOff x="7002360" y="5502240"/>
            <a:chExt cx="1935000" cy="901080"/>
          </a:xfrm>
        </p:grpSpPr>
        <p:grpSp>
          <p:nvGrpSpPr>
            <p:cNvPr id="372" name=""/>
            <p:cNvGrpSpPr/>
            <p:nvPr/>
          </p:nvGrpSpPr>
          <p:grpSpPr>
            <a:xfrm>
              <a:off x="7002360" y="5502240"/>
              <a:ext cx="1751040" cy="195480"/>
              <a:chOff x="7002360" y="5502240"/>
              <a:chExt cx="1751040" cy="195480"/>
            </a:xfrm>
          </p:grpSpPr>
          <p:sp>
            <p:nvSpPr>
              <p:cNvPr id="373" name=""/>
              <p:cNvSpPr/>
              <p:nvPr/>
            </p:nvSpPr>
            <p:spPr>
              <a:xfrm>
                <a:off x="8557920" y="550224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02360" y="5611680"/>
                <a:ext cx="1544400" cy="9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7216560" y="5762880"/>
              <a:ext cx="17208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3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opposite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orner set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917600" y="4834080"/>
            <a:ext cx="2061720" cy="766800"/>
            <a:chOff x="4917600" y="4834080"/>
            <a:chExt cx="2061720" cy="766800"/>
          </a:xfrm>
        </p:grpSpPr>
        <p:grpSp>
          <p:nvGrpSpPr>
            <p:cNvPr id="377" name=""/>
            <p:cNvGrpSpPr/>
            <p:nvPr/>
          </p:nvGrpSpPr>
          <p:grpSpPr>
            <a:xfrm>
              <a:off x="6337440" y="4924440"/>
              <a:ext cx="641880" cy="676440"/>
              <a:chOff x="6337440" y="4924440"/>
              <a:chExt cx="641880" cy="676440"/>
            </a:xfrm>
          </p:grpSpPr>
          <p:sp>
            <p:nvSpPr>
              <p:cNvPr id="378" name=""/>
              <p:cNvSpPr/>
              <p:nvPr/>
            </p:nvSpPr>
            <p:spPr>
              <a:xfrm>
                <a:off x="6337440" y="4924440"/>
                <a:ext cx="19476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 flipV="1">
                <a:off x="6500160" y="5121360"/>
                <a:ext cx="479160" cy="479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4917600" y="4834080"/>
              <a:ext cx="1566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1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opposite 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orner set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648400" y="3035160"/>
            <a:ext cx="2933640" cy="2558880"/>
            <a:chOff x="5648400" y="3035160"/>
            <a:chExt cx="2933640" cy="2558880"/>
          </a:xfrm>
        </p:grpSpPr>
        <p:grpSp>
          <p:nvGrpSpPr>
            <p:cNvPr id="382" name=""/>
            <p:cNvGrpSpPr/>
            <p:nvPr/>
          </p:nvGrpSpPr>
          <p:grpSpPr>
            <a:xfrm>
              <a:off x="5648400" y="3035160"/>
              <a:ext cx="2933640" cy="2558880"/>
              <a:chOff x="5648400" y="3035160"/>
              <a:chExt cx="2933640" cy="255888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6892920" y="3857760"/>
                <a:ext cx="195120" cy="1736280"/>
                <a:chOff x="6892920" y="3857760"/>
                <a:chExt cx="195120" cy="173628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892920" y="3857760"/>
                  <a:ext cx="19512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976800" y="4049280"/>
                  <a:ext cx="9360" cy="1544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5648400" y="3035160"/>
                <a:ext cx="2933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P2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 opposite corner sett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5865840" y="3368520"/>
              <a:ext cx="882720" cy="578160"/>
            </a:xfrm>
            <a:custGeom>
              <a:avLst/>
              <a:gdLst/>
              <a:ahLst/>
              <a:rect l="l" t="t" r="r" b="b"/>
              <a:pathLst>
                <a:path w="556" h="364">
                  <a:moveTo>
                    <a:pt x="23" y="0"/>
                  </a:moveTo>
                  <a:cubicBezTo>
                    <a:pt x="11" y="89"/>
                    <a:pt x="0" y="179"/>
                    <a:pt x="89" y="240"/>
                  </a:cubicBezTo>
                  <a:cubicBezTo>
                    <a:pt x="178" y="301"/>
                    <a:pt x="367" y="332"/>
                    <a:pt x="556" y="3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993120" y="5502240"/>
            <a:ext cx="3094920" cy="918360"/>
            <a:chOff x="3993120" y="5502240"/>
            <a:chExt cx="3094920" cy="918360"/>
          </a:xfrm>
        </p:grpSpPr>
        <p:sp>
          <p:nvSpPr>
            <p:cNvPr id="389" name=""/>
            <p:cNvSpPr/>
            <p:nvPr/>
          </p:nvSpPr>
          <p:spPr>
            <a:xfrm>
              <a:off x="3993120" y="5780160"/>
              <a:ext cx="2874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orner1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is same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base corner for P1, P2, P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383160" y="5688000"/>
              <a:ext cx="48924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92920" y="5502240"/>
              <a:ext cx="195120" cy="195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A37E-283A-43EB-B2F1-C639CADC0BFD}" type="slidenum">
              <a:t>11</a:t>
            </a:fld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81676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STA NDR timing runs were compared to SSTA Liberty model runs i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insSt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IBM’s Statistical Timing Analyz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STA Slack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both runs ar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ojected to a process corn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sing canonical mode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889fb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= index of sources of variation being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istically combin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889fb"/>
                </a:solidFill>
                <a:latin typeface="Arial"/>
              </a:rPr>
              <a:t>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= index of sources of variation projecte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their worst cor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included systemat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random sources of var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ack differences are &lt; 9p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ttributed to interpolation err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0" t="15288" r="0" b="0"/>
          <a:stretch/>
        </p:blipFill>
        <p:spPr>
          <a:xfrm>
            <a:off x="4595760" y="3693960"/>
            <a:ext cx="4172040" cy="2648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6183000" y="6154560"/>
            <a:ext cx="1640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IB slacks (ns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6200000">
            <a:off x="3837600" y="4787640"/>
            <a:ext cx="17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DR slacks (ns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34920" y="2124000"/>
                <a:ext cx="4668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lac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7281720" y="4167360"/>
            <a:ext cx="438120" cy="11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62640" y="3873600"/>
            <a:ext cx="11466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0% slack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459920" y="5032440"/>
            <a:ext cx="114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0% slack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8078760" y="4536720"/>
            <a:ext cx="0" cy="49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5400000">
            <a:off x="4347000" y="2178720"/>
            <a:ext cx="266760" cy="1760760"/>
          </a:xfrm>
          <a:custGeom>
            <a:avLst/>
            <a:gdLst>
              <a:gd name="textAreaLeft" fmla="*/ 0 w 266760"/>
              <a:gd name="textAreaRight" fmla="*/ 96120 w 266760"/>
              <a:gd name="textAreaTop" fmla="*/ 45720 h 1760760"/>
              <a:gd name="textAreaBottom" fmla="*/ 1715040 h 176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5400000">
            <a:off x="2639520" y="2546280"/>
            <a:ext cx="266760" cy="1019160"/>
          </a:xfrm>
          <a:custGeom>
            <a:avLst/>
            <a:gdLst>
              <a:gd name="textAreaLeft" fmla="*/ 0 w 266760"/>
              <a:gd name="textAreaRight" fmla="*/ 96120 w 266760"/>
              <a:gd name="textAreaTop" fmla="*/ 26280 h 1019160"/>
              <a:gd name="textAreaBottom" fmla="*/ 99288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47320" y="31766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RSS’d P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36040" y="316872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orst-Cased P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69360" y="3051000"/>
            <a:ext cx="2134440" cy="62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mparison of N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s Lib Endpoint Sl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15200" y="27939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620720" y="2673000"/>
            <a:ext cx="12564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B3FC-A232-4980-A8B7-3E039C920262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440" y="1255320"/>
            <a:ext cx="793764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experiments showed that industry standard SSTA flow can be very efficient compared to custom statistical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ve runtime savings increased with design size due to calculation of sensitivities in the timing grap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905040" y="2957400"/>
          <a:ext cx="7243560" cy="1552680"/>
        </p:xfrm>
        <a:graphic>
          <a:graphicData uri="http://schemas.openxmlformats.org/drawingml/2006/table">
            <a:tbl>
              <a:tblPr/>
              <a:tblGrid>
                <a:gridCol w="1780920"/>
                <a:gridCol w="1551240"/>
                <a:gridCol w="1527120"/>
                <a:gridCol w="23842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ig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D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ber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p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4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2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p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626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14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7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1B77-8B28-4199-92D0-62F7561C79F6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clusion &amp; Future Work</a:t>
            </a: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440" y="1234800"/>
            <a:ext cx="777564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M enabl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STA sign-off methodology for 32n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ing industry standard Liberty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of Liberty timing vs NDR timing made us confident in IBM’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STA methodology using industry standard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elled the notion that SSTA was only possible with ND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32nm node i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BM’s 3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ration of AS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which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S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used for signoff, our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Liberty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21564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urrent sourc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215640"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non-separabil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non-linear delay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DDF5-553E-48BF-8C0C-9E8B6A916149}" type="slidenum">
              <a:t>14</a:t>
            </a:fld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bstract</a:t>
            </a: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21920"/>
            <a:ext cx="7775640" cy="46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89"/>
              </a:spcBef>
              <a:spcAft>
                <a:spcPts val="462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lative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rocess variatio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ncreases as technology decreases in siz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89"/>
              </a:spcBef>
              <a:spcAft>
                <a:spcPts val="462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sign complexit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proportionally increases with newer technolog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89"/>
              </a:spcBef>
              <a:spcAft>
                <a:spcPts val="462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sing deterministic Static Timing Analysis (STA) to account for growing process variation requires ever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more lib corner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&amp; ever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arger timing margin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89"/>
              </a:spcBef>
              <a:spcAft>
                <a:spcPts val="462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tatistical Static Timing Analysis (SSTA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to account for process variation is more feasible metho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DD1E-14FF-463A-8BEF-7529E3D1CB31}" type="slidenum">
              <a:t>2</a:t>
            </a:fld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300320"/>
            <a:ext cx="84582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80000"/>
              </a:lnSpc>
              <a:spcBef>
                <a:spcPts val="825"/>
              </a:spcBef>
              <a:spcAft>
                <a:spcPts val="34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BM has utilized a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SSTA signoff methodolog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for 2 generations (65nm, 45nm) using internal proprietary models called the</a:t>
            </a:r>
            <a:br>
              <a:rPr sz="1900"/>
            </a:b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New Delay Rule (NDR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825"/>
              </a:spcBef>
              <a:spcAft>
                <a:spcPts val="34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DR is an analytic model that allows computation of delays at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arbitrary point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n the process/voltage/temperature (PVT) spa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825"/>
              </a:spcBef>
              <a:spcAft>
                <a:spcPts val="34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dustry standard Liberty model provides timing data at a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single PV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825"/>
              </a:spcBef>
              <a:spcAft>
                <a:spcPts val="34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STA requires multiple Liberty models to cover process varia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825"/>
              </a:spcBef>
              <a:spcAft>
                <a:spcPts val="34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e describe how our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SSTA sign-off</a:t>
            </a:r>
            <a:br>
              <a:rPr sz="1900"/>
            </a:b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methodology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as developed using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dustry standard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Liberty models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 32nm to replace ND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825"/>
              </a:spcBef>
              <a:spcAft>
                <a:spcPts val="34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Comparative runtime data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NDR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Liberty models is shown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demonstrate that statistical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iming benefits can still be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tained using industry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andard models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34280" y="3703680"/>
            <a:ext cx="2143080" cy="623880"/>
          </a:xfrm>
          <a:prstGeom prst="cloudCallout">
            <a:avLst>
              <a:gd name="adj1" fmla="val -29407"/>
              <a:gd name="adj2" fmla="val 122009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Box represents PVT space covered by N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831560" y="3994200"/>
            <a:ext cx="2932560" cy="2299680"/>
            <a:chOff x="4831560" y="3994200"/>
            <a:chExt cx="2932560" cy="2299680"/>
          </a:xfrm>
        </p:grpSpPr>
        <p:sp>
          <p:nvSpPr>
            <p:cNvPr id="99" name=""/>
            <p:cNvSpPr/>
            <p:nvPr/>
          </p:nvSpPr>
          <p:spPr>
            <a:xfrm>
              <a:off x="5562000" y="3994200"/>
              <a:ext cx="6742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48160" y="5810400"/>
              <a:ext cx="1089000" cy="0"/>
            </a:xfrm>
            <a:prstGeom prst="line">
              <a:avLst/>
            </a:prstGeom>
            <a:ln w="3816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352120" y="4541760"/>
              <a:ext cx="1474920" cy="166212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5079600" y="5557320"/>
              <a:ext cx="663480" cy="67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729400" y="4273560"/>
              <a:ext cx="0" cy="1930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0200" y="6203880"/>
              <a:ext cx="141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23320" y="6049800"/>
              <a:ext cx="64080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31560" y="5240160"/>
              <a:ext cx="52200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m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6447960" y="5811840"/>
              <a:ext cx="382680" cy="403200"/>
            </a:xfrm>
            <a:prstGeom prst="line">
              <a:avLst/>
            </a:prstGeom>
            <a:ln w="3816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45080" y="4540320"/>
              <a:ext cx="0" cy="1278000"/>
            </a:xfrm>
            <a:prstGeom prst="line">
              <a:avLst/>
            </a:prstGeom>
            <a:ln w="3816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869000"/>
            <a:ext cx="1486080" cy="1425600"/>
            <a:chOff x="5433840" y="4869000"/>
            <a:chExt cx="1486080" cy="1425600"/>
          </a:xfrm>
        </p:grpSpPr>
        <p:sp>
          <p:nvSpPr>
            <p:cNvPr id="110" name=""/>
            <p:cNvSpPr/>
            <p:nvPr/>
          </p:nvSpPr>
          <p:spPr>
            <a:xfrm>
              <a:off x="6746760" y="6103800"/>
              <a:ext cx="173160" cy="190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37240" y="4869000"/>
              <a:ext cx="172800" cy="190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65640" y="5205240"/>
              <a:ext cx="173160" cy="190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48400" y="6103800"/>
              <a:ext cx="172800" cy="190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46640" y="5889600"/>
              <a:ext cx="274680" cy="314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35480" y="5340240"/>
              <a:ext cx="0" cy="538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33840" y="5889600"/>
              <a:ext cx="7128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153200" y="4538520"/>
            <a:ext cx="1747800" cy="1251000"/>
          </a:xfrm>
          <a:prstGeom prst="cloudCallout">
            <a:avLst>
              <a:gd name="adj1" fmla="val -63805"/>
              <a:gd name="adj2" fmla="val 42384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66"/>
                </a:solidFill>
                <a:latin typeface="Arial"/>
              </a:rPr>
              <a:t>Red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circles represent </a:t>
            </a:r>
            <a:br>
              <a:rPr sz="1000"/>
            </a:b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rbitrary PVT points covered by a single Liberty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B31E-D784-41AE-AADE-C9CF0ECA793F}" type="slidenum">
              <a:t>3</a:t>
            </a:fld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345680"/>
            <a:ext cx="7775640" cy="46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261"/>
              </a:spcBef>
              <a:spcAft>
                <a:spcPts val="53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mplementation of the SSTA Timing Mode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261"/>
              </a:spcBef>
              <a:spcAft>
                <a:spcPts val="53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odeling of the SOI History Effec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261"/>
              </a:spcBef>
              <a:spcAft>
                <a:spcPts val="53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odeling of On-Chip Variation (OCV)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261"/>
              </a:spcBef>
              <a:spcAft>
                <a:spcPts val="53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261"/>
              </a:spcBef>
              <a:spcAft>
                <a:spcPts val="53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261"/>
              </a:spcBef>
              <a:spcAft>
                <a:spcPts val="53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clusion &amp; Future Work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F39E-5749-4D1D-B750-BA0626DBA3EB}" type="slidenum">
              <a:t>4</a:t>
            </a:fld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mplementation of the SSTA Timing Model</a:t>
            </a: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8960" y="1218960"/>
            <a:ext cx="460404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TA propagates delay/slew distributions us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nonical mode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ean of th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ΔX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deviation from nominal value f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f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n+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Δ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andom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onical model is used to accou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c and random OC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625760" y="1704960"/>
                <a:ext cx="347184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795240" y="5873760"/>
            <a:ext cx="8158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 Visweswariah, C., et al, “First-order incremental block-based statistical timing analysis,” IEEE Trans. Computer-Aided Design of Integrated Circuits and Systems, vol. 25, no. 10, pp. 2170–2180, 10/2006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26080" y="2014560"/>
            <a:ext cx="38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546880" y="1279440"/>
            <a:ext cx="2732040" cy="1841400"/>
            <a:chOff x="5546880" y="1279440"/>
            <a:chExt cx="2732040" cy="1841400"/>
          </a:xfrm>
        </p:grpSpPr>
        <p:sp>
          <p:nvSpPr>
            <p:cNvPr id="127" name=""/>
            <p:cNvSpPr/>
            <p:nvPr/>
          </p:nvSpPr>
          <p:spPr>
            <a:xfrm>
              <a:off x="5546880" y="1279440"/>
              <a:ext cx="2732040" cy="184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39160" y="1922040"/>
              <a:ext cx="1484280" cy="402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235920" y="2330280"/>
              <a:ext cx="1481040" cy="449280"/>
            </a:xfrm>
            <a:prstGeom prst="line">
              <a:avLst/>
            </a:prstGeom>
            <a:ln w="28440">
              <a:solidFill>
                <a:srgbClr val="2db6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7747200" y="1929600"/>
              <a:ext cx="431640" cy="3920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51880" y="2330280"/>
              <a:ext cx="414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39280" y="2320560"/>
              <a:ext cx="40140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4560" y="1679400"/>
              <a:ext cx="426960" cy="234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753160" y="1919880"/>
              <a:ext cx="469800" cy="19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751720" y="2797560"/>
              <a:ext cx="457200" cy="21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86680" y="2138760"/>
              <a:ext cx="66600" cy="55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7166160" y="2194200"/>
              <a:ext cx="87120" cy="13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10440" y="2436840"/>
              <a:ext cx="111240" cy="7920"/>
            </a:xfrm>
            <a:prstGeom prst="line">
              <a:avLst/>
            </a:prstGeom>
            <a:ln w="9360">
              <a:solidFill>
                <a:srgbClr val="2db6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228080" y="2452320"/>
              <a:ext cx="93600" cy="70920"/>
            </a:xfrm>
            <a:prstGeom prst="line">
              <a:avLst/>
            </a:prstGeom>
            <a:ln w="9360">
              <a:solidFill>
                <a:srgbClr val="2db6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08920" y="1894320"/>
              <a:ext cx="39600" cy="45360"/>
            </a:xfrm>
            <a:prstGeom prst="ellipse">
              <a:avLst/>
            </a:prstGeom>
            <a:solidFill>
              <a:srgbClr val="7889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08920" y="2764080"/>
              <a:ext cx="39600" cy="45360"/>
            </a:xfrm>
            <a:prstGeom prst="ellipse">
              <a:avLst/>
            </a:prstGeom>
            <a:solidFill>
              <a:srgbClr val="7889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13720" y="2306520"/>
              <a:ext cx="39600" cy="45360"/>
            </a:xfrm>
            <a:prstGeom prst="ellipse">
              <a:avLst/>
            </a:prstGeom>
            <a:solidFill>
              <a:srgbClr val="7889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58280" y="20462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938920" y="2027880"/>
              <a:ext cx="171360" cy="183600"/>
              <a:chOff x="5938920" y="2027880"/>
              <a:chExt cx="171360" cy="183600"/>
            </a:xfrm>
          </p:grpSpPr>
          <p:sp>
            <p:nvSpPr>
              <p:cNvPr id="145" name=""/>
              <p:cNvSpPr/>
              <p:nvPr/>
            </p:nvSpPr>
            <p:spPr>
              <a:xfrm>
                <a:off x="5938920" y="2211480"/>
                <a:ext cx="1713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6021360" y="2027880"/>
                <a:ext cx="0" cy="174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942160" y="2452320"/>
              <a:ext cx="173160" cy="175680"/>
              <a:chOff x="5942160" y="2452320"/>
              <a:chExt cx="173160" cy="175680"/>
            </a:xfrm>
          </p:grpSpPr>
          <p:sp>
            <p:nvSpPr>
              <p:cNvPr id="148" name=""/>
              <p:cNvSpPr/>
              <p:nvPr/>
            </p:nvSpPr>
            <p:spPr>
              <a:xfrm>
                <a:off x="5942160" y="2628000"/>
                <a:ext cx="173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5987880" y="2452320"/>
                <a:ext cx="0" cy="1756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558120" y="2048040"/>
              <a:ext cx="173160" cy="183600"/>
              <a:chOff x="6558120" y="2048040"/>
              <a:chExt cx="173160" cy="183600"/>
            </a:xfrm>
          </p:grpSpPr>
          <p:sp>
            <p:nvSpPr>
              <p:cNvPr id="151" name=""/>
              <p:cNvSpPr/>
              <p:nvPr/>
            </p:nvSpPr>
            <p:spPr>
              <a:xfrm>
                <a:off x="6558120" y="2231640"/>
                <a:ext cx="173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6698160" y="2048040"/>
                <a:ext cx="0" cy="174960"/>
              </a:xfrm>
              <a:prstGeom prst="line">
                <a:avLst/>
              </a:prstGeom>
              <a:ln cap="sq" w="12600">
                <a:solidFill>
                  <a:srgbClr val="ff33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550200" y="2422440"/>
              <a:ext cx="172800" cy="183600"/>
              <a:chOff x="6550200" y="2422440"/>
              <a:chExt cx="172800" cy="183600"/>
            </a:xfrm>
          </p:grpSpPr>
          <p:sp>
            <p:nvSpPr>
              <p:cNvPr id="154" name=""/>
              <p:cNvSpPr/>
              <p:nvPr/>
            </p:nvSpPr>
            <p:spPr>
              <a:xfrm>
                <a:off x="6550200" y="2606040"/>
                <a:ext cx="172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6633000" y="2422440"/>
                <a:ext cx="0" cy="174600"/>
              </a:xfrm>
              <a:prstGeom prst="line">
                <a:avLst/>
              </a:prstGeom>
              <a:ln cap="sq" w="12600">
                <a:solidFill>
                  <a:srgbClr val="2db6b3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688520" y="2473920"/>
              <a:ext cx="172800" cy="183600"/>
              <a:chOff x="7688520" y="2473920"/>
              <a:chExt cx="172800" cy="183600"/>
            </a:xfrm>
          </p:grpSpPr>
          <p:sp>
            <p:nvSpPr>
              <p:cNvPr id="157" name=""/>
              <p:cNvSpPr/>
              <p:nvPr/>
            </p:nvSpPr>
            <p:spPr>
              <a:xfrm>
                <a:off x="7688520" y="2657520"/>
                <a:ext cx="172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7839000" y="2473920"/>
                <a:ext cx="0" cy="174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7317000" y="2614320"/>
              <a:ext cx="7984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24600" y="1312920"/>
              <a:ext cx="2218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terministic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14840" y="3720960"/>
            <a:ext cx="2732040" cy="1826640"/>
            <a:chOff x="5514840" y="3720960"/>
            <a:chExt cx="2732040" cy="1826640"/>
          </a:xfrm>
        </p:grpSpPr>
        <p:sp>
          <p:nvSpPr>
            <p:cNvPr id="162" name=""/>
            <p:cNvSpPr/>
            <p:nvPr/>
          </p:nvSpPr>
          <p:spPr>
            <a:xfrm>
              <a:off x="5514840" y="3745440"/>
              <a:ext cx="2732040" cy="1802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42760" y="3720960"/>
              <a:ext cx="1727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tistical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5575320" y="4047120"/>
              <a:ext cx="2622600" cy="1375560"/>
              <a:chOff x="5575320" y="4047120"/>
              <a:chExt cx="2622600" cy="1375560"/>
            </a:xfrm>
          </p:grpSpPr>
          <p:sp>
            <p:nvSpPr>
              <p:cNvPr id="165" name=""/>
              <p:cNvSpPr/>
              <p:nvPr/>
            </p:nvSpPr>
            <p:spPr>
              <a:xfrm>
                <a:off x="6102360" y="4304880"/>
                <a:ext cx="1601640" cy="428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6097680" y="4739760"/>
                <a:ext cx="1600200" cy="479160"/>
              </a:xfrm>
              <a:prstGeom prst="line">
                <a:avLst/>
              </a:prstGeom>
              <a:ln w="28440">
                <a:solidFill>
                  <a:srgbClr val="2db6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732800" y="4313880"/>
                <a:ext cx="46512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737480" y="4740120"/>
                <a:ext cx="446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721640" y="4731840"/>
                <a:ext cx="434880" cy="48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21400" y="4047120"/>
                <a:ext cx="460440" cy="24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5576760" y="4302720"/>
                <a:ext cx="50652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5575320" y="5237280"/>
                <a:ext cx="495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124760" y="4534920"/>
                <a:ext cx="73080" cy="61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7103520" y="4596840"/>
                <a:ext cx="93960" cy="129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51760" y="4854960"/>
                <a:ext cx="118800" cy="6840"/>
              </a:xfrm>
              <a:prstGeom prst="line">
                <a:avLst/>
              </a:prstGeom>
              <a:ln w="9360">
                <a:solidFill>
                  <a:srgbClr val="2db6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7169040" y="4870440"/>
                <a:ext cx="101520" cy="74880"/>
              </a:xfrm>
              <a:prstGeom prst="line">
                <a:avLst/>
              </a:prstGeom>
              <a:ln w="9360">
                <a:solidFill>
                  <a:srgbClr val="2db6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694640" y="4713840"/>
                <a:ext cx="42840" cy="48240"/>
              </a:xfrm>
              <a:prstGeom prst="ellipse">
                <a:avLst/>
              </a:prstGeom>
              <a:solidFill>
                <a:srgbClr val="7889f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628040" y="4428720"/>
                <a:ext cx="1872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46880" y="5087520"/>
                <a:ext cx="7081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5649840" y="4422240"/>
                <a:ext cx="374760" cy="258480"/>
                <a:chOff x="5649840" y="4422240"/>
                <a:chExt cx="374760" cy="2584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649840" y="4422240"/>
                  <a:ext cx="374760" cy="258480"/>
                </a:xfrm>
                <a:custGeom>
                  <a:avLst/>
                  <a:gdLst/>
                  <a:ahLst/>
                  <a:rect l="l" t="t" r="r" b="b"/>
                  <a:pathLst>
                    <a:path w="3424" h="2152">
                      <a:moveTo>
                        <a:pt x="0" y="2152"/>
                      </a:moveTo>
                      <a:lnTo>
                        <a:pt x="72" y="2152"/>
                      </a:lnTo>
                      <a:lnTo>
                        <a:pt x="144" y="2152"/>
                      </a:lnTo>
                      <a:lnTo>
                        <a:pt x="232" y="2152"/>
                      </a:lnTo>
                      <a:lnTo>
                        <a:pt x="328" y="2128"/>
                      </a:lnTo>
                      <a:lnTo>
                        <a:pt x="432" y="2120"/>
                      </a:lnTo>
                      <a:lnTo>
                        <a:pt x="504" y="2096"/>
                      </a:lnTo>
                      <a:lnTo>
                        <a:pt x="560" y="2080"/>
                      </a:lnTo>
                      <a:lnTo>
                        <a:pt x="624" y="2048"/>
                      </a:lnTo>
                      <a:lnTo>
                        <a:pt x="688" y="2008"/>
                      </a:lnTo>
                      <a:lnTo>
                        <a:pt x="760" y="1952"/>
                      </a:lnTo>
                      <a:lnTo>
                        <a:pt x="832" y="1864"/>
                      </a:lnTo>
                      <a:lnTo>
                        <a:pt x="888" y="1776"/>
                      </a:lnTo>
                      <a:lnTo>
                        <a:pt x="928" y="1688"/>
                      </a:lnTo>
                      <a:lnTo>
                        <a:pt x="1016" y="1576"/>
                      </a:lnTo>
                      <a:lnTo>
                        <a:pt x="1064" y="1472"/>
                      </a:lnTo>
                      <a:lnTo>
                        <a:pt x="1104" y="1360"/>
                      </a:lnTo>
                      <a:lnTo>
                        <a:pt x="1144" y="1272"/>
                      </a:lnTo>
                      <a:lnTo>
                        <a:pt x="1184" y="1168"/>
                      </a:lnTo>
                      <a:lnTo>
                        <a:pt x="1224" y="1056"/>
                      </a:lnTo>
                      <a:lnTo>
                        <a:pt x="1264" y="944"/>
                      </a:lnTo>
                      <a:lnTo>
                        <a:pt x="1304" y="840"/>
                      </a:lnTo>
                      <a:lnTo>
                        <a:pt x="1336" y="760"/>
                      </a:lnTo>
                      <a:lnTo>
                        <a:pt x="1368" y="672"/>
                      </a:lnTo>
                      <a:lnTo>
                        <a:pt x="1416" y="536"/>
                      </a:lnTo>
                      <a:lnTo>
                        <a:pt x="1472" y="408"/>
                      </a:lnTo>
                      <a:lnTo>
                        <a:pt x="1544" y="280"/>
                      </a:lnTo>
                      <a:lnTo>
                        <a:pt x="1584" y="192"/>
                      </a:lnTo>
                      <a:lnTo>
                        <a:pt x="1624" y="112"/>
                      </a:lnTo>
                      <a:lnTo>
                        <a:pt x="1672" y="56"/>
                      </a:lnTo>
                      <a:lnTo>
                        <a:pt x="1736" y="0"/>
                      </a:lnTo>
                      <a:lnTo>
                        <a:pt x="1784" y="8"/>
                      </a:lnTo>
                      <a:lnTo>
                        <a:pt x="1832" y="0"/>
                      </a:lnTo>
                      <a:lnTo>
                        <a:pt x="1880" y="32"/>
                      </a:lnTo>
                      <a:lnTo>
                        <a:pt x="1920" y="80"/>
                      </a:lnTo>
                      <a:lnTo>
                        <a:pt x="1968" y="136"/>
                      </a:lnTo>
                      <a:lnTo>
                        <a:pt x="2008" y="200"/>
                      </a:lnTo>
                      <a:lnTo>
                        <a:pt x="2040" y="264"/>
                      </a:lnTo>
                      <a:lnTo>
                        <a:pt x="2072" y="328"/>
                      </a:lnTo>
                      <a:lnTo>
                        <a:pt x="2104" y="392"/>
                      </a:lnTo>
                      <a:lnTo>
                        <a:pt x="2128" y="464"/>
                      </a:lnTo>
                      <a:lnTo>
                        <a:pt x="2160" y="536"/>
                      </a:lnTo>
                      <a:lnTo>
                        <a:pt x="2192" y="632"/>
                      </a:lnTo>
                      <a:lnTo>
                        <a:pt x="2224" y="704"/>
                      </a:lnTo>
                      <a:lnTo>
                        <a:pt x="2264" y="808"/>
                      </a:lnTo>
                      <a:lnTo>
                        <a:pt x="2304" y="920"/>
                      </a:lnTo>
                      <a:lnTo>
                        <a:pt x="2336" y="1024"/>
                      </a:lnTo>
                      <a:lnTo>
                        <a:pt x="2384" y="1128"/>
                      </a:lnTo>
                      <a:lnTo>
                        <a:pt x="2440" y="1264"/>
                      </a:lnTo>
                      <a:lnTo>
                        <a:pt x="2512" y="1440"/>
                      </a:lnTo>
                      <a:lnTo>
                        <a:pt x="2552" y="1544"/>
                      </a:lnTo>
                      <a:lnTo>
                        <a:pt x="2576" y="1600"/>
                      </a:lnTo>
                      <a:lnTo>
                        <a:pt x="2608" y="1656"/>
                      </a:lnTo>
                      <a:lnTo>
                        <a:pt x="2648" y="1728"/>
                      </a:lnTo>
                      <a:lnTo>
                        <a:pt x="2704" y="1800"/>
                      </a:lnTo>
                      <a:lnTo>
                        <a:pt x="2800" y="1912"/>
                      </a:lnTo>
                      <a:lnTo>
                        <a:pt x="2848" y="1960"/>
                      </a:lnTo>
                      <a:lnTo>
                        <a:pt x="2912" y="2016"/>
                      </a:lnTo>
                      <a:lnTo>
                        <a:pt x="2952" y="2040"/>
                      </a:lnTo>
                      <a:lnTo>
                        <a:pt x="3056" y="2088"/>
                      </a:lnTo>
                      <a:lnTo>
                        <a:pt x="3128" y="2112"/>
                      </a:lnTo>
                      <a:lnTo>
                        <a:pt x="3208" y="2128"/>
                      </a:lnTo>
                      <a:lnTo>
                        <a:pt x="3280" y="2144"/>
                      </a:lnTo>
                      <a:lnTo>
                        <a:pt x="3352" y="2152"/>
                      </a:lnTo>
                      <a:lnTo>
                        <a:pt x="3424" y="2144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668200" y="4679640"/>
                  <a:ext cx="3520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657760" y="4859640"/>
                <a:ext cx="374760" cy="256320"/>
                <a:chOff x="5657760" y="4859640"/>
                <a:chExt cx="374760" cy="2563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657760" y="4859640"/>
                  <a:ext cx="374760" cy="256320"/>
                </a:xfrm>
                <a:custGeom>
                  <a:avLst/>
                  <a:gdLst/>
                  <a:ahLst/>
                  <a:rect l="l" t="t" r="r" b="b"/>
                  <a:pathLst>
                    <a:path w="3424" h="2152">
                      <a:moveTo>
                        <a:pt x="0" y="2152"/>
                      </a:moveTo>
                      <a:lnTo>
                        <a:pt x="72" y="2152"/>
                      </a:lnTo>
                      <a:lnTo>
                        <a:pt x="144" y="2152"/>
                      </a:lnTo>
                      <a:lnTo>
                        <a:pt x="232" y="2152"/>
                      </a:lnTo>
                      <a:lnTo>
                        <a:pt x="328" y="2128"/>
                      </a:lnTo>
                      <a:lnTo>
                        <a:pt x="432" y="2120"/>
                      </a:lnTo>
                      <a:lnTo>
                        <a:pt x="504" y="2096"/>
                      </a:lnTo>
                      <a:lnTo>
                        <a:pt x="560" y="2080"/>
                      </a:lnTo>
                      <a:lnTo>
                        <a:pt x="624" y="2048"/>
                      </a:lnTo>
                      <a:lnTo>
                        <a:pt x="688" y="2008"/>
                      </a:lnTo>
                      <a:lnTo>
                        <a:pt x="760" y="1952"/>
                      </a:lnTo>
                      <a:lnTo>
                        <a:pt x="832" y="1864"/>
                      </a:lnTo>
                      <a:lnTo>
                        <a:pt x="888" y="1776"/>
                      </a:lnTo>
                      <a:lnTo>
                        <a:pt x="928" y="1688"/>
                      </a:lnTo>
                      <a:lnTo>
                        <a:pt x="1016" y="1576"/>
                      </a:lnTo>
                      <a:lnTo>
                        <a:pt x="1064" y="1472"/>
                      </a:lnTo>
                      <a:lnTo>
                        <a:pt x="1104" y="1360"/>
                      </a:lnTo>
                      <a:lnTo>
                        <a:pt x="1144" y="1272"/>
                      </a:lnTo>
                      <a:lnTo>
                        <a:pt x="1184" y="1168"/>
                      </a:lnTo>
                      <a:lnTo>
                        <a:pt x="1224" y="1056"/>
                      </a:lnTo>
                      <a:lnTo>
                        <a:pt x="1264" y="944"/>
                      </a:lnTo>
                      <a:lnTo>
                        <a:pt x="1304" y="840"/>
                      </a:lnTo>
                      <a:lnTo>
                        <a:pt x="1336" y="760"/>
                      </a:lnTo>
                      <a:lnTo>
                        <a:pt x="1368" y="672"/>
                      </a:lnTo>
                      <a:lnTo>
                        <a:pt x="1416" y="536"/>
                      </a:lnTo>
                      <a:lnTo>
                        <a:pt x="1472" y="408"/>
                      </a:lnTo>
                      <a:lnTo>
                        <a:pt x="1544" y="280"/>
                      </a:lnTo>
                      <a:lnTo>
                        <a:pt x="1584" y="192"/>
                      </a:lnTo>
                      <a:lnTo>
                        <a:pt x="1624" y="112"/>
                      </a:lnTo>
                      <a:lnTo>
                        <a:pt x="1672" y="56"/>
                      </a:lnTo>
                      <a:lnTo>
                        <a:pt x="1736" y="0"/>
                      </a:lnTo>
                      <a:lnTo>
                        <a:pt x="1784" y="8"/>
                      </a:lnTo>
                      <a:lnTo>
                        <a:pt x="1832" y="0"/>
                      </a:lnTo>
                      <a:lnTo>
                        <a:pt x="1880" y="32"/>
                      </a:lnTo>
                      <a:lnTo>
                        <a:pt x="1920" y="80"/>
                      </a:lnTo>
                      <a:lnTo>
                        <a:pt x="1968" y="136"/>
                      </a:lnTo>
                      <a:lnTo>
                        <a:pt x="2008" y="200"/>
                      </a:lnTo>
                      <a:lnTo>
                        <a:pt x="2040" y="264"/>
                      </a:lnTo>
                      <a:lnTo>
                        <a:pt x="2072" y="328"/>
                      </a:lnTo>
                      <a:lnTo>
                        <a:pt x="2104" y="392"/>
                      </a:lnTo>
                      <a:lnTo>
                        <a:pt x="2128" y="464"/>
                      </a:lnTo>
                      <a:lnTo>
                        <a:pt x="2160" y="536"/>
                      </a:lnTo>
                      <a:lnTo>
                        <a:pt x="2192" y="632"/>
                      </a:lnTo>
                      <a:lnTo>
                        <a:pt x="2224" y="704"/>
                      </a:lnTo>
                      <a:lnTo>
                        <a:pt x="2264" y="808"/>
                      </a:lnTo>
                      <a:lnTo>
                        <a:pt x="2304" y="920"/>
                      </a:lnTo>
                      <a:lnTo>
                        <a:pt x="2336" y="1024"/>
                      </a:lnTo>
                      <a:lnTo>
                        <a:pt x="2384" y="1128"/>
                      </a:lnTo>
                      <a:lnTo>
                        <a:pt x="2440" y="1264"/>
                      </a:lnTo>
                      <a:lnTo>
                        <a:pt x="2512" y="1440"/>
                      </a:lnTo>
                      <a:lnTo>
                        <a:pt x="2552" y="1544"/>
                      </a:lnTo>
                      <a:lnTo>
                        <a:pt x="2576" y="1600"/>
                      </a:lnTo>
                      <a:lnTo>
                        <a:pt x="2608" y="1656"/>
                      </a:lnTo>
                      <a:lnTo>
                        <a:pt x="2648" y="1728"/>
                      </a:lnTo>
                      <a:lnTo>
                        <a:pt x="2704" y="1800"/>
                      </a:lnTo>
                      <a:lnTo>
                        <a:pt x="2800" y="1912"/>
                      </a:lnTo>
                      <a:lnTo>
                        <a:pt x="2848" y="1960"/>
                      </a:lnTo>
                      <a:lnTo>
                        <a:pt x="2912" y="2016"/>
                      </a:lnTo>
                      <a:lnTo>
                        <a:pt x="2952" y="2040"/>
                      </a:lnTo>
                      <a:lnTo>
                        <a:pt x="3056" y="2088"/>
                      </a:lnTo>
                      <a:lnTo>
                        <a:pt x="3128" y="2112"/>
                      </a:lnTo>
                      <a:lnTo>
                        <a:pt x="3208" y="2128"/>
                      </a:lnTo>
                      <a:lnTo>
                        <a:pt x="3280" y="2144"/>
                      </a:lnTo>
                      <a:lnTo>
                        <a:pt x="3352" y="2152"/>
                      </a:lnTo>
                      <a:lnTo>
                        <a:pt x="3424" y="2144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676120" y="5114880"/>
                  <a:ext cx="3520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265800" y="4422240"/>
                <a:ext cx="376200" cy="258480"/>
                <a:chOff x="6265800" y="4422240"/>
                <a:chExt cx="376200" cy="2584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265800" y="4422240"/>
                  <a:ext cx="376200" cy="258480"/>
                </a:xfrm>
                <a:custGeom>
                  <a:avLst/>
                  <a:gdLst/>
                  <a:ahLst/>
                  <a:rect l="l" t="t" r="r" b="b"/>
                  <a:pathLst>
                    <a:path w="3424" h="2152">
                      <a:moveTo>
                        <a:pt x="0" y="2152"/>
                      </a:moveTo>
                      <a:lnTo>
                        <a:pt x="72" y="2152"/>
                      </a:lnTo>
                      <a:lnTo>
                        <a:pt x="144" y="2152"/>
                      </a:lnTo>
                      <a:lnTo>
                        <a:pt x="232" y="2152"/>
                      </a:lnTo>
                      <a:lnTo>
                        <a:pt x="328" y="2128"/>
                      </a:lnTo>
                      <a:lnTo>
                        <a:pt x="432" y="2120"/>
                      </a:lnTo>
                      <a:lnTo>
                        <a:pt x="504" y="2096"/>
                      </a:lnTo>
                      <a:lnTo>
                        <a:pt x="560" y="2080"/>
                      </a:lnTo>
                      <a:lnTo>
                        <a:pt x="624" y="2048"/>
                      </a:lnTo>
                      <a:lnTo>
                        <a:pt x="688" y="2008"/>
                      </a:lnTo>
                      <a:lnTo>
                        <a:pt x="760" y="1952"/>
                      </a:lnTo>
                      <a:lnTo>
                        <a:pt x="832" y="1864"/>
                      </a:lnTo>
                      <a:lnTo>
                        <a:pt x="888" y="1776"/>
                      </a:lnTo>
                      <a:lnTo>
                        <a:pt x="928" y="1688"/>
                      </a:lnTo>
                      <a:lnTo>
                        <a:pt x="1016" y="1576"/>
                      </a:lnTo>
                      <a:lnTo>
                        <a:pt x="1064" y="1472"/>
                      </a:lnTo>
                      <a:lnTo>
                        <a:pt x="1104" y="1360"/>
                      </a:lnTo>
                      <a:lnTo>
                        <a:pt x="1144" y="1272"/>
                      </a:lnTo>
                      <a:lnTo>
                        <a:pt x="1184" y="1168"/>
                      </a:lnTo>
                      <a:lnTo>
                        <a:pt x="1224" y="1056"/>
                      </a:lnTo>
                      <a:lnTo>
                        <a:pt x="1264" y="944"/>
                      </a:lnTo>
                      <a:lnTo>
                        <a:pt x="1304" y="840"/>
                      </a:lnTo>
                      <a:lnTo>
                        <a:pt x="1336" y="760"/>
                      </a:lnTo>
                      <a:lnTo>
                        <a:pt x="1368" y="672"/>
                      </a:lnTo>
                      <a:lnTo>
                        <a:pt x="1416" y="536"/>
                      </a:lnTo>
                      <a:lnTo>
                        <a:pt x="1472" y="408"/>
                      </a:lnTo>
                      <a:lnTo>
                        <a:pt x="1544" y="280"/>
                      </a:lnTo>
                      <a:lnTo>
                        <a:pt x="1584" y="192"/>
                      </a:lnTo>
                      <a:lnTo>
                        <a:pt x="1624" y="112"/>
                      </a:lnTo>
                      <a:lnTo>
                        <a:pt x="1672" y="56"/>
                      </a:lnTo>
                      <a:lnTo>
                        <a:pt x="1736" y="0"/>
                      </a:lnTo>
                      <a:lnTo>
                        <a:pt x="1784" y="8"/>
                      </a:lnTo>
                      <a:lnTo>
                        <a:pt x="1832" y="0"/>
                      </a:lnTo>
                      <a:lnTo>
                        <a:pt x="1880" y="32"/>
                      </a:lnTo>
                      <a:lnTo>
                        <a:pt x="1920" y="80"/>
                      </a:lnTo>
                      <a:lnTo>
                        <a:pt x="1968" y="136"/>
                      </a:lnTo>
                      <a:lnTo>
                        <a:pt x="2008" y="200"/>
                      </a:lnTo>
                      <a:lnTo>
                        <a:pt x="2040" y="264"/>
                      </a:lnTo>
                      <a:lnTo>
                        <a:pt x="2072" y="328"/>
                      </a:lnTo>
                      <a:lnTo>
                        <a:pt x="2104" y="392"/>
                      </a:lnTo>
                      <a:lnTo>
                        <a:pt x="2128" y="464"/>
                      </a:lnTo>
                      <a:lnTo>
                        <a:pt x="2160" y="536"/>
                      </a:lnTo>
                      <a:lnTo>
                        <a:pt x="2192" y="632"/>
                      </a:lnTo>
                      <a:lnTo>
                        <a:pt x="2224" y="704"/>
                      </a:lnTo>
                      <a:lnTo>
                        <a:pt x="2264" y="808"/>
                      </a:lnTo>
                      <a:lnTo>
                        <a:pt x="2304" y="920"/>
                      </a:lnTo>
                      <a:lnTo>
                        <a:pt x="2336" y="1024"/>
                      </a:lnTo>
                      <a:lnTo>
                        <a:pt x="2384" y="1128"/>
                      </a:lnTo>
                      <a:lnTo>
                        <a:pt x="2440" y="1264"/>
                      </a:lnTo>
                      <a:lnTo>
                        <a:pt x="2512" y="1440"/>
                      </a:lnTo>
                      <a:lnTo>
                        <a:pt x="2552" y="1544"/>
                      </a:lnTo>
                      <a:lnTo>
                        <a:pt x="2576" y="1600"/>
                      </a:lnTo>
                      <a:lnTo>
                        <a:pt x="2608" y="1656"/>
                      </a:lnTo>
                      <a:lnTo>
                        <a:pt x="2648" y="1728"/>
                      </a:lnTo>
                      <a:lnTo>
                        <a:pt x="2704" y="1800"/>
                      </a:lnTo>
                      <a:lnTo>
                        <a:pt x="2800" y="1912"/>
                      </a:lnTo>
                      <a:lnTo>
                        <a:pt x="2848" y="1960"/>
                      </a:lnTo>
                      <a:lnTo>
                        <a:pt x="2912" y="2016"/>
                      </a:lnTo>
                      <a:lnTo>
                        <a:pt x="2952" y="2040"/>
                      </a:lnTo>
                      <a:lnTo>
                        <a:pt x="3056" y="2088"/>
                      </a:lnTo>
                      <a:lnTo>
                        <a:pt x="3128" y="2112"/>
                      </a:lnTo>
                      <a:lnTo>
                        <a:pt x="3208" y="2128"/>
                      </a:lnTo>
                      <a:lnTo>
                        <a:pt x="3280" y="2144"/>
                      </a:lnTo>
                      <a:lnTo>
                        <a:pt x="3352" y="2152"/>
                      </a:lnTo>
                      <a:lnTo>
                        <a:pt x="3424" y="2144"/>
                      </a:lnTo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284160" y="4679280"/>
                  <a:ext cx="3535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273720" y="4829040"/>
                <a:ext cx="376200" cy="258480"/>
                <a:chOff x="6273720" y="4829040"/>
                <a:chExt cx="376200" cy="2584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273720" y="4829040"/>
                  <a:ext cx="376200" cy="258480"/>
                </a:xfrm>
                <a:custGeom>
                  <a:avLst/>
                  <a:gdLst/>
                  <a:ahLst/>
                  <a:rect l="l" t="t" r="r" b="b"/>
                  <a:pathLst>
                    <a:path w="3424" h="2152">
                      <a:moveTo>
                        <a:pt x="0" y="2152"/>
                      </a:moveTo>
                      <a:lnTo>
                        <a:pt x="72" y="2152"/>
                      </a:lnTo>
                      <a:lnTo>
                        <a:pt x="144" y="2152"/>
                      </a:lnTo>
                      <a:lnTo>
                        <a:pt x="232" y="2152"/>
                      </a:lnTo>
                      <a:lnTo>
                        <a:pt x="328" y="2128"/>
                      </a:lnTo>
                      <a:lnTo>
                        <a:pt x="432" y="2120"/>
                      </a:lnTo>
                      <a:lnTo>
                        <a:pt x="504" y="2096"/>
                      </a:lnTo>
                      <a:lnTo>
                        <a:pt x="560" y="2080"/>
                      </a:lnTo>
                      <a:lnTo>
                        <a:pt x="624" y="2048"/>
                      </a:lnTo>
                      <a:lnTo>
                        <a:pt x="688" y="2008"/>
                      </a:lnTo>
                      <a:lnTo>
                        <a:pt x="760" y="1952"/>
                      </a:lnTo>
                      <a:lnTo>
                        <a:pt x="832" y="1864"/>
                      </a:lnTo>
                      <a:lnTo>
                        <a:pt x="888" y="1776"/>
                      </a:lnTo>
                      <a:lnTo>
                        <a:pt x="928" y="1688"/>
                      </a:lnTo>
                      <a:lnTo>
                        <a:pt x="1016" y="1576"/>
                      </a:lnTo>
                      <a:lnTo>
                        <a:pt x="1064" y="1472"/>
                      </a:lnTo>
                      <a:lnTo>
                        <a:pt x="1104" y="1360"/>
                      </a:lnTo>
                      <a:lnTo>
                        <a:pt x="1144" y="1272"/>
                      </a:lnTo>
                      <a:lnTo>
                        <a:pt x="1184" y="1168"/>
                      </a:lnTo>
                      <a:lnTo>
                        <a:pt x="1224" y="1056"/>
                      </a:lnTo>
                      <a:lnTo>
                        <a:pt x="1264" y="944"/>
                      </a:lnTo>
                      <a:lnTo>
                        <a:pt x="1304" y="840"/>
                      </a:lnTo>
                      <a:lnTo>
                        <a:pt x="1336" y="760"/>
                      </a:lnTo>
                      <a:lnTo>
                        <a:pt x="1368" y="672"/>
                      </a:lnTo>
                      <a:lnTo>
                        <a:pt x="1416" y="536"/>
                      </a:lnTo>
                      <a:lnTo>
                        <a:pt x="1472" y="408"/>
                      </a:lnTo>
                      <a:lnTo>
                        <a:pt x="1544" y="280"/>
                      </a:lnTo>
                      <a:lnTo>
                        <a:pt x="1584" y="192"/>
                      </a:lnTo>
                      <a:lnTo>
                        <a:pt x="1624" y="112"/>
                      </a:lnTo>
                      <a:lnTo>
                        <a:pt x="1672" y="56"/>
                      </a:lnTo>
                      <a:lnTo>
                        <a:pt x="1736" y="0"/>
                      </a:lnTo>
                      <a:lnTo>
                        <a:pt x="1784" y="8"/>
                      </a:lnTo>
                      <a:lnTo>
                        <a:pt x="1832" y="0"/>
                      </a:lnTo>
                      <a:lnTo>
                        <a:pt x="1880" y="32"/>
                      </a:lnTo>
                      <a:lnTo>
                        <a:pt x="1920" y="80"/>
                      </a:lnTo>
                      <a:lnTo>
                        <a:pt x="1968" y="136"/>
                      </a:lnTo>
                      <a:lnTo>
                        <a:pt x="2008" y="200"/>
                      </a:lnTo>
                      <a:lnTo>
                        <a:pt x="2040" y="264"/>
                      </a:lnTo>
                      <a:lnTo>
                        <a:pt x="2072" y="328"/>
                      </a:lnTo>
                      <a:lnTo>
                        <a:pt x="2104" y="392"/>
                      </a:lnTo>
                      <a:lnTo>
                        <a:pt x="2128" y="464"/>
                      </a:lnTo>
                      <a:lnTo>
                        <a:pt x="2160" y="536"/>
                      </a:lnTo>
                      <a:lnTo>
                        <a:pt x="2192" y="632"/>
                      </a:lnTo>
                      <a:lnTo>
                        <a:pt x="2224" y="704"/>
                      </a:lnTo>
                      <a:lnTo>
                        <a:pt x="2264" y="808"/>
                      </a:lnTo>
                      <a:lnTo>
                        <a:pt x="2304" y="920"/>
                      </a:lnTo>
                      <a:lnTo>
                        <a:pt x="2336" y="1024"/>
                      </a:lnTo>
                      <a:lnTo>
                        <a:pt x="2384" y="1128"/>
                      </a:lnTo>
                      <a:lnTo>
                        <a:pt x="2440" y="1264"/>
                      </a:lnTo>
                      <a:lnTo>
                        <a:pt x="2512" y="1440"/>
                      </a:lnTo>
                      <a:lnTo>
                        <a:pt x="2552" y="1544"/>
                      </a:lnTo>
                      <a:lnTo>
                        <a:pt x="2576" y="1600"/>
                      </a:lnTo>
                      <a:lnTo>
                        <a:pt x="2608" y="1656"/>
                      </a:lnTo>
                      <a:lnTo>
                        <a:pt x="2648" y="1728"/>
                      </a:lnTo>
                      <a:lnTo>
                        <a:pt x="2704" y="1800"/>
                      </a:lnTo>
                      <a:lnTo>
                        <a:pt x="2800" y="1912"/>
                      </a:lnTo>
                      <a:lnTo>
                        <a:pt x="2848" y="1960"/>
                      </a:lnTo>
                      <a:lnTo>
                        <a:pt x="2912" y="2016"/>
                      </a:lnTo>
                      <a:lnTo>
                        <a:pt x="2952" y="2040"/>
                      </a:lnTo>
                      <a:lnTo>
                        <a:pt x="3056" y="2088"/>
                      </a:lnTo>
                      <a:lnTo>
                        <a:pt x="3128" y="2112"/>
                      </a:lnTo>
                      <a:lnTo>
                        <a:pt x="3208" y="2128"/>
                      </a:lnTo>
                      <a:lnTo>
                        <a:pt x="3280" y="2144"/>
                      </a:lnTo>
                      <a:lnTo>
                        <a:pt x="3352" y="2152"/>
                      </a:lnTo>
                      <a:lnTo>
                        <a:pt x="3424" y="2144"/>
                      </a:lnTo>
                    </a:path>
                  </a:pathLst>
                </a:cu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292080" y="5086440"/>
                  <a:ext cx="3538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7547040" y="4879440"/>
                <a:ext cx="376200" cy="256320"/>
                <a:chOff x="7547040" y="4879440"/>
                <a:chExt cx="376200" cy="256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7547040" y="4879440"/>
                  <a:ext cx="376200" cy="256320"/>
                </a:xfrm>
                <a:custGeom>
                  <a:avLst/>
                  <a:gdLst/>
                  <a:ahLst/>
                  <a:rect l="l" t="t" r="r" b="b"/>
                  <a:pathLst>
                    <a:path w="3424" h="2152">
                      <a:moveTo>
                        <a:pt x="0" y="2152"/>
                      </a:moveTo>
                      <a:lnTo>
                        <a:pt x="72" y="2152"/>
                      </a:lnTo>
                      <a:lnTo>
                        <a:pt x="144" y="2152"/>
                      </a:lnTo>
                      <a:lnTo>
                        <a:pt x="232" y="2152"/>
                      </a:lnTo>
                      <a:lnTo>
                        <a:pt x="328" y="2128"/>
                      </a:lnTo>
                      <a:lnTo>
                        <a:pt x="432" y="2120"/>
                      </a:lnTo>
                      <a:lnTo>
                        <a:pt x="504" y="2096"/>
                      </a:lnTo>
                      <a:lnTo>
                        <a:pt x="560" y="2080"/>
                      </a:lnTo>
                      <a:lnTo>
                        <a:pt x="624" y="2048"/>
                      </a:lnTo>
                      <a:lnTo>
                        <a:pt x="688" y="2008"/>
                      </a:lnTo>
                      <a:lnTo>
                        <a:pt x="760" y="1952"/>
                      </a:lnTo>
                      <a:lnTo>
                        <a:pt x="832" y="1864"/>
                      </a:lnTo>
                      <a:lnTo>
                        <a:pt x="888" y="1776"/>
                      </a:lnTo>
                      <a:lnTo>
                        <a:pt x="928" y="1688"/>
                      </a:lnTo>
                      <a:lnTo>
                        <a:pt x="1016" y="1576"/>
                      </a:lnTo>
                      <a:lnTo>
                        <a:pt x="1064" y="1472"/>
                      </a:lnTo>
                      <a:lnTo>
                        <a:pt x="1104" y="1360"/>
                      </a:lnTo>
                      <a:lnTo>
                        <a:pt x="1144" y="1272"/>
                      </a:lnTo>
                      <a:lnTo>
                        <a:pt x="1184" y="1168"/>
                      </a:lnTo>
                      <a:lnTo>
                        <a:pt x="1224" y="1056"/>
                      </a:lnTo>
                      <a:lnTo>
                        <a:pt x="1264" y="944"/>
                      </a:lnTo>
                      <a:lnTo>
                        <a:pt x="1304" y="840"/>
                      </a:lnTo>
                      <a:lnTo>
                        <a:pt x="1336" y="760"/>
                      </a:lnTo>
                      <a:lnTo>
                        <a:pt x="1368" y="672"/>
                      </a:lnTo>
                      <a:lnTo>
                        <a:pt x="1416" y="536"/>
                      </a:lnTo>
                      <a:lnTo>
                        <a:pt x="1472" y="408"/>
                      </a:lnTo>
                      <a:lnTo>
                        <a:pt x="1544" y="280"/>
                      </a:lnTo>
                      <a:lnTo>
                        <a:pt x="1584" y="192"/>
                      </a:lnTo>
                      <a:lnTo>
                        <a:pt x="1624" y="112"/>
                      </a:lnTo>
                      <a:lnTo>
                        <a:pt x="1672" y="56"/>
                      </a:lnTo>
                      <a:lnTo>
                        <a:pt x="1736" y="0"/>
                      </a:lnTo>
                      <a:lnTo>
                        <a:pt x="1784" y="8"/>
                      </a:lnTo>
                      <a:lnTo>
                        <a:pt x="1832" y="0"/>
                      </a:lnTo>
                      <a:lnTo>
                        <a:pt x="1880" y="32"/>
                      </a:lnTo>
                      <a:lnTo>
                        <a:pt x="1920" y="80"/>
                      </a:lnTo>
                      <a:lnTo>
                        <a:pt x="1968" y="136"/>
                      </a:lnTo>
                      <a:lnTo>
                        <a:pt x="2008" y="200"/>
                      </a:lnTo>
                      <a:lnTo>
                        <a:pt x="2040" y="264"/>
                      </a:lnTo>
                      <a:lnTo>
                        <a:pt x="2072" y="328"/>
                      </a:lnTo>
                      <a:lnTo>
                        <a:pt x="2104" y="392"/>
                      </a:lnTo>
                      <a:lnTo>
                        <a:pt x="2128" y="464"/>
                      </a:lnTo>
                      <a:lnTo>
                        <a:pt x="2160" y="536"/>
                      </a:lnTo>
                      <a:lnTo>
                        <a:pt x="2192" y="632"/>
                      </a:lnTo>
                      <a:lnTo>
                        <a:pt x="2224" y="704"/>
                      </a:lnTo>
                      <a:lnTo>
                        <a:pt x="2264" y="808"/>
                      </a:lnTo>
                      <a:lnTo>
                        <a:pt x="2304" y="920"/>
                      </a:lnTo>
                      <a:lnTo>
                        <a:pt x="2336" y="1024"/>
                      </a:lnTo>
                      <a:lnTo>
                        <a:pt x="2384" y="1128"/>
                      </a:lnTo>
                      <a:lnTo>
                        <a:pt x="2440" y="1264"/>
                      </a:lnTo>
                      <a:lnTo>
                        <a:pt x="2512" y="1440"/>
                      </a:lnTo>
                      <a:lnTo>
                        <a:pt x="2552" y="1544"/>
                      </a:lnTo>
                      <a:lnTo>
                        <a:pt x="2576" y="1600"/>
                      </a:lnTo>
                      <a:lnTo>
                        <a:pt x="2608" y="1656"/>
                      </a:lnTo>
                      <a:lnTo>
                        <a:pt x="2648" y="1728"/>
                      </a:lnTo>
                      <a:lnTo>
                        <a:pt x="2704" y="1800"/>
                      </a:lnTo>
                      <a:lnTo>
                        <a:pt x="2800" y="1912"/>
                      </a:lnTo>
                      <a:lnTo>
                        <a:pt x="2848" y="1960"/>
                      </a:lnTo>
                      <a:lnTo>
                        <a:pt x="2912" y="2016"/>
                      </a:lnTo>
                      <a:lnTo>
                        <a:pt x="2952" y="2040"/>
                      </a:lnTo>
                      <a:lnTo>
                        <a:pt x="3056" y="2088"/>
                      </a:lnTo>
                      <a:lnTo>
                        <a:pt x="3128" y="2112"/>
                      </a:lnTo>
                      <a:lnTo>
                        <a:pt x="3208" y="2128"/>
                      </a:lnTo>
                      <a:lnTo>
                        <a:pt x="3280" y="2144"/>
                      </a:lnTo>
                      <a:lnTo>
                        <a:pt x="3352" y="2152"/>
                      </a:lnTo>
                      <a:lnTo>
                        <a:pt x="3424" y="2144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565400" y="5134680"/>
                  <a:ext cx="3535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6068880" y="4274280"/>
                <a:ext cx="42840" cy="48240"/>
              </a:xfrm>
              <a:prstGeom prst="ellipse">
                <a:avLst/>
              </a:prstGeom>
              <a:solidFill>
                <a:srgbClr val="7889f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068880" y="5202000"/>
                <a:ext cx="42840" cy="50400"/>
              </a:xfrm>
              <a:prstGeom prst="ellipse">
                <a:avLst/>
              </a:prstGeom>
              <a:solidFill>
                <a:srgbClr val="7889f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6469920" y="3184560"/>
            <a:ext cx="588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4238-D942-4762-B8CF-D85DECBD4ECF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deling the SOI History Effect</a:t>
            </a: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44288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’s 32nm ASIC offering is a SOI technology and requires modeling of the history eff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ing body of the transistor results in a body charge and potential that is dependent on the switching his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hanges the threshold voltage and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gate (ex: AND2), 2 Liberty files model the intrinsic delay and the SOI history eff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68840" y="4473720"/>
            <a:ext cx="2014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38840" y="4199040"/>
            <a:ext cx="126720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arly Mode 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lay/Sl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inSOI.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67080" y="4195800"/>
            <a:ext cx="123048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ate Mode 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lay/Sl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xSOI.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38680" y="4413240"/>
            <a:ext cx="0" cy="730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94080" y="5086440"/>
            <a:ext cx="8845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trinsic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681360" y="4727520"/>
            <a:ext cx="2211480" cy="220680"/>
            <a:chOff x="3681360" y="4727520"/>
            <a:chExt cx="2211480" cy="220680"/>
          </a:xfrm>
        </p:grpSpPr>
        <p:sp>
          <p:nvSpPr>
            <p:cNvPr id="207" name=""/>
            <p:cNvSpPr/>
            <p:nvPr/>
          </p:nvSpPr>
          <p:spPr>
            <a:xfrm>
              <a:off x="3776760" y="4836960"/>
              <a:ext cx="201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95920" y="4728960"/>
              <a:ext cx="196920" cy="219240"/>
            </a:xfrm>
            <a:prstGeom prst="ellipse">
              <a:avLst/>
            </a:prstGeom>
            <a:solidFill>
              <a:srgbClr val="7889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81360" y="4727520"/>
              <a:ext cx="196920" cy="218880"/>
            </a:xfrm>
            <a:prstGeom prst="ellipse">
              <a:avLst/>
            </a:prstGeom>
            <a:solidFill>
              <a:srgbClr val="7889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813120" y="3967200"/>
            <a:ext cx="184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istory 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9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967360" y="5608800"/>
                <a:ext cx="26384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O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OI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0" y="29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819000" y="5638680"/>
                <a:ext cx="29419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rinsi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I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I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 flipH="1">
            <a:off x="4498560" y="42512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935680" y="4621320"/>
            <a:ext cx="1857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43400" y="4618080"/>
            <a:ext cx="1857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29040" y="424800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980B-019D-4113-9AE7-3F6B02CFD3AF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n-Chip Variation (OCV)</a:t>
            </a: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437840"/>
            <a:ext cx="777564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C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ludes systematic and random distribu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ra-di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 due to transistor’s gate line widt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tion and random dopant 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ystem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 mode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ion of cell delay tha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lates with each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nd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portion of cel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 tha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rrel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95960" y="2836800"/>
            <a:ext cx="0" cy="336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72080" y="5427720"/>
            <a:ext cx="793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83200" y="2274840"/>
            <a:ext cx="274968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ote: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Early and Late separation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s exaggerated to show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ll dis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65760" y="4332240"/>
            <a:ext cx="0" cy="695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10320" y="4330800"/>
            <a:ext cx="0" cy="696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05360" y="4408560"/>
            <a:ext cx="777960" cy="27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rin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32600" y="4659480"/>
            <a:ext cx="991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680" y="4662360"/>
            <a:ext cx="991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792680" y="2962440"/>
            <a:ext cx="2814480" cy="1096560"/>
            <a:chOff x="4792680" y="2962440"/>
            <a:chExt cx="2814480" cy="1096560"/>
          </a:xfrm>
        </p:grpSpPr>
        <p:sp>
          <p:nvSpPr>
            <p:cNvPr id="230" name=""/>
            <p:cNvSpPr/>
            <p:nvPr/>
          </p:nvSpPr>
          <p:spPr>
            <a:xfrm>
              <a:off x="4792680" y="2962440"/>
              <a:ext cx="2680200" cy="1086480"/>
            </a:xfrm>
            <a:custGeom>
              <a:avLst/>
              <a:gdLst/>
              <a:ahLst/>
              <a:rect l="l" t="t" r="r" b="b"/>
              <a:pathLst>
                <a:path w="3872" h="2054">
                  <a:moveTo>
                    <a:pt x="0" y="2053"/>
                  </a:moveTo>
                  <a:cubicBezTo>
                    <a:pt x="78" y="2049"/>
                    <a:pt x="156" y="2046"/>
                    <a:pt x="224" y="2045"/>
                  </a:cubicBezTo>
                  <a:cubicBezTo>
                    <a:pt x="292" y="2044"/>
                    <a:pt x="343" y="2054"/>
                    <a:pt x="408" y="2045"/>
                  </a:cubicBezTo>
                  <a:cubicBezTo>
                    <a:pt x="473" y="2036"/>
                    <a:pt x="551" y="2013"/>
                    <a:pt x="616" y="1989"/>
                  </a:cubicBezTo>
                  <a:cubicBezTo>
                    <a:pt x="681" y="1965"/>
                    <a:pt x="736" y="1945"/>
                    <a:pt x="800" y="1901"/>
                  </a:cubicBezTo>
                  <a:cubicBezTo>
                    <a:pt x="864" y="1857"/>
                    <a:pt x="931" y="1809"/>
                    <a:pt x="1000" y="1725"/>
                  </a:cubicBezTo>
                  <a:cubicBezTo>
                    <a:pt x="1069" y="1641"/>
                    <a:pt x="1151" y="1512"/>
                    <a:pt x="1216" y="1397"/>
                  </a:cubicBezTo>
                  <a:cubicBezTo>
                    <a:pt x="1281" y="1282"/>
                    <a:pt x="1331" y="1166"/>
                    <a:pt x="1392" y="1037"/>
                  </a:cubicBezTo>
                  <a:cubicBezTo>
                    <a:pt x="1453" y="908"/>
                    <a:pt x="1532" y="734"/>
                    <a:pt x="1584" y="621"/>
                  </a:cubicBezTo>
                  <a:cubicBezTo>
                    <a:pt x="1636" y="508"/>
                    <a:pt x="1660" y="438"/>
                    <a:pt x="1704" y="357"/>
                  </a:cubicBezTo>
                  <a:cubicBezTo>
                    <a:pt x="1748" y="276"/>
                    <a:pt x="1801" y="189"/>
                    <a:pt x="1848" y="133"/>
                  </a:cubicBezTo>
                  <a:cubicBezTo>
                    <a:pt x="1895" y="77"/>
                    <a:pt x="1948" y="42"/>
                    <a:pt x="1984" y="21"/>
                  </a:cubicBezTo>
                  <a:cubicBezTo>
                    <a:pt x="2020" y="0"/>
                    <a:pt x="2035" y="1"/>
                    <a:pt x="2064" y="5"/>
                  </a:cubicBezTo>
                  <a:cubicBezTo>
                    <a:pt x="2093" y="9"/>
                    <a:pt x="2119" y="6"/>
                    <a:pt x="2160" y="45"/>
                  </a:cubicBezTo>
                  <a:cubicBezTo>
                    <a:pt x="2201" y="84"/>
                    <a:pt x="2271" y="176"/>
                    <a:pt x="2312" y="237"/>
                  </a:cubicBezTo>
                  <a:cubicBezTo>
                    <a:pt x="2353" y="298"/>
                    <a:pt x="2375" y="350"/>
                    <a:pt x="2408" y="413"/>
                  </a:cubicBezTo>
                  <a:cubicBezTo>
                    <a:pt x="2441" y="476"/>
                    <a:pt x="2475" y="530"/>
                    <a:pt x="2512" y="613"/>
                  </a:cubicBezTo>
                  <a:cubicBezTo>
                    <a:pt x="2549" y="696"/>
                    <a:pt x="2593" y="822"/>
                    <a:pt x="2632" y="909"/>
                  </a:cubicBezTo>
                  <a:cubicBezTo>
                    <a:pt x="2671" y="996"/>
                    <a:pt x="2707" y="1056"/>
                    <a:pt x="2744" y="1133"/>
                  </a:cubicBezTo>
                  <a:cubicBezTo>
                    <a:pt x="2781" y="1210"/>
                    <a:pt x="2820" y="1304"/>
                    <a:pt x="2856" y="1373"/>
                  </a:cubicBezTo>
                  <a:cubicBezTo>
                    <a:pt x="2892" y="1442"/>
                    <a:pt x="2921" y="1492"/>
                    <a:pt x="2960" y="1549"/>
                  </a:cubicBezTo>
                  <a:cubicBezTo>
                    <a:pt x="2999" y="1606"/>
                    <a:pt x="3036" y="1661"/>
                    <a:pt x="3088" y="1717"/>
                  </a:cubicBezTo>
                  <a:cubicBezTo>
                    <a:pt x="3140" y="1773"/>
                    <a:pt x="3209" y="1840"/>
                    <a:pt x="3272" y="1885"/>
                  </a:cubicBezTo>
                  <a:cubicBezTo>
                    <a:pt x="3335" y="1930"/>
                    <a:pt x="3400" y="1965"/>
                    <a:pt x="3464" y="1989"/>
                  </a:cubicBezTo>
                  <a:cubicBezTo>
                    <a:pt x="3528" y="2013"/>
                    <a:pt x="3588" y="2018"/>
                    <a:pt x="3656" y="2029"/>
                  </a:cubicBezTo>
                  <a:cubicBezTo>
                    <a:pt x="3724" y="2040"/>
                    <a:pt x="3798" y="2046"/>
                    <a:pt x="3872" y="2053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55960" y="4052520"/>
              <a:ext cx="151200" cy="64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591440" y="3454560"/>
            <a:ext cx="56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69000" y="3768480"/>
            <a:ext cx="2649240" cy="435240"/>
            <a:chOff x="4869000" y="3768480"/>
            <a:chExt cx="2649240" cy="435240"/>
          </a:xfrm>
        </p:grpSpPr>
        <p:sp>
          <p:nvSpPr>
            <p:cNvPr id="234" name=""/>
            <p:cNvSpPr/>
            <p:nvPr/>
          </p:nvSpPr>
          <p:spPr>
            <a:xfrm>
              <a:off x="4873320" y="4173480"/>
              <a:ext cx="264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869000" y="377028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518240" y="3768480"/>
              <a:ext cx="0" cy="43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7272720" y="3452760"/>
            <a:ext cx="50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86920" y="378468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9440" y="3792600"/>
            <a:ext cx="58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03520" y="3403440"/>
            <a:ext cx="779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60440" y="2514600"/>
            <a:ext cx="66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54480" y="4425840"/>
            <a:ext cx="1189080" cy="600120"/>
          </a:xfrm>
          <a:custGeom>
            <a:avLst/>
            <a:gdLst/>
            <a:ahLst/>
            <a:rect l="l" t="t" r="r" b="b"/>
            <a:pathLst>
              <a:path w="3872" h="2054">
                <a:moveTo>
                  <a:pt x="0" y="2053"/>
                </a:moveTo>
                <a:cubicBezTo>
                  <a:pt x="78" y="2049"/>
                  <a:pt x="156" y="2046"/>
                  <a:pt x="224" y="2045"/>
                </a:cubicBezTo>
                <a:cubicBezTo>
                  <a:pt x="292" y="2044"/>
                  <a:pt x="343" y="2054"/>
                  <a:pt x="408" y="2045"/>
                </a:cubicBezTo>
                <a:cubicBezTo>
                  <a:pt x="473" y="2036"/>
                  <a:pt x="551" y="2013"/>
                  <a:pt x="616" y="1989"/>
                </a:cubicBezTo>
                <a:cubicBezTo>
                  <a:pt x="681" y="1965"/>
                  <a:pt x="736" y="1945"/>
                  <a:pt x="800" y="1901"/>
                </a:cubicBezTo>
                <a:cubicBezTo>
                  <a:pt x="864" y="1857"/>
                  <a:pt x="931" y="1809"/>
                  <a:pt x="1000" y="1725"/>
                </a:cubicBezTo>
                <a:cubicBezTo>
                  <a:pt x="1069" y="1641"/>
                  <a:pt x="1151" y="1512"/>
                  <a:pt x="1216" y="1397"/>
                </a:cubicBezTo>
                <a:cubicBezTo>
                  <a:pt x="1281" y="1282"/>
                  <a:pt x="1331" y="1166"/>
                  <a:pt x="1392" y="1037"/>
                </a:cubicBezTo>
                <a:cubicBezTo>
                  <a:pt x="1453" y="908"/>
                  <a:pt x="1532" y="734"/>
                  <a:pt x="1584" y="621"/>
                </a:cubicBezTo>
                <a:cubicBezTo>
                  <a:pt x="1636" y="508"/>
                  <a:pt x="1660" y="438"/>
                  <a:pt x="1704" y="357"/>
                </a:cubicBezTo>
                <a:cubicBezTo>
                  <a:pt x="1748" y="276"/>
                  <a:pt x="1801" y="189"/>
                  <a:pt x="1848" y="133"/>
                </a:cubicBezTo>
                <a:cubicBezTo>
                  <a:pt x="1895" y="77"/>
                  <a:pt x="1948" y="42"/>
                  <a:pt x="1984" y="21"/>
                </a:cubicBezTo>
                <a:cubicBezTo>
                  <a:pt x="2020" y="0"/>
                  <a:pt x="2035" y="1"/>
                  <a:pt x="2064" y="5"/>
                </a:cubicBezTo>
                <a:cubicBezTo>
                  <a:pt x="2093" y="9"/>
                  <a:pt x="2119" y="6"/>
                  <a:pt x="2160" y="45"/>
                </a:cubicBezTo>
                <a:cubicBezTo>
                  <a:pt x="2201" y="84"/>
                  <a:pt x="2271" y="176"/>
                  <a:pt x="2312" y="237"/>
                </a:cubicBezTo>
                <a:cubicBezTo>
                  <a:pt x="2353" y="298"/>
                  <a:pt x="2375" y="350"/>
                  <a:pt x="2408" y="413"/>
                </a:cubicBezTo>
                <a:cubicBezTo>
                  <a:pt x="2441" y="476"/>
                  <a:pt x="2475" y="530"/>
                  <a:pt x="2512" y="613"/>
                </a:cubicBezTo>
                <a:cubicBezTo>
                  <a:pt x="2549" y="696"/>
                  <a:pt x="2593" y="822"/>
                  <a:pt x="2632" y="909"/>
                </a:cubicBezTo>
                <a:cubicBezTo>
                  <a:pt x="2671" y="996"/>
                  <a:pt x="2707" y="1056"/>
                  <a:pt x="2744" y="1133"/>
                </a:cubicBezTo>
                <a:cubicBezTo>
                  <a:pt x="2781" y="1210"/>
                  <a:pt x="2820" y="1304"/>
                  <a:pt x="2856" y="1373"/>
                </a:cubicBezTo>
                <a:cubicBezTo>
                  <a:pt x="2892" y="1442"/>
                  <a:pt x="2921" y="1492"/>
                  <a:pt x="2960" y="1549"/>
                </a:cubicBezTo>
                <a:cubicBezTo>
                  <a:pt x="2999" y="1606"/>
                  <a:pt x="3036" y="1661"/>
                  <a:pt x="3088" y="1717"/>
                </a:cubicBezTo>
                <a:cubicBezTo>
                  <a:pt x="3140" y="1773"/>
                  <a:pt x="3209" y="1840"/>
                  <a:pt x="3272" y="1885"/>
                </a:cubicBezTo>
                <a:cubicBezTo>
                  <a:pt x="3335" y="1930"/>
                  <a:pt x="3400" y="1965"/>
                  <a:pt x="3464" y="1989"/>
                </a:cubicBezTo>
                <a:cubicBezTo>
                  <a:pt x="3528" y="2013"/>
                  <a:pt x="3588" y="2018"/>
                  <a:pt x="3656" y="2029"/>
                </a:cubicBezTo>
                <a:cubicBezTo>
                  <a:pt x="3724" y="2040"/>
                  <a:pt x="3798" y="2046"/>
                  <a:pt x="3872" y="2053"/>
                </a:cubicBezTo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22600" y="4854600"/>
            <a:ext cx="925560" cy="338040"/>
            <a:chOff x="4422600" y="4854600"/>
            <a:chExt cx="925560" cy="338040"/>
          </a:xfrm>
        </p:grpSpPr>
        <p:sp>
          <p:nvSpPr>
            <p:cNvPr id="244" name=""/>
            <p:cNvSpPr/>
            <p:nvPr/>
          </p:nvSpPr>
          <p:spPr>
            <a:xfrm>
              <a:off x="4435560" y="4896000"/>
              <a:ext cx="0" cy="25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22600" y="5192640"/>
              <a:ext cx="9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67960" y="4854600"/>
              <a:ext cx="464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3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19320" y="4862520"/>
              <a:ext cx="508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+3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39880" y="4892760"/>
              <a:ext cx="0" cy="25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902280" y="4425840"/>
            <a:ext cx="1189080" cy="766800"/>
            <a:chOff x="6902280" y="4425840"/>
            <a:chExt cx="1189080" cy="766800"/>
          </a:xfrm>
        </p:grpSpPr>
        <p:sp>
          <p:nvSpPr>
            <p:cNvPr id="250" name=""/>
            <p:cNvSpPr/>
            <p:nvPr/>
          </p:nvSpPr>
          <p:spPr>
            <a:xfrm>
              <a:off x="6902280" y="4425840"/>
              <a:ext cx="1189080" cy="600120"/>
            </a:xfrm>
            <a:custGeom>
              <a:avLst/>
              <a:gdLst/>
              <a:ahLst/>
              <a:rect l="l" t="t" r="r" b="b"/>
              <a:pathLst>
                <a:path w="3872" h="2054">
                  <a:moveTo>
                    <a:pt x="0" y="2053"/>
                  </a:moveTo>
                  <a:cubicBezTo>
                    <a:pt x="78" y="2049"/>
                    <a:pt x="156" y="2046"/>
                    <a:pt x="224" y="2045"/>
                  </a:cubicBezTo>
                  <a:cubicBezTo>
                    <a:pt x="292" y="2044"/>
                    <a:pt x="343" y="2054"/>
                    <a:pt x="408" y="2045"/>
                  </a:cubicBezTo>
                  <a:cubicBezTo>
                    <a:pt x="473" y="2036"/>
                    <a:pt x="551" y="2013"/>
                    <a:pt x="616" y="1989"/>
                  </a:cubicBezTo>
                  <a:cubicBezTo>
                    <a:pt x="681" y="1965"/>
                    <a:pt x="736" y="1945"/>
                    <a:pt x="800" y="1901"/>
                  </a:cubicBezTo>
                  <a:cubicBezTo>
                    <a:pt x="864" y="1857"/>
                    <a:pt x="931" y="1809"/>
                    <a:pt x="1000" y="1725"/>
                  </a:cubicBezTo>
                  <a:cubicBezTo>
                    <a:pt x="1069" y="1641"/>
                    <a:pt x="1151" y="1512"/>
                    <a:pt x="1216" y="1397"/>
                  </a:cubicBezTo>
                  <a:cubicBezTo>
                    <a:pt x="1281" y="1282"/>
                    <a:pt x="1331" y="1166"/>
                    <a:pt x="1392" y="1037"/>
                  </a:cubicBezTo>
                  <a:cubicBezTo>
                    <a:pt x="1453" y="908"/>
                    <a:pt x="1532" y="734"/>
                    <a:pt x="1584" y="621"/>
                  </a:cubicBezTo>
                  <a:cubicBezTo>
                    <a:pt x="1636" y="508"/>
                    <a:pt x="1660" y="438"/>
                    <a:pt x="1704" y="357"/>
                  </a:cubicBezTo>
                  <a:cubicBezTo>
                    <a:pt x="1748" y="276"/>
                    <a:pt x="1801" y="189"/>
                    <a:pt x="1848" y="133"/>
                  </a:cubicBezTo>
                  <a:cubicBezTo>
                    <a:pt x="1895" y="77"/>
                    <a:pt x="1948" y="42"/>
                    <a:pt x="1984" y="21"/>
                  </a:cubicBezTo>
                  <a:cubicBezTo>
                    <a:pt x="2020" y="0"/>
                    <a:pt x="2035" y="1"/>
                    <a:pt x="2064" y="5"/>
                  </a:cubicBezTo>
                  <a:cubicBezTo>
                    <a:pt x="2093" y="9"/>
                    <a:pt x="2119" y="6"/>
                    <a:pt x="2160" y="45"/>
                  </a:cubicBezTo>
                  <a:cubicBezTo>
                    <a:pt x="2201" y="84"/>
                    <a:pt x="2271" y="176"/>
                    <a:pt x="2312" y="237"/>
                  </a:cubicBezTo>
                  <a:cubicBezTo>
                    <a:pt x="2353" y="298"/>
                    <a:pt x="2375" y="350"/>
                    <a:pt x="2408" y="413"/>
                  </a:cubicBezTo>
                  <a:cubicBezTo>
                    <a:pt x="2441" y="476"/>
                    <a:pt x="2475" y="530"/>
                    <a:pt x="2512" y="613"/>
                  </a:cubicBezTo>
                  <a:cubicBezTo>
                    <a:pt x="2549" y="696"/>
                    <a:pt x="2593" y="822"/>
                    <a:pt x="2632" y="909"/>
                  </a:cubicBezTo>
                  <a:cubicBezTo>
                    <a:pt x="2671" y="996"/>
                    <a:pt x="2707" y="1056"/>
                    <a:pt x="2744" y="1133"/>
                  </a:cubicBezTo>
                  <a:cubicBezTo>
                    <a:pt x="2781" y="1210"/>
                    <a:pt x="2820" y="1304"/>
                    <a:pt x="2856" y="1373"/>
                  </a:cubicBezTo>
                  <a:cubicBezTo>
                    <a:pt x="2892" y="1442"/>
                    <a:pt x="2921" y="1492"/>
                    <a:pt x="2960" y="1549"/>
                  </a:cubicBezTo>
                  <a:cubicBezTo>
                    <a:pt x="2999" y="1606"/>
                    <a:pt x="3036" y="1661"/>
                    <a:pt x="3088" y="1717"/>
                  </a:cubicBezTo>
                  <a:cubicBezTo>
                    <a:pt x="3140" y="1773"/>
                    <a:pt x="3209" y="1840"/>
                    <a:pt x="3272" y="1885"/>
                  </a:cubicBezTo>
                  <a:cubicBezTo>
                    <a:pt x="3335" y="1930"/>
                    <a:pt x="3400" y="1965"/>
                    <a:pt x="3464" y="1989"/>
                  </a:cubicBezTo>
                  <a:cubicBezTo>
                    <a:pt x="3528" y="2013"/>
                    <a:pt x="3588" y="2018"/>
                    <a:pt x="3656" y="2029"/>
                  </a:cubicBezTo>
                  <a:cubicBezTo>
                    <a:pt x="3724" y="2040"/>
                    <a:pt x="3798" y="2046"/>
                    <a:pt x="3872" y="2053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7069680" y="4854600"/>
              <a:ext cx="925200" cy="338040"/>
              <a:chOff x="7069680" y="4854600"/>
              <a:chExt cx="925200" cy="338040"/>
            </a:xfrm>
          </p:grpSpPr>
          <p:sp>
            <p:nvSpPr>
              <p:cNvPr id="252" name=""/>
              <p:cNvSpPr/>
              <p:nvPr/>
            </p:nvSpPr>
            <p:spPr>
              <a:xfrm>
                <a:off x="7082640" y="4896000"/>
                <a:ext cx="0" cy="25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069680" y="5192640"/>
                <a:ext cx="9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114680" y="4854600"/>
                <a:ext cx="464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3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6040" y="4862520"/>
                <a:ext cx="508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+3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986600" y="4892760"/>
                <a:ext cx="0" cy="25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"/>
          <p:cNvSpPr/>
          <p:nvPr/>
        </p:nvSpPr>
        <p:spPr>
          <a:xfrm>
            <a:off x="3388680" y="5435640"/>
            <a:ext cx="793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019400" y="5264280"/>
            <a:ext cx="1757520" cy="1182600"/>
            <a:chOff x="4019400" y="5264280"/>
            <a:chExt cx="1757520" cy="1182600"/>
          </a:xfrm>
        </p:grpSpPr>
        <p:sp>
          <p:nvSpPr>
            <p:cNvPr id="259" name=""/>
            <p:cNvSpPr/>
            <p:nvPr/>
          </p:nvSpPr>
          <p:spPr>
            <a:xfrm>
              <a:off x="4048200" y="6134040"/>
              <a:ext cx="291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87800" y="5264280"/>
              <a:ext cx="684360" cy="485640"/>
            </a:xfrm>
            <a:custGeom>
              <a:avLst/>
              <a:gdLst/>
              <a:ahLst/>
              <a:rect l="l" t="t" r="r" b="b"/>
              <a:pathLst>
                <a:path w="3872" h="2054">
                  <a:moveTo>
                    <a:pt x="0" y="2053"/>
                  </a:moveTo>
                  <a:cubicBezTo>
                    <a:pt x="78" y="2049"/>
                    <a:pt x="156" y="2046"/>
                    <a:pt x="224" y="2045"/>
                  </a:cubicBezTo>
                  <a:cubicBezTo>
                    <a:pt x="292" y="2044"/>
                    <a:pt x="343" y="2054"/>
                    <a:pt x="408" y="2045"/>
                  </a:cubicBezTo>
                  <a:cubicBezTo>
                    <a:pt x="473" y="2036"/>
                    <a:pt x="551" y="2013"/>
                    <a:pt x="616" y="1989"/>
                  </a:cubicBezTo>
                  <a:cubicBezTo>
                    <a:pt x="681" y="1965"/>
                    <a:pt x="736" y="1945"/>
                    <a:pt x="800" y="1901"/>
                  </a:cubicBezTo>
                  <a:cubicBezTo>
                    <a:pt x="864" y="1857"/>
                    <a:pt x="931" y="1809"/>
                    <a:pt x="1000" y="1725"/>
                  </a:cubicBezTo>
                  <a:cubicBezTo>
                    <a:pt x="1069" y="1641"/>
                    <a:pt x="1151" y="1512"/>
                    <a:pt x="1216" y="1397"/>
                  </a:cubicBezTo>
                  <a:cubicBezTo>
                    <a:pt x="1281" y="1282"/>
                    <a:pt x="1331" y="1166"/>
                    <a:pt x="1392" y="1037"/>
                  </a:cubicBezTo>
                  <a:cubicBezTo>
                    <a:pt x="1453" y="908"/>
                    <a:pt x="1532" y="734"/>
                    <a:pt x="1584" y="621"/>
                  </a:cubicBezTo>
                  <a:cubicBezTo>
                    <a:pt x="1636" y="508"/>
                    <a:pt x="1660" y="438"/>
                    <a:pt x="1704" y="357"/>
                  </a:cubicBezTo>
                  <a:cubicBezTo>
                    <a:pt x="1748" y="276"/>
                    <a:pt x="1801" y="189"/>
                    <a:pt x="1848" y="133"/>
                  </a:cubicBezTo>
                  <a:cubicBezTo>
                    <a:pt x="1895" y="77"/>
                    <a:pt x="1948" y="42"/>
                    <a:pt x="1984" y="21"/>
                  </a:cubicBezTo>
                  <a:cubicBezTo>
                    <a:pt x="2020" y="0"/>
                    <a:pt x="2035" y="1"/>
                    <a:pt x="2064" y="5"/>
                  </a:cubicBezTo>
                  <a:cubicBezTo>
                    <a:pt x="2093" y="9"/>
                    <a:pt x="2119" y="6"/>
                    <a:pt x="2160" y="45"/>
                  </a:cubicBezTo>
                  <a:cubicBezTo>
                    <a:pt x="2201" y="84"/>
                    <a:pt x="2271" y="176"/>
                    <a:pt x="2312" y="237"/>
                  </a:cubicBezTo>
                  <a:cubicBezTo>
                    <a:pt x="2353" y="298"/>
                    <a:pt x="2375" y="350"/>
                    <a:pt x="2408" y="413"/>
                  </a:cubicBezTo>
                  <a:cubicBezTo>
                    <a:pt x="2441" y="476"/>
                    <a:pt x="2475" y="530"/>
                    <a:pt x="2512" y="613"/>
                  </a:cubicBezTo>
                  <a:cubicBezTo>
                    <a:pt x="2549" y="696"/>
                    <a:pt x="2593" y="822"/>
                    <a:pt x="2632" y="909"/>
                  </a:cubicBezTo>
                  <a:cubicBezTo>
                    <a:pt x="2671" y="996"/>
                    <a:pt x="2707" y="1056"/>
                    <a:pt x="2744" y="1133"/>
                  </a:cubicBezTo>
                  <a:cubicBezTo>
                    <a:pt x="2781" y="1210"/>
                    <a:pt x="2820" y="1304"/>
                    <a:pt x="2856" y="1373"/>
                  </a:cubicBezTo>
                  <a:cubicBezTo>
                    <a:pt x="2892" y="1442"/>
                    <a:pt x="2921" y="1492"/>
                    <a:pt x="2960" y="1549"/>
                  </a:cubicBezTo>
                  <a:cubicBezTo>
                    <a:pt x="2999" y="1606"/>
                    <a:pt x="3036" y="1661"/>
                    <a:pt x="3088" y="1717"/>
                  </a:cubicBezTo>
                  <a:cubicBezTo>
                    <a:pt x="3140" y="1773"/>
                    <a:pt x="3209" y="1840"/>
                    <a:pt x="3272" y="1885"/>
                  </a:cubicBezTo>
                  <a:cubicBezTo>
                    <a:pt x="3335" y="1930"/>
                    <a:pt x="3400" y="1965"/>
                    <a:pt x="3464" y="1989"/>
                  </a:cubicBezTo>
                  <a:cubicBezTo>
                    <a:pt x="3528" y="2013"/>
                    <a:pt x="3588" y="2018"/>
                    <a:pt x="3656" y="2029"/>
                  </a:cubicBezTo>
                  <a:cubicBezTo>
                    <a:pt x="3724" y="2040"/>
                    <a:pt x="3798" y="2046"/>
                    <a:pt x="3872" y="2053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19400" y="5950080"/>
              <a:ext cx="163800" cy="185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32760" y="6141960"/>
              <a:ext cx="302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95720" y="5272200"/>
              <a:ext cx="684360" cy="485640"/>
            </a:xfrm>
            <a:custGeom>
              <a:avLst/>
              <a:gdLst/>
              <a:ahLst/>
              <a:rect l="l" t="t" r="r" b="b"/>
              <a:pathLst>
                <a:path w="3872" h="2054">
                  <a:moveTo>
                    <a:pt x="0" y="2053"/>
                  </a:moveTo>
                  <a:cubicBezTo>
                    <a:pt x="78" y="2049"/>
                    <a:pt x="156" y="2046"/>
                    <a:pt x="224" y="2045"/>
                  </a:cubicBezTo>
                  <a:cubicBezTo>
                    <a:pt x="292" y="2044"/>
                    <a:pt x="343" y="2054"/>
                    <a:pt x="408" y="2045"/>
                  </a:cubicBezTo>
                  <a:cubicBezTo>
                    <a:pt x="473" y="2036"/>
                    <a:pt x="551" y="2013"/>
                    <a:pt x="616" y="1989"/>
                  </a:cubicBezTo>
                  <a:cubicBezTo>
                    <a:pt x="681" y="1965"/>
                    <a:pt x="736" y="1945"/>
                    <a:pt x="800" y="1901"/>
                  </a:cubicBezTo>
                  <a:cubicBezTo>
                    <a:pt x="864" y="1857"/>
                    <a:pt x="931" y="1809"/>
                    <a:pt x="1000" y="1725"/>
                  </a:cubicBezTo>
                  <a:cubicBezTo>
                    <a:pt x="1069" y="1641"/>
                    <a:pt x="1151" y="1512"/>
                    <a:pt x="1216" y="1397"/>
                  </a:cubicBezTo>
                  <a:cubicBezTo>
                    <a:pt x="1281" y="1282"/>
                    <a:pt x="1331" y="1166"/>
                    <a:pt x="1392" y="1037"/>
                  </a:cubicBezTo>
                  <a:cubicBezTo>
                    <a:pt x="1453" y="908"/>
                    <a:pt x="1532" y="734"/>
                    <a:pt x="1584" y="621"/>
                  </a:cubicBezTo>
                  <a:cubicBezTo>
                    <a:pt x="1636" y="508"/>
                    <a:pt x="1660" y="438"/>
                    <a:pt x="1704" y="357"/>
                  </a:cubicBezTo>
                  <a:cubicBezTo>
                    <a:pt x="1748" y="276"/>
                    <a:pt x="1801" y="189"/>
                    <a:pt x="1848" y="133"/>
                  </a:cubicBezTo>
                  <a:cubicBezTo>
                    <a:pt x="1895" y="77"/>
                    <a:pt x="1948" y="42"/>
                    <a:pt x="1984" y="21"/>
                  </a:cubicBezTo>
                  <a:cubicBezTo>
                    <a:pt x="2020" y="0"/>
                    <a:pt x="2035" y="1"/>
                    <a:pt x="2064" y="5"/>
                  </a:cubicBezTo>
                  <a:cubicBezTo>
                    <a:pt x="2093" y="9"/>
                    <a:pt x="2119" y="6"/>
                    <a:pt x="2160" y="45"/>
                  </a:cubicBezTo>
                  <a:cubicBezTo>
                    <a:pt x="2201" y="84"/>
                    <a:pt x="2271" y="176"/>
                    <a:pt x="2312" y="237"/>
                  </a:cubicBezTo>
                  <a:cubicBezTo>
                    <a:pt x="2353" y="298"/>
                    <a:pt x="2375" y="350"/>
                    <a:pt x="2408" y="413"/>
                  </a:cubicBezTo>
                  <a:cubicBezTo>
                    <a:pt x="2441" y="476"/>
                    <a:pt x="2475" y="530"/>
                    <a:pt x="2512" y="613"/>
                  </a:cubicBezTo>
                  <a:cubicBezTo>
                    <a:pt x="2549" y="696"/>
                    <a:pt x="2593" y="822"/>
                    <a:pt x="2632" y="909"/>
                  </a:cubicBezTo>
                  <a:cubicBezTo>
                    <a:pt x="2671" y="996"/>
                    <a:pt x="2707" y="1056"/>
                    <a:pt x="2744" y="1133"/>
                  </a:cubicBezTo>
                  <a:cubicBezTo>
                    <a:pt x="2781" y="1210"/>
                    <a:pt x="2820" y="1304"/>
                    <a:pt x="2856" y="1373"/>
                  </a:cubicBezTo>
                  <a:cubicBezTo>
                    <a:pt x="2892" y="1442"/>
                    <a:pt x="2921" y="1492"/>
                    <a:pt x="2960" y="1549"/>
                  </a:cubicBezTo>
                  <a:cubicBezTo>
                    <a:pt x="2999" y="1606"/>
                    <a:pt x="3036" y="1661"/>
                    <a:pt x="3088" y="1717"/>
                  </a:cubicBezTo>
                  <a:cubicBezTo>
                    <a:pt x="3140" y="1773"/>
                    <a:pt x="3209" y="1840"/>
                    <a:pt x="3272" y="1885"/>
                  </a:cubicBezTo>
                  <a:cubicBezTo>
                    <a:pt x="3335" y="1930"/>
                    <a:pt x="3400" y="1965"/>
                    <a:pt x="3464" y="1989"/>
                  </a:cubicBezTo>
                  <a:cubicBezTo>
                    <a:pt x="3528" y="2013"/>
                    <a:pt x="3588" y="2018"/>
                    <a:pt x="3656" y="2029"/>
                  </a:cubicBezTo>
                  <a:cubicBezTo>
                    <a:pt x="3724" y="2040"/>
                    <a:pt x="3798" y="2046"/>
                    <a:pt x="3872" y="2053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13480" y="5958000"/>
              <a:ext cx="163440" cy="185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4140720" y="5744880"/>
              <a:ext cx="630000" cy="304920"/>
              <a:chOff x="4140720" y="5744880"/>
              <a:chExt cx="630000" cy="30492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4140720" y="5749920"/>
                <a:ext cx="630000" cy="299880"/>
                <a:chOff x="4140720" y="5749920"/>
                <a:chExt cx="630000" cy="2998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167360" y="5753160"/>
                  <a:ext cx="0" cy="25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159440" y="6049800"/>
                  <a:ext cx="57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140720" y="5759280"/>
                  <a:ext cx="38340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-3σ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357080" y="5767200"/>
                  <a:ext cx="41364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3σ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732200" y="5749920"/>
                  <a:ext cx="0" cy="25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 flipV="1">
                <a:off x="4437000" y="5744880"/>
                <a:ext cx="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5037480" y="5741640"/>
              <a:ext cx="630000" cy="304920"/>
              <a:chOff x="5037480" y="5741640"/>
              <a:chExt cx="630000" cy="30492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037480" y="5746680"/>
                <a:ext cx="630000" cy="299880"/>
                <a:chOff x="5037480" y="5746680"/>
                <a:chExt cx="630000" cy="2998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5064120" y="5749920"/>
                  <a:ext cx="0" cy="25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056200" y="6046560"/>
                  <a:ext cx="57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037480" y="5756040"/>
                  <a:ext cx="38340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-3σ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253840" y="5763960"/>
                  <a:ext cx="41364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3σ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628960" y="5746680"/>
                  <a:ext cx="0" cy="25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 flipV="1">
                <a:off x="5333760" y="5741640"/>
                <a:ext cx="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6672240" y="5272200"/>
            <a:ext cx="1757520" cy="1182600"/>
            <a:chOff x="6672240" y="5272200"/>
            <a:chExt cx="1757520" cy="1182600"/>
          </a:xfrm>
        </p:grpSpPr>
        <p:sp>
          <p:nvSpPr>
            <p:cNvPr id="282" name=""/>
            <p:cNvSpPr/>
            <p:nvPr/>
          </p:nvSpPr>
          <p:spPr>
            <a:xfrm>
              <a:off x="6701040" y="6141960"/>
              <a:ext cx="291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40640" y="5272200"/>
              <a:ext cx="684360" cy="485640"/>
            </a:xfrm>
            <a:custGeom>
              <a:avLst/>
              <a:gdLst/>
              <a:ahLst/>
              <a:rect l="l" t="t" r="r" b="b"/>
              <a:pathLst>
                <a:path w="3872" h="2054">
                  <a:moveTo>
                    <a:pt x="0" y="2053"/>
                  </a:moveTo>
                  <a:cubicBezTo>
                    <a:pt x="78" y="2049"/>
                    <a:pt x="156" y="2046"/>
                    <a:pt x="224" y="2045"/>
                  </a:cubicBezTo>
                  <a:cubicBezTo>
                    <a:pt x="292" y="2044"/>
                    <a:pt x="343" y="2054"/>
                    <a:pt x="408" y="2045"/>
                  </a:cubicBezTo>
                  <a:cubicBezTo>
                    <a:pt x="473" y="2036"/>
                    <a:pt x="551" y="2013"/>
                    <a:pt x="616" y="1989"/>
                  </a:cubicBezTo>
                  <a:cubicBezTo>
                    <a:pt x="681" y="1965"/>
                    <a:pt x="736" y="1945"/>
                    <a:pt x="800" y="1901"/>
                  </a:cubicBezTo>
                  <a:cubicBezTo>
                    <a:pt x="864" y="1857"/>
                    <a:pt x="931" y="1809"/>
                    <a:pt x="1000" y="1725"/>
                  </a:cubicBezTo>
                  <a:cubicBezTo>
                    <a:pt x="1069" y="1641"/>
                    <a:pt x="1151" y="1512"/>
                    <a:pt x="1216" y="1397"/>
                  </a:cubicBezTo>
                  <a:cubicBezTo>
                    <a:pt x="1281" y="1282"/>
                    <a:pt x="1331" y="1166"/>
                    <a:pt x="1392" y="1037"/>
                  </a:cubicBezTo>
                  <a:cubicBezTo>
                    <a:pt x="1453" y="908"/>
                    <a:pt x="1532" y="734"/>
                    <a:pt x="1584" y="621"/>
                  </a:cubicBezTo>
                  <a:cubicBezTo>
                    <a:pt x="1636" y="508"/>
                    <a:pt x="1660" y="438"/>
                    <a:pt x="1704" y="357"/>
                  </a:cubicBezTo>
                  <a:cubicBezTo>
                    <a:pt x="1748" y="276"/>
                    <a:pt x="1801" y="189"/>
                    <a:pt x="1848" y="133"/>
                  </a:cubicBezTo>
                  <a:cubicBezTo>
                    <a:pt x="1895" y="77"/>
                    <a:pt x="1948" y="42"/>
                    <a:pt x="1984" y="21"/>
                  </a:cubicBezTo>
                  <a:cubicBezTo>
                    <a:pt x="2020" y="0"/>
                    <a:pt x="2035" y="1"/>
                    <a:pt x="2064" y="5"/>
                  </a:cubicBezTo>
                  <a:cubicBezTo>
                    <a:pt x="2093" y="9"/>
                    <a:pt x="2119" y="6"/>
                    <a:pt x="2160" y="45"/>
                  </a:cubicBezTo>
                  <a:cubicBezTo>
                    <a:pt x="2201" y="84"/>
                    <a:pt x="2271" y="176"/>
                    <a:pt x="2312" y="237"/>
                  </a:cubicBezTo>
                  <a:cubicBezTo>
                    <a:pt x="2353" y="298"/>
                    <a:pt x="2375" y="350"/>
                    <a:pt x="2408" y="413"/>
                  </a:cubicBezTo>
                  <a:cubicBezTo>
                    <a:pt x="2441" y="476"/>
                    <a:pt x="2475" y="530"/>
                    <a:pt x="2512" y="613"/>
                  </a:cubicBezTo>
                  <a:cubicBezTo>
                    <a:pt x="2549" y="696"/>
                    <a:pt x="2593" y="822"/>
                    <a:pt x="2632" y="909"/>
                  </a:cubicBezTo>
                  <a:cubicBezTo>
                    <a:pt x="2671" y="996"/>
                    <a:pt x="2707" y="1056"/>
                    <a:pt x="2744" y="1133"/>
                  </a:cubicBezTo>
                  <a:cubicBezTo>
                    <a:pt x="2781" y="1210"/>
                    <a:pt x="2820" y="1304"/>
                    <a:pt x="2856" y="1373"/>
                  </a:cubicBezTo>
                  <a:cubicBezTo>
                    <a:pt x="2892" y="1442"/>
                    <a:pt x="2921" y="1492"/>
                    <a:pt x="2960" y="1549"/>
                  </a:cubicBezTo>
                  <a:cubicBezTo>
                    <a:pt x="2999" y="1606"/>
                    <a:pt x="3036" y="1661"/>
                    <a:pt x="3088" y="1717"/>
                  </a:cubicBezTo>
                  <a:cubicBezTo>
                    <a:pt x="3140" y="1773"/>
                    <a:pt x="3209" y="1840"/>
                    <a:pt x="3272" y="1885"/>
                  </a:cubicBezTo>
                  <a:cubicBezTo>
                    <a:pt x="3335" y="1930"/>
                    <a:pt x="3400" y="1965"/>
                    <a:pt x="3464" y="1989"/>
                  </a:cubicBezTo>
                  <a:cubicBezTo>
                    <a:pt x="3528" y="2013"/>
                    <a:pt x="3588" y="2018"/>
                    <a:pt x="3656" y="2029"/>
                  </a:cubicBezTo>
                  <a:cubicBezTo>
                    <a:pt x="3724" y="2040"/>
                    <a:pt x="3798" y="2046"/>
                    <a:pt x="3872" y="2053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72240" y="5958000"/>
              <a:ext cx="163800" cy="185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85600" y="6149880"/>
              <a:ext cx="302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48560" y="5280120"/>
              <a:ext cx="684360" cy="485640"/>
            </a:xfrm>
            <a:custGeom>
              <a:avLst/>
              <a:gdLst/>
              <a:ahLst/>
              <a:rect l="l" t="t" r="r" b="b"/>
              <a:pathLst>
                <a:path w="3872" h="2054">
                  <a:moveTo>
                    <a:pt x="0" y="2053"/>
                  </a:moveTo>
                  <a:cubicBezTo>
                    <a:pt x="78" y="2049"/>
                    <a:pt x="156" y="2046"/>
                    <a:pt x="224" y="2045"/>
                  </a:cubicBezTo>
                  <a:cubicBezTo>
                    <a:pt x="292" y="2044"/>
                    <a:pt x="343" y="2054"/>
                    <a:pt x="408" y="2045"/>
                  </a:cubicBezTo>
                  <a:cubicBezTo>
                    <a:pt x="473" y="2036"/>
                    <a:pt x="551" y="2013"/>
                    <a:pt x="616" y="1989"/>
                  </a:cubicBezTo>
                  <a:cubicBezTo>
                    <a:pt x="681" y="1965"/>
                    <a:pt x="736" y="1945"/>
                    <a:pt x="800" y="1901"/>
                  </a:cubicBezTo>
                  <a:cubicBezTo>
                    <a:pt x="864" y="1857"/>
                    <a:pt x="931" y="1809"/>
                    <a:pt x="1000" y="1725"/>
                  </a:cubicBezTo>
                  <a:cubicBezTo>
                    <a:pt x="1069" y="1641"/>
                    <a:pt x="1151" y="1512"/>
                    <a:pt x="1216" y="1397"/>
                  </a:cubicBezTo>
                  <a:cubicBezTo>
                    <a:pt x="1281" y="1282"/>
                    <a:pt x="1331" y="1166"/>
                    <a:pt x="1392" y="1037"/>
                  </a:cubicBezTo>
                  <a:cubicBezTo>
                    <a:pt x="1453" y="908"/>
                    <a:pt x="1532" y="734"/>
                    <a:pt x="1584" y="621"/>
                  </a:cubicBezTo>
                  <a:cubicBezTo>
                    <a:pt x="1636" y="508"/>
                    <a:pt x="1660" y="438"/>
                    <a:pt x="1704" y="357"/>
                  </a:cubicBezTo>
                  <a:cubicBezTo>
                    <a:pt x="1748" y="276"/>
                    <a:pt x="1801" y="189"/>
                    <a:pt x="1848" y="133"/>
                  </a:cubicBezTo>
                  <a:cubicBezTo>
                    <a:pt x="1895" y="77"/>
                    <a:pt x="1948" y="42"/>
                    <a:pt x="1984" y="21"/>
                  </a:cubicBezTo>
                  <a:cubicBezTo>
                    <a:pt x="2020" y="0"/>
                    <a:pt x="2035" y="1"/>
                    <a:pt x="2064" y="5"/>
                  </a:cubicBezTo>
                  <a:cubicBezTo>
                    <a:pt x="2093" y="9"/>
                    <a:pt x="2119" y="6"/>
                    <a:pt x="2160" y="45"/>
                  </a:cubicBezTo>
                  <a:cubicBezTo>
                    <a:pt x="2201" y="84"/>
                    <a:pt x="2271" y="176"/>
                    <a:pt x="2312" y="237"/>
                  </a:cubicBezTo>
                  <a:cubicBezTo>
                    <a:pt x="2353" y="298"/>
                    <a:pt x="2375" y="350"/>
                    <a:pt x="2408" y="413"/>
                  </a:cubicBezTo>
                  <a:cubicBezTo>
                    <a:pt x="2441" y="476"/>
                    <a:pt x="2475" y="530"/>
                    <a:pt x="2512" y="613"/>
                  </a:cubicBezTo>
                  <a:cubicBezTo>
                    <a:pt x="2549" y="696"/>
                    <a:pt x="2593" y="822"/>
                    <a:pt x="2632" y="909"/>
                  </a:cubicBezTo>
                  <a:cubicBezTo>
                    <a:pt x="2671" y="996"/>
                    <a:pt x="2707" y="1056"/>
                    <a:pt x="2744" y="1133"/>
                  </a:cubicBezTo>
                  <a:cubicBezTo>
                    <a:pt x="2781" y="1210"/>
                    <a:pt x="2820" y="1304"/>
                    <a:pt x="2856" y="1373"/>
                  </a:cubicBezTo>
                  <a:cubicBezTo>
                    <a:pt x="2892" y="1442"/>
                    <a:pt x="2921" y="1492"/>
                    <a:pt x="2960" y="1549"/>
                  </a:cubicBezTo>
                  <a:cubicBezTo>
                    <a:pt x="2999" y="1606"/>
                    <a:pt x="3036" y="1661"/>
                    <a:pt x="3088" y="1717"/>
                  </a:cubicBezTo>
                  <a:cubicBezTo>
                    <a:pt x="3140" y="1773"/>
                    <a:pt x="3209" y="1840"/>
                    <a:pt x="3272" y="1885"/>
                  </a:cubicBezTo>
                  <a:cubicBezTo>
                    <a:pt x="3335" y="1930"/>
                    <a:pt x="3400" y="1965"/>
                    <a:pt x="3464" y="1989"/>
                  </a:cubicBezTo>
                  <a:cubicBezTo>
                    <a:pt x="3528" y="2013"/>
                    <a:pt x="3588" y="2018"/>
                    <a:pt x="3656" y="2029"/>
                  </a:cubicBezTo>
                  <a:cubicBezTo>
                    <a:pt x="3724" y="2040"/>
                    <a:pt x="3798" y="2046"/>
                    <a:pt x="3872" y="2053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66320" y="5965920"/>
              <a:ext cx="163440" cy="185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6793560" y="5752800"/>
              <a:ext cx="630000" cy="304920"/>
              <a:chOff x="6793560" y="5752800"/>
              <a:chExt cx="630000" cy="30492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6793560" y="5757840"/>
                <a:ext cx="630000" cy="299880"/>
                <a:chOff x="6793560" y="5757840"/>
                <a:chExt cx="630000" cy="299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6820200" y="5761080"/>
                  <a:ext cx="0" cy="25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812280" y="6057720"/>
                  <a:ext cx="57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793560" y="5767200"/>
                  <a:ext cx="38340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-3σ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009920" y="5775120"/>
                  <a:ext cx="41364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3σ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385040" y="5757840"/>
                  <a:ext cx="0" cy="25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 flipV="1">
                <a:off x="7089840" y="5752800"/>
                <a:ext cx="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7690320" y="5749560"/>
              <a:ext cx="630000" cy="304920"/>
              <a:chOff x="7690320" y="5749560"/>
              <a:chExt cx="630000" cy="30492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7690320" y="5754600"/>
                <a:ext cx="630000" cy="299880"/>
                <a:chOff x="7690320" y="5754600"/>
                <a:chExt cx="630000" cy="299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7716960" y="5757840"/>
                  <a:ext cx="0" cy="25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709040" y="6054480"/>
                  <a:ext cx="57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690320" y="5763960"/>
                  <a:ext cx="38340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-3σ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906680" y="5771880"/>
                  <a:ext cx="41364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+3σ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281800" y="5754600"/>
                  <a:ext cx="0" cy="25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 flipV="1">
                <a:off x="7986600" y="5749560"/>
                <a:ext cx="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3C36-BF9C-4267-B033-1BE4C65EDFF1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deling On-Chip Variation (OCV)</a:t>
            </a: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-77760" y="1984320"/>
            <a:ext cx="237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 Simul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industry standard cell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057040" y="1994040"/>
            <a:ext cx="3088080" cy="990360"/>
            <a:chOff x="2057040" y="1994040"/>
            <a:chExt cx="3088080" cy="990360"/>
          </a:xfrm>
        </p:grpSpPr>
        <p:sp>
          <p:nvSpPr>
            <p:cNvPr id="307" name=""/>
            <p:cNvSpPr/>
            <p:nvPr/>
          </p:nvSpPr>
          <p:spPr>
            <a:xfrm>
              <a:off x="2568600" y="2449440"/>
              <a:ext cx="88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056680" y="1994040"/>
              <a:ext cx="544680" cy="903240"/>
            </a:xfrm>
            <a:custGeom>
              <a:avLst/>
              <a:gdLst>
                <a:gd name="textAreaLeft" fmla="*/ 348120 w 544680"/>
                <a:gd name="textAreaRight" fmla="*/ 545040 w 544680"/>
                <a:gd name="textAreaTop" fmla="*/ 23400 h 903240"/>
                <a:gd name="textAreaBottom" fmla="*/ 879840 h 90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35480" y="1994040"/>
              <a:ext cx="1709640" cy="990360"/>
            </a:xfrm>
            <a:prstGeom prst="rect">
              <a:avLst/>
            </a:prstGeom>
            <a:solidFill>
              <a:srgbClr val="7889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aracteriz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170320" y="1192320"/>
            <a:ext cx="3795840" cy="2139840"/>
            <a:chOff x="5170320" y="1192320"/>
            <a:chExt cx="3795840" cy="2139840"/>
          </a:xfrm>
        </p:grpSpPr>
        <p:sp>
          <p:nvSpPr>
            <p:cNvPr id="311" name=""/>
            <p:cNvSpPr/>
            <p:nvPr/>
          </p:nvSpPr>
          <p:spPr>
            <a:xfrm>
              <a:off x="5784840" y="1579680"/>
              <a:ext cx="3159000" cy="17524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69080" y="1992240"/>
              <a:ext cx="544320" cy="903240"/>
            </a:xfrm>
            <a:custGeom>
              <a:avLst/>
              <a:gdLst>
                <a:gd name="textAreaLeft" fmla="*/ 347760 w 544320"/>
                <a:gd name="textAreaRight" fmla="*/ 544680 w 544320"/>
                <a:gd name="textAreaTop" fmla="*/ 23400 h 903240"/>
                <a:gd name="textAreaBottom" fmla="*/ 879840 h 90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0320" y="2446560"/>
              <a:ext cx="7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67320" y="1792440"/>
              <a:ext cx="2319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Random Multi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75240" y="2711520"/>
              <a:ext cx="259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ystematic Multi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27520" y="1192320"/>
              <a:ext cx="3157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CV Dotli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57120" y="1192320"/>
            <a:ext cx="365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1: 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760" y="4197240"/>
            <a:ext cx="1316160" cy="370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SOI.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90560" y="4194000"/>
            <a:ext cx="1316160" cy="370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SOI.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1327320" y="4077360"/>
            <a:ext cx="424080" cy="1514520"/>
          </a:xfrm>
          <a:custGeom>
            <a:avLst/>
            <a:gdLst>
              <a:gd name="textAreaLeft" fmla="*/ 0 w 424080"/>
              <a:gd name="textAreaRight" fmla="*/ 153000 w 424080"/>
              <a:gd name="textAreaTop" fmla="*/ 39240 h 1514520"/>
              <a:gd name="textAreaBottom" fmla="*/ 1475280 h 15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303120" y="5232240"/>
                <a:ext cx="2298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rinsi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I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I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2933640" y="5021280"/>
            <a:ext cx="1197000" cy="598320"/>
          </a:xfrm>
          <a:prstGeom prst="flowChartDecision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93880" y="5324400"/>
            <a:ext cx="239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672080" y="4530600"/>
            <a:ext cx="2428920" cy="1204920"/>
            <a:chOff x="4672080" y="4530600"/>
            <a:chExt cx="2428920" cy="1204920"/>
          </a:xfrm>
        </p:grpSpPr>
        <p:sp>
          <p:nvSpPr>
            <p:cNvPr id="325" name=""/>
            <p:cNvSpPr/>
            <p:nvPr/>
          </p:nvSpPr>
          <p:spPr>
            <a:xfrm>
              <a:off x="4672080" y="4859280"/>
              <a:ext cx="2428920" cy="8762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89440" y="4530600"/>
              <a:ext cx="2270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CV Dotli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35520" y="4943520"/>
              <a:ext cx="2122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andom Multipli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43440" y="5351400"/>
              <a:ext cx="22510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ystematic Multipli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124160" y="5103720"/>
            <a:ext cx="793800" cy="426960"/>
          </a:xfrm>
          <a:custGeom>
            <a:avLst/>
            <a:gdLst>
              <a:gd name="textAreaLeft" fmla="*/ 507240 w 793800"/>
              <a:gd name="textAreaRight" fmla="*/ 794160 w 793800"/>
              <a:gd name="textAreaTop" fmla="*/ 10800 h 426960"/>
              <a:gd name="textAreaBottom" fmla="*/ 416160 h 42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97680" y="508464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29600" y="4916520"/>
            <a:ext cx="1590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dom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05600" y="554832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338240" y="5380200"/>
            <a:ext cx="1850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atic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7120" y="3532320"/>
            <a:ext cx="8163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2: Computation of Random &amp; Systematic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5CD7-7362-4E06-BCA0-05064134EBAB}" type="slidenum">
              <a:t>8</a:t>
            </a:fld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4080" y="53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CV Dotlib Details</a:t>
            </a: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234800"/>
            <a:ext cx="777564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s unitless multipliers instead of absolute delays and sle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stored at all PVTs, but just when the nfet/pfet are at their typical process cor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iming arc / test is a function of input slew and output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 complies with industry standard spec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B0C8-87FA-420A-86F8-8133EA72D2A1}" type="slidenum">
              <a:t>9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0:19:22Z</dcterms:created>
  <dc:creator>IBM_USER</dc:creator>
  <dc:description/>
  <dc:language>en-US</dc:language>
  <cp:lastModifiedBy>Dileep Netrabil</cp:lastModifiedBy>
  <dcterms:modified xsi:type="dcterms:W3CDTF">2010-05-06T17:21:09Z</dcterms:modified>
  <cp:revision>898</cp:revision>
  <dc:subject/>
  <dc:title>CML</dc:title>
</cp:coreProperties>
</file>