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6280" y="40748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96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16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0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62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16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0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972-8757-4291-8D18-E2740AF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8FF-9EFF-4952-B0E4-539C420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61E-69D6-4287-9ABA-01564A4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064-9A30-455D-A917-4520430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EAA-CFDA-4CB8-B694-8A075AC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536-DFE8-4648-A980-75F1220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6AB-9252-4706-81EE-D4C3E5A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628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215-F3E8-4FD1-8DE4-71382CB4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410-AB67-4540-B654-6019AB2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40748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7C0-8C8E-49FA-A8BC-A404FE4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68C-C003-4B2A-BFA0-EA643D9D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4479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40748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5D2-5E18-4D7B-9076-4A4B672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960" y="40748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4479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40748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2193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6294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1DCB-8FBA-43AC-B8E4-545F467769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24324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-dey@ti.com" TargetMode="External"/><Relationship Id="rId3" Type="http://schemas.openxmlformats.org/officeDocument/2006/relationships/hyperlink" Target="mailto:a-dey@ti.com" TargetMode="External"/><Relationship Id="rId4" Type="http://schemas.openxmlformats.org/officeDocument/2006/relationships/hyperlink" Target="mailto:shailgg@ti.com" TargetMode="External"/><Relationship Id="rId5" Type="http://schemas.openxmlformats.org/officeDocument/2006/relationships/hyperlink" Target="mailto:jacobj@ti.com" TargetMode="External"/><Relationship Id="rId6" Type="http://schemas.openxmlformats.org/officeDocument/2006/relationships/hyperlink" Target="mailto:shekhars@ti.com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w Power Verification for SoC using Formal Techn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4876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yon Dey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-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ey@ti.com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ailesh Ghotgalkar (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hailgg@ti.c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cob Joseph (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jacobj@ti.c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ekhar Sharma (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shekhars@ti.c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238880" y="6058080"/>
            <a:ext cx="1714680" cy="628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04920" y="5943600"/>
            <a:ext cx="2266920" cy="792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71200" y="293760"/>
            <a:ext cx="5086800" cy="2601720"/>
            <a:chOff x="1771200" y="293760"/>
            <a:chExt cx="5086800" cy="2601720"/>
          </a:xfrm>
        </p:grpSpPr>
        <p:grpSp>
          <p:nvGrpSpPr>
            <p:cNvPr id="87" name=""/>
            <p:cNvGrpSpPr/>
            <p:nvPr/>
          </p:nvGrpSpPr>
          <p:grpSpPr>
            <a:xfrm>
              <a:off x="1771200" y="293760"/>
              <a:ext cx="5086800" cy="2601720"/>
              <a:chOff x="1771200" y="293760"/>
              <a:chExt cx="5086800" cy="2601720"/>
            </a:xfrm>
          </p:grpSpPr>
          <p:sp>
            <p:nvSpPr>
              <p:cNvPr id="88" name=""/>
              <p:cNvSpPr/>
              <p:nvPr/>
            </p:nvSpPr>
            <p:spPr>
              <a:xfrm>
                <a:off x="1771200" y="2937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71200" y="4316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95480" y="745920"/>
                <a:ext cx="1073160" cy="1285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95480" y="745920"/>
                <a:ext cx="1073160" cy="1285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70040" y="7887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70040" y="9745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70040" y="11602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70040" y="1346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70040" y="15318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21360" y="172080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D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728800" y="17208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516040" y="488880"/>
                <a:ext cx="1800" cy="257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23920" y="552240"/>
                <a:ext cx="4780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59360" y="5540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31520" y="5540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36760" y="888840"/>
                <a:ext cx="34920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36760" y="888840"/>
                <a:ext cx="349200" cy="1666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17760" y="8985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W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71200" y="8985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23960" y="753840"/>
                <a:ext cx="1800" cy="12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08120" y="1055520"/>
                <a:ext cx="1800" cy="20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32200" y="738000"/>
                <a:ext cx="1073160" cy="12859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32200" y="738000"/>
                <a:ext cx="1073160" cy="1285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08200" y="780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08200" y="966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08200" y="11523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08200" y="1338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08200" y="15238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55920" y="1712880"/>
                <a:ext cx="220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81280" y="17128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66960" y="17128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352760" y="480960"/>
                <a:ext cx="1800" cy="257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60640" y="544320"/>
                <a:ext cx="48096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97880" y="54612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70040" y="54612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4920" y="880920"/>
                <a:ext cx="349560" cy="16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74920" y="880920"/>
                <a:ext cx="349560" cy="16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55920" y="8906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W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09720" y="8906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2480" y="745920"/>
                <a:ext cx="1440" cy="128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44840" y="1049400"/>
                <a:ext cx="1800" cy="20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97280" y="716040"/>
                <a:ext cx="1073160" cy="1285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97280" y="716040"/>
                <a:ext cx="1073160" cy="1285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71840" y="7588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71840" y="9446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71840" y="1130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13158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71840" y="15015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9560" y="1690560"/>
                <a:ext cx="220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44920" y="1690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30600" y="16905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037200" y="458280"/>
                <a:ext cx="1440" cy="25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45080" y="522360"/>
                <a:ext cx="479520" cy="12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80520" y="52380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52680" y="52380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57920" y="858600"/>
                <a:ext cx="34920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57920" y="858600"/>
                <a:ext cx="349200" cy="1666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38920" y="8683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W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92360" y="86832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43680" y="723960"/>
                <a:ext cx="1440" cy="12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29280" y="1025280"/>
                <a:ext cx="1440" cy="20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60720" y="1350720"/>
                <a:ext cx="826920" cy="60480"/>
              </a:xfrm>
              <a:custGeom>
                <a:avLst/>
                <a:gdLst/>
                <a:ahLst/>
                <a:rect l="l" t="t" r="r" b="b"/>
                <a:pathLst>
                  <a:path w="521" h="38">
                    <a:moveTo>
                      <a:pt x="517" y="22"/>
                    </a:moveTo>
                    <a:lnTo>
                      <a:pt x="34" y="22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517" y="16"/>
                    </a:lnTo>
                    <a:lnTo>
                      <a:pt x="519" y="16"/>
                    </a:lnTo>
                    <a:lnTo>
                      <a:pt x="520" y="17"/>
                    </a:lnTo>
                    <a:lnTo>
                      <a:pt x="521" y="18"/>
                    </a:lnTo>
                    <a:lnTo>
                      <a:pt x="521" y="19"/>
                    </a:lnTo>
                    <a:lnTo>
                      <a:pt x="521" y="20"/>
                    </a:lnTo>
                    <a:lnTo>
                      <a:pt x="520" y="22"/>
                    </a:lnTo>
                    <a:lnTo>
                      <a:pt x="519" y="22"/>
                    </a:lnTo>
                    <a:lnTo>
                      <a:pt x="517" y="22"/>
                    </a:lnTo>
                    <a:lnTo>
                      <a:pt x="517" y="22"/>
                    </a:lnTo>
                    <a:close/>
                    <a:moveTo>
                      <a:pt x="41" y="38"/>
                    </a:moveTo>
                    <a:lnTo>
                      <a:pt x="0" y="19"/>
                    </a:lnTo>
                    <a:lnTo>
                      <a:pt x="41" y="0"/>
                    </a:lnTo>
                    <a:lnTo>
                      <a:pt x="41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63880" y="1585800"/>
                <a:ext cx="3650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28920" y="1593720"/>
                <a:ext cx="1440" cy="108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89440" y="1222200"/>
                <a:ext cx="309600" cy="317520"/>
              </a:xfrm>
              <a:custGeom>
                <a:avLst/>
                <a:gdLst/>
                <a:ahLst/>
                <a:rect l="l" t="t" r="r" b="b"/>
                <a:pathLst>
                  <a:path w="195" h="200">
                    <a:moveTo>
                      <a:pt x="0" y="100"/>
                    </a:moveTo>
                    <a:lnTo>
                      <a:pt x="195" y="200"/>
                    </a:lnTo>
                    <a:lnTo>
                      <a:pt x="195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89440" y="1222200"/>
                <a:ext cx="309600" cy="317520"/>
              </a:xfrm>
              <a:custGeom>
                <a:avLst/>
                <a:gdLst/>
                <a:ahLst/>
                <a:rect l="l" t="t" r="r" b="b"/>
                <a:pathLst>
                  <a:path w="195" h="200">
                    <a:moveTo>
                      <a:pt x="0" y="100"/>
                    </a:moveTo>
                    <a:lnTo>
                      <a:pt x="195" y="200"/>
                    </a:lnTo>
                    <a:lnTo>
                      <a:pt x="195" y="0"/>
                    </a:lnTo>
                    <a:lnTo>
                      <a:pt x="0" y="10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7440" y="1684440"/>
                <a:ext cx="268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65640" y="1692360"/>
                <a:ext cx="1440" cy="9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24040" y="2630520"/>
                <a:ext cx="308160" cy="225360"/>
              </a:xfrm>
              <a:custGeom>
                <a:avLst/>
                <a:gdLst/>
                <a:ahLst/>
                <a:rect l="l" t="t" r="r" b="b"/>
                <a:pathLst>
                  <a:path w="194" h="142">
                    <a:moveTo>
                      <a:pt x="97" y="0"/>
                    </a:moveTo>
                    <a:lnTo>
                      <a:pt x="107" y="0"/>
                    </a:lnTo>
                    <a:lnTo>
                      <a:pt x="117" y="1"/>
                    </a:lnTo>
                    <a:lnTo>
                      <a:pt x="126" y="3"/>
                    </a:lnTo>
                    <a:lnTo>
                      <a:pt x="135" y="5"/>
                    </a:lnTo>
                    <a:lnTo>
                      <a:pt x="143" y="8"/>
                    </a:lnTo>
                    <a:lnTo>
                      <a:pt x="151" y="12"/>
                    </a:lnTo>
                    <a:lnTo>
                      <a:pt x="159" y="16"/>
                    </a:lnTo>
                    <a:lnTo>
                      <a:pt x="166" y="20"/>
                    </a:lnTo>
                    <a:lnTo>
                      <a:pt x="172" y="26"/>
                    </a:lnTo>
                    <a:lnTo>
                      <a:pt x="178" y="31"/>
                    </a:lnTo>
                    <a:lnTo>
                      <a:pt x="183" y="37"/>
                    </a:lnTo>
                    <a:lnTo>
                      <a:pt x="185" y="40"/>
                    </a:lnTo>
                    <a:lnTo>
                      <a:pt x="187" y="43"/>
                    </a:lnTo>
                    <a:lnTo>
                      <a:pt x="188" y="46"/>
                    </a:lnTo>
                    <a:lnTo>
                      <a:pt x="190" y="50"/>
                    </a:lnTo>
                    <a:lnTo>
                      <a:pt x="192" y="53"/>
                    </a:lnTo>
                    <a:lnTo>
                      <a:pt x="192" y="57"/>
                    </a:lnTo>
                    <a:lnTo>
                      <a:pt x="193" y="60"/>
                    </a:lnTo>
                    <a:lnTo>
                      <a:pt x="194" y="64"/>
                    </a:lnTo>
                    <a:lnTo>
                      <a:pt x="194" y="68"/>
                    </a:lnTo>
                    <a:lnTo>
                      <a:pt x="194" y="71"/>
                    </a:lnTo>
                    <a:lnTo>
                      <a:pt x="194" y="74"/>
                    </a:lnTo>
                    <a:lnTo>
                      <a:pt x="194" y="78"/>
                    </a:lnTo>
                    <a:lnTo>
                      <a:pt x="193" y="82"/>
                    </a:lnTo>
                    <a:lnTo>
                      <a:pt x="192" y="85"/>
                    </a:lnTo>
                    <a:lnTo>
                      <a:pt x="192" y="89"/>
                    </a:lnTo>
                    <a:lnTo>
                      <a:pt x="190" y="92"/>
                    </a:lnTo>
                    <a:lnTo>
                      <a:pt x="188" y="96"/>
                    </a:lnTo>
                    <a:lnTo>
                      <a:pt x="187" y="99"/>
                    </a:lnTo>
                    <a:lnTo>
                      <a:pt x="185" y="102"/>
                    </a:lnTo>
                    <a:lnTo>
                      <a:pt x="183" y="105"/>
                    </a:lnTo>
                    <a:lnTo>
                      <a:pt x="178" y="111"/>
                    </a:lnTo>
                    <a:lnTo>
                      <a:pt x="172" y="116"/>
                    </a:lnTo>
                    <a:lnTo>
                      <a:pt x="166" y="122"/>
                    </a:lnTo>
                    <a:lnTo>
                      <a:pt x="159" y="126"/>
                    </a:lnTo>
                    <a:lnTo>
                      <a:pt x="151" y="130"/>
                    </a:lnTo>
                    <a:lnTo>
                      <a:pt x="143" y="134"/>
                    </a:lnTo>
                    <a:lnTo>
                      <a:pt x="135" y="137"/>
                    </a:lnTo>
                    <a:lnTo>
                      <a:pt x="126" y="139"/>
                    </a:lnTo>
                    <a:lnTo>
                      <a:pt x="117" y="141"/>
                    </a:lnTo>
                    <a:lnTo>
                      <a:pt x="107" y="142"/>
                    </a:lnTo>
                    <a:lnTo>
                      <a:pt x="97" y="142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24040" y="2630520"/>
                <a:ext cx="308160" cy="225360"/>
              </a:xfrm>
              <a:custGeom>
                <a:avLst/>
                <a:gdLst/>
                <a:ahLst/>
                <a:rect l="l" t="t" r="r" b="b"/>
                <a:pathLst>
                  <a:path w="194" h="142">
                    <a:moveTo>
                      <a:pt x="97" y="0"/>
                    </a:moveTo>
                    <a:lnTo>
                      <a:pt x="107" y="0"/>
                    </a:lnTo>
                    <a:lnTo>
                      <a:pt x="117" y="1"/>
                    </a:lnTo>
                    <a:lnTo>
                      <a:pt x="126" y="3"/>
                    </a:lnTo>
                    <a:lnTo>
                      <a:pt x="135" y="5"/>
                    </a:lnTo>
                    <a:lnTo>
                      <a:pt x="143" y="8"/>
                    </a:lnTo>
                    <a:lnTo>
                      <a:pt x="151" y="12"/>
                    </a:lnTo>
                    <a:lnTo>
                      <a:pt x="159" y="16"/>
                    </a:lnTo>
                    <a:lnTo>
                      <a:pt x="166" y="20"/>
                    </a:lnTo>
                    <a:lnTo>
                      <a:pt x="172" y="26"/>
                    </a:lnTo>
                    <a:lnTo>
                      <a:pt x="178" y="31"/>
                    </a:lnTo>
                    <a:lnTo>
                      <a:pt x="183" y="37"/>
                    </a:lnTo>
                    <a:lnTo>
                      <a:pt x="185" y="40"/>
                    </a:lnTo>
                    <a:lnTo>
                      <a:pt x="187" y="43"/>
                    </a:lnTo>
                    <a:lnTo>
                      <a:pt x="188" y="46"/>
                    </a:lnTo>
                    <a:lnTo>
                      <a:pt x="190" y="50"/>
                    </a:lnTo>
                    <a:lnTo>
                      <a:pt x="192" y="53"/>
                    </a:lnTo>
                    <a:lnTo>
                      <a:pt x="192" y="57"/>
                    </a:lnTo>
                    <a:lnTo>
                      <a:pt x="193" y="60"/>
                    </a:lnTo>
                    <a:lnTo>
                      <a:pt x="194" y="64"/>
                    </a:lnTo>
                    <a:lnTo>
                      <a:pt x="194" y="68"/>
                    </a:lnTo>
                    <a:lnTo>
                      <a:pt x="194" y="71"/>
                    </a:lnTo>
                    <a:lnTo>
                      <a:pt x="194" y="74"/>
                    </a:lnTo>
                    <a:lnTo>
                      <a:pt x="194" y="78"/>
                    </a:lnTo>
                    <a:lnTo>
                      <a:pt x="193" y="82"/>
                    </a:lnTo>
                    <a:lnTo>
                      <a:pt x="192" y="85"/>
                    </a:lnTo>
                    <a:lnTo>
                      <a:pt x="192" y="89"/>
                    </a:lnTo>
                    <a:lnTo>
                      <a:pt x="190" y="92"/>
                    </a:lnTo>
                    <a:lnTo>
                      <a:pt x="188" y="96"/>
                    </a:lnTo>
                    <a:lnTo>
                      <a:pt x="187" y="99"/>
                    </a:lnTo>
                    <a:lnTo>
                      <a:pt x="185" y="102"/>
                    </a:lnTo>
                    <a:lnTo>
                      <a:pt x="183" y="105"/>
                    </a:lnTo>
                    <a:lnTo>
                      <a:pt x="178" y="111"/>
                    </a:lnTo>
                    <a:lnTo>
                      <a:pt x="172" y="116"/>
                    </a:lnTo>
                    <a:lnTo>
                      <a:pt x="166" y="122"/>
                    </a:lnTo>
                    <a:lnTo>
                      <a:pt x="159" y="126"/>
                    </a:lnTo>
                    <a:lnTo>
                      <a:pt x="151" y="130"/>
                    </a:lnTo>
                    <a:lnTo>
                      <a:pt x="143" y="134"/>
                    </a:lnTo>
                    <a:lnTo>
                      <a:pt x="135" y="137"/>
                    </a:lnTo>
                    <a:lnTo>
                      <a:pt x="126" y="139"/>
                    </a:lnTo>
                    <a:lnTo>
                      <a:pt x="117" y="141"/>
                    </a:lnTo>
                    <a:lnTo>
                      <a:pt x="107" y="142"/>
                    </a:lnTo>
                    <a:lnTo>
                      <a:pt x="97" y="142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328920" y="2682720"/>
                <a:ext cx="187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60760" y="2570040"/>
                <a:ext cx="309600" cy="225360"/>
              </a:xfrm>
              <a:custGeom>
                <a:avLst/>
                <a:gdLst/>
                <a:ahLst/>
                <a:rect l="l" t="t" r="r" b="b"/>
                <a:pathLst>
                  <a:path w="195" h="142">
                    <a:moveTo>
                      <a:pt x="98" y="0"/>
                    </a:moveTo>
                    <a:lnTo>
                      <a:pt x="108" y="0"/>
                    </a:lnTo>
                    <a:lnTo>
                      <a:pt x="117" y="1"/>
                    </a:lnTo>
                    <a:lnTo>
                      <a:pt x="126" y="3"/>
                    </a:lnTo>
                    <a:lnTo>
                      <a:pt x="135" y="5"/>
                    </a:lnTo>
                    <a:lnTo>
                      <a:pt x="144" y="8"/>
                    </a:lnTo>
                    <a:lnTo>
                      <a:pt x="153" y="12"/>
                    </a:lnTo>
                    <a:lnTo>
                      <a:pt x="160" y="16"/>
                    </a:lnTo>
                    <a:lnTo>
                      <a:pt x="167" y="20"/>
                    </a:lnTo>
                    <a:lnTo>
                      <a:pt x="173" y="25"/>
                    </a:lnTo>
                    <a:lnTo>
                      <a:pt x="179" y="31"/>
                    </a:lnTo>
                    <a:lnTo>
                      <a:pt x="184" y="37"/>
                    </a:lnTo>
                    <a:lnTo>
                      <a:pt x="185" y="40"/>
                    </a:lnTo>
                    <a:lnTo>
                      <a:pt x="188" y="43"/>
                    </a:lnTo>
                    <a:lnTo>
                      <a:pt x="189" y="46"/>
                    </a:lnTo>
                    <a:lnTo>
                      <a:pt x="191" y="50"/>
                    </a:lnTo>
                    <a:lnTo>
                      <a:pt x="192" y="53"/>
                    </a:lnTo>
                    <a:lnTo>
                      <a:pt x="193" y="57"/>
                    </a:lnTo>
                    <a:lnTo>
                      <a:pt x="194" y="60"/>
                    </a:lnTo>
                    <a:lnTo>
                      <a:pt x="194" y="64"/>
                    </a:lnTo>
                    <a:lnTo>
                      <a:pt x="195" y="67"/>
                    </a:lnTo>
                    <a:lnTo>
                      <a:pt x="195" y="71"/>
                    </a:lnTo>
                    <a:lnTo>
                      <a:pt x="195" y="74"/>
                    </a:lnTo>
                    <a:lnTo>
                      <a:pt x="194" y="78"/>
                    </a:lnTo>
                    <a:lnTo>
                      <a:pt x="194" y="82"/>
                    </a:lnTo>
                    <a:lnTo>
                      <a:pt x="193" y="85"/>
                    </a:lnTo>
                    <a:lnTo>
                      <a:pt x="192" y="89"/>
                    </a:lnTo>
                    <a:lnTo>
                      <a:pt x="191" y="92"/>
                    </a:lnTo>
                    <a:lnTo>
                      <a:pt x="189" y="96"/>
                    </a:lnTo>
                    <a:lnTo>
                      <a:pt x="188" y="99"/>
                    </a:lnTo>
                    <a:lnTo>
                      <a:pt x="185" y="102"/>
                    </a:lnTo>
                    <a:lnTo>
                      <a:pt x="184" y="105"/>
                    </a:lnTo>
                    <a:lnTo>
                      <a:pt x="179" y="111"/>
                    </a:lnTo>
                    <a:lnTo>
                      <a:pt x="173" y="116"/>
                    </a:lnTo>
                    <a:lnTo>
                      <a:pt x="167" y="122"/>
                    </a:lnTo>
                    <a:lnTo>
                      <a:pt x="160" y="126"/>
                    </a:lnTo>
                    <a:lnTo>
                      <a:pt x="153" y="130"/>
                    </a:lnTo>
                    <a:lnTo>
                      <a:pt x="144" y="134"/>
                    </a:lnTo>
                    <a:lnTo>
                      <a:pt x="135" y="137"/>
                    </a:lnTo>
                    <a:lnTo>
                      <a:pt x="126" y="139"/>
                    </a:lnTo>
                    <a:lnTo>
                      <a:pt x="117" y="141"/>
                    </a:lnTo>
                    <a:lnTo>
                      <a:pt x="108" y="142"/>
                    </a:lnTo>
                    <a:lnTo>
                      <a:pt x="98" y="142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60760" y="2570040"/>
                <a:ext cx="309600" cy="225360"/>
              </a:xfrm>
              <a:custGeom>
                <a:avLst/>
                <a:gdLst/>
                <a:ahLst/>
                <a:rect l="l" t="t" r="r" b="b"/>
                <a:pathLst>
                  <a:path w="195" h="142">
                    <a:moveTo>
                      <a:pt x="98" y="0"/>
                    </a:moveTo>
                    <a:lnTo>
                      <a:pt x="108" y="0"/>
                    </a:lnTo>
                    <a:lnTo>
                      <a:pt x="117" y="1"/>
                    </a:lnTo>
                    <a:lnTo>
                      <a:pt x="126" y="3"/>
                    </a:lnTo>
                    <a:lnTo>
                      <a:pt x="135" y="5"/>
                    </a:lnTo>
                    <a:lnTo>
                      <a:pt x="144" y="8"/>
                    </a:lnTo>
                    <a:lnTo>
                      <a:pt x="153" y="12"/>
                    </a:lnTo>
                    <a:lnTo>
                      <a:pt x="160" y="16"/>
                    </a:lnTo>
                    <a:lnTo>
                      <a:pt x="167" y="20"/>
                    </a:lnTo>
                    <a:lnTo>
                      <a:pt x="173" y="25"/>
                    </a:lnTo>
                    <a:lnTo>
                      <a:pt x="179" y="31"/>
                    </a:lnTo>
                    <a:lnTo>
                      <a:pt x="184" y="37"/>
                    </a:lnTo>
                    <a:lnTo>
                      <a:pt x="185" y="40"/>
                    </a:lnTo>
                    <a:lnTo>
                      <a:pt x="188" y="43"/>
                    </a:lnTo>
                    <a:lnTo>
                      <a:pt x="189" y="46"/>
                    </a:lnTo>
                    <a:lnTo>
                      <a:pt x="191" y="50"/>
                    </a:lnTo>
                    <a:lnTo>
                      <a:pt x="192" y="53"/>
                    </a:lnTo>
                    <a:lnTo>
                      <a:pt x="193" y="57"/>
                    </a:lnTo>
                    <a:lnTo>
                      <a:pt x="194" y="60"/>
                    </a:lnTo>
                    <a:lnTo>
                      <a:pt x="194" y="64"/>
                    </a:lnTo>
                    <a:lnTo>
                      <a:pt x="195" y="67"/>
                    </a:lnTo>
                    <a:lnTo>
                      <a:pt x="195" y="71"/>
                    </a:lnTo>
                    <a:lnTo>
                      <a:pt x="195" y="74"/>
                    </a:lnTo>
                    <a:lnTo>
                      <a:pt x="194" y="78"/>
                    </a:lnTo>
                    <a:lnTo>
                      <a:pt x="194" y="82"/>
                    </a:lnTo>
                    <a:lnTo>
                      <a:pt x="193" y="85"/>
                    </a:lnTo>
                    <a:lnTo>
                      <a:pt x="192" y="89"/>
                    </a:lnTo>
                    <a:lnTo>
                      <a:pt x="191" y="92"/>
                    </a:lnTo>
                    <a:lnTo>
                      <a:pt x="189" y="96"/>
                    </a:lnTo>
                    <a:lnTo>
                      <a:pt x="188" y="99"/>
                    </a:lnTo>
                    <a:lnTo>
                      <a:pt x="185" y="102"/>
                    </a:lnTo>
                    <a:lnTo>
                      <a:pt x="184" y="105"/>
                    </a:lnTo>
                    <a:lnTo>
                      <a:pt x="179" y="111"/>
                    </a:lnTo>
                    <a:lnTo>
                      <a:pt x="173" y="116"/>
                    </a:lnTo>
                    <a:lnTo>
                      <a:pt x="167" y="122"/>
                    </a:lnTo>
                    <a:lnTo>
                      <a:pt x="160" y="126"/>
                    </a:lnTo>
                    <a:lnTo>
                      <a:pt x="153" y="130"/>
                    </a:lnTo>
                    <a:lnTo>
                      <a:pt x="144" y="134"/>
                    </a:lnTo>
                    <a:lnTo>
                      <a:pt x="135" y="137"/>
                    </a:lnTo>
                    <a:lnTo>
                      <a:pt x="126" y="139"/>
                    </a:lnTo>
                    <a:lnTo>
                      <a:pt x="117" y="141"/>
                    </a:lnTo>
                    <a:lnTo>
                      <a:pt x="108" y="142"/>
                    </a:lnTo>
                    <a:lnTo>
                      <a:pt x="98" y="142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165640" y="2622600"/>
                <a:ext cx="187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832200" y="2735280"/>
                <a:ext cx="1512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62440" y="2682720"/>
                <a:ext cx="471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134040" y="2001600"/>
                <a:ext cx="1440" cy="681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62360" y="1146240"/>
                <a:ext cx="1954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62360" y="1146240"/>
                <a:ext cx="195480" cy="257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0520" y="1155600"/>
                <a:ext cx="16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69720" y="115560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44880" y="1170000"/>
                <a:ext cx="785880" cy="60120"/>
              </a:xfrm>
              <a:custGeom>
                <a:avLst/>
                <a:gdLst/>
                <a:ahLst/>
                <a:rect l="l" t="t" r="r" b="b"/>
                <a:pathLst>
                  <a:path w="495" h="38">
                    <a:moveTo>
                      <a:pt x="3" y="15"/>
                    </a:moveTo>
                    <a:lnTo>
                      <a:pt x="460" y="15"/>
                    </a:lnTo>
                    <a:lnTo>
                      <a:pt x="462" y="16"/>
                    </a:lnTo>
                    <a:lnTo>
                      <a:pt x="463" y="17"/>
                    </a:lnTo>
                    <a:lnTo>
                      <a:pt x="464" y="17"/>
                    </a:lnTo>
                    <a:lnTo>
                      <a:pt x="464" y="19"/>
                    </a:lnTo>
                    <a:lnTo>
                      <a:pt x="464" y="20"/>
                    </a:lnTo>
                    <a:lnTo>
                      <a:pt x="463" y="21"/>
                    </a:lnTo>
                    <a:lnTo>
                      <a:pt x="462" y="21"/>
                    </a:lnTo>
                    <a:lnTo>
                      <a:pt x="460" y="22"/>
                    </a:lnTo>
                    <a:lnTo>
                      <a:pt x="3" y="22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454" y="0"/>
                    </a:moveTo>
                    <a:lnTo>
                      <a:pt x="495" y="19"/>
                    </a:lnTo>
                    <a:lnTo>
                      <a:pt x="454" y="38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89560" y="1539720"/>
                <a:ext cx="193680" cy="25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89560" y="1539720"/>
                <a:ext cx="193680" cy="257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27720" y="1549440"/>
                <a:ext cx="16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96920" y="154944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76760" y="1623960"/>
                <a:ext cx="27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51440" y="1623960"/>
                <a:ext cx="1800" cy="1262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3320640" y="2886120"/>
                <a:ext cx="3430440" cy="9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28920" y="2808360"/>
                <a:ext cx="187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28920" y="2808360"/>
                <a:ext cx="1440" cy="77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65160" y="465120"/>
                <a:ext cx="499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68400" y="317520"/>
                <a:ext cx="480960" cy="12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05280" y="31896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77800" y="3189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612960" y="450360"/>
                <a:ext cx="1800" cy="217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5410080" y="472680"/>
                <a:ext cx="1800" cy="208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74520" y="175248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30040" y="175248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85760" y="18144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41280" y="181440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04920" y="148104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60440" y="14810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70280" y="1554120"/>
                <a:ext cx="1954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70280" y="1554120"/>
                <a:ext cx="1954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08440" y="1563480"/>
                <a:ext cx="16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77640" y="156348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82800" y="1449360"/>
                <a:ext cx="19512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82800" y="1449360"/>
                <a:ext cx="195120" cy="257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22400" y="1458720"/>
                <a:ext cx="16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91960" y="145872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37080" y="180648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92600" y="180648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03320" y="141264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58840" y="14126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427280" y="1563480"/>
              <a:ext cx="838440" cy="32040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8000" y="1436400"/>
              <a:ext cx="903240" cy="32364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71760" y="1190520"/>
              <a:ext cx="839880" cy="32184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6640" y="1493640"/>
              <a:ext cx="700200" cy="32184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8160" y="1087200"/>
              <a:ext cx="699840" cy="32040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Design Areas Improv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art from PM structural checks, CLP can be used to bring improvements in other design areas as wel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mpact on Area, power and Timing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tection and removal of redundant isolation cell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mprovements to Physical Design Flow: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sic CLP checks of L1, L2 performed early in design cyc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duces iterations in Backend fl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dentifies missing don’t-touch constrai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oids design schedule impact by identifying incorrect voltage domain implementation and missing MPDR (Multi-Power Domain Region) early in the flow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mitations &amp; Future Enhance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66280" y="16765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 CLP cannot perform Level-1, 2 and 3 checks on Spice model, Power Verilog modeling is required for analog components. Only proper modeling can  ensure sanity of these check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quires additional Power Aware GLS (PAGLS) for functional correct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hance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tter ED debug capabil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th increasing design size/complexity, level-3 run time needs to be re-look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74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P or PAGLS – Not a Standalone Signoff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09480" y="3581280"/>
          <a:ext cx="7925040" cy="284004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G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nds all the issues in a single r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6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ny test-cases need to be cod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n-points the issue with location in netli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6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lind X propagation, needs extensive deb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off for tape-out : Single run + few PAGLS testca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6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ed to perform regression with a manually chosen suite of test-cases in absence of C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 an alternative for PAGLS as sequencing related issues will be emulated exhaustively only in simu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ed to have PAGLS for sequencing related check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6b7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304920" y="160020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P being a formal tool, has certain disadvantages which can be addressed using sim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0% coverage is not practical using only PAGLS eith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b4"/>
                </a:solidFill>
                <a:latin typeface="Verdana"/>
              </a:rPr>
              <a:t>Signoff </a:t>
            </a:r>
            <a:r>
              <a:rPr b="1" i="1" lang="en-US" sz="2200" spc="-1" strike="noStrike">
                <a:solidFill>
                  <a:srgbClr val="0000b4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0000b4"/>
                </a:solidFill>
                <a:latin typeface="Verdana"/>
              </a:rPr>
              <a:t> combination of both CLP and PAG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ns of Power Management (PM) techniques availabl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timal combinations to achieve best power that balances with area and complexity tradeoff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ach technique requires addition of specific PM cells and design structur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igent task to ensure that the PM infrastructure inserted is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t disrupting the functionalit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intent of newly added structures is serv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sequence of power controls does not break any electrical assump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Low Power Verification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2209680"/>
            <a:ext cx="8077320" cy="1983960"/>
            <a:chOff x="609480" y="2209680"/>
            <a:chExt cx="8077320" cy="1983960"/>
          </a:xfrm>
        </p:grpSpPr>
        <p:sp>
          <p:nvSpPr>
            <p:cNvPr id="211" name=""/>
            <p:cNvSpPr/>
            <p:nvPr/>
          </p:nvSpPr>
          <p:spPr>
            <a:xfrm>
              <a:off x="609480" y="2209680"/>
              <a:ext cx="1676520" cy="144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3880" y="2971800"/>
              <a:ext cx="6858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2971800"/>
              <a:ext cx="68580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2361960"/>
              <a:ext cx="1447560" cy="533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2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3200" y="2209680"/>
              <a:ext cx="1676520" cy="144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7600" y="2971800"/>
              <a:ext cx="6858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971800"/>
              <a:ext cx="68580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5480" y="2361960"/>
              <a:ext cx="1447920" cy="533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95480" y="236196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1800" y="2361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33920" y="25146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2209680"/>
              <a:ext cx="1676160" cy="144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1320" y="2971800"/>
              <a:ext cx="6858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9200" y="2971800"/>
              <a:ext cx="68580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9200" y="2361960"/>
              <a:ext cx="1447920" cy="533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029200" y="236196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520" y="2361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7280" y="2514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2209680"/>
              <a:ext cx="1676520" cy="144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4680" y="2971800"/>
              <a:ext cx="68580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2971800"/>
              <a:ext cx="68580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2361960"/>
              <a:ext cx="609480" cy="533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9-1.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6600" y="2361960"/>
              <a:ext cx="6858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12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620120" y="2819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86600" y="2361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86600" y="26668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3657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b4"/>
                  </a:solidFill>
                  <a:latin typeface="Arial"/>
                </a:rPr>
                <a:t>Multi-Vol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3657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b4"/>
                  </a:solidFill>
                  <a:latin typeface="Arial"/>
                </a:rPr>
                <a:t>Power G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6920" y="367344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b4"/>
                  </a:solidFill>
                  <a:latin typeface="Arial"/>
                </a:rPr>
                <a:t>Power Gating with state reten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280" y="373356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b4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b4"/>
                  </a:solidFill>
                  <a:latin typeface="Arial"/>
                </a:rPr>
                <a:t>DPS, DVFS, AV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380880" y="1523880"/>
            <a:ext cx="8534520" cy="4267440"/>
            <a:chOff x="380880" y="1523880"/>
            <a:chExt cx="8534520" cy="4267440"/>
          </a:xfrm>
        </p:grpSpPr>
        <p:grpSp>
          <p:nvGrpSpPr>
            <p:cNvPr id="243" name=""/>
            <p:cNvGrpSpPr/>
            <p:nvPr/>
          </p:nvGrpSpPr>
          <p:grpSpPr>
            <a:xfrm>
              <a:off x="380880" y="3048120"/>
              <a:ext cx="1609920" cy="610920"/>
              <a:chOff x="380880" y="3048120"/>
              <a:chExt cx="1609920" cy="610920"/>
            </a:xfrm>
          </p:grpSpPr>
          <p:sp>
            <p:nvSpPr>
              <p:cNvPr id="244" name=""/>
              <p:cNvSpPr/>
              <p:nvPr/>
            </p:nvSpPr>
            <p:spPr>
              <a:xfrm>
                <a:off x="380880" y="3048120"/>
                <a:ext cx="1609920" cy="61092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" y="3048120"/>
                <a:ext cx="1609920" cy="61092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911880" y="3151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9120" y="33703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83320" y="337032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14440" y="4114800"/>
              <a:ext cx="1314360" cy="326880"/>
              <a:chOff x="514440" y="4114800"/>
              <a:chExt cx="1314360" cy="3268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514440" y="4114800"/>
                <a:ext cx="1314360" cy="326880"/>
                <a:chOff x="514440" y="4114800"/>
                <a:chExt cx="1314360" cy="326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14440" y="4114800"/>
                  <a:ext cx="1314360" cy="326880"/>
                </a:xfrm>
                <a:custGeom>
                  <a:avLst/>
                  <a:gdLst/>
                  <a:ahLst/>
                  <a:rect l="l" t="t" r="r" b="b"/>
                  <a:pathLst>
                    <a:path w="3775" h="954">
                      <a:moveTo>
                        <a:pt x="179" y="0"/>
                      </a:moveTo>
                      <a:cubicBezTo>
                        <a:pt x="146" y="0"/>
                        <a:pt x="119" y="27"/>
                        <a:pt x="119" y="60"/>
                      </a:cubicBezTo>
                      <a:lnTo>
                        <a:pt x="119" y="835"/>
                      </a:lnTo>
                      <a:lnTo>
                        <a:pt x="59" y="835"/>
                      </a:lnTo>
                      <a:cubicBezTo>
                        <a:pt x="26" y="835"/>
                        <a:pt x="0" y="862"/>
                        <a:pt x="0" y="895"/>
                      </a:cubicBezTo>
                      <a:cubicBezTo>
                        <a:pt x="0" y="928"/>
                        <a:pt x="26" y="954"/>
                        <a:pt x="59" y="954"/>
                      </a:cubicBezTo>
                      <a:lnTo>
                        <a:pt x="3596" y="954"/>
                      </a:lnTo>
                      <a:cubicBezTo>
                        <a:pt x="3629" y="954"/>
                        <a:pt x="3656" y="928"/>
                        <a:pt x="3656" y="895"/>
                      </a:cubicBezTo>
                      <a:lnTo>
                        <a:pt x="3656" y="120"/>
                      </a:lnTo>
                      <a:lnTo>
                        <a:pt x="3715" y="120"/>
                      </a:lnTo>
                      <a:cubicBezTo>
                        <a:pt x="3748" y="120"/>
                        <a:pt x="3775" y="93"/>
                        <a:pt x="3775" y="60"/>
                      </a:cubicBezTo>
                      <a:cubicBezTo>
                        <a:pt x="3775" y="27"/>
                        <a:pt x="3748" y="0"/>
                        <a:pt x="3715" y="0"/>
                      </a:cubicBez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64840" y="4134240"/>
                  <a:ext cx="31680" cy="19800"/>
                </a:xfrm>
                <a:custGeom>
                  <a:avLst/>
                  <a:gdLst/>
                  <a:ahLst/>
                  <a:rect l="l" t="t" r="r" b="b"/>
                  <a:pathLst>
                    <a:path w="89" h="60">
                      <a:moveTo>
                        <a:pt x="89" y="0"/>
                      </a:moveTo>
                      <a:cubicBezTo>
                        <a:pt x="89" y="33"/>
                        <a:pt x="63" y="60"/>
                        <a:pt x="30" y="60"/>
                      </a:cubicBezTo>
                      <a:cubicBezTo>
                        <a:pt x="13" y="60"/>
                        <a:pt x="0" y="46"/>
                        <a:pt x="0" y="30"/>
                      </a:cubicBezTo>
                      <a:cubicBezTo>
                        <a:pt x="0" y="13"/>
                        <a:pt x="13" y="0"/>
                        <a:pt x="30" y="0"/>
                      </a:cubicBezTo>
                    </a:path>
                  </a:pathLst>
                </a:custGeom>
                <a:solidFill>
                  <a:srgbClr val="a4bec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440" y="440028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119" h="119">
                      <a:moveTo>
                        <a:pt x="59" y="0"/>
                      </a:moveTo>
                      <a:cubicBezTo>
                        <a:pt x="26" y="0"/>
                        <a:pt x="0" y="27"/>
                        <a:pt x="0" y="60"/>
                      </a:cubicBezTo>
                      <a:cubicBezTo>
                        <a:pt x="0" y="93"/>
                        <a:pt x="26" y="119"/>
                        <a:pt x="59" y="119"/>
                      </a:cubicBezTo>
                      <a:cubicBezTo>
                        <a:pt x="92" y="119"/>
                        <a:pt x="119" y="93"/>
                        <a:pt x="119" y="60"/>
                      </a:cubicBezTo>
                      <a:lnTo>
                        <a:pt x="59" y="60"/>
                      </a:lnTo>
                      <a:cubicBezTo>
                        <a:pt x="76" y="60"/>
                        <a:pt x="89" y="46"/>
                        <a:pt x="89" y="30"/>
                      </a:cubicBezTo>
                      <a:cubicBezTo>
                        <a:pt x="89" y="14"/>
                        <a:pt x="76" y="0"/>
                        <a:pt x="59" y="0"/>
                      </a:cubicBezTo>
                    </a:path>
                  </a:pathLst>
                </a:custGeom>
                <a:solidFill>
                  <a:srgbClr val="a4bec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4440" y="4114800"/>
                  <a:ext cx="1314360" cy="326880"/>
                </a:xfrm>
                <a:custGeom>
                  <a:avLst/>
                  <a:gdLst/>
                  <a:ahLst/>
                  <a:rect l="l" t="t" r="r" b="b"/>
                  <a:pathLst>
                    <a:path w="3775" h="954">
                      <a:moveTo>
                        <a:pt x="179" y="0"/>
                      </a:moveTo>
                      <a:cubicBezTo>
                        <a:pt x="146" y="0"/>
                        <a:pt x="119" y="27"/>
                        <a:pt x="119" y="60"/>
                      </a:cubicBezTo>
                      <a:lnTo>
                        <a:pt x="119" y="835"/>
                      </a:lnTo>
                      <a:lnTo>
                        <a:pt x="59" y="835"/>
                      </a:lnTo>
                      <a:cubicBezTo>
                        <a:pt x="26" y="835"/>
                        <a:pt x="0" y="862"/>
                        <a:pt x="0" y="895"/>
                      </a:cubicBezTo>
                      <a:cubicBezTo>
                        <a:pt x="0" y="928"/>
                        <a:pt x="26" y="954"/>
                        <a:pt x="59" y="954"/>
                      </a:cubicBezTo>
                      <a:lnTo>
                        <a:pt x="3596" y="954"/>
                      </a:lnTo>
                      <a:cubicBezTo>
                        <a:pt x="3629" y="954"/>
                        <a:pt x="3656" y="928"/>
                        <a:pt x="3656" y="895"/>
                      </a:cubicBezTo>
                      <a:lnTo>
                        <a:pt x="3656" y="120"/>
                      </a:lnTo>
                      <a:lnTo>
                        <a:pt x="3715" y="120"/>
                      </a:lnTo>
                      <a:cubicBezTo>
                        <a:pt x="3748" y="120"/>
                        <a:pt x="3775" y="93"/>
                        <a:pt x="3775" y="60"/>
                      </a:cubicBezTo>
                      <a:cubicBezTo>
                        <a:pt x="3775" y="27"/>
                        <a:pt x="3748" y="0"/>
                        <a:pt x="3715" y="0"/>
                      </a:cubicBezTo>
                      <a:lnTo>
                        <a:pt x="179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64840" y="4114800"/>
                  <a:ext cx="31680" cy="39600"/>
                </a:xfrm>
                <a:custGeom>
                  <a:avLst/>
                  <a:gdLst/>
                  <a:ahLst/>
                  <a:rect l="l" t="t" r="r" b="b"/>
                  <a:pathLst>
                    <a:path w="89" h="120">
                      <a:moveTo>
                        <a:pt x="30" y="0"/>
                      </a:moveTo>
                      <a:cubicBezTo>
                        <a:pt x="63" y="0"/>
                        <a:pt x="89" y="27"/>
                        <a:pt x="89" y="60"/>
                      </a:cubicBezTo>
                      <a:cubicBezTo>
                        <a:pt x="89" y="93"/>
                        <a:pt x="63" y="120"/>
                        <a:pt x="30" y="120"/>
                      </a:cubicBezTo>
                      <a:cubicBezTo>
                        <a:pt x="13" y="120"/>
                        <a:pt x="0" y="106"/>
                        <a:pt x="0" y="90"/>
                      </a:cubicBezTo>
                      <a:cubicBezTo>
                        <a:pt x="0" y="73"/>
                        <a:pt x="13" y="60"/>
                        <a:pt x="30" y="60"/>
                      </a:cubicBezTo>
                      <a:lnTo>
                        <a:pt x="89" y="6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6360" y="4154400"/>
                  <a:ext cx="1209960" cy="1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4600" y="4400280"/>
                  <a:ext cx="19800" cy="41400"/>
                </a:xfrm>
                <a:custGeom>
                  <a:avLst/>
                  <a:gdLst/>
                  <a:ahLst/>
                  <a:rect l="l" t="t" r="r" b="b"/>
                  <a:pathLst>
                    <a:path w="60" h="119">
                      <a:moveTo>
                        <a:pt x="0" y="119"/>
                      </a:moveTo>
                      <a:cubicBezTo>
                        <a:pt x="33" y="119"/>
                        <a:pt x="60" y="93"/>
                        <a:pt x="60" y="60"/>
                      </a:cubicBezTo>
                      <a:lnTo>
                        <a:pt x="60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4600" y="4400280"/>
                  <a:ext cx="19800" cy="19440"/>
                </a:xfrm>
                <a:custGeom>
                  <a:avLst/>
                  <a:gdLst/>
                  <a:ahLst/>
                  <a:rect l="l" t="t" r="r" b="b"/>
                  <a:pathLst>
                    <a:path w="60" h="60">
                      <a:moveTo>
                        <a:pt x="0" y="0"/>
                      </a:moveTo>
                      <a:cubicBezTo>
                        <a:pt x="17" y="0"/>
                        <a:pt x="30" y="14"/>
                        <a:pt x="30" y="30"/>
                      </a:cubicBezTo>
                      <a:cubicBezTo>
                        <a:pt x="30" y="46"/>
                        <a:pt x="17" y="60"/>
                        <a:pt x="0" y="60"/>
                      </a:cubicBezTo>
                      <a:lnTo>
                        <a:pt x="60" y="6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787680" y="4213080"/>
                <a:ext cx="831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DRC 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991080" y="3657600"/>
              <a:ext cx="380520" cy="480960"/>
              <a:chOff x="991080" y="3657600"/>
              <a:chExt cx="380520" cy="480960"/>
            </a:xfrm>
          </p:grpSpPr>
          <p:sp>
            <p:nvSpPr>
              <p:cNvPr id="261" name=""/>
              <p:cNvSpPr/>
              <p:nvPr/>
            </p:nvSpPr>
            <p:spPr>
              <a:xfrm rot="5400000">
                <a:off x="940680" y="3707640"/>
                <a:ext cx="480960" cy="380520"/>
              </a:xfrm>
              <a:custGeom>
                <a:avLst/>
                <a:gdLst/>
                <a:ahLst/>
                <a:rect l="l" t="t" r="r" b="b"/>
                <a:pathLst>
                  <a:path w="459" h="231">
                    <a:moveTo>
                      <a:pt x="344" y="0"/>
                    </a:moveTo>
                    <a:lnTo>
                      <a:pt x="344" y="57"/>
                    </a:lnTo>
                    <a:lnTo>
                      <a:pt x="0" y="57"/>
                    </a:lnTo>
                    <a:lnTo>
                      <a:pt x="0" y="173"/>
                    </a:lnTo>
                    <a:lnTo>
                      <a:pt x="344" y="173"/>
                    </a:lnTo>
                    <a:lnTo>
                      <a:pt x="344" y="231"/>
                    </a:lnTo>
                    <a:lnTo>
                      <a:pt x="459" y="115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5400000">
                <a:off x="940680" y="3707640"/>
                <a:ext cx="480960" cy="380520"/>
              </a:xfrm>
              <a:custGeom>
                <a:avLst/>
                <a:gdLst/>
                <a:ahLst/>
                <a:rect l="l" t="t" r="r" b="b"/>
                <a:pathLst>
                  <a:path w="459" h="231">
                    <a:moveTo>
                      <a:pt x="344" y="0"/>
                    </a:moveTo>
                    <a:lnTo>
                      <a:pt x="344" y="57"/>
                    </a:lnTo>
                    <a:lnTo>
                      <a:pt x="0" y="57"/>
                    </a:lnTo>
                    <a:lnTo>
                      <a:pt x="0" y="173"/>
                    </a:lnTo>
                    <a:lnTo>
                      <a:pt x="344" y="173"/>
                    </a:lnTo>
                    <a:lnTo>
                      <a:pt x="344" y="231"/>
                    </a:lnTo>
                    <a:lnTo>
                      <a:pt x="459" y="115"/>
                    </a:lnTo>
                    <a:lnTo>
                      <a:pt x="344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57200" y="1523880"/>
              <a:ext cx="13716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-list, PM Cells Info (lib)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P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666880" y="2819520"/>
              <a:ext cx="1611360" cy="1395000"/>
              <a:chOff x="2666880" y="2819520"/>
              <a:chExt cx="1611360" cy="13950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2666880" y="3427200"/>
                <a:ext cx="1609560" cy="787320"/>
                <a:chOff x="2666880" y="3427200"/>
                <a:chExt cx="1609560" cy="7873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666880" y="3427200"/>
                  <a:ext cx="1609560" cy="787320"/>
                </a:xfrm>
                <a:prstGeom prst="ellipse">
                  <a:avLst/>
                </a:prstGeom>
                <a:solidFill>
                  <a:srgbClr val="0099c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666880" y="3427200"/>
                  <a:ext cx="1609560" cy="78732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2947320" y="3616200"/>
                <a:ext cx="1139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wer Mgm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86200" y="38336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05240" y="38336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70760" y="3833640"/>
                <a:ext cx="57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68320" y="2819520"/>
                <a:ext cx="1609920" cy="755280"/>
              </a:xfrm>
              <a:prstGeom prst="ellipse">
                <a:avLst/>
              </a:prstGeom>
              <a:solidFill>
                <a:srgbClr val="0099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68320" y="2819520"/>
                <a:ext cx="1609920" cy="75528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52880" y="2884320"/>
                <a:ext cx="78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alyz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30280" y="310176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wer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6200" y="3322440"/>
                <a:ext cx="70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oma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057400" y="32767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276360" y="4238640"/>
              <a:ext cx="401400" cy="485640"/>
              <a:chOff x="3276360" y="4238640"/>
              <a:chExt cx="401400" cy="485640"/>
            </a:xfrm>
          </p:grpSpPr>
          <p:sp>
            <p:nvSpPr>
              <p:cNvPr id="279" name=""/>
              <p:cNvSpPr/>
              <p:nvPr/>
            </p:nvSpPr>
            <p:spPr>
              <a:xfrm rot="5400000">
                <a:off x="3234240" y="4280760"/>
                <a:ext cx="485640" cy="401400"/>
              </a:xfrm>
              <a:custGeom>
                <a:avLst/>
                <a:gdLst/>
                <a:ahLst/>
                <a:rect l="l" t="t" r="r" b="b"/>
                <a:pathLst>
                  <a:path w="570" h="281">
                    <a:moveTo>
                      <a:pt x="427" y="0"/>
                    </a:moveTo>
                    <a:lnTo>
                      <a:pt x="427" y="70"/>
                    </a:lnTo>
                    <a:lnTo>
                      <a:pt x="0" y="70"/>
                    </a:lnTo>
                    <a:lnTo>
                      <a:pt x="0" y="210"/>
                    </a:lnTo>
                    <a:lnTo>
                      <a:pt x="427" y="210"/>
                    </a:lnTo>
                    <a:lnTo>
                      <a:pt x="427" y="281"/>
                    </a:lnTo>
                    <a:lnTo>
                      <a:pt x="570" y="14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00000">
                <a:off x="3234240" y="4280760"/>
                <a:ext cx="485640" cy="401400"/>
              </a:xfrm>
              <a:custGeom>
                <a:avLst/>
                <a:gdLst/>
                <a:ahLst/>
                <a:rect l="l" t="t" r="r" b="b"/>
                <a:pathLst>
                  <a:path w="570" h="281">
                    <a:moveTo>
                      <a:pt x="427" y="0"/>
                    </a:moveTo>
                    <a:lnTo>
                      <a:pt x="427" y="70"/>
                    </a:lnTo>
                    <a:lnTo>
                      <a:pt x="0" y="70"/>
                    </a:lnTo>
                    <a:lnTo>
                      <a:pt x="0" y="210"/>
                    </a:lnTo>
                    <a:lnTo>
                      <a:pt x="427" y="210"/>
                    </a:lnTo>
                    <a:lnTo>
                      <a:pt x="427" y="281"/>
                    </a:lnTo>
                    <a:lnTo>
                      <a:pt x="570" y="140"/>
                    </a:lnTo>
                    <a:lnTo>
                      <a:pt x="427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819520" y="4714920"/>
              <a:ext cx="1314360" cy="466560"/>
              <a:chOff x="2819520" y="4714920"/>
              <a:chExt cx="1314360" cy="4665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819520" y="4714920"/>
                <a:ext cx="1314360" cy="466560"/>
                <a:chOff x="2819520" y="4714920"/>
                <a:chExt cx="1314360" cy="4665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819520" y="4714920"/>
                  <a:ext cx="1314360" cy="466560"/>
                </a:xfrm>
                <a:custGeom>
                  <a:avLst/>
                  <a:gdLst/>
                  <a:ahLst/>
                  <a:rect l="l" t="t" r="r" b="b"/>
                  <a:pathLst>
                    <a:path w="3450" h="1358">
                      <a:moveTo>
                        <a:pt x="255" y="0"/>
                      </a:moveTo>
                      <a:cubicBezTo>
                        <a:pt x="208" y="0"/>
                        <a:pt x="170" y="38"/>
                        <a:pt x="170" y="85"/>
                      </a:cubicBezTo>
                      <a:lnTo>
                        <a:pt x="170" y="1189"/>
                      </a:lnTo>
                      <a:lnTo>
                        <a:pt x="85" y="1189"/>
                      </a:lnTo>
                      <a:cubicBezTo>
                        <a:pt x="38" y="1189"/>
                        <a:pt x="0" y="1226"/>
                        <a:pt x="0" y="1273"/>
                      </a:cubicBezTo>
                      <a:cubicBezTo>
                        <a:pt x="0" y="1320"/>
                        <a:pt x="38" y="1358"/>
                        <a:pt x="85" y="1358"/>
                      </a:cubicBezTo>
                      <a:lnTo>
                        <a:pt x="3196" y="1358"/>
                      </a:lnTo>
                      <a:cubicBezTo>
                        <a:pt x="3243" y="1358"/>
                        <a:pt x="3281" y="1320"/>
                        <a:pt x="3281" y="1273"/>
                      </a:cubicBezTo>
                      <a:lnTo>
                        <a:pt x="3281" y="170"/>
                      </a:lnTo>
                      <a:lnTo>
                        <a:pt x="3366" y="170"/>
                      </a:lnTo>
                      <a:cubicBezTo>
                        <a:pt x="3412" y="170"/>
                        <a:pt x="3450" y="132"/>
                        <a:pt x="3450" y="85"/>
                      </a:cubicBezTo>
                      <a:cubicBezTo>
                        <a:pt x="3450" y="38"/>
                        <a:pt x="3412" y="0"/>
                        <a:pt x="3366" y="0"/>
                      </a:cubicBez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00160" y="4743360"/>
                  <a:ext cx="47160" cy="28440"/>
                </a:xfrm>
                <a:custGeom>
                  <a:avLst/>
                  <a:gdLst/>
                  <a:ahLst/>
                  <a:rect l="l" t="t" r="r" b="b"/>
                  <a:pathLst>
                    <a:path w="127" h="85">
                      <a:moveTo>
                        <a:pt x="127" y="0"/>
                      </a:moveTo>
                      <a:cubicBezTo>
                        <a:pt x="127" y="47"/>
                        <a:pt x="89" y="85"/>
                        <a:pt x="42" y="85"/>
                      </a:cubicBezTo>
                      <a:cubicBezTo>
                        <a:pt x="19" y="85"/>
                        <a:pt x="0" y="66"/>
                        <a:pt x="0" y="42"/>
                      </a:cubicBezTo>
                      <a:cubicBezTo>
                        <a:pt x="0" y="19"/>
                        <a:pt x="19" y="0"/>
                        <a:pt x="42" y="0"/>
                      </a:cubicBezTo>
                    </a:path>
                  </a:pathLst>
                </a:custGeom>
                <a:solidFill>
                  <a:srgbClr val="007ba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19520" y="5122800"/>
                  <a:ext cx="63360" cy="58320"/>
                </a:xfrm>
                <a:custGeom>
                  <a:avLst/>
                  <a:gdLst/>
                  <a:ahLst/>
                  <a:rect l="l" t="t" r="r" b="b"/>
                  <a:pathLst>
                    <a:path w="170" h="169">
                      <a:moveTo>
                        <a:pt x="85" y="0"/>
                      </a:moveTo>
                      <a:cubicBezTo>
                        <a:pt x="38" y="0"/>
                        <a:pt x="0" y="37"/>
                        <a:pt x="0" y="84"/>
                      </a:cubicBezTo>
                      <a:cubicBezTo>
                        <a:pt x="0" y="131"/>
                        <a:pt x="38" y="169"/>
                        <a:pt x="85" y="169"/>
                      </a:cubicBezTo>
                      <a:cubicBezTo>
                        <a:pt x="132" y="169"/>
                        <a:pt x="170" y="131"/>
                        <a:pt x="170" y="84"/>
                      </a:cubicBezTo>
                      <a:lnTo>
                        <a:pt x="85" y="84"/>
                      </a:lnTo>
                      <a:cubicBezTo>
                        <a:pt x="109" y="84"/>
                        <a:pt x="128" y="65"/>
                        <a:pt x="128" y="42"/>
                      </a:cubicBezTo>
                      <a:cubicBezTo>
                        <a:pt x="128" y="19"/>
                        <a:pt x="109" y="0"/>
                        <a:pt x="85" y="0"/>
                      </a:cubicBezTo>
                    </a:path>
                  </a:pathLst>
                </a:custGeom>
                <a:solidFill>
                  <a:srgbClr val="007ba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19520" y="4714920"/>
                  <a:ext cx="1314360" cy="466560"/>
                </a:xfrm>
                <a:custGeom>
                  <a:avLst/>
                  <a:gdLst/>
                  <a:ahLst/>
                  <a:rect l="l" t="t" r="r" b="b"/>
                  <a:pathLst>
                    <a:path w="3450" h="1358">
                      <a:moveTo>
                        <a:pt x="255" y="0"/>
                      </a:moveTo>
                      <a:cubicBezTo>
                        <a:pt x="208" y="0"/>
                        <a:pt x="170" y="38"/>
                        <a:pt x="170" y="85"/>
                      </a:cubicBezTo>
                      <a:lnTo>
                        <a:pt x="170" y="1189"/>
                      </a:lnTo>
                      <a:lnTo>
                        <a:pt x="85" y="1189"/>
                      </a:lnTo>
                      <a:cubicBezTo>
                        <a:pt x="38" y="1189"/>
                        <a:pt x="0" y="1226"/>
                        <a:pt x="0" y="1273"/>
                      </a:cubicBezTo>
                      <a:cubicBezTo>
                        <a:pt x="0" y="1320"/>
                        <a:pt x="38" y="1358"/>
                        <a:pt x="85" y="1358"/>
                      </a:cubicBezTo>
                      <a:lnTo>
                        <a:pt x="3196" y="1358"/>
                      </a:lnTo>
                      <a:cubicBezTo>
                        <a:pt x="3243" y="1358"/>
                        <a:pt x="3281" y="1320"/>
                        <a:pt x="3281" y="1273"/>
                      </a:cubicBezTo>
                      <a:lnTo>
                        <a:pt x="3281" y="170"/>
                      </a:lnTo>
                      <a:lnTo>
                        <a:pt x="3366" y="170"/>
                      </a:lnTo>
                      <a:cubicBezTo>
                        <a:pt x="3412" y="170"/>
                        <a:pt x="3450" y="132"/>
                        <a:pt x="3450" y="85"/>
                      </a:cubicBezTo>
                      <a:cubicBezTo>
                        <a:pt x="3450" y="38"/>
                        <a:pt x="3412" y="0"/>
                        <a:pt x="3366" y="0"/>
                      </a:cubicBezTo>
                      <a:lnTo>
                        <a:pt x="255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00160" y="4714920"/>
                  <a:ext cx="47160" cy="56880"/>
                </a:xfrm>
                <a:custGeom>
                  <a:avLst/>
                  <a:gdLst/>
                  <a:ahLst/>
                  <a:rect l="l" t="t" r="r" b="b"/>
                  <a:pathLst>
                    <a:path w="127" h="170">
                      <a:moveTo>
                        <a:pt x="42" y="0"/>
                      </a:moveTo>
                      <a:cubicBezTo>
                        <a:pt x="89" y="0"/>
                        <a:pt x="127" y="38"/>
                        <a:pt x="127" y="85"/>
                      </a:cubicBezTo>
                      <a:cubicBezTo>
                        <a:pt x="127" y="132"/>
                        <a:pt x="89" y="170"/>
                        <a:pt x="42" y="170"/>
                      </a:cubicBezTo>
                      <a:cubicBezTo>
                        <a:pt x="19" y="170"/>
                        <a:pt x="0" y="151"/>
                        <a:pt x="0" y="127"/>
                      </a:cubicBezTo>
                      <a:cubicBezTo>
                        <a:pt x="0" y="104"/>
                        <a:pt x="19" y="85"/>
                        <a:pt x="42" y="85"/>
                      </a:cubicBezTo>
                      <a:lnTo>
                        <a:pt x="127" y="85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16000" y="4771800"/>
                  <a:ext cx="1152360" cy="1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850840" y="5122800"/>
                  <a:ext cx="31680" cy="58320"/>
                </a:xfrm>
                <a:custGeom>
                  <a:avLst/>
                  <a:gdLst/>
                  <a:ahLst/>
                  <a:rect l="l" t="t" r="r" b="b"/>
                  <a:pathLst>
                    <a:path w="85" h="169">
                      <a:moveTo>
                        <a:pt x="0" y="169"/>
                      </a:moveTo>
                      <a:cubicBezTo>
                        <a:pt x="47" y="169"/>
                        <a:pt x="85" y="131"/>
                        <a:pt x="85" y="84"/>
                      </a:cubicBezTo>
                      <a:lnTo>
                        <a:pt x="85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0840" y="51228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0" y="0"/>
                      </a:moveTo>
                      <a:cubicBezTo>
                        <a:pt x="24" y="0"/>
                        <a:pt x="43" y="19"/>
                        <a:pt x="43" y="42"/>
                      </a:cubicBezTo>
                      <a:cubicBezTo>
                        <a:pt x="43" y="65"/>
                        <a:pt x="24" y="84"/>
                        <a:pt x="0" y="84"/>
                      </a:cubicBezTo>
                      <a:lnTo>
                        <a:pt x="85" y="84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2958120" y="4806360"/>
                <a:ext cx="1104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M Rule Check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255840" y="2333520"/>
              <a:ext cx="401760" cy="486000"/>
              <a:chOff x="3255840" y="2333520"/>
              <a:chExt cx="401760" cy="486000"/>
            </a:xfrm>
          </p:grpSpPr>
          <p:sp>
            <p:nvSpPr>
              <p:cNvPr id="293" name=""/>
              <p:cNvSpPr/>
              <p:nvPr/>
            </p:nvSpPr>
            <p:spPr>
              <a:xfrm rot="5400000">
                <a:off x="3213720" y="2375640"/>
                <a:ext cx="486000" cy="401760"/>
              </a:xfrm>
              <a:custGeom>
                <a:avLst/>
                <a:gdLst/>
                <a:ahLst/>
                <a:rect l="l" t="t" r="r" b="b"/>
                <a:pathLst>
                  <a:path w="570" h="281">
                    <a:moveTo>
                      <a:pt x="427" y="0"/>
                    </a:moveTo>
                    <a:lnTo>
                      <a:pt x="427" y="70"/>
                    </a:lnTo>
                    <a:lnTo>
                      <a:pt x="0" y="70"/>
                    </a:lnTo>
                    <a:lnTo>
                      <a:pt x="0" y="210"/>
                    </a:lnTo>
                    <a:lnTo>
                      <a:pt x="427" y="210"/>
                    </a:lnTo>
                    <a:lnTo>
                      <a:pt x="427" y="281"/>
                    </a:lnTo>
                    <a:lnTo>
                      <a:pt x="570" y="14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3213720" y="2375640"/>
                <a:ext cx="486000" cy="401760"/>
              </a:xfrm>
              <a:custGeom>
                <a:avLst/>
                <a:gdLst/>
                <a:ahLst/>
                <a:rect l="l" t="t" r="r" b="b"/>
                <a:pathLst>
                  <a:path w="570" h="281">
                    <a:moveTo>
                      <a:pt x="427" y="0"/>
                    </a:moveTo>
                    <a:lnTo>
                      <a:pt x="427" y="70"/>
                    </a:lnTo>
                    <a:lnTo>
                      <a:pt x="0" y="70"/>
                    </a:lnTo>
                    <a:lnTo>
                      <a:pt x="0" y="210"/>
                    </a:lnTo>
                    <a:lnTo>
                      <a:pt x="427" y="210"/>
                    </a:lnTo>
                    <a:lnTo>
                      <a:pt x="427" y="281"/>
                    </a:lnTo>
                    <a:lnTo>
                      <a:pt x="570" y="140"/>
                    </a:lnTo>
                    <a:lnTo>
                      <a:pt x="427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991080" y="2590920"/>
              <a:ext cx="380520" cy="480960"/>
              <a:chOff x="991080" y="2590920"/>
              <a:chExt cx="380520" cy="480960"/>
            </a:xfrm>
          </p:grpSpPr>
          <p:sp>
            <p:nvSpPr>
              <p:cNvPr id="296" name=""/>
              <p:cNvSpPr/>
              <p:nvPr/>
            </p:nvSpPr>
            <p:spPr>
              <a:xfrm rot="5400000">
                <a:off x="940680" y="2640960"/>
                <a:ext cx="480960" cy="380520"/>
              </a:xfrm>
              <a:custGeom>
                <a:avLst/>
                <a:gdLst/>
                <a:ahLst/>
                <a:rect l="l" t="t" r="r" b="b"/>
                <a:pathLst>
                  <a:path w="459" h="231">
                    <a:moveTo>
                      <a:pt x="344" y="0"/>
                    </a:moveTo>
                    <a:lnTo>
                      <a:pt x="344" y="57"/>
                    </a:lnTo>
                    <a:lnTo>
                      <a:pt x="0" y="57"/>
                    </a:lnTo>
                    <a:lnTo>
                      <a:pt x="0" y="173"/>
                    </a:lnTo>
                    <a:lnTo>
                      <a:pt x="344" y="173"/>
                    </a:lnTo>
                    <a:lnTo>
                      <a:pt x="344" y="231"/>
                    </a:lnTo>
                    <a:lnTo>
                      <a:pt x="459" y="115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400000">
                <a:off x="940680" y="2640960"/>
                <a:ext cx="480960" cy="380520"/>
              </a:xfrm>
              <a:custGeom>
                <a:avLst/>
                <a:gdLst/>
                <a:ahLst/>
                <a:rect l="l" t="t" r="r" b="b"/>
                <a:pathLst>
                  <a:path w="459" h="231">
                    <a:moveTo>
                      <a:pt x="344" y="0"/>
                    </a:moveTo>
                    <a:lnTo>
                      <a:pt x="344" y="57"/>
                    </a:lnTo>
                    <a:lnTo>
                      <a:pt x="0" y="57"/>
                    </a:lnTo>
                    <a:lnTo>
                      <a:pt x="0" y="173"/>
                    </a:lnTo>
                    <a:lnTo>
                      <a:pt x="344" y="173"/>
                    </a:lnTo>
                    <a:lnTo>
                      <a:pt x="344" y="231"/>
                    </a:lnTo>
                    <a:lnTo>
                      <a:pt x="459" y="115"/>
                    </a:lnTo>
                    <a:lnTo>
                      <a:pt x="344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514600" y="1905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 pin definition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952880" y="3124080"/>
              <a:ext cx="1609920" cy="685800"/>
              <a:chOff x="4952880" y="3124080"/>
              <a:chExt cx="1609920" cy="6858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4952880" y="3124080"/>
                <a:ext cx="1609920" cy="685800"/>
                <a:chOff x="4952880" y="3124080"/>
                <a:chExt cx="1609920" cy="685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952880" y="3124080"/>
                  <a:ext cx="1609920" cy="68580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952880" y="3124080"/>
                  <a:ext cx="1609920" cy="68580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5434200" y="33732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alid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040360" y="4267080"/>
              <a:ext cx="1512720" cy="463680"/>
              <a:chOff x="5040360" y="4267080"/>
              <a:chExt cx="1512720" cy="4636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5040360" y="4267080"/>
                <a:ext cx="1512720" cy="463680"/>
                <a:chOff x="5040360" y="4267080"/>
                <a:chExt cx="1512720" cy="463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040360" y="4267080"/>
                  <a:ext cx="1512720" cy="463680"/>
                </a:xfrm>
                <a:custGeom>
                  <a:avLst/>
                  <a:gdLst/>
                  <a:ahLst/>
                  <a:rect l="l" t="t" r="r" b="b"/>
                  <a:pathLst>
                    <a:path w="3971" h="1350">
                      <a:moveTo>
                        <a:pt x="253" y="0"/>
                      </a:moveTo>
                      <a:cubicBezTo>
                        <a:pt x="206" y="0"/>
                        <a:pt x="169" y="38"/>
                        <a:pt x="169" y="84"/>
                      </a:cubicBezTo>
                      <a:lnTo>
                        <a:pt x="169" y="1181"/>
                      </a:lnTo>
                      <a:lnTo>
                        <a:pt x="84" y="1181"/>
                      </a:lnTo>
                      <a:cubicBezTo>
                        <a:pt x="38" y="1181"/>
                        <a:pt x="0" y="1219"/>
                        <a:pt x="0" y="1265"/>
                      </a:cubicBezTo>
                      <a:cubicBezTo>
                        <a:pt x="0" y="1312"/>
                        <a:pt x="38" y="1350"/>
                        <a:pt x="84" y="1350"/>
                      </a:cubicBezTo>
                      <a:lnTo>
                        <a:pt x="3718" y="1350"/>
                      </a:lnTo>
                      <a:cubicBezTo>
                        <a:pt x="3764" y="1350"/>
                        <a:pt x="3802" y="1312"/>
                        <a:pt x="3802" y="1265"/>
                      </a:cubicBezTo>
                      <a:lnTo>
                        <a:pt x="3802" y="169"/>
                      </a:lnTo>
                      <a:lnTo>
                        <a:pt x="3886" y="169"/>
                      </a:lnTo>
                      <a:cubicBezTo>
                        <a:pt x="3933" y="169"/>
                        <a:pt x="3971" y="131"/>
                        <a:pt x="3971" y="84"/>
                      </a:cubicBezTo>
                      <a:cubicBezTo>
                        <a:pt x="3971" y="38"/>
                        <a:pt x="3933" y="0"/>
                        <a:pt x="3886" y="0"/>
                      </a:cubicBezTo>
                      <a:lnTo>
                        <a:pt x="253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119560" y="4295520"/>
                  <a:ext cx="49320" cy="28800"/>
                </a:xfrm>
                <a:custGeom>
                  <a:avLst/>
                  <a:gdLst/>
                  <a:ahLst/>
                  <a:rect l="l" t="t" r="r" b="b"/>
                  <a:pathLst>
                    <a:path w="126" h="85">
                      <a:moveTo>
                        <a:pt x="126" y="0"/>
                      </a:moveTo>
                      <a:cubicBezTo>
                        <a:pt x="126" y="47"/>
                        <a:pt x="89" y="85"/>
                        <a:pt x="42" y="85"/>
                      </a:cubicBezTo>
                      <a:cubicBezTo>
                        <a:pt x="19" y="85"/>
                        <a:pt x="0" y="66"/>
                        <a:pt x="0" y="42"/>
                      </a:cubicBezTo>
                      <a:cubicBezTo>
                        <a:pt x="0" y="19"/>
                        <a:pt x="19" y="0"/>
                        <a:pt x="42" y="0"/>
                      </a:cubicBezTo>
                    </a:path>
                  </a:pathLst>
                </a:custGeom>
                <a:solidFill>
                  <a:srgbClr val="2929a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40360" y="4671720"/>
                  <a:ext cx="63360" cy="58680"/>
                </a:xfrm>
                <a:custGeom>
                  <a:avLst/>
                  <a:gdLst/>
                  <a:ahLst/>
                  <a:rect l="l" t="t" r="r" b="b"/>
                  <a:pathLst>
                    <a:path w="169" h="169">
                      <a:moveTo>
                        <a:pt x="84" y="0"/>
                      </a:moveTo>
                      <a:cubicBezTo>
                        <a:pt x="38" y="0"/>
                        <a:pt x="0" y="38"/>
                        <a:pt x="0" y="84"/>
                      </a:cubicBezTo>
                      <a:cubicBezTo>
                        <a:pt x="0" y="131"/>
                        <a:pt x="38" y="169"/>
                        <a:pt x="84" y="169"/>
                      </a:cubicBezTo>
                      <a:cubicBezTo>
                        <a:pt x="131" y="169"/>
                        <a:pt x="169" y="131"/>
                        <a:pt x="169" y="84"/>
                      </a:cubicBezTo>
                      <a:lnTo>
                        <a:pt x="84" y="84"/>
                      </a:lnTo>
                      <a:cubicBezTo>
                        <a:pt x="108" y="84"/>
                        <a:pt x="127" y="66"/>
                        <a:pt x="127" y="42"/>
                      </a:cubicBezTo>
                      <a:cubicBezTo>
                        <a:pt x="127" y="19"/>
                        <a:pt x="108" y="0"/>
                        <a:pt x="84" y="0"/>
                      </a:cubicBezTo>
                    </a:path>
                  </a:pathLst>
                </a:custGeom>
                <a:solidFill>
                  <a:srgbClr val="2929a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40360" y="4267080"/>
                  <a:ext cx="1512720" cy="463680"/>
                </a:xfrm>
                <a:custGeom>
                  <a:avLst/>
                  <a:gdLst/>
                  <a:ahLst/>
                  <a:rect l="l" t="t" r="r" b="b"/>
                  <a:pathLst>
                    <a:path w="3971" h="1350">
                      <a:moveTo>
                        <a:pt x="253" y="0"/>
                      </a:moveTo>
                      <a:cubicBezTo>
                        <a:pt x="206" y="0"/>
                        <a:pt x="169" y="38"/>
                        <a:pt x="169" y="84"/>
                      </a:cubicBezTo>
                      <a:lnTo>
                        <a:pt x="169" y="1181"/>
                      </a:lnTo>
                      <a:lnTo>
                        <a:pt x="84" y="1181"/>
                      </a:lnTo>
                      <a:cubicBezTo>
                        <a:pt x="38" y="1181"/>
                        <a:pt x="0" y="1219"/>
                        <a:pt x="0" y="1265"/>
                      </a:cubicBezTo>
                      <a:cubicBezTo>
                        <a:pt x="0" y="1312"/>
                        <a:pt x="38" y="1350"/>
                        <a:pt x="84" y="1350"/>
                      </a:cubicBezTo>
                      <a:lnTo>
                        <a:pt x="3718" y="1350"/>
                      </a:lnTo>
                      <a:cubicBezTo>
                        <a:pt x="3764" y="1350"/>
                        <a:pt x="3802" y="1312"/>
                        <a:pt x="3802" y="1265"/>
                      </a:cubicBezTo>
                      <a:lnTo>
                        <a:pt x="3802" y="169"/>
                      </a:lnTo>
                      <a:lnTo>
                        <a:pt x="3886" y="169"/>
                      </a:lnTo>
                      <a:cubicBezTo>
                        <a:pt x="3933" y="169"/>
                        <a:pt x="3971" y="131"/>
                        <a:pt x="3971" y="84"/>
                      </a:cubicBezTo>
                      <a:cubicBezTo>
                        <a:pt x="3971" y="38"/>
                        <a:pt x="3933" y="0"/>
                        <a:pt x="3886" y="0"/>
                      </a:cubicBezTo>
                      <a:lnTo>
                        <a:pt x="253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119560" y="4267080"/>
                  <a:ext cx="49320" cy="57240"/>
                </a:xfrm>
                <a:custGeom>
                  <a:avLst/>
                  <a:gdLst/>
                  <a:ahLst/>
                  <a:rect l="l" t="t" r="r" b="b"/>
                  <a:pathLst>
                    <a:path w="126" h="169">
                      <a:moveTo>
                        <a:pt x="42" y="0"/>
                      </a:moveTo>
                      <a:cubicBezTo>
                        <a:pt x="89" y="0"/>
                        <a:pt x="126" y="38"/>
                        <a:pt x="126" y="84"/>
                      </a:cubicBezTo>
                      <a:cubicBezTo>
                        <a:pt x="126" y="131"/>
                        <a:pt x="89" y="169"/>
                        <a:pt x="42" y="169"/>
                      </a:cubicBezTo>
                      <a:cubicBezTo>
                        <a:pt x="19" y="169"/>
                        <a:pt x="0" y="150"/>
                        <a:pt x="0" y="126"/>
                      </a:cubicBezTo>
                      <a:cubicBezTo>
                        <a:pt x="0" y="103"/>
                        <a:pt x="19" y="84"/>
                        <a:pt x="42" y="84"/>
                      </a:cubicBezTo>
                      <a:lnTo>
                        <a:pt x="126" y="84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135400" y="4324320"/>
                  <a:ext cx="135252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072040" y="4671720"/>
                  <a:ext cx="31680" cy="58680"/>
                </a:xfrm>
                <a:custGeom>
                  <a:avLst/>
                  <a:gdLst/>
                  <a:ahLst/>
                  <a:rect l="l" t="t" r="r" b="b"/>
                  <a:pathLst>
                    <a:path w="85" h="169">
                      <a:moveTo>
                        <a:pt x="0" y="169"/>
                      </a:moveTo>
                      <a:cubicBezTo>
                        <a:pt x="47" y="169"/>
                        <a:pt x="85" y="131"/>
                        <a:pt x="85" y="84"/>
                      </a:cubicBezTo>
                      <a:lnTo>
                        <a:pt x="85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072040" y="46717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0" y="0"/>
                      </a:moveTo>
                      <a:cubicBezTo>
                        <a:pt x="24" y="0"/>
                        <a:pt x="43" y="19"/>
                        <a:pt x="43" y="42"/>
                      </a:cubicBezTo>
                      <a:cubicBezTo>
                        <a:pt x="43" y="66"/>
                        <a:pt x="24" y="84"/>
                        <a:pt x="0" y="84"/>
                      </a:cubicBezTo>
                      <a:lnTo>
                        <a:pt x="85" y="84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240160" y="4357080"/>
                <a:ext cx="11786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Dynamic PSC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8296200" y="4676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552640" y="3825720"/>
              <a:ext cx="390600" cy="441360"/>
              <a:chOff x="5552640" y="3825720"/>
              <a:chExt cx="390600" cy="441360"/>
            </a:xfrm>
          </p:grpSpPr>
          <p:sp>
            <p:nvSpPr>
              <p:cNvPr id="317" name=""/>
              <p:cNvSpPr/>
              <p:nvPr/>
            </p:nvSpPr>
            <p:spPr>
              <a:xfrm rot="5400000">
                <a:off x="5527080" y="3850920"/>
                <a:ext cx="441360" cy="390600"/>
              </a:xfrm>
              <a:custGeom>
                <a:avLst/>
                <a:gdLst/>
                <a:ahLst/>
                <a:rect l="l" t="t" r="r" b="b"/>
                <a:pathLst>
                  <a:path w="482" h="273">
                    <a:moveTo>
                      <a:pt x="361" y="0"/>
                    </a:moveTo>
                    <a:lnTo>
                      <a:pt x="361" y="68"/>
                    </a:lnTo>
                    <a:lnTo>
                      <a:pt x="0" y="68"/>
                    </a:lnTo>
                    <a:lnTo>
                      <a:pt x="0" y="204"/>
                    </a:lnTo>
                    <a:lnTo>
                      <a:pt x="361" y="204"/>
                    </a:lnTo>
                    <a:lnTo>
                      <a:pt x="361" y="273"/>
                    </a:lnTo>
                    <a:lnTo>
                      <a:pt x="482" y="136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400000">
                <a:off x="5527080" y="3850920"/>
                <a:ext cx="441360" cy="390600"/>
              </a:xfrm>
              <a:custGeom>
                <a:avLst/>
                <a:gdLst/>
                <a:ahLst/>
                <a:rect l="l" t="t" r="r" b="b"/>
                <a:pathLst>
                  <a:path w="482" h="273">
                    <a:moveTo>
                      <a:pt x="361" y="0"/>
                    </a:moveTo>
                    <a:lnTo>
                      <a:pt x="361" y="68"/>
                    </a:lnTo>
                    <a:lnTo>
                      <a:pt x="0" y="68"/>
                    </a:lnTo>
                    <a:lnTo>
                      <a:pt x="0" y="204"/>
                    </a:lnTo>
                    <a:lnTo>
                      <a:pt x="361" y="204"/>
                    </a:lnTo>
                    <a:lnTo>
                      <a:pt x="361" y="273"/>
                    </a:lnTo>
                    <a:lnTo>
                      <a:pt x="482" y="136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267080" y="32767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00600" y="192096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ign Initialization, PSCON Ident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562720" y="2666880"/>
              <a:ext cx="390240" cy="441360"/>
              <a:chOff x="5562720" y="2666880"/>
              <a:chExt cx="390240" cy="441360"/>
            </a:xfrm>
          </p:grpSpPr>
          <p:sp>
            <p:nvSpPr>
              <p:cNvPr id="322" name=""/>
              <p:cNvSpPr/>
              <p:nvPr/>
            </p:nvSpPr>
            <p:spPr>
              <a:xfrm rot="5400000">
                <a:off x="5537160" y="2692440"/>
                <a:ext cx="441360" cy="390240"/>
              </a:xfrm>
              <a:custGeom>
                <a:avLst/>
                <a:gdLst/>
                <a:ahLst/>
                <a:rect l="l" t="t" r="r" b="b"/>
                <a:pathLst>
                  <a:path w="482" h="273">
                    <a:moveTo>
                      <a:pt x="361" y="0"/>
                    </a:moveTo>
                    <a:lnTo>
                      <a:pt x="361" y="68"/>
                    </a:lnTo>
                    <a:lnTo>
                      <a:pt x="0" y="68"/>
                    </a:lnTo>
                    <a:lnTo>
                      <a:pt x="0" y="204"/>
                    </a:lnTo>
                    <a:lnTo>
                      <a:pt x="361" y="204"/>
                    </a:lnTo>
                    <a:lnTo>
                      <a:pt x="361" y="273"/>
                    </a:lnTo>
                    <a:lnTo>
                      <a:pt x="482" y="136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5537160" y="2692440"/>
                <a:ext cx="441360" cy="390240"/>
              </a:xfrm>
              <a:custGeom>
                <a:avLst/>
                <a:gdLst/>
                <a:ahLst/>
                <a:rect l="l" t="t" r="r" b="b"/>
                <a:pathLst>
                  <a:path w="482" h="273">
                    <a:moveTo>
                      <a:pt x="361" y="0"/>
                    </a:moveTo>
                    <a:lnTo>
                      <a:pt x="361" y="68"/>
                    </a:lnTo>
                    <a:lnTo>
                      <a:pt x="0" y="68"/>
                    </a:lnTo>
                    <a:lnTo>
                      <a:pt x="0" y="204"/>
                    </a:lnTo>
                    <a:lnTo>
                      <a:pt x="361" y="204"/>
                    </a:lnTo>
                    <a:lnTo>
                      <a:pt x="361" y="273"/>
                    </a:lnTo>
                    <a:lnTo>
                      <a:pt x="482" y="136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153200" y="3139920"/>
              <a:ext cx="1609560" cy="745920"/>
              <a:chOff x="7153200" y="3139920"/>
              <a:chExt cx="1609560" cy="745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7153200" y="3139920"/>
                <a:ext cx="1609560" cy="745920"/>
                <a:chOff x="7153200" y="3139920"/>
                <a:chExt cx="1609560" cy="745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153200" y="3139920"/>
                  <a:ext cx="1609560" cy="745920"/>
                </a:xfrm>
                <a:prstGeom prst="ellipse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53200" y="3139920"/>
                  <a:ext cx="1609560" cy="745920"/>
                </a:xfrm>
                <a:custGeom>
                  <a:avLst/>
                  <a:gdLst/>
                  <a:ahLst/>
                  <a:rect l="l" t="t" r="r" b="b"/>
                  <a:pathLst>
                    <a:path w="1014" h="575">
                      <a:moveTo>
                        <a:pt x="507" y="0"/>
                      </a:moveTo>
                      <a:cubicBezTo>
                        <a:pt x="227" y="0"/>
                        <a:pt x="0" y="129"/>
                        <a:pt x="0" y="287"/>
                      </a:cubicBezTo>
                      <a:cubicBezTo>
                        <a:pt x="0" y="447"/>
                        <a:pt x="227" y="575"/>
                        <a:pt x="507" y="575"/>
                      </a:cubicBezTo>
                      <a:cubicBezTo>
                        <a:pt x="787" y="575"/>
                        <a:pt x="1014" y="447"/>
                        <a:pt x="1014" y="287"/>
                      </a:cubicBezTo>
                      <a:cubicBezTo>
                        <a:pt x="1014" y="129"/>
                        <a:pt x="787" y="0"/>
                        <a:pt x="507" y="0"/>
                      </a:cubicBez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714080" y="3428640"/>
                <a:ext cx="57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326360" y="4332240"/>
              <a:ext cx="1512720" cy="392040"/>
              <a:chOff x="7326360" y="4332240"/>
              <a:chExt cx="1512720" cy="3920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7326360" y="4332240"/>
                <a:ext cx="1512720" cy="392040"/>
                <a:chOff x="7326360" y="4332240"/>
                <a:chExt cx="1512720" cy="3920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326360" y="4332240"/>
                  <a:ext cx="1512720" cy="392040"/>
                </a:xfrm>
                <a:custGeom>
                  <a:avLst/>
                  <a:gdLst/>
                  <a:ahLst/>
                  <a:rect l="l" t="t" r="r" b="b"/>
                  <a:pathLst>
                    <a:path w="3971" h="1142">
                      <a:moveTo>
                        <a:pt x="214" y="0"/>
                      </a:moveTo>
                      <a:cubicBezTo>
                        <a:pt x="175" y="0"/>
                        <a:pt x="143" y="32"/>
                        <a:pt x="143" y="71"/>
                      </a:cubicBezTo>
                      <a:lnTo>
                        <a:pt x="143" y="999"/>
                      </a:lnTo>
                      <a:lnTo>
                        <a:pt x="71" y="999"/>
                      </a:lnTo>
                      <a:cubicBezTo>
                        <a:pt x="32" y="999"/>
                        <a:pt x="0" y="1031"/>
                        <a:pt x="0" y="1070"/>
                      </a:cubicBezTo>
                      <a:cubicBezTo>
                        <a:pt x="0" y="1110"/>
                        <a:pt x="32" y="1142"/>
                        <a:pt x="71" y="1142"/>
                      </a:cubicBezTo>
                      <a:lnTo>
                        <a:pt x="3757" y="1142"/>
                      </a:lnTo>
                      <a:cubicBezTo>
                        <a:pt x="3796" y="1142"/>
                        <a:pt x="3828" y="1110"/>
                        <a:pt x="3828" y="1070"/>
                      </a:cubicBezTo>
                      <a:lnTo>
                        <a:pt x="3828" y="143"/>
                      </a:lnTo>
                      <a:lnTo>
                        <a:pt x="3899" y="143"/>
                      </a:lnTo>
                      <a:cubicBezTo>
                        <a:pt x="3939" y="143"/>
                        <a:pt x="3971" y="111"/>
                        <a:pt x="3971" y="71"/>
                      </a:cubicBezTo>
                      <a:cubicBezTo>
                        <a:pt x="3971" y="32"/>
                        <a:pt x="3939" y="0"/>
                        <a:pt x="3899" y="0"/>
                      </a:cubicBez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392600" y="4356360"/>
                  <a:ext cx="41040" cy="24120"/>
                </a:xfrm>
                <a:custGeom>
                  <a:avLst/>
                  <a:gdLst/>
                  <a:ahLst/>
                  <a:rect l="l" t="t" r="r" b="b"/>
                  <a:pathLst>
                    <a:path w="107" h="72">
                      <a:moveTo>
                        <a:pt x="107" y="0"/>
                      </a:moveTo>
                      <a:cubicBezTo>
                        <a:pt x="107" y="40"/>
                        <a:pt x="75" y="72"/>
                        <a:pt x="36" y="72"/>
                      </a:cubicBezTo>
                      <a:cubicBezTo>
                        <a:pt x="16" y="72"/>
                        <a:pt x="0" y="56"/>
                        <a:pt x="0" y="36"/>
                      </a:cubicBezTo>
                      <a:cubicBezTo>
                        <a:pt x="0" y="16"/>
                        <a:pt x="16" y="0"/>
                        <a:pt x="36" y="0"/>
                      </a:cubicBezTo>
                    </a:path>
                  </a:pathLst>
                </a:custGeom>
                <a:solidFill>
                  <a:srgbClr val="7b522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26360" y="4674240"/>
                  <a:ext cx="53640" cy="49680"/>
                </a:xfrm>
                <a:custGeom>
                  <a:avLst/>
                  <a:gdLst/>
                  <a:ahLst/>
                  <a:rect l="l" t="t" r="r" b="b"/>
                  <a:pathLst>
                    <a:path w="143" h="143">
                      <a:moveTo>
                        <a:pt x="71" y="0"/>
                      </a:moveTo>
                      <a:cubicBezTo>
                        <a:pt x="32" y="0"/>
                        <a:pt x="0" y="32"/>
                        <a:pt x="0" y="71"/>
                      </a:cubicBezTo>
                      <a:cubicBezTo>
                        <a:pt x="0" y="111"/>
                        <a:pt x="32" y="143"/>
                        <a:pt x="71" y="143"/>
                      </a:cubicBezTo>
                      <a:cubicBezTo>
                        <a:pt x="111" y="143"/>
                        <a:pt x="143" y="111"/>
                        <a:pt x="143" y="71"/>
                      </a:cubicBezTo>
                      <a:lnTo>
                        <a:pt x="71" y="71"/>
                      </a:lnTo>
                      <a:cubicBezTo>
                        <a:pt x="91" y="71"/>
                        <a:pt x="107" y="55"/>
                        <a:pt x="107" y="36"/>
                      </a:cubicBezTo>
                      <a:cubicBezTo>
                        <a:pt x="107" y="16"/>
                        <a:pt x="91" y="0"/>
                        <a:pt x="71" y="0"/>
                      </a:cubicBezTo>
                    </a:path>
                  </a:pathLst>
                </a:custGeom>
                <a:solidFill>
                  <a:srgbClr val="7b522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26360" y="4332240"/>
                  <a:ext cx="1512720" cy="392040"/>
                </a:xfrm>
                <a:custGeom>
                  <a:avLst/>
                  <a:gdLst/>
                  <a:ahLst/>
                  <a:rect l="l" t="t" r="r" b="b"/>
                  <a:pathLst>
                    <a:path w="3971" h="1142">
                      <a:moveTo>
                        <a:pt x="214" y="0"/>
                      </a:moveTo>
                      <a:cubicBezTo>
                        <a:pt x="175" y="0"/>
                        <a:pt x="143" y="32"/>
                        <a:pt x="143" y="71"/>
                      </a:cubicBezTo>
                      <a:lnTo>
                        <a:pt x="143" y="999"/>
                      </a:lnTo>
                      <a:lnTo>
                        <a:pt x="71" y="999"/>
                      </a:lnTo>
                      <a:cubicBezTo>
                        <a:pt x="32" y="999"/>
                        <a:pt x="0" y="1031"/>
                        <a:pt x="0" y="1070"/>
                      </a:cubicBezTo>
                      <a:cubicBezTo>
                        <a:pt x="0" y="1110"/>
                        <a:pt x="32" y="1142"/>
                        <a:pt x="71" y="1142"/>
                      </a:cubicBezTo>
                      <a:lnTo>
                        <a:pt x="3757" y="1142"/>
                      </a:lnTo>
                      <a:cubicBezTo>
                        <a:pt x="3796" y="1142"/>
                        <a:pt x="3828" y="1110"/>
                        <a:pt x="3828" y="1070"/>
                      </a:cubicBezTo>
                      <a:lnTo>
                        <a:pt x="3828" y="143"/>
                      </a:lnTo>
                      <a:lnTo>
                        <a:pt x="3899" y="143"/>
                      </a:lnTo>
                      <a:cubicBezTo>
                        <a:pt x="3939" y="143"/>
                        <a:pt x="3971" y="111"/>
                        <a:pt x="3971" y="71"/>
                      </a:cubicBezTo>
                      <a:cubicBezTo>
                        <a:pt x="3971" y="32"/>
                        <a:pt x="3939" y="0"/>
                        <a:pt x="3899" y="0"/>
                      </a:cubicBezTo>
                      <a:lnTo>
                        <a:pt x="214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392600" y="433224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107" h="143">
                      <a:moveTo>
                        <a:pt x="36" y="0"/>
                      </a:moveTo>
                      <a:cubicBezTo>
                        <a:pt x="75" y="0"/>
                        <a:pt x="107" y="32"/>
                        <a:pt x="107" y="71"/>
                      </a:cubicBezTo>
                      <a:cubicBezTo>
                        <a:pt x="107" y="111"/>
                        <a:pt x="75" y="143"/>
                        <a:pt x="36" y="143"/>
                      </a:cubicBezTo>
                      <a:cubicBezTo>
                        <a:pt x="16" y="143"/>
                        <a:pt x="0" y="127"/>
                        <a:pt x="0" y="107"/>
                      </a:cubicBezTo>
                      <a:cubicBezTo>
                        <a:pt x="0" y="87"/>
                        <a:pt x="16" y="71"/>
                        <a:pt x="36" y="71"/>
                      </a:cubicBezTo>
                      <a:lnTo>
                        <a:pt x="107" y="71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07000" y="4380840"/>
                  <a:ext cx="137592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353000" y="4674240"/>
                  <a:ext cx="26640" cy="49680"/>
                </a:xfrm>
                <a:custGeom>
                  <a:avLst/>
                  <a:gdLst/>
                  <a:ahLst/>
                  <a:rect l="l" t="t" r="r" b="b"/>
                  <a:pathLst>
                    <a:path w="72" h="143">
                      <a:moveTo>
                        <a:pt x="0" y="143"/>
                      </a:moveTo>
                      <a:cubicBezTo>
                        <a:pt x="40" y="143"/>
                        <a:pt x="72" y="111"/>
                        <a:pt x="72" y="71"/>
                      </a:cubicBezTo>
                      <a:lnTo>
                        <a:pt x="72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353000" y="4674240"/>
                  <a:ext cx="26640" cy="24120"/>
                </a:xfrm>
                <a:custGeom>
                  <a:avLst/>
                  <a:gdLst/>
                  <a:ahLst/>
                  <a:rect l="l" t="t" r="r" b="b"/>
                  <a:pathLst>
                    <a:path w="72" h="71">
                      <a:moveTo>
                        <a:pt x="0" y="0"/>
                      </a:moveTo>
                      <a:cubicBezTo>
                        <a:pt x="20" y="0"/>
                        <a:pt x="36" y="16"/>
                        <a:pt x="36" y="36"/>
                      </a:cubicBezTo>
                      <a:cubicBezTo>
                        <a:pt x="36" y="55"/>
                        <a:pt x="20" y="71"/>
                        <a:pt x="0" y="71"/>
                      </a:cubicBezTo>
                      <a:lnTo>
                        <a:pt x="72" y="71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7524720" y="4465080"/>
                <a:ext cx="118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Transistor 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48360" y="3886200"/>
              <a:ext cx="331560" cy="422280"/>
              <a:chOff x="7848360" y="3886200"/>
              <a:chExt cx="331560" cy="422280"/>
            </a:xfrm>
          </p:grpSpPr>
          <p:sp>
            <p:nvSpPr>
              <p:cNvPr id="341" name=""/>
              <p:cNvSpPr/>
              <p:nvPr/>
            </p:nvSpPr>
            <p:spPr>
              <a:xfrm rot="5400000">
                <a:off x="7803000" y="3931560"/>
                <a:ext cx="422280" cy="331560"/>
              </a:xfrm>
              <a:custGeom>
                <a:avLst/>
                <a:gdLst/>
                <a:ahLst/>
                <a:rect l="l" t="t" r="r" b="b"/>
                <a:pathLst>
                  <a:path w="482" h="232">
                    <a:moveTo>
                      <a:pt x="361" y="0"/>
                    </a:moveTo>
                    <a:lnTo>
                      <a:pt x="361" y="58"/>
                    </a:lnTo>
                    <a:lnTo>
                      <a:pt x="0" y="58"/>
                    </a:lnTo>
                    <a:lnTo>
                      <a:pt x="0" y="174"/>
                    </a:lnTo>
                    <a:lnTo>
                      <a:pt x="361" y="174"/>
                    </a:lnTo>
                    <a:lnTo>
                      <a:pt x="361" y="232"/>
                    </a:lnTo>
                    <a:lnTo>
                      <a:pt x="482" y="116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400000">
                <a:off x="7803000" y="3931560"/>
                <a:ext cx="422280" cy="331560"/>
              </a:xfrm>
              <a:custGeom>
                <a:avLst/>
                <a:gdLst/>
                <a:ahLst/>
                <a:rect l="l" t="t" r="r" b="b"/>
                <a:pathLst>
                  <a:path w="482" h="232">
                    <a:moveTo>
                      <a:pt x="361" y="0"/>
                    </a:moveTo>
                    <a:lnTo>
                      <a:pt x="361" y="58"/>
                    </a:lnTo>
                    <a:lnTo>
                      <a:pt x="0" y="58"/>
                    </a:lnTo>
                    <a:lnTo>
                      <a:pt x="0" y="174"/>
                    </a:lnTo>
                    <a:lnTo>
                      <a:pt x="361" y="174"/>
                    </a:lnTo>
                    <a:lnTo>
                      <a:pt x="361" y="232"/>
                    </a:lnTo>
                    <a:lnTo>
                      <a:pt x="482" y="116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629400" y="32767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821360" y="2701800"/>
              <a:ext cx="331560" cy="422280"/>
              <a:chOff x="7821360" y="2701800"/>
              <a:chExt cx="331560" cy="422280"/>
            </a:xfrm>
          </p:grpSpPr>
          <p:sp>
            <p:nvSpPr>
              <p:cNvPr id="345" name=""/>
              <p:cNvSpPr/>
              <p:nvPr/>
            </p:nvSpPr>
            <p:spPr>
              <a:xfrm rot="5400000">
                <a:off x="7776000" y="2747160"/>
                <a:ext cx="422280" cy="331560"/>
              </a:xfrm>
              <a:custGeom>
                <a:avLst/>
                <a:gdLst/>
                <a:ahLst/>
                <a:rect l="l" t="t" r="r" b="b"/>
                <a:pathLst>
                  <a:path w="482" h="232">
                    <a:moveTo>
                      <a:pt x="361" y="0"/>
                    </a:moveTo>
                    <a:lnTo>
                      <a:pt x="361" y="58"/>
                    </a:lnTo>
                    <a:lnTo>
                      <a:pt x="0" y="58"/>
                    </a:lnTo>
                    <a:lnTo>
                      <a:pt x="0" y="174"/>
                    </a:lnTo>
                    <a:lnTo>
                      <a:pt x="361" y="174"/>
                    </a:lnTo>
                    <a:lnTo>
                      <a:pt x="361" y="232"/>
                    </a:lnTo>
                    <a:lnTo>
                      <a:pt x="482" y="116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5400000">
                <a:off x="7776000" y="2747160"/>
                <a:ext cx="422280" cy="331560"/>
              </a:xfrm>
              <a:custGeom>
                <a:avLst/>
                <a:gdLst/>
                <a:ahLst/>
                <a:rect l="l" t="t" r="r" b="b"/>
                <a:pathLst>
                  <a:path w="482" h="232">
                    <a:moveTo>
                      <a:pt x="361" y="0"/>
                    </a:moveTo>
                    <a:lnTo>
                      <a:pt x="361" y="58"/>
                    </a:lnTo>
                    <a:lnTo>
                      <a:pt x="0" y="58"/>
                    </a:lnTo>
                    <a:lnTo>
                      <a:pt x="0" y="174"/>
                    </a:lnTo>
                    <a:lnTo>
                      <a:pt x="361" y="174"/>
                    </a:lnTo>
                    <a:lnTo>
                      <a:pt x="361" y="232"/>
                    </a:lnTo>
                    <a:lnTo>
                      <a:pt x="482" y="116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0" y="2286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ice Libr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5486400"/>
              <a:ext cx="990720" cy="304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71800" y="5486400"/>
              <a:ext cx="990720" cy="304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486400"/>
              <a:ext cx="990720" cy="304920"/>
            </a:xfrm>
            <a:prstGeom prst="rect">
              <a:avLst/>
            </a:prstGeom>
            <a:solidFill>
              <a:srgbClr val="0000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5486400"/>
              <a:ext cx="99072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vide and Conquer: Break the Problem in Different Level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1: Basic Structural Issu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5627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ructural issues like  Standard DRC (Design Rule Checks) for finding un-driven inputs, bus-contention PM cells in strong combinational loop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haustive analysis is performed with minimal user defined constraints, constituting primarily the power pin definition, thus ensuring that the checks are less error-pron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80880" y="1523880"/>
            <a:ext cx="4573440" cy="2666520"/>
            <a:chOff x="380880" y="1523880"/>
            <a:chExt cx="4573440" cy="2666520"/>
          </a:xfrm>
        </p:grpSpPr>
        <p:grpSp>
          <p:nvGrpSpPr>
            <p:cNvPr id="356" name=""/>
            <p:cNvGrpSpPr/>
            <p:nvPr/>
          </p:nvGrpSpPr>
          <p:grpSpPr>
            <a:xfrm>
              <a:off x="380880" y="1523880"/>
              <a:ext cx="4410720" cy="2666520"/>
              <a:chOff x="380880" y="1523880"/>
              <a:chExt cx="4410720" cy="2666520"/>
            </a:xfrm>
          </p:grpSpPr>
          <p:sp>
            <p:nvSpPr>
              <p:cNvPr id="357" name=""/>
              <p:cNvSpPr/>
              <p:nvPr/>
            </p:nvSpPr>
            <p:spPr>
              <a:xfrm>
                <a:off x="380880" y="1523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34960" y="2784240"/>
                <a:ext cx="818280" cy="28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82120" y="2792160"/>
                <a:ext cx="65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DDLS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34080" y="279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26840" y="2176200"/>
                <a:ext cx="356400" cy="93240"/>
              </a:xfrm>
              <a:custGeom>
                <a:avLst/>
                <a:gdLst/>
                <a:ahLst/>
                <a:rect l="l" t="t" r="r" b="b"/>
                <a:pathLst>
                  <a:path w="211" h="46">
                    <a:moveTo>
                      <a:pt x="4" y="19"/>
                    </a:moveTo>
                    <a:lnTo>
                      <a:pt x="173" y="19"/>
                    </a:lnTo>
                    <a:lnTo>
                      <a:pt x="174" y="19"/>
                    </a:lnTo>
                    <a:lnTo>
                      <a:pt x="175" y="19"/>
                    </a:lnTo>
                    <a:lnTo>
                      <a:pt x="175" y="19"/>
                    </a:lnTo>
                    <a:lnTo>
                      <a:pt x="175" y="20"/>
                    </a:lnTo>
                    <a:lnTo>
                      <a:pt x="176" y="20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7" y="23"/>
                    </a:lnTo>
                    <a:lnTo>
                      <a:pt x="176" y="23"/>
                    </a:lnTo>
                    <a:lnTo>
                      <a:pt x="176" y="24"/>
                    </a:lnTo>
                    <a:lnTo>
                      <a:pt x="176" y="25"/>
                    </a:lnTo>
                    <a:lnTo>
                      <a:pt x="175" y="25"/>
                    </a:lnTo>
                    <a:lnTo>
                      <a:pt x="175" y="25"/>
                    </a:lnTo>
                    <a:lnTo>
                      <a:pt x="175" y="26"/>
                    </a:lnTo>
                    <a:lnTo>
                      <a:pt x="174" y="26"/>
                    </a:lnTo>
                    <a:lnTo>
                      <a:pt x="173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165" y="0"/>
                    </a:moveTo>
                    <a:lnTo>
                      <a:pt x="211" y="23"/>
                    </a:lnTo>
                    <a:lnTo>
                      <a:pt x="165" y="46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28480" y="2176200"/>
                <a:ext cx="123120" cy="9324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4" y="19"/>
                    </a:moveTo>
                    <a:lnTo>
                      <a:pt x="34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27" y="0"/>
                    </a:moveTo>
                    <a:lnTo>
                      <a:pt x="73" y="23"/>
                    </a:lnTo>
                    <a:lnTo>
                      <a:pt x="27" y="4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96480" y="2176200"/>
                <a:ext cx="356760" cy="93240"/>
              </a:xfrm>
              <a:custGeom>
                <a:avLst/>
                <a:gdLst/>
                <a:ahLst/>
                <a:rect l="l" t="t" r="r" b="b"/>
                <a:pathLst>
                  <a:path w="211" h="46">
                    <a:moveTo>
                      <a:pt x="4" y="19"/>
                    </a:moveTo>
                    <a:lnTo>
                      <a:pt x="173" y="19"/>
                    </a:lnTo>
                    <a:lnTo>
                      <a:pt x="174" y="19"/>
                    </a:lnTo>
                    <a:lnTo>
                      <a:pt x="174" y="19"/>
                    </a:lnTo>
                    <a:lnTo>
                      <a:pt x="175" y="19"/>
                    </a:lnTo>
                    <a:lnTo>
                      <a:pt x="175" y="20"/>
                    </a:lnTo>
                    <a:lnTo>
                      <a:pt x="176" y="20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7" y="23"/>
                    </a:lnTo>
                    <a:lnTo>
                      <a:pt x="176" y="23"/>
                    </a:lnTo>
                    <a:lnTo>
                      <a:pt x="176" y="24"/>
                    </a:lnTo>
                    <a:lnTo>
                      <a:pt x="176" y="25"/>
                    </a:lnTo>
                    <a:lnTo>
                      <a:pt x="175" y="25"/>
                    </a:lnTo>
                    <a:lnTo>
                      <a:pt x="175" y="25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3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165" y="0"/>
                    </a:moveTo>
                    <a:lnTo>
                      <a:pt x="211" y="23"/>
                    </a:lnTo>
                    <a:lnTo>
                      <a:pt x="165" y="46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98120" y="2176200"/>
                <a:ext cx="123120" cy="9324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4" y="19"/>
                    </a:moveTo>
                    <a:lnTo>
                      <a:pt x="34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7" y="26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27" y="0"/>
                    </a:moveTo>
                    <a:lnTo>
                      <a:pt x="73" y="23"/>
                    </a:lnTo>
                    <a:lnTo>
                      <a:pt x="27" y="4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6840" y="2176200"/>
                <a:ext cx="356400" cy="93240"/>
              </a:xfrm>
              <a:custGeom>
                <a:avLst/>
                <a:gdLst/>
                <a:ahLst/>
                <a:rect l="l" t="t" r="r" b="b"/>
                <a:pathLst>
                  <a:path w="211" h="46">
                    <a:moveTo>
                      <a:pt x="4" y="19"/>
                    </a:moveTo>
                    <a:lnTo>
                      <a:pt x="172" y="19"/>
                    </a:lnTo>
                    <a:lnTo>
                      <a:pt x="173" y="19"/>
                    </a:lnTo>
                    <a:lnTo>
                      <a:pt x="174" y="19"/>
                    </a:lnTo>
                    <a:lnTo>
                      <a:pt x="175" y="19"/>
                    </a:lnTo>
                    <a:lnTo>
                      <a:pt x="175" y="20"/>
                    </a:lnTo>
                    <a:lnTo>
                      <a:pt x="176" y="20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7" y="23"/>
                    </a:lnTo>
                    <a:lnTo>
                      <a:pt x="176" y="23"/>
                    </a:lnTo>
                    <a:lnTo>
                      <a:pt x="176" y="24"/>
                    </a:lnTo>
                    <a:lnTo>
                      <a:pt x="176" y="25"/>
                    </a:lnTo>
                    <a:lnTo>
                      <a:pt x="175" y="25"/>
                    </a:lnTo>
                    <a:lnTo>
                      <a:pt x="175" y="26"/>
                    </a:lnTo>
                    <a:lnTo>
                      <a:pt x="174" y="26"/>
                    </a:lnTo>
                    <a:lnTo>
                      <a:pt x="173" y="26"/>
                    </a:lnTo>
                    <a:lnTo>
                      <a:pt x="172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165" y="0"/>
                    </a:moveTo>
                    <a:lnTo>
                      <a:pt x="211" y="23"/>
                    </a:lnTo>
                    <a:lnTo>
                      <a:pt x="165" y="46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68480" y="2176200"/>
                <a:ext cx="123120" cy="9324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4" y="19"/>
                    </a:moveTo>
                    <a:lnTo>
                      <a:pt x="34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6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27" y="0"/>
                    </a:moveTo>
                    <a:lnTo>
                      <a:pt x="73" y="23"/>
                    </a:lnTo>
                    <a:lnTo>
                      <a:pt x="27" y="4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281600" y="1658880"/>
                <a:ext cx="144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281600" y="1659240"/>
                <a:ext cx="269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73320" y="1659240"/>
                <a:ext cx="180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51960" y="2222640"/>
                <a:ext cx="35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31680" y="2644560"/>
                <a:ext cx="180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31680" y="3066120"/>
                <a:ext cx="35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39880" y="2644560"/>
                <a:ext cx="180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01680" y="264456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88680" y="264456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7040" y="306612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01680" y="3487320"/>
                <a:ext cx="1286640" cy="703080"/>
              </a:xfrm>
              <a:custGeom>
                <a:avLst/>
                <a:gdLst/>
                <a:ahLst/>
                <a:rect l="l" t="t" r="r" b="b"/>
                <a:pathLst>
                  <a:path w="761" h="347">
                    <a:moveTo>
                      <a:pt x="380" y="0"/>
                    </a:moveTo>
                    <a:lnTo>
                      <a:pt x="360" y="0"/>
                    </a:lnTo>
                    <a:lnTo>
                      <a:pt x="341" y="1"/>
                    </a:lnTo>
                    <a:lnTo>
                      <a:pt x="322" y="2"/>
                    </a:lnTo>
                    <a:lnTo>
                      <a:pt x="303" y="3"/>
                    </a:lnTo>
                    <a:lnTo>
                      <a:pt x="285" y="5"/>
                    </a:lnTo>
                    <a:lnTo>
                      <a:pt x="267" y="8"/>
                    </a:lnTo>
                    <a:lnTo>
                      <a:pt x="249" y="10"/>
                    </a:lnTo>
                    <a:lnTo>
                      <a:pt x="232" y="14"/>
                    </a:lnTo>
                    <a:lnTo>
                      <a:pt x="215" y="17"/>
                    </a:lnTo>
                    <a:lnTo>
                      <a:pt x="198" y="21"/>
                    </a:lnTo>
                    <a:lnTo>
                      <a:pt x="183" y="25"/>
                    </a:lnTo>
                    <a:lnTo>
                      <a:pt x="167" y="30"/>
                    </a:lnTo>
                    <a:lnTo>
                      <a:pt x="152" y="34"/>
                    </a:lnTo>
                    <a:lnTo>
                      <a:pt x="138" y="39"/>
                    </a:lnTo>
                    <a:lnTo>
                      <a:pt x="124" y="45"/>
                    </a:lnTo>
                    <a:lnTo>
                      <a:pt x="111" y="51"/>
                    </a:lnTo>
                    <a:lnTo>
                      <a:pt x="98" y="57"/>
                    </a:lnTo>
                    <a:lnTo>
                      <a:pt x="86" y="63"/>
                    </a:lnTo>
                    <a:lnTo>
                      <a:pt x="75" y="70"/>
                    </a:lnTo>
                    <a:lnTo>
                      <a:pt x="64" y="76"/>
                    </a:lnTo>
                    <a:lnTo>
                      <a:pt x="55" y="83"/>
                    </a:lnTo>
                    <a:lnTo>
                      <a:pt x="45" y="91"/>
                    </a:lnTo>
                    <a:lnTo>
                      <a:pt x="37" y="98"/>
                    </a:lnTo>
                    <a:lnTo>
                      <a:pt x="29" y="106"/>
                    </a:lnTo>
                    <a:lnTo>
                      <a:pt x="23" y="114"/>
                    </a:lnTo>
                    <a:lnTo>
                      <a:pt x="17" y="122"/>
                    </a:lnTo>
                    <a:lnTo>
                      <a:pt x="11" y="130"/>
                    </a:lnTo>
                    <a:lnTo>
                      <a:pt x="7" y="138"/>
                    </a:lnTo>
                    <a:lnTo>
                      <a:pt x="4" y="147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1" y="191"/>
                    </a:lnTo>
                    <a:lnTo>
                      <a:pt x="4" y="200"/>
                    </a:lnTo>
                    <a:lnTo>
                      <a:pt x="7" y="208"/>
                    </a:lnTo>
                    <a:lnTo>
                      <a:pt x="11" y="217"/>
                    </a:lnTo>
                    <a:lnTo>
                      <a:pt x="17" y="225"/>
                    </a:lnTo>
                    <a:lnTo>
                      <a:pt x="23" y="233"/>
                    </a:lnTo>
                    <a:lnTo>
                      <a:pt x="29" y="241"/>
                    </a:lnTo>
                    <a:lnTo>
                      <a:pt x="37" y="249"/>
                    </a:lnTo>
                    <a:lnTo>
                      <a:pt x="45" y="256"/>
                    </a:lnTo>
                    <a:lnTo>
                      <a:pt x="55" y="263"/>
                    </a:lnTo>
                    <a:lnTo>
                      <a:pt x="64" y="270"/>
                    </a:lnTo>
                    <a:lnTo>
                      <a:pt x="75" y="277"/>
                    </a:lnTo>
                    <a:lnTo>
                      <a:pt x="86" y="284"/>
                    </a:lnTo>
                    <a:lnTo>
                      <a:pt x="98" y="290"/>
                    </a:lnTo>
                    <a:lnTo>
                      <a:pt x="111" y="296"/>
                    </a:lnTo>
                    <a:lnTo>
                      <a:pt x="124" y="302"/>
                    </a:lnTo>
                    <a:lnTo>
                      <a:pt x="138" y="307"/>
                    </a:lnTo>
                    <a:lnTo>
                      <a:pt x="152" y="312"/>
                    </a:lnTo>
                    <a:lnTo>
                      <a:pt x="167" y="317"/>
                    </a:lnTo>
                    <a:lnTo>
                      <a:pt x="183" y="322"/>
                    </a:lnTo>
                    <a:lnTo>
                      <a:pt x="198" y="326"/>
                    </a:lnTo>
                    <a:lnTo>
                      <a:pt x="215" y="330"/>
                    </a:lnTo>
                    <a:lnTo>
                      <a:pt x="232" y="333"/>
                    </a:lnTo>
                    <a:lnTo>
                      <a:pt x="249" y="336"/>
                    </a:lnTo>
                    <a:lnTo>
                      <a:pt x="267" y="339"/>
                    </a:lnTo>
                    <a:lnTo>
                      <a:pt x="285" y="342"/>
                    </a:lnTo>
                    <a:lnTo>
                      <a:pt x="303" y="343"/>
                    </a:lnTo>
                    <a:lnTo>
                      <a:pt x="322" y="345"/>
                    </a:lnTo>
                    <a:lnTo>
                      <a:pt x="341" y="346"/>
                    </a:lnTo>
                    <a:lnTo>
                      <a:pt x="360" y="347"/>
                    </a:lnTo>
                    <a:lnTo>
                      <a:pt x="380" y="347"/>
                    </a:lnTo>
                    <a:lnTo>
                      <a:pt x="400" y="347"/>
                    </a:lnTo>
                    <a:lnTo>
                      <a:pt x="419" y="346"/>
                    </a:lnTo>
                    <a:lnTo>
                      <a:pt x="438" y="345"/>
                    </a:lnTo>
                    <a:lnTo>
                      <a:pt x="457" y="343"/>
                    </a:lnTo>
                    <a:lnTo>
                      <a:pt x="475" y="342"/>
                    </a:lnTo>
                    <a:lnTo>
                      <a:pt x="493" y="339"/>
                    </a:lnTo>
                    <a:lnTo>
                      <a:pt x="511" y="336"/>
                    </a:lnTo>
                    <a:lnTo>
                      <a:pt x="528" y="333"/>
                    </a:lnTo>
                    <a:lnTo>
                      <a:pt x="545" y="330"/>
                    </a:lnTo>
                    <a:lnTo>
                      <a:pt x="561" y="326"/>
                    </a:lnTo>
                    <a:lnTo>
                      <a:pt x="577" y="322"/>
                    </a:lnTo>
                    <a:lnTo>
                      <a:pt x="593" y="317"/>
                    </a:lnTo>
                    <a:lnTo>
                      <a:pt x="608" y="312"/>
                    </a:lnTo>
                    <a:lnTo>
                      <a:pt x="622" y="307"/>
                    </a:lnTo>
                    <a:lnTo>
                      <a:pt x="636" y="302"/>
                    </a:lnTo>
                    <a:lnTo>
                      <a:pt x="649" y="296"/>
                    </a:lnTo>
                    <a:lnTo>
                      <a:pt x="662" y="290"/>
                    </a:lnTo>
                    <a:lnTo>
                      <a:pt x="674" y="284"/>
                    </a:lnTo>
                    <a:lnTo>
                      <a:pt x="685" y="277"/>
                    </a:lnTo>
                    <a:lnTo>
                      <a:pt x="696" y="270"/>
                    </a:lnTo>
                    <a:lnTo>
                      <a:pt x="705" y="263"/>
                    </a:lnTo>
                    <a:lnTo>
                      <a:pt x="715" y="256"/>
                    </a:lnTo>
                    <a:lnTo>
                      <a:pt x="723" y="249"/>
                    </a:lnTo>
                    <a:lnTo>
                      <a:pt x="731" y="241"/>
                    </a:lnTo>
                    <a:lnTo>
                      <a:pt x="737" y="233"/>
                    </a:lnTo>
                    <a:lnTo>
                      <a:pt x="743" y="225"/>
                    </a:lnTo>
                    <a:lnTo>
                      <a:pt x="749" y="217"/>
                    </a:lnTo>
                    <a:lnTo>
                      <a:pt x="753" y="208"/>
                    </a:lnTo>
                    <a:lnTo>
                      <a:pt x="756" y="200"/>
                    </a:lnTo>
                    <a:lnTo>
                      <a:pt x="758" y="191"/>
                    </a:lnTo>
                    <a:lnTo>
                      <a:pt x="760" y="182"/>
                    </a:lnTo>
                    <a:lnTo>
                      <a:pt x="761" y="174"/>
                    </a:lnTo>
                    <a:lnTo>
                      <a:pt x="760" y="164"/>
                    </a:lnTo>
                    <a:lnTo>
                      <a:pt x="758" y="156"/>
                    </a:lnTo>
                    <a:lnTo>
                      <a:pt x="756" y="147"/>
                    </a:lnTo>
                    <a:lnTo>
                      <a:pt x="753" y="138"/>
                    </a:lnTo>
                    <a:lnTo>
                      <a:pt x="749" y="130"/>
                    </a:lnTo>
                    <a:lnTo>
                      <a:pt x="743" y="122"/>
                    </a:lnTo>
                    <a:lnTo>
                      <a:pt x="737" y="114"/>
                    </a:lnTo>
                    <a:lnTo>
                      <a:pt x="731" y="106"/>
                    </a:lnTo>
                    <a:lnTo>
                      <a:pt x="723" y="98"/>
                    </a:lnTo>
                    <a:lnTo>
                      <a:pt x="715" y="91"/>
                    </a:lnTo>
                    <a:lnTo>
                      <a:pt x="705" y="83"/>
                    </a:lnTo>
                    <a:lnTo>
                      <a:pt x="696" y="76"/>
                    </a:lnTo>
                    <a:lnTo>
                      <a:pt x="685" y="70"/>
                    </a:lnTo>
                    <a:lnTo>
                      <a:pt x="674" y="63"/>
                    </a:lnTo>
                    <a:lnTo>
                      <a:pt x="662" y="57"/>
                    </a:lnTo>
                    <a:lnTo>
                      <a:pt x="649" y="51"/>
                    </a:lnTo>
                    <a:lnTo>
                      <a:pt x="636" y="45"/>
                    </a:lnTo>
                    <a:lnTo>
                      <a:pt x="622" y="39"/>
                    </a:lnTo>
                    <a:lnTo>
                      <a:pt x="608" y="34"/>
                    </a:lnTo>
                    <a:lnTo>
                      <a:pt x="593" y="30"/>
                    </a:lnTo>
                    <a:lnTo>
                      <a:pt x="577" y="25"/>
                    </a:lnTo>
                    <a:lnTo>
                      <a:pt x="561" y="21"/>
                    </a:lnTo>
                    <a:lnTo>
                      <a:pt x="545" y="17"/>
                    </a:lnTo>
                    <a:lnTo>
                      <a:pt x="528" y="14"/>
                    </a:lnTo>
                    <a:lnTo>
                      <a:pt x="511" y="10"/>
                    </a:lnTo>
                    <a:lnTo>
                      <a:pt x="493" y="8"/>
                    </a:lnTo>
                    <a:lnTo>
                      <a:pt x="475" y="5"/>
                    </a:lnTo>
                    <a:lnTo>
                      <a:pt x="457" y="3"/>
                    </a:lnTo>
                    <a:lnTo>
                      <a:pt x="438" y="2"/>
                    </a:lnTo>
                    <a:lnTo>
                      <a:pt x="419" y="1"/>
                    </a:lnTo>
                    <a:lnTo>
                      <a:pt x="400" y="0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01680" y="3487320"/>
                <a:ext cx="1286640" cy="703080"/>
              </a:xfrm>
              <a:custGeom>
                <a:avLst/>
                <a:gdLst/>
                <a:ahLst/>
                <a:rect l="l" t="t" r="r" b="b"/>
                <a:pathLst>
                  <a:path w="761" h="347">
                    <a:moveTo>
                      <a:pt x="380" y="0"/>
                    </a:moveTo>
                    <a:lnTo>
                      <a:pt x="360" y="0"/>
                    </a:lnTo>
                    <a:lnTo>
                      <a:pt x="341" y="1"/>
                    </a:lnTo>
                    <a:lnTo>
                      <a:pt x="322" y="2"/>
                    </a:lnTo>
                    <a:lnTo>
                      <a:pt x="303" y="3"/>
                    </a:lnTo>
                    <a:lnTo>
                      <a:pt x="285" y="5"/>
                    </a:lnTo>
                    <a:lnTo>
                      <a:pt x="267" y="8"/>
                    </a:lnTo>
                    <a:lnTo>
                      <a:pt x="249" y="10"/>
                    </a:lnTo>
                    <a:lnTo>
                      <a:pt x="232" y="14"/>
                    </a:lnTo>
                    <a:lnTo>
                      <a:pt x="215" y="17"/>
                    </a:lnTo>
                    <a:lnTo>
                      <a:pt x="198" y="21"/>
                    </a:lnTo>
                    <a:lnTo>
                      <a:pt x="183" y="25"/>
                    </a:lnTo>
                    <a:lnTo>
                      <a:pt x="167" y="30"/>
                    </a:lnTo>
                    <a:lnTo>
                      <a:pt x="152" y="34"/>
                    </a:lnTo>
                    <a:lnTo>
                      <a:pt x="138" y="39"/>
                    </a:lnTo>
                    <a:lnTo>
                      <a:pt x="124" y="45"/>
                    </a:lnTo>
                    <a:lnTo>
                      <a:pt x="111" y="51"/>
                    </a:lnTo>
                    <a:lnTo>
                      <a:pt x="98" y="57"/>
                    </a:lnTo>
                    <a:lnTo>
                      <a:pt x="86" y="63"/>
                    </a:lnTo>
                    <a:lnTo>
                      <a:pt x="75" y="70"/>
                    </a:lnTo>
                    <a:lnTo>
                      <a:pt x="64" y="76"/>
                    </a:lnTo>
                    <a:lnTo>
                      <a:pt x="55" y="83"/>
                    </a:lnTo>
                    <a:lnTo>
                      <a:pt x="45" y="91"/>
                    </a:lnTo>
                    <a:lnTo>
                      <a:pt x="37" y="98"/>
                    </a:lnTo>
                    <a:lnTo>
                      <a:pt x="29" y="106"/>
                    </a:lnTo>
                    <a:lnTo>
                      <a:pt x="23" y="114"/>
                    </a:lnTo>
                    <a:lnTo>
                      <a:pt x="17" y="122"/>
                    </a:lnTo>
                    <a:lnTo>
                      <a:pt x="11" y="130"/>
                    </a:lnTo>
                    <a:lnTo>
                      <a:pt x="7" y="138"/>
                    </a:lnTo>
                    <a:lnTo>
                      <a:pt x="4" y="147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1" y="191"/>
                    </a:lnTo>
                    <a:lnTo>
                      <a:pt x="4" y="200"/>
                    </a:lnTo>
                    <a:lnTo>
                      <a:pt x="7" y="208"/>
                    </a:lnTo>
                    <a:lnTo>
                      <a:pt x="11" y="217"/>
                    </a:lnTo>
                    <a:lnTo>
                      <a:pt x="17" y="225"/>
                    </a:lnTo>
                    <a:lnTo>
                      <a:pt x="23" y="233"/>
                    </a:lnTo>
                    <a:lnTo>
                      <a:pt x="29" y="241"/>
                    </a:lnTo>
                    <a:lnTo>
                      <a:pt x="37" y="249"/>
                    </a:lnTo>
                    <a:lnTo>
                      <a:pt x="45" y="256"/>
                    </a:lnTo>
                    <a:lnTo>
                      <a:pt x="55" y="263"/>
                    </a:lnTo>
                    <a:lnTo>
                      <a:pt x="64" y="270"/>
                    </a:lnTo>
                    <a:lnTo>
                      <a:pt x="75" y="277"/>
                    </a:lnTo>
                    <a:lnTo>
                      <a:pt x="86" y="284"/>
                    </a:lnTo>
                    <a:lnTo>
                      <a:pt x="98" y="290"/>
                    </a:lnTo>
                    <a:lnTo>
                      <a:pt x="111" y="296"/>
                    </a:lnTo>
                    <a:lnTo>
                      <a:pt x="124" y="302"/>
                    </a:lnTo>
                    <a:lnTo>
                      <a:pt x="138" y="307"/>
                    </a:lnTo>
                    <a:lnTo>
                      <a:pt x="152" y="312"/>
                    </a:lnTo>
                    <a:lnTo>
                      <a:pt x="167" y="317"/>
                    </a:lnTo>
                    <a:lnTo>
                      <a:pt x="183" y="322"/>
                    </a:lnTo>
                    <a:lnTo>
                      <a:pt x="198" y="326"/>
                    </a:lnTo>
                    <a:lnTo>
                      <a:pt x="215" y="330"/>
                    </a:lnTo>
                    <a:lnTo>
                      <a:pt x="232" y="333"/>
                    </a:lnTo>
                    <a:lnTo>
                      <a:pt x="249" y="336"/>
                    </a:lnTo>
                    <a:lnTo>
                      <a:pt x="267" y="339"/>
                    </a:lnTo>
                    <a:lnTo>
                      <a:pt x="285" y="342"/>
                    </a:lnTo>
                    <a:lnTo>
                      <a:pt x="303" y="343"/>
                    </a:lnTo>
                    <a:lnTo>
                      <a:pt x="322" y="345"/>
                    </a:lnTo>
                    <a:lnTo>
                      <a:pt x="341" y="346"/>
                    </a:lnTo>
                    <a:lnTo>
                      <a:pt x="360" y="347"/>
                    </a:lnTo>
                    <a:lnTo>
                      <a:pt x="380" y="347"/>
                    </a:lnTo>
                    <a:lnTo>
                      <a:pt x="400" y="347"/>
                    </a:lnTo>
                    <a:lnTo>
                      <a:pt x="419" y="346"/>
                    </a:lnTo>
                    <a:lnTo>
                      <a:pt x="438" y="345"/>
                    </a:lnTo>
                    <a:lnTo>
                      <a:pt x="457" y="343"/>
                    </a:lnTo>
                    <a:lnTo>
                      <a:pt x="475" y="342"/>
                    </a:lnTo>
                    <a:lnTo>
                      <a:pt x="493" y="339"/>
                    </a:lnTo>
                    <a:lnTo>
                      <a:pt x="511" y="336"/>
                    </a:lnTo>
                    <a:lnTo>
                      <a:pt x="528" y="333"/>
                    </a:lnTo>
                    <a:lnTo>
                      <a:pt x="545" y="330"/>
                    </a:lnTo>
                    <a:lnTo>
                      <a:pt x="561" y="326"/>
                    </a:lnTo>
                    <a:lnTo>
                      <a:pt x="577" y="322"/>
                    </a:lnTo>
                    <a:lnTo>
                      <a:pt x="593" y="317"/>
                    </a:lnTo>
                    <a:lnTo>
                      <a:pt x="608" y="312"/>
                    </a:lnTo>
                    <a:lnTo>
                      <a:pt x="622" y="307"/>
                    </a:lnTo>
                    <a:lnTo>
                      <a:pt x="636" y="302"/>
                    </a:lnTo>
                    <a:lnTo>
                      <a:pt x="649" y="296"/>
                    </a:lnTo>
                    <a:lnTo>
                      <a:pt x="662" y="290"/>
                    </a:lnTo>
                    <a:lnTo>
                      <a:pt x="674" y="284"/>
                    </a:lnTo>
                    <a:lnTo>
                      <a:pt x="685" y="277"/>
                    </a:lnTo>
                    <a:lnTo>
                      <a:pt x="696" y="270"/>
                    </a:lnTo>
                    <a:lnTo>
                      <a:pt x="705" y="263"/>
                    </a:lnTo>
                    <a:lnTo>
                      <a:pt x="715" y="256"/>
                    </a:lnTo>
                    <a:lnTo>
                      <a:pt x="723" y="249"/>
                    </a:lnTo>
                    <a:lnTo>
                      <a:pt x="731" y="241"/>
                    </a:lnTo>
                    <a:lnTo>
                      <a:pt x="737" y="233"/>
                    </a:lnTo>
                    <a:lnTo>
                      <a:pt x="743" y="225"/>
                    </a:lnTo>
                    <a:lnTo>
                      <a:pt x="749" y="217"/>
                    </a:lnTo>
                    <a:lnTo>
                      <a:pt x="753" y="208"/>
                    </a:lnTo>
                    <a:lnTo>
                      <a:pt x="756" y="200"/>
                    </a:lnTo>
                    <a:lnTo>
                      <a:pt x="758" y="191"/>
                    </a:lnTo>
                    <a:lnTo>
                      <a:pt x="760" y="182"/>
                    </a:lnTo>
                    <a:lnTo>
                      <a:pt x="761" y="174"/>
                    </a:lnTo>
                    <a:lnTo>
                      <a:pt x="760" y="164"/>
                    </a:lnTo>
                    <a:lnTo>
                      <a:pt x="758" y="156"/>
                    </a:lnTo>
                    <a:lnTo>
                      <a:pt x="756" y="147"/>
                    </a:lnTo>
                    <a:lnTo>
                      <a:pt x="753" y="138"/>
                    </a:lnTo>
                    <a:lnTo>
                      <a:pt x="749" y="130"/>
                    </a:lnTo>
                    <a:lnTo>
                      <a:pt x="743" y="122"/>
                    </a:lnTo>
                    <a:lnTo>
                      <a:pt x="737" y="114"/>
                    </a:lnTo>
                    <a:lnTo>
                      <a:pt x="731" y="106"/>
                    </a:lnTo>
                    <a:lnTo>
                      <a:pt x="723" y="98"/>
                    </a:lnTo>
                    <a:lnTo>
                      <a:pt x="715" y="91"/>
                    </a:lnTo>
                    <a:lnTo>
                      <a:pt x="705" y="83"/>
                    </a:lnTo>
                    <a:lnTo>
                      <a:pt x="696" y="76"/>
                    </a:lnTo>
                    <a:lnTo>
                      <a:pt x="685" y="70"/>
                    </a:lnTo>
                    <a:lnTo>
                      <a:pt x="674" y="63"/>
                    </a:lnTo>
                    <a:lnTo>
                      <a:pt x="662" y="57"/>
                    </a:lnTo>
                    <a:lnTo>
                      <a:pt x="649" y="51"/>
                    </a:lnTo>
                    <a:lnTo>
                      <a:pt x="636" y="45"/>
                    </a:lnTo>
                    <a:lnTo>
                      <a:pt x="622" y="39"/>
                    </a:lnTo>
                    <a:lnTo>
                      <a:pt x="608" y="34"/>
                    </a:lnTo>
                    <a:lnTo>
                      <a:pt x="593" y="30"/>
                    </a:lnTo>
                    <a:lnTo>
                      <a:pt x="577" y="25"/>
                    </a:lnTo>
                    <a:lnTo>
                      <a:pt x="561" y="21"/>
                    </a:lnTo>
                    <a:lnTo>
                      <a:pt x="545" y="17"/>
                    </a:lnTo>
                    <a:lnTo>
                      <a:pt x="528" y="14"/>
                    </a:lnTo>
                    <a:lnTo>
                      <a:pt x="511" y="10"/>
                    </a:lnTo>
                    <a:lnTo>
                      <a:pt x="493" y="8"/>
                    </a:lnTo>
                    <a:lnTo>
                      <a:pt x="475" y="5"/>
                    </a:lnTo>
                    <a:lnTo>
                      <a:pt x="457" y="3"/>
                    </a:lnTo>
                    <a:lnTo>
                      <a:pt x="438" y="2"/>
                    </a:lnTo>
                    <a:lnTo>
                      <a:pt x="419" y="1"/>
                    </a:lnTo>
                    <a:lnTo>
                      <a:pt x="400" y="0"/>
                    </a:lnTo>
                    <a:lnTo>
                      <a:pt x="38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04080" y="3641400"/>
                <a:ext cx="43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35720" y="3641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5040" y="2081160"/>
                <a:ext cx="349920" cy="563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5040" y="2081160"/>
                <a:ext cx="349920" cy="56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360" y="209736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8600" y="23832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W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64240" y="2383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6480" y="2176200"/>
                <a:ext cx="358200" cy="93240"/>
              </a:xfrm>
              <a:custGeom>
                <a:avLst/>
                <a:gdLst/>
                <a:ahLst/>
                <a:rect l="l" t="t" r="r" b="b"/>
                <a:pathLst>
                  <a:path w="212" h="46">
                    <a:moveTo>
                      <a:pt x="4" y="19"/>
                    </a:moveTo>
                    <a:lnTo>
                      <a:pt x="173" y="19"/>
                    </a:lnTo>
                    <a:lnTo>
                      <a:pt x="174" y="19"/>
                    </a:lnTo>
                    <a:lnTo>
                      <a:pt x="174" y="19"/>
                    </a:lnTo>
                    <a:lnTo>
                      <a:pt x="175" y="19"/>
                    </a:lnTo>
                    <a:lnTo>
                      <a:pt x="176" y="20"/>
                    </a:lnTo>
                    <a:lnTo>
                      <a:pt x="176" y="20"/>
                    </a:lnTo>
                    <a:lnTo>
                      <a:pt x="176" y="21"/>
                    </a:lnTo>
                    <a:lnTo>
                      <a:pt x="176" y="22"/>
                    </a:lnTo>
                    <a:lnTo>
                      <a:pt x="177" y="23"/>
                    </a:lnTo>
                    <a:lnTo>
                      <a:pt x="176" y="23"/>
                    </a:lnTo>
                    <a:lnTo>
                      <a:pt x="176" y="24"/>
                    </a:lnTo>
                    <a:lnTo>
                      <a:pt x="176" y="25"/>
                    </a:lnTo>
                    <a:lnTo>
                      <a:pt x="176" y="25"/>
                    </a:lnTo>
                    <a:lnTo>
                      <a:pt x="175" y="25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3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165" y="0"/>
                    </a:moveTo>
                    <a:lnTo>
                      <a:pt x="212" y="23"/>
                    </a:lnTo>
                    <a:lnTo>
                      <a:pt x="165" y="46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58120" y="2176200"/>
                <a:ext cx="123120" cy="9324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4" y="19"/>
                    </a:moveTo>
                    <a:lnTo>
                      <a:pt x="35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27" y="0"/>
                    </a:moveTo>
                    <a:lnTo>
                      <a:pt x="73" y="23"/>
                    </a:lnTo>
                    <a:lnTo>
                      <a:pt x="27" y="4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3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3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5040" y="2222640"/>
                <a:ext cx="116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48320" y="2222640"/>
                <a:ext cx="1166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83240" y="2081160"/>
                <a:ext cx="351360" cy="563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83240" y="2081160"/>
                <a:ext cx="351360" cy="56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4000" y="209736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28960" y="23832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32440" y="2383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0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0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83240" y="2222640"/>
                <a:ext cx="1184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8320" y="2222640"/>
                <a:ext cx="116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53600" y="2081160"/>
                <a:ext cx="351360" cy="563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53600" y="2081160"/>
                <a:ext cx="351360" cy="56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02200" y="209736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200760" y="23832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02440" y="2383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27492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7492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53600" y="2222640"/>
                <a:ext cx="118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88680" y="2222640"/>
                <a:ext cx="116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23240" y="2081160"/>
                <a:ext cx="351360" cy="563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323240" y="2081160"/>
                <a:ext cx="351360" cy="56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74000" y="209736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67160" y="23832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W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74240" y="2383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4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45280" y="2081160"/>
                <a:ext cx="116280" cy="281520"/>
              </a:xfrm>
              <a:custGeom>
                <a:avLst/>
                <a:gdLst/>
                <a:ahLst/>
                <a:rect l="l" t="t" r="r" b="b"/>
                <a:pathLst>
                  <a:path w="69" h="139">
                    <a:moveTo>
                      <a:pt x="69" y="7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69" y="7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23240" y="2222640"/>
                <a:ext cx="116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58320" y="2222640"/>
                <a:ext cx="116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21600" y="1801440"/>
                <a:ext cx="180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1632960" y="1801440"/>
                <a:ext cx="198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33320" y="1801440"/>
                <a:ext cx="180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696320" y="1827360"/>
              <a:ext cx="1871640" cy="348840"/>
            </a:xfrm>
            <a:custGeom>
              <a:avLst/>
              <a:gdLst/>
              <a:ahLst/>
              <a:rect l="l" t="t" r="r" b="b"/>
              <a:pathLst>
                <a:path w="4613" h="720">
                  <a:moveTo>
                    <a:pt x="2424" y="50"/>
                  </a:moveTo>
                  <a:lnTo>
                    <a:pt x="2307" y="50"/>
                  </a:lnTo>
                  <a:lnTo>
                    <a:pt x="2224" y="50"/>
                  </a:lnTo>
                  <a:lnTo>
                    <a:pt x="2224" y="0"/>
                  </a:lnTo>
                  <a:lnTo>
                    <a:pt x="2307" y="0"/>
                  </a:lnTo>
                  <a:lnTo>
                    <a:pt x="2424" y="0"/>
                  </a:lnTo>
                  <a:lnTo>
                    <a:pt x="2424" y="50"/>
                  </a:lnTo>
                  <a:close/>
                  <a:moveTo>
                    <a:pt x="2075" y="52"/>
                  </a:moveTo>
                  <a:lnTo>
                    <a:pt x="2074" y="52"/>
                  </a:lnTo>
                  <a:lnTo>
                    <a:pt x="1960" y="54"/>
                  </a:lnTo>
                  <a:lnTo>
                    <a:pt x="1875" y="56"/>
                  </a:lnTo>
                  <a:lnTo>
                    <a:pt x="1874" y="6"/>
                  </a:lnTo>
                  <a:lnTo>
                    <a:pt x="1959" y="4"/>
                  </a:lnTo>
                  <a:lnTo>
                    <a:pt x="2073" y="2"/>
                  </a:lnTo>
                  <a:lnTo>
                    <a:pt x="2074" y="2"/>
                  </a:lnTo>
                  <a:lnTo>
                    <a:pt x="2075" y="52"/>
                  </a:lnTo>
                  <a:close/>
                  <a:moveTo>
                    <a:pt x="1725" y="61"/>
                  </a:moveTo>
                  <a:lnTo>
                    <a:pt x="1630" y="65"/>
                  </a:lnTo>
                  <a:lnTo>
                    <a:pt x="1526" y="70"/>
                  </a:lnTo>
                  <a:lnTo>
                    <a:pt x="1523" y="20"/>
                  </a:lnTo>
                  <a:lnTo>
                    <a:pt x="1627" y="15"/>
                  </a:lnTo>
                  <a:lnTo>
                    <a:pt x="1723" y="11"/>
                  </a:lnTo>
                  <a:lnTo>
                    <a:pt x="1725" y="61"/>
                  </a:lnTo>
                  <a:close/>
                  <a:moveTo>
                    <a:pt x="1377" y="79"/>
                  </a:moveTo>
                  <a:lnTo>
                    <a:pt x="1319" y="83"/>
                  </a:lnTo>
                  <a:lnTo>
                    <a:pt x="1221" y="90"/>
                  </a:lnTo>
                  <a:lnTo>
                    <a:pt x="1177" y="94"/>
                  </a:lnTo>
                  <a:lnTo>
                    <a:pt x="1173" y="44"/>
                  </a:lnTo>
                  <a:lnTo>
                    <a:pt x="1218" y="41"/>
                  </a:lnTo>
                  <a:lnTo>
                    <a:pt x="1316" y="33"/>
                  </a:lnTo>
                  <a:lnTo>
                    <a:pt x="1373" y="29"/>
                  </a:lnTo>
                  <a:lnTo>
                    <a:pt x="1377" y="79"/>
                  </a:lnTo>
                  <a:close/>
                  <a:moveTo>
                    <a:pt x="1029" y="108"/>
                  </a:moveTo>
                  <a:lnTo>
                    <a:pt x="945" y="116"/>
                  </a:lnTo>
                  <a:lnTo>
                    <a:pt x="859" y="126"/>
                  </a:lnTo>
                  <a:lnTo>
                    <a:pt x="830" y="130"/>
                  </a:lnTo>
                  <a:lnTo>
                    <a:pt x="824" y="80"/>
                  </a:lnTo>
                  <a:lnTo>
                    <a:pt x="853" y="77"/>
                  </a:lnTo>
                  <a:lnTo>
                    <a:pt x="939" y="67"/>
                  </a:lnTo>
                  <a:lnTo>
                    <a:pt x="1023" y="58"/>
                  </a:lnTo>
                  <a:lnTo>
                    <a:pt x="1029" y="108"/>
                  </a:lnTo>
                  <a:close/>
                  <a:moveTo>
                    <a:pt x="682" y="150"/>
                  </a:moveTo>
                  <a:lnTo>
                    <a:pt x="622" y="159"/>
                  </a:lnTo>
                  <a:lnTo>
                    <a:pt x="551" y="172"/>
                  </a:lnTo>
                  <a:lnTo>
                    <a:pt x="486" y="184"/>
                  </a:lnTo>
                  <a:lnTo>
                    <a:pt x="477" y="134"/>
                  </a:lnTo>
                  <a:lnTo>
                    <a:pt x="542" y="122"/>
                  </a:lnTo>
                  <a:lnTo>
                    <a:pt x="614" y="110"/>
                  </a:lnTo>
                  <a:lnTo>
                    <a:pt x="675" y="101"/>
                  </a:lnTo>
                  <a:lnTo>
                    <a:pt x="682" y="150"/>
                  </a:lnTo>
                  <a:close/>
                  <a:moveTo>
                    <a:pt x="341" y="216"/>
                  </a:moveTo>
                  <a:lnTo>
                    <a:pt x="307" y="225"/>
                  </a:lnTo>
                  <a:lnTo>
                    <a:pt x="257" y="239"/>
                  </a:lnTo>
                  <a:lnTo>
                    <a:pt x="213" y="253"/>
                  </a:lnTo>
                  <a:lnTo>
                    <a:pt x="173" y="268"/>
                  </a:lnTo>
                  <a:lnTo>
                    <a:pt x="155" y="276"/>
                  </a:lnTo>
                  <a:lnTo>
                    <a:pt x="135" y="230"/>
                  </a:lnTo>
                  <a:lnTo>
                    <a:pt x="155" y="222"/>
                  </a:lnTo>
                  <a:lnTo>
                    <a:pt x="197" y="206"/>
                  </a:lnTo>
                  <a:lnTo>
                    <a:pt x="244" y="191"/>
                  </a:lnTo>
                  <a:lnTo>
                    <a:pt x="294" y="176"/>
                  </a:lnTo>
                  <a:lnTo>
                    <a:pt x="329" y="167"/>
                  </a:lnTo>
                  <a:lnTo>
                    <a:pt x="341" y="216"/>
                  </a:lnTo>
                  <a:close/>
                  <a:moveTo>
                    <a:pt x="51" y="354"/>
                  </a:moveTo>
                  <a:lnTo>
                    <a:pt x="51" y="354"/>
                  </a:lnTo>
                  <a:lnTo>
                    <a:pt x="53" y="347"/>
                  </a:lnTo>
                  <a:lnTo>
                    <a:pt x="50" y="365"/>
                  </a:lnTo>
                  <a:lnTo>
                    <a:pt x="50" y="356"/>
                  </a:lnTo>
                  <a:lnTo>
                    <a:pt x="53" y="373"/>
                  </a:lnTo>
                  <a:lnTo>
                    <a:pt x="51" y="366"/>
                  </a:lnTo>
                  <a:lnTo>
                    <a:pt x="59" y="383"/>
                  </a:lnTo>
                  <a:lnTo>
                    <a:pt x="56" y="378"/>
                  </a:lnTo>
                  <a:lnTo>
                    <a:pt x="71" y="395"/>
                  </a:lnTo>
                  <a:lnTo>
                    <a:pt x="68" y="392"/>
                  </a:lnTo>
                  <a:lnTo>
                    <a:pt x="88" y="408"/>
                  </a:lnTo>
                  <a:lnTo>
                    <a:pt x="111" y="423"/>
                  </a:lnTo>
                  <a:lnTo>
                    <a:pt x="140" y="438"/>
                  </a:lnTo>
                  <a:lnTo>
                    <a:pt x="167" y="450"/>
                  </a:lnTo>
                  <a:lnTo>
                    <a:pt x="148" y="496"/>
                  </a:lnTo>
                  <a:lnTo>
                    <a:pt x="116" y="482"/>
                  </a:lnTo>
                  <a:lnTo>
                    <a:pt x="84" y="465"/>
                  </a:lnTo>
                  <a:lnTo>
                    <a:pt x="56" y="447"/>
                  </a:lnTo>
                  <a:lnTo>
                    <a:pt x="36" y="431"/>
                  </a:lnTo>
                  <a:cubicBezTo>
                    <a:pt x="35" y="430"/>
                    <a:pt x="34" y="429"/>
                    <a:pt x="33" y="428"/>
                  </a:cubicBezTo>
                  <a:lnTo>
                    <a:pt x="18" y="411"/>
                  </a:lnTo>
                  <a:cubicBezTo>
                    <a:pt x="17" y="409"/>
                    <a:pt x="16" y="408"/>
                    <a:pt x="15" y="406"/>
                  </a:cubicBezTo>
                  <a:lnTo>
                    <a:pt x="6" y="389"/>
                  </a:lnTo>
                  <a:cubicBezTo>
                    <a:pt x="5" y="387"/>
                    <a:pt x="4" y="384"/>
                    <a:pt x="4" y="382"/>
                  </a:cubicBezTo>
                  <a:lnTo>
                    <a:pt x="1" y="365"/>
                  </a:lnTo>
                  <a:cubicBezTo>
                    <a:pt x="0" y="362"/>
                    <a:pt x="0" y="359"/>
                    <a:pt x="1" y="356"/>
                  </a:cubicBezTo>
                  <a:lnTo>
                    <a:pt x="4" y="339"/>
                  </a:lnTo>
                  <a:cubicBezTo>
                    <a:pt x="4" y="336"/>
                    <a:pt x="5" y="334"/>
                    <a:pt x="6" y="332"/>
                  </a:cubicBezTo>
                  <a:lnTo>
                    <a:pt x="7" y="331"/>
                  </a:lnTo>
                  <a:lnTo>
                    <a:pt x="51" y="354"/>
                  </a:lnTo>
                  <a:close/>
                  <a:moveTo>
                    <a:pt x="307" y="496"/>
                  </a:moveTo>
                  <a:lnTo>
                    <a:pt x="308" y="496"/>
                  </a:lnTo>
                  <a:lnTo>
                    <a:pt x="362" y="510"/>
                  </a:lnTo>
                  <a:lnTo>
                    <a:pt x="421" y="523"/>
                  </a:lnTo>
                  <a:lnTo>
                    <a:pt x="484" y="536"/>
                  </a:lnTo>
                  <a:lnTo>
                    <a:pt x="499" y="539"/>
                  </a:lnTo>
                  <a:lnTo>
                    <a:pt x="490" y="589"/>
                  </a:lnTo>
                  <a:lnTo>
                    <a:pt x="474" y="585"/>
                  </a:lnTo>
                  <a:lnTo>
                    <a:pt x="410" y="572"/>
                  </a:lnTo>
                  <a:lnTo>
                    <a:pt x="350" y="558"/>
                  </a:lnTo>
                  <a:lnTo>
                    <a:pt x="294" y="544"/>
                  </a:lnTo>
                  <a:lnTo>
                    <a:pt x="293" y="544"/>
                  </a:lnTo>
                  <a:lnTo>
                    <a:pt x="307" y="496"/>
                  </a:lnTo>
                  <a:close/>
                  <a:moveTo>
                    <a:pt x="646" y="565"/>
                  </a:moveTo>
                  <a:lnTo>
                    <a:pt x="698" y="573"/>
                  </a:lnTo>
                  <a:lnTo>
                    <a:pt x="776" y="584"/>
                  </a:lnTo>
                  <a:lnTo>
                    <a:pt x="844" y="592"/>
                  </a:lnTo>
                  <a:lnTo>
                    <a:pt x="837" y="642"/>
                  </a:lnTo>
                  <a:lnTo>
                    <a:pt x="770" y="633"/>
                  </a:lnTo>
                  <a:lnTo>
                    <a:pt x="690" y="622"/>
                  </a:lnTo>
                  <a:lnTo>
                    <a:pt x="639" y="614"/>
                  </a:lnTo>
                  <a:lnTo>
                    <a:pt x="646" y="565"/>
                  </a:lnTo>
                  <a:close/>
                  <a:moveTo>
                    <a:pt x="992" y="609"/>
                  </a:moveTo>
                  <a:lnTo>
                    <a:pt x="1034" y="614"/>
                  </a:lnTo>
                  <a:lnTo>
                    <a:pt x="1126" y="622"/>
                  </a:lnTo>
                  <a:lnTo>
                    <a:pt x="1191" y="628"/>
                  </a:lnTo>
                  <a:lnTo>
                    <a:pt x="1187" y="678"/>
                  </a:lnTo>
                  <a:lnTo>
                    <a:pt x="1122" y="672"/>
                  </a:lnTo>
                  <a:lnTo>
                    <a:pt x="1029" y="663"/>
                  </a:lnTo>
                  <a:lnTo>
                    <a:pt x="987" y="659"/>
                  </a:lnTo>
                  <a:lnTo>
                    <a:pt x="992" y="609"/>
                  </a:lnTo>
                  <a:close/>
                  <a:moveTo>
                    <a:pt x="1340" y="639"/>
                  </a:moveTo>
                  <a:lnTo>
                    <a:pt x="1420" y="644"/>
                  </a:lnTo>
                  <a:lnTo>
                    <a:pt x="1524" y="650"/>
                  </a:lnTo>
                  <a:lnTo>
                    <a:pt x="1539" y="651"/>
                  </a:lnTo>
                  <a:lnTo>
                    <a:pt x="1537" y="701"/>
                  </a:lnTo>
                  <a:lnTo>
                    <a:pt x="1521" y="700"/>
                  </a:lnTo>
                  <a:lnTo>
                    <a:pt x="1417" y="694"/>
                  </a:lnTo>
                  <a:lnTo>
                    <a:pt x="1337" y="689"/>
                  </a:lnTo>
                  <a:lnTo>
                    <a:pt x="1340" y="639"/>
                  </a:lnTo>
                  <a:close/>
                  <a:moveTo>
                    <a:pt x="1689" y="658"/>
                  </a:moveTo>
                  <a:lnTo>
                    <a:pt x="1738" y="660"/>
                  </a:lnTo>
                  <a:lnTo>
                    <a:pt x="1848" y="664"/>
                  </a:lnTo>
                  <a:lnTo>
                    <a:pt x="1888" y="665"/>
                  </a:lnTo>
                  <a:lnTo>
                    <a:pt x="1887" y="715"/>
                  </a:lnTo>
                  <a:lnTo>
                    <a:pt x="1846" y="714"/>
                  </a:lnTo>
                  <a:lnTo>
                    <a:pt x="1736" y="710"/>
                  </a:lnTo>
                  <a:lnTo>
                    <a:pt x="1687" y="708"/>
                  </a:lnTo>
                  <a:lnTo>
                    <a:pt x="1689" y="658"/>
                  </a:lnTo>
                  <a:close/>
                  <a:moveTo>
                    <a:pt x="2038" y="668"/>
                  </a:moveTo>
                  <a:lnTo>
                    <a:pt x="2074" y="669"/>
                  </a:lnTo>
                  <a:lnTo>
                    <a:pt x="2189" y="670"/>
                  </a:lnTo>
                  <a:lnTo>
                    <a:pt x="2238" y="670"/>
                  </a:lnTo>
                  <a:lnTo>
                    <a:pt x="2238" y="720"/>
                  </a:lnTo>
                  <a:lnTo>
                    <a:pt x="2189" y="720"/>
                  </a:lnTo>
                  <a:lnTo>
                    <a:pt x="2073" y="719"/>
                  </a:lnTo>
                  <a:lnTo>
                    <a:pt x="2037" y="718"/>
                  </a:lnTo>
                  <a:lnTo>
                    <a:pt x="2038" y="668"/>
                  </a:lnTo>
                  <a:close/>
                  <a:moveTo>
                    <a:pt x="2388" y="670"/>
                  </a:moveTo>
                  <a:lnTo>
                    <a:pt x="2424" y="670"/>
                  </a:lnTo>
                  <a:lnTo>
                    <a:pt x="2540" y="669"/>
                  </a:lnTo>
                  <a:lnTo>
                    <a:pt x="2587" y="668"/>
                  </a:lnTo>
                  <a:lnTo>
                    <a:pt x="2588" y="718"/>
                  </a:lnTo>
                  <a:lnTo>
                    <a:pt x="2540" y="719"/>
                  </a:lnTo>
                  <a:lnTo>
                    <a:pt x="2424" y="720"/>
                  </a:lnTo>
                  <a:lnTo>
                    <a:pt x="2388" y="720"/>
                  </a:lnTo>
                  <a:lnTo>
                    <a:pt x="2388" y="670"/>
                  </a:lnTo>
                  <a:close/>
                  <a:moveTo>
                    <a:pt x="2737" y="665"/>
                  </a:moveTo>
                  <a:lnTo>
                    <a:pt x="2766" y="664"/>
                  </a:lnTo>
                  <a:lnTo>
                    <a:pt x="2876" y="660"/>
                  </a:lnTo>
                  <a:lnTo>
                    <a:pt x="2936" y="658"/>
                  </a:lnTo>
                  <a:lnTo>
                    <a:pt x="2939" y="708"/>
                  </a:lnTo>
                  <a:lnTo>
                    <a:pt x="2878" y="710"/>
                  </a:lnTo>
                  <a:lnTo>
                    <a:pt x="2767" y="714"/>
                  </a:lnTo>
                  <a:lnTo>
                    <a:pt x="2738" y="715"/>
                  </a:lnTo>
                  <a:lnTo>
                    <a:pt x="2737" y="665"/>
                  </a:lnTo>
                  <a:close/>
                  <a:moveTo>
                    <a:pt x="3086" y="651"/>
                  </a:moveTo>
                  <a:lnTo>
                    <a:pt x="3090" y="650"/>
                  </a:lnTo>
                  <a:lnTo>
                    <a:pt x="3193" y="645"/>
                  </a:lnTo>
                  <a:lnTo>
                    <a:pt x="3285" y="638"/>
                  </a:lnTo>
                  <a:lnTo>
                    <a:pt x="3289" y="688"/>
                  </a:lnTo>
                  <a:lnTo>
                    <a:pt x="3196" y="694"/>
                  </a:lnTo>
                  <a:lnTo>
                    <a:pt x="3092" y="700"/>
                  </a:lnTo>
                  <a:lnTo>
                    <a:pt x="3089" y="701"/>
                  </a:lnTo>
                  <a:lnTo>
                    <a:pt x="3086" y="651"/>
                  </a:lnTo>
                  <a:close/>
                  <a:moveTo>
                    <a:pt x="3434" y="627"/>
                  </a:moveTo>
                  <a:lnTo>
                    <a:pt x="3488" y="622"/>
                  </a:lnTo>
                  <a:lnTo>
                    <a:pt x="3580" y="614"/>
                  </a:lnTo>
                  <a:lnTo>
                    <a:pt x="3633" y="608"/>
                  </a:lnTo>
                  <a:lnTo>
                    <a:pt x="3638" y="658"/>
                  </a:lnTo>
                  <a:lnTo>
                    <a:pt x="3585" y="663"/>
                  </a:lnTo>
                  <a:lnTo>
                    <a:pt x="3492" y="672"/>
                  </a:lnTo>
                  <a:lnTo>
                    <a:pt x="3439" y="677"/>
                  </a:lnTo>
                  <a:lnTo>
                    <a:pt x="3434" y="627"/>
                  </a:lnTo>
                  <a:close/>
                  <a:moveTo>
                    <a:pt x="3781" y="591"/>
                  </a:moveTo>
                  <a:lnTo>
                    <a:pt x="3838" y="584"/>
                  </a:lnTo>
                  <a:lnTo>
                    <a:pt x="3916" y="573"/>
                  </a:lnTo>
                  <a:lnTo>
                    <a:pt x="3979" y="563"/>
                  </a:lnTo>
                  <a:lnTo>
                    <a:pt x="3986" y="612"/>
                  </a:lnTo>
                  <a:lnTo>
                    <a:pt x="3923" y="622"/>
                  </a:lnTo>
                  <a:lnTo>
                    <a:pt x="3844" y="633"/>
                  </a:lnTo>
                  <a:lnTo>
                    <a:pt x="3788" y="640"/>
                  </a:lnTo>
                  <a:lnTo>
                    <a:pt x="3781" y="591"/>
                  </a:lnTo>
                  <a:close/>
                  <a:moveTo>
                    <a:pt x="4126" y="537"/>
                  </a:moveTo>
                  <a:lnTo>
                    <a:pt x="4130" y="536"/>
                  </a:lnTo>
                  <a:lnTo>
                    <a:pt x="4193" y="523"/>
                  </a:lnTo>
                  <a:lnTo>
                    <a:pt x="4252" y="510"/>
                  </a:lnTo>
                  <a:lnTo>
                    <a:pt x="4306" y="496"/>
                  </a:lnTo>
                  <a:lnTo>
                    <a:pt x="4318" y="492"/>
                  </a:lnTo>
                  <a:lnTo>
                    <a:pt x="4332" y="541"/>
                  </a:lnTo>
                  <a:lnTo>
                    <a:pt x="4319" y="544"/>
                  </a:lnTo>
                  <a:lnTo>
                    <a:pt x="4263" y="559"/>
                  </a:lnTo>
                  <a:lnTo>
                    <a:pt x="4204" y="572"/>
                  </a:lnTo>
                  <a:lnTo>
                    <a:pt x="4139" y="586"/>
                  </a:lnTo>
                  <a:lnTo>
                    <a:pt x="4135" y="586"/>
                  </a:lnTo>
                  <a:lnTo>
                    <a:pt x="4126" y="537"/>
                  </a:lnTo>
                  <a:close/>
                  <a:moveTo>
                    <a:pt x="4457" y="445"/>
                  </a:moveTo>
                  <a:lnTo>
                    <a:pt x="4476" y="437"/>
                  </a:lnTo>
                  <a:lnTo>
                    <a:pt x="4505" y="422"/>
                  </a:lnTo>
                  <a:lnTo>
                    <a:pt x="4528" y="407"/>
                  </a:lnTo>
                  <a:lnTo>
                    <a:pt x="4546" y="392"/>
                  </a:lnTo>
                  <a:lnTo>
                    <a:pt x="4543" y="395"/>
                  </a:lnTo>
                  <a:lnTo>
                    <a:pt x="4557" y="378"/>
                  </a:lnTo>
                  <a:lnTo>
                    <a:pt x="4554" y="383"/>
                  </a:lnTo>
                  <a:lnTo>
                    <a:pt x="4563" y="366"/>
                  </a:lnTo>
                  <a:lnTo>
                    <a:pt x="4560" y="373"/>
                  </a:lnTo>
                  <a:lnTo>
                    <a:pt x="4563" y="356"/>
                  </a:lnTo>
                  <a:lnTo>
                    <a:pt x="4563" y="365"/>
                  </a:lnTo>
                  <a:lnTo>
                    <a:pt x="4560" y="347"/>
                  </a:lnTo>
                  <a:lnTo>
                    <a:pt x="4563" y="354"/>
                  </a:lnTo>
                  <a:lnTo>
                    <a:pt x="4557" y="343"/>
                  </a:lnTo>
                  <a:lnTo>
                    <a:pt x="4601" y="320"/>
                  </a:lnTo>
                  <a:lnTo>
                    <a:pt x="4607" y="332"/>
                  </a:lnTo>
                  <a:cubicBezTo>
                    <a:pt x="4608" y="334"/>
                    <a:pt x="4609" y="336"/>
                    <a:pt x="4610" y="339"/>
                  </a:cubicBezTo>
                  <a:lnTo>
                    <a:pt x="4613" y="356"/>
                  </a:lnTo>
                  <a:cubicBezTo>
                    <a:pt x="4613" y="359"/>
                    <a:pt x="4613" y="362"/>
                    <a:pt x="4613" y="365"/>
                  </a:cubicBezTo>
                  <a:lnTo>
                    <a:pt x="4610" y="382"/>
                  </a:lnTo>
                  <a:cubicBezTo>
                    <a:pt x="4609" y="384"/>
                    <a:pt x="4608" y="387"/>
                    <a:pt x="4607" y="389"/>
                  </a:cubicBezTo>
                  <a:lnTo>
                    <a:pt x="4598" y="406"/>
                  </a:lnTo>
                  <a:cubicBezTo>
                    <a:pt x="4598" y="408"/>
                    <a:pt x="4596" y="409"/>
                    <a:pt x="4595" y="411"/>
                  </a:cubicBezTo>
                  <a:lnTo>
                    <a:pt x="4581" y="428"/>
                  </a:lnTo>
                  <a:cubicBezTo>
                    <a:pt x="4580" y="429"/>
                    <a:pt x="4579" y="430"/>
                    <a:pt x="4578" y="431"/>
                  </a:cubicBezTo>
                  <a:lnTo>
                    <a:pt x="4555" y="449"/>
                  </a:lnTo>
                  <a:lnTo>
                    <a:pt x="4528" y="466"/>
                  </a:lnTo>
                  <a:lnTo>
                    <a:pt x="4495" y="483"/>
                  </a:lnTo>
                  <a:lnTo>
                    <a:pt x="4477" y="491"/>
                  </a:lnTo>
                  <a:lnTo>
                    <a:pt x="4457" y="445"/>
                  </a:lnTo>
                  <a:close/>
                  <a:moveTo>
                    <a:pt x="4448" y="271"/>
                  </a:moveTo>
                  <a:lnTo>
                    <a:pt x="4440" y="268"/>
                  </a:lnTo>
                  <a:lnTo>
                    <a:pt x="4400" y="253"/>
                  </a:lnTo>
                  <a:lnTo>
                    <a:pt x="4355" y="238"/>
                  </a:lnTo>
                  <a:lnTo>
                    <a:pt x="4306" y="225"/>
                  </a:lnTo>
                  <a:lnTo>
                    <a:pt x="4261" y="213"/>
                  </a:lnTo>
                  <a:lnTo>
                    <a:pt x="4273" y="164"/>
                  </a:lnTo>
                  <a:lnTo>
                    <a:pt x="4320" y="176"/>
                  </a:lnTo>
                  <a:lnTo>
                    <a:pt x="4371" y="191"/>
                  </a:lnTo>
                  <a:lnTo>
                    <a:pt x="4417" y="206"/>
                  </a:lnTo>
                  <a:lnTo>
                    <a:pt x="4459" y="222"/>
                  </a:lnTo>
                  <a:lnTo>
                    <a:pt x="4467" y="225"/>
                  </a:lnTo>
                  <a:lnTo>
                    <a:pt x="4448" y="271"/>
                  </a:lnTo>
                  <a:close/>
                  <a:moveTo>
                    <a:pt x="4116" y="181"/>
                  </a:moveTo>
                  <a:lnTo>
                    <a:pt x="4062" y="172"/>
                  </a:lnTo>
                  <a:lnTo>
                    <a:pt x="3991" y="159"/>
                  </a:lnTo>
                  <a:lnTo>
                    <a:pt x="3919" y="148"/>
                  </a:lnTo>
                  <a:lnTo>
                    <a:pt x="3927" y="99"/>
                  </a:lnTo>
                  <a:lnTo>
                    <a:pt x="4000" y="110"/>
                  </a:lnTo>
                  <a:lnTo>
                    <a:pt x="4072" y="122"/>
                  </a:lnTo>
                  <a:lnTo>
                    <a:pt x="4125" y="132"/>
                  </a:lnTo>
                  <a:lnTo>
                    <a:pt x="4116" y="181"/>
                  </a:lnTo>
                  <a:close/>
                  <a:moveTo>
                    <a:pt x="3771" y="128"/>
                  </a:moveTo>
                  <a:lnTo>
                    <a:pt x="3755" y="126"/>
                  </a:lnTo>
                  <a:lnTo>
                    <a:pt x="3669" y="116"/>
                  </a:lnTo>
                  <a:lnTo>
                    <a:pt x="3580" y="107"/>
                  </a:lnTo>
                  <a:lnTo>
                    <a:pt x="3573" y="106"/>
                  </a:lnTo>
                  <a:lnTo>
                    <a:pt x="3578" y="57"/>
                  </a:lnTo>
                  <a:lnTo>
                    <a:pt x="3585" y="57"/>
                  </a:lnTo>
                  <a:lnTo>
                    <a:pt x="3675" y="67"/>
                  </a:lnTo>
                  <a:lnTo>
                    <a:pt x="3761" y="77"/>
                  </a:lnTo>
                  <a:lnTo>
                    <a:pt x="3777" y="79"/>
                  </a:lnTo>
                  <a:lnTo>
                    <a:pt x="3771" y="128"/>
                  </a:lnTo>
                  <a:close/>
                  <a:moveTo>
                    <a:pt x="3424" y="93"/>
                  </a:moveTo>
                  <a:lnTo>
                    <a:pt x="3392" y="90"/>
                  </a:lnTo>
                  <a:lnTo>
                    <a:pt x="3294" y="83"/>
                  </a:lnTo>
                  <a:lnTo>
                    <a:pt x="3225" y="78"/>
                  </a:lnTo>
                  <a:lnTo>
                    <a:pt x="3228" y="28"/>
                  </a:lnTo>
                  <a:lnTo>
                    <a:pt x="3298" y="33"/>
                  </a:lnTo>
                  <a:lnTo>
                    <a:pt x="3396" y="41"/>
                  </a:lnTo>
                  <a:lnTo>
                    <a:pt x="3428" y="43"/>
                  </a:lnTo>
                  <a:lnTo>
                    <a:pt x="3424" y="93"/>
                  </a:lnTo>
                  <a:close/>
                  <a:moveTo>
                    <a:pt x="3076" y="69"/>
                  </a:moveTo>
                  <a:lnTo>
                    <a:pt x="2984" y="65"/>
                  </a:lnTo>
                  <a:lnTo>
                    <a:pt x="2876" y="60"/>
                  </a:lnTo>
                  <a:lnTo>
                    <a:pt x="2878" y="10"/>
                  </a:lnTo>
                  <a:lnTo>
                    <a:pt x="2986" y="15"/>
                  </a:lnTo>
                  <a:lnTo>
                    <a:pt x="3078" y="20"/>
                  </a:lnTo>
                  <a:lnTo>
                    <a:pt x="3076" y="69"/>
                  </a:lnTo>
                  <a:close/>
                  <a:moveTo>
                    <a:pt x="2727" y="56"/>
                  </a:moveTo>
                  <a:lnTo>
                    <a:pt x="2654" y="54"/>
                  </a:lnTo>
                  <a:lnTo>
                    <a:pt x="2540" y="52"/>
                  </a:lnTo>
                  <a:lnTo>
                    <a:pt x="2527" y="52"/>
                  </a:lnTo>
                  <a:lnTo>
                    <a:pt x="2528" y="2"/>
                  </a:lnTo>
                  <a:lnTo>
                    <a:pt x="2540" y="2"/>
                  </a:lnTo>
                  <a:lnTo>
                    <a:pt x="2655" y="4"/>
                  </a:lnTo>
                  <a:lnTo>
                    <a:pt x="2728" y="6"/>
                  </a:lnTo>
                  <a:lnTo>
                    <a:pt x="2727" y="5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41000" y="2253240"/>
              <a:ext cx="1321920" cy="252000"/>
              <a:chOff x="441000" y="2253240"/>
              <a:chExt cx="1321920" cy="252000"/>
            </a:xfrm>
          </p:grpSpPr>
          <p:sp>
            <p:nvSpPr>
              <p:cNvPr id="424" name=""/>
              <p:cNvSpPr/>
              <p:nvPr/>
            </p:nvSpPr>
            <p:spPr>
              <a:xfrm>
                <a:off x="441000" y="2253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63200" y="2291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942120" y="2932560"/>
              <a:ext cx="1117440" cy="145440"/>
            </a:xfrm>
            <a:custGeom>
              <a:avLst/>
              <a:gdLst/>
              <a:ahLst/>
              <a:rect l="l" t="t" r="r" b="b"/>
              <a:pathLst>
                <a:path w="661" h="72">
                  <a:moveTo>
                    <a:pt x="0" y="24"/>
                  </a:moveTo>
                  <a:lnTo>
                    <a:pt x="601" y="24"/>
                  </a:lnTo>
                  <a:lnTo>
                    <a:pt x="601" y="48"/>
                  </a:lnTo>
                  <a:lnTo>
                    <a:pt x="0" y="48"/>
                  </a:lnTo>
                  <a:lnTo>
                    <a:pt x="0" y="24"/>
                  </a:lnTo>
                  <a:close/>
                  <a:moveTo>
                    <a:pt x="589" y="0"/>
                  </a:moveTo>
                  <a:lnTo>
                    <a:pt x="661" y="36"/>
                  </a:lnTo>
                  <a:lnTo>
                    <a:pt x="589" y="72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42680" y="2928240"/>
              <a:ext cx="997560" cy="145440"/>
            </a:xfrm>
            <a:custGeom>
              <a:avLst/>
              <a:gdLst/>
              <a:ahLst/>
              <a:rect l="l" t="t" r="r" b="b"/>
              <a:pathLst>
                <a:path w="590" h="72">
                  <a:moveTo>
                    <a:pt x="60" y="24"/>
                  </a:moveTo>
                  <a:lnTo>
                    <a:pt x="590" y="24"/>
                  </a:lnTo>
                  <a:lnTo>
                    <a:pt x="590" y="48"/>
                  </a:lnTo>
                  <a:lnTo>
                    <a:pt x="60" y="48"/>
                  </a:lnTo>
                  <a:lnTo>
                    <a:pt x="60" y="24"/>
                  </a:lnTo>
                  <a:close/>
                  <a:moveTo>
                    <a:pt x="72" y="72"/>
                  </a:moveTo>
                  <a:lnTo>
                    <a:pt x="0" y="36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87200" y="2676960"/>
              <a:ext cx="121320" cy="311760"/>
            </a:xfrm>
            <a:custGeom>
              <a:avLst/>
              <a:gdLst/>
              <a:ahLst/>
              <a:rect l="l" t="t" r="r" b="b"/>
              <a:pathLst>
                <a:path w="72" h="154">
                  <a:moveTo>
                    <a:pt x="24" y="94"/>
                  </a:moveTo>
                  <a:lnTo>
                    <a:pt x="24" y="0"/>
                  </a:lnTo>
                  <a:lnTo>
                    <a:pt x="48" y="0"/>
                  </a:lnTo>
                  <a:lnTo>
                    <a:pt x="48" y="94"/>
                  </a:lnTo>
                  <a:lnTo>
                    <a:pt x="24" y="94"/>
                  </a:lnTo>
                  <a:close/>
                  <a:moveTo>
                    <a:pt x="72" y="82"/>
                  </a:moveTo>
                  <a:lnTo>
                    <a:pt x="36" y="154"/>
                  </a:lnTo>
                  <a:lnTo>
                    <a:pt x="0" y="82"/>
                  </a:lnTo>
                  <a:lnTo>
                    <a:pt x="72" y="82"/>
                  </a:lnTo>
                  <a:close/>
                </a:path>
              </a:pathLst>
            </a:custGeom>
            <a:solidFill>
              <a:srgbClr val="00cc99"/>
            </a:solidFill>
            <a:ln w="1440">
              <a:solidFill>
                <a:srgbClr val="00cc9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95520" y="2685240"/>
              <a:ext cx="121320" cy="31356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24" y="95"/>
                  </a:moveTo>
                  <a:lnTo>
                    <a:pt x="24" y="0"/>
                  </a:lnTo>
                  <a:lnTo>
                    <a:pt x="48" y="0"/>
                  </a:lnTo>
                  <a:lnTo>
                    <a:pt x="48" y="95"/>
                  </a:lnTo>
                  <a:lnTo>
                    <a:pt x="24" y="95"/>
                  </a:lnTo>
                  <a:close/>
                  <a:moveTo>
                    <a:pt x="72" y="83"/>
                  </a:moveTo>
                  <a:lnTo>
                    <a:pt x="36" y="155"/>
                  </a:lnTo>
                  <a:lnTo>
                    <a:pt x="0" y="83"/>
                  </a:lnTo>
                  <a:lnTo>
                    <a:pt x="72" y="83"/>
                  </a:lnTo>
                  <a:close/>
                </a:path>
              </a:pathLst>
            </a:custGeom>
            <a:solidFill>
              <a:srgbClr val="00cc99"/>
            </a:solidFill>
            <a:ln w="1440">
              <a:solidFill>
                <a:srgbClr val="00cc9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265200" y="2903760"/>
              <a:ext cx="332640" cy="352080"/>
              <a:chOff x="3265200" y="2903760"/>
              <a:chExt cx="332640" cy="352080"/>
            </a:xfrm>
          </p:grpSpPr>
          <p:sp>
            <p:nvSpPr>
              <p:cNvPr id="431" name=""/>
              <p:cNvSpPr/>
              <p:nvPr/>
            </p:nvSpPr>
            <p:spPr>
              <a:xfrm>
                <a:off x="3265200" y="2903760"/>
                <a:ext cx="332640" cy="352080"/>
              </a:xfrm>
              <a:custGeom>
                <a:avLst/>
                <a:gdLst/>
                <a:ahLst/>
                <a:rect l="l" t="t" r="r" b="b"/>
                <a:pathLst>
                  <a:path w="197" h="174">
                    <a:moveTo>
                      <a:pt x="98" y="46"/>
                    </a:moveTo>
                    <a:lnTo>
                      <a:pt x="76" y="18"/>
                    </a:lnTo>
                    <a:lnTo>
                      <a:pt x="66" y="50"/>
                    </a:lnTo>
                    <a:lnTo>
                      <a:pt x="3" y="18"/>
                    </a:lnTo>
                    <a:lnTo>
                      <a:pt x="42" y="61"/>
                    </a:lnTo>
                    <a:lnTo>
                      <a:pt x="0" y="69"/>
                    </a:lnTo>
                    <a:lnTo>
                      <a:pt x="34" y="95"/>
                    </a:lnTo>
                    <a:lnTo>
                      <a:pt x="1" y="117"/>
                    </a:lnTo>
                    <a:lnTo>
                      <a:pt x="51" y="112"/>
                    </a:lnTo>
                    <a:lnTo>
                      <a:pt x="43" y="142"/>
                    </a:lnTo>
                    <a:lnTo>
                      <a:pt x="70" y="126"/>
                    </a:lnTo>
                    <a:lnTo>
                      <a:pt x="77" y="174"/>
                    </a:lnTo>
                    <a:lnTo>
                      <a:pt x="96" y="120"/>
                    </a:lnTo>
                    <a:lnTo>
                      <a:pt x="121" y="159"/>
                    </a:lnTo>
                    <a:lnTo>
                      <a:pt x="128" y="116"/>
                    </a:lnTo>
                    <a:lnTo>
                      <a:pt x="165" y="145"/>
                    </a:lnTo>
                    <a:lnTo>
                      <a:pt x="153" y="104"/>
                    </a:lnTo>
                    <a:lnTo>
                      <a:pt x="197" y="107"/>
                    </a:lnTo>
                    <a:lnTo>
                      <a:pt x="160" y="84"/>
                    </a:lnTo>
                    <a:lnTo>
                      <a:pt x="192" y="65"/>
                    </a:lnTo>
                    <a:lnTo>
                      <a:pt x="152" y="59"/>
                    </a:lnTo>
                    <a:lnTo>
                      <a:pt x="167" y="36"/>
                    </a:lnTo>
                    <a:lnTo>
                      <a:pt x="129" y="42"/>
                    </a:lnTo>
                    <a:lnTo>
                      <a:pt x="132" y="0"/>
                    </a:lnTo>
                    <a:lnTo>
                      <a:pt x="98" y="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265200" y="2903760"/>
                <a:ext cx="332640" cy="352080"/>
              </a:xfrm>
              <a:custGeom>
                <a:avLst/>
                <a:gdLst/>
                <a:ahLst/>
                <a:rect l="l" t="t" r="r" b="b"/>
                <a:pathLst>
                  <a:path w="197" h="174">
                    <a:moveTo>
                      <a:pt x="98" y="46"/>
                    </a:moveTo>
                    <a:lnTo>
                      <a:pt x="76" y="18"/>
                    </a:lnTo>
                    <a:lnTo>
                      <a:pt x="66" y="50"/>
                    </a:lnTo>
                    <a:lnTo>
                      <a:pt x="3" y="18"/>
                    </a:lnTo>
                    <a:lnTo>
                      <a:pt x="42" y="61"/>
                    </a:lnTo>
                    <a:lnTo>
                      <a:pt x="0" y="69"/>
                    </a:lnTo>
                    <a:lnTo>
                      <a:pt x="34" y="95"/>
                    </a:lnTo>
                    <a:lnTo>
                      <a:pt x="1" y="117"/>
                    </a:lnTo>
                    <a:lnTo>
                      <a:pt x="51" y="112"/>
                    </a:lnTo>
                    <a:lnTo>
                      <a:pt x="43" y="142"/>
                    </a:lnTo>
                    <a:lnTo>
                      <a:pt x="70" y="126"/>
                    </a:lnTo>
                    <a:lnTo>
                      <a:pt x="77" y="174"/>
                    </a:lnTo>
                    <a:lnTo>
                      <a:pt x="96" y="120"/>
                    </a:lnTo>
                    <a:lnTo>
                      <a:pt x="121" y="159"/>
                    </a:lnTo>
                    <a:lnTo>
                      <a:pt x="128" y="116"/>
                    </a:lnTo>
                    <a:lnTo>
                      <a:pt x="165" y="145"/>
                    </a:lnTo>
                    <a:lnTo>
                      <a:pt x="153" y="104"/>
                    </a:lnTo>
                    <a:lnTo>
                      <a:pt x="197" y="107"/>
                    </a:lnTo>
                    <a:lnTo>
                      <a:pt x="160" y="84"/>
                    </a:lnTo>
                    <a:lnTo>
                      <a:pt x="192" y="65"/>
                    </a:lnTo>
                    <a:lnTo>
                      <a:pt x="152" y="59"/>
                    </a:lnTo>
                    <a:lnTo>
                      <a:pt x="167" y="36"/>
                    </a:lnTo>
                    <a:lnTo>
                      <a:pt x="129" y="42"/>
                    </a:lnTo>
                    <a:lnTo>
                      <a:pt x="132" y="0"/>
                    </a:lnTo>
                    <a:lnTo>
                      <a:pt x="98" y="4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953000" y="2867760"/>
              <a:ext cx="320760" cy="412560"/>
              <a:chOff x="1953000" y="2867760"/>
              <a:chExt cx="320760" cy="412560"/>
            </a:xfrm>
          </p:grpSpPr>
          <p:sp>
            <p:nvSpPr>
              <p:cNvPr id="434" name=""/>
              <p:cNvSpPr/>
              <p:nvPr/>
            </p:nvSpPr>
            <p:spPr>
              <a:xfrm>
                <a:off x="1953000" y="2867760"/>
                <a:ext cx="320760" cy="412560"/>
              </a:xfrm>
              <a:custGeom>
                <a:avLst/>
                <a:gdLst/>
                <a:ahLst/>
                <a:rect l="l" t="t" r="r" b="b"/>
                <a:pathLst>
                  <a:path w="190" h="204">
                    <a:moveTo>
                      <a:pt x="95" y="55"/>
                    </a:moveTo>
                    <a:lnTo>
                      <a:pt x="73" y="22"/>
                    </a:lnTo>
                    <a:lnTo>
                      <a:pt x="64" y="60"/>
                    </a:lnTo>
                    <a:lnTo>
                      <a:pt x="3" y="22"/>
                    </a:lnTo>
                    <a:lnTo>
                      <a:pt x="40" y="72"/>
                    </a:lnTo>
                    <a:lnTo>
                      <a:pt x="0" y="82"/>
                    </a:lnTo>
                    <a:lnTo>
                      <a:pt x="32" y="111"/>
                    </a:lnTo>
                    <a:lnTo>
                      <a:pt x="1" y="138"/>
                    </a:lnTo>
                    <a:lnTo>
                      <a:pt x="50" y="132"/>
                    </a:lnTo>
                    <a:lnTo>
                      <a:pt x="41" y="166"/>
                    </a:lnTo>
                    <a:lnTo>
                      <a:pt x="68" y="147"/>
                    </a:lnTo>
                    <a:lnTo>
                      <a:pt x="74" y="204"/>
                    </a:lnTo>
                    <a:lnTo>
                      <a:pt x="92" y="141"/>
                    </a:lnTo>
                    <a:lnTo>
                      <a:pt x="116" y="186"/>
                    </a:lnTo>
                    <a:lnTo>
                      <a:pt x="123" y="137"/>
                    </a:lnTo>
                    <a:lnTo>
                      <a:pt x="159" y="171"/>
                    </a:lnTo>
                    <a:lnTo>
                      <a:pt x="148" y="122"/>
                    </a:lnTo>
                    <a:lnTo>
                      <a:pt x="190" y="126"/>
                    </a:lnTo>
                    <a:lnTo>
                      <a:pt x="154" y="99"/>
                    </a:lnTo>
                    <a:lnTo>
                      <a:pt x="185" y="77"/>
                    </a:lnTo>
                    <a:lnTo>
                      <a:pt x="147" y="69"/>
                    </a:lnTo>
                    <a:lnTo>
                      <a:pt x="161" y="42"/>
                    </a:lnTo>
                    <a:lnTo>
                      <a:pt x="124" y="51"/>
                    </a:lnTo>
                    <a:lnTo>
                      <a:pt x="127" y="0"/>
                    </a:lnTo>
                    <a:lnTo>
                      <a:pt x="95" y="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3000" y="2867760"/>
                <a:ext cx="320760" cy="412560"/>
              </a:xfrm>
              <a:custGeom>
                <a:avLst/>
                <a:gdLst/>
                <a:ahLst/>
                <a:rect l="l" t="t" r="r" b="b"/>
                <a:pathLst>
                  <a:path w="190" h="204">
                    <a:moveTo>
                      <a:pt x="95" y="55"/>
                    </a:moveTo>
                    <a:lnTo>
                      <a:pt x="73" y="22"/>
                    </a:lnTo>
                    <a:lnTo>
                      <a:pt x="64" y="60"/>
                    </a:lnTo>
                    <a:lnTo>
                      <a:pt x="3" y="22"/>
                    </a:lnTo>
                    <a:lnTo>
                      <a:pt x="40" y="72"/>
                    </a:lnTo>
                    <a:lnTo>
                      <a:pt x="0" y="82"/>
                    </a:lnTo>
                    <a:lnTo>
                      <a:pt x="32" y="111"/>
                    </a:lnTo>
                    <a:lnTo>
                      <a:pt x="1" y="138"/>
                    </a:lnTo>
                    <a:lnTo>
                      <a:pt x="50" y="132"/>
                    </a:lnTo>
                    <a:lnTo>
                      <a:pt x="41" y="166"/>
                    </a:lnTo>
                    <a:lnTo>
                      <a:pt x="68" y="147"/>
                    </a:lnTo>
                    <a:lnTo>
                      <a:pt x="74" y="204"/>
                    </a:lnTo>
                    <a:lnTo>
                      <a:pt x="92" y="141"/>
                    </a:lnTo>
                    <a:lnTo>
                      <a:pt x="116" y="186"/>
                    </a:lnTo>
                    <a:lnTo>
                      <a:pt x="123" y="137"/>
                    </a:lnTo>
                    <a:lnTo>
                      <a:pt x="159" y="171"/>
                    </a:lnTo>
                    <a:lnTo>
                      <a:pt x="148" y="122"/>
                    </a:lnTo>
                    <a:lnTo>
                      <a:pt x="190" y="126"/>
                    </a:lnTo>
                    <a:lnTo>
                      <a:pt x="154" y="99"/>
                    </a:lnTo>
                    <a:lnTo>
                      <a:pt x="185" y="77"/>
                    </a:lnTo>
                    <a:lnTo>
                      <a:pt x="147" y="69"/>
                    </a:lnTo>
                    <a:lnTo>
                      <a:pt x="161" y="42"/>
                    </a:lnTo>
                    <a:lnTo>
                      <a:pt x="124" y="51"/>
                    </a:lnTo>
                    <a:lnTo>
                      <a:pt x="127" y="0"/>
                    </a:lnTo>
                    <a:lnTo>
                      <a:pt x="95" y="55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1217520" y="1525680"/>
              <a:ext cx="2835000" cy="609840"/>
              <a:chOff x="1217520" y="1525680"/>
              <a:chExt cx="2835000" cy="609840"/>
            </a:xfrm>
          </p:grpSpPr>
          <p:sp>
            <p:nvSpPr>
              <p:cNvPr id="437" name=""/>
              <p:cNvSpPr/>
              <p:nvPr/>
            </p:nvSpPr>
            <p:spPr>
              <a:xfrm>
                <a:off x="1217520" y="1552320"/>
                <a:ext cx="20160" cy="569160"/>
              </a:xfrm>
              <a:custGeom>
                <a:avLst/>
                <a:gdLst/>
                <a:ahLst/>
                <a:rect l="l" t="t" r="r" b="b"/>
                <a:pathLst>
                  <a:path w="12" h="281">
                    <a:moveTo>
                      <a:pt x="0" y="281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12" y="281"/>
                    </a:lnTo>
                    <a:lnTo>
                      <a:pt x="0" y="281"/>
                    </a:lnTo>
                    <a:close/>
                    <a:moveTo>
                      <a:pt x="0" y="197"/>
                    </a:moveTo>
                    <a:lnTo>
                      <a:pt x="0" y="149"/>
                    </a:lnTo>
                    <a:lnTo>
                      <a:pt x="12" y="149"/>
                    </a:lnTo>
                    <a:lnTo>
                      <a:pt x="12" y="197"/>
                    </a:lnTo>
                    <a:lnTo>
                      <a:pt x="0" y="197"/>
                    </a:lnTo>
                    <a:close/>
                    <a:moveTo>
                      <a:pt x="0" y="113"/>
                    </a:moveTo>
                    <a:lnTo>
                      <a:pt x="0" y="65"/>
                    </a:lnTo>
                    <a:lnTo>
                      <a:pt x="12" y="65"/>
                    </a:lnTo>
                    <a:lnTo>
                      <a:pt x="12" y="113"/>
                    </a:lnTo>
                    <a:lnTo>
                      <a:pt x="0" y="113"/>
                    </a:lnTo>
                    <a:close/>
                    <a:moveTo>
                      <a:pt x="0" y="29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27600" y="1525680"/>
                <a:ext cx="2779200" cy="24120"/>
              </a:xfrm>
              <a:custGeom>
                <a:avLst/>
                <a:gdLst/>
                <a:ahLst/>
                <a:rect l="l" t="t" r="r" b="b"/>
                <a:pathLst>
                  <a:path w="1644" h="12">
                    <a:moveTo>
                      <a:pt x="0" y="0"/>
                    </a:moveTo>
                    <a:lnTo>
                      <a:pt x="48" y="0"/>
                    </a:lnTo>
                    <a:lnTo>
                      <a:pt x="48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84" y="0"/>
                    </a:moveTo>
                    <a:lnTo>
                      <a:pt x="132" y="0"/>
                    </a:lnTo>
                    <a:lnTo>
                      <a:pt x="132" y="12"/>
                    </a:lnTo>
                    <a:lnTo>
                      <a:pt x="84" y="12"/>
                    </a:lnTo>
                    <a:lnTo>
                      <a:pt x="84" y="0"/>
                    </a:lnTo>
                    <a:close/>
                    <a:moveTo>
                      <a:pt x="168" y="0"/>
                    </a:moveTo>
                    <a:lnTo>
                      <a:pt x="216" y="0"/>
                    </a:lnTo>
                    <a:lnTo>
                      <a:pt x="216" y="12"/>
                    </a:lnTo>
                    <a:lnTo>
                      <a:pt x="168" y="12"/>
                    </a:lnTo>
                    <a:lnTo>
                      <a:pt x="168" y="0"/>
                    </a:lnTo>
                    <a:close/>
                    <a:moveTo>
                      <a:pt x="252" y="0"/>
                    </a:moveTo>
                    <a:lnTo>
                      <a:pt x="300" y="0"/>
                    </a:lnTo>
                    <a:lnTo>
                      <a:pt x="300" y="12"/>
                    </a:lnTo>
                    <a:lnTo>
                      <a:pt x="252" y="12"/>
                    </a:lnTo>
                    <a:lnTo>
                      <a:pt x="252" y="0"/>
                    </a:lnTo>
                    <a:close/>
                    <a:moveTo>
                      <a:pt x="336" y="0"/>
                    </a:moveTo>
                    <a:lnTo>
                      <a:pt x="384" y="0"/>
                    </a:lnTo>
                    <a:lnTo>
                      <a:pt x="384" y="12"/>
                    </a:lnTo>
                    <a:lnTo>
                      <a:pt x="336" y="12"/>
                    </a:lnTo>
                    <a:lnTo>
                      <a:pt x="336" y="0"/>
                    </a:lnTo>
                    <a:close/>
                    <a:moveTo>
                      <a:pt x="420" y="0"/>
                    </a:moveTo>
                    <a:lnTo>
                      <a:pt x="468" y="0"/>
                    </a:lnTo>
                    <a:lnTo>
                      <a:pt x="468" y="12"/>
                    </a:lnTo>
                    <a:lnTo>
                      <a:pt x="420" y="12"/>
                    </a:lnTo>
                    <a:lnTo>
                      <a:pt x="420" y="0"/>
                    </a:lnTo>
                    <a:close/>
                    <a:moveTo>
                      <a:pt x="504" y="0"/>
                    </a:moveTo>
                    <a:lnTo>
                      <a:pt x="552" y="0"/>
                    </a:lnTo>
                    <a:lnTo>
                      <a:pt x="552" y="12"/>
                    </a:lnTo>
                    <a:lnTo>
                      <a:pt x="504" y="12"/>
                    </a:lnTo>
                    <a:lnTo>
                      <a:pt x="504" y="0"/>
                    </a:lnTo>
                    <a:close/>
                    <a:moveTo>
                      <a:pt x="588" y="0"/>
                    </a:moveTo>
                    <a:lnTo>
                      <a:pt x="636" y="0"/>
                    </a:lnTo>
                    <a:lnTo>
                      <a:pt x="636" y="12"/>
                    </a:lnTo>
                    <a:lnTo>
                      <a:pt x="588" y="12"/>
                    </a:lnTo>
                    <a:lnTo>
                      <a:pt x="588" y="0"/>
                    </a:lnTo>
                    <a:close/>
                    <a:moveTo>
                      <a:pt x="672" y="0"/>
                    </a:moveTo>
                    <a:lnTo>
                      <a:pt x="720" y="0"/>
                    </a:lnTo>
                    <a:lnTo>
                      <a:pt x="720" y="12"/>
                    </a:lnTo>
                    <a:lnTo>
                      <a:pt x="672" y="12"/>
                    </a:lnTo>
                    <a:lnTo>
                      <a:pt x="672" y="0"/>
                    </a:lnTo>
                    <a:close/>
                    <a:moveTo>
                      <a:pt x="756" y="0"/>
                    </a:moveTo>
                    <a:lnTo>
                      <a:pt x="804" y="0"/>
                    </a:lnTo>
                    <a:lnTo>
                      <a:pt x="804" y="12"/>
                    </a:lnTo>
                    <a:lnTo>
                      <a:pt x="756" y="12"/>
                    </a:lnTo>
                    <a:lnTo>
                      <a:pt x="756" y="0"/>
                    </a:lnTo>
                    <a:close/>
                    <a:moveTo>
                      <a:pt x="840" y="0"/>
                    </a:moveTo>
                    <a:lnTo>
                      <a:pt x="888" y="0"/>
                    </a:lnTo>
                    <a:lnTo>
                      <a:pt x="888" y="12"/>
                    </a:lnTo>
                    <a:lnTo>
                      <a:pt x="840" y="12"/>
                    </a:lnTo>
                    <a:lnTo>
                      <a:pt x="840" y="0"/>
                    </a:lnTo>
                    <a:close/>
                    <a:moveTo>
                      <a:pt x="924" y="0"/>
                    </a:moveTo>
                    <a:lnTo>
                      <a:pt x="972" y="0"/>
                    </a:lnTo>
                    <a:lnTo>
                      <a:pt x="972" y="12"/>
                    </a:lnTo>
                    <a:lnTo>
                      <a:pt x="924" y="12"/>
                    </a:lnTo>
                    <a:lnTo>
                      <a:pt x="924" y="0"/>
                    </a:lnTo>
                    <a:close/>
                    <a:moveTo>
                      <a:pt x="1008" y="0"/>
                    </a:moveTo>
                    <a:lnTo>
                      <a:pt x="1056" y="0"/>
                    </a:lnTo>
                    <a:lnTo>
                      <a:pt x="1056" y="12"/>
                    </a:lnTo>
                    <a:lnTo>
                      <a:pt x="1008" y="12"/>
                    </a:lnTo>
                    <a:lnTo>
                      <a:pt x="1008" y="0"/>
                    </a:lnTo>
                    <a:close/>
                    <a:moveTo>
                      <a:pt x="1092" y="0"/>
                    </a:moveTo>
                    <a:lnTo>
                      <a:pt x="1140" y="0"/>
                    </a:lnTo>
                    <a:lnTo>
                      <a:pt x="1140" y="12"/>
                    </a:lnTo>
                    <a:lnTo>
                      <a:pt x="1092" y="12"/>
                    </a:lnTo>
                    <a:lnTo>
                      <a:pt x="1092" y="0"/>
                    </a:lnTo>
                    <a:close/>
                    <a:moveTo>
                      <a:pt x="1176" y="0"/>
                    </a:moveTo>
                    <a:lnTo>
                      <a:pt x="1224" y="0"/>
                    </a:lnTo>
                    <a:lnTo>
                      <a:pt x="1224" y="12"/>
                    </a:lnTo>
                    <a:lnTo>
                      <a:pt x="1176" y="12"/>
                    </a:lnTo>
                    <a:lnTo>
                      <a:pt x="1176" y="0"/>
                    </a:lnTo>
                    <a:close/>
                    <a:moveTo>
                      <a:pt x="1260" y="0"/>
                    </a:moveTo>
                    <a:lnTo>
                      <a:pt x="1308" y="0"/>
                    </a:lnTo>
                    <a:lnTo>
                      <a:pt x="1308" y="12"/>
                    </a:lnTo>
                    <a:lnTo>
                      <a:pt x="1260" y="12"/>
                    </a:lnTo>
                    <a:lnTo>
                      <a:pt x="1260" y="0"/>
                    </a:lnTo>
                    <a:close/>
                    <a:moveTo>
                      <a:pt x="1344" y="0"/>
                    </a:moveTo>
                    <a:lnTo>
                      <a:pt x="1392" y="0"/>
                    </a:lnTo>
                    <a:lnTo>
                      <a:pt x="1392" y="12"/>
                    </a:lnTo>
                    <a:lnTo>
                      <a:pt x="1344" y="12"/>
                    </a:lnTo>
                    <a:lnTo>
                      <a:pt x="1344" y="0"/>
                    </a:lnTo>
                    <a:close/>
                    <a:moveTo>
                      <a:pt x="1428" y="0"/>
                    </a:moveTo>
                    <a:lnTo>
                      <a:pt x="1476" y="0"/>
                    </a:lnTo>
                    <a:lnTo>
                      <a:pt x="1476" y="12"/>
                    </a:lnTo>
                    <a:lnTo>
                      <a:pt x="1428" y="12"/>
                    </a:lnTo>
                    <a:lnTo>
                      <a:pt x="1428" y="0"/>
                    </a:lnTo>
                    <a:close/>
                    <a:moveTo>
                      <a:pt x="1512" y="0"/>
                    </a:moveTo>
                    <a:lnTo>
                      <a:pt x="1560" y="0"/>
                    </a:lnTo>
                    <a:lnTo>
                      <a:pt x="1560" y="12"/>
                    </a:lnTo>
                    <a:lnTo>
                      <a:pt x="1512" y="12"/>
                    </a:lnTo>
                    <a:lnTo>
                      <a:pt x="1512" y="0"/>
                    </a:lnTo>
                    <a:close/>
                    <a:moveTo>
                      <a:pt x="1596" y="0"/>
                    </a:moveTo>
                    <a:lnTo>
                      <a:pt x="1644" y="0"/>
                    </a:lnTo>
                    <a:lnTo>
                      <a:pt x="1644" y="12"/>
                    </a:lnTo>
                    <a:lnTo>
                      <a:pt x="1596" y="12"/>
                    </a:lnTo>
                    <a:lnTo>
                      <a:pt x="1596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32360" y="1537920"/>
                <a:ext cx="20160" cy="597600"/>
              </a:xfrm>
              <a:custGeom>
                <a:avLst/>
                <a:gdLst/>
                <a:ahLst/>
                <a:rect l="l" t="t" r="r" b="b"/>
                <a:pathLst>
                  <a:path w="12" h="295">
                    <a:moveTo>
                      <a:pt x="12" y="0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12" y="84"/>
                    </a:moveTo>
                    <a:lnTo>
                      <a:pt x="12" y="132"/>
                    </a:lnTo>
                    <a:lnTo>
                      <a:pt x="0" y="132"/>
                    </a:lnTo>
                    <a:lnTo>
                      <a:pt x="0" y="84"/>
                    </a:lnTo>
                    <a:lnTo>
                      <a:pt x="12" y="84"/>
                    </a:lnTo>
                    <a:close/>
                    <a:moveTo>
                      <a:pt x="12" y="168"/>
                    </a:moveTo>
                    <a:lnTo>
                      <a:pt x="12" y="216"/>
                    </a:lnTo>
                    <a:lnTo>
                      <a:pt x="0" y="216"/>
                    </a:lnTo>
                    <a:lnTo>
                      <a:pt x="0" y="168"/>
                    </a:lnTo>
                    <a:lnTo>
                      <a:pt x="12" y="168"/>
                    </a:lnTo>
                    <a:close/>
                    <a:moveTo>
                      <a:pt x="12" y="252"/>
                    </a:moveTo>
                    <a:lnTo>
                      <a:pt x="12" y="295"/>
                    </a:lnTo>
                    <a:lnTo>
                      <a:pt x="0" y="295"/>
                    </a:lnTo>
                    <a:lnTo>
                      <a:pt x="0" y="252"/>
                    </a:lnTo>
                    <a:lnTo>
                      <a:pt x="12" y="25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90680" y="2559240"/>
              <a:ext cx="3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39760" y="2559240"/>
              <a:ext cx="89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7280" y="2559240"/>
              <a:ext cx="89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93800" y="2559240"/>
              <a:ext cx="89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10960" y="2559240"/>
              <a:ext cx="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73320" y="255924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45600" y="4038480"/>
            <a:ext cx="5826600" cy="2502720"/>
            <a:chOff x="345600" y="4038480"/>
            <a:chExt cx="5826600" cy="2502720"/>
          </a:xfrm>
        </p:grpSpPr>
        <p:sp>
          <p:nvSpPr>
            <p:cNvPr id="447" name=""/>
            <p:cNvSpPr/>
            <p:nvPr/>
          </p:nvSpPr>
          <p:spPr>
            <a:xfrm>
              <a:off x="345600" y="4038480"/>
              <a:ext cx="146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P Repor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4600" y="4614120"/>
              <a:ext cx="8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3280" y="4614120"/>
              <a:ext cx="534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CLP_STRC1.1) Strong combinational loop detected (occurrence: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4600" y="4968720"/>
              <a:ext cx="8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6640" y="4948920"/>
              <a:ext cx="560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us Property 8610 is *Fail @ 0*  Gate name: VDDLSW$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0480" y="5213880"/>
              <a:ext cx="176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ype     : Internal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7600" y="5440680"/>
              <a:ext cx="21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haracteristic: no floatin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78120" y="5440680"/>
              <a:ext cx="116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us conten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17640" y="5626440"/>
              <a:ext cx="120924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7640" y="5663520"/>
              <a:ext cx="466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itness: bus is driven by conflicting inputs (2nd and 22nd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000" y="5884200"/>
              <a:ext cx="431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Key Points: bus: Id=8610,  Name=...1/VDDLSW$BU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84680" y="6107400"/>
              <a:ext cx="300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2nd bus input:  Id=613437, Value 1'b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81360" y="6327720"/>
              <a:ext cx="310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22nd bus input:  Id=613737, Value 1'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8320" y="5175720"/>
              <a:ext cx="1261080" cy="27972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1680" y="5389920"/>
              <a:ext cx="1559520" cy="27648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56200" y="5903280"/>
              <a:ext cx="1931760" cy="278280"/>
            </a:xfrm>
            <a:prstGeom prst="ellipse">
              <a:avLst/>
            </a:prstGeom>
            <a:noFill/>
            <a:ln cap="rnd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28600" y="1660680"/>
            <a:ext cx="8800920" cy="2759760"/>
            <a:chOff x="228600" y="1660680"/>
            <a:chExt cx="8800920" cy="2759760"/>
          </a:xfrm>
        </p:grpSpPr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228600" y="1722600"/>
              <a:ext cx="4000320" cy="19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4305240" y="1660680"/>
              <a:ext cx="47242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42720" y="3869640"/>
              <a:ext cx="365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ssing isolation cell: Invalid power domain cross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86120" y="3869640"/>
              <a:ext cx="434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dundant Isolation cell detection (useful for timing critical paths, saves area and leakage power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2 : Static Check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se static checks are centered on PM Structures targeted at functional failures due to missing isolation cells (ISO) ,missing level-shifters (LVL), redundant isolations and PM controls routed through non-always on cell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orrect power pin connectivity is also identified and reporte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t requires additional constraints to identify the PM cell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evel-1 and level-2 checks are clean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roceed for level-3 check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Dynamic check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6848640" cy="33526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28600" y="4365720"/>
            <a:ext cx="8610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4800600"/>
            <a:ext cx="861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es dynamic floating nodes created by improper assertion of PM controls for LVL, ISO and Retention Flip Flop (RFF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Additional user defined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State Controller (PSCON) instance specif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initialization 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Tool excites the design using initialization sequence, performs dynamic PM control assert check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2217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pice Level Check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05320" cy="26575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2674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s check at lower level of abstraction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pice librar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tects maximum allowable transistor stack in a cell or connected cells required to support AV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191120" y="3657600"/>
            <a:ext cx="4800600" cy="28335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28600" y="426708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tects any un-buffered input exposed at a power-domain bound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ch issue can cause leakage through the forward-biased p-n junction if source domain is ON and destination is O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allenges and Mitig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sk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Performing Level-3 checks at SoC level is a tough task as the PSCON control signals may have numerous DFT overri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itigation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Understand test structures in the design and constrain appropriately to select functional paths from PSC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sk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r a multi-million gate design, tool can get tardy if netlist has lot of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itigation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arget smaller design hierarchies (one PD) at a time. Resolve each PD and then move on to complete So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allenges and Mitigation (contd..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sk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Simultaneous dynamic checks for LVL and ISO is a challenge. LVL check requires to emulate voltage OFF scenario while ISO check expects the voltage to be always 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reate separate setup for LVL checks with  the standby option in power pin definition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sk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Debugging an L3 failure or ED (Explored to Depth) can be nightmare at tim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tiga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per understanding of the design architecture along with tool’s capabilities is must for quick analys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9:19:40Z</dcterms:created>
  <dc:creator>a0393605</dc:creator>
  <dc:description/>
  <dc:language>en-US</dc:language>
  <cp:lastModifiedBy>a0393605</cp:lastModifiedBy>
  <dcterms:modified xsi:type="dcterms:W3CDTF">2010-05-04T09:53:13Z</dcterms:modified>
  <cp:revision>59</cp:revision>
  <dc:subject/>
  <dc:title>Slide 1</dc:title>
</cp:coreProperties>
</file>