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13.png" ContentType="image/png"/>
  <Override PartName="/ppt/media/image54.jpeg" ContentType="image/jpe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329184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760920"/>
                <a:tab algn="l" pos="75214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685880" y="696960"/>
            <a:ext cx="348624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760920"/>
                <a:tab algn="l" pos="75214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760920"/>
                <a:tab algn="l" pos="7521480"/>
              </a:tabLst>
            </a:pPr>
            <a:fld id="{BD4D4317-59E6-43CB-BD9C-2D61E143D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685880" y="696960"/>
            <a:ext cx="348624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fld id="{1D928B79-BFB7-4044-BB6B-5AA07AE04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E2F-7A07-461E-882A-92BC57D6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02744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493-1222-40D9-A0DB-8F927637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268-DA77-4881-9A96-2915DB43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B8F-99DC-4158-AD50-4E80D0EE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08B-A46B-4AF3-BFEB-68F4F86C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4A2-DDA9-49D1-A22B-3E628E10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533-2F08-4538-AB69-D2067F98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A14-9744-475D-BA80-FD14D1C0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1317600"/>
            <a:ext cx="296258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80B-FAE0-45AA-B1DF-914C14DA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19F-2A8B-4F4A-A598-887F436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0F4-F511-4C06-A375-94CD33A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D68-76BE-493A-8BFC-49809E7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4240" indent="-11728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0520" indent="-9381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0080" indent="-93816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1440" indent="-9381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1440" indent="-9381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1440" indent="-9381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76840"/>
            <a:ext cx="7680240" cy="22860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lstStyle>
            <a:lvl1pPr indent="0">
              <a:buNone/>
              <a:tabLst>
                <a:tab algn="l" pos="0"/>
                <a:tab algn="l" pos="3760920"/>
                <a:tab algn="l" pos="752148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29976840"/>
            <a:ext cx="10423440" cy="22860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29976840"/>
            <a:ext cx="7680240" cy="22860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7920" bIns="187920" anchor="t">
            <a:noAutofit/>
          </a:bodyPr>
          <a:lstStyle>
            <a:lvl1pPr indent="0" algn="r">
              <a:buNone/>
              <a:tabLst>
                <a:tab algn="l" pos="0"/>
                <a:tab algn="l" pos="3760920"/>
                <a:tab algn="l" pos="752148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760920"/>
                <a:tab algn="l" pos="7521480"/>
              </a:tabLst>
            </a:pPr>
            <a:fld id="{26236B4D-BE4D-45F5-BCA1-8923C9FE5C11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image" Target="../media/image49.png"/><Relationship Id="rId51" Type="http://schemas.openxmlformats.org/officeDocument/2006/relationships/image" Target="../media/image50.png"/><Relationship Id="rId52" Type="http://schemas.openxmlformats.org/officeDocument/2006/relationships/image" Target="../media/image51.png"/><Relationship Id="rId53" Type="http://schemas.openxmlformats.org/officeDocument/2006/relationships/image" Target="../media/image52.png"/><Relationship Id="rId54" Type="http://schemas.openxmlformats.org/officeDocument/2006/relationships/image" Target="../media/image53.png"/><Relationship Id="rId55" Type="http://schemas.openxmlformats.org/officeDocument/2006/relationships/image" Target="../media/image54.jpe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91"/>
          <p:cNvGrpSpPr/>
          <p:nvPr/>
        </p:nvGrpSpPr>
        <p:grpSpPr>
          <a:xfrm>
            <a:off x="16435440" y="3151080"/>
            <a:ext cx="16502040" cy="21988440"/>
            <a:chOff x="16435440" y="3151080"/>
            <a:chExt cx="16502040" cy="21988440"/>
          </a:xfrm>
        </p:grpSpPr>
        <p:pic>
          <p:nvPicPr>
            <p:cNvPr id="49" name="Rounded Rectangle 191" descr=""/>
            <p:cNvPicPr/>
            <p:nvPr/>
          </p:nvPicPr>
          <p:blipFill>
            <a:blip r:embed="rId1"/>
            <a:stretch/>
          </p:blipFill>
          <p:spPr>
            <a:xfrm>
              <a:off x="16435440" y="3151080"/>
              <a:ext cx="16502040" cy="219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7262360" y="3979800"/>
              <a:ext cx="14852880" cy="203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Rectangle 3"/>
          <p:cNvGrpSpPr/>
          <p:nvPr/>
        </p:nvGrpSpPr>
        <p:grpSpPr>
          <a:xfrm>
            <a:off x="-60480" y="12600"/>
            <a:ext cx="33034320" cy="3218040"/>
            <a:chOff x="-60480" y="12600"/>
            <a:chExt cx="33034320" cy="3218040"/>
          </a:xfrm>
        </p:grpSpPr>
        <p:pic>
          <p:nvPicPr>
            <p:cNvPr id="52" name="Rectangle 3" descr=""/>
            <p:cNvPicPr/>
            <p:nvPr/>
          </p:nvPicPr>
          <p:blipFill>
            <a:blip r:embed="rId2"/>
            <a:stretch/>
          </p:blipFill>
          <p:spPr>
            <a:xfrm>
              <a:off x="-60480" y="12600"/>
              <a:ext cx="33034320" cy="32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6080"/>
              <a:ext cx="32918400" cy="31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5" descr="intel_rgb_1700"/>
          <p:cNvPicPr/>
          <p:nvPr/>
        </p:nvPicPr>
        <p:blipFill>
          <a:blip r:embed="rId3"/>
          <a:srcRect l="13799" t="18044" r="13558" b="18390"/>
          <a:stretch/>
        </p:blipFill>
        <p:spPr>
          <a:xfrm>
            <a:off x="29016360" y="295200"/>
            <a:ext cx="3809880" cy="2524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1447920" y="0"/>
            <a:ext cx="3108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ECO Methodology for Very High Frequency Microprocess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440320" y="1219320"/>
            <a:ext cx="2084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umit Goswami, Srivatsa Srinath, Anoop V, Ravi Sek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9190080" y="2157480"/>
            <a:ext cx="1203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Verdana"/>
              </a:rPr>
              <a:t>Intel Technology, Bangalore,  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Rounded Rectangle 11"/>
          <p:cNvGrpSpPr/>
          <p:nvPr/>
        </p:nvGrpSpPr>
        <p:grpSpPr>
          <a:xfrm>
            <a:off x="-23760" y="3084480"/>
            <a:ext cx="16502040" cy="14947920"/>
            <a:chOff x="-23760" y="3084480"/>
            <a:chExt cx="16502040" cy="14947920"/>
          </a:xfrm>
        </p:grpSpPr>
        <p:pic>
          <p:nvPicPr>
            <p:cNvPr id="59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-23760" y="3084480"/>
              <a:ext cx="16502040" cy="149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27200" y="3836880"/>
              <a:ext cx="15004800" cy="134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ounded Rectangle 12"/>
          <p:cNvGrpSpPr/>
          <p:nvPr/>
        </p:nvGrpSpPr>
        <p:grpSpPr>
          <a:xfrm>
            <a:off x="16403760" y="25122240"/>
            <a:ext cx="16502040" cy="7815240"/>
            <a:chOff x="16403760" y="25122240"/>
            <a:chExt cx="16502040" cy="7815240"/>
          </a:xfrm>
        </p:grpSpPr>
        <p:pic>
          <p:nvPicPr>
            <p:cNvPr id="62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16403760" y="25122240"/>
              <a:ext cx="16502040" cy="781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6808400" y="25525440"/>
              <a:ext cx="15700320" cy="70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ounded Rectangle 13"/>
          <p:cNvGrpSpPr/>
          <p:nvPr/>
        </p:nvGrpSpPr>
        <p:grpSpPr>
          <a:xfrm>
            <a:off x="-23760" y="17989560"/>
            <a:ext cx="16502040" cy="14947920"/>
            <a:chOff x="-23760" y="17989560"/>
            <a:chExt cx="16502040" cy="14947920"/>
          </a:xfrm>
        </p:grpSpPr>
        <p:pic>
          <p:nvPicPr>
            <p:cNvPr id="65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-23760" y="17989560"/>
              <a:ext cx="16502040" cy="149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27200" y="18741960"/>
              <a:ext cx="15004800" cy="134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16"/>
          <p:cNvSpPr/>
          <p:nvPr/>
        </p:nvSpPr>
        <p:spPr>
          <a:xfrm>
            <a:off x="4411800" y="3244680"/>
            <a:ext cx="8305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troduction &amp; 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21156480" y="3181320"/>
            <a:ext cx="64008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lution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7238880" y="17975160"/>
            <a:ext cx="28195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9"/>
          <p:cNvSpPr/>
          <p:nvPr/>
        </p:nvSpPr>
        <p:spPr>
          <a:xfrm>
            <a:off x="21183480" y="25179480"/>
            <a:ext cx="86868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mmary and 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7"/>
          <a:stretch/>
        </p:blipFill>
        <p:spPr>
          <a:xfrm>
            <a:off x="277920" y="4516560"/>
            <a:ext cx="6006960" cy="5846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1"/>
          <p:cNvSpPr/>
          <p:nvPr/>
        </p:nvSpPr>
        <p:spPr>
          <a:xfrm>
            <a:off x="7207200" y="4175280"/>
            <a:ext cx="89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ic Complexity is Increasing Every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7667640" y="4683240"/>
            <a:ext cx="886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functions per chip is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ic Verification Challenges growing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ces of hitting bugs near Tape Out is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760920"/>
                <a:tab algn="l" pos="752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7207200" y="5904000"/>
            <a:ext cx="941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 race is creating Si quality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7667640" y="6691320"/>
            <a:ext cx="833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not fixed by standard available EDA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anual fix is expensive in terms resource and T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760920"/>
                <a:tab algn="l" pos="752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7207200" y="7758000"/>
            <a:ext cx="978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gence vectors evermore inter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8381880" y="9225000"/>
            <a:ext cx="7086600" cy="1800360"/>
          </a:xfrm>
          <a:prstGeom prst="rect">
            <a:avLst/>
          </a:prstGeom>
          <a:solidFill>
            <a:srgbClr val="ffffcc"/>
          </a:solidFill>
          <a:ln w="25560">
            <a:solidFill>
              <a:srgbClr val="23236f"/>
            </a:solidFill>
            <a:miter/>
          </a:ln>
          <a:effectLst>
            <a:outerShdw dist="0" dir="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ECO is Reality and Neces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All High Performance 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9"/>
          <p:cNvSpPr/>
          <p:nvPr/>
        </p:nvSpPr>
        <p:spPr>
          <a:xfrm>
            <a:off x="7207200" y="8261280"/>
            <a:ext cx="96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t minute change to fix bug/quality is unavoi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Right Arrow 53"/>
          <p:cNvGrpSpPr/>
          <p:nvPr/>
        </p:nvGrpSpPr>
        <p:grpSpPr>
          <a:xfrm>
            <a:off x="5913360" y="6119640"/>
            <a:ext cx="1882800" cy="2341800"/>
            <a:chOff x="5913360" y="6119640"/>
            <a:chExt cx="1882800" cy="2341800"/>
          </a:xfrm>
        </p:grpSpPr>
        <p:pic>
          <p:nvPicPr>
            <p:cNvPr id="80" name="Right Arrow 53" descr=""/>
            <p:cNvPicPr/>
            <p:nvPr/>
          </p:nvPicPr>
          <p:blipFill>
            <a:blip r:embed="rId8"/>
            <a:stretch/>
          </p:blipFill>
          <p:spPr>
            <a:xfrm>
              <a:off x="5913360" y="6119640"/>
              <a:ext cx="1882800" cy="23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400800" y="692460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54"/>
          <p:cNvSpPr/>
          <p:nvPr/>
        </p:nvSpPr>
        <p:spPr>
          <a:xfrm>
            <a:off x="76320" y="11049120"/>
            <a:ext cx="72388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CO in Processor Desig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0"/>
          <p:cNvGrpSpPr/>
          <p:nvPr/>
        </p:nvGrpSpPr>
        <p:grpSpPr>
          <a:xfrm>
            <a:off x="-39600" y="11839680"/>
            <a:ext cx="8008920" cy="3494160"/>
            <a:chOff x="-39600" y="11839680"/>
            <a:chExt cx="8008920" cy="3494160"/>
          </a:xfrm>
        </p:grpSpPr>
        <p:grpSp>
          <p:nvGrpSpPr>
            <p:cNvPr id="84" name="Group 75"/>
            <p:cNvGrpSpPr/>
            <p:nvPr/>
          </p:nvGrpSpPr>
          <p:grpSpPr>
            <a:xfrm>
              <a:off x="452520" y="14049720"/>
              <a:ext cx="1391760" cy="650520"/>
              <a:chOff x="452520" y="14049720"/>
              <a:chExt cx="1391760" cy="650520"/>
            </a:xfrm>
          </p:grpSpPr>
          <p:sp>
            <p:nvSpPr>
              <p:cNvPr id="85" name="Flowchart: Direct Access Storage 76"/>
              <p:cNvSpPr/>
              <p:nvPr/>
            </p:nvSpPr>
            <p:spPr>
              <a:xfrm>
                <a:off x="530280" y="14049720"/>
                <a:ext cx="1314000" cy="650520"/>
              </a:xfrm>
              <a:prstGeom prst="flowChartMagneticDrum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ff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Box 77"/>
              <p:cNvSpPr/>
              <p:nvPr/>
            </p:nvSpPr>
            <p:spPr>
              <a:xfrm>
                <a:off x="452520" y="14208120"/>
                <a:ext cx="108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Rev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Straight Connector 83"/>
            <p:cNvSpPr/>
            <p:nvPr/>
          </p:nvSpPr>
          <p:spPr>
            <a:xfrm>
              <a:off x="1825560" y="14353920"/>
              <a:ext cx="309204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Striped Right Arrow 89"/>
            <p:cNvGrpSpPr/>
            <p:nvPr/>
          </p:nvGrpSpPr>
          <p:grpSpPr>
            <a:xfrm>
              <a:off x="-39600" y="11863440"/>
              <a:ext cx="5102280" cy="2390400"/>
              <a:chOff x="-39600" y="11863440"/>
              <a:chExt cx="5102280" cy="2390400"/>
            </a:xfrm>
          </p:grpSpPr>
          <p:pic>
            <p:nvPicPr>
              <p:cNvPr id="89" name="Striped Right Arrow 89" descr=""/>
              <p:cNvPicPr/>
              <p:nvPr/>
            </p:nvPicPr>
            <p:blipFill>
              <a:blip r:embed="rId9"/>
              <a:stretch/>
            </p:blipFill>
            <p:spPr>
              <a:xfrm>
                <a:off x="-39600" y="11863440"/>
                <a:ext cx="5102280" cy="23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757800" y="12719520"/>
                <a:ext cx="3377160" cy="6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90"/>
            <p:cNvSpPr/>
            <p:nvPr/>
          </p:nvSpPr>
          <p:spPr>
            <a:xfrm>
              <a:off x="628560" y="12677040"/>
              <a:ext cx="39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TL Developm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y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91"/>
            <p:cNvGrpSpPr/>
            <p:nvPr/>
          </p:nvGrpSpPr>
          <p:grpSpPr>
            <a:xfrm>
              <a:off x="4901760" y="14049720"/>
              <a:ext cx="1391760" cy="650520"/>
              <a:chOff x="4901760" y="14049720"/>
              <a:chExt cx="1391760" cy="650520"/>
            </a:xfrm>
          </p:grpSpPr>
          <p:sp>
            <p:nvSpPr>
              <p:cNvPr id="93" name="Flowchart: Direct Access Storage 92"/>
              <p:cNvSpPr/>
              <p:nvPr/>
            </p:nvSpPr>
            <p:spPr>
              <a:xfrm>
                <a:off x="4979520" y="14049720"/>
                <a:ext cx="1314000" cy="650520"/>
              </a:xfrm>
              <a:prstGeom prst="flowChartMagneticDrum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ff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Box 93"/>
              <p:cNvSpPr/>
              <p:nvPr/>
            </p:nvSpPr>
            <p:spPr>
              <a:xfrm>
                <a:off x="4901760" y="14208120"/>
                <a:ext cx="108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Rev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96"/>
            <p:cNvGrpSpPr/>
            <p:nvPr/>
          </p:nvGrpSpPr>
          <p:grpSpPr>
            <a:xfrm>
              <a:off x="4158000" y="12474000"/>
              <a:ext cx="2241720" cy="1204560"/>
              <a:chOff x="4158000" y="12474000"/>
              <a:chExt cx="2241720" cy="1204560"/>
            </a:xfrm>
          </p:grpSpPr>
          <p:grpSp>
            <p:nvGrpSpPr>
              <p:cNvPr id="96" name="12-Point Star 94"/>
              <p:cNvGrpSpPr/>
              <p:nvPr/>
            </p:nvGrpSpPr>
            <p:grpSpPr>
              <a:xfrm>
                <a:off x="4158000" y="12474000"/>
                <a:ext cx="2241720" cy="1083960"/>
                <a:chOff x="4158000" y="12474000"/>
                <a:chExt cx="2241720" cy="1083960"/>
              </a:xfrm>
            </p:grpSpPr>
            <p:pic>
              <p:nvPicPr>
                <p:cNvPr id="97" name="12-Point Star 9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158000" y="12474000"/>
                  <a:ext cx="2241720" cy="108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>
                  <a:off x="4697640" y="12731760"/>
                  <a:ext cx="116712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3762360"/>
                      <a:tab algn="l" pos="7524720"/>
                    </a:tabLst>
                  </a:pPr>
                  <a:endParaRPr b="0" lang="en-US" sz="7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Box 95"/>
              <p:cNvSpPr/>
              <p:nvPr/>
            </p:nvSpPr>
            <p:spPr>
              <a:xfrm>
                <a:off x="4770000" y="12669840"/>
                <a:ext cx="1011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RTL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on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EC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Right Arrow 97"/>
            <p:cNvGrpSpPr/>
            <p:nvPr/>
          </p:nvGrpSpPr>
          <p:grpSpPr>
            <a:xfrm>
              <a:off x="2892960" y="13304880"/>
              <a:ext cx="1360440" cy="1127880"/>
              <a:chOff x="2892960" y="13304880"/>
              <a:chExt cx="1360440" cy="1127880"/>
            </a:xfrm>
          </p:grpSpPr>
          <p:pic>
            <p:nvPicPr>
              <p:cNvPr id="101" name="Right Arrow 97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92960" y="13304880"/>
                <a:ext cx="13604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5400000">
                <a:off x="3441600" y="13672800"/>
                <a:ext cx="27108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Right Arrow 98"/>
            <p:cNvGrpSpPr/>
            <p:nvPr/>
          </p:nvGrpSpPr>
          <p:grpSpPr>
            <a:xfrm>
              <a:off x="3624840" y="13304880"/>
              <a:ext cx="1360440" cy="1127880"/>
              <a:chOff x="3624840" y="13304880"/>
              <a:chExt cx="1360440" cy="1127880"/>
            </a:xfrm>
          </p:grpSpPr>
          <p:pic>
            <p:nvPicPr>
              <p:cNvPr id="104" name="Right Arrow 98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24840" y="13304880"/>
                <a:ext cx="13604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5400000">
                <a:off x="4173840" y="13672800"/>
                <a:ext cx="27108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Right Arrow 99"/>
            <p:cNvGrpSpPr/>
            <p:nvPr/>
          </p:nvGrpSpPr>
          <p:grpSpPr>
            <a:xfrm>
              <a:off x="4289400" y="13304880"/>
              <a:ext cx="1360440" cy="1127880"/>
              <a:chOff x="4289400" y="13304880"/>
              <a:chExt cx="1360440" cy="1127880"/>
            </a:xfrm>
          </p:grpSpPr>
          <p:pic>
            <p:nvPicPr>
              <p:cNvPr id="107" name="Right Arrow 99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9400" y="13304880"/>
                <a:ext cx="13604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5400000">
                <a:off x="4838040" y="13672800"/>
                <a:ext cx="27108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Right Arrow 100"/>
            <p:cNvGrpSpPr/>
            <p:nvPr/>
          </p:nvGrpSpPr>
          <p:grpSpPr>
            <a:xfrm>
              <a:off x="4954320" y="13304880"/>
              <a:ext cx="1360440" cy="1127880"/>
              <a:chOff x="4954320" y="13304880"/>
              <a:chExt cx="1360440" cy="1127880"/>
            </a:xfrm>
          </p:grpSpPr>
          <p:pic>
            <p:nvPicPr>
              <p:cNvPr id="110" name="Right Arrow 100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54320" y="13304880"/>
                <a:ext cx="13604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5400000">
                <a:off x="5502960" y="13672800"/>
                <a:ext cx="27108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Right Arrow 101"/>
            <p:cNvGrpSpPr/>
            <p:nvPr/>
          </p:nvGrpSpPr>
          <p:grpSpPr>
            <a:xfrm>
              <a:off x="254160" y="13304880"/>
              <a:ext cx="1360440" cy="1127880"/>
              <a:chOff x="254160" y="13304880"/>
              <a:chExt cx="1360440" cy="1127880"/>
            </a:xfrm>
          </p:grpSpPr>
          <p:pic>
            <p:nvPicPr>
              <p:cNvPr id="113" name="Right Arrow 1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4160" y="13304880"/>
                <a:ext cx="13604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 rot="5400000">
                <a:off x="800640" y="13672800"/>
                <a:ext cx="27108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Right Arrow 102"/>
            <p:cNvGrpSpPr/>
            <p:nvPr/>
          </p:nvGrpSpPr>
          <p:grpSpPr>
            <a:xfrm>
              <a:off x="924120" y="13304880"/>
              <a:ext cx="1360440" cy="1127880"/>
              <a:chOff x="924120" y="13304880"/>
              <a:chExt cx="1360440" cy="1127880"/>
            </a:xfrm>
          </p:grpSpPr>
          <p:pic>
            <p:nvPicPr>
              <p:cNvPr id="116" name="Right Arrow 102" descr=""/>
              <p:cNvPicPr/>
              <p:nvPr/>
            </p:nvPicPr>
            <p:blipFill>
              <a:blip r:embed="rId16"/>
              <a:stretch/>
            </p:blipFill>
            <p:spPr>
              <a:xfrm>
                <a:off x="924120" y="13304880"/>
                <a:ext cx="13604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 rot="5400000">
                <a:off x="1471680" y="13672800"/>
                <a:ext cx="27108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Right Arrow 103"/>
            <p:cNvGrpSpPr/>
            <p:nvPr/>
          </p:nvGrpSpPr>
          <p:grpSpPr>
            <a:xfrm>
              <a:off x="1609560" y="13304880"/>
              <a:ext cx="1360440" cy="1127880"/>
              <a:chOff x="1609560" y="13304880"/>
              <a:chExt cx="1360440" cy="1127880"/>
            </a:xfrm>
          </p:grpSpPr>
          <p:pic>
            <p:nvPicPr>
              <p:cNvPr id="119" name="Right Arrow 103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09560" y="13304880"/>
                <a:ext cx="13604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rot="5400000">
                <a:off x="2156760" y="13672800"/>
                <a:ext cx="27108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Right Arrow 104"/>
            <p:cNvGrpSpPr/>
            <p:nvPr/>
          </p:nvGrpSpPr>
          <p:grpSpPr>
            <a:xfrm>
              <a:off x="2274480" y="13304880"/>
              <a:ext cx="1360440" cy="1127880"/>
              <a:chOff x="2274480" y="13304880"/>
              <a:chExt cx="1360440" cy="1127880"/>
            </a:xfrm>
          </p:grpSpPr>
          <p:pic>
            <p:nvPicPr>
              <p:cNvPr id="122" name="Right Arrow 104" descr=""/>
              <p:cNvPicPr/>
              <p:nvPr/>
            </p:nvPicPr>
            <p:blipFill>
              <a:blip r:embed="rId18"/>
              <a:stretch/>
            </p:blipFill>
            <p:spPr>
              <a:xfrm>
                <a:off x="2274480" y="13304880"/>
                <a:ext cx="13604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5400000">
                <a:off x="2821320" y="13672800"/>
                <a:ext cx="27108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Box 107"/>
            <p:cNvSpPr/>
            <p:nvPr/>
          </p:nvSpPr>
          <p:spPr>
            <a:xfrm>
              <a:off x="655920" y="14796000"/>
              <a:ext cx="360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Implementation Cy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8"/>
            <p:cNvSpPr/>
            <p:nvPr/>
          </p:nvSpPr>
          <p:spPr>
            <a:xfrm>
              <a:off x="4158000" y="12442320"/>
              <a:ext cx="2241360" cy="2601720"/>
            </a:xfrm>
            <a:prstGeom prst="rect">
              <a:avLst/>
            </a:prstGeom>
            <a:solidFill>
              <a:srgbClr val="99ff99">
                <a:alpha val="3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06"/>
            <p:cNvSpPr/>
            <p:nvPr/>
          </p:nvSpPr>
          <p:spPr>
            <a:xfrm>
              <a:off x="6670440" y="12486600"/>
              <a:ext cx="450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Verdan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Verdan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Verdan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Verdan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Left Arrow Callout 105"/>
            <p:cNvGrpSpPr/>
            <p:nvPr/>
          </p:nvGrpSpPr>
          <p:grpSpPr>
            <a:xfrm>
              <a:off x="5387400" y="11839680"/>
              <a:ext cx="2581920" cy="3494160"/>
              <a:chOff x="5387400" y="11839680"/>
              <a:chExt cx="2581920" cy="3494160"/>
            </a:xfrm>
          </p:grpSpPr>
          <p:pic>
            <p:nvPicPr>
              <p:cNvPr id="128" name="Left Arrow Callout 10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387400" y="11839680"/>
                <a:ext cx="2581920" cy="349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520320" y="12498840"/>
                <a:ext cx="703080" cy="209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109"/>
            <p:cNvSpPr/>
            <p:nvPr/>
          </p:nvSpPr>
          <p:spPr>
            <a:xfrm>
              <a:off x="4941360" y="14690160"/>
              <a:ext cx="90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E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111"/>
          <p:cNvSpPr/>
          <p:nvPr/>
        </p:nvSpPr>
        <p:spPr>
          <a:xfrm>
            <a:off x="7310520" y="11887200"/>
            <a:ext cx="68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2"/>
          <p:cNvSpPr/>
          <p:nvPr/>
        </p:nvSpPr>
        <p:spPr>
          <a:xfrm>
            <a:off x="561960" y="154162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 comes during last phase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3"/>
          <p:cNvSpPr/>
          <p:nvPr/>
        </p:nvSpPr>
        <p:spPr>
          <a:xfrm>
            <a:off x="533520" y="163702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remely critical in schedule for TTM wit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22"/>
          <p:cNvGrpSpPr/>
          <p:nvPr/>
        </p:nvGrpSpPr>
        <p:grpSpPr>
          <a:xfrm>
            <a:off x="8286840" y="10926720"/>
            <a:ext cx="8615160" cy="5247720"/>
            <a:chOff x="8286840" y="10926720"/>
            <a:chExt cx="8615160" cy="5247720"/>
          </a:xfrm>
        </p:grpSpPr>
        <p:sp>
          <p:nvSpPr>
            <p:cNvPr id="135" name="TextBox 116"/>
            <p:cNvSpPr/>
            <p:nvPr/>
          </p:nvSpPr>
          <p:spPr>
            <a:xfrm>
              <a:off x="8407080" y="11678040"/>
              <a:ext cx="7391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quire an intelligent methodology which understands the ECO from design challenge perspective and optimizes all the vectors  concurrent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795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17"/>
            <p:cNvSpPr/>
            <p:nvPr/>
          </p:nvSpPr>
          <p:spPr>
            <a:xfrm>
              <a:off x="8816040" y="13154400"/>
              <a:ext cx="80859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nimal user inputs/interven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wer dependency on user’s EDA tool knowle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timize all v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I for manual ECO programm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rt enough to switch modes automatical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795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m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795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y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795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19"/>
            <p:cNvSpPr/>
            <p:nvPr/>
          </p:nvSpPr>
          <p:spPr>
            <a:xfrm>
              <a:off x="9956160" y="10926720"/>
              <a:ext cx="466380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Problem Stat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ounded Rectangle 121"/>
            <p:cNvSpPr/>
            <p:nvPr/>
          </p:nvSpPr>
          <p:spPr>
            <a:xfrm>
              <a:off x="8286840" y="11487240"/>
              <a:ext cx="8001720" cy="464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74"/>
          <p:cNvGrpSpPr/>
          <p:nvPr/>
        </p:nvGrpSpPr>
        <p:grpSpPr>
          <a:xfrm>
            <a:off x="16668720" y="3711600"/>
            <a:ext cx="7383600" cy="6404040"/>
            <a:chOff x="16668720" y="3711600"/>
            <a:chExt cx="7383600" cy="6404040"/>
          </a:xfrm>
        </p:grpSpPr>
        <p:grpSp>
          <p:nvGrpSpPr>
            <p:cNvPr id="140" name="Isosceles Triangle 235"/>
            <p:cNvGrpSpPr/>
            <p:nvPr/>
          </p:nvGrpSpPr>
          <p:grpSpPr>
            <a:xfrm>
              <a:off x="16873560" y="3711600"/>
              <a:ext cx="6974280" cy="4383000"/>
              <a:chOff x="16873560" y="3711600"/>
              <a:chExt cx="6974280" cy="4383000"/>
            </a:xfrm>
          </p:grpSpPr>
          <p:pic>
            <p:nvPicPr>
              <p:cNvPr id="141" name="Isosceles Triangle 2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16873560" y="3711600"/>
                <a:ext cx="6974280" cy="43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8649800" y="5883840"/>
                <a:ext cx="3429000" cy="21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36"/>
            <p:cNvGrpSpPr/>
            <p:nvPr/>
          </p:nvGrpSpPr>
          <p:grpSpPr>
            <a:xfrm>
              <a:off x="17735400" y="6796800"/>
              <a:ext cx="1619280" cy="1136520"/>
              <a:chOff x="17735400" y="6796800"/>
              <a:chExt cx="1619280" cy="1136520"/>
            </a:xfrm>
          </p:grpSpPr>
          <p:grpSp>
            <p:nvGrpSpPr>
              <p:cNvPr id="144" name="Oval 237"/>
              <p:cNvGrpSpPr/>
              <p:nvPr/>
            </p:nvGrpSpPr>
            <p:grpSpPr>
              <a:xfrm>
                <a:off x="17735400" y="6796800"/>
                <a:ext cx="1619280" cy="1136520"/>
                <a:chOff x="17735400" y="6796800"/>
                <a:chExt cx="1619280" cy="1136520"/>
              </a:xfrm>
            </p:grpSpPr>
            <p:pic>
              <p:nvPicPr>
                <p:cNvPr id="145" name="Oval 2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7735400" y="6796800"/>
                  <a:ext cx="1619280" cy="11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17992080" y="6980400"/>
                  <a:ext cx="111312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3762360"/>
                      <a:tab algn="l" pos="7524720"/>
                    </a:tabLst>
                  </a:pPr>
                  <a:endParaRPr b="0" lang="en-US" sz="7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TextBox 238"/>
              <p:cNvSpPr/>
              <p:nvPr/>
            </p:nvSpPr>
            <p:spPr>
              <a:xfrm>
                <a:off x="17780040" y="7039080"/>
                <a:ext cx="1574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RTL ECO Eng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39"/>
            <p:cNvGrpSpPr/>
            <p:nvPr/>
          </p:nvGrpSpPr>
          <p:grpSpPr>
            <a:xfrm>
              <a:off x="19564200" y="6796800"/>
              <a:ext cx="1619280" cy="1136520"/>
              <a:chOff x="19564200" y="6796800"/>
              <a:chExt cx="1619280" cy="1136520"/>
            </a:xfrm>
          </p:grpSpPr>
          <p:grpSp>
            <p:nvGrpSpPr>
              <p:cNvPr id="149" name="Oval 240"/>
              <p:cNvGrpSpPr/>
              <p:nvPr/>
            </p:nvGrpSpPr>
            <p:grpSpPr>
              <a:xfrm>
                <a:off x="19564200" y="6796800"/>
                <a:ext cx="1619280" cy="1136520"/>
                <a:chOff x="19564200" y="6796800"/>
                <a:chExt cx="1619280" cy="1136520"/>
              </a:xfrm>
            </p:grpSpPr>
            <p:pic>
              <p:nvPicPr>
                <p:cNvPr id="150" name="Oval 240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9564200" y="6796800"/>
                  <a:ext cx="1619280" cy="11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19820880" y="6980400"/>
                  <a:ext cx="111312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3762360"/>
                      <a:tab algn="l" pos="7524720"/>
                    </a:tabLst>
                  </a:pPr>
                  <a:endParaRPr b="0" lang="en-US" sz="7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Box 241"/>
              <p:cNvSpPr/>
              <p:nvPr/>
            </p:nvSpPr>
            <p:spPr>
              <a:xfrm>
                <a:off x="19608840" y="7039080"/>
                <a:ext cx="1574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Tim ECO Eng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242"/>
            <p:cNvGrpSpPr/>
            <p:nvPr/>
          </p:nvGrpSpPr>
          <p:grpSpPr>
            <a:xfrm>
              <a:off x="21393000" y="6796800"/>
              <a:ext cx="1619280" cy="1136520"/>
              <a:chOff x="21393000" y="6796800"/>
              <a:chExt cx="1619280" cy="1136520"/>
            </a:xfrm>
          </p:grpSpPr>
          <p:grpSp>
            <p:nvGrpSpPr>
              <p:cNvPr id="154" name="Oval 243"/>
              <p:cNvGrpSpPr/>
              <p:nvPr/>
            </p:nvGrpSpPr>
            <p:grpSpPr>
              <a:xfrm>
                <a:off x="21393000" y="6796800"/>
                <a:ext cx="1619280" cy="1136520"/>
                <a:chOff x="21393000" y="6796800"/>
                <a:chExt cx="1619280" cy="1136520"/>
              </a:xfrm>
            </p:grpSpPr>
            <p:pic>
              <p:nvPicPr>
                <p:cNvPr id="155" name="Oval 2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1393000" y="6796800"/>
                  <a:ext cx="1619280" cy="11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>
                  <a:off x="21649320" y="6980400"/>
                  <a:ext cx="111312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3762360"/>
                      <a:tab algn="l" pos="7524720"/>
                    </a:tabLst>
                  </a:pPr>
                  <a:endParaRPr b="0" lang="en-US" sz="7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Box 244"/>
              <p:cNvSpPr/>
              <p:nvPr/>
            </p:nvSpPr>
            <p:spPr>
              <a:xfrm>
                <a:off x="21437640" y="7039080"/>
                <a:ext cx="1574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FP ECO Eng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45"/>
            <p:cNvGrpSpPr/>
            <p:nvPr/>
          </p:nvGrpSpPr>
          <p:grpSpPr>
            <a:xfrm>
              <a:off x="20497680" y="5622120"/>
              <a:ext cx="1619280" cy="1136520"/>
              <a:chOff x="20497680" y="5622120"/>
              <a:chExt cx="1619280" cy="1136520"/>
            </a:xfrm>
          </p:grpSpPr>
          <p:grpSp>
            <p:nvGrpSpPr>
              <p:cNvPr id="159" name="Oval 246"/>
              <p:cNvGrpSpPr/>
              <p:nvPr/>
            </p:nvGrpSpPr>
            <p:grpSpPr>
              <a:xfrm>
                <a:off x="20497680" y="5622120"/>
                <a:ext cx="1618920" cy="1136520"/>
                <a:chOff x="20497680" y="5622120"/>
                <a:chExt cx="1618920" cy="1136520"/>
              </a:xfrm>
            </p:grpSpPr>
            <p:pic>
              <p:nvPicPr>
                <p:cNvPr id="160" name="Oval 246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20497680" y="5622120"/>
                  <a:ext cx="1618920" cy="11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>
                  <a:off x="20754720" y="5806440"/>
                  <a:ext cx="1113120" cy="77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3762360"/>
                      <a:tab algn="l" pos="7524720"/>
                    </a:tabLst>
                  </a:pPr>
                  <a:endParaRPr b="0" lang="en-US" sz="7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Box 247"/>
              <p:cNvSpPr/>
              <p:nvPr/>
            </p:nvSpPr>
            <p:spPr>
              <a:xfrm>
                <a:off x="20543040" y="5682600"/>
                <a:ext cx="1573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Power ECO Eng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48"/>
            <p:cNvGrpSpPr/>
            <p:nvPr/>
          </p:nvGrpSpPr>
          <p:grpSpPr>
            <a:xfrm>
              <a:off x="19564200" y="4523400"/>
              <a:ext cx="1619280" cy="1136520"/>
              <a:chOff x="19564200" y="4523400"/>
              <a:chExt cx="1619280" cy="1136520"/>
            </a:xfrm>
          </p:grpSpPr>
          <p:grpSp>
            <p:nvGrpSpPr>
              <p:cNvPr id="164" name="Oval 249"/>
              <p:cNvGrpSpPr/>
              <p:nvPr/>
            </p:nvGrpSpPr>
            <p:grpSpPr>
              <a:xfrm>
                <a:off x="19564200" y="4523400"/>
                <a:ext cx="1619280" cy="1136520"/>
                <a:chOff x="19564200" y="4523400"/>
                <a:chExt cx="1619280" cy="1136520"/>
              </a:xfrm>
            </p:grpSpPr>
            <p:pic>
              <p:nvPicPr>
                <p:cNvPr id="165" name="Oval 249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9564200" y="4523400"/>
                  <a:ext cx="1619280" cy="11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>
                  <a:off x="19820880" y="4707360"/>
                  <a:ext cx="111312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3762360"/>
                      <a:tab algn="l" pos="7524720"/>
                    </a:tabLst>
                  </a:pPr>
                  <a:endParaRPr b="0" lang="en-US" sz="7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Box 250"/>
              <p:cNvSpPr/>
              <p:nvPr/>
            </p:nvSpPr>
            <p:spPr>
              <a:xfrm>
                <a:off x="19608840" y="4583160"/>
                <a:ext cx="15742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Manual ECO Eng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251"/>
            <p:cNvGrpSpPr/>
            <p:nvPr/>
          </p:nvGrpSpPr>
          <p:grpSpPr>
            <a:xfrm>
              <a:off x="18649800" y="5622120"/>
              <a:ext cx="1619280" cy="1136520"/>
              <a:chOff x="18649800" y="5622120"/>
              <a:chExt cx="1619280" cy="1136520"/>
            </a:xfrm>
          </p:grpSpPr>
          <p:grpSp>
            <p:nvGrpSpPr>
              <p:cNvPr id="169" name="Oval 252"/>
              <p:cNvGrpSpPr/>
              <p:nvPr/>
            </p:nvGrpSpPr>
            <p:grpSpPr>
              <a:xfrm>
                <a:off x="18649800" y="5622120"/>
                <a:ext cx="1619280" cy="1136520"/>
                <a:chOff x="18649800" y="5622120"/>
                <a:chExt cx="1619280" cy="1136520"/>
              </a:xfrm>
            </p:grpSpPr>
            <p:pic>
              <p:nvPicPr>
                <p:cNvPr id="170" name="Oval 25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18649800" y="5622120"/>
                  <a:ext cx="1619280" cy="11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>
                  <a:off x="18906480" y="5806440"/>
                  <a:ext cx="1113120" cy="77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3762360"/>
                      <a:tab algn="l" pos="7524720"/>
                    </a:tabLst>
                  </a:pPr>
                  <a:endParaRPr b="0" lang="en-US" sz="7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Box 253"/>
              <p:cNvSpPr/>
              <p:nvPr/>
            </p:nvSpPr>
            <p:spPr>
              <a:xfrm>
                <a:off x="18694440" y="5682600"/>
                <a:ext cx="1574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Clock ECO Eng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Down Arrow 254"/>
            <p:cNvGrpSpPr/>
            <p:nvPr/>
          </p:nvGrpSpPr>
          <p:grpSpPr>
            <a:xfrm>
              <a:off x="18153720" y="7985520"/>
              <a:ext cx="603360" cy="418320"/>
              <a:chOff x="18153720" y="7985520"/>
              <a:chExt cx="603360" cy="418320"/>
            </a:xfrm>
          </p:grpSpPr>
          <p:pic>
            <p:nvPicPr>
              <p:cNvPr id="174" name="Down Arrow 254" descr=""/>
              <p:cNvPicPr/>
              <p:nvPr/>
            </p:nvPicPr>
            <p:blipFill>
              <a:blip r:embed="rId27"/>
              <a:stretch/>
            </p:blipFill>
            <p:spPr>
              <a:xfrm>
                <a:off x="18153720" y="7985520"/>
                <a:ext cx="603360" cy="41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 rot="10800000">
                <a:off x="18325440" y="8103240"/>
                <a:ext cx="2667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55"/>
            <p:cNvGrpSpPr/>
            <p:nvPr/>
          </p:nvGrpSpPr>
          <p:grpSpPr>
            <a:xfrm>
              <a:off x="19229400" y="8206560"/>
              <a:ext cx="2194560" cy="1909080"/>
              <a:chOff x="19229400" y="8206560"/>
              <a:chExt cx="2194560" cy="1909080"/>
            </a:xfrm>
          </p:grpSpPr>
          <p:sp>
            <p:nvSpPr>
              <p:cNvPr id="177" name="12-Point Star 256"/>
              <p:cNvSpPr/>
              <p:nvPr/>
            </p:nvSpPr>
            <p:spPr>
              <a:xfrm>
                <a:off x="19229400" y="8206560"/>
                <a:ext cx="2194560" cy="1909080"/>
              </a:xfrm>
              <a:custGeom>
                <a:avLst/>
                <a:gdLst>
                  <a:gd name="textAreaLeft" fmla="*/ 515160 w 2194560"/>
                  <a:gd name="textAreaRight" fmla="*/ 1679400 w 2194560"/>
                  <a:gd name="textAreaTop" fmla="*/ 448200 h 1909080"/>
                  <a:gd name="textAreaBottom" fmla="*/ 1460880 h 1909080"/>
                </a:gdLst>
                <a:ahLst/>
                <a:rect l="textAreaLeft" t="textAreaTop" r="textAreaRight" b="textAreaBottom"/>
                <a:pathLst>
                  <a:path w="2194019" h="1919598">
                    <a:moveTo>
                      <a:pt x="0" y="959799"/>
                    </a:moveTo>
                    <a:lnTo>
                      <a:pt x="302287" y="773488"/>
                    </a:lnTo>
                    <a:lnTo>
                      <a:pt x="146971" y="479900"/>
                    </a:lnTo>
                    <a:lnTo>
                      <a:pt x="515232" y="450789"/>
                    </a:lnTo>
                    <a:lnTo>
                      <a:pt x="548505" y="128589"/>
                    </a:lnTo>
                    <a:lnTo>
                      <a:pt x="884065" y="264478"/>
                    </a:lnTo>
                    <a:lnTo>
                      <a:pt x="1097010" y="0"/>
                    </a:lnTo>
                    <a:lnTo>
                      <a:pt x="1309954" y="264478"/>
                    </a:lnTo>
                    <a:lnTo>
                      <a:pt x="1645514" y="128589"/>
                    </a:lnTo>
                    <a:lnTo>
                      <a:pt x="1678787" y="450789"/>
                    </a:lnTo>
                    <a:lnTo>
                      <a:pt x="2047048" y="479900"/>
                    </a:lnTo>
                    <a:lnTo>
                      <a:pt x="1891732" y="773488"/>
                    </a:lnTo>
                    <a:lnTo>
                      <a:pt x="2194019" y="959799"/>
                    </a:lnTo>
                    <a:lnTo>
                      <a:pt x="1891732" y="1146110"/>
                    </a:lnTo>
                    <a:lnTo>
                      <a:pt x="2047048" y="1439698"/>
                    </a:lnTo>
                    <a:lnTo>
                      <a:pt x="1678787" y="1468809"/>
                    </a:lnTo>
                    <a:lnTo>
                      <a:pt x="1645514" y="1791009"/>
                    </a:lnTo>
                    <a:lnTo>
                      <a:pt x="1309954" y="1655120"/>
                    </a:lnTo>
                    <a:lnTo>
                      <a:pt x="1097010" y="1919598"/>
                    </a:lnTo>
                    <a:lnTo>
                      <a:pt x="884065" y="1655120"/>
                    </a:lnTo>
                    <a:lnTo>
                      <a:pt x="548505" y="1791009"/>
                    </a:lnTo>
                    <a:lnTo>
                      <a:pt x="515232" y="1468809"/>
                    </a:lnTo>
                    <a:lnTo>
                      <a:pt x="146971" y="1439698"/>
                    </a:lnTo>
                    <a:lnTo>
                      <a:pt x="302287" y="1146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0000"/>
                  </a:gs>
                  <a:gs pos="100000">
                    <a:srgbClr val="ffdada"/>
                  </a:gs>
                </a:gsLst>
                <a:lin ang="162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257"/>
              <p:cNvSpPr/>
              <p:nvPr/>
            </p:nvSpPr>
            <p:spPr>
              <a:xfrm>
                <a:off x="19545120" y="8643600"/>
                <a:ext cx="16120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urpri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ign-of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Tim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Down Arrow 258"/>
            <p:cNvGrpSpPr/>
            <p:nvPr/>
          </p:nvGrpSpPr>
          <p:grpSpPr>
            <a:xfrm>
              <a:off x="20104560" y="7985520"/>
              <a:ext cx="603360" cy="418320"/>
              <a:chOff x="20104560" y="7985520"/>
              <a:chExt cx="603360" cy="418320"/>
            </a:xfrm>
          </p:grpSpPr>
          <p:pic>
            <p:nvPicPr>
              <p:cNvPr id="180" name="Down Arrow 258" descr=""/>
              <p:cNvPicPr/>
              <p:nvPr/>
            </p:nvPicPr>
            <p:blipFill>
              <a:blip r:embed="rId28"/>
              <a:stretch/>
            </p:blipFill>
            <p:spPr>
              <a:xfrm>
                <a:off x="20104560" y="7985520"/>
                <a:ext cx="603360" cy="41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10800000">
                <a:off x="20276280" y="8103240"/>
                <a:ext cx="2667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Down Arrow 259"/>
            <p:cNvGrpSpPr/>
            <p:nvPr/>
          </p:nvGrpSpPr>
          <p:grpSpPr>
            <a:xfrm>
              <a:off x="22043160" y="7985520"/>
              <a:ext cx="603360" cy="418320"/>
              <a:chOff x="22043160" y="7985520"/>
              <a:chExt cx="603360" cy="418320"/>
            </a:xfrm>
          </p:grpSpPr>
          <p:pic>
            <p:nvPicPr>
              <p:cNvPr id="183" name="Down Arrow 25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2043160" y="7985520"/>
                <a:ext cx="603360" cy="41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 rot="10800000">
                <a:off x="22211640" y="8103240"/>
                <a:ext cx="2667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60"/>
            <p:cNvGrpSpPr/>
            <p:nvPr/>
          </p:nvGrpSpPr>
          <p:grpSpPr>
            <a:xfrm>
              <a:off x="16973280" y="8255160"/>
              <a:ext cx="2011680" cy="1727280"/>
              <a:chOff x="16973280" y="8255160"/>
              <a:chExt cx="2011680" cy="1727280"/>
            </a:xfrm>
          </p:grpSpPr>
          <p:sp>
            <p:nvSpPr>
              <p:cNvPr id="186" name="12-Point Star 261"/>
              <p:cNvSpPr/>
              <p:nvPr/>
            </p:nvSpPr>
            <p:spPr>
              <a:xfrm>
                <a:off x="16973280" y="8255160"/>
                <a:ext cx="2011680" cy="1727280"/>
              </a:xfrm>
              <a:custGeom>
                <a:avLst/>
                <a:gdLst>
                  <a:gd name="textAreaLeft" fmla="*/ 472320 w 2011680"/>
                  <a:gd name="textAreaRight" fmla="*/ 1539360 w 2011680"/>
                  <a:gd name="textAreaTop" fmla="*/ 405360 h 1727280"/>
                  <a:gd name="textAreaBottom" fmla="*/ 1321920 h 1727280"/>
                </a:gdLst>
                <a:ahLst/>
                <a:rect l="textAreaLeft" t="textAreaTop" r="textAreaRight" b="textAreaBottom"/>
                <a:pathLst>
                  <a:path w="2011449" h="1737006">
                    <a:moveTo>
                      <a:pt x="0" y="868503"/>
                    </a:moveTo>
                    <a:lnTo>
                      <a:pt x="277133" y="699914"/>
                    </a:lnTo>
                    <a:lnTo>
                      <a:pt x="134742" y="434252"/>
                    </a:lnTo>
                    <a:lnTo>
                      <a:pt x="472359" y="407910"/>
                    </a:lnTo>
                    <a:lnTo>
                      <a:pt x="502862" y="116357"/>
                    </a:lnTo>
                    <a:lnTo>
                      <a:pt x="810499" y="239321"/>
                    </a:lnTo>
                    <a:lnTo>
                      <a:pt x="1005725" y="0"/>
                    </a:lnTo>
                    <a:lnTo>
                      <a:pt x="1200950" y="239321"/>
                    </a:lnTo>
                    <a:lnTo>
                      <a:pt x="1508587" y="116357"/>
                    </a:lnTo>
                    <a:lnTo>
                      <a:pt x="1539090" y="407910"/>
                    </a:lnTo>
                    <a:lnTo>
                      <a:pt x="1876707" y="434252"/>
                    </a:lnTo>
                    <a:lnTo>
                      <a:pt x="1734316" y="699914"/>
                    </a:lnTo>
                    <a:lnTo>
                      <a:pt x="2011449" y="868503"/>
                    </a:lnTo>
                    <a:lnTo>
                      <a:pt x="1734316" y="1037092"/>
                    </a:lnTo>
                    <a:lnTo>
                      <a:pt x="1876707" y="1302754"/>
                    </a:lnTo>
                    <a:lnTo>
                      <a:pt x="1539090" y="1329096"/>
                    </a:lnTo>
                    <a:lnTo>
                      <a:pt x="1508587" y="1620649"/>
                    </a:lnTo>
                    <a:lnTo>
                      <a:pt x="1200950" y="1497685"/>
                    </a:lnTo>
                    <a:lnTo>
                      <a:pt x="1005725" y="1737006"/>
                    </a:lnTo>
                    <a:lnTo>
                      <a:pt x="810499" y="1497685"/>
                    </a:lnTo>
                    <a:lnTo>
                      <a:pt x="502862" y="1620649"/>
                    </a:lnTo>
                    <a:lnTo>
                      <a:pt x="472359" y="1329096"/>
                    </a:lnTo>
                    <a:lnTo>
                      <a:pt x="134742" y="1302754"/>
                    </a:lnTo>
                    <a:lnTo>
                      <a:pt x="277133" y="10370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0000"/>
                  </a:gs>
                  <a:gs pos="100000">
                    <a:srgbClr val="ffdada"/>
                  </a:gs>
                </a:gsLst>
                <a:lin ang="162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262"/>
              <p:cNvSpPr/>
              <p:nvPr/>
            </p:nvSpPr>
            <p:spPr>
              <a:xfrm>
                <a:off x="17144640" y="8743680"/>
                <a:ext cx="1612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L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RTL Bu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63"/>
            <p:cNvGrpSpPr/>
            <p:nvPr/>
          </p:nvGrpSpPr>
          <p:grpSpPr>
            <a:xfrm>
              <a:off x="21774240" y="8312040"/>
              <a:ext cx="2011680" cy="1727280"/>
              <a:chOff x="21774240" y="8312040"/>
              <a:chExt cx="2011680" cy="1727280"/>
            </a:xfrm>
          </p:grpSpPr>
          <p:sp>
            <p:nvSpPr>
              <p:cNvPr id="189" name="12-Point Star 264"/>
              <p:cNvSpPr/>
              <p:nvPr/>
            </p:nvSpPr>
            <p:spPr>
              <a:xfrm>
                <a:off x="21774240" y="8312040"/>
                <a:ext cx="2011680" cy="1727280"/>
              </a:xfrm>
              <a:custGeom>
                <a:avLst/>
                <a:gdLst>
                  <a:gd name="textAreaLeft" fmla="*/ 472320 w 2011680"/>
                  <a:gd name="textAreaRight" fmla="*/ 1539360 w 2011680"/>
                  <a:gd name="textAreaTop" fmla="*/ 405360 h 1727280"/>
                  <a:gd name="textAreaBottom" fmla="*/ 1321920 h 1727280"/>
                </a:gdLst>
                <a:ahLst/>
                <a:rect l="textAreaLeft" t="textAreaTop" r="textAreaRight" b="textAreaBottom"/>
                <a:pathLst>
                  <a:path w="2011449" h="1737006">
                    <a:moveTo>
                      <a:pt x="0" y="868503"/>
                    </a:moveTo>
                    <a:lnTo>
                      <a:pt x="277133" y="699914"/>
                    </a:lnTo>
                    <a:lnTo>
                      <a:pt x="134742" y="434252"/>
                    </a:lnTo>
                    <a:lnTo>
                      <a:pt x="472359" y="407910"/>
                    </a:lnTo>
                    <a:lnTo>
                      <a:pt x="502862" y="116357"/>
                    </a:lnTo>
                    <a:lnTo>
                      <a:pt x="810499" y="239321"/>
                    </a:lnTo>
                    <a:lnTo>
                      <a:pt x="1005725" y="0"/>
                    </a:lnTo>
                    <a:lnTo>
                      <a:pt x="1200950" y="239321"/>
                    </a:lnTo>
                    <a:lnTo>
                      <a:pt x="1508587" y="116357"/>
                    </a:lnTo>
                    <a:lnTo>
                      <a:pt x="1539090" y="407910"/>
                    </a:lnTo>
                    <a:lnTo>
                      <a:pt x="1876707" y="434252"/>
                    </a:lnTo>
                    <a:lnTo>
                      <a:pt x="1734316" y="699914"/>
                    </a:lnTo>
                    <a:lnTo>
                      <a:pt x="2011449" y="868503"/>
                    </a:lnTo>
                    <a:lnTo>
                      <a:pt x="1734316" y="1037092"/>
                    </a:lnTo>
                    <a:lnTo>
                      <a:pt x="1876707" y="1302754"/>
                    </a:lnTo>
                    <a:lnTo>
                      <a:pt x="1539090" y="1329096"/>
                    </a:lnTo>
                    <a:lnTo>
                      <a:pt x="1508587" y="1620649"/>
                    </a:lnTo>
                    <a:lnTo>
                      <a:pt x="1200950" y="1497685"/>
                    </a:lnTo>
                    <a:lnTo>
                      <a:pt x="1005725" y="1737006"/>
                    </a:lnTo>
                    <a:lnTo>
                      <a:pt x="810499" y="1497685"/>
                    </a:lnTo>
                    <a:lnTo>
                      <a:pt x="502862" y="1620649"/>
                    </a:lnTo>
                    <a:lnTo>
                      <a:pt x="472359" y="1329096"/>
                    </a:lnTo>
                    <a:lnTo>
                      <a:pt x="134742" y="1302754"/>
                    </a:lnTo>
                    <a:lnTo>
                      <a:pt x="277133" y="10370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0000"/>
                  </a:gs>
                  <a:gs pos="100000">
                    <a:srgbClr val="ffdada"/>
                  </a:gs>
                </a:gsLst>
                <a:lin ang="162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Box 265"/>
              <p:cNvSpPr/>
              <p:nvPr/>
            </p:nvSpPr>
            <p:spPr>
              <a:xfrm>
                <a:off x="21945240" y="8662320"/>
                <a:ext cx="16120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Chan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Full Ch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266"/>
            <p:cNvGrpSpPr/>
            <p:nvPr/>
          </p:nvGrpSpPr>
          <p:grpSpPr>
            <a:xfrm>
              <a:off x="22040640" y="4197600"/>
              <a:ext cx="2011680" cy="1727280"/>
              <a:chOff x="22040640" y="4197600"/>
              <a:chExt cx="2011680" cy="1727280"/>
            </a:xfrm>
          </p:grpSpPr>
          <p:sp>
            <p:nvSpPr>
              <p:cNvPr id="192" name="12-Point Star 267"/>
              <p:cNvSpPr/>
              <p:nvPr/>
            </p:nvSpPr>
            <p:spPr>
              <a:xfrm>
                <a:off x="22040640" y="4197600"/>
                <a:ext cx="2011680" cy="1727280"/>
              </a:xfrm>
              <a:custGeom>
                <a:avLst/>
                <a:gdLst>
                  <a:gd name="textAreaLeft" fmla="*/ 472320 w 2011680"/>
                  <a:gd name="textAreaRight" fmla="*/ 1539360 w 2011680"/>
                  <a:gd name="textAreaTop" fmla="*/ 405360 h 1727280"/>
                  <a:gd name="textAreaBottom" fmla="*/ 1321920 h 1727280"/>
                </a:gdLst>
                <a:ahLst/>
                <a:rect l="textAreaLeft" t="textAreaTop" r="textAreaRight" b="textAreaBottom"/>
                <a:pathLst>
                  <a:path w="2011449" h="1737006">
                    <a:moveTo>
                      <a:pt x="0" y="868503"/>
                    </a:moveTo>
                    <a:lnTo>
                      <a:pt x="277133" y="699914"/>
                    </a:lnTo>
                    <a:lnTo>
                      <a:pt x="134742" y="434252"/>
                    </a:lnTo>
                    <a:lnTo>
                      <a:pt x="472359" y="407910"/>
                    </a:lnTo>
                    <a:lnTo>
                      <a:pt x="502862" y="116357"/>
                    </a:lnTo>
                    <a:lnTo>
                      <a:pt x="810499" y="239321"/>
                    </a:lnTo>
                    <a:lnTo>
                      <a:pt x="1005725" y="0"/>
                    </a:lnTo>
                    <a:lnTo>
                      <a:pt x="1200950" y="239321"/>
                    </a:lnTo>
                    <a:lnTo>
                      <a:pt x="1508587" y="116357"/>
                    </a:lnTo>
                    <a:lnTo>
                      <a:pt x="1539090" y="407910"/>
                    </a:lnTo>
                    <a:lnTo>
                      <a:pt x="1876707" y="434252"/>
                    </a:lnTo>
                    <a:lnTo>
                      <a:pt x="1734316" y="699914"/>
                    </a:lnTo>
                    <a:lnTo>
                      <a:pt x="2011449" y="868503"/>
                    </a:lnTo>
                    <a:lnTo>
                      <a:pt x="1734316" y="1037092"/>
                    </a:lnTo>
                    <a:lnTo>
                      <a:pt x="1876707" y="1302754"/>
                    </a:lnTo>
                    <a:lnTo>
                      <a:pt x="1539090" y="1329096"/>
                    </a:lnTo>
                    <a:lnTo>
                      <a:pt x="1508587" y="1620649"/>
                    </a:lnTo>
                    <a:lnTo>
                      <a:pt x="1200950" y="1497685"/>
                    </a:lnTo>
                    <a:lnTo>
                      <a:pt x="1005725" y="1737006"/>
                    </a:lnTo>
                    <a:lnTo>
                      <a:pt x="810499" y="1497685"/>
                    </a:lnTo>
                    <a:lnTo>
                      <a:pt x="502862" y="1620649"/>
                    </a:lnTo>
                    <a:lnTo>
                      <a:pt x="472359" y="1329096"/>
                    </a:lnTo>
                    <a:lnTo>
                      <a:pt x="134742" y="1302754"/>
                    </a:lnTo>
                    <a:lnTo>
                      <a:pt x="277133" y="10370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0000"/>
                  </a:gs>
                  <a:gs pos="100000">
                    <a:srgbClr val="ffdada"/>
                  </a:gs>
                </a:gsLst>
                <a:lin ang="162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268"/>
              <p:cNvSpPr/>
              <p:nvPr/>
            </p:nvSpPr>
            <p:spPr>
              <a:xfrm>
                <a:off x="22211640" y="4434120"/>
                <a:ext cx="16120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Delt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Pow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Targ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69"/>
            <p:cNvGrpSpPr/>
            <p:nvPr/>
          </p:nvGrpSpPr>
          <p:grpSpPr>
            <a:xfrm>
              <a:off x="16668720" y="4182480"/>
              <a:ext cx="2011680" cy="1727280"/>
              <a:chOff x="16668720" y="4182480"/>
              <a:chExt cx="2011680" cy="1727280"/>
            </a:xfrm>
          </p:grpSpPr>
          <p:sp>
            <p:nvSpPr>
              <p:cNvPr id="195" name="12-Point Star 270"/>
              <p:cNvSpPr/>
              <p:nvPr/>
            </p:nvSpPr>
            <p:spPr>
              <a:xfrm>
                <a:off x="16668720" y="4182480"/>
                <a:ext cx="2011680" cy="1727280"/>
              </a:xfrm>
              <a:custGeom>
                <a:avLst/>
                <a:gdLst>
                  <a:gd name="textAreaLeft" fmla="*/ 472320 w 2011680"/>
                  <a:gd name="textAreaRight" fmla="*/ 1539360 w 2011680"/>
                  <a:gd name="textAreaTop" fmla="*/ 405360 h 1727280"/>
                  <a:gd name="textAreaBottom" fmla="*/ 1321920 h 1727280"/>
                </a:gdLst>
                <a:ahLst/>
                <a:rect l="textAreaLeft" t="textAreaTop" r="textAreaRight" b="textAreaBottom"/>
                <a:pathLst>
                  <a:path w="2011449" h="1737006">
                    <a:moveTo>
                      <a:pt x="0" y="868503"/>
                    </a:moveTo>
                    <a:lnTo>
                      <a:pt x="277133" y="699914"/>
                    </a:lnTo>
                    <a:lnTo>
                      <a:pt x="134742" y="434252"/>
                    </a:lnTo>
                    <a:lnTo>
                      <a:pt x="472359" y="407910"/>
                    </a:lnTo>
                    <a:lnTo>
                      <a:pt x="502862" y="116357"/>
                    </a:lnTo>
                    <a:lnTo>
                      <a:pt x="810499" y="239321"/>
                    </a:lnTo>
                    <a:lnTo>
                      <a:pt x="1005725" y="0"/>
                    </a:lnTo>
                    <a:lnTo>
                      <a:pt x="1200950" y="239321"/>
                    </a:lnTo>
                    <a:lnTo>
                      <a:pt x="1508587" y="116357"/>
                    </a:lnTo>
                    <a:lnTo>
                      <a:pt x="1539090" y="407910"/>
                    </a:lnTo>
                    <a:lnTo>
                      <a:pt x="1876707" y="434252"/>
                    </a:lnTo>
                    <a:lnTo>
                      <a:pt x="1734316" y="699914"/>
                    </a:lnTo>
                    <a:lnTo>
                      <a:pt x="2011449" y="868503"/>
                    </a:lnTo>
                    <a:lnTo>
                      <a:pt x="1734316" y="1037092"/>
                    </a:lnTo>
                    <a:lnTo>
                      <a:pt x="1876707" y="1302754"/>
                    </a:lnTo>
                    <a:lnTo>
                      <a:pt x="1539090" y="1329096"/>
                    </a:lnTo>
                    <a:lnTo>
                      <a:pt x="1508587" y="1620649"/>
                    </a:lnTo>
                    <a:lnTo>
                      <a:pt x="1200950" y="1497685"/>
                    </a:lnTo>
                    <a:lnTo>
                      <a:pt x="1005725" y="1737006"/>
                    </a:lnTo>
                    <a:lnTo>
                      <a:pt x="810499" y="1497685"/>
                    </a:lnTo>
                    <a:lnTo>
                      <a:pt x="502862" y="1620649"/>
                    </a:lnTo>
                    <a:lnTo>
                      <a:pt x="472359" y="1329096"/>
                    </a:lnTo>
                    <a:lnTo>
                      <a:pt x="134742" y="1302754"/>
                    </a:lnTo>
                    <a:lnTo>
                      <a:pt x="277133" y="10370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0000"/>
                  </a:gs>
                  <a:gs pos="100000">
                    <a:srgbClr val="ffdada"/>
                  </a:gs>
                </a:gsLst>
                <a:lin ang="162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271"/>
              <p:cNvSpPr/>
              <p:nvPr/>
            </p:nvSpPr>
            <p:spPr>
              <a:xfrm>
                <a:off x="16840080" y="4419720"/>
                <a:ext cx="16120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Mi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Clock Qual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Down Arrow 272"/>
            <p:cNvGrpSpPr/>
            <p:nvPr/>
          </p:nvGrpSpPr>
          <p:grpSpPr>
            <a:xfrm>
              <a:off x="22110480" y="5499720"/>
              <a:ext cx="432720" cy="502920"/>
              <a:chOff x="22110480" y="5499720"/>
              <a:chExt cx="432720" cy="502920"/>
            </a:xfrm>
          </p:grpSpPr>
          <p:pic>
            <p:nvPicPr>
              <p:cNvPr id="198" name="Down Arrow 272" descr=""/>
              <p:cNvPicPr/>
              <p:nvPr/>
            </p:nvPicPr>
            <p:blipFill>
              <a:blip r:embed="rId30"/>
              <a:stretch/>
            </p:blipFill>
            <p:spPr>
              <a:xfrm>
                <a:off x="22110480" y="5499720"/>
                <a:ext cx="432720" cy="5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3349800">
                <a:off x="22197960" y="5588640"/>
                <a:ext cx="2649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Down Arrow 273"/>
            <p:cNvGrpSpPr/>
            <p:nvPr/>
          </p:nvGrpSpPr>
          <p:grpSpPr>
            <a:xfrm>
              <a:off x="18232920" y="5487840"/>
              <a:ext cx="438840" cy="527400"/>
              <a:chOff x="18232920" y="5487840"/>
              <a:chExt cx="438840" cy="527400"/>
            </a:xfrm>
          </p:grpSpPr>
          <p:pic>
            <p:nvPicPr>
              <p:cNvPr id="201" name="Down Arrow 273" descr=""/>
              <p:cNvPicPr/>
              <p:nvPr/>
            </p:nvPicPr>
            <p:blipFill>
              <a:blip r:embed="rId31"/>
              <a:stretch/>
            </p:blipFill>
            <p:spPr>
              <a:xfrm>
                <a:off x="18232920" y="5487840"/>
                <a:ext cx="438840" cy="52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17941800">
                <a:off x="18313920" y="5590080"/>
                <a:ext cx="26532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TextBox 275"/>
          <p:cNvSpPr/>
          <p:nvPr/>
        </p:nvSpPr>
        <p:spPr>
          <a:xfrm>
            <a:off x="17068680" y="10206000"/>
            <a:ext cx="6477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784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Verdana"/>
              </a:rPr>
              <a:t>Overall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17"/>
          <p:cNvGrpSpPr/>
          <p:nvPr/>
        </p:nvGrpSpPr>
        <p:grpSpPr>
          <a:xfrm>
            <a:off x="25750800" y="3962520"/>
            <a:ext cx="6858000" cy="6765840"/>
            <a:chOff x="25750800" y="3962520"/>
            <a:chExt cx="6858000" cy="6765840"/>
          </a:xfrm>
        </p:grpSpPr>
        <p:grpSp>
          <p:nvGrpSpPr>
            <p:cNvPr id="205" name="Chevron 357"/>
            <p:cNvGrpSpPr/>
            <p:nvPr/>
          </p:nvGrpSpPr>
          <p:grpSpPr>
            <a:xfrm>
              <a:off x="27035640" y="6559200"/>
              <a:ext cx="1962720" cy="1968840"/>
              <a:chOff x="27035640" y="6559200"/>
              <a:chExt cx="1962720" cy="1968840"/>
            </a:xfrm>
          </p:grpSpPr>
          <p:pic>
            <p:nvPicPr>
              <p:cNvPr id="206" name="Chevron 357" descr=""/>
              <p:cNvPicPr/>
              <p:nvPr/>
            </p:nvPicPr>
            <p:blipFill>
              <a:blip r:embed="rId32"/>
              <a:stretch/>
            </p:blipFill>
            <p:spPr>
              <a:xfrm>
                <a:off x="27035640" y="6559200"/>
                <a:ext cx="1962720" cy="196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5400000">
                <a:off x="27659160" y="6588360"/>
                <a:ext cx="725400" cy="19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Flowchart: Magnetic Disk 358"/>
            <p:cNvSpPr/>
            <p:nvPr/>
          </p:nvSpPr>
          <p:spPr>
            <a:xfrm>
              <a:off x="25918920" y="4379760"/>
              <a:ext cx="1554120" cy="109692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Rounded Rectangle 359"/>
            <p:cNvGrpSpPr/>
            <p:nvPr/>
          </p:nvGrpSpPr>
          <p:grpSpPr>
            <a:xfrm>
              <a:off x="25968600" y="5724000"/>
              <a:ext cx="1505520" cy="774000"/>
              <a:chOff x="25968600" y="5724000"/>
              <a:chExt cx="1505520" cy="774000"/>
            </a:xfrm>
          </p:grpSpPr>
          <p:pic>
            <p:nvPicPr>
              <p:cNvPr id="210" name="Rounded Rectangle 359" descr=""/>
              <p:cNvPicPr/>
              <p:nvPr/>
            </p:nvPicPr>
            <p:blipFill>
              <a:blip r:embed="rId33"/>
              <a:stretch/>
            </p:blipFill>
            <p:spPr>
              <a:xfrm>
                <a:off x="25968600" y="5724000"/>
                <a:ext cx="150552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6030520" y="5786280"/>
                <a:ext cx="1391760" cy="6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Dump Netli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Cloud 360"/>
            <p:cNvGrpSpPr/>
            <p:nvPr/>
          </p:nvGrpSpPr>
          <p:grpSpPr>
            <a:xfrm>
              <a:off x="28639080" y="4736520"/>
              <a:ext cx="1322640" cy="956880"/>
              <a:chOff x="28639080" y="4736520"/>
              <a:chExt cx="1322640" cy="956880"/>
            </a:xfrm>
          </p:grpSpPr>
          <p:pic>
            <p:nvPicPr>
              <p:cNvPr id="213" name="Cloud 360" descr=""/>
              <p:cNvPicPr/>
              <p:nvPr/>
            </p:nvPicPr>
            <p:blipFill>
              <a:blip r:embed="rId34"/>
              <a:stretch/>
            </p:blipFill>
            <p:spPr>
              <a:xfrm>
                <a:off x="28639080" y="4736520"/>
                <a:ext cx="1322640" cy="95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28838880" y="4898160"/>
                <a:ext cx="836280" cy="5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Ne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RT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Rounded Rectangle 361"/>
            <p:cNvGrpSpPr/>
            <p:nvPr/>
          </p:nvGrpSpPr>
          <p:grpSpPr>
            <a:xfrm>
              <a:off x="28486440" y="5876640"/>
              <a:ext cx="1779840" cy="591120"/>
              <a:chOff x="28486440" y="5876640"/>
              <a:chExt cx="1779840" cy="591120"/>
            </a:xfrm>
          </p:grpSpPr>
          <p:pic>
            <p:nvPicPr>
              <p:cNvPr id="216" name="Rounded Rectangle 361" descr=""/>
              <p:cNvPicPr/>
              <p:nvPr/>
            </p:nvPicPr>
            <p:blipFill>
              <a:blip r:embed="rId35"/>
              <a:stretch/>
            </p:blipFill>
            <p:spPr>
              <a:xfrm>
                <a:off x="28486440" y="5876640"/>
                <a:ext cx="1779840" cy="5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28536480" y="5929920"/>
                <a:ext cx="168372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ynthes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Rounded Rectangle 362"/>
            <p:cNvGrpSpPr/>
            <p:nvPr/>
          </p:nvGrpSpPr>
          <p:grpSpPr>
            <a:xfrm>
              <a:off x="26809920" y="8619840"/>
              <a:ext cx="2419920" cy="774000"/>
              <a:chOff x="26809920" y="8619840"/>
              <a:chExt cx="2419920" cy="774000"/>
            </a:xfrm>
          </p:grpSpPr>
          <p:pic>
            <p:nvPicPr>
              <p:cNvPr id="219" name="Rounded Rectangle 362" descr=""/>
              <p:cNvPicPr/>
              <p:nvPr/>
            </p:nvPicPr>
            <p:blipFill>
              <a:blip r:embed="rId36"/>
              <a:stretch/>
            </p:blipFill>
            <p:spPr>
              <a:xfrm>
                <a:off x="26809920" y="8619840"/>
                <a:ext cx="241992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26868960" y="8681760"/>
                <a:ext cx="2306160" cy="6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Con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Optim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Rounded Rectangle 363"/>
            <p:cNvGrpSpPr/>
            <p:nvPr/>
          </p:nvGrpSpPr>
          <p:grpSpPr>
            <a:xfrm>
              <a:off x="26822160" y="9534240"/>
              <a:ext cx="2419920" cy="774000"/>
              <a:chOff x="26822160" y="9534240"/>
              <a:chExt cx="2419920" cy="774000"/>
            </a:xfrm>
          </p:grpSpPr>
          <p:pic>
            <p:nvPicPr>
              <p:cNvPr id="222" name="Rounded Rectangle 363" descr=""/>
              <p:cNvPicPr/>
              <p:nvPr/>
            </p:nvPicPr>
            <p:blipFill>
              <a:blip r:embed="rId37"/>
              <a:stretch/>
            </p:blipFill>
            <p:spPr>
              <a:xfrm>
                <a:off x="26822160" y="9534240"/>
                <a:ext cx="241992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26884080" y="9596160"/>
                <a:ext cx="2306160" cy="6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Compare Netli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Box 364"/>
            <p:cNvSpPr/>
            <p:nvPr/>
          </p:nvSpPr>
          <p:spPr>
            <a:xfrm>
              <a:off x="26380440" y="7198560"/>
              <a:ext cx="320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Boolea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omparis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Rounded Rectangle 365"/>
            <p:cNvGrpSpPr/>
            <p:nvPr/>
          </p:nvGrpSpPr>
          <p:grpSpPr>
            <a:xfrm>
              <a:off x="29413080" y="9485640"/>
              <a:ext cx="1231200" cy="774000"/>
              <a:chOff x="29413080" y="9485640"/>
              <a:chExt cx="1231200" cy="774000"/>
            </a:xfrm>
          </p:grpSpPr>
          <p:pic>
            <p:nvPicPr>
              <p:cNvPr id="226" name="Rounded Rectangle 365" descr=""/>
              <p:cNvPicPr/>
              <p:nvPr/>
            </p:nvPicPr>
            <p:blipFill>
              <a:blip r:embed="rId38"/>
              <a:stretch/>
            </p:blipFill>
            <p:spPr>
              <a:xfrm>
                <a:off x="29413080" y="9485640"/>
                <a:ext cx="123120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29471760" y="9548280"/>
                <a:ext cx="1117440" cy="6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Appl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EC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Flowchart: Magnetic Disk 366"/>
            <p:cNvSpPr/>
            <p:nvPr/>
          </p:nvSpPr>
          <p:spPr>
            <a:xfrm>
              <a:off x="30841920" y="9225000"/>
              <a:ext cx="1554120" cy="109692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ounded Rectangle 379"/>
            <p:cNvSpPr/>
            <p:nvPr/>
          </p:nvSpPr>
          <p:spPr>
            <a:xfrm>
              <a:off x="25750800" y="3962520"/>
              <a:ext cx="6858000" cy="6765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8"/>
          <p:cNvGrpSpPr/>
          <p:nvPr/>
        </p:nvGrpSpPr>
        <p:grpSpPr>
          <a:xfrm>
            <a:off x="17648280" y="13792320"/>
            <a:ext cx="5668920" cy="4297320"/>
            <a:chOff x="17648280" y="13792320"/>
            <a:chExt cx="5668920" cy="4297320"/>
          </a:xfrm>
        </p:grpSpPr>
        <p:sp>
          <p:nvSpPr>
            <p:cNvPr id="231" name="Rounded Rectangle 368"/>
            <p:cNvSpPr/>
            <p:nvPr/>
          </p:nvSpPr>
          <p:spPr>
            <a:xfrm>
              <a:off x="17648280" y="13792320"/>
              <a:ext cx="5668920" cy="429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Chevron 369"/>
            <p:cNvGrpSpPr/>
            <p:nvPr/>
          </p:nvGrpSpPr>
          <p:grpSpPr>
            <a:xfrm>
              <a:off x="19202400" y="15093720"/>
              <a:ext cx="1962720" cy="1968840"/>
              <a:chOff x="19202400" y="15093720"/>
              <a:chExt cx="1962720" cy="1968840"/>
            </a:xfrm>
          </p:grpSpPr>
          <p:pic>
            <p:nvPicPr>
              <p:cNvPr id="233" name="Chevron 369" descr=""/>
              <p:cNvPicPr/>
              <p:nvPr/>
            </p:nvPicPr>
            <p:blipFill>
              <a:blip r:embed="rId39"/>
              <a:stretch/>
            </p:blipFill>
            <p:spPr>
              <a:xfrm>
                <a:off x="19202400" y="15093720"/>
                <a:ext cx="1962720" cy="196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 rot="5400000">
                <a:off x="19821240" y="15123240"/>
                <a:ext cx="725400" cy="19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3762360"/>
                    <a:tab algn="l" pos="752472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Flowchart: Magnetic Disk 371"/>
            <p:cNvSpPr/>
            <p:nvPr/>
          </p:nvSpPr>
          <p:spPr>
            <a:xfrm>
              <a:off x="20515320" y="13952520"/>
              <a:ext cx="1554120" cy="109692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Cloud 372"/>
            <p:cNvGrpSpPr/>
            <p:nvPr/>
          </p:nvGrpSpPr>
          <p:grpSpPr>
            <a:xfrm>
              <a:off x="17672040" y="13874400"/>
              <a:ext cx="2334600" cy="1414080"/>
              <a:chOff x="17672040" y="13874400"/>
              <a:chExt cx="2334600" cy="1414080"/>
            </a:xfrm>
          </p:grpSpPr>
          <p:pic>
            <p:nvPicPr>
              <p:cNvPr id="237" name="Cloud 372" descr=""/>
              <p:cNvPicPr/>
              <p:nvPr/>
            </p:nvPicPr>
            <p:blipFill>
              <a:blip r:embed="rId40"/>
              <a:stretch/>
            </p:blipFill>
            <p:spPr>
              <a:xfrm>
                <a:off x="17672040" y="13874400"/>
                <a:ext cx="2334600" cy="14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8015120" y="14103360"/>
                <a:ext cx="1493280" cy="89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Ne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FC FP Collater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Box 373"/>
            <p:cNvSpPr/>
            <p:nvPr/>
          </p:nvSpPr>
          <p:spPr>
            <a:xfrm>
              <a:off x="18546480" y="15733080"/>
              <a:ext cx="320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omparis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Rounded Rectangle 374"/>
            <p:cNvGrpSpPr/>
            <p:nvPr/>
          </p:nvGrpSpPr>
          <p:grpSpPr>
            <a:xfrm>
              <a:off x="18897480" y="17050680"/>
              <a:ext cx="2419920" cy="774000"/>
              <a:chOff x="18897480" y="17050680"/>
              <a:chExt cx="2419920" cy="774000"/>
            </a:xfrm>
          </p:grpSpPr>
          <p:pic>
            <p:nvPicPr>
              <p:cNvPr id="241" name="Rounded Rectangle 374" descr=""/>
              <p:cNvPicPr/>
              <p:nvPr/>
            </p:nvPicPr>
            <p:blipFill>
              <a:blip r:embed="rId41"/>
              <a:stretch/>
            </p:blipFill>
            <p:spPr>
              <a:xfrm>
                <a:off x="18897480" y="17050680"/>
                <a:ext cx="241992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18955080" y="17112240"/>
                <a:ext cx="2305800" cy="6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Recre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Objec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Flowchart: Magnetic Disk 377"/>
            <p:cNvSpPr/>
            <p:nvPr/>
          </p:nvSpPr>
          <p:spPr>
            <a:xfrm>
              <a:off x="21587040" y="16848360"/>
              <a:ext cx="1554120" cy="109692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87"/>
          <p:cNvGrpSpPr/>
          <p:nvPr/>
        </p:nvGrpSpPr>
        <p:grpSpPr>
          <a:xfrm>
            <a:off x="16595640" y="20373840"/>
            <a:ext cx="7864560" cy="1279800"/>
            <a:chOff x="16595640" y="20373840"/>
            <a:chExt cx="7864560" cy="1279800"/>
          </a:xfrm>
        </p:grpSpPr>
        <p:sp>
          <p:nvSpPr>
            <p:cNvPr id="245" name="Flowchart: Magnetic Disk 381"/>
            <p:cNvSpPr/>
            <p:nvPr/>
          </p:nvSpPr>
          <p:spPr>
            <a:xfrm>
              <a:off x="16795440" y="20459520"/>
              <a:ext cx="1555560" cy="109584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Rounded Rectangle 382"/>
            <p:cNvGrpSpPr/>
            <p:nvPr/>
          </p:nvGrpSpPr>
          <p:grpSpPr>
            <a:xfrm>
              <a:off x="18598680" y="20585880"/>
              <a:ext cx="2054160" cy="774360"/>
              <a:chOff x="18598680" y="20585880"/>
              <a:chExt cx="2054160" cy="774360"/>
            </a:xfrm>
          </p:grpSpPr>
          <p:pic>
            <p:nvPicPr>
              <p:cNvPr id="247" name="Rounded Rectangle 382" descr=""/>
              <p:cNvPicPr/>
              <p:nvPr/>
            </p:nvPicPr>
            <p:blipFill>
              <a:blip r:embed="rId42"/>
              <a:stretch/>
            </p:blipFill>
            <p:spPr>
              <a:xfrm>
                <a:off x="18598680" y="20585880"/>
                <a:ext cx="2054160" cy="7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18660600" y="20646360"/>
                <a:ext cx="1940400" cy="6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LR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Downsiz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Rounded Rectangle 383"/>
            <p:cNvGrpSpPr/>
            <p:nvPr/>
          </p:nvGrpSpPr>
          <p:grpSpPr>
            <a:xfrm>
              <a:off x="20781360" y="20585880"/>
              <a:ext cx="1779840" cy="774360"/>
              <a:chOff x="20781360" y="20585880"/>
              <a:chExt cx="1779840" cy="774360"/>
            </a:xfrm>
          </p:grpSpPr>
          <p:pic>
            <p:nvPicPr>
              <p:cNvPr id="250" name="Rounded Rectangle 383" descr=""/>
              <p:cNvPicPr/>
              <p:nvPr/>
            </p:nvPicPr>
            <p:blipFill>
              <a:blip r:embed="rId43"/>
              <a:stretch/>
            </p:blipFill>
            <p:spPr>
              <a:xfrm>
                <a:off x="20781360" y="20585880"/>
                <a:ext cx="1779840" cy="7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0842560" y="20646360"/>
                <a:ext cx="1666080" cy="6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Cloc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Heal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ounded Rectangle 384"/>
            <p:cNvSpPr/>
            <p:nvPr/>
          </p:nvSpPr>
          <p:spPr>
            <a:xfrm>
              <a:off x="16595640" y="20373840"/>
              <a:ext cx="7864560" cy="1279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lowchart: Magnetic Disk 385"/>
            <p:cNvSpPr/>
            <p:nvPr/>
          </p:nvSpPr>
          <p:spPr>
            <a:xfrm>
              <a:off x="22636080" y="20459520"/>
              <a:ext cx="1554120" cy="109584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89"/>
          <p:cNvGrpSpPr/>
          <p:nvPr/>
        </p:nvGrpSpPr>
        <p:grpSpPr>
          <a:xfrm>
            <a:off x="24833160" y="13897080"/>
            <a:ext cx="7864560" cy="1461960"/>
            <a:chOff x="24833160" y="13897080"/>
            <a:chExt cx="7864560" cy="1461960"/>
          </a:xfrm>
        </p:grpSpPr>
        <p:sp>
          <p:nvSpPr>
            <p:cNvPr id="255" name="Flowchart: Magnetic Disk 390"/>
            <p:cNvSpPr/>
            <p:nvPr/>
          </p:nvSpPr>
          <p:spPr>
            <a:xfrm>
              <a:off x="24980760" y="14165280"/>
              <a:ext cx="1555560" cy="109692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Rounded Rectangle 391"/>
            <p:cNvGrpSpPr/>
            <p:nvPr/>
          </p:nvGrpSpPr>
          <p:grpSpPr>
            <a:xfrm>
              <a:off x="26669880" y="14295240"/>
              <a:ext cx="1993320" cy="774000"/>
              <a:chOff x="26669880" y="14295240"/>
              <a:chExt cx="1993320" cy="774000"/>
            </a:xfrm>
          </p:grpSpPr>
          <p:pic>
            <p:nvPicPr>
              <p:cNvPr id="257" name="Rounded Rectangle 391" descr=""/>
              <p:cNvPicPr/>
              <p:nvPr/>
            </p:nvPicPr>
            <p:blipFill>
              <a:blip r:embed="rId44"/>
              <a:stretch/>
            </p:blipFill>
            <p:spPr>
              <a:xfrm>
                <a:off x="26669880" y="14295240"/>
                <a:ext cx="199332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26729640" y="14353560"/>
                <a:ext cx="18820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Cell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Rebal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Rounded Rectangle 392"/>
            <p:cNvGrpSpPr/>
            <p:nvPr/>
          </p:nvGrpSpPr>
          <p:grpSpPr>
            <a:xfrm>
              <a:off x="28785240" y="14295240"/>
              <a:ext cx="2090880" cy="774000"/>
              <a:chOff x="28785240" y="14295240"/>
              <a:chExt cx="2090880" cy="774000"/>
            </a:xfrm>
          </p:grpSpPr>
          <p:pic>
            <p:nvPicPr>
              <p:cNvPr id="260" name="Rounded Rectangle 392" descr=""/>
              <p:cNvPicPr/>
              <p:nvPr/>
            </p:nvPicPr>
            <p:blipFill>
              <a:blip r:embed="rId45"/>
              <a:stretch/>
            </p:blipFill>
            <p:spPr>
              <a:xfrm>
                <a:off x="28785240" y="14295240"/>
                <a:ext cx="209088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8847520" y="14353560"/>
                <a:ext cx="197352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Regener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Rou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Rounded Rectangle 393"/>
            <p:cNvSpPr/>
            <p:nvPr/>
          </p:nvSpPr>
          <p:spPr>
            <a:xfrm>
              <a:off x="24833160" y="13897080"/>
              <a:ext cx="7864560" cy="1461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lowchart: Magnetic Disk 394"/>
            <p:cNvSpPr/>
            <p:nvPr/>
          </p:nvSpPr>
          <p:spPr>
            <a:xfrm>
              <a:off x="30975480" y="14093640"/>
              <a:ext cx="1554120" cy="109548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3"/>
          <p:cNvGrpSpPr/>
          <p:nvPr/>
        </p:nvGrpSpPr>
        <p:grpSpPr>
          <a:xfrm>
            <a:off x="25831800" y="18259560"/>
            <a:ext cx="5943600" cy="2330280"/>
            <a:chOff x="25831800" y="18259560"/>
            <a:chExt cx="5943600" cy="2330280"/>
          </a:xfrm>
        </p:grpSpPr>
        <p:sp>
          <p:nvSpPr>
            <p:cNvPr id="265" name="Flowchart: Magnetic Disk 398"/>
            <p:cNvSpPr/>
            <p:nvPr/>
          </p:nvSpPr>
          <p:spPr>
            <a:xfrm>
              <a:off x="26031600" y="18973800"/>
              <a:ext cx="1555560" cy="109692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Rounded Rectangle 399"/>
            <p:cNvGrpSpPr/>
            <p:nvPr/>
          </p:nvGrpSpPr>
          <p:grpSpPr>
            <a:xfrm>
              <a:off x="27834120" y="18647640"/>
              <a:ext cx="1962720" cy="774000"/>
              <a:chOff x="27834120" y="18647640"/>
              <a:chExt cx="1962720" cy="774000"/>
            </a:xfrm>
          </p:grpSpPr>
          <p:pic>
            <p:nvPicPr>
              <p:cNvPr id="267" name="Rounded Rectangle 399" descr=""/>
              <p:cNvPicPr/>
              <p:nvPr/>
            </p:nvPicPr>
            <p:blipFill>
              <a:blip r:embed="rId46"/>
              <a:stretch/>
            </p:blipFill>
            <p:spPr>
              <a:xfrm>
                <a:off x="27834120" y="18647640"/>
                <a:ext cx="196272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27896400" y="18706320"/>
                <a:ext cx="18489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Timing Analys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Rounded Rectangle 400"/>
            <p:cNvGrpSpPr/>
            <p:nvPr/>
          </p:nvGrpSpPr>
          <p:grpSpPr>
            <a:xfrm>
              <a:off x="27803880" y="19714680"/>
              <a:ext cx="1962720" cy="774000"/>
              <a:chOff x="27803880" y="19714680"/>
              <a:chExt cx="1962720" cy="774000"/>
            </a:xfrm>
          </p:grpSpPr>
          <p:pic>
            <p:nvPicPr>
              <p:cNvPr id="270" name="Rounded Rectangle 400" descr=""/>
              <p:cNvPicPr/>
              <p:nvPr/>
            </p:nvPicPr>
            <p:blipFill>
              <a:blip r:embed="rId47"/>
              <a:stretch/>
            </p:blipFill>
            <p:spPr>
              <a:xfrm>
                <a:off x="27803880" y="19714680"/>
                <a:ext cx="196272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7864720" y="19773720"/>
                <a:ext cx="18489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Imple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3762360"/>
                    <a:tab algn="l" pos="75247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Fi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ounded Rectangle 401"/>
            <p:cNvSpPr/>
            <p:nvPr/>
          </p:nvSpPr>
          <p:spPr>
            <a:xfrm>
              <a:off x="25831800" y="18259560"/>
              <a:ext cx="5943600" cy="2330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lowchart: Magnetic Disk 402"/>
            <p:cNvSpPr/>
            <p:nvPr/>
          </p:nvSpPr>
          <p:spPr>
            <a:xfrm>
              <a:off x="29964240" y="19021320"/>
              <a:ext cx="1554120" cy="1096920"/>
            </a:xfrm>
            <a:prstGeom prst="flowChartMagneticDisk">
              <a:avLst/>
            </a:prstGeom>
            <a:gradFill rotWithShape="0">
              <a:gsLst>
                <a:gs pos="0">
                  <a:srgbClr val="9ed3d7"/>
                </a:gs>
                <a:gs pos="100000">
                  <a:srgbClr val="3692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31"/>
          <p:cNvGrpSpPr/>
          <p:nvPr/>
        </p:nvGrpSpPr>
        <p:grpSpPr>
          <a:xfrm>
            <a:off x="16611480" y="10972800"/>
            <a:ext cx="8085240" cy="2206440"/>
            <a:chOff x="16611480" y="10972800"/>
            <a:chExt cx="8085240" cy="2206440"/>
          </a:xfrm>
        </p:grpSpPr>
        <p:sp>
          <p:nvSpPr>
            <p:cNvPr id="275" name="Rounded Rectangle 409"/>
            <p:cNvSpPr/>
            <p:nvPr/>
          </p:nvSpPr>
          <p:spPr>
            <a:xfrm>
              <a:off x="16611480" y="10972800"/>
              <a:ext cx="7620120" cy="21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3762360"/>
                  <a:tab algn="l" pos="75247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Based on few basic ECO engin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3762360"/>
                  <a:tab algn="l" pos="75247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ECO engines are configurab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3762360"/>
                  <a:tab algn="l" pos="75247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Engines get triggered based on ECO ne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3762360"/>
                  <a:tab algn="l" pos="75247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Engines can be combined to make packa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3762360"/>
                  <a:tab algn="l" pos="75247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Routing is compleme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3762360"/>
                  <a:tab algn="l" pos="75247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411"/>
            <p:cNvSpPr/>
            <p:nvPr/>
          </p:nvSpPr>
          <p:spPr>
            <a:xfrm>
              <a:off x="17152920" y="12750120"/>
              <a:ext cx="754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3760920"/>
                  <a:tab algn="l" pos="75214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No routing helps to evaluate ECO impa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ounded Rectangle 414"/>
          <p:cNvSpPr/>
          <p:nvPr/>
        </p:nvSpPr>
        <p:spPr>
          <a:xfrm>
            <a:off x="25141320" y="11301480"/>
            <a:ext cx="7619760" cy="21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entered on Boolean Comparison of net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te expressions for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ressions get synthes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text optimization selects bette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CO implemented in terms of add/delete cell/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420"/>
          <p:cNvSpPr/>
          <p:nvPr/>
        </p:nvSpPr>
        <p:spPr>
          <a:xfrm>
            <a:off x="10053720" y="22479120"/>
            <a:ext cx="0" cy="447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422"/>
          <p:cNvSpPr/>
          <p:nvPr/>
        </p:nvSpPr>
        <p:spPr>
          <a:xfrm>
            <a:off x="16687800" y="13639680"/>
            <a:ext cx="15468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428"/>
          <p:cNvSpPr/>
          <p:nvPr/>
        </p:nvSpPr>
        <p:spPr>
          <a:xfrm>
            <a:off x="16490880" y="18678600"/>
            <a:ext cx="8016840" cy="1209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tects changes based on DB compar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lements only pin/FC rout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te new DB ready for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32"/>
          <p:cNvSpPr/>
          <p:nvPr/>
        </p:nvSpPr>
        <p:spPr>
          <a:xfrm>
            <a:off x="26715960" y="10720440"/>
            <a:ext cx="5211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784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RTL ECO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34"/>
          <p:cNvSpPr/>
          <p:nvPr/>
        </p:nvSpPr>
        <p:spPr>
          <a:xfrm>
            <a:off x="17830800" y="18084960"/>
            <a:ext cx="5211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784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oorplan ECO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435"/>
          <p:cNvSpPr/>
          <p:nvPr/>
        </p:nvSpPr>
        <p:spPr>
          <a:xfrm>
            <a:off x="16687800" y="20193120"/>
            <a:ext cx="795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36"/>
          <p:cNvSpPr/>
          <p:nvPr/>
        </p:nvSpPr>
        <p:spPr>
          <a:xfrm>
            <a:off x="26822520" y="15363720"/>
            <a:ext cx="4267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784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Verdana"/>
              </a:rPr>
              <a:t>Clock ECO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437"/>
          <p:cNvSpPr/>
          <p:nvPr/>
        </p:nvSpPr>
        <p:spPr>
          <a:xfrm>
            <a:off x="24717240" y="15954480"/>
            <a:ext cx="8045640" cy="1919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n adjust clock network based on sequential add/de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n tweak network based on quality tar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ts triggered automatically during RTL/Manual ECO if sequential added/de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438"/>
          <p:cNvSpPr/>
          <p:nvPr/>
        </p:nvSpPr>
        <p:spPr>
          <a:xfrm>
            <a:off x="24752160" y="18087840"/>
            <a:ext cx="795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439"/>
          <p:cNvSpPr/>
          <p:nvPr/>
        </p:nvSpPr>
        <p:spPr>
          <a:xfrm>
            <a:off x="16683120" y="22271040"/>
            <a:ext cx="7848360" cy="1209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wnsizes cells based on ti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ased on “Lagrangian Relaxation”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wnsizes sequential elements al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40"/>
          <p:cNvSpPr/>
          <p:nvPr/>
        </p:nvSpPr>
        <p:spPr>
          <a:xfrm>
            <a:off x="18240480" y="21669480"/>
            <a:ext cx="4724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784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Verdana"/>
              </a:rPr>
              <a:t>Power ECO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441"/>
          <p:cNvSpPr/>
          <p:nvPr/>
        </p:nvSpPr>
        <p:spPr>
          <a:xfrm>
            <a:off x="18079920" y="23474520"/>
            <a:ext cx="632484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ock healing only if sequentials get touc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 impact on timing an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42"/>
          <p:cNvSpPr/>
          <p:nvPr/>
        </p:nvSpPr>
        <p:spPr>
          <a:xfrm>
            <a:off x="26212680" y="20597760"/>
            <a:ext cx="5211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784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Timing ECO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443"/>
          <p:cNvSpPr/>
          <p:nvPr/>
        </p:nvSpPr>
        <p:spPr>
          <a:xfrm>
            <a:off x="24725160" y="21167640"/>
            <a:ext cx="8047080" cy="1920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ysis in sign-off tool and fix in impl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current analysis-fix through server-client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ddress max/min/silicon quality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current analysis of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444"/>
          <p:cNvSpPr/>
          <p:nvPr/>
        </p:nvSpPr>
        <p:spPr>
          <a:xfrm>
            <a:off x="24841080" y="23088600"/>
            <a:ext cx="68580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duces manual fix for last few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elps in T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iggers almost after all other eng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ting is recommended after th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445"/>
          <p:cNvGrpSpPr/>
          <p:nvPr/>
        </p:nvGrpSpPr>
        <p:grpSpPr>
          <a:xfrm>
            <a:off x="76320" y="18648360"/>
            <a:ext cx="7954920" cy="4136760"/>
            <a:chOff x="76320" y="18648360"/>
            <a:chExt cx="7954920" cy="4136760"/>
          </a:xfrm>
        </p:grpSpPr>
        <p:sp>
          <p:nvSpPr>
            <p:cNvPr id="294" name="TextBox 446"/>
            <p:cNvSpPr/>
            <p:nvPr/>
          </p:nvSpPr>
          <p:spPr>
            <a:xfrm>
              <a:off x="196560" y="19399320"/>
              <a:ext cx="78044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ext generation Intel Xeo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T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Microproces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rver Microprocessor c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 45nm process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ulti Giga Hz c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5+ blocks ranging from 5K to 280K inst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embedded hard mac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mplex architectural 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795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448"/>
            <p:cNvSpPr/>
            <p:nvPr/>
          </p:nvSpPr>
          <p:spPr>
            <a:xfrm>
              <a:off x="1745280" y="18648360"/>
              <a:ext cx="46630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Verdana"/>
                </a:rPr>
                <a:t>Design Detai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ounded Rectangle 449"/>
            <p:cNvSpPr/>
            <p:nvPr/>
          </p:nvSpPr>
          <p:spPr>
            <a:xfrm>
              <a:off x="76320" y="19208520"/>
              <a:ext cx="7954920" cy="2926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51"/>
          <p:cNvGrpSpPr/>
          <p:nvPr/>
        </p:nvGrpSpPr>
        <p:grpSpPr>
          <a:xfrm>
            <a:off x="8229600" y="18616680"/>
            <a:ext cx="7954920" cy="3771360"/>
            <a:chOff x="8229600" y="18616680"/>
            <a:chExt cx="7954920" cy="3771360"/>
          </a:xfrm>
        </p:grpSpPr>
        <p:sp>
          <p:nvSpPr>
            <p:cNvPr id="298" name="TextBox 452"/>
            <p:cNvSpPr/>
            <p:nvPr/>
          </p:nvSpPr>
          <p:spPr>
            <a:xfrm>
              <a:off x="8349840" y="19368000"/>
              <a:ext cx="78044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re synthesis in the pro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ntercepted 100+ complex RTL E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mplemented several hundreds of timing E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~25% power saving due to power E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+ floorplan E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+ clocking ECO triggered by RTL ECO and 10+ clock ECO due to quality f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795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760920"/>
                  <a:tab algn="l" pos="752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453"/>
            <p:cNvSpPr/>
            <p:nvPr/>
          </p:nvSpPr>
          <p:spPr>
            <a:xfrm>
              <a:off x="10743840" y="18616680"/>
              <a:ext cx="320004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Verdana"/>
                </a:rPr>
                <a:t>Highligh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ounded Rectangle 454"/>
            <p:cNvSpPr/>
            <p:nvPr/>
          </p:nvSpPr>
          <p:spPr>
            <a:xfrm>
              <a:off x="8229600" y="19176840"/>
              <a:ext cx="7954920" cy="2926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1" name=""/>
          <p:cNvGraphicFramePr/>
          <p:nvPr/>
        </p:nvGraphicFramePr>
        <p:xfrm>
          <a:off x="212760" y="22899600"/>
          <a:ext cx="9617040" cy="3292560"/>
        </p:xfrm>
        <a:graphic>
          <a:graphicData uri="http://schemas.openxmlformats.org/drawingml/2006/table">
            <a:tbl>
              <a:tblPr/>
              <a:tblGrid>
                <a:gridCol w="1347840"/>
                <a:gridCol w="1447560"/>
                <a:gridCol w="1878120"/>
                <a:gridCol w="2104920"/>
                <a:gridCol w="1051200"/>
                <a:gridCol w="1787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time per E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0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0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5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2" name="Straight Connector 456"/>
          <p:cNvSpPr/>
          <p:nvPr/>
        </p:nvSpPr>
        <p:spPr>
          <a:xfrm>
            <a:off x="380880" y="22479120"/>
            <a:ext cx="15544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57"/>
          <p:cNvSpPr/>
          <p:nvPr/>
        </p:nvSpPr>
        <p:spPr>
          <a:xfrm>
            <a:off x="2057400" y="26204760"/>
            <a:ext cx="6303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Verdana"/>
              </a:rPr>
              <a:t>RTL ECO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458"/>
          <p:cNvSpPr/>
          <p:nvPr/>
        </p:nvSpPr>
        <p:spPr>
          <a:xfrm>
            <a:off x="24765120" y="4343400"/>
            <a:ext cx="0" cy="20666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59"/>
          <p:cNvSpPr/>
          <p:nvPr/>
        </p:nvSpPr>
        <p:spPr>
          <a:xfrm>
            <a:off x="208080" y="26946360"/>
            <a:ext cx="9875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48"/>
          <a:stretch/>
        </p:blipFill>
        <p:spPr>
          <a:xfrm>
            <a:off x="10744200" y="22707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307" name="Oval 467"/>
          <p:cNvSpPr/>
          <p:nvPr/>
        </p:nvSpPr>
        <p:spPr>
          <a:xfrm>
            <a:off x="13563720" y="23545800"/>
            <a:ext cx="361800" cy="6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69"/>
          <p:cNvSpPr/>
          <p:nvPr/>
        </p:nvSpPr>
        <p:spPr>
          <a:xfrm rot="5400000">
            <a:off x="12458520" y="23477400"/>
            <a:ext cx="182520" cy="8683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62"/>
          <p:cNvSpPr/>
          <p:nvPr/>
        </p:nvSpPr>
        <p:spPr>
          <a:xfrm>
            <a:off x="11277720" y="2436804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rigin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63"/>
          <p:cNvSpPr/>
          <p:nvPr/>
        </p:nvSpPr>
        <p:spPr>
          <a:xfrm>
            <a:off x="14412960" y="23858640"/>
            <a:ext cx="219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64"/>
          <p:cNvSpPr/>
          <p:nvPr/>
        </p:nvSpPr>
        <p:spPr>
          <a:xfrm>
            <a:off x="14249520" y="2253132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Straight Arrow Connector 465"/>
          <p:cNvCxnSpPr>
            <a:stCxn id="308" idx="0"/>
            <a:endCxn id="311" idx="1"/>
          </p:cNvCxnSpPr>
          <p:nvPr/>
        </p:nvCxnSpPr>
        <p:spPr>
          <a:xfrm flipV="1">
            <a:off x="12984120" y="22943880"/>
            <a:ext cx="1265760" cy="968040"/>
          </a:xfrm>
          <a:prstGeom prst="straightConnector1">
            <a:avLst/>
          </a:prstGeom>
          <a:ln w="38160">
            <a:solidFill>
              <a:srgbClr val="ff99ff"/>
            </a:solidFill>
            <a:miter/>
            <a:tailEnd len="med" type="arrow" w="med"/>
          </a:ln>
        </p:spPr>
      </p:cxnSp>
      <p:cxnSp>
        <p:nvCxnSpPr>
          <p:cNvPr id="313" name="Straight Arrow Connector 473"/>
          <p:cNvCxnSpPr>
            <a:stCxn id="307" idx="5"/>
          </p:cNvCxnSpPr>
          <p:nvPr/>
        </p:nvCxnSpPr>
        <p:spPr>
          <a:xfrm>
            <a:off x="13872600" y="24078600"/>
            <a:ext cx="758520" cy="23004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grpSp>
        <p:nvGrpSpPr>
          <p:cNvPr id="314" name="Group 20"/>
          <p:cNvGrpSpPr/>
          <p:nvPr/>
        </p:nvGrpSpPr>
        <p:grpSpPr>
          <a:xfrm>
            <a:off x="10917360" y="25242840"/>
            <a:ext cx="2842920" cy="1714320"/>
            <a:chOff x="10917360" y="25242840"/>
            <a:chExt cx="2842920" cy="1714320"/>
          </a:xfrm>
        </p:grpSpPr>
        <p:pic>
          <p:nvPicPr>
            <p:cNvPr id="315" name="Picture 4" descr=""/>
            <p:cNvPicPr/>
            <p:nvPr/>
          </p:nvPicPr>
          <p:blipFill>
            <a:blip r:embed="rId49"/>
            <a:stretch/>
          </p:blipFill>
          <p:spPr>
            <a:xfrm>
              <a:off x="10917360" y="25242840"/>
              <a:ext cx="28011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Oval 481"/>
            <p:cNvSpPr/>
            <p:nvPr/>
          </p:nvSpPr>
          <p:spPr>
            <a:xfrm>
              <a:off x="13501080" y="25376400"/>
              <a:ext cx="259200" cy="62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9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82"/>
            <p:cNvSpPr/>
            <p:nvPr/>
          </p:nvSpPr>
          <p:spPr>
            <a:xfrm rot="5400000">
              <a:off x="12646440" y="25403760"/>
              <a:ext cx="274320" cy="6228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9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Box 476"/>
          <p:cNvSpPr/>
          <p:nvPr/>
        </p:nvSpPr>
        <p:spPr>
          <a:xfrm>
            <a:off x="10764720" y="26919360"/>
            <a:ext cx="39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st FP EC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77"/>
          <p:cNvSpPr/>
          <p:nvPr/>
        </p:nvSpPr>
        <p:spPr>
          <a:xfrm>
            <a:off x="13770000" y="25166520"/>
            <a:ext cx="24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78"/>
          <p:cNvSpPr/>
          <p:nvPr/>
        </p:nvSpPr>
        <p:spPr>
          <a:xfrm>
            <a:off x="13889160" y="2615724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 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479"/>
          <p:cNvCxnSpPr/>
          <p:nvPr/>
        </p:nvCxnSpPr>
        <p:spPr>
          <a:xfrm>
            <a:off x="13236120" y="25852320"/>
            <a:ext cx="686520" cy="457920"/>
          </a:xfrm>
          <a:prstGeom prst="straightConnector1">
            <a:avLst/>
          </a:prstGeom>
          <a:ln w="57240">
            <a:solidFill>
              <a:srgbClr val="ff99ff"/>
            </a:solidFill>
            <a:miter/>
            <a:tailEnd len="med" type="arrow" w="med"/>
          </a:ln>
        </p:spPr>
      </p:cxnSp>
      <p:grpSp>
        <p:nvGrpSpPr>
          <p:cNvPr id="322" name="Right Arrow 485"/>
          <p:cNvGrpSpPr/>
          <p:nvPr/>
        </p:nvGrpSpPr>
        <p:grpSpPr>
          <a:xfrm>
            <a:off x="11704680" y="24377760"/>
            <a:ext cx="1609560" cy="1427040"/>
            <a:chOff x="11704680" y="24377760"/>
            <a:chExt cx="1609560" cy="1427040"/>
          </a:xfrm>
        </p:grpSpPr>
        <p:pic>
          <p:nvPicPr>
            <p:cNvPr id="323" name="Right Arrow 485" descr=""/>
            <p:cNvPicPr/>
            <p:nvPr/>
          </p:nvPicPr>
          <p:blipFill>
            <a:blip r:embed="rId50"/>
            <a:stretch/>
          </p:blipFill>
          <p:spPr>
            <a:xfrm>
              <a:off x="11704680" y="24377760"/>
              <a:ext cx="160956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5400000">
              <a:off x="12340800" y="24852240"/>
              <a:ext cx="3430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486"/>
          <p:cNvSpPr/>
          <p:nvPr/>
        </p:nvSpPr>
        <p:spPr>
          <a:xfrm>
            <a:off x="9799560" y="27427320"/>
            <a:ext cx="6583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Floorplan ECO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487"/>
          <p:cNvSpPr/>
          <p:nvPr/>
        </p:nvSpPr>
        <p:spPr>
          <a:xfrm>
            <a:off x="9677520" y="26941320"/>
            <a:ext cx="0" cy="5853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88"/>
          <p:cNvSpPr/>
          <p:nvPr/>
        </p:nvSpPr>
        <p:spPr>
          <a:xfrm>
            <a:off x="9648720" y="28178280"/>
            <a:ext cx="676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89"/>
          <p:cNvGrpSpPr/>
          <p:nvPr/>
        </p:nvGrpSpPr>
        <p:grpSpPr>
          <a:xfrm>
            <a:off x="533520" y="27203400"/>
            <a:ext cx="4343400" cy="2212920"/>
            <a:chOff x="533520" y="27203400"/>
            <a:chExt cx="4343400" cy="2212920"/>
          </a:xfrm>
        </p:grpSpPr>
        <p:grpSp>
          <p:nvGrpSpPr>
            <p:cNvPr id="329" name="Group 64"/>
            <p:cNvGrpSpPr/>
            <p:nvPr/>
          </p:nvGrpSpPr>
          <p:grpSpPr>
            <a:xfrm>
              <a:off x="533520" y="27203400"/>
              <a:ext cx="3071160" cy="1761840"/>
              <a:chOff x="533520" y="27203400"/>
              <a:chExt cx="3071160" cy="1761840"/>
            </a:xfrm>
          </p:grpSpPr>
          <p:pic>
            <p:nvPicPr>
              <p:cNvPr id="330" name="Picture 2" descr=""/>
              <p:cNvPicPr/>
              <p:nvPr/>
            </p:nvPicPr>
            <p:blipFill>
              <a:blip r:embed="rId51"/>
              <a:stretch/>
            </p:blipFill>
            <p:spPr>
              <a:xfrm>
                <a:off x="533520" y="27246960"/>
                <a:ext cx="3064680" cy="170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Oval 493"/>
              <p:cNvSpPr/>
              <p:nvPr/>
            </p:nvSpPr>
            <p:spPr>
              <a:xfrm>
                <a:off x="2075040" y="27788400"/>
                <a:ext cx="259560" cy="623160"/>
              </a:xfrm>
              <a:prstGeom prst="ellipse">
                <a:avLst/>
              </a:prstGeom>
              <a:noFill/>
              <a:ln w="38160">
                <a:solidFill>
                  <a:srgbClr val="99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494"/>
              <p:cNvSpPr/>
              <p:nvPr/>
            </p:nvSpPr>
            <p:spPr>
              <a:xfrm>
                <a:off x="751320" y="28298160"/>
                <a:ext cx="653760" cy="623160"/>
              </a:xfrm>
              <a:prstGeom prst="ellipse">
                <a:avLst/>
              </a:prstGeom>
              <a:noFill/>
              <a:ln w="381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495"/>
              <p:cNvSpPr/>
              <p:nvPr/>
            </p:nvSpPr>
            <p:spPr>
              <a:xfrm>
                <a:off x="946440" y="27203400"/>
                <a:ext cx="23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lock Driv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4" name="Straight Arrow Connector 496"/>
              <p:cNvCxnSpPr/>
              <p:nvPr/>
            </p:nvCxnSpPr>
            <p:spPr>
              <a:xfrm flipV="1">
                <a:off x="2203920" y="27588240"/>
                <a:ext cx="2160" cy="25668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</p:cxnSp>
          <p:sp>
            <p:nvSpPr>
              <p:cNvPr id="335" name="TextBox 497"/>
              <p:cNvSpPr/>
              <p:nvPr/>
            </p:nvSpPr>
            <p:spPr>
              <a:xfrm>
                <a:off x="1715400" y="28505520"/>
                <a:ext cx="188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Receiv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Straight Arrow Connector 498"/>
              <p:cNvCxnSpPr/>
              <p:nvPr/>
            </p:nvCxnSpPr>
            <p:spPr>
              <a:xfrm>
                <a:off x="1405080" y="28562760"/>
                <a:ext cx="363960" cy="8568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337" name="TextBox 491"/>
            <p:cNvSpPr/>
            <p:nvPr/>
          </p:nvSpPr>
          <p:spPr>
            <a:xfrm>
              <a:off x="609480" y="2895660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Original De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99"/>
          <p:cNvGrpSpPr/>
          <p:nvPr/>
        </p:nvGrpSpPr>
        <p:grpSpPr>
          <a:xfrm>
            <a:off x="5094360" y="27182880"/>
            <a:ext cx="4659120" cy="2196720"/>
            <a:chOff x="5094360" y="27182880"/>
            <a:chExt cx="4659120" cy="2196720"/>
          </a:xfrm>
        </p:grpSpPr>
        <p:grpSp>
          <p:nvGrpSpPr>
            <p:cNvPr id="339" name="Group 63"/>
            <p:cNvGrpSpPr/>
            <p:nvPr/>
          </p:nvGrpSpPr>
          <p:grpSpPr>
            <a:xfrm>
              <a:off x="5627520" y="27182880"/>
              <a:ext cx="4125960" cy="1784160"/>
              <a:chOff x="5627520" y="27182880"/>
              <a:chExt cx="4125960" cy="1784160"/>
            </a:xfrm>
          </p:grpSpPr>
          <p:pic>
            <p:nvPicPr>
              <p:cNvPr id="340" name="Picture 3" descr=""/>
              <p:cNvPicPr/>
              <p:nvPr/>
            </p:nvPicPr>
            <p:blipFill>
              <a:blip r:embed="rId52"/>
              <a:stretch/>
            </p:blipFill>
            <p:spPr>
              <a:xfrm>
                <a:off x="5627520" y="27276480"/>
                <a:ext cx="3047760" cy="166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Oval 503"/>
              <p:cNvSpPr/>
              <p:nvPr/>
            </p:nvSpPr>
            <p:spPr>
              <a:xfrm>
                <a:off x="5772600" y="28242360"/>
                <a:ext cx="653040" cy="623160"/>
              </a:xfrm>
              <a:prstGeom prst="ellipse">
                <a:avLst/>
              </a:prstGeom>
              <a:noFill/>
              <a:ln w="381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504"/>
              <p:cNvSpPr/>
              <p:nvPr/>
            </p:nvSpPr>
            <p:spPr>
              <a:xfrm>
                <a:off x="6440760" y="27698040"/>
                <a:ext cx="259200" cy="623160"/>
              </a:xfrm>
              <a:prstGeom prst="ellipse">
                <a:avLst/>
              </a:prstGeom>
              <a:noFill/>
              <a:ln w="38160">
                <a:solidFill>
                  <a:srgbClr val="99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505"/>
              <p:cNvSpPr/>
              <p:nvPr/>
            </p:nvSpPr>
            <p:spPr>
              <a:xfrm>
                <a:off x="7778160" y="27685440"/>
                <a:ext cx="259200" cy="623160"/>
              </a:xfrm>
              <a:prstGeom prst="ellipse">
                <a:avLst/>
              </a:prstGeom>
              <a:noFill/>
              <a:ln w="38160">
                <a:solidFill>
                  <a:srgbClr val="99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506"/>
              <p:cNvSpPr/>
              <p:nvPr/>
            </p:nvSpPr>
            <p:spPr>
              <a:xfrm>
                <a:off x="6350400" y="27182880"/>
                <a:ext cx="340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Clock Driv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507"/>
              <p:cNvSpPr/>
              <p:nvPr/>
            </p:nvSpPr>
            <p:spPr>
              <a:xfrm>
                <a:off x="6425640" y="28568160"/>
                <a:ext cx="1886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Receiv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6" name="Straight Arrow Connector 508"/>
              <p:cNvCxnSpPr/>
              <p:nvPr/>
            </p:nvCxnSpPr>
            <p:spPr>
              <a:xfrm>
                <a:off x="6435720" y="28521720"/>
                <a:ext cx="363240" cy="8784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347" name="Straight Arrow Connector 509"/>
              <p:cNvCxnSpPr/>
              <p:nvPr/>
            </p:nvCxnSpPr>
            <p:spPr>
              <a:xfrm flipV="1">
                <a:off x="6643080" y="27609840"/>
                <a:ext cx="508680" cy="26280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348" name="Straight Arrow Connector 510"/>
              <p:cNvCxnSpPr/>
              <p:nvPr/>
            </p:nvCxnSpPr>
            <p:spPr>
              <a:xfrm flipH="1" flipV="1">
                <a:off x="7264440" y="27609840"/>
                <a:ext cx="508680" cy="34992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349" name="TextBox 501"/>
            <p:cNvSpPr/>
            <p:nvPr/>
          </p:nvSpPr>
          <p:spPr>
            <a:xfrm>
              <a:off x="5094360" y="28919880"/>
              <a:ext cx="464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Post Clock ECO De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Right Arrow 512"/>
          <p:cNvGrpSpPr/>
          <p:nvPr/>
        </p:nvGrpSpPr>
        <p:grpSpPr>
          <a:xfrm>
            <a:off x="4164120" y="27621000"/>
            <a:ext cx="809640" cy="1060200"/>
            <a:chOff x="4164120" y="27621000"/>
            <a:chExt cx="809640" cy="1060200"/>
          </a:xfrm>
        </p:grpSpPr>
        <p:pic>
          <p:nvPicPr>
            <p:cNvPr id="351" name="Right Arrow 512" descr=""/>
            <p:cNvPicPr/>
            <p:nvPr/>
          </p:nvPicPr>
          <p:blipFill>
            <a:blip r:embed="rId53"/>
            <a:stretch/>
          </p:blipFill>
          <p:spPr>
            <a:xfrm>
              <a:off x="4164120" y="27621000"/>
              <a:ext cx="8096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191120" y="27908280"/>
              <a:ext cx="5713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2360"/>
                  <a:tab algn="l" pos="752472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513"/>
          <p:cNvSpPr/>
          <p:nvPr/>
        </p:nvSpPr>
        <p:spPr>
          <a:xfrm>
            <a:off x="1600200" y="29430720"/>
            <a:ext cx="6583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Clock ECO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12-Point Star 515"/>
          <p:cNvGrpSpPr/>
          <p:nvPr/>
        </p:nvGrpSpPr>
        <p:grpSpPr>
          <a:xfrm>
            <a:off x="1542960" y="30138840"/>
            <a:ext cx="7199280" cy="950760"/>
            <a:chOff x="1542960" y="30138840"/>
            <a:chExt cx="7199280" cy="950760"/>
          </a:xfrm>
        </p:grpSpPr>
        <p:pic>
          <p:nvPicPr>
            <p:cNvPr id="355" name="12-Point Star 515" descr=""/>
            <p:cNvPicPr/>
            <p:nvPr/>
          </p:nvPicPr>
          <p:blipFill>
            <a:blip r:embed="rId54"/>
            <a:stretch/>
          </p:blipFill>
          <p:spPr>
            <a:xfrm>
              <a:off x="1542960" y="30138840"/>
              <a:ext cx="71992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263760" y="30372120"/>
              <a:ext cx="37594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2360"/>
                  <a:tab algn="l" pos="752472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74% Quality Viol F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Straight Connector 516"/>
          <p:cNvSpPr/>
          <p:nvPr/>
        </p:nvSpPr>
        <p:spPr>
          <a:xfrm>
            <a:off x="380880" y="31040280"/>
            <a:ext cx="932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17"/>
          <p:cNvSpPr/>
          <p:nvPr/>
        </p:nvSpPr>
        <p:spPr>
          <a:xfrm>
            <a:off x="10210680" y="28249560"/>
            <a:ext cx="59436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Verdana"/>
              </a:rPr>
              <a:t>Power ECO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18" descr=""/>
          <p:cNvPicPr/>
          <p:nvPr/>
        </p:nvPicPr>
        <p:blipFill>
          <a:blip r:embed="rId55"/>
          <a:stretch/>
        </p:blipFill>
        <p:spPr>
          <a:xfrm>
            <a:off x="10972800" y="28879920"/>
            <a:ext cx="4116240" cy="28954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521"/>
          <p:cNvSpPr/>
          <p:nvPr/>
        </p:nvSpPr>
        <p:spPr>
          <a:xfrm>
            <a:off x="9906120" y="317642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% Total Power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22"/>
          <p:cNvSpPr/>
          <p:nvPr/>
        </p:nvSpPr>
        <p:spPr>
          <a:xfrm>
            <a:off x="9906120" y="321357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% Leakage Power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ounded Rectangle 525"/>
          <p:cNvSpPr/>
          <p:nvPr/>
        </p:nvSpPr>
        <p:spPr>
          <a:xfrm>
            <a:off x="2109960" y="31646880"/>
            <a:ext cx="7010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0035"/>
              </a:gs>
              <a:gs pos="100000">
                <a:srgbClr val="ff0062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762360"/>
                <a:tab algn="l" pos="7524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0% Max TNS and 30% min TNS 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762360"/>
                <a:tab algn="l" pos="7524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0% quality violation 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26"/>
          <p:cNvSpPr/>
          <p:nvPr/>
        </p:nvSpPr>
        <p:spPr>
          <a:xfrm>
            <a:off x="2298600" y="31032360"/>
            <a:ext cx="6588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Verdana"/>
              </a:rPr>
              <a:t>Timing ECO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ounded Rectangle 221"/>
          <p:cNvSpPr/>
          <p:nvPr/>
        </p:nvSpPr>
        <p:spPr>
          <a:xfrm>
            <a:off x="16687800" y="26746200"/>
            <a:ext cx="16002000" cy="228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CO is no longer a luxury item. It is reality. So you better expect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ect surprises during last mile of conver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igh performance designs requires ECOs because of complex logic and quality tar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tremely useful to have ECO system to stay in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current optimization of all convergence vectors are key to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ing these flows we are able to stay in schedule for extreme high performance Intel server CP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22"/>
          <p:cNvSpPr/>
          <p:nvPr/>
        </p:nvSpPr>
        <p:spPr>
          <a:xfrm>
            <a:off x="22097880" y="26160480"/>
            <a:ext cx="5211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784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ounded Rectangle 223"/>
          <p:cNvSpPr/>
          <p:nvPr/>
        </p:nvSpPr>
        <p:spPr>
          <a:xfrm>
            <a:off x="16695720" y="30322800"/>
            <a:ext cx="1600200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une CTS ECO and Timing ECO to get 100% coverage on fix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ork with EDA vendors to tune tools for better ECO optim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velop additional features in RTL ECO to insert and utilize redundant gates for future ste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795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aves mask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uto timing ECO by metal only tu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762360"/>
                <a:tab algn="l" pos="7524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24"/>
          <p:cNvSpPr/>
          <p:nvPr/>
        </p:nvSpPr>
        <p:spPr>
          <a:xfrm>
            <a:off x="22105800" y="29738520"/>
            <a:ext cx="5212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784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Verdana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4:36:00Z</dcterms:created>
  <dc:creator>Goswami, Sumit</dc:creator>
  <dc:description/>
  <dc:language>en-US</dc:language>
  <cp:lastModifiedBy>Goswami, Sumit</cp:lastModifiedBy>
  <dcterms:modified xsi:type="dcterms:W3CDTF">2010-05-07T05:32:30Z</dcterms:modified>
  <cp:revision>106</cp:revision>
  <dc:subject/>
  <dc:title>Slide 1</dc:title>
</cp:coreProperties>
</file>