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8376-3A86-4D60-BC9A-5A40306D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1E08-EC22-4735-AAE9-F0883E8A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DD2A-8068-43DB-BAFE-129351E7C4E2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17F-4C13-46F3-BC26-3799F180C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CDB2-DE34-43C1-B8E6-B41F07792A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75D2-230D-462E-BC51-9123E05A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36520" y="70020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0E3-146D-470B-B7C1-49B017B7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10DF-2C72-4872-9E3B-92CB9FBB1583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E27-77B6-4705-8AFF-3E704FC95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DEB-DEB7-434B-9711-1D5D9EF0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EAAE-FB9E-4DF5-8EFD-57379061273E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D85-60A1-4195-86D1-6B9F96D70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97A6-A2F9-4967-BC92-FDCED7A2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6C2E-BF28-4428-A8A6-F6A9820066D0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9F8-D80D-4917-BB89-36155B4A8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026-4FEC-4D33-A70D-EA0D038D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D8B-12D8-41B2-B3DF-66B4CEAAD6DF}" type="datetime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1C3-8523-4E25-BFAA-B7800EAB0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6D5-86D5-48CF-88D8-0CD275C7AF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E56-63E3-4BF4-B874-8D5DB7CB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36520" y="70020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ECE-2FF3-4D51-9B59-3D49A09A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7D-46DB-4BB0-A31C-B9D9309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C65-92B8-4E37-B9CC-687A0EA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657-F8E0-4717-B4BA-81943E66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C0D-84F7-4F4F-BAF0-74FEACB9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956-9CFE-4A1F-BC7E-533073B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250-BE12-4479-AD13-4EE4113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8E8-44BA-4142-81D3-D2AF454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783-19E1-4C70-B1B4-069C1BF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C7B-0130-4F5D-AA46-8621E72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A37-9090-4734-8246-5DA5D2C0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0B7-1695-4F1B-9DF3-8D7F6D77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8960" y="949320"/>
            <a:ext cx="8472600" cy="2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3960" y="214200"/>
            <a:ext cx="84852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6000" y="1261800"/>
            <a:ext cx="86295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7781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27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77817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6627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e77817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8F7F-024D-4785-80E7-360C94F7D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6324480"/>
            <a:ext cx="1136520" cy="2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52416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Reducing Dynamic Power with Gate-level Clock-Gating Optimization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rangshu K. Das, Texas Instr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shwarya Singh, Post-graduate student at ISB*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hit Sharma, Texas Instr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rveswara Tammali , Texas Instr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jesh Gottumukkala, Texas Instr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it Singh, Azu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 Work done during her tenure in Texas Instru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2600" y="6369120"/>
            <a:ext cx="1136520" cy="28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Design Change to recover Coverag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600" y="149976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gate added at output of Cluster Control Flip-Flop (CCFF) within the clu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FF selected based on timing slack / 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ables to create equivalent states on XOR inputs while D =1 and Q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FF captures ‘1’ if there is a SA1 fault on XOR output cone and hence fault become observ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ote: Functional / Scan-shift fanouts from CCFF does not go through the OR-g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0" y="1523880"/>
            <a:ext cx="4419720" cy="4647960"/>
            <a:chOff x="4572000" y="1523880"/>
            <a:chExt cx="4419720" cy="4647960"/>
          </a:xfrm>
        </p:grpSpPr>
        <p:sp>
          <p:nvSpPr>
            <p:cNvPr id="290" name=""/>
            <p:cNvSpPr/>
            <p:nvPr/>
          </p:nvSpPr>
          <p:spPr>
            <a:xfrm>
              <a:off x="8305920" y="312408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8381880" y="4191120"/>
              <a:ext cx="304560" cy="652320"/>
              <a:chOff x="8381880" y="4191120"/>
              <a:chExt cx="304560" cy="65232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8208000" y="4365000"/>
                <a:ext cx="6523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 rot="16200000">
                <a:off x="8207640" y="4365000"/>
                <a:ext cx="6523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381880" y="4435920"/>
                <a:ext cx="304560" cy="162720"/>
                <a:chOff x="8381880" y="4435920"/>
                <a:chExt cx="304560" cy="162720"/>
              </a:xfrm>
            </p:grpSpPr>
            <p:sp>
              <p:nvSpPr>
                <p:cNvPr id="295" name=""/>
                <p:cNvSpPr/>
                <p:nvPr/>
              </p:nvSpPr>
              <p:spPr>
                <a:xfrm rot="16200000">
                  <a:off x="8452800" y="436500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 rot="16200000">
                  <a:off x="8452440" y="436500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381880" y="4490280"/>
                <a:ext cx="304560" cy="162720"/>
                <a:chOff x="8381880" y="4490280"/>
                <a:chExt cx="304560" cy="162720"/>
              </a:xfrm>
            </p:grpSpPr>
            <p:sp>
              <p:nvSpPr>
                <p:cNvPr id="298" name=""/>
                <p:cNvSpPr/>
                <p:nvPr/>
              </p:nvSpPr>
              <p:spPr>
                <a:xfrm rot="16200000">
                  <a:off x="8452800" y="44193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 rot="16200000">
                  <a:off x="8452440" y="44193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7595280" y="4799520"/>
              <a:ext cx="659520" cy="305640"/>
              <a:chOff x="7595280" y="4799520"/>
              <a:chExt cx="659520" cy="305640"/>
            </a:xfrm>
          </p:grpSpPr>
          <p:sp>
            <p:nvSpPr>
              <p:cNvPr id="301" name=""/>
              <p:cNvSpPr/>
              <p:nvPr/>
            </p:nvSpPr>
            <p:spPr>
              <a:xfrm>
                <a:off x="7595280" y="4800240"/>
                <a:ext cx="6595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7595280" y="4799520"/>
                <a:ext cx="6595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7842240" y="4799520"/>
                <a:ext cx="165600" cy="305640"/>
                <a:chOff x="7842240" y="4799520"/>
                <a:chExt cx="165600" cy="305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842240" y="4800240"/>
                  <a:ext cx="1656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7842240" y="4799160"/>
                  <a:ext cx="1656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7315200" y="4724280"/>
              <a:ext cx="38124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7315200" y="5181120"/>
              <a:ext cx="75960" cy="7632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61200" y="473832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89800" y="472428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96440" y="4876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8720" y="5028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48720" y="50288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477120" y="5714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7120" y="5714640"/>
              <a:ext cx="106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dft_az_struct[n]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2960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10840" y="4495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05720" y="4876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2920" y="464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58200" y="4495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62920" y="4647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8153280" y="3366720"/>
              <a:ext cx="304560" cy="653040"/>
              <a:chOff x="8153280" y="3366720"/>
              <a:chExt cx="304560" cy="65304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7979040" y="354096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 rot="16200000">
                <a:off x="7978680" y="354096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8153280" y="3611880"/>
                <a:ext cx="304560" cy="162720"/>
                <a:chOff x="8153280" y="3611880"/>
                <a:chExt cx="304560" cy="162720"/>
              </a:xfrm>
            </p:grpSpPr>
            <p:sp>
              <p:nvSpPr>
                <p:cNvPr id="325" name=""/>
                <p:cNvSpPr/>
                <p:nvPr/>
              </p:nvSpPr>
              <p:spPr>
                <a:xfrm rot="16200000">
                  <a:off x="8224200" y="35409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 rot="16200000">
                  <a:off x="8223840" y="35409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153280" y="3666240"/>
                <a:ext cx="304560" cy="162720"/>
                <a:chOff x="8153280" y="3666240"/>
                <a:chExt cx="304560" cy="162720"/>
              </a:xfrm>
            </p:grpSpPr>
            <p:sp>
              <p:nvSpPr>
                <p:cNvPr id="328" name=""/>
                <p:cNvSpPr/>
                <p:nvPr/>
              </p:nvSpPr>
              <p:spPr>
                <a:xfrm rot="16200000">
                  <a:off x="8224200" y="359532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 rot="16200000">
                  <a:off x="8223840" y="359532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"/>
            <p:cNvSpPr/>
            <p:nvPr/>
          </p:nvSpPr>
          <p:spPr>
            <a:xfrm>
              <a:off x="7315200" y="3900240"/>
              <a:ext cx="38124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7315200" y="4357440"/>
              <a:ext cx="76320" cy="7632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61200" y="391464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89800" y="390024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96440" y="405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2240" y="3671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3823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3671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62920" y="382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924680" y="2514240"/>
              <a:ext cx="304560" cy="653040"/>
              <a:chOff x="7924680" y="2514240"/>
              <a:chExt cx="304560" cy="653040"/>
            </a:xfrm>
          </p:grpSpPr>
          <p:sp>
            <p:nvSpPr>
              <p:cNvPr id="340" name=""/>
              <p:cNvSpPr/>
              <p:nvPr/>
            </p:nvSpPr>
            <p:spPr>
              <a:xfrm rot="16200000">
                <a:off x="7750440" y="268848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 rot="16200000">
                <a:off x="7750080" y="268848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924680" y="2759400"/>
                <a:ext cx="304560" cy="162720"/>
                <a:chOff x="7924680" y="2759400"/>
                <a:chExt cx="304560" cy="162720"/>
              </a:xfrm>
            </p:grpSpPr>
            <p:sp>
              <p:nvSpPr>
                <p:cNvPr id="343" name=""/>
                <p:cNvSpPr/>
                <p:nvPr/>
              </p:nvSpPr>
              <p:spPr>
                <a:xfrm rot="16200000">
                  <a:off x="7995600" y="26884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 rot="16200000">
                  <a:off x="7995240" y="26884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24680" y="2813760"/>
                <a:ext cx="304560" cy="162720"/>
                <a:chOff x="7924680" y="2813760"/>
                <a:chExt cx="304560" cy="162720"/>
              </a:xfrm>
            </p:grpSpPr>
            <p:sp>
              <p:nvSpPr>
                <p:cNvPr id="346" name=""/>
                <p:cNvSpPr/>
                <p:nvPr/>
              </p:nvSpPr>
              <p:spPr>
                <a:xfrm rot="16200000">
                  <a:off x="7995600" y="274284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 rot="16200000">
                  <a:off x="7995240" y="274284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7315200" y="3047760"/>
              <a:ext cx="38124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315200" y="3504960"/>
              <a:ext cx="76320" cy="7632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61200" y="306216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9800" y="304776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53640" y="2819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5720" y="3200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01000" y="2819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971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7442280" y="1980720"/>
              <a:ext cx="659520" cy="304560"/>
              <a:chOff x="7442280" y="1980720"/>
              <a:chExt cx="659520" cy="304560"/>
            </a:xfrm>
          </p:grpSpPr>
          <p:sp>
            <p:nvSpPr>
              <p:cNvPr id="357" name=""/>
              <p:cNvSpPr/>
              <p:nvPr/>
            </p:nvSpPr>
            <p:spPr>
              <a:xfrm flipH="1">
                <a:off x="7442280" y="1981080"/>
                <a:ext cx="6595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7442280" y="1980360"/>
                <a:ext cx="6595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689240" y="1980720"/>
                <a:ext cx="165600" cy="304560"/>
                <a:chOff x="7689240" y="1980720"/>
                <a:chExt cx="165600" cy="30456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7689240" y="1981080"/>
                  <a:ext cx="1656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7689240" y="1980360"/>
                  <a:ext cx="1656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5334120" y="1904760"/>
              <a:ext cx="457200" cy="457200"/>
            </a:xfrm>
            <a:prstGeom prst="flowChartSummingJuncti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534520" y="20566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96440" y="20570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305920" y="213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96080" y="213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9644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2920" y="2971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69644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1320" y="2133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6920" y="2133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2000" y="19810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dft_az_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2720" y="167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62720" y="2361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5257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62720" y="4419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62720" y="3581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6240" y="2971440"/>
              <a:ext cx="76176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81840" y="152388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clk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181840" y="1676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2376360"/>
              <a:ext cx="53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clk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199512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57800" y="199512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6240" y="3809880"/>
              <a:ext cx="76176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05720" y="4038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6240" y="4647960"/>
              <a:ext cx="76176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9400" y="2057040"/>
              <a:ext cx="152640" cy="152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629400" y="2057040"/>
              <a:ext cx="152640" cy="152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182844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58200" y="396216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458200" y="396216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29600" y="312408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8229600" y="312408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610840" y="39621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01000" y="220968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001000" y="2209680"/>
              <a:ext cx="1526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1000" y="198108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7840" y="274284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96440" y="320004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440" y="358128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96440" y="403848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6440" y="464796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48720" y="525744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6600" y="4876560"/>
              <a:ext cx="22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73920" y="5562360"/>
              <a:ext cx="380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6073920" y="6019560"/>
              <a:ext cx="76320" cy="7632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19920" y="557676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48520" y="5562360"/>
              <a:ext cx="28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5714640"/>
              <a:ext cx="381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41400" y="492408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C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Timing Closure</a:t>
            </a: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hallenges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OR gating generates high fanin logic cone to the enable pin of a clock gate. This can result in local congestion and timing closure issues in some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werCentric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cally identifies problematic FFs and excludes them from XOR-g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Design Sign-off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C / RDC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ce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Gate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ock/Reset Domain-Crossing Check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good tool available today to comprehensively verify CDC and RDC i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imetim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cripts written to verify XOR-gating did not introduce any new CDC / RDC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EC Constraints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3505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s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923960" y="4572360"/>
            <a:ext cx="305640" cy="652320"/>
            <a:chOff x="7923960" y="4572360"/>
            <a:chExt cx="305640" cy="652320"/>
          </a:xfrm>
        </p:grpSpPr>
        <p:sp>
          <p:nvSpPr>
            <p:cNvPr id="421" name=""/>
            <p:cNvSpPr/>
            <p:nvPr/>
          </p:nvSpPr>
          <p:spPr>
            <a:xfrm rot="16200000">
              <a:off x="7750800" y="4745880"/>
              <a:ext cx="6523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16200000">
              <a:off x="7750080" y="4745880"/>
              <a:ext cx="6523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923960" y="4817160"/>
              <a:ext cx="305640" cy="162720"/>
              <a:chOff x="7923960" y="4817160"/>
              <a:chExt cx="305640" cy="162720"/>
            </a:xfrm>
          </p:grpSpPr>
          <p:sp>
            <p:nvSpPr>
              <p:cNvPr id="424" name=""/>
              <p:cNvSpPr/>
              <p:nvPr/>
            </p:nvSpPr>
            <p:spPr>
              <a:xfrm rot="16200000">
                <a:off x="7995600" y="474588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6200000">
                <a:off x="7994880" y="474588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923960" y="4871520"/>
              <a:ext cx="305640" cy="162720"/>
              <a:chOff x="7923960" y="4871520"/>
              <a:chExt cx="305640" cy="16272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7995600" y="480024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6200000">
                <a:off x="7994880" y="480024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7137360" y="5180760"/>
            <a:ext cx="660240" cy="305640"/>
            <a:chOff x="7137360" y="5180760"/>
            <a:chExt cx="660240" cy="305640"/>
          </a:xfrm>
        </p:grpSpPr>
        <p:sp>
          <p:nvSpPr>
            <p:cNvPr id="430" name=""/>
            <p:cNvSpPr/>
            <p:nvPr/>
          </p:nvSpPr>
          <p:spPr>
            <a:xfrm>
              <a:off x="7137360" y="5181480"/>
              <a:ext cx="660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137360" y="5180760"/>
              <a:ext cx="660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384680" y="5180760"/>
              <a:ext cx="165600" cy="305640"/>
              <a:chOff x="7384680" y="5180760"/>
              <a:chExt cx="165600" cy="305640"/>
            </a:xfrm>
          </p:grpSpPr>
          <p:sp>
            <p:nvSpPr>
              <p:cNvPr id="433" name=""/>
              <p:cNvSpPr/>
              <p:nvPr/>
            </p:nvSpPr>
            <p:spPr>
              <a:xfrm>
                <a:off x="7384680" y="5181480"/>
                <a:ext cx="1656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384680" y="5180400"/>
                <a:ext cx="1656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6858000" y="510552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6858000" y="5562360"/>
            <a:ext cx="75960" cy="763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511956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32600" y="510552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915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0199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05720" y="60958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Test point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153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695360" y="3747960"/>
            <a:ext cx="305640" cy="653040"/>
            <a:chOff x="7695360" y="3747960"/>
            <a:chExt cx="305640" cy="653040"/>
          </a:xfrm>
        </p:grpSpPr>
        <p:sp>
          <p:nvSpPr>
            <p:cNvPr id="451" name=""/>
            <p:cNvSpPr/>
            <p:nvPr/>
          </p:nvSpPr>
          <p:spPr>
            <a:xfrm rot="16200000">
              <a:off x="7521840" y="3921840"/>
              <a:ext cx="6530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6200000">
              <a:off x="7521120" y="3921840"/>
              <a:ext cx="6530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695360" y="3993120"/>
              <a:ext cx="305640" cy="162720"/>
              <a:chOff x="7695360" y="3993120"/>
              <a:chExt cx="305640" cy="16272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7767000" y="392184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16200000">
                <a:off x="7766280" y="392184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695360" y="4047480"/>
              <a:ext cx="305640" cy="162720"/>
              <a:chOff x="7695360" y="4047480"/>
              <a:chExt cx="305640" cy="162720"/>
            </a:xfrm>
          </p:grpSpPr>
          <p:sp>
            <p:nvSpPr>
              <p:cNvPr id="457" name=""/>
              <p:cNvSpPr/>
              <p:nvPr/>
            </p:nvSpPr>
            <p:spPr>
              <a:xfrm rot="16200000">
                <a:off x="7767000" y="397620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16200000">
                <a:off x="7766280" y="397620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6858000" y="428148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6858000" y="4738680"/>
            <a:ext cx="76320" cy="763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04000" y="42958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032600" y="42814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8880" y="4433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4052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05720" y="4205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40528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42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7466760" y="2895480"/>
            <a:ext cx="305640" cy="653040"/>
            <a:chOff x="7466760" y="2895480"/>
            <a:chExt cx="305640" cy="653040"/>
          </a:xfrm>
        </p:grpSpPr>
        <p:sp>
          <p:nvSpPr>
            <p:cNvPr id="469" name=""/>
            <p:cNvSpPr/>
            <p:nvPr/>
          </p:nvSpPr>
          <p:spPr>
            <a:xfrm rot="16200000">
              <a:off x="7293240" y="3069360"/>
              <a:ext cx="6530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16200000">
              <a:off x="7292520" y="3069360"/>
              <a:ext cx="6530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7466760" y="3140640"/>
              <a:ext cx="305640" cy="162720"/>
              <a:chOff x="7466760" y="3140640"/>
              <a:chExt cx="305640" cy="162720"/>
            </a:xfrm>
          </p:grpSpPr>
          <p:sp>
            <p:nvSpPr>
              <p:cNvPr id="472" name=""/>
              <p:cNvSpPr/>
              <p:nvPr/>
            </p:nvSpPr>
            <p:spPr>
              <a:xfrm rot="16200000">
                <a:off x="7538400" y="306936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 rot="16200000">
                <a:off x="7537680" y="306936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7466760" y="3195000"/>
              <a:ext cx="305640" cy="162720"/>
              <a:chOff x="7466760" y="3195000"/>
              <a:chExt cx="305640" cy="162720"/>
            </a:xfrm>
          </p:grpSpPr>
          <p:sp>
            <p:nvSpPr>
              <p:cNvPr id="475" name=""/>
              <p:cNvSpPr/>
              <p:nvPr/>
            </p:nvSpPr>
            <p:spPr>
              <a:xfrm rot="16200000">
                <a:off x="7538400" y="312372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16200000">
                <a:off x="7537680" y="3123720"/>
                <a:ext cx="1627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6858000" y="342900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6858000" y="3886200"/>
            <a:ext cx="76320" cy="763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04000" y="34434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32600" y="34290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960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0572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985080" y="2361960"/>
            <a:ext cx="659520" cy="304560"/>
            <a:chOff x="6985080" y="2361960"/>
            <a:chExt cx="659520" cy="304560"/>
          </a:xfrm>
        </p:grpSpPr>
        <p:sp>
          <p:nvSpPr>
            <p:cNvPr id="486" name=""/>
            <p:cNvSpPr/>
            <p:nvPr/>
          </p:nvSpPr>
          <p:spPr>
            <a:xfrm flipH="1">
              <a:off x="6985080" y="2362320"/>
              <a:ext cx="6595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985080" y="2361600"/>
              <a:ext cx="6595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7232040" y="2361960"/>
              <a:ext cx="165600" cy="304560"/>
              <a:chOff x="7232040" y="2361960"/>
              <a:chExt cx="165600" cy="30456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7232040" y="2362320"/>
                <a:ext cx="1656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7232040" y="2361600"/>
                <a:ext cx="1656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5562720" y="2286000"/>
            <a:ext cx="457200" cy="457200"/>
          </a:xfrm>
          <a:prstGeom prst="flowChartSummingJunction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077320" y="2437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38880" y="2438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848720" y="2514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2388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20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2388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41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23623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SCAN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27432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91320" y="5638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9132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3352680"/>
            <a:ext cx="53316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1905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40972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27576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clk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237636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2376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33cc"/>
                </a:solidFill>
                <a:latin typeface="Arial"/>
              </a:rPr>
              <a:t>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4191120"/>
            <a:ext cx="53316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0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19920" y="5029200"/>
            <a:ext cx="53316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2438280"/>
            <a:ext cx="15228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171840" y="2438280"/>
            <a:ext cx="15228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2209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s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434340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8000640" y="434340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72400" y="350532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772040" y="350532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53280" y="43434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s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259092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543440" y="2590920"/>
            <a:ext cx="15228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2362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s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312408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358128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396252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441972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502920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91520" y="563868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525780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02520" y="594360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6301800" y="6400800"/>
            <a:ext cx="76320" cy="759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48520" y="59580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77120" y="59436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43600" y="609588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84200" y="554688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373392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2590560" y="4191120"/>
            <a:ext cx="75960" cy="759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36920" y="374796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65520" y="373392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810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90920" y="290988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2590200" y="3367080"/>
            <a:ext cx="76320" cy="759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36920" y="29242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65520" y="29098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2057400"/>
            <a:ext cx="3808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2590200" y="2514600"/>
            <a:ext cx="76320" cy="759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36920" y="20718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65520" y="205740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810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1981080"/>
            <a:ext cx="76212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71600" y="2819520"/>
            <a:ext cx="76212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71600" y="3657600"/>
            <a:ext cx="762120" cy="457200"/>
          </a:xfrm>
          <a:prstGeom prst="irregularSeal2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6760" y="417528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43000" y="236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4300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2133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cc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 Az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62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 Az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920" y="5092560"/>
            <a:ext cx="54100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 steps to verify Pre and Post Azuro net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nctional mode: SCANEN = 0 and Test point control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ift mode : SCANE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32767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81680" y="451008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53481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365760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48520" y="61866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781680" y="5486400"/>
            <a:ext cx="0" cy="838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548640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15200" y="4952880"/>
            <a:ext cx="0" cy="5335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781680" y="495288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781680" y="4644720"/>
            <a:ext cx="0" cy="307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781680" y="464832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315200" y="4111200"/>
            <a:ext cx="0" cy="5367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81680" y="411156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781680" y="3803400"/>
            <a:ext cx="0" cy="307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81680" y="380700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010280" y="449568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10280" y="365760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77120" y="61866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32600" y="533412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548640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6324480"/>
            <a:ext cx="759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464832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3809880"/>
            <a:ext cx="1526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172200" y="6324480"/>
            <a:ext cx="1522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62485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can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6600" y="37339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can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514600" y="4038120"/>
            <a:ext cx="0" cy="838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057400" y="4495680"/>
            <a:ext cx="38088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2057400" y="4952880"/>
            <a:ext cx="76320" cy="763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03400" y="45100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32000" y="4495680"/>
            <a:ext cx="28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98480" y="464832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003400" y="473868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32000" y="473868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60600" y="4876920"/>
            <a:ext cx="54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27080" y="4876920"/>
            <a:ext cx="1526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371600" y="48006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can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14600" y="396252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765520" y="396252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14600" y="404172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048120" y="3580920"/>
            <a:ext cx="0" cy="460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358128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514600" y="320040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320364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71800" y="404172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14600" y="312408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65520" y="312408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230040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65520" y="23004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048120" y="2742840"/>
            <a:ext cx="0" cy="460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14600" y="274320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514600" y="2362320"/>
            <a:ext cx="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236520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320364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23623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can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2438280"/>
            <a:ext cx="763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Gate-level Simulation - </a:t>
            </a:r>
            <a:r>
              <a:rPr b="1" i="1" lang="en-US" sz="4000" spc="-1" strike="noStrike">
                <a:solidFill>
                  <a:srgbClr val="0000ff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626" name="Group 77"/>
          <p:cNvGrpSpPr/>
          <p:nvPr/>
        </p:nvGrpSpPr>
        <p:grpSpPr>
          <a:xfrm>
            <a:off x="4257720" y="4343040"/>
            <a:ext cx="304920" cy="305280"/>
            <a:chOff x="4257720" y="4343040"/>
            <a:chExt cx="304920" cy="305280"/>
          </a:xfrm>
        </p:grpSpPr>
        <p:sp>
          <p:nvSpPr>
            <p:cNvPr id="627" name="Rectangle 38"/>
            <p:cNvSpPr/>
            <p:nvPr/>
          </p:nvSpPr>
          <p:spPr>
            <a:xfrm>
              <a:off x="4257720" y="4343400"/>
              <a:ext cx="3049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39"/>
            <p:cNvSpPr/>
            <p:nvPr/>
          </p:nvSpPr>
          <p:spPr>
            <a:xfrm>
              <a:off x="4334040" y="4343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40"/>
            <p:cNvSpPr/>
            <p:nvPr/>
          </p:nvSpPr>
          <p:spPr>
            <a:xfrm flipV="1">
              <a:off x="4410360" y="4343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78"/>
          <p:cNvGrpSpPr/>
          <p:nvPr/>
        </p:nvGrpSpPr>
        <p:grpSpPr>
          <a:xfrm>
            <a:off x="4210200" y="3448080"/>
            <a:ext cx="399960" cy="399960"/>
            <a:chOff x="4210200" y="3448080"/>
            <a:chExt cx="399960" cy="399960"/>
          </a:xfrm>
        </p:grpSpPr>
        <p:sp>
          <p:nvSpPr>
            <p:cNvPr id="631" name="Oval 28"/>
            <p:cNvSpPr/>
            <p:nvPr/>
          </p:nvSpPr>
          <p:spPr>
            <a:xfrm>
              <a:off x="4210200" y="3448080"/>
              <a:ext cx="39996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29"/>
            <p:cNvSpPr/>
            <p:nvPr/>
          </p:nvSpPr>
          <p:spPr>
            <a:xfrm>
              <a:off x="4230360" y="3457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Straight Connector 8"/>
          <p:cNvSpPr/>
          <p:nvPr/>
        </p:nvSpPr>
        <p:spPr>
          <a:xfrm flipH="1" flipV="1">
            <a:off x="3267000" y="449532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9"/>
          <p:cNvSpPr/>
          <p:nvPr/>
        </p:nvSpPr>
        <p:spPr>
          <a:xfrm flipH="1">
            <a:off x="4571640" y="447840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0"/>
          <p:cNvSpPr/>
          <p:nvPr/>
        </p:nvSpPr>
        <p:spPr>
          <a:xfrm>
            <a:off x="3581280" y="413388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1"/>
          <p:cNvSpPr/>
          <p:nvPr/>
        </p:nvSpPr>
        <p:spPr>
          <a:xfrm>
            <a:off x="3735360" y="414324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12"/>
          <p:cNvSpPr/>
          <p:nvPr/>
        </p:nvSpPr>
        <p:spPr>
          <a:xfrm>
            <a:off x="3733920" y="4867200"/>
            <a:ext cx="1028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13"/>
          <p:cNvSpPr/>
          <p:nvPr/>
        </p:nvSpPr>
        <p:spPr>
          <a:xfrm flipV="1">
            <a:off x="4760280" y="4473360"/>
            <a:ext cx="324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4"/>
          <p:cNvSpPr/>
          <p:nvPr/>
        </p:nvSpPr>
        <p:spPr>
          <a:xfrm flipV="1">
            <a:off x="3659040" y="3648240"/>
            <a:ext cx="551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5"/>
          <p:cNvSpPr/>
          <p:nvPr/>
        </p:nvSpPr>
        <p:spPr>
          <a:xfrm flipH="1">
            <a:off x="4408200" y="3849840"/>
            <a:ext cx="324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8"/>
          <p:cNvSpPr/>
          <p:nvPr/>
        </p:nvSpPr>
        <p:spPr>
          <a:xfrm>
            <a:off x="4743360" y="4457880"/>
            <a:ext cx="460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9"/>
          <p:cNvSpPr/>
          <p:nvPr/>
        </p:nvSpPr>
        <p:spPr>
          <a:xfrm>
            <a:off x="3560760" y="4475160"/>
            <a:ext cx="44280" cy="44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0"/>
          <p:cNvSpPr/>
          <p:nvPr/>
        </p:nvSpPr>
        <p:spPr>
          <a:xfrm>
            <a:off x="4555440" y="424980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1"/>
          <p:cNvSpPr/>
          <p:nvPr/>
        </p:nvSpPr>
        <p:spPr>
          <a:xfrm>
            <a:off x="3436200" y="351324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2"/>
          <p:cNvSpPr/>
          <p:nvPr/>
        </p:nvSpPr>
        <p:spPr>
          <a:xfrm>
            <a:off x="3890880" y="3732120"/>
            <a:ext cx="825480" cy="1103400"/>
          </a:xfrm>
          <a:prstGeom prst="pie">
            <a:avLst/>
          </a:prstGeom>
          <a:noFill/>
          <a:ln w="9360">
            <a:solidFill>
              <a:srgbClr val="2d2d8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23"/>
          <p:cNvSpPr/>
          <p:nvPr/>
        </p:nvSpPr>
        <p:spPr>
          <a:xfrm>
            <a:off x="4410000" y="318132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4"/>
          <p:cNvSpPr/>
          <p:nvPr/>
        </p:nvSpPr>
        <p:spPr>
          <a:xfrm>
            <a:off x="3954240" y="3421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5"/>
          <p:cNvSpPr/>
          <p:nvPr/>
        </p:nvSpPr>
        <p:spPr>
          <a:xfrm>
            <a:off x="4236120" y="29718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6"/>
          <p:cNvSpPr/>
          <p:nvPr/>
        </p:nvSpPr>
        <p:spPr>
          <a:xfrm>
            <a:off x="4380840" y="3162240"/>
            <a:ext cx="52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0 </a:t>
            </a:r>
            <a:r>
              <a:rPr b="0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→</a:t>
            </a: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7"/>
          <p:cNvSpPr/>
          <p:nvPr/>
        </p:nvSpPr>
        <p:spPr>
          <a:xfrm>
            <a:off x="4372920" y="3905280"/>
            <a:ext cx="52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0 </a:t>
            </a:r>
            <a:r>
              <a:rPr b="0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→</a:t>
            </a:r>
            <a:r>
              <a:rPr b="0" lang="en-US" sz="1100" spc="-1" strike="noStrike">
                <a:solidFill>
                  <a:srgbClr val="2d2d8a"/>
                </a:solidFill>
                <a:latin typeface="Calibri"/>
              </a:rPr>
              <a:t> 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6"/>
          <p:cNvGrpSpPr/>
          <p:nvPr/>
        </p:nvGrpSpPr>
        <p:grpSpPr>
          <a:xfrm>
            <a:off x="3505320" y="3762360"/>
            <a:ext cx="303840" cy="380880"/>
            <a:chOff x="3505320" y="3762360"/>
            <a:chExt cx="303840" cy="380880"/>
          </a:xfrm>
        </p:grpSpPr>
        <p:sp>
          <p:nvSpPr>
            <p:cNvPr id="652" name="Freeform 117"/>
            <p:cNvSpPr/>
            <p:nvPr/>
          </p:nvSpPr>
          <p:spPr>
            <a:xfrm rot="10800000">
              <a:off x="3506040" y="4032000"/>
              <a:ext cx="30132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8"/>
            <p:cNvSpPr/>
            <p:nvPr/>
          </p:nvSpPr>
          <p:spPr>
            <a:xfrm rot="10800000">
              <a:off x="3656880" y="3762360"/>
              <a:ext cx="15228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9"/>
            <p:cNvSpPr/>
            <p:nvPr/>
          </p:nvSpPr>
          <p:spPr>
            <a:xfrm flipH="1" rot="10800000">
              <a:off x="3505320" y="3762360"/>
              <a:ext cx="15192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20"/>
            <p:cNvSpPr/>
            <p:nvPr/>
          </p:nvSpPr>
          <p:spPr>
            <a:xfrm flipV="1">
              <a:off x="3735000" y="407988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21"/>
            <p:cNvSpPr/>
            <p:nvPr/>
          </p:nvSpPr>
          <p:spPr>
            <a:xfrm flipV="1">
              <a:off x="3582720" y="407988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2"/>
            <p:cNvSpPr/>
            <p:nvPr/>
          </p:nvSpPr>
          <p:spPr>
            <a:xfrm rot="10800000">
              <a:off x="3506040" y="4066920"/>
              <a:ext cx="30132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Straight Connector 51"/>
          <p:cNvSpPr/>
          <p:nvPr/>
        </p:nvSpPr>
        <p:spPr>
          <a:xfrm flipH="1" flipV="1">
            <a:off x="3656160" y="3649320"/>
            <a:ext cx="144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ontent Placeholder 38"/>
          <p:cNvSpPr/>
          <p:nvPr/>
        </p:nvSpPr>
        <p:spPr>
          <a:xfrm>
            <a:off x="468360" y="142704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FFs in GLS power-up as “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set, only non-resetable FFs still remain “X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 after clocks start, non-resetable FFs still remain “X” because of the feedback 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gate output is “X” if one input is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purely a simulation artifact and not a real silic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respective of FF powering-up as “1” or “0”, it will follow the D-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Gate-level Simulation - </a:t>
            </a:r>
            <a:r>
              <a:rPr b="1" i="1" lang="en-US" sz="4000" spc="-1" strike="noStrike">
                <a:solidFill>
                  <a:srgbClr val="0000ff"/>
                </a:solidFill>
                <a:latin typeface="Tahoma"/>
              </a:rPr>
              <a:t>Solution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liminate “X” pessimism, PowerCentric exports a verilog file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ce/rele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tements to ensure FF is updated with D-input when clock starts to tog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ce” condition applies only if X’s appear on comparator gate inpu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one XOR input is X then comparator output forced hi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both the XOR inputs are X, then it doesn’t matter if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 output is high or low so we set it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ce the X’s are gone the “release” returns the circuit to normal op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21"/>
          <p:cNvGrpSpPr/>
          <p:nvPr/>
        </p:nvGrpSpPr>
        <p:grpSpPr>
          <a:xfrm>
            <a:off x="2364120" y="4267080"/>
            <a:ext cx="4297320" cy="1505880"/>
            <a:chOff x="2364120" y="4267080"/>
            <a:chExt cx="4297320" cy="1505880"/>
          </a:xfrm>
        </p:grpSpPr>
        <p:grpSp>
          <p:nvGrpSpPr>
            <p:cNvPr id="663" name="Group 65"/>
            <p:cNvGrpSpPr/>
            <p:nvPr/>
          </p:nvGrpSpPr>
          <p:grpSpPr>
            <a:xfrm>
              <a:off x="2364120" y="4267080"/>
              <a:ext cx="1144440" cy="946440"/>
              <a:chOff x="2364120" y="4267080"/>
              <a:chExt cx="1144440" cy="946440"/>
            </a:xfrm>
          </p:grpSpPr>
          <p:sp>
            <p:nvSpPr>
              <p:cNvPr id="664" name="TextBox 57"/>
              <p:cNvSpPr/>
              <p:nvPr/>
            </p:nvSpPr>
            <p:spPr>
              <a:xfrm>
                <a:off x="2364120" y="4267080"/>
                <a:ext cx="1144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68"/>
              <p:cNvSpPr/>
              <p:nvPr/>
            </p:nvSpPr>
            <p:spPr>
              <a:xfrm>
                <a:off x="2666880" y="4524120"/>
                <a:ext cx="790560" cy="65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traight Connector 69"/>
              <p:cNvSpPr/>
              <p:nvPr/>
            </p:nvSpPr>
            <p:spPr>
              <a:xfrm>
                <a:off x="2676600" y="4734000"/>
                <a:ext cx="781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traight Connector 70"/>
              <p:cNvSpPr/>
              <p:nvPr/>
            </p:nvSpPr>
            <p:spPr>
              <a:xfrm>
                <a:off x="2676600" y="4952880"/>
                <a:ext cx="781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traight Connector 71"/>
              <p:cNvSpPr/>
              <p:nvPr/>
            </p:nvSpPr>
            <p:spPr>
              <a:xfrm flipH="1">
                <a:off x="2941920" y="4524120"/>
                <a:ext cx="1440" cy="6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traight Connector 72"/>
              <p:cNvSpPr/>
              <p:nvPr/>
            </p:nvSpPr>
            <p:spPr>
              <a:xfrm flipH="1">
                <a:off x="3218040" y="4524120"/>
                <a:ext cx="1440" cy="6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65"/>
            <p:cNvGrpSpPr/>
            <p:nvPr/>
          </p:nvGrpSpPr>
          <p:grpSpPr>
            <a:xfrm>
              <a:off x="5246280" y="4267080"/>
              <a:ext cx="1144440" cy="946440"/>
              <a:chOff x="5246280" y="4267080"/>
              <a:chExt cx="1144440" cy="946440"/>
            </a:xfrm>
          </p:grpSpPr>
          <p:sp>
            <p:nvSpPr>
              <p:cNvPr id="671" name="TextBox 57"/>
              <p:cNvSpPr/>
              <p:nvPr/>
            </p:nvSpPr>
            <p:spPr>
              <a:xfrm>
                <a:off x="5246280" y="4267080"/>
                <a:ext cx="1144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1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	</a:t>
                </a:r>
                <a:r>
                  <a:rPr b="1" lang="en-US" sz="1400" spc="-1" strike="noStrike">
                    <a:solidFill>
                      <a:srgbClr val="2d2d8a"/>
                    </a:solidFill>
                    <a:latin typeface="Courier New"/>
                    <a:ea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57"/>
              <p:cNvSpPr/>
              <p:nvPr/>
            </p:nvSpPr>
            <p:spPr>
              <a:xfrm>
                <a:off x="5549760" y="4524120"/>
                <a:ext cx="790560" cy="65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traight Connector 59"/>
              <p:cNvSpPr/>
              <p:nvPr/>
            </p:nvSpPr>
            <p:spPr>
              <a:xfrm>
                <a:off x="5559480" y="4734000"/>
                <a:ext cx="781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traight Connector 63"/>
              <p:cNvSpPr/>
              <p:nvPr/>
            </p:nvSpPr>
            <p:spPr>
              <a:xfrm>
                <a:off x="5559480" y="4952880"/>
                <a:ext cx="781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65"/>
              <p:cNvSpPr/>
              <p:nvPr/>
            </p:nvSpPr>
            <p:spPr>
              <a:xfrm flipH="1">
                <a:off x="5824440" y="4524120"/>
                <a:ext cx="1440" cy="6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traight Connector 66"/>
              <p:cNvSpPr/>
              <p:nvPr/>
            </p:nvSpPr>
            <p:spPr>
              <a:xfrm flipH="1">
                <a:off x="6100920" y="4524120"/>
                <a:ext cx="1440" cy="65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Right Arrow 53"/>
            <p:cNvSpPr/>
            <p:nvPr/>
          </p:nvSpPr>
          <p:spPr>
            <a:xfrm>
              <a:off x="4233600" y="4673880"/>
              <a:ext cx="438480" cy="31716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54"/>
            <p:cNvSpPr/>
            <p:nvPr/>
          </p:nvSpPr>
          <p:spPr>
            <a:xfrm>
              <a:off x="2516760" y="5176800"/>
              <a:ext cx="1090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alibri"/>
                </a:rPr>
                <a:t>Default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Calibri"/>
                </a:rPr>
                <a:t>XOR truth t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55"/>
            <p:cNvSpPr/>
            <p:nvPr/>
          </p:nvSpPr>
          <p:spPr>
            <a:xfrm>
              <a:off x="5229360" y="5176800"/>
              <a:ext cx="1432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alibri"/>
                  <a:ea typeface="Courier New"/>
                </a:rPr>
                <a:t>Forced truth table f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alibri"/>
                  <a:ea typeface="Courier New"/>
                </a:rPr>
                <a:t>structural gating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Calibri"/>
                  <a:ea typeface="Courier New"/>
                </a:rPr>
                <a:t>comparator g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656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Gate-level Simulation - Handling XOR re-mapping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684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-CTS tools may eliminate comparator outputs from the netlist, e.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longer possible to safely force/release the ne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train downstream flow to not re-map comparat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ent naming pattern for comparators so this is eas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dont_touch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r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map_only *AZ_encmp*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37"/>
          <p:cNvGrpSpPr/>
          <p:nvPr/>
        </p:nvGrpSpPr>
        <p:grpSpPr>
          <a:xfrm>
            <a:off x="5470560" y="2504880"/>
            <a:ext cx="304560" cy="304920"/>
            <a:chOff x="5470560" y="2504880"/>
            <a:chExt cx="304560" cy="304920"/>
          </a:xfrm>
        </p:grpSpPr>
        <p:sp>
          <p:nvSpPr>
            <p:cNvPr id="683" name="Rectangle 38"/>
            <p:cNvSpPr/>
            <p:nvPr/>
          </p:nvSpPr>
          <p:spPr>
            <a:xfrm>
              <a:off x="5470560" y="2505240"/>
              <a:ext cx="3045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39"/>
            <p:cNvSpPr/>
            <p:nvPr/>
          </p:nvSpPr>
          <p:spPr>
            <a:xfrm>
              <a:off x="5546520" y="2505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40"/>
            <p:cNvSpPr/>
            <p:nvPr/>
          </p:nvSpPr>
          <p:spPr>
            <a:xfrm flipV="1">
              <a:off x="5622840" y="2504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73"/>
          <p:cNvGrpSpPr/>
          <p:nvPr/>
        </p:nvGrpSpPr>
        <p:grpSpPr>
          <a:xfrm>
            <a:off x="6307200" y="2195640"/>
            <a:ext cx="382320" cy="304560"/>
            <a:chOff x="6307200" y="2195640"/>
            <a:chExt cx="382320" cy="304560"/>
          </a:xfrm>
        </p:grpSpPr>
        <p:sp>
          <p:nvSpPr>
            <p:cNvPr id="687" name="AutoShape 71"/>
            <p:cNvSpPr/>
            <p:nvPr/>
          </p:nvSpPr>
          <p:spPr>
            <a:xfrm>
              <a:off x="6307200" y="2195640"/>
              <a:ext cx="306360" cy="304560"/>
            </a:xfrm>
            <a:prstGeom prst="flowChartDelay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2"/>
            <p:cNvSpPr/>
            <p:nvPr/>
          </p:nvSpPr>
          <p:spPr>
            <a:xfrm rot="16200000">
              <a:off x="6613560" y="2309400"/>
              <a:ext cx="75960" cy="75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73"/>
          <p:cNvGrpSpPr/>
          <p:nvPr/>
        </p:nvGrpSpPr>
        <p:grpSpPr>
          <a:xfrm>
            <a:off x="6307200" y="2881440"/>
            <a:ext cx="382320" cy="304560"/>
            <a:chOff x="6307200" y="2881440"/>
            <a:chExt cx="382320" cy="304560"/>
          </a:xfrm>
        </p:grpSpPr>
        <p:sp>
          <p:nvSpPr>
            <p:cNvPr id="690" name="AutoShape 71"/>
            <p:cNvSpPr/>
            <p:nvPr/>
          </p:nvSpPr>
          <p:spPr>
            <a:xfrm>
              <a:off x="6307200" y="2881440"/>
              <a:ext cx="306360" cy="304560"/>
            </a:xfrm>
            <a:prstGeom prst="flowChartDelay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72"/>
            <p:cNvSpPr/>
            <p:nvPr/>
          </p:nvSpPr>
          <p:spPr>
            <a:xfrm rot="16200000">
              <a:off x="6613560" y="2995200"/>
              <a:ext cx="75960" cy="75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73"/>
          <p:cNvGrpSpPr/>
          <p:nvPr/>
        </p:nvGrpSpPr>
        <p:grpSpPr>
          <a:xfrm>
            <a:off x="7147080" y="2728800"/>
            <a:ext cx="382320" cy="456840"/>
            <a:chOff x="7147080" y="2728800"/>
            <a:chExt cx="382320" cy="456840"/>
          </a:xfrm>
        </p:grpSpPr>
        <p:sp>
          <p:nvSpPr>
            <p:cNvPr id="693" name="AutoShape 71"/>
            <p:cNvSpPr/>
            <p:nvPr/>
          </p:nvSpPr>
          <p:spPr>
            <a:xfrm>
              <a:off x="7147080" y="2728800"/>
              <a:ext cx="306360" cy="456840"/>
            </a:xfrm>
            <a:prstGeom prst="flowChartDelay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72"/>
            <p:cNvSpPr/>
            <p:nvPr/>
          </p:nvSpPr>
          <p:spPr>
            <a:xfrm rot="16200000">
              <a:off x="7434360" y="2918880"/>
              <a:ext cx="114120" cy="75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4"/>
          <p:cNvGrpSpPr/>
          <p:nvPr/>
        </p:nvGrpSpPr>
        <p:grpSpPr>
          <a:xfrm>
            <a:off x="5775120" y="3033720"/>
            <a:ext cx="228960" cy="152280"/>
            <a:chOff x="5775120" y="3033720"/>
            <a:chExt cx="228960" cy="152280"/>
          </a:xfrm>
        </p:grpSpPr>
        <p:sp>
          <p:nvSpPr>
            <p:cNvPr id="696" name="AutoShape 5"/>
            <p:cNvSpPr/>
            <p:nvPr/>
          </p:nvSpPr>
          <p:spPr>
            <a:xfrm rot="5400000">
              <a:off x="5774400" y="3034440"/>
              <a:ext cx="152280" cy="150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6"/>
            <p:cNvSpPr/>
            <p:nvPr/>
          </p:nvSpPr>
          <p:spPr>
            <a:xfrm>
              <a:off x="5927760" y="3075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Straight Connector 20"/>
          <p:cNvSpPr/>
          <p:nvPr/>
        </p:nvSpPr>
        <p:spPr>
          <a:xfrm flipH="1" flipV="1">
            <a:off x="5013360" y="2652480"/>
            <a:ext cx="4572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Elbow Connector 21"/>
          <p:cNvCxnSpPr/>
          <p:nvPr/>
        </p:nvCxnSpPr>
        <p:spPr>
          <a:xfrm rot="10800000">
            <a:off x="5164920" y="2652120"/>
            <a:ext cx="612000" cy="457920"/>
          </a:xfrm>
          <a:prstGeom prst="bentConnector3">
            <a:avLst>
              <a:gd name="adj1" fmla="val 8811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Straight Connector 22"/>
          <p:cNvSpPr/>
          <p:nvPr/>
        </p:nvSpPr>
        <p:spPr>
          <a:xfrm flipH="1">
            <a:off x="5775120" y="265032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23"/>
          <p:cNvSpPr/>
          <p:nvPr/>
        </p:nvSpPr>
        <p:spPr>
          <a:xfrm flipV="1">
            <a:off x="6004080" y="3110040"/>
            <a:ext cx="30456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Elbow Connector 24"/>
          <p:cNvCxnSpPr/>
          <p:nvPr/>
        </p:nvCxnSpPr>
        <p:spPr>
          <a:xfrm flipH="1" rot="10800000">
            <a:off x="5241600" y="2270880"/>
            <a:ext cx="1067400" cy="381960"/>
          </a:xfrm>
          <a:prstGeom prst="bentConnector3">
            <a:avLst>
              <a:gd name="adj1" fmla="val -10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03" name="Elbow Connector 25"/>
          <p:cNvCxnSpPr/>
          <p:nvPr/>
        </p:nvCxnSpPr>
        <p:spPr>
          <a:xfrm flipV="1">
            <a:off x="6079680" y="2423520"/>
            <a:ext cx="229320" cy="229320"/>
          </a:xfrm>
          <a:prstGeom prst="bentConnector3">
            <a:avLst>
              <a:gd name="adj1" fmla="val 68710"/>
            </a:avLst>
          </a:prstGeom>
          <a:ln w="19080">
            <a:solidFill>
              <a:srgbClr val="000000"/>
            </a:solidFill>
            <a:miter/>
          </a:ln>
        </p:spPr>
      </p:cxnSp>
      <p:pic>
        <p:nvPicPr>
          <p:cNvPr id="704" name="Group 4" descr=""/>
          <p:cNvPicPr/>
          <p:nvPr/>
        </p:nvPicPr>
        <p:blipFill>
          <a:blip r:embed="rId1"/>
          <a:stretch/>
        </p:blipFill>
        <p:spPr>
          <a:xfrm>
            <a:off x="5919840" y="2560680"/>
            <a:ext cx="255600" cy="195120"/>
          </a:xfrm>
          <a:prstGeom prst="rect">
            <a:avLst/>
          </a:prstGeom>
          <a:ln w="0">
            <a:noFill/>
          </a:ln>
        </p:spPr>
      </p:pic>
      <p:cxnSp>
        <p:nvCxnSpPr>
          <p:cNvPr id="705" name="Elbow Connector 29"/>
          <p:cNvCxnSpPr/>
          <p:nvPr/>
        </p:nvCxnSpPr>
        <p:spPr>
          <a:xfrm>
            <a:off x="5775120" y="2652840"/>
            <a:ext cx="532440" cy="305280"/>
          </a:xfrm>
          <a:prstGeom prst="bentConnector3">
            <a:avLst>
              <a:gd name="adj1" fmla="val 1427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06" name="Elbow Connector 30"/>
          <p:cNvCxnSpPr/>
          <p:nvPr/>
        </p:nvCxnSpPr>
        <p:spPr>
          <a:xfrm>
            <a:off x="6689520" y="2347920"/>
            <a:ext cx="470520" cy="448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07" name="Elbow Connector 31"/>
          <p:cNvCxnSpPr/>
          <p:nvPr/>
        </p:nvCxnSpPr>
        <p:spPr>
          <a:xfrm flipV="1">
            <a:off x="6689880" y="2957400"/>
            <a:ext cx="457920" cy="76680"/>
          </a:xfrm>
          <a:prstGeom prst="bentConnector3">
            <a:avLst>
              <a:gd name="adj1" fmla="val 4996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08" name="Elbow Connector 32"/>
          <p:cNvCxnSpPr/>
          <p:nvPr/>
        </p:nvCxnSpPr>
        <p:spPr>
          <a:xfrm flipV="1" rot="10800000">
            <a:off x="6460560" y="3109680"/>
            <a:ext cx="686520" cy="457920"/>
          </a:xfrm>
          <a:prstGeom prst="bentConnector3">
            <a:avLst>
              <a:gd name="adj1" fmla="val 21038"/>
            </a:avLst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709" name="Group 37"/>
          <p:cNvGrpSpPr/>
          <p:nvPr/>
        </p:nvGrpSpPr>
        <p:grpSpPr>
          <a:xfrm>
            <a:off x="5703840" y="3527280"/>
            <a:ext cx="304560" cy="304920"/>
            <a:chOff x="5703840" y="3527280"/>
            <a:chExt cx="304560" cy="304920"/>
          </a:xfrm>
        </p:grpSpPr>
        <p:sp>
          <p:nvSpPr>
            <p:cNvPr id="710" name="Rectangle 38"/>
            <p:cNvSpPr/>
            <p:nvPr/>
          </p:nvSpPr>
          <p:spPr>
            <a:xfrm>
              <a:off x="5703840" y="3527280"/>
              <a:ext cx="3045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39"/>
            <p:cNvSpPr/>
            <p:nvPr/>
          </p:nvSpPr>
          <p:spPr>
            <a:xfrm>
              <a:off x="5779800" y="3527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0"/>
            <p:cNvSpPr/>
            <p:nvPr/>
          </p:nvSpPr>
          <p:spPr>
            <a:xfrm flipV="1">
              <a:off x="5856120" y="3527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6"/>
          <p:cNvGrpSpPr/>
          <p:nvPr/>
        </p:nvGrpSpPr>
        <p:grpSpPr>
          <a:xfrm>
            <a:off x="6076800" y="3411360"/>
            <a:ext cx="380880" cy="304920"/>
            <a:chOff x="6076800" y="3411360"/>
            <a:chExt cx="380880" cy="304920"/>
          </a:xfrm>
        </p:grpSpPr>
        <p:sp>
          <p:nvSpPr>
            <p:cNvPr id="714" name="Freeform 117"/>
            <p:cNvSpPr/>
            <p:nvPr/>
          </p:nvSpPr>
          <p:spPr>
            <a:xfrm rot="16200000">
              <a:off x="6019560" y="3546000"/>
              <a:ext cx="30168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18"/>
            <p:cNvSpPr/>
            <p:nvPr/>
          </p:nvSpPr>
          <p:spPr>
            <a:xfrm rot="16200000">
              <a:off x="6229080" y="3487680"/>
              <a:ext cx="1526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19"/>
            <p:cNvSpPr/>
            <p:nvPr/>
          </p:nvSpPr>
          <p:spPr>
            <a:xfrm flipH="1" rot="16200000">
              <a:off x="6229080" y="3335040"/>
              <a:ext cx="15228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20"/>
            <p:cNvSpPr/>
            <p:nvPr/>
          </p:nvSpPr>
          <p:spPr>
            <a:xfrm>
              <a:off x="6076800" y="364140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21"/>
            <p:cNvSpPr/>
            <p:nvPr/>
          </p:nvSpPr>
          <p:spPr>
            <a:xfrm>
              <a:off x="6076800" y="348912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2"/>
            <p:cNvSpPr/>
            <p:nvPr/>
          </p:nvSpPr>
          <p:spPr>
            <a:xfrm rot="16200000">
              <a:off x="5984640" y="3546000"/>
              <a:ext cx="30168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Straight Connector 47"/>
          <p:cNvSpPr/>
          <p:nvPr/>
        </p:nvSpPr>
        <p:spPr>
          <a:xfrm flipH="1">
            <a:off x="6008400" y="3638520"/>
            <a:ext cx="13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49"/>
          <p:cNvSpPr/>
          <p:nvPr/>
        </p:nvSpPr>
        <p:spPr>
          <a:xfrm flipH="1">
            <a:off x="5462280" y="349560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51"/>
          <p:cNvSpPr/>
          <p:nvPr/>
        </p:nvSpPr>
        <p:spPr>
          <a:xfrm flipH="1">
            <a:off x="5317920" y="36752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54"/>
          <p:cNvSpPr/>
          <p:nvPr/>
        </p:nvSpPr>
        <p:spPr>
          <a:xfrm>
            <a:off x="5470560" y="3486240"/>
            <a:ext cx="0" cy="18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00"/>
          <p:cNvSpPr/>
          <p:nvPr/>
        </p:nvSpPr>
        <p:spPr>
          <a:xfrm flipH="1">
            <a:off x="7532280" y="2957400"/>
            <a:ext cx="13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7"/>
          <p:cNvGrpSpPr/>
          <p:nvPr/>
        </p:nvGrpSpPr>
        <p:grpSpPr>
          <a:xfrm>
            <a:off x="1533600" y="2469960"/>
            <a:ext cx="304560" cy="304920"/>
            <a:chOff x="1533600" y="2469960"/>
            <a:chExt cx="304560" cy="304920"/>
          </a:xfrm>
        </p:grpSpPr>
        <p:sp>
          <p:nvSpPr>
            <p:cNvPr id="726" name="Rectangle 38"/>
            <p:cNvSpPr/>
            <p:nvPr/>
          </p:nvSpPr>
          <p:spPr>
            <a:xfrm>
              <a:off x="1533600" y="2470320"/>
              <a:ext cx="3045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9"/>
            <p:cNvSpPr/>
            <p:nvPr/>
          </p:nvSpPr>
          <p:spPr>
            <a:xfrm>
              <a:off x="1609560" y="2470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40"/>
            <p:cNvSpPr/>
            <p:nvPr/>
          </p:nvSpPr>
          <p:spPr>
            <a:xfrm flipV="1">
              <a:off x="1685880" y="2469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16"/>
          <p:cNvGrpSpPr/>
          <p:nvPr/>
        </p:nvGrpSpPr>
        <p:grpSpPr>
          <a:xfrm>
            <a:off x="1906560" y="2354400"/>
            <a:ext cx="380880" cy="303840"/>
            <a:chOff x="1906560" y="2354400"/>
            <a:chExt cx="380880" cy="303840"/>
          </a:xfrm>
        </p:grpSpPr>
        <p:sp>
          <p:nvSpPr>
            <p:cNvPr id="730" name="Freeform 117"/>
            <p:cNvSpPr/>
            <p:nvPr/>
          </p:nvSpPr>
          <p:spPr>
            <a:xfrm rot="16200000">
              <a:off x="1849680" y="2488320"/>
              <a:ext cx="30132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8"/>
            <p:cNvSpPr/>
            <p:nvPr/>
          </p:nvSpPr>
          <p:spPr>
            <a:xfrm rot="16200000">
              <a:off x="2058840" y="2429640"/>
              <a:ext cx="15228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9"/>
            <p:cNvSpPr/>
            <p:nvPr/>
          </p:nvSpPr>
          <p:spPr>
            <a:xfrm flipH="1" rot="16200000">
              <a:off x="2059200" y="2278080"/>
              <a:ext cx="15192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20"/>
            <p:cNvSpPr/>
            <p:nvPr/>
          </p:nvSpPr>
          <p:spPr>
            <a:xfrm>
              <a:off x="1906560" y="258408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21"/>
            <p:cNvSpPr/>
            <p:nvPr/>
          </p:nvSpPr>
          <p:spPr>
            <a:xfrm>
              <a:off x="1906560" y="243180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22"/>
            <p:cNvSpPr/>
            <p:nvPr/>
          </p:nvSpPr>
          <p:spPr>
            <a:xfrm rot="16200000">
              <a:off x="1814760" y="2488320"/>
              <a:ext cx="30132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Straight Connector 112"/>
          <p:cNvSpPr/>
          <p:nvPr/>
        </p:nvSpPr>
        <p:spPr>
          <a:xfrm flipH="1">
            <a:off x="1837800" y="259092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13"/>
          <p:cNvSpPr/>
          <p:nvPr/>
        </p:nvSpPr>
        <p:spPr>
          <a:xfrm flipH="1">
            <a:off x="1290240" y="2428920"/>
            <a:ext cx="663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14"/>
          <p:cNvSpPr/>
          <p:nvPr/>
        </p:nvSpPr>
        <p:spPr>
          <a:xfrm flipH="1">
            <a:off x="1147320" y="26179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15"/>
          <p:cNvSpPr/>
          <p:nvPr/>
        </p:nvSpPr>
        <p:spPr>
          <a:xfrm>
            <a:off x="1300320" y="2428920"/>
            <a:ext cx="0" cy="18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37"/>
          <p:cNvGrpSpPr/>
          <p:nvPr/>
        </p:nvGrpSpPr>
        <p:grpSpPr>
          <a:xfrm>
            <a:off x="1539720" y="3076560"/>
            <a:ext cx="304560" cy="304920"/>
            <a:chOff x="1539720" y="3076560"/>
            <a:chExt cx="304560" cy="304920"/>
          </a:xfrm>
        </p:grpSpPr>
        <p:sp>
          <p:nvSpPr>
            <p:cNvPr id="741" name="Rectangle 38"/>
            <p:cNvSpPr/>
            <p:nvPr/>
          </p:nvSpPr>
          <p:spPr>
            <a:xfrm>
              <a:off x="1539720" y="3076560"/>
              <a:ext cx="3045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>
              <a:off x="1615680" y="30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V="1">
              <a:off x="1692000" y="30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116"/>
          <p:cNvGrpSpPr/>
          <p:nvPr/>
        </p:nvGrpSpPr>
        <p:grpSpPr>
          <a:xfrm>
            <a:off x="1914480" y="2960640"/>
            <a:ext cx="380880" cy="304920"/>
            <a:chOff x="1914480" y="2960640"/>
            <a:chExt cx="380880" cy="304920"/>
          </a:xfrm>
        </p:grpSpPr>
        <p:sp>
          <p:nvSpPr>
            <p:cNvPr id="745" name="Freeform 117"/>
            <p:cNvSpPr/>
            <p:nvPr/>
          </p:nvSpPr>
          <p:spPr>
            <a:xfrm rot="16200000">
              <a:off x="1857240" y="3095280"/>
              <a:ext cx="30168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8"/>
            <p:cNvSpPr/>
            <p:nvPr/>
          </p:nvSpPr>
          <p:spPr>
            <a:xfrm rot="16200000">
              <a:off x="2066760" y="3036960"/>
              <a:ext cx="1526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9"/>
            <p:cNvSpPr/>
            <p:nvPr/>
          </p:nvSpPr>
          <p:spPr>
            <a:xfrm flipH="1" rot="16200000">
              <a:off x="2066760" y="2884320"/>
              <a:ext cx="15228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20"/>
            <p:cNvSpPr/>
            <p:nvPr/>
          </p:nvSpPr>
          <p:spPr>
            <a:xfrm>
              <a:off x="1914480" y="319068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21"/>
            <p:cNvSpPr/>
            <p:nvPr/>
          </p:nvSpPr>
          <p:spPr>
            <a:xfrm>
              <a:off x="1914480" y="303840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22"/>
            <p:cNvSpPr/>
            <p:nvPr/>
          </p:nvSpPr>
          <p:spPr>
            <a:xfrm rot="16200000">
              <a:off x="1822320" y="3095280"/>
              <a:ext cx="301680" cy="3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Straight Connector 127"/>
          <p:cNvSpPr/>
          <p:nvPr/>
        </p:nvSpPr>
        <p:spPr>
          <a:xfrm flipH="1">
            <a:off x="1844280" y="3189240"/>
            <a:ext cx="13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28"/>
          <p:cNvSpPr/>
          <p:nvPr/>
        </p:nvSpPr>
        <p:spPr>
          <a:xfrm flipH="1">
            <a:off x="1298160" y="3036960"/>
            <a:ext cx="663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29"/>
          <p:cNvSpPr/>
          <p:nvPr/>
        </p:nvSpPr>
        <p:spPr>
          <a:xfrm flipH="1">
            <a:off x="1155240" y="32241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30"/>
          <p:cNvSpPr/>
          <p:nvPr/>
        </p:nvSpPr>
        <p:spPr>
          <a:xfrm>
            <a:off x="1308240" y="303696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3"/>
          <p:cNvGrpSpPr/>
          <p:nvPr/>
        </p:nvGrpSpPr>
        <p:grpSpPr>
          <a:xfrm>
            <a:off x="2629080" y="2668680"/>
            <a:ext cx="382320" cy="304560"/>
            <a:chOff x="2629080" y="2668680"/>
            <a:chExt cx="382320" cy="304560"/>
          </a:xfrm>
        </p:grpSpPr>
        <p:sp>
          <p:nvSpPr>
            <p:cNvPr id="756" name="AutoShape 71"/>
            <p:cNvSpPr/>
            <p:nvPr/>
          </p:nvSpPr>
          <p:spPr>
            <a:xfrm>
              <a:off x="2629080" y="2668680"/>
              <a:ext cx="306360" cy="304560"/>
            </a:xfrm>
            <a:prstGeom prst="flowChartDelay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2"/>
            <p:cNvSpPr/>
            <p:nvPr/>
          </p:nvSpPr>
          <p:spPr>
            <a:xfrm rot="16200000">
              <a:off x="2935440" y="2782440"/>
              <a:ext cx="75960" cy="75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8" name="Elbow Connector 143"/>
          <p:cNvCxnSpPr/>
          <p:nvPr/>
        </p:nvCxnSpPr>
        <p:spPr>
          <a:xfrm>
            <a:off x="2295000" y="2514600"/>
            <a:ext cx="320040" cy="192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round/>
          </a:ln>
        </p:spPr>
      </p:cxnSp>
      <p:cxnSp>
        <p:nvCxnSpPr>
          <p:cNvPr id="759" name="Elbow Connector 147"/>
          <p:cNvCxnSpPr/>
          <p:nvPr/>
        </p:nvCxnSpPr>
        <p:spPr>
          <a:xfrm flipV="1">
            <a:off x="2292480" y="2913840"/>
            <a:ext cx="319680" cy="191160"/>
          </a:xfrm>
          <a:prstGeom prst="bentConnector3">
            <a:avLst>
              <a:gd name="adj1" fmla="val 49943"/>
            </a:avLst>
          </a:prstGeom>
          <a:ln w="19080">
            <a:solidFill>
              <a:srgbClr val="000000"/>
            </a:solidFill>
            <a:round/>
          </a:ln>
        </p:spPr>
      </p:cxnSp>
      <p:sp>
        <p:nvSpPr>
          <p:cNvPr id="760" name="Straight Connector 148"/>
          <p:cNvSpPr/>
          <p:nvPr/>
        </p:nvSpPr>
        <p:spPr>
          <a:xfrm flipH="1">
            <a:off x="3003120" y="2827440"/>
            <a:ext cx="1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ight Arrow 149"/>
          <p:cNvSpPr/>
          <p:nvPr/>
        </p:nvSpPr>
        <p:spPr>
          <a:xfrm>
            <a:off x="3581280" y="2666880"/>
            <a:ext cx="838440" cy="304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3366ff"/>
          </a:solidFill>
          <a:ln w="12600">
            <a:solidFill>
              <a:srgbClr val="0054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Results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52440" y="2386080"/>
          <a:ext cx="8497800" cy="2338200"/>
        </p:xfrm>
        <a:graphic>
          <a:graphicData uri="http://schemas.openxmlformats.org/drawingml/2006/table">
            <a:tbl>
              <a:tblPr/>
              <a:tblGrid>
                <a:gridCol w="3152880"/>
                <a:gridCol w="2465280"/>
                <a:gridCol w="287964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 S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wer Improvement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 nm low-power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.6 million inst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e clocks (&gt;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est freq. = 266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ock Power 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gister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4" name=""/>
          <p:cNvSpPr/>
          <p:nvPr/>
        </p:nvSpPr>
        <p:spPr>
          <a:xfrm>
            <a:off x="380880" y="4724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rea overhead of 0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ummary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 design methodology required to ensu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edunda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s (added during XOR gating) do not cause any design 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OR-based Clock-Gating saved ~22% of Clock+FF power over RTL-based Clock-G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Introduction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ng power consumption to improve battery life is key care-about in digital design tod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-level Clock-Gating can reduce clock and FF power by ~20-30% over and above RTL-level clock-G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/ FF consumes ~40-50% of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hallenges in Gate-level Clock-Gating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-level clock-gating introduces new logic paths in the design, which a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nd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dded at the end of the data-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nda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roduce functional / testability / timing-closure / verification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esentation, we describe robust methodology to preven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due to newly add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nd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764240"/>
            <a:ext cx="914400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Basic RTL-Level Clock-Gating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137" name="Group 39"/>
          <p:cNvGrpSpPr/>
          <p:nvPr/>
        </p:nvGrpSpPr>
        <p:grpSpPr>
          <a:xfrm>
            <a:off x="4861080" y="4379760"/>
            <a:ext cx="567720" cy="679680"/>
            <a:chOff x="4861080" y="4379760"/>
            <a:chExt cx="567720" cy="679680"/>
          </a:xfrm>
        </p:grpSpPr>
        <p:sp>
          <p:nvSpPr>
            <p:cNvPr id="138" name="Rectangle 40"/>
            <p:cNvSpPr/>
            <p:nvPr/>
          </p:nvSpPr>
          <p:spPr>
            <a:xfrm>
              <a:off x="5002920" y="4379760"/>
              <a:ext cx="284040" cy="6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1"/>
            <p:cNvSpPr/>
            <p:nvPr/>
          </p:nvSpPr>
          <p:spPr>
            <a:xfrm>
              <a:off x="5002920" y="4812480"/>
              <a:ext cx="4608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2"/>
            <p:cNvSpPr/>
            <p:nvPr/>
          </p:nvSpPr>
          <p:spPr>
            <a:xfrm flipH="1">
              <a:off x="5002560" y="4874040"/>
              <a:ext cx="4716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"/>
            <p:cNvSpPr/>
            <p:nvPr/>
          </p:nvSpPr>
          <p:spPr>
            <a:xfrm>
              <a:off x="5141160" y="4379760"/>
              <a:ext cx="18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4"/>
            <p:cNvSpPr/>
            <p:nvPr/>
          </p:nvSpPr>
          <p:spPr>
            <a:xfrm>
              <a:off x="5286960" y="4503240"/>
              <a:ext cx="1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4861080" y="4874040"/>
              <a:ext cx="72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6"/>
            <p:cNvSpPr/>
            <p:nvPr/>
          </p:nvSpPr>
          <p:spPr>
            <a:xfrm flipH="1">
              <a:off x="4861080" y="4874040"/>
              <a:ext cx="1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47"/>
          <p:cNvSpPr/>
          <p:nvPr/>
        </p:nvSpPr>
        <p:spPr>
          <a:xfrm flipH="1">
            <a:off x="4812840" y="4503600"/>
            <a:ext cx="189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4964040" y="4392720"/>
            <a:ext cx="18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9"/>
          <p:cNvSpPr/>
          <p:nvPr/>
        </p:nvSpPr>
        <p:spPr>
          <a:xfrm flipH="1">
            <a:off x="4624200" y="5059440"/>
            <a:ext cx="236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0"/>
          <p:cNvSpPr/>
          <p:nvPr/>
        </p:nvSpPr>
        <p:spPr>
          <a:xfrm flipH="1">
            <a:off x="3485880" y="512136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3629160" y="4379760"/>
            <a:ext cx="1042920" cy="9892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2"/>
          <p:cNvSpPr/>
          <p:nvPr/>
        </p:nvSpPr>
        <p:spPr>
          <a:xfrm>
            <a:off x="4435560" y="4935600"/>
            <a:ext cx="189000" cy="247680"/>
          </a:xfrm>
          <a:custGeom>
            <a:avLst/>
            <a:gdLst>
              <a:gd name="textAreaLeft" fmla="*/ 0 w 189000"/>
              <a:gd name="textAreaRight" fmla="*/ 189360 w 189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lnTo>
                  <a:pt x="0" y="21600"/>
                </a:lnTo>
                <a:lnTo>
                  <a:pt x="0" y="0"/>
                </a:lnTo>
                <a:close/>
                <a:moveTo>
                  <a:pt x="10800" y="0"/>
                </a:move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 flipH="1">
            <a:off x="4292280" y="4997520"/>
            <a:ext cx="142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 flipV="1">
            <a:off x="4292640" y="4689360"/>
            <a:ext cx="144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>
            <a:off x="4055760" y="468936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3867120" y="4503600"/>
            <a:ext cx="189000" cy="3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57"/>
          <p:cNvGrpSpPr/>
          <p:nvPr/>
        </p:nvGrpSpPr>
        <p:grpSpPr>
          <a:xfrm>
            <a:off x="3660840" y="4813200"/>
            <a:ext cx="218880" cy="231480"/>
            <a:chOff x="3660840" y="4813200"/>
            <a:chExt cx="218880" cy="231480"/>
          </a:xfrm>
        </p:grpSpPr>
        <p:sp>
          <p:nvSpPr>
            <p:cNvPr id="156" name="AutoShape 58"/>
            <p:cNvSpPr/>
            <p:nvPr/>
          </p:nvSpPr>
          <p:spPr>
            <a:xfrm>
              <a:off x="3660840" y="4871160"/>
              <a:ext cx="218880" cy="1735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59"/>
            <p:cNvSpPr/>
            <p:nvPr/>
          </p:nvSpPr>
          <p:spPr>
            <a:xfrm>
              <a:off x="3734280" y="4813200"/>
              <a:ext cx="72720" cy="579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lose/>
                  <a:moveTo>
                    <a:pt x="1080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60"/>
          <p:cNvSpPr/>
          <p:nvPr/>
        </p:nvSpPr>
        <p:spPr>
          <a:xfrm flipV="1">
            <a:off x="3772080" y="4997520"/>
            <a:ext cx="144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1"/>
          <p:cNvSpPr/>
          <p:nvPr/>
        </p:nvSpPr>
        <p:spPr>
          <a:xfrm flipV="1">
            <a:off x="3772080" y="4689360"/>
            <a:ext cx="144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2"/>
          <p:cNvSpPr/>
          <p:nvPr/>
        </p:nvSpPr>
        <p:spPr>
          <a:xfrm>
            <a:off x="3772080" y="468936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3"/>
          <p:cNvSpPr/>
          <p:nvPr/>
        </p:nvSpPr>
        <p:spPr>
          <a:xfrm flipH="1">
            <a:off x="3487680" y="4565520"/>
            <a:ext cx="379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3258720" y="4441680"/>
            <a:ext cx="29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5"/>
          <p:cNvSpPr/>
          <p:nvPr/>
        </p:nvSpPr>
        <p:spPr>
          <a:xfrm>
            <a:off x="3159360" y="4997520"/>
            <a:ext cx="40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6"/>
          <p:cNvSpPr/>
          <p:nvPr/>
        </p:nvSpPr>
        <p:spPr>
          <a:xfrm>
            <a:off x="4149720" y="3090960"/>
            <a:ext cx="270000" cy="10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close/>
                <a:moveTo>
                  <a:pt x="0" y="16200"/>
                </a:move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7"/>
          <p:cNvSpPr/>
          <p:nvPr/>
        </p:nvSpPr>
        <p:spPr>
          <a:xfrm>
            <a:off x="4419720" y="3352680"/>
            <a:ext cx="20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-Power Clock-Gated 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8"/>
          <p:cNvSpPr/>
          <p:nvPr/>
        </p:nvSpPr>
        <p:spPr>
          <a:xfrm>
            <a:off x="4679640" y="4379760"/>
            <a:ext cx="18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9"/>
          <p:cNvSpPr/>
          <p:nvPr/>
        </p:nvSpPr>
        <p:spPr>
          <a:xfrm>
            <a:off x="5435280" y="4379760"/>
            <a:ext cx="18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0"/>
          <p:cNvSpPr/>
          <p:nvPr/>
        </p:nvSpPr>
        <p:spPr>
          <a:xfrm>
            <a:off x="3324240" y="5100480"/>
            <a:ext cx="13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bIns="0" anchor="t">
            <a:spAutoFit/>
          </a:bodyPr>
          <a:p>
            <a:pPr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lded Corner 229"/>
          <p:cNvSpPr/>
          <p:nvPr/>
        </p:nvSpPr>
        <p:spPr>
          <a:xfrm>
            <a:off x="3429000" y="1738440"/>
            <a:ext cx="1981080" cy="11030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lways @(posedge CL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 (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Q &lt;= D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Gate-Level XOR-based Clock-Gating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3962520" cy="336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5029200"/>
            <a:ext cx="7238880" cy="9907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tes clock to a cluster of FFs if value written is </a:t>
            </a:r>
            <a:r>
              <a:rPr b="1" i="1" lang="en-US" sz="2000" spc="-1" strike="noStrike">
                <a:solidFill>
                  <a:srgbClr val="0000ff"/>
                </a:solidFill>
                <a:latin typeface="Tahoma"/>
              </a:rPr>
              <a:t>same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 the value already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pported in Azuro’s </a:t>
            </a:r>
            <a:r>
              <a:rPr b="1" i="1" lang="en-US" sz="2000" spc="-1" strike="noStrike">
                <a:solidFill>
                  <a:srgbClr val="0000ff"/>
                </a:solidFill>
                <a:latin typeface="Tahoma"/>
              </a:rPr>
              <a:t>PowerCentr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Functional Challenges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715000" cy="2300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-input of FF is un-timed, sampling that in XOR cloud could result in meta-stability related issues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ps in the same cl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FF3, which is a clock-domain crossing flop should b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xclu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XOR ga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257800"/>
            <a:ext cx="9144000" cy="10666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373720"/>
            <a:ext cx="91440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Spyglas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s used to identify clock-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ossing FFs and the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ont-touch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Power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(Async) Reset domain-crossing FF must not be XOR-gated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5753160" cy="2952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95288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Primetim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cl scripts were written to ident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et-domain crossing flops and the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ont_touch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er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Timing-exception FFs must not</a:t>
            </a: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be XOR-gated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 having false-path / Multi-cycle exceptions to them should also be excluded from XOR-g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 used to waive timing check o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F may not hold true for rest of the FFs in the XOR cl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95288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Primetim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cl scripts were written to identify such fl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the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ont_touch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Azur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Testability Challenges</a:t>
            </a:r>
            <a:endParaRPr b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ck-at-one (SA1) faults at outputs of XOR cone are not observ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d condition for SA1 detection is not observabl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 equal to curr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uld be true for all flops in cluster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1 on XOR output cone only affects power (and not functional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coverage hit is up to 1% on industrial desig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a simple design change with a negligible over-head can resolve test coverage iss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e next slide for det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419720" y="1828800"/>
            <a:ext cx="4495320" cy="3809880"/>
            <a:chOff x="4419720" y="1828800"/>
            <a:chExt cx="4495320" cy="3809880"/>
          </a:xfrm>
        </p:grpSpPr>
        <p:sp>
          <p:nvSpPr>
            <p:cNvPr id="189" name=""/>
            <p:cNvSpPr/>
            <p:nvPr/>
          </p:nvSpPr>
          <p:spPr>
            <a:xfrm>
              <a:off x="8534160" y="41907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8228880" y="4496040"/>
              <a:ext cx="304920" cy="652320"/>
              <a:chOff x="8228880" y="4496040"/>
              <a:chExt cx="304920" cy="652320"/>
            </a:xfrm>
          </p:grpSpPr>
          <p:sp>
            <p:nvSpPr>
              <p:cNvPr id="191" name=""/>
              <p:cNvSpPr/>
              <p:nvPr/>
            </p:nvSpPr>
            <p:spPr>
              <a:xfrm rot="16200000">
                <a:off x="8055360" y="4669920"/>
                <a:ext cx="6523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16200000">
                <a:off x="8054640" y="4669920"/>
                <a:ext cx="65232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8228880" y="4740840"/>
                <a:ext cx="304920" cy="162720"/>
                <a:chOff x="8228880" y="4740840"/>
                <a:chExt cx="304920" cy="162720"/>
              </a:xfrm>
            </p:grpSpPr>
            <p:sp>
              <p:nvSpPr>
                <p:cNvPr id="194" name=""/>
                <p:cNvSpPr/>
                <p:nvPr/>
              </p:nvSpPr>
              <p:spPr>
                <a:xfrm rot="16200000">
                  <a:off x="8300160" y="466992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 rot="16200000">
                  <a:off x="8299440" y="466992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228880" y="4795200"/>
                <a:ext cx="304920" cy="162720"/>
                <a:chOff x="8228880" y="4795200"/>
                <a:chExt cx="304920" cy="162720"/>
              </a:xfrm>
            </p:grpSpPr>
            <p:sp>
              <p:nvSpPr>
                <p:cNvPr id="197" name=""/>
                <p:cNvSpPr/>
                <p:nvPr/>
              </p:nvSpPr>
              <p:spPr>
                <a:xfrm rot="16200000">
                  <a:off x="8300160" y="47242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 rot="16200000">
                  <a:off x="8299440" y="47242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162560" y="5029200"/>
              <a:ext cx="380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7162200" y="5486400"/>
              <a:ext cx="75960" cy="7596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08560" y="504324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37160" y="502920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43800" y="51814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582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51814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0280" y="495288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05560" y="4800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1028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8000280" y="3671640"/>
              <a:ext cx="304920" cy="653040"/>
              <a:chOff x="8000280" y="3671640"/>
              <a:chExt cx="304920" cy="653040"/>
            </a:xfrm>
          </p:grpSpPr>
          <p:sp>
            <p:nvSpPr>
              <p:cNvPr id="210" name=""/>
              <p:cNvSpPr/>
              <p:nvPr/>
            </p:nvSpPr>
            <p:spPr>
              <a:xfrm rot="16200000">
                <a:off x="7826400" y="384588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 rot="16200000">
                <a:off x="7825680" y="384588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8000280" y="3916800"/>
                <a:ext cx="304920" cy="162720"/>
                <a:chOff x="8000280" y="3916800"/>
                <a:chExt cx="304920" cy="162720"/>
              </a:xfrm>
            </p:grpSpPr>
            <p:sp>
              <p:nvSpPr>
                <p:cNvPr id="213" name=""/>
                <p:cNvSpPr/>
                <p:nvPr/>
              </p:nvSpPr>
              <p:spPr>
                <a:xfrm rot="16200000">
                  <a:off x="8071560" y="38458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 rot="16200000">
                  <a:off x="8070840" y="384588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8000280" y="3971160"/>
                <a:ext cx="304920" cy="162720"/>
                <a:chOff x="8000280" y="3971160"/>
                <a:chExt cx="304920" cy="162720"/>
              </a:xfrm>
            </p:grpSpPr>
            <p:sp>
              <p:nvSpPr>
                <p:cNvPr id="216" name=""/>
                <p:cNvSpPr/>
                <p:nvPr/>
              </p:nvSpPr>
              <p:spPr>
                <a:xfrm rot="16200000">
                  <a:off x="8071560" y="390024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 rot="16200000">
                  <a:off x="8070840" y="390024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7162560" y="4205160"/>
              <a:ext cx="380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7161840" y="4662360"/>
              <a:ext cx="76320" cy="7596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08560" y="421956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7160" y="420516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3800" y="43574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9600" y="3976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10280" y="4128840"/>
              <a:ext cx="106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76960" y="3976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4128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71680" y="2819160"/>
              <a:ext cx="304920" cy="653040"/>
              <a:chOff x="7771680" y="2819160"/>
              <a:chExt cx="304920" cy="653040"/>
            </a:xfrm>
          </p:grpSpPr>
          <p:sp>
            <p:nvSpPr>
              <p:cNvPr id="228" name=""/>
              <p:cNvSpPr/>
              <p:nvPr/>
            </p:nvSpPr>
            <p:spPr>
              <a:xfrm rot="16200000">
                <a:off x="7597800" y="299340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6200000">
                <a:off x="7597080" y="2993400"/>
                <a:ext cx="653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771680" y="3064320"/>
                <a:ext cx="304920" cy="162720"/>
                <a:chOff x="7771680" y="3064320"/>
                <a:chExt cx="304920" cy="162720"/>
              </a:xfrm>
            </p:grpSpPr>
            <p:sp>
              <p:nvSpPr>
                <p:cNvPr id="231" name=""/>
                <p:cNvSpPr/>
                <p:nvPr/>
              </p:nvSpPr>
              <p:spPr>
                <a:xfrm rot="16200000">
                  <a:off x="7842960" y="299340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 rot="16200000">
                  <a:off x="7842240" y="299340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771680" y="3118680"/>
                <a:ext cx="304920" cy="162720"/>
                <a:chOff x="7771680" y="3118680"/>
                <a:chExt cx="304920" cy="162720"/>
              </a:xfrm>
            </p:grpSpPr>
            <p:sp>
              <p:nvSpPr>
                <p:cNvPr id="234" name=""/>
                <p:cNvSpPr/>
                <p:nvPr/>
              </p:nvSpPr>
              <p:spPr>
                <a:xfrm rot="16200000">
                  <a:off x="7842960" y="30477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 rot="16200000">
                  <a:off x="7842240" y="3047760"/>
                  <a:ext cx="1627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3399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7162560" y="3352680"/>
              <a:ext cx="380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7161840" y="3809880"/>
              <a:ext cx="76320" cy="7596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08560" y="336708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37160" y="335268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0100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3080" y="350496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360" y="3124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290000" y="2285640"/>
              <a:ext cx="658800" cy="304560"/>
              <a:chOff x="7290000" y="2285640"/>
              <a:chExt cx="658800" cy="30456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7290000" y="2286000"/>
                <a:ext cx="658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7290000" y="2285280"/>
                <a:ext cx="658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536600" y="2285640"/>
                <a:ext cx="165600" cy="304560"/>
                <a:chOff x="7536600" y="2285640"/>
                <a:chExt cx="165600" cy="30456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7536600" y="2286000"/>
                  <a:ext cx="1656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7536600" y="2285280"/>
                  <a:ext cx="16560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5181480" y="2209680"/>
              <a:ext cx="456840" cy="457200"/>
            </a:xfrm>
            <a:prstGeom prst="flowChartSummingJuncti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81880" y="23616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3800" y="23619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153280" y="243792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543800" y="24382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24680" y="2514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3800" y="25146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10280" y="32763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43440" y="3504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8680" y="2438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24280" y="24382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2286000"/>
              <a:ext cx="68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dft_az_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8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266688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0080" y="556236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10080" y="472428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0080" y="388620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3276360"/>
              <a:ext cx="76140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29200" y="1828800"/>
              <a:ext cx="53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clk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028840" y="1981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2880" y="268128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clk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00040"/>
              <a:ext cx="30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cc"/>
                  </a:solidFill>
                  <a:latin typeface="Arial"/>
                </a:rPr>
                <a:t>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160" y="23000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43600" y="4114800"/>
              <a:ext cx="76140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434340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952880"/>
              <a:ext cx="761400" cy="457200"/>
            </a:xfrm>
            <a:prstGeom prst="irregularSeal2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6760" y="2361960"/>
              <a:ext cx="152280" cy="152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476400" y="2361960"/>
              <a:ext cx="152280" cy="152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76760" y="21333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05560" y="426708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05200" y="426708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6960" y="342900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076600" y="342900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29600" y="3352680"/>
              <a:ext cx="38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48360" y="251460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848000" y="2514600"/>
              <a:ext cx="15228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8360" y="25905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Arial"/>
                </a:rPr>
                <a:t>s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brangshu</cp:lastModifiedBy>
  <dcterms:modified xsi:type="dcterms:W3CDTF">2010-05-07T15:35:28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