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524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156120" cy="5112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4158720" y="0"/>
            <a:ext cx="3156120" cy="5112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283760" y="726840"/>
            <a:ext cx="4751640" cy="35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979560" indent="0">
              <a:buNone/>
              <a:tabLst>
                <a:tab algn="l" pos="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1006200" y="4581360"/>
            <a:ext cx="5306760" cy="42926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-360" y="9090000"/>
            <a:ext cx="3156120" cy="5112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158720" y="9090000"/>
            <a:ext cx="3156120" cy="5112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fld id="{F1B9702F-44D0-437D-A3DB-4BCE0700AB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4159080" y="9090000"/>
            <a:ext cx="31561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fld id="{D6F75AC5-2377-425F-9377-6DB91373F5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4159080" y="9090000"/>
            <a:ext cx="31561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fld id="{17C748AA-C319-4C97-B1A3-DB5F04668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284120" y="727200"/>
            <a:ext cx="4751640" cy="35636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006200" y="4581360"/>
            <a:ext cx="5306760" cy="42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1960" y="-36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71040" y="1523880"/>
            <a:ext cx="78058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87"/>
              </a:spcAft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71040" y="3912120"/>
            <a:ext cx="78058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87"/>
              </a:spcAft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1960" y="-36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1040" y="1523880"/>
            <a:ext cx="38091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87"/>
              </a:spcAft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1000" y="1523880"/>
            <a:ext cx="38091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87"/>
              </a:spcAft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71040" y="3912120"/>
            <a:ext cx="38091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87"/>
              </a:spcAft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1000" y="3912120"/>
            <a:ext cx="38091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87"/>
              </a:spcAft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1960" y="-36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1040" y="1523880"/>
            <a:ext cx="25131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87"/>
              </a:spcAft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0200" y="1523880"/>
            <a:ext cx="25131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87"/>
              </a:spcAft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9360" y="1523880"/>
            <a:ext cx="25131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87"/>
              </a:spcAft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71040" y="3912120"/>
            <a:ext cx="25131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87"/>
              </a:spcAft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0200" y="3912120"/>
            <a:ext cx="25131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87"/>
              </a:spcAft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9360" y="3912120"/>
            <a:ext cx="25131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87"/>
              </a:spcAft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1960" y="-36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71040" y="1523880"/>
            <a:ext cx="7805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8280" indent="0" algn="ctr">
              <a:spcAft>
                <a:spcPts val="1287"/>
              </a:spcAft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1960" y="-36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71040" y="1523880"/>
            <a:ext cx="7805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87"/>
              </a:spcAft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1960" y="-36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1040" y="1523880"/>
            <a:ext cx="38091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87"/>
              </a:spcAft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1000" y="1523880"/>
            <a:ext cx="38091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87"/>
              </a:spcAft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1960" y="-36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51960" y="-360"/>
            <a:ext cx="8263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8280" algn="ctr">
              <a:spcAft>
                <a:spcPts val="1287"/>
              </a:spcAft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1960" y="-36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71040" y="1523880"/>
            <a:ext cx="38091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87"/>
              </a:spcAft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1000" y="1523880"/>
            <a:ext cx="38091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87"/>
              </a:spcAft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71040" y="3912120"/>
            <a:ext cx="38091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87"/>
              </a:spcAft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1960" y="-36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71040" y="1523880"/>
            <a:ext cx="7805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8280" indent="0" algn="ctr">
              <a:spcAft>
                <a:spcPts val="1287"/>
              </a:spcAft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1960" y="-36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71040" y="1523880"/>
            <a:ext cx="38091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87"/>
              </a:spcAft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1000" y="1523880"/>
            <a:ext cx="38091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87"/>
              </a:spcAft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1000" y="3912120"/>
            <a:ext cx="38091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87"/>
              </a:spcAft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1960" y="-36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71040" y="1523880"/>
            <a:ext cx="38091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87"/>
              </a:spcAft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1000" y="1523880"/>
            <a:ext cx="38091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87"/>
              </a:spcAft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71040" y="3912120"/>
            <a:ext cx="78058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87"/>
              </a:spcAft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1960" y="-36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71040" y="1523880"/>
            <a:ext cx="78058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87"/>
              </a:spcAft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71040" y="3912120"/>
            <a:ext cx="78058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87"/>
              </a:spcAft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1960" y="-36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71040" y="1523880"/>
            <a:ext cx="38091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87"/>
              </a:spcAft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1000" y="1523880"/>
            <a:ext cx="38091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87"/>
              </a:spcAft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71040" y="3912120"/>
            <a:ext cx="38091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87"/>
              </a:spcAft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1000" y="3912120"/>
            <a:ext cx="38091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87"/>
              </a:spcAft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1960" y="-36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1040" y="1523880"/>
            <a:ext cx="25131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87"/>
              </a:spcAft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10200" y="1523880"/>
            <a:ext cx="25131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87"/>
              </a:spcAft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49360" y="1523880"/>
            <a:ext cx="25131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87"/>
              </a:spcAft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71040" y="3912120"/>
            <a:ext cx="25131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87"/>
              </a:spcAft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10200" y="3912120"/>
            <a:ext cx="25131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87"/>
              </a:spcAft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49360" y="3912120"/>
            <a:ext cx="25131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87"/>
              </a:spcAft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1960" y="-36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71040" y="1523880"/>
            <a:ext cx="7805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87"/>
              </a:spcAft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1960" y="-36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71040" y="1523880"/>
            <a:ext cx="38091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87"/>
              </a:spcAft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1000" y="1523880"/>
            <a:ext cx="38091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87"/>
              </a:spcAft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1960" y="-36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51960" y="-360"/>
            <a:ext cx="8263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8280" algn="ctr">
              <a:spcAft>
                <a:spcPts val="1287"/>
              </a:spcAft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1960" y="-36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1040" y="1523880"/>
            <a:ext cx="38091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87"/>
              </a:spcAft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1000" y="1523880"/>
            <a:ext cx="38091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87"/>
              </a:spcAft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71040" y="3912120"/>
            <a:ext cx="38091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87"/>
              </a:spcAft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1960" y="-36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71040" y="1523880"/>
            <a:ext cx="38091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87"/>
              </a:spcAft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1000" y="1523880"/>
            <a:ext cx="38091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87"/>
              </a:spcAft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1000" y="3912120"/>
            <a:ext cx="38091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87"/>
              </a:spcAft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1960" y="-36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71040" y="1523880"/>
            <a:ext cx="38091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87"/>
              </a:spcAft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1000" y="1523880"/>
            <a:ext cx="38091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87"/>
              </a:spcAft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71040" y="3912120"/>
            <a:ext cx="78058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87"/>
              </a:spcAft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1960" y="-36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1040" y="1523880"/>
            <a:ext cx="7805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2040" indent="-293760">
              <a:spcAft>
                <a:spcPts val="1287"/>
              </a:spcAft>
              <a:buClr>
                <a:srgbClr val="6d9381"/>
              </a:buClr>
              <a:buSzPct val="80000"/>
              <a:buFont typeface="Wingdings" charset="2"/>
              <a:buChar char="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lvl="1" marL="782640" indent="-260280">
              <a:spcAft>
                <a:spcPts val="1287"/>
              </a:spcAft>
              <a:buClr>
                <a:srgbClr val="6d9381"/>
              </a:buClr>
              <a:buSzPct val="65000"/>
              <a:buFont typeface="Wingdings" charset="2"/>
              <a:buChar char="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lvl="2" marL="1174680" indent="-195120">
              <a:spcAft>
                <a:spcPts val="1287"/>
              </a:spcAft>
              <a:buClr>
                <a:srgbClr val="6d9381"/>
              </a:buClr>
              <a:buSzPct val="60000"/>
              <a:buFont typeface="Wingdings" charset="2"/>
              <a:buChar char="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lvl="3" marL="1566720" indent="-195120">
              <a:spcAft>
                <a:spcPts val="1287"/>
              </a:spcAft>
              <a:buClr>
                <a:srgbClr val="6d9381"/>
              </a:buClr>
              <a:buSzPct val="75000"/>
              <a:buFont typeface="Verdana"/>
              <a:buChar char="–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lvl="4" marL="1959120" indent="-196920">
              <a:spcAft>
                <a:spcPts val="1287"/>
              </a:spcAft>
              <a:buClr>
                <a:srgbClr val="6d9381"/>
              </a:buClr>
              <a:buSzPct val="45000"/>
              <a:buFont typeface="Verdana"/>
              <a:buChar char="●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lvl="5" marL="1959120" indent="-196920">
              <a:spcAft>
                <a:spcPts val="1287"/>
              </a:spcAft>
              <a:buClr>
                <a:srgbClr val="000000"/>
              </a:buClr>
              <a:buSzPct val="45000"/>
              <a:buFont typeface="Verdana"/>
              <a:buChar char="●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lvl="6" marL="1959120" indent="-196920">
              <a:spcAft>
                <a:spcPts val="1287"/>
              </a:spcAft>
              <a:buClr>
                <a:srgbClr val="000000"/>
              </a:buClr>
              <a:buSzPct val="45000"/>
              <a:buFont typeface="Verdana"/>
              <a:buChar char="●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gaterocket_title.jpg                                           0000051CMacintosh HD                   BE74DD3D: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51960" y="-36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71040" y="1523880"/>
            <a:ext cx="7805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2040" indent="-293760">
              <a:spcAft>
                <a:spcPts val="1287"/>
              </a:spcAft>
              <a:buClr>
                <a:srgbClr val="6d9381"/>
              </a:buClr>
              <a:buSzPct val="80000"/>
              <a:buFont typeface="Wingdings" charset="2"/>
              <a:buChar char="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lvl="1" marL="782640" indent="-260280">
              <a:spcAft>
                <a:spcPts val="1287"/>
              </a:spcAft>
              <a:buClr>
                <a:srgbClr val="6d9381"/>
              </a:buClr>
              <a:buSzPct val="65000"/>
              <a:buFont typeface="Wingdings" charset="2"/>
              <a:buChar char="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lvl="2" marL="1174680" indent="-195120">
              <a:spcAft>
                <a:spcPts val="1287"/>
              </a:spcAft>
              <a:buClr>
                <a:srgbClr val="6d9381"/>
              </a:buClr>
              <a:buSzPct val="60000"/>
              <a:buFont typeface="Wingdings" charset="2"/>
              <a:buChar char="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lvl="3" marL="1566720" indent="-195120">
              <a:spcAft>
                <a:spcPts val="1287"/>
              </a:spcAft>
              <a:buClr>
                <a:srgbClr val="6d9381"/>
              </a:buClr>
              <a:buSzPct val="75000"/>
              <a:buFont typeface="Verdana"/>
              <a:buChar char="–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lvl="4" marL="1959120" indent="-196920">
              <a:spcAft>
                <a:spcPts val="1287"/>
              </a:spcAft>
              <a:buClr>
                <a:srgbClr val="6d9381"/>
              </a:buClr>
              <a:buSzPct val="45000"/>
              <a:buFont typeface="Verdana"/>
              <a:buChar char="●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lvl="5" marL="1959120" indent="-196920">
              <a:spcAft>
                <a:spcPts val="1287"/>
              </a:spcAft>
              <a:buClr>
                <a:srgbClr val="000000"/>
              </a:buClr>
              <a:buSzPct val="45000"/>
              <a:buFont typeface="Verdana"/>
              <a:buChar char="●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lvl="6" marL="1959120" indent="-196920">
              <a:spcAft>
                <a:spcPts val="1287"/>
              </a:spcAft>
              <a:buClr>
                <a:srgbClr val="000000"/>
              </a:buClr>
              <a:buSzPct val="45000"/>
              <a:buFont typeface="Verdana"/>
              <a:buChar char="●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240"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utomation for Quality Improv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000" spc="-1" strike="noStrike">
                <a:solidFill>
                  <a:srgbClr val="266b95"/>
                </a:solidFill>
                <a:latin typeface="Arial"/>
              </a:rPr>
              <a:t>Chris Schalick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000" spc="-1" strike="noStrike">
                <a:solidFill>
                  <a:srgbClr val="266b95"/>
                </a:solidFill>
                <a:latin typeface="Arial"/>
              </a:rPr>
              <a:t>CTO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000" spc="-1" strike="noStrike">
                <a:solidFill>
                  <a:srgbClr val="266b95"/>
                </a:solidFill>
                <a:latin typeface="Arial"/>
              </a:rPr>
              <a:t>GateRocket, Inc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000" spc="-1" strike="noStrike">
                <a:solidFill>
                  <a:srgbClr val="266b95"/>
                </a:solidFill>
                <a:latin typeface="Arial"/>
              </a:rPr>
              <a:t>cschalick@gaterocket.com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1960" y="-36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440" y="1219320"/>
            <a:ext cx="7805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2040" indent="-293760">
              <a:spcAft>
                <a:spcPts val="1287"/>
              </a:spcAft>
              <a:buClr>
                <a:srgbClr val="6d9381"/>
              </a:buClr>
              <a:buSzPct val="80000"/>
              <a:buFont typeface="Wingdings" charset="2"/>
              <a:buChar char="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System has shortened our qualification cycles from 3 weeks to 1 week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92040" indent="-293760">
              <a:spcAft>
                <a:spcPts val="1287"/>
              </a:spcAft>
              <a:buClr>
                <a:srgbClr val="6d9381"/>
              </a:buClr>
              <a:buSzPct val="80000"/>
              <a:buFont typeface="Wingdings" charset="2"/>
              <a:buChar char="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Noticed Trends 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lvl="1" marL="782640" indent="-260280">
              <a:spcAft>
                <a:spcPts val="1037"/>
              </a:spcAft>
              <a:buClr>
                <a:srgbClr val="6d9381"/>
              </a:buClr>
              <a:buSzPct val="65000"/>
              <a:buFont typeface="Wingdings" charset="2"/>
              <a:buChar char="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Failure rates increase with code check-i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782640" indent="-260280">
              <a:spcAft>
                <a:spcPts val="1037"/>
              </a:spcAft>
              <a:buClr>
                <a:srgbClr val="6d9381"/>
              </a:buClr>
              <a:buSzPct val="65000"/>
              <a:buFont typeface="Wingdings" charset="2"/>
              <a:buChar char="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Impact of new product function on existing passing test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92040" indent="-293760">
              <a:spcAft>
                <a:spcPts val="1287"/>
              </a:spcAft>
              <a:buClr>
                <a:srgbClr val="6d9381"/>
              </a:buClr>
              <a:buSzPct val="80000"/>
              <a:buFont typeface="Wingdings" charset="2"/>
              <a:buChar char="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Quick identification of fault areas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92040" indent="-293760">
              <a:lnSpc>
                <a:spcPct val="90000"/>
              </a:lnSpc>
              <a:spcAft>
                <a:spcPts val="1287"/>
              </a:spcAft>
              <a:buClr>
                <a:srgbClr val="6d9381"/>
              </a:buClr>
              <a:buSzPct val="80000"/>
              <a:buFont typeface="Wingdings" charset="2"/>
              <a:buChar char="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Quality improvement without additional resources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92040" indent="-293760">
              <a:spcAft>
                <a:spcPts val="1287"/>
              </a:spcAft>
              <a:buClr>
                <a:srgbClr val="6d9381"/>
              </a:buClr>
              <a:buSzPct val="80000"/>
              <a:buFont typeface="Wingdings" charset="2"/>
              <a:buChar char="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1960" y="-36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mportance of Product Qua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71040" y="1523880"/>
            <a:ext cx="7805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2040" indent="-293760">
              <a:lnSpc>
                <a:spcPct val="80000"/>
              </a:lnSpc>
              <a:spcAft>
                <a:spcPts val="1287"/>
              </a:spcAft>
              <a:buClr>
                <a:srgbClr val="6d9381"/>
              </a:buClr>
              <a:buSzPct val="80000"/>
              <a:buFont typeface="Wingdings" charset="2"/>
              <a:buChar char="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Make or break a company, Especially true for startup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92040" indent="-293760">
              <a:lnSpc>
                <a:spcPct val="80000"/>
              </a:lnSpc>
              <a:spcAft>
                <a:spcPts val="1287"/>
              </a:spcAft>
              <a:buClr>
                <a:srgbClr val="6d9381"/>
              </a:buClr>
              <a:buSzPct val="80000"/>
              <a:buFont typeface="Wingdings" charset="2"/>
              <a:buChar char="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ustomer trus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92040" indent="-293760">
              <a:lnSpc>
                <a:spcPct val="80000"/>
              </a:lnSpc>
              <a:spcAft>
                <a:spcPts val="1287"/>
              </a:spcAft>
              <a:buClr>
                <a:srgbClr val="6d9381"/>
              </a:buClr>
              <a:buSzPct val="80000"/>
              <a:buFont typeface="Wingdings" charset="2"/>
              <a:buChar char="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ost impa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92040" indent="-293760">
              <a:lnSpc>
                <a:spcPct val="80000"/>
              </a:lnSpc>
              <a:spcAft>
                <a:spcPts val="1287"/>
              </a:spcAft>
              <a:buClr>
                <a:srgbClr val="6d9381"/>
              </a:buClr>
              <a:buSzPct val="80000"/>
              <a:buFont typeface="Wingdings" charset="2"/>
              <a:buChar char="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Unlimited time and resource can produce highest quality produ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82640" indent="-260280">
              <a:lnSpc>
                <a:spcPct val="80000"/>
              </a:lnSpc>
              <a:spcAft>
                <a:spcPts val="1037"/>
              </a:spcAft>
              <a:buClr>
                <a:srgbClr val="6d9381"/>
              </a:buClr>
              <a:buSzPct val="65000"/>
              <a:buFont typeface="Wingdings" charset="2"/>
              <a:buChar char="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Challenge is to do so with limited time and resourc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92040" indent="-293760">
              <a:lnSpc>
                <a:spcPct val="80000"/>
              </a:lnSpc>
              <a:spcAft>
                <a:spcPts val="1287"/>
              </a:spcAft>
              <a:buClr>
                <a:srgbClr val="6d9381"/>
              </a:buClr>
              <a:buSzPct val="80000"/>
              <a:buFont typeface="Wingdings" charset="2"/>
              <a:buChar char="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 quantitative and qualitative feel for Quality is a mus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1960" y="-36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allenges to Delivering Qua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09120" y="1295280"/>
            <a:ext cx="7805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2040" indent="-293760">
              <a:lnSpc>
                <a:spcPct val="80000"/>
              </a:lnSpc>
              <a:spcAft>
                <a:spcPts val="1287"/>
              </a:spcAft>
              <a:buClr>
                <a:srgbClr val="6d9381"/>
              </a:buClr>
              <a:buSzPct val="80000"/>
              <a:buFont typeface="Wingdings" charset="2"/>
              <a:buChar char="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Product complexity, Number of variable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92040" indent="-293760">
              <a:lnSpc>
                <a:spcPct val="80000"/>
              </a:lnSpc>
              <a:spcAft>
                <a:spcPts val="1287"/>
              </a:spcAft>
              <a:buClr>
                <a:srgbClr val="6d9381"/>
              </a:buClr>
              <a:buSzPct val="80000"/>
              <a:buFont typeface="Wingdings" charset="2"/>
              <a:buChar char="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eature creep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82640" indent="-260280">
              <a:lnSpc>
                <a:spcPct val="80000"/>
              </a:lnSpc>
              <a:spcAft>
                <a:spcPts val="1037"/>
              </a:spcAft>
              <a:buClr>
                <a:srgbClr val="6d9381"/>
              </a:buClr>
              <a:buSzPct val="65000"/>
              <a:buFont typeface="Wingdings" charset="2"/>
              <a:buChar char="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Customer reques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82640" indent="-260280">
              <a:lnSpc>
                <a:spcPct val="80000"/>
              </a:lnSpc>
              <a:spcAft>
                <a:spcPts val="1037"/>
              </a:spcAft>
              <a:buClr>
                <a:srgbClr val="6d9381"/>
              </a:buClr>
              <a:buSzPct val="65000"/>
              <a:buFont typeface="Wingdings" charset="2"/>
              <a:buChar char="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Unplanned changes in product plan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82640" indent="-260280">
              <a:lnSpc>
                <a:spcPct val="80000"/>
              </a:lnSpc>
              <a:spcAft>
                <a:spcPts val="1037"/>
              </a:spcAft>
              <a:buClr>
                <a:srgbClr val="6d9381"/>
              </a:buClr>
              <a:buSzPct val="65000"/>
              <a:buFont typeface="Wingdings" charset="2"/>
              <a:buChar char="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Changes to plan execution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92040" indent="-293760">
              <a:lnSpc>
                <a:spcPct val="80000"/>
              </a:lnSpc>
              <a:spcAft>
                <a:spcPts val="1287"/>
              </a:spcAft>
              <a:buClr>
                <a:srgbClr val="6d9381"/>
              </a:buClr>
              <a:buSzPct val="80000"/>
              <a:buFont typeface="Wingdings" charset="2"/>
              <a:buChar char="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ommunication between groups: Information Silos, Tribal Knowledge, lack of documentatio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92040" indent="-293760">
              <a:lnSpc>
                <a:spcPct val="80000"/>
              </a:lnSpc>
              <a:spcAft>
                <a:spcPts val="1287"/>
              </a:spcAft>
              <a:buClr>
                <a:srgbClr val="6d9381"/>
              </a:buClr>
              <a:buSzPct val="80000"/>
              <a:buFont typeface="Wingdings" charset="2"/>
              <a:buChar char="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ime to market pressures: time to tes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92040" indent="-293760">
              <a:lnSpc>
                <a:spcPct val="80000"/>
              </a:lnSpc>
              <a:spcAft>
                <a:spcPts val="1287"/>
              </a:spcAft>
              <a:buClr>
                <a:srgbClr val="6d9381"/>
              </a:buClr>
              <a:buSzPct val="80000"/>
              <a:buFont typeface="Wingdings" charset="2"/>
              <a:buChar char="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esource pressure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92040" indent="-293760">
              <a:lnSpc>
                <a:spcPct val="80000"/>
              </a:lnSpc>
              <a:spcAft>
                <a:spcPts val="1287"/>
              </a:spcAft>
              <a:buClr>
                <a:srgbClr val="6d9381"/>
              </a:buClr>
              <a:buSzPct val="80000"/>
              <a:buFont typeface="Wingdings" charset="2"/>
              <a:buChar char="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d-hock testing mechanisms, maintainable test system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92040" indent="-293760">
              <a:lnSpc>
                <a:spcPct val="80000"/>
              </a:lnSpc>
              <a:spcAft>
                <a:spcPts val="1287"/>
              </a:spcAft>
              <a:buClr>
                <a:srgbClr val="6d9381"/>
              </a:buClr>
              <a:buSzPct val="80000"/>
              <a:buFont typeface="Wingdings" charset="2"/>
              <a:buChar char="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Lack of monitoring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92040" indent="-293760">
              <a:lnSpc>
                <a:spcPct val="80000"/>
              </a:lnSpc>
              <a:spcAft>
                <a:spcPts val="1287"/>
              </a:spcAft>
              <a:buClr>
                <a:srgbClr val="6d9381"/>
              </a:buClr>
              <a:buSzPct val="80000"/>
              <a:buFont typeface="Wingdings" charset="2"/>
              <a:buChar char="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Human factors: large amount of data with unreliable analysi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1960" y="-36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itive Factors impacting Qua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71040" y="1523880"/>
            <a:ext cx="7805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2040" indent="-293760">
              <a:spcAft>
                <a:spcPts val="1287"/>
              </a:spcAft>
              <a:buClr>
                <a:srgbClr val="6d9381"/>
              </a:buClr>
              <a:buSzPct val="80000"/>
              <a:buFont typeface="Wingdings" charset="2"/>
              <a:buChar char="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utomation: manual execution and collection invites error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92040" indent="-293760">
              <a:spcAft>
                <a:spcPts val="1287"/>
              </a:spcAft>
              <a:buClr>
                <a:srgbClr val="6d9381"/>
              </a:buClr>
              <a:buSzPct val="80000"/>
              <a:buFont typeface="Wingdings" charset="2"/>
              <a:buChar char="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Planning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82640" indent="-260280">
              <a:spcAft>
                <a:spcPts val="1037"/>
              </a:spcAft>
              <a:buClr>
                <a:srgbClr val="6d9381"/>
              </a:buClr>
              <a:buSzPct val="65000"/>
              <a:buFont typeface="Wingdings" charset="2"/>
              <a:buChar char="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A goal without a plan is just a wish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92040" indent="-293760">
              <a:spcAft>
                <a:spcPts val="1287"/>
              </a:spcAft>
              <a:buClr>
                <a:srgbClr val="6d9381"/>
              </a:buClr>
              <a:buSzPct val="80000"/>
              <a:buFont typeface="Wingdings" charset="2"/>
              <a:buChar char="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Monitoring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82640" indent="-260280">
              <a:spcAft>
                <a:spcPts val="1037"/>
              </a:spcAft>
              <a:buClr>
                <a:srgbClr val="6d9381"/>
              </a:buClr>
              <a:buSzPct val="65000"/>
              <a:buFont typeface="Wingdings" charset="2"/>
              <a:buChar char="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Monitor what you want to improve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92040" indent="-293760">
              <a:spcAft>
                <a:spcPts val="1287"/>
              </a:spcAft>
              <a:buClr>
                <a:srgbClr val="6d9381"/>
              </a:buClr>
              <a:buSzPct val="80000"/>
              <a:buFont typeface="Wingdings" charset="2"/>
              <a:buChar char="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p down flow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92040" indent="-293760">
              <a:spcAft>
                <a:spcPts val="1287"/>
              </a:spcAft>
              <a:buClr>
                <a:srgbClr val="6d9381"/>
              </a:buClr>
              <a:buSzPct val="80000"/>
              <a:buFont typeface="Wingdings" charset="2"/>
              <a:buChar char="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Up to date documentatio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92040" indent="-293760">
              <a:spcAft>
                <a:spcPts val="1287"/>
              </a:spcAft>
              <a:buClr>
                <a:srgbClr val="6d9381"/>
              </a:buClr>
              <a:buSzPct val="80000"/>
              <a:buFont typeface="Wingdings" charset="2"/>
              <a:buChar char="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Doing all of this without increased resource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1960" y="-36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ocketDrive Product Complex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1400" y="1523880"/>
            <a:ext cx="382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2040" indent="-293760">
              <a:lnSpc>
                <a:spcPct val="80000"/>
              </a:lnSpc>
              <a:spcAft>
                <a:spcPts val="1287"/>
              </a:spcAft>
              <a:buClr>
                <a:srgbClr val="6d9381"/>
              </a:buClr>
              <a:buSzPct val="80000"/>
              <a:buFont typeface="Wingdings" charset="2"/>
              <a:buChar char="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Product Family : 4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92040" indent="-293760">
              <a:lnSpc>
                <a:spcPct val="80000"/>
              </a:lnSpc>
              <a:spcAft>
                <a:spcPts val="1287"/>
              </a:spcAft>
              <a:buClr>
                <a:srgbClr val="6d9381"/>
              </a:buClr>
              <a:buSzPct val="80000"/>
              <a:buFont typeface="Wingdings" charset="2"/>
              <a:buChar char="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ore Product Features : 5+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92040" indent="-293760">
              <a:lnSpc>
                <a:spcPct val="80000"/>
              </a:lnSpc>
              <a:spcAft>
                <a:spcPts val="1287"/>
              </a:spcAft>
              <a:buClr>
                <a:srgbClr val="6d9381"/>
              </a:buClr>
              <a:buSzPct val="80000"/>
              <a:buFont typeface="Wingdings" charset="2"/>
              <a:buChar char="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EDA Softwar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82640" indent="-260280">
              <a:lnSpc>
                <a:spcPct val="80000"/>
              </a:lnSpc>
              <a:spcAft>
                <a:spcPts val="1037"/>
              </a:spcAft>
              <a:buClr>
                <a:srgbClr val="6d9381"/>
              </a:buClr>
              <a:buSzPct val="65000"/>
              <a:buFont typeface="Wingdings" charset="2"/>
              <a:buChar char="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FPGA Vendors : 2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82640" indent="-260280">
              <a:lnSpc>
                <a:spcPct val="80000"/>
              </a:lnSpc>
              <a:spcAft>
                <a:spcPts val="1037"/>
              </a:spcAft>
              <a:buClr>
                <a:srgbClr val="6d9381"/>
              </a:buClr>
              <a:buSzPct val="65000"/>
              <a:buFont typeface="Wingdings" charset="2"/>
              <a:buChar char="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Synthesis : 2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82640" indent="-260280">
              <a:lnSpc>
                <a:spcPct val="80000"/>
              </a:lnSpc>
              <a:spcAft>
                <a:spcPts val="1037"/>
              </a:spcAft>
              <a:buClr>
                <a:srgbClr val="6d9381"/>
              </a:buClr>
              <a:buSzPct val="65000"/>
              <a:buFont typeface="Wingdings" charset="2"/>
              <a:buChar char="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Simulation : 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92040" indent="-293760">
              <a:lnSpc>
                <a:spcPct val="80000"/>
              </a:lnSpc>
              <a:spcAft>
                <a:spcPts val="1287"/>
              </a:spcAft>
              <a:buClr>
                <a:srgbClr val="6d9381"/>
              </a:buClr>
              <a:buSzPct val="80000"/>
              <a:buFont typeface="Wingdings" charset="2"/>
              <a:buChar char="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EDA Software Versions : 2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92040" indent="0">
              <a:lnSpc>
                <a:spcPct val="80000"/>
              </a:lnSpc>
              <a:spcAft>
                <a:spcPts val="1287"/>
              </a:spcAft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  <a:p>
            <a:pPr marL="392040" indent="0">
              <a:lnSpc>
                <a:spcPct val="80000"/>
              </a:lnSpc>
              <a:spcAft>
                <a:spcPts val="1287"/>
              </a:spcAft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9400" y="1523880"/>
            <a:ext cx="4265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2040" indent="-293760">
              <a:lnSpc>
                <a:spcPct val="80000"/>
              </a:lnSpc>
              <a:spcAft>
                <a:spcPts val="1287"/>
              </a:spcAft>
              <a:buClr>
                <a:srgbClr val="6d9381"/>
              </a:buClr>
              <a:buSzPct val="80000"/>
              <a:buFont typeface="Wingdings" charset="2"/>
              <a:buChar char="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Multiple IP Support : Not counting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92040" indent="-293760">
              <a:lnSpc>
                <a:spcPct val="80000"/>
              </a:lnSpc>
              <a:spcAft>
                <a:spcPts val="1287"/>
              </a:spcAft>
              <a:buClr>
                <a:srgbClr val="6d9381"/>
              </a:buClr>
              <a:buSzPct val="80000"/>
              <a:buFont typeface="Wingdings" charset="2"/>
              <a:buChar char="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Design Languages : 4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92040" indent="-293760">
              <a:lnSpc>
                <a:spcPct val="80000"/>
              </a:lnSpc>
              <a:spcAft>
                <a:spcPts val="1287"/>
              </a:spcAft>
              <a:buClr>
                <a:srgbClr val="6d9381"/>
              </a:buClr>
              <a:buSzPct val="80000"/>
              <a:buFont typeface="Wingdings" charset="2"/>
              <a:buChar char="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Verification Languages : 6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92040" indent="-293760">
              <a:lnSpc>
                <a:spcPct val="80000"/>
              </a:lnSpc>
              <a:spcAft>
                <a:spcPts val="1287"/>
              </a:spcAft>
              <a:buClr>
                <a:srgbClr val="6d9381"/>
              </a:buClr>
              <a:buSzPct val="80000"/>
              <a:buFont typeface="Wingdings" charset="2"/>
              <a:buChar char="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ssertion Languages : 5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92040" indent="-293760">
              <a:lnSpc>
                <a:spcPct val="80000"/>
              </a:lnSpc>
              <a:spcAft>
                <a:spcPts val="1287"/>
              </a:spcAft>
              <a:buClr>
                <a:srgbClr val="6d9381"/>
              </a:buClr>
              <a:buSzPct val="80000"/>
              <a:buFont typeface="Wingdings" charset="2"/>
              <a:buChar char="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rchitectures : 2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92040" indent="-293760">
              <a:lnSpc>
                <a:spcPct val="80000"/>
              </a:lnSpc>
              <a:spcAft>
                <a:spcPts val="1287"/>
              </a:spcAft>
              <a:buClr>
                <a:srgbClr val="6d9381"/>
              </a:buClr>
              <a:buSzPct val="80000"/>
              <a:buFont typeface="Wingdings" charset="2"/>
              <a:buChar char="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OS : 2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92040" indent="-293760">
              <a:lnSpc>
                <a:spcPct val="80000"/>
              </a:lnSpc>
              <a:spcAft>
                <a:spcPts val="1287"/>
              </a:spcAft>
              <a:buClr>
                <a:srgbClr val="6d9381"/>
              </a:buClr>
              <a:buSzPct val="80000"/>
              <a:buFont typeface="Wingdings" charset="2"/>
              <a:buChar char="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est Cases : 500+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1905120" y="5686560"/>
            <a:ext cx="54100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11040" indent="-311040">
              <a:lnSpc>
                <a:spcPct val="80000"/>
              </a:lnSpc>
              <a:spcAft>
                <a:spcPts val="1287"/>
              </a:spcAft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ossible Permutations: 100,000,000 +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1960" y="-36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VerifySpec fr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440" y="1371600"/>
            <a:ext cx="7805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2040" indent="-293760">
              <a:lnSpc>
                <a:spcPct val="90000"/>
              </a:lnSpc>
              <a:spcAft>
                <a:spcPts val="1287"/>
              </a:spcAft>
              <a:buClr>
                <a:srgbClr val="6d9381"/>
              </a:buClr>
              <a:buSzPct val="80000"/>
              <a:buFont typeface="Wingdings" charset="2"/>
              <a:buChar char="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Wiki type, collaborative planning and requirement captur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92040" indent="-293760">
              <a:lnSpc>
                <a:spcPct val="90000"/>
              </a:lnSpc>
              <a:spcAft>
                <a:spcPts val="1287"/>
              </a:spcAft>
              <a:buClr>
                <a:srgbClr val="6d9381"/>
              </a:buClr>
              <a:buSzPct val="80000"/>
              <a:buFont typeface="Wingdings" charset="2"/>
              <a:buChar char="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Manages Complexity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82640" indent="-260280">
              <a:lnSpc>
                <a:spcPct val="90000"/>
              </a:lnSpc>
              <a:spcAft>
                <a:spcPts val="1037"/>
              </a:spcAft>
              <a:buClr>
                <a:srgbClr val="6d9381"/>
              </a:buClr>
              <a:buSzPct val="65000"/>
              <a:buFont typeface="Wingdings" charset="2"/>
              <a:buChar char="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Picks information right from the product documentation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92040" indent="-293760">
              <a:lnSpc>
                <a:spcPct val="90000"/>
              </a:lnSpc>
              <a:spcAft>
                <a:spcPts val="1287"/>
              </a:spcAft>
              <a:buClr>
                <a:srgbClr val="6d9381"/>
              </a:buClr>
              <a:buSzPct val="80000"/>
              <a:buFont typeface="Wingdings" charset="2"/>
              <a:buChar char="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Manages Chang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82640" indent="-260280">
              <a:lnSpc>
                <a:spcPct val="90000"/>
              </a:lnSpc>
              <a:spcAft>
                <a:spcPts val="1037"/>
              </a:spcAft>
              <a:buClr>
                <a:srgbClr val="6d9381"/>
              </a:buClr>
              <a:buSzPct val="65000"/>
              <a:buFont typeface="Wingdings" charset="2"/>
              <a:buChar char="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Changes to requirements automatically reflected in plan and analysi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82640" indent="-260280">
              <a:lnSpc>
                <a:spcPct val="90000"/>
              </a:lnSpc>
              <a:spcAft>
                <a:spcPts val="1037"/>
              </a:spcAft>
              <a:buClr>
                <a:srgbClr val="6d9381"/>
              </a:buClr>
              <a:buSzPct val="65000"/>
              <a:buFont typeface="Wingdings" charset="2"/>
              <a:buChar char="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Changes to plan automatically reflected in monitoring engi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92040" indent="-293760">
              <a:lnSpc>
                <a:spcPct val="90000"/>
              </a:lnSpc>
              <a:spcAft>
                <a:spcPts val="1287"/>
              </a:spcAft>
              <a:buClr>
                <a:srgbClr val="6d9381"/>
              </a:buClr>
              <a:buSzPct val="80000"/>
              <a:buFont typeface="Wingdings" charset="2"/>
              <a:buChar char="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Links to execution environmen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82640" indent="-260280">
              <a:lnSpc>
                <a:spcPct val="90000"/>
              </a:lnSpc>
              <a:spcAft>
                <a:spcPts val="1037"/>
              </a:spcAft>
              <a:buClr>
                <a:srgbClr val="6d9381"/>
              </a:buClr>
              <a:buSzPct val="65000"/>
              <a:buFont typeface="Wingdings" charset="2"/>
              <a:buChar char="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Real time result back-annotation of results to docum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92040" indent="-293760">
              <a:lnSpc>
                <a:spcPct val="90000"/>
              </a:lnSpc>
              <a:spcAft>
                <a:spcPts val="1287"/>
              </a:spcAft>
              <a:buClr>
                <a:srgbClr val="6d9381"/>
              </a:buClr>
              <a:buSzPct val="80000"/>
              <a:buFont typeface="Wingdings" charset="2"/>
              <a:buChar char="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Maintain history in an RDBM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82640" indent="-260280">
              <a:lnSpc>
                <a:spcPct val="90000"/>
              </a:lnSpc>
              <a:spcAft>
                <a:spcPts val="1037"/>
              </a:spcAft>
              <a:buClr>
                <a:srgbClr val="6d9381"/>
              </a:buClr>
              <a:buSzPct val="65000"/>
              <a:buFont typeface="Wingdings" charset="2"/>
              <a:buChar char="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Trend analysis : “learn from history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82640" indent="-260280">
              <a:lnSpc>
                <a:spcPct val="90000"/>
              </a:lnSpc>
              <a:spcAft>
                <a:spcPts val="1037"/>
              </a:spcAft>
              <a:buClr>
                <a:srgbClr val="6d9381"/>
              </a:buClr>
              <a:buSzPct val="65000"/>
              <a:buFont typeface="Wingdings" charset="2"/>
              <a:buChar char="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8" name="Picture 4" descr="C:\Users\anupam\Documents\work\agnisys\agnisys_logo.png"/>
          <p:cNvPicPr/>
          <p:nvPr/>
        </p:nvPicPr>
        <p:blipFill>
          <a:blip r:embed="rId1"/>
          <a:stretch/>
        </p:blipFill>
        <p:spPr>
          <a:xfrm>
            <a:off x="5181480" y="228600"/>
            <a:ext cx="16416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7238880" cy="4816440"/>
          </a:xfrm>
          <a:prstGeom prst="rect">
            <a:avLst/>
          </a:prstGeom>
          <a:ln w="0">
            <a:noFill/>
          </a:ln>
        </p:spPr>
      </p:pic>
      <p:sp>
        <p:nvSpPr>
          <p:cNvPr id="100" name="Title 1"/>
          <p:cNvSpPr/>
          <p:nvPr/>
        </p:nvSpPr>
        <p:spPr>
          <a:xfrm>
            <a:off x="652320" y="0"/>
            <a:ext cx="8263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979560" indent="-196920" algn="ctr">
              <a:lnSpc>
                <a:spcPct val="100000"/>
              </a:lnSpc>
              <a:tabLst>
                <a:tab algn="l" pos="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VerifySpec Dataflow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1960" y="-36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nitoring and Repor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6" descr="test_system"/>
          <p:cNvPicPr/>
          <p:nvPr/>
        </p:nvPicPr>
        <p:blipFill>
          <a:blip r:embed="rId1"/>
          <a:stretch/>
        </p:blipFill>
        <p:spPr>
          <a:xfrm>
            <a:off x="685800" y="4267080"/>
            <a:ext cx="3886200" cy="2198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IVS-bugs"/>
          <p:cNvPicPr/>
          <p:nvPr/>
        </p:nvPicPr>
        <p:blipFill>
          <a:blip r:embed="rId2"/>
          <a:stretch/>
        </p:blipFill>
        <p:spPr>
          <a:xfrm>
            <a:off x="5105520" y="3886200"/>
            <a:ext cx="3809880" cy="2374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C:\Users\anupam\Pictures\dashboard.jpg"/>
          <p:cNvPicPr/>
          <p:nvPr/>
        </p:nvPicPr>
        <p:blipFill>
          <a:blip r:embed="rId3"/>
          <a:stretch/>
        </p:blipFill>
        <p:spPr>
          <a:xfrm>
            <a:off x="533520" y="914400"/>
            <a:ext cx="5410080" cy="3246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test_system4"/>
          <p:cNvPicPr/>
          <p:nvPr/>
        </p:nvPicPr>
        <p:blipFill>
          <a:blip r:embed="rId4"/>
          <a:stretch/>
        </p:blipFill>
        <p:spPr>
          <a:xfrm>
            <a:off x="5105520" y="1066680"/>
            <a:ext cx="380988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1960" y="-36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urrent Implem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120" y="1143000"/>
            <a:ext cx="7805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2040" indent="-293760">
              <a:spcAft>
                <a:spcPts val="1287"/>
              </a:spcAft>
              <a:buClr>
                <a:srgbClr val="6d9381"/>
              </a:buClr>
              <a:buSzPct val="80000"/>
              <a:buFont typeface="Wingdings" charset="2"/>
              <a:buChar char="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equirements and test case documents linked together through database, results correlated automatically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92040" indent="-293760">
              <a:spcAft>
                <a:spcPts val="1287"/>
              </a:spcAft>
              <a:buClr>
                <a:srgbClr val="6d9381"/>
              </a:buClr>
              <a:buSzPct val="80000"/>
              <a:buFont typeface="Wingdings" charset="2"/>
              <a:buChar char="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egression runs round the clock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92040" indent="-293760">
              <a:spcAft>
                <a:spcPts val="1287"/>
              </a:spcAft>
              <a:buClr>
                <a:srgbClr val="6d9381"/>
              </a:buClr>
              <a:buSzPct val="80000"/>
              <a:buFont typeface="Wingdings" charset="2"/>
              <a:buChar char="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ests run automatically when machine is availabl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92040" indent="-293760">
              <a:spcAft>
                <a:spcPts val="1287"/>
              </a:spcAft>
              <a:buClr>
                <a:srgbClr val="6d9381"/>
              </a:buClr>
              <a:buSzPct val="80000"/>
              <a:buFont typeface="Wingdings" charset="2"/>
              <a:buChar char="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XML files feeding reporting and documentation system generated by Per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92040" indent="-293760">
              <a:spcAft>
                <a:spcPts val="1287"/>
              </a:spcAft>
              <a:buClr>
                <a:srgbClr val="6d9381"/>
              </a:buClr>
              <a:buSzPct val="80000"/>
              <a:buFont typeface="Wingdings" charset="2"/>
              <a:buChar char="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Mgmt. and development teams share a common platform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92040" indent="-293760">
              <a:lnSpc>
                <a:spcPct val="90000"/>
              </a:lnSpc>
              <a:spcAft>
                <a:spcPts val="1287"/>
              </a:spcAft>
              <a:buClr>
                <a:srgbClr val="6d9381"/>
              </a:buClr>
              <a:buSzPct val="80000"/>
              <a:buFont typeface="Wingdings" charset="2"/>
              <a:buChar char="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urrent 37 requirements, to go up to 150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92040" indent="-293760">
              <a:lnSpc>
                <a:spcPct val="90000"/>
              </a:lnSpc>
              <a:spcAft>
                <a:spcPts val="1287"/>
              </a:spcAft>
              <a:buClr>
                <a:srgbClr val="6d9381"/>
              </a:buClr>
              <a:buSzPct val="80000"/>
              <a:buFont typeface="Wingdings" charset="2"/>
              <a:buChar char="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urrent 250 tests, to go &gt; 1000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92040" indent="-293760">
              <a:spcAft>
                <a:spcPts val="1287"/>
              </a:spcAft>
              <a:buClr>
                <a:srgbClr val="6d9381"/>
              </a:buClr>
              <a:buSzPct val="80000"/>
              <a:buFont typeface="Wingdings" charset="2"/>
              <a:buChar char="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31T14:34:37Z</dcterms:created>
  <dc:creator>Dave Orecchio</dc:creator>
  <dc:description/>
  <dc:language>en-US</dc:language>
  <cp:lastModifiedBy>Chris Schalick</cp:lastModifiedBy>
  <cp:lastPrinted>2006-03-17T22:14:11Z</cp:lastPrinted>
  <dcterms:modified xsi:type="dcterms:W3CDTF">2010-05-08T14:14:08Z</dcterms:modified>
  <cp:revision>633</cp:revision>
  <dc:subject/>
  <dc:title>GateRocket Product Overview</dc:title>
</cp:coreProperties>
</file>