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C3E3-B3B5-41A2-A74F-1BDFBACF0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T – On Die Ter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2083-9C0E-452D-9EA0-BB8645A1F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B52E-08D1-4116-B527-B38E54F96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/O analog-based design cells are hierarchically built in circ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ells are multiply-instantiated, containing small common analog-based building block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vel-shifters, differential Amplifiers, pull-up/pull-down driv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69A-ABE2-4A51-A810-CFD33DEDF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ic modeling: A low-level, high-detailed RTL module is manually written (in Verilog, using 4-value semantics) for each of the building blocks to describe its functional behavi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be zero-delay RTL (PLLs and ring-oscillators are outside our scop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2ABC-F8D6-46FB-9E53-302D5E49B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of the RTL modules is formally verified against the real SPICE circuit of the building block using an EDA vendor tool (based on symbolic-simulation techniqu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C0C-0D05-446C-B854-77C1C1EE2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op-level RTL module is written and formally verified against the top-level SPICE circuit (all internal building-blocks are black-boxe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ew RTL module is used for RTL simul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5B21-4E32-4D10-9BD2-6369B4FFC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2E86-8F33-4E73-B5A7-0EE1FDC82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32B3-728B-47B1-89D4-A635E9A9E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87DD-B48B-4C13-B7F5-697F5ECC3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C9EF-DE57-4687-8CF5-8B21B4292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FF00-1E8E-4FC7-BD5A-6AD73E0C9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03D2-CF93-4AD2-89A9-5F151EE4C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AEE1-6AE3-40B9-99A3-ED2221051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A14B-6F05-4E9C-8FAC-6C7A4A27F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252C-C0A6-46F4-9367-941CDAF89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D189-2D39-4CC2-AE8D-1516EBCBE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3BB7-D246-417C-86D1-FCD6F3F3C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EF32-9555-4376-8971-0D2FA758D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4988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4C0-AEBE-4994-8EC5-76623A13808F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Intel_white"/>
          <p:cNvPicPr/>
          <p:nvPr/>
        </p:nvPicPr>
        <p:blipFill>
          <a:blip r:embed="rId2"/>
          <a:stretch/>
        </p:blipFill>
        <p:spPr>
          <a:xfrm>
            <a:off x="7545240" y="407880"/>
            <a:ext cx="1417680" cy="946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oshe.emmer@inte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Logic Modeling an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Formal Equivalence Checking of Analog-based Desig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she Emm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moshe.emmer@intel.co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croprocessor and Chipset Development, Intel Architecture Group, Intel Corpor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76520" y="5740560"/>
            <a:ext cx="57639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rebuchet MS"/>
              </a:rPr>
              <a:t>DAC 2010 User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Pull-up driver, top-level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1161-778B-4CA8-9503-6471600A306F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7404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905120" y="3048120"/>
            <a:ext cx="914400" cy="838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895480" y="2971800"/>
            <a:ext cx="3200400" cy="167652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705720" y="2971800"/>
            <a:ext cx="1676160" cy="167652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1066680" y="1981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alog level-shi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3505320" y="5345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708660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O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3"/>
          <p:cNvCxnSpPr>
            <a:stCxn id="201" idx="2"/>
            <a:endCxn id="198" idx="0"/>
          </p:cNvCxnSpPr>
          <p:nvPr/>
        </p:nvCxnSpPr>
        <p:spPr>
          <a:xfrm>
            <a:off x="2324160" y="2351160"/>
            <a:ext cx="38880" cy="697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5" name="Straight Arrow Connector 15"/>
          <p:cNvCxnSpPr>
            <a:stCxn id="202" idx="0"/>
            <a:endCxn id="199" idx="2"/>
          </p:cNvCxnSpPr>
          <p:nvPr/>
        </p:nvCxnSpPr>
        <p:spPr>
          <a:xfrm flipV="1">
            <a:off x="4038480" y="4647960"/>
            <a:ext cx="457920" cy="6976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06" name="Straight Arrow Connector 17"/>
          <p:cNvCxnSpPr>
            <a:stCxn id="203" idx="0"/>
            <a:endCxn id="200" idx="2"/>
          </p:cNvCxnSpPr>
          <p:nvPr/>
        </p:nvCxnSpPr>
        <p:spPr>
          <a:xfrm flipV="1">
            <a:off x="7505640" y="4647600"/>
            <a:ext cx="38880" cy="6865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 single pull-up driver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91C7-EEC0-40DB-8595-31E18DA5562E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533760" cy="492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4343400" y="838080"/>
            <a:ext cx="3819600" cy="57247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6"/>
          <p:cNvSpPr/>
          <p:nvPr/>
        </p:nvSpPr>
        <p:spPr>
          <a:xfrm>
            <a:off x="1295280" y="2209680"/>
            <a:ext cx="990720" cy="1600200"/>
          </a:xfrm>
          <a:prstGeom prst="rect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6248520" y="1371600"/>
            <a:ext cx="914400" cy="4952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4419720" y="914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alog level-shif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27"/>
          <p:cNvSpPr/>
          <p:nvPr/>
        </p:nvSpPr>
        <p:spPr>
          <a:xfrm>
            <a:off x="2362320" y="28195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761080" cy="4181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tching RTL module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dditional constraint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analog level-shifter (building block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C09-FC29-4566-87F1-3B20513D0C31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4648320" y="4419720"/>
            <a:ext cx="304560" cy="4572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7162920" y="1523880"/>
            <a:ext cx="380880" cy="2286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1752480" y="1066680"/>
            <a:ext cx="5335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4648320" y="3809880"/>
            <a:ext cx="3045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8"/>
          <p:cNvSpPr/>
          <p:nvPr/>
        </p:nvSpPr>
        <p:spPr>
          <a:xfrm>
            <a:off x="1752480" y="2362320"/>
            <a:ext cx="533520" cy="22860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9"/>
          <p:cNvSpPr/>
          <p:nvPr/>
        </p:nvSpPr>
        <p:spPr>
          <a:xfrm>
            <a:off x="1752480" y="685800"/>
            <a:ext cx="533520" cy="22860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3429000" y="4952880"/>
            <a:ext cx="5562720" cy="1007640"/>
          </a:xfrm>
          <a:prstGeom prst="rect">
            <a:avLst/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</a:rPr>
              <a:t>module x8cppuppredrvbit (in, outhv, pwrnotgood, s3onb, vcc1p1xx, vccddq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</a:rPr>
              <a:t>input in, pwrnotgood, s3onb, vcc1p1xx, vccdd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</a:rPr>
              <a:t>output outhv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</a:rPr>
              <a:t>assign outhv = (vcc1p1xx &amp; s3onb) ? ~in : (((~vcc1p1x | vcc1p1xx &amp; pwrnotgood &amp; ~in) &amp; ~s3onb) ? 1'b1 : 1'b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</a:rPr>
              <a:t>end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505320" y="6307200"/>
            <a:ext cx="4800600" cy="246240"/>
          </a:xfrm>
          <a:prstGeom prst="rect">
            <a:avLst/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</a:rPr>
              <a:t>No_Contention_During_Powerup: $forbidden(vcc1p1xx &amp; pwrnotgood &amp; i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verified RTL descriptions of all I/O buffers were assimilated in the pre-silicon RTL environ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TL simulation revealed a real design bug in the I/O reset-buff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was a real logical contention inside the level-shifters of the I/O reset-buffer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s bug could not be found in any other design activit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t would have resulted in a fatal silicon bug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w design bugs were found and DDR channel architecture was revised following the functional behavior of its I/O buffers in the RTL environmen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sing the new methodology, we were able to see the how the ODT (on-die termination) affects the DDR channel (during a normal read transaction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past: Z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Driver drives the bu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Z (end of transaction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Now: Z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X (ODT is on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Driver drives the bu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X (ODT again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Z (end of transaction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57DE-E059-40D1-9C1D-945D07D2FACD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alog-based design is a significant challenge to the FE design worl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raditional approach: “ignore” this design type in the front-end flows (using dummy abstract RTL modules and black-boxes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new methodology for logic modeling and formal equivalence checking for analog-based design was develope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ull and accurate RTL description of these design block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e-silicon logic verification activity of I/O design is significantly improve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rebuchet MS"/>
              </a:rPr>
              <a:t>Complex analog design (e.g. PLLs, ring-oscillators) is not covered he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s methodology was successfully used as part of a highly integrated CPU design at Int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idered as an integral part of the RTL design work in the I/O team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flow is currently built using a specific EDA vendor tool, but can be in-use with other vendor tool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methodology itself is independent of the tool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0C61-422E-476A-84FD-9B96C1BFAEC7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600200" y="5943600"/>
            <a:ext cx="632448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og-based design in the front-end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necessarily a black-bo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&amp;A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ethodology &amp; Flo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ign Examp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EAF-3BBA-4701-85FC-36A7AEBD22CB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Motiv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1. Microprocessor design becomes more similar to System-on-a-chip (SoC) desig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ultiple cores, many traditional off-chip features are implemented on-chip (e.g. memory controllers, graphic engines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gnificant enlargement in the amount of I/O design cells on the chip (DDR channels, PCIE lanes/links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e usage of analog-based design (with digital control) has increased proportionall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2. Traditional handling of analog-based design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bstrac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artificial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RTL description is simulated  in pre-silicon RTL verification environ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lack-box in the formal equivalence checking flow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Verification hole, the actual behavior is never checke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376E-87A5-4A7E-A37F-64645271F175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28600" y="5410080"/>
            <a:ext cx="8686800" cy="1191240"/>
          </a:xfrm>
          <a:prstGeom prst="rect">
            <a:avLst/>
          </a:prstGeom>
          <a:solidFill>
            <a:srgbClr val="92d050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&amp; 2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isk for verification hole consistentl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ew methodology for handling analog-based design in the front-end environment wa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tage 1: Define circuit building-block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BA4-7285-4BF8-A923-7177F41915C6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28600" y="1143000"/>
            <a:ext cx="365760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838080" y="1143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/O design circui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219320" y="1676520"/>
            <a:ext cx="1600200" cy="990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1219320" y="1676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1905120" y="3733920"/>
            <a:ext cx="30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1219320" y="289548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1219320" y="28954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219320" y="518148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1219320" y="51814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tage 2: Write RTL description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122-3C49-48C8-AB78-D36860E98715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28600" y="1143000"/>
            <a:ext cx="365760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838080" y="1143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/O design circui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219320" y="1676520"/>
            <a:ext cx="1600200" cy="990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1219320" y="1676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1905120" y="3733920"/>
            <a:ext cx="30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1219320" y="289548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1219320" y="28954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1219320" y="518148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1219320" y="51814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705720" y="1676520"/>
            <a:ext cx="1676160" cy="99036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629400" y="1676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6705720" y="2895480"/>
            <a:ext cx="167616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6629400" y="28954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6705720" y="5181480"/>
            <a:ext cx="167616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6629400" y="51814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Arrow 31"/>
          <p:cNvSpPr/>
          <p:nvPr/>
        </p:nvSpPr>
        <p:spPr>
          <a:xfrm>
            <a:off x="3048120" y="1981080"/>
            <a:ext cx="350496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Arrow 33"/>
          <p:cNvSpPr/>
          <p:nvPr/>
        </p:nvSpPr>
        <p:spPr>
          <a:xfrm>
            <a:off x="3048120" y="3048120"/>
            <a:ext cx="350496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34"/>
          <p:cNvSpPr/>
          <p:nvPr/>
        </p:nvSpPr>
        <p:spPr>
          <a:xfrm>
            <a:off x="3048120" y="5486400"/>
            <a:ext cx="350496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3200400" y="2401920"/>
            <a:ext cx="3200400" cy="64260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Logic modeling (RTL module per building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380880" y="685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r each building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7391520" y="3733920"/>
            <a:ext cx="30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tage 3: Formally verify building-block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D9AA-A06F-4AB4-8C76-FEF1C204F0DC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28600" y="1143000"/>
            <a:ext cx="365760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838080" y="1143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/O design circui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219320" y="1676520"/>
            <a:ext cx="1600200" cy="990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1219320" y="1676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1905120" y="3733920"/>
            <a:ext cx="30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1219320" y="289548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1219320" y="28954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1219320" y="518148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9"/>
          <p:cNvSpPr/>
          <p:nvPr/>
        </p:nvSpPr>
        <p:spPr>
          <a:xfrm>
            <a:off x="1219320" y="51814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nalog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ilding 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705720" y="1676520"/>
            <a:ext cx="1676160" cy="99036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6629400" y="1676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6705720" y="2895480"/>
            <a:ext cx="167616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6629400" y="28954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6705720" y="5181480"/>
            <a:ext cx="167616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2"/>
          <p:cNvSpPr/>
          <p:nvPr/>
        </p:nvSpPr>
        <p:spPr>
          <a:xfrm>
            <a:off x="6629400" y="51814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-Right Arrow 23"/>
          <p:cNvSpPr/>
          <p:nvPr/>
        </p:nvSpPr>
        <p:spPr>
          <a:xfrm>
            <a:off x="2895480" y="1905120"/>
            <a:ext cx="373392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eft-Right Arrow 24"/>
          <p:cNvSpPr/>
          <p:nvPr/>
        </p:nvSpPr>
        <p:spPr>
          <a:xfrm>
            <a:off x="2895480" y="3200400"/>
            <a:ext cx="373392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eft-Right Arrow 30"/>
          <p:cNvSpPr/>
          <p:nvPr/>
        </p:nvSpPr>
        <p:spPr>
          <a:xfrm>
            <a:off x="2895480" y="5410080"/>
            <a:ext cx="3733920" cy="381240"/>
          </a:xfrm>
          <a:prstGeom prst="leftRightArrow">
            <a:avLst>
              <a:gd name="adj1" fmla="val 50000"/>
              <a:gd name="adj2" fmla="val 49968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3200400" y="2338560"/>
            <a:ext cx="3200400" cy="113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al Equivalence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ilog RTL vs. SPIC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using an EDA vendor t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380880" y="685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sed on symbolic-simulation techn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7391520" y="3733920"/>
            <a:ext cx="30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1"/>
          <p:cNvSpPr/>
          <p:nvPr/>
        </p:nvSpPr>
        <p:spPr>
          <a:xfrm>
            <a:off x="5562720" y="1030320"/>
            <a:ext cx="2743200" cy="4952880"/>
          </a:xfrm>
          <a:prstGeom prst="rect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tage 4: Formally verify top-level I/O cell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950240" y="636120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77A-5BB0-4EE9-86B7-60882EEE51B9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09480" y="1030320"/>
            <a:ext cx="274320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838080" y="1030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/O design circui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1219320" y="141120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1219320" y="141120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Analog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building 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1905120" y="3468600"/>
            <a:ext cx="30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263052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7"/>
          <p:cNvSpPr/>
          <p:nvPr/>
        </p:nvSpPr>
        <p:spPr>
          <a:xfrm>
            <a:off x="1219320" y="2630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Analog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building 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1219320" y="4916520"/>
            <a:ext cx="1600200" cy="990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9"/>
          <p:cNvSpPr/>
          <p:nvPr/>
        </p:nvSpPr>
        <p:spPr>
          <a:xfrm>
            <a:off x="1219320" y="4916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Analog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building 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943600" y="1411200"/>
            <a:ext cx="167652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5867280" y="14112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block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5943600" y="2630520"/>
            <a:ext cx="167652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5867280" y="26305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block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5943600" y="4916520"/>
            <a:ext cx="1676520" cy="9907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2"/>
          <p:cNvSpPr/>
          <p:nvPr/>
        </p:nvSpPr>
        <p:spPr>
          <a:xfrm>
            <a:off x="5867280" y="49165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RTL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block-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2"/>
          <p:cNvSpPr/>
          <p:nvPr/>
        </p:nvSpPr>
        <p:spPr>
          <a:xfrm>
            <a:off x="5562720" y="1041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I/O design RTL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3"/>
          <p:cNvSpPr/>
          <p:nvPr/>
        </p:nvSpPr>
        <p:spPr>
          <a:xfrm>
            <a:off x="6629400" y="3621240"/>
            <a:ext cx="30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4"/>
          <p:cNvSpPr/>
          <p:nvPr/>
        </p:nvSpPr>
        <p:spPr>
          <a:xfrm>
            <a:off x="2286000" y="3697200"/>
            <a:ext cx="4724280" cy="10998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rmal Equivalence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Verilog RTL vs. Verilog net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(all Analog blocks are </a:t>
            </a:r>
            <a:r>
              <a:rPr b="1" lang="en-US" sz="1800" spc="-1" strike="noStrike">
                <a:solidFill>
                  <a:srgbClr val="ff7c80"/>
                </a:solidFill>
                <a:latin typeface="Trebuchet MS"/>
              </a:rPr>
              <a:t>black-boxed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eft-Right Arrow 35"/>
          <p:cNvSpPr/>
          <p:nvPr/>
        </p:nvSpPr>
        <p:spPr>
          <a:xfrm>
            <a:off x="3352680" y="2630520"/>
            <a:ext cx="2210040" cy="9907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6"/>
          <p:cNvSpPr/>
          <p:nvPr/>
        </p:nvSpPr>
        <p:spPr>
          <a:xfrm>
            <a:off x="5257800" y="6095880"/>
            <a:ext cx="3809880" cy="642600"/>
          </a:xfrm>
          <a:prstGeom prst="rect">
            <a:avLst/>
          </a:prstGeom>
          <a:solidFill>
            <a:srgbClr val="4597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o pre-silicon RTL environment for logic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Bent-Up Arrow 38"/>
          <p:cNvSpPr/>
          <p:nvPr/>
        </p:nvSpPr>
        <p:spPr>
          <a:xfrm flipH="1" rot="10800000">
            <a:off x="8305920" y="2859120"/>
            <a:ext cx="838080" cy="3160800"/>
          </a:xfrm>
          <a:custGeom>
            <a:avLst/>
            <a:gdLst>
              <a:gd name="textAreaLeft" fmla="*/ 360 w 838080"/>
              <a:gd name="textAreaRight" fmla="*/ 524160 w 838080"/>
              <a:gd name="textAreaTop" fmla="*/ 2951280 h 3160800"/>
              <a:gd name="textAreaBottom" fmla="*/ 3161160 h 3160800"/>
            </a:gdLst>
            <a:ahLst/>
            <a:rect l="textAreaLeft" t="textAreaTop" r="textAreaRight" b="textAreaBottom"/>
            <a:pathLst>
              <a:path w="838200" h="3160712">
                <a:moveTo>
                  <a:pt x="0" y="2951162"/>
                </a:moveTo>
                <a:lnTo>
                  <a:pt x="314325" y="2951162"/>
                </a:lnTo>
                <a:lnTo>
                  <a:pt x="314325" y="209550"/>
                </a:lnTo>
                <a:lnTo>
                  <a:pt x="0" y="209550"/>
                </a:lnTo>
                <a:lnTo>
                  <a:pt x="419100" y="0"/>
                </a:lnTo>
                <a:lnTo>
                  <a:pt x="838200" y="209550"/>
                </a:lnTo>
                <a:lnTo>
                  <a:pt x="523875" y="209550"/>
                </a:lnTo>
                <a:lnTo>
                  <a:pt x="523875" y="3160712"/>
                </a:lnTo>
                <a:lnTo>
                  <a:pt x="0" y="316071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1219320" y="1411200"/>
            <a:ext cx="1600200" cy="99072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1219320" y="2630520"/>
            <a:ext cx="1600200" cy="9907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1219320" y="4916520"/>
            <a:ext cx="1600200" cy="9907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5943600" y="1411200"/>
            <a:ext cx="1676520" cy="99072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5943600" y="2630520"/>
            <a:ext cx="1676520" cy="9907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5943600" y="4916520"/>
            <a:ext cx="1676520" cy="99072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raditionally, the whole Output-Buffer was black-boxe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/O DDR Output-Buffer: Top-level circui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FE7-0824-42E5-8F11-733E5449DB21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72480" cy="4648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2362320" y="762120"/>
            <a:ext cx="2819160" cy="525780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TextBox 9" descr=""/>
          <p:cNvPicPr/>
          <p:nvPr/>
        </p:nvPicPr>
        <p:blipFill>
          <a:blip r:embed="rId2"/>
          <a:stretch/>
        </p:blipFill>
        <p:spPr>
          <a:xfrm>
            <a:off x="2298600" y="712800"/>
            <a:ext cx="2889360" cy="701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0"/>
          <p:cNvSpPr/>
          <p:nvPr/>
        </p:nvSpPr>
        <p:spPr>
          <a:xfrm>
            <a:off x="5257800" y="762120"/>
            <a:ext cx="2514600" cy="52578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extBox 11" descr=""/>
          <p:cNvPicPr/>
          <p:nvPr/>
        </p:nvPicPr>
        <p:blipFill>
          <a:blip r:embed="rId3"/>
          <a:stretch/>
        </p:blipFill>
        <p:spPr>
          <a:xfrm>
            <a:off x="5194440" y="712800"/>
            <a:ext cx="251136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plit to pull-up and pull-down driv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Actual driver (analog-based design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7950240" y="6245280"/>
            <a:ext cx="64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B8CD-2B10-4206-AA83-D78190E65315}" type="slidenum">
              <a:rPr b="0" lang="ar-SA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38440" y="1182600"/>
            <a:ext cx="3381480" cy="489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2:27:51Z</dcterms:created>
  <dc:creator>memmer</dc:creator>
  <dc:description/>
  <dc:language>en-US</dc:language>
  <cp:lastModifiedBy>memmer</cp:lastModifiedBy>
  <dcterms:modified xsi:type="dcterms:W3CDTF">2010-05-12T07:04:42Z</dcterms:modified>
  <cp:revision>25</cp:revision>
  <dc:subject/>
  <dc:title>Logic Modeling and Formal Equivalence Checking of Analog-based Design</dc:title>
</cp:coreProperties>
</file>