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2AD3-A40D-4912-AB60-0E7C8CEF4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FFAA-E8B1-4FAA-B9BD-C27B09E3F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B9ED-CCBE-4CA0-8212-C56348EA7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37C9-F75D-46B3-84C8-F75CBAD5F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DEE5-923C-4178-BBC3-D55882780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3952-110D-4834-A707-7747A8028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094D-2F4E-4251-B9E9-1D8BF3900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14E3-4176-4B48-B84B-50EC3E710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DD9D-797A-4FA7-B570-71F60AC00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1EED-7080-44DA-8ADE-5EB6C7077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8F81-7884-4F82-B39C-498504F4E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6DCD-046A-4AA5-8DC5-60758467B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B9C3-967C-46EC-9588-6CE4B9BE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42A9-8AA1-4D37-AF34-AFA3A2D67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CD46-8CCC-4AC9-94D7-2E34595C7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A4C2-3155-41CA-B860-E1BC04A37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4F19-6E53-4AAA-BE07-84446724D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EDEC-6A87-44E5-8FC4-6E54F3656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A004-CBA3-47F8-B95A-F7E5CC004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3429-F0B4-43DC-BD81-B3B9EF28C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5A63-8762-46C9-9599-38E098BE8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07E6-BFAA-44C6-9200-63647D6E9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B4DE-10D9-4FCF-8C37-C6E43C4D8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36BC-4B81-4B63-ACEB-235016F1A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B946-23DC-4474-8A43-0E89EF789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E8DB-BEBA-4F58-91EE-A3C21B7BC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CA20-1D3F-4720-AC2C-1F09D7061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3E20-7BF0-4E4B-B7BD-0CAE61620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8257-5773-4A65-9F4A-5BE09BBFF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596A-8D44-4DED-B582-A157C66B1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CA06-10D9-4DD6-8B17-4D518C2A7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D6B5-9E90-4D84-B1BC-7FDEC4575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DFF7-EF26-495A-8EE8-62C514DA8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02E1-235A-4DE4-814F-6E3862846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104C-3DFF-493B-A542-2BA22E6B1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2B22-D289-46B3-8BEE-5CA791B06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lsio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16A5-0B3D-4BB9-B5D9-D5A5B68C3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F442-07D8-4BA4-AF3C-9E61D1C4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A4A-44A4-40A7-A687-3815594C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01C-805B-4783-9692-FBF32C8E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741-5E29-45CF-856F-BD744995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4A5D-71EA-48A6-A441-C8DACA8F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8927-BCD6-4C7B-9BBB-7BE1F86C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87C0-177E-4A0D-AC0D-EB278CB8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B7E5-B4E0-41E2-9362-C0B0DB73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CFFC-6047-4F67-848D-F3AD7C02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32E6-D116-4E17-8B5C-EED40591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C7C7-79B2-49A1-A79E-5F10D5A7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907-AA42-450F-AFCF-EE64760E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15C6-6D7F-4803-A789-D121A9BD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334C-53F5-4916-9895-D9785D7E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0DFD-93BD-4DB0-AAF2-72960F5B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7C1E-5E22-436E-8797-B20C694D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64BE-A5AE-488F-A7BB-07A46AB8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664-2558-46FF-96FA-CFE2FC19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643-F390-4EFD-8504-BCB81FC5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652-6A42-4102-9CD7-BB98923B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B67-DAF0-44A6-BDF0-C0D496E5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E3E-E5E2-4ACE-8B92-51EE8FF1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B647-C7F3-4F9B-B134-3FC2498E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B5E-7401-4ED3-9DB5-3B9FD744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everaging Formal Techniques for Packet Based Desig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EF81-A73B-477D-8238-120B3982E85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everaging Formal Techniques for Packet Based Desig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8BDE-CCF3-43C7-B576-08605FB3FD0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8EBB-24D3-49AF-BDE8-07C453E80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266760" y="441972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89000" y="1330200"/>
            <a:ext cx="8793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Century Gothic"/>
              </a:rPr>
              <a:t>Leveraging Formal Techniques for Packet Based Desig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B. A. Krishna (FV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helsio Communications Inc – bkrishna@chelsio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namaya Sullerey (Design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helsio Communications Inc – anamaya@chelsio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lok Jain (CAD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adence Design Systems – alokj@cadence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esign Automation Conference 201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5687-A709-4547-A326-882E5D81F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266760" y="4054320"/>
            <a:ext cx="8610480" cy="19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bstraction’s Characteris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vironment maintains the notion of a </a:t>
            </a:r>
            <a:r>
              <a:rPr b="1" i="1" lang="en-US" sz="1800" spc="-1" strike="noStrike">
                <a:solidFill>
                  <a:srgbClr val="4d6600"/>
                </a:solidFill>
                <a:latin typeface="Verdana"/>
              </a:rPr>
              <a:t>magic P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 maintains stat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nly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1800" spc="-1" strike="noStrike">
                <a:solidFill>
                  <a:srgbClr val="4d6600"/>
                </a:solidFill>
                <a:latin typeface="Verdana"/>
              </a:rPr>
              <a:t>magic P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ilize </a:t>
            </a:r>
            <a:r>
              <a:rPr b="1" i="1" lang="en-US" sz="1800" spc="-1" strike="noStrike">
                <a:solidFill>
                  <a:srgbClr val="4d6600"/>
                </a:solidFill>
                <a:latin typeface="Verdana"/>
              </a:rPr>
              <a:t>magic Pag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 to determine behavi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150000"/>
              </a:lnSpc>
              <a:spcBef>
                <a:spcPts val="374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4d6600"/>
                </a:solidFill>
                <a:latin typeface="Verdana"/>
              </a:rPr>
              <a:t>magic Page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is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allocated,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allocate 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(random page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150000"/>
              </a:lnSpc>
              <a:spcBef>
                <a:spcPts val="374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4d6600"/>
                </a:solidFill>
                <a:latin typeface="Verdana"/>
              </a:rPr>
              <a:t>magic Page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isn’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allocated,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allocate 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(random page != </a:t>
            </a:r>
            <a:r>
              <a:rPr b="1" i="1" lang="en-US" sz="1500" spc="-1" strike="noStrike">
                <a:solidFill>
                  <a:srgbClr val="4d6600"/>
                </a:solidFill>
                <a:latin typeface="Verdana"/>
              </a:rPr>
              <a:t>magic Page</a:t>
            </a:r>
            <a:r>
              <a:rPr b="1" i="1" lang="en-US" sz="15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avior is a superset of the actual Free List Manag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w is magic Page generat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ndomly set by env. at reset  &amp; kept rigid within pa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ertions study life of only </a:t>
            </a:r>
            <a:r>
              <a:rPr b="1" i="1" lang="en-US" sz="1800" spc="-1" strike="noStrike">
                <a:solidFill>
                  <a:srgbClr val="4d6600"/>
                </a:solidFill>
                <a:latin typeface="Verdana"/>
              </a:rPr>
              <a:t>magic Page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gnoring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p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1938240" y="573120"/>
            <a:ext cx="517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ree List Manager Abstr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8DF8-BD09-42F4-B55B-9295F5346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266760" y="4054320"/>
            <a:ext cx="8610480" cy="19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4194000" y="1736640"/>
            <a:ext cx="1106640" cy="50796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LC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Oval 20"/>
          <p:cNvSpPr/>
          <p:nvPr/>
        </p:nvSpPr>
        <p:spPr>
          <a:xfrm>
            <a:off x="1332000" y="2770200"/>
            <a:ext cx="1106280" cy="50796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Oval 21"/>
          <p:cNvSpPr/>
          <p:nvPr/>
        </p:nvSpPr>
        <p:spPr>
          <a:xfrm>
            <a:off x="7099200" y="2657520"/>
            <a:ext cx="1104840" cy="50796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CNT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Oval 22"/>
          <p:cNvSpPr/>
          <p:nvPr/>
        </p:nvSpPr>
        <p:spPr>
          <a:xfrm>
            <a:off x="5954760" y="4324320"/>
            <a:ext cx="1106280" cy="50796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CNT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Oval 23"/>
          <p:cNvSpPr/>
          <p:nvPr/>
        </p:nvSpPr>
        <p:spPr>
          <a:xfrm>
            <a:off x="2546280" y="4344840"/>
            <a:ext cx="1104840" cy="50832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CNT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Curved Up Arrow 24"/>
          <p:cNvSpPr/>
          <p:nvPr/>
        </p:nvSpPr>
        <p:spPr>
          <a:xfrm flipV="1" rot="20295000">
            <a:off x="1914480" y="1853280"/>
            <a:ext cx="2284560" cy="467640"/>
          </a:xfrm>
          <a:custGeom>
            <a:avLst/>
            <a:gdLst>
              <a:gd name="textAreaLeft" fmla="*/ 527040 w 2284560"/>
              <a:gd name="textAreaRight" fmla="*/ 1698840 w 2284560"/>
              <a:gd name="textAreaTop" fmla="*/ 62640 h 467640"/>
              <a:gd name="textAreaBottom" fmla="*/ 405000 h 46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70" hR="21600" stAng="10800000" swAng="-5400000"/>
                <a:lnTo>
                  <a:pt x="11078" y="21600"/>
                </a:lnTo>
                <a:arcTo wR="9970" hR="21600" stAng="5400000" swAng="-3646600"/>
                <a:lnTo>
                  <a:pt x="21283" y="5400"/>
                </a:lnTo>
                <a:lnTo>
                  <a:pt x="20493" y="0"/>
                </a:lnTo>
                <a:lnTo>
                  <a:pt x="19069" y="5400"/>
                </a:lnTo>
                <a:lnTo>
                  <a:pt x="19622" y="5400"/>
                </a:lnTo>
                <a:arcTo wR="9970" hR="21600" stAng="1753400" swAng="3558311"/>
                <a:lnTo>
                  <a:pt x="10524" y="21567"/>
                </a:lnTo>
                <a:arcTo wR="9970" hR="21600" stAng="5488289" swAng="5311711"/>
                <a:close/>
              </a:path>
              <a:path fill="darkenLess" w="21600" h="21600">
                <a:moveTo>
                  <a:pt x="0" y="0"/>
                </a:moveTo>
                <a:arcTo wR="9970" hR="21600" stAng="10800000" swAng="-5400000"/>
                <a:lnTo>
                  <a:pt x="11078" y="21600"/>
                </a:lnTo>
                <a:arcTo wR="9970" hR="21600" stAng="5400000" swAng="88289"/>
                <a:lnTo>
                  <a:pt x="10524" y="21567"/>
                </a:lnTo>
                <a:arcTo wR="9970" hR="21600" stAng="5488289" swAng="5311711"/>
                <a:close/>
              </a:path>
            </a:pathLst>
          </a:custGeom>
          <a:solidFill>
            <a:srgbClr val="cccc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Curved Up Arrow 25"/>
          <p:cNvSpPr/>
          <p:nvPr/>
        </p:nvSpPr>
        <p:spPr>
          <a:xfrm flipV="1" rot="1050600">
            <a:off x="5381280" y="1832400"/>
            <a:ext cx="2203560" cy="456120"/>
          </a:xfrm>
          <a:custGeom>
            <a:avLst/>
            <a:gdLst>
              <a:gd name="textAreaLeft" fmla="*/ 507960 w 2203560"/>
              <a:gd name="textAreaRight" fmla="*/ 1638720 w 2203560"/>
              <a:gd name="textAreaTop" fmla="*/ 60840 h 456120"/>
              <a:gd name="textAreaBottom" fmla="*/ 395280 h 45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63" hR="21600" stAng="10800000" swAng="-5400000"/>
                <a:lnTo>
                  <a:pt x="11080" y="21600"/>
                </a:lnTo>
                <a:arcTo wR="9963" hR="21600" stAng="5400000" swAng="-3645571"/>
                <a:lnTo>
                  <a:pt x="21284" y="5400"/>
                </a:lnTo>
                <a:lnTo>
                  <a:pt x="20484" y="0"/>
                </a:lnTo>
                <a:lnTo>
                  <a:pt x="19051" y="5400"/>
                </a:lnTo>
                <a:lnTo>
                  <a:pt x="19609" y="5400"/>
                </a:lnTo>
                <a:arcTo wR="9963" hR="21600" stAng="1754429" swAng="3556562"/>
                <a:lnTo>
                  <a:pt x="10521" y="21566"/>
                </a:lnTo>
                <a:arcTo wR="9963" hR="21600" stAng="5489008" swAng="5310992"/>
                <a:close/>
              </a:path>
              <a:path fill="darkenLess" w="21600" h="21600">
                <a:moveTo>
                  <a:pt x="0" y="0"/>
                </a:moveTo>
                <a:arcTo wR="9963" hR="21600" stAng="10800000" swAng="-5400000"/>
                <a:lnTo>
                  <a:pt x="11080" y="21600"/>
                </a:lnTo>
                <a:arcTo wR="9963" hR="21600" stAng="5400000" swAng="89008"/>
                <a:lnTo>
                  <a:pt x="10521" y="21566"/>
                </a:lnTo>
                <a:arcTo wR="9963" hR="21600" stAng="5489008" swAng="5310992"/>
                <a:close/>
              </a:path>
            </a:pathLst>
          </a:custGeom>
          <a:solidFill>
            <a:srgbClr val="cccc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urved Up Arrow 27"/>
          <p:cNvSpPr/>
          <p:nvPr/>
        </p:nvSpPr>
        <p:spPr>
          <a:xfrm flipV="1" rot="3735600">
            <a:off x="4847400" y="2924280"/>
            <a:ext cx="2519280" cy="444600"/>
          </a:xfrm>
          <a:custGeom>
            <a:avLst/>
            <a:gdLst>
              <a:gd name="textAreaLeft" fmla="*/ 587880 w 2519280"/>
              <a:gd name="textAreaRight" fmla="*/ 1875600 w 2519280"/>
              <a:gd name="textAreaTop" fmla="*/ 59400 h 444600"/>
              <a:gd name="textAreaBottom" fmla="*/ 385200 h 4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86" hR="21600" stAng="10800000" swAng="-5400000"/>
                <a:lnTo>
                  <a:pt x="11039" y="21600"/>
                </a:lnTo>
                <a:arcTo wR="10086" hR="21600" stAng="5400000" swAng="-3663493"/>
                <a:lnTo>
                  <a:pt x="21280" y="5400"/>
                </a:lnTo>
                <a:lnTo>
                  <a:pt x="20648" y="0"/>
                </a:lnTo>
                <a:lnTo>
                  <a:pt x="19375" y="5400"/>
                </a:lnTo>
                <a:lnTo>
                  <a:pt x="19851" y="5400"/>
                </a:lnTo>
                <a:arcTo wR="10086" hR="21600" stAng="1736507" swAng="3587583"/>
                <a:lnTo>
                  <a:pt x="10562" y="21576"/>
                </a:lnTo>
                <a:arcTo wR="10086" hR="21600" stAng="5475910" swAng="5324090"/>
                <a:close/>
              </a:path>
              <a:path fill="darkenLess" w="21600" h="21600">
                <a:moveTo>
                  <a:pt x="0" y="0"/>
                </a:moveTo>
                <a:arcTo wR="10086" hR="21600" stAng="10800000" swAng="-5400000"/>
                <a:lnTo>
                  <a:pt x="11039" y="21600"/>
                </a:lnTo>
                <a:arcTo wR="10086" hR="21600" stAng="5400000" swAng="75910"/>
                <a:lnTo>
                  <a:pt x="10562" y="21576"/>
                </a:lnTo>
                <a:arcTo wR="10086" hR="21600" stAng="5475910" swAng="5324090"/>
                <a:close/>
              </a:path>
            </a:pathLst>
          </a:custGeom>
          <a:solidFill>
            <a:srgbClr val="cccc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Curved Up Arrow 28"/>
          <p:cNvSpPr/>
          <p:nvPr/>
        </p:nvSpPr>
        <p:spPr>
          <a:xfrm rot="6828000">
            <a:off x="2134080" y="2881800"/>
            <a:ext cx="2520720" cy="480960"/>
          </a:xfrm>
          <a:custGeom>
            <a:avLst/>
            <a:gdLst>
              <a:gd name="textAreaLeft" fmla="*/ 585000 w 2520720"/>
              <a:gd name="textAreaRight" fmla="*/ 1875600 w 2520720"/>
              <a:gd name="textAreaTop" fmla="*/ 64440 h 480960"/>
              <a:gd name="textAreaBottom" fmla="*/ 41652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27" hR="21600" stAng="10800000" swAng="-5400000"/>
                <a:lnTo>
                  <a:pt x="11058" y="21600"/>
                </a:lnTo>
                <a:arcTo wR="10027" hR="21600" stAng="5400000" swAng="-3655011"/>
                <a:lnTo>
                  <a:pt x="21282" y="5400"/>
                </a:lnTo>
                <a:lnTo>
                  <a:pt x="20570" y="0"/>
                </a:lnTo>
                <a:lnTo>
                  <a:pt x="19221" y="5400"/>
                </a:lnTo>
                <a:lnTo>
                  <a:pt x="19736" y="5400"/>
                </a:lnTo>
                <a:arcTo wR="10027" hR="21600" stAng="1744989" swAng="3572873"/>
                <a:lnTo>
                  <a:pt x="10543" y="21571"/>
                </a:lnTo>
                <a:arcTo wR="10027" hR="21600" stAng="5482137" swAng="5317863"/>
                <a:close/>
              </a:path>
              <a:path fill="darkenLess" w="21600" h="21600">
                <a:moveTo>
                  <a:pt x="0" y="0"/>
                </a:moveTo>
                <a:arcTo wR="10027" hR="21600" stAng="10800000" swAng="-5400000"/>
                <a:lnTo>
                  <a:pt x="11058" y="21600"/>
                </a:lnTo>
                <a:arcTo wR="10027" hR="21600" stAng="5400000" swAng="82137"/>
                <a:lnTo>
                  <a:pt x="10543" y="21571"/>
                </a:lnTo>
                <a:arcTo wR="10027" hR="21600" stAng="5482137" swAng="5317863"/>
                <a:close/>
              </a:path>
            </a:pathLst>
          </a:custGeom>
          <a:solidFill>
            <a:srgbClr val="cccc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Curved Up Arrow 29"/>
          <p:cNvSpPr/>
          <p:nvPr/>
        </p:nvSpPr>
        <p:spPr>
          <a:xfrm flipV="1" rot="7581000">
            <a:off x="6832440" y="3761640"/>
            <a:ext cx="2077920" cy="455400"/>
          </a:xfrm>
          <a:custGeom>
            <a:avLst/>
            <a:gdLst>
              <a:gd name="textAreaLeft" fmla="*/ 476640 w 2077920"/>
              <a:gd name="textAreaRight" fmla="*/ 1544400 w 2077920"/>
              <a:gd name="textAreaTop" fmla="*/ 60840 h 455400"/>
              <a:gd name="textAreaBottom" fmla="*/ 394560 h 45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12" hR="21600" stAng="10800000" swAng="-5400000"/>
                <a:lnTo>
                  <a:pt x="11096" y="21600"/>
                </a:lnTo>
                <a:arcTo wR="9912" hR="21600" stAng="5400000" swAng="-3638114"/>
                <a:lnTo>
                  <a:pt x="21285" y="5400"/>
                </a:lnTo>
                <a:lnTo>
                  <a:pt x="20416" y="0"/>
                </a:lnTo>
                <a:lnTo>
                  <a:pt x="18917" y="5400"/>
                </a:lnTo>
                <a:lnTo>
                  <a:pt x="19509" y="5400"/>
                </a:lnTo>
                <a:arcTo wR="9912" hR="21600" stAng="1761886" swAng="3543750"/>
                <a:lnTo>
                  <a:pt x="10504" y="21561"/>
                </a:lnTo>
                <a:arcTo wR="9912" hR="21600" stAng="5494365" swAng="5305635"/>
                <a:close/>
              </a:path>
              <a:path fill="darkenLess" w="21600" h="21600">
                <a:moveTo>
                  <a:pt x="0" y="0"/>
                </a:moveTo>
                <a:arcTo wR="9912" hR="21600" stAng="10800000" swAng="-5400000"/>
                <a:lnTo>
                  <a:pt x="11096" y="21600"/>
                </a:lnTo>
                <a:arcTo wR="9912" hR="21600" stAng="5400000" swAng="94365"/>
                <a:lnTo>
                  <a:pt x="10504" y="21561"/>
                </a:lnTo>
                <a:arcTo wR="9912" hR="21600" stAng="5494365" swAng="5305635"/>
                <a:close/>
              </a:path>
            </a:pathLst>
          </a:custGeom>
          <a:solidFill>
            <a:srgbClr val="cccc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Curved Up Arrow 30"/>
          <p:cNvSpPr/>
          <p:nvPr/>
        </p:nvSpPr>
        <p:spPr>
          <a:xfrm flipV="1" rot="10800000">
            <a:off x="3071520" y="4933800"/>
            <a:ext cx="3389400" cy="455760"/>
          </a:xfrm>
          <a:custGeom>
            <a:avLst/>
            <a:gdLst>
              <a:gd name="textAreaLeft" fmla="*/ 804600 w 3389400"/>
              <a:gd name="textAreaRight" fmla="*/ 2527920 w 3389400"/>
              <a:gd name="textAreaTop" fmla="*/ 60840 h 455760"/>
              <a:gd name="textAreaBottom" fmla="*/ 39492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56" hR="21600" stAng="10800000" swAng="-5400000"/>
                <a:lnTo>
                  <a:pt x="10982" y="21600"/>
                </a:lnTo>
                <a:arcTo wR="10256" hR="21600" stAng="5400000" swAng="-3687719"/>
                <a:lnTo>
                  <a:pt x="21274" y="5400"/>
                </a:lnTo>
                <a:lnTo>
                  <a:pt x="20874" y="0"/>
                </a:lnTo>
                <a:lnTo>
                  <a:pt x="19822" y="5400"/>
                </a:lnTo>
                <a:lnTo>
                  <a:pt x="20185" y="5400"/>
                </a:lnTo>
                <a:arcTo wR="10256" hR="21600" stAng="1712281" swAng="3629915"/>
                <a:lnTo>
                  <a:pt x="10619" y="21586"/>
                </a:lnTo>
                <a:arcTo wR="10256" hR="21600" stAng="5457804" swAng="5342196"/>
                <a:close/>
              </a:path>
              <a:path fill="darkenLess" w="21600" h="21600">
                <a:moveTo>
                  <a:pt x="0" y="0"/>
                </a:moveTo>
                <a:arcTo wR="10256" hR="21600" stAng="10800000" swAng="-5400000"/>
                <a:lnTo>
                  <a:pt x="10982" y="21600"/>
                </a:lnTo>
                <a:arcTo wR="10256" hR="21600" stAng="5400000" swAng="57804"/>
                <a:lnTo>
                  <a:pt x="10619" y="21586"/>
                </a:lnTo>
                <a:arcTo wR="10256" hR="21600" stAng="5457804" swAng="5342196"/>
                <a:close/>
              </a:path>
            </a:pathLst>
          </a:custGeom>
          <a:solidFill>
            <a:srgbClr val="cccc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Oval 32"/>
          <p:cNvSpPr/>
          <p:nvPr/>
        </p:nvSpPr>
        <p:spPr>
          <a:xfrm>
            <a:off x="1876320" y="6253200"/>
            <a:ext cx="1106640" cy="50796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R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Box 33"/>
          <p:cNvSpPr/>
          <p:nvPr/>
        </p:nvSpPr>
        <p:spPr>
          <a:xfrm rot="19725000">
            <a:off x="2046240" y="174132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NJ ALLO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Box 34"/>
          <p:cNvSpPr/>
          <p:nvPr/>
        </p:nvSpPr>
        <p:spPr>
          <a:xfrm rot="19725000">
            <a:off x="2118600" y="1995480"/>
            <a:ext cx="15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Arial"/>
              </a:rPr>
              <a:t>RCV</a:t>
            </a:r>
            <a:r>
              <a:rPr b="1" lang="en-US" sz="1400" spc="-1" strike="noStrike">
                <a:solidFill>
                  <a:srgbClr val="cccc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6600"/>
                </a:solidFill>
                <a:latin typeface="Arial"/>
              </a:rPr>
              <a:t>magic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Box 35"/>
          <p:cNvSpPr/>
          <p:nvPr/>
        </p:nvSpPr>
        <p:spPr>
          <a:xfrm rot="1221000">
            <a:off x="6105240" y="1682280"/>
            <a:ext cx="17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NJ ENQ (LCNT=3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Box 37"/>
          <p:cNvSpPr/>
          <p:nvPr/>
        </p:nvSpPr>
        <p:spPr>
          <a:xfrm rot="3547200">
            <a:off x="5136480" y="2900160"/>
            <a:ext cx="17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NJ ENQ (LCNT=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Box 38"/>
          <p:cNvSpPr/>
          <p:nvPr/>
        </p:nvSpPr>
        <p:spPr>
          <a:xfrm rot="17886000">
            <a:off x="2659320" y="2838240"/>
            <a:ext cx="17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NJ ENQ (LCNT=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Box 39"/>
          <p:cNvSpPr/>
          <p:nvPr/>
        </p:nvSpPr>
        <p:spPr>
          <a:xfrm rot="18238800">
            <a:off x="7550280" y="398880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NJ DEALLO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Box 41"/>
          <p:cNvSpPr/>
          <p:nvPr/>
        </p:nvSpPr>
        <p:spPr>
          <a:xfrm>
            <a:off x="4118040" y="534348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NJ DEALLO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Curved Up Arrow 43"/>
          <p:cNvSpPr/>
          <p:nvPr/>
        </p:nvSpPr>
        <p:spPr>
          <a:xfrm flipV="1" rot="13999200">
            <a:off x="730080" y="3826440"/>
            <a:ext cx="1935000" cy="455760"/>
          </a:xfrm>
          <a:custGeom>
            <a:avLst/>
            <a:gdLst>
              <a:gd name="textAreaLeft" fmla="*/ 441000 w 1935000"/>
              <a:gd name="textAreaRight" fmla="*/ 1437120 w 1935000"/>
              <a:gd name="textAreaTop" fmla="*/ 60840 h 455760"/>
              <a:gd name="textAreaBottom" fmla="*/ 39492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47" hR="21600" stAng="10800000" swAng="-5400000"/>
                <a:lnTo>
                  <a:pt x="11118" y="21600"/>
                </a:lnTo>
                <a:arcTo wR="9847" hR="21600" stAng="5400000" swAng="-3628357"/>
                <a:lnTo>
                  <a:pt x="21287" y="5400"/>
                </a:lnTo>
                <a:lnTo>
                  <a:pt x="20329" y="0"/>
                </a:lnTo>
                <a:lnTo>
                  <a:pt x="18744" y="5400"/>
                </a:lnTo>
                <a:lnTo>
                  <a:pt x="19380" y="5400"/>
                </a:lnTo>
                <a:arcTo wR="9847" hR="21600" stAng="1771643" swAng="3527032"/>
                <a:lnTo>
                  <a:pt x="10482" y="21555"/>
                </a:lnTo>
                <a:arcTo wR="9847" hR="21600" stAng="5501325" swAng="5298675"/>
                <a:close/>
              </a:path>
              <a:path fill="darkenLess" w="21600" h="21600">
                <a:moveTo>
                  <a:pt x="0" y="0"/>
                </a:moveTo>
                <a:arcTo wR="9847" hR="21600" stAng="10800000" swAng="-5400000"/>
                <a:lnTo>
                  <a:pt x="11118" y="21600"/>
                </a:lnTo>
                <a:arcTo wR="9847" hR="21600" stAng="5400000" swAng="101325"/>
                <a:lnTo>
                  <a:pt x="10482" y="21555"/>
                </a:lnTo>
                <a:arcTo wR="9847" hR="21600" stAng="5501325" swAng="5298675"/>
                <a:close/>
              </a:path>
            </a:pathLst>
          </a:custGeom>
          <a:solidFill>
            <a:srgbClr val="cccc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44"/>
          <p:cNvSpPr/>
          <p:nvPr/>
        </p:nvSpPr>
        <p:spPr>
          <a:xfrm rot="3226200">
            <a:off x="726840" y="407808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NJ DEALLO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Curved Up Arrow 45"/>
          <p:cNvSpPr/>
          <p:nvPr/>
        </p:nvSpPr>
        <p:spPr>
          <a:xfrm rot="6496200">
            <a:off x="1792080" y="5310000"/>
            <a:ext cx="1405080" cy="458640"/>
          </a:xfrm>
          <a:custGeom>
            <a:avLst/>
            <a:gdLst>
              <a:gd name="textAreaLeft" fmla="*/ 308160 w 1405080"/>
              <a:gd name="textAreaRight" fmla="*/ 1039680 w 1405080"/>
              <a:gd name="textAreaTop" fmla="*/ 61200 h 458640"/>
              <a:gd name="textAreaBottom" fmla="*/ 397440 h 45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78" hR="21600" stAng="10800000" swAng="-5400000"/>
                <a:lnTo>
                  <a:pt x="11241" y="21600"/>
                </a:lnTo>
                <a:arcTo wR="9478" hR="21600" stAng="5400000" swAng="-3571503"/>
                <a:lnTo>
                  <a:pt x="21299" y="5400"/>
                </a:lnTo>
                <a:lnTo>
                  <a:pt x="19837" y="0"/>
                </a:lnTo>
                <a:lnTo>
                  <a:pt x="17772" y="5400"/>
                </a:lnTo>
                <a:lnTo>
                  <a:pt x="18654" y="5400"/>
                </a:lnTo>
                <a:arcTo wR="9478" hR="21600" stAng="1828497" swAng="3430675"/>
                <a:lnTo>
                  <a:pt x="10359" y="21506"/>
                </a:lnTo>
                <a:arcTo wR="9478" hR="21600" stAng="5540827" swAng="5259173"/>
                <a:close/>
              </a:path>
              <a:path fill="darkenLess" w="21600" h="21600">
                <a:moveTo>
                  <a:pt x="0" y="0"/>
                </a:moveTo>
                <a:arcTo wR="9478" hR="21600" stAng="10800000" swAng="-5400000"/>
                <a:lnTo>
                  <a:pt x="11241" y="21600"/>
                </a:lnTo>
                <a:arcTo wR="9478" hR="21600" stAng="5400000" swAng="140827"/>
                <a:lnTo>
                  <a:pt x="10359" y="21506"/>
                </a:lnTo>
                <a:arcTo wR="9478" hR="21600" stAng="5540827" swAng="5259173"/>
                <a:close/>
              </a:path>
            </a:pathLst>
          </a:custGeom>
          <a:solidFill>
            <a:srgbClr val="cccc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47"/>
          <p:cNvSpPr/>
          <p:nvPr/>
        </p:nvSpPr>
        <p:spPr>
          <a:xfrm rot="3226200">
            <a:off x="710640" y="41277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Arial"/>
              </a:rPr>
              <a:t>RCV Fr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48"/>
          <p:cNvSpPr/>
          <p:nvPr/>
        </p:nvSpPr>
        <p:spPr>
          <a:xfrm rot="17238000">
            <a:off x="1116360" y="54277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NJ DEALLO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49"/>
          <p:cNvSpPr/>
          <p:nvPr/>
        </p:nvSpPr>
        <p:spPr>
          <a:xfrm rot="17353800">
            <a:off x="1545120" y="5346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Arial"/>
              </a:rPr>
              <a:t>!RCV Fr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Box 40"/>
          <p:cNvSpPr/>
          <p:nvPr/>
        </p:nvSpPr>
        <p:spPr>
          <a:xfrm>
            <a:off x="2729520" y="573120"/>
            <a:ext cx="358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agic Page Lifecyc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0FE0-110C-48BF-9245-C6BE396CA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266760" y="4054320"/>
            <a:ext cx="8610480" cy="19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Object 6"/>
          <p:cNvGraphicFramePr/>
          <p:nvPr/>
        </p:nvGraphicFramePr>
        <p:xfrm>
          <a:off x="793800" y="1219320"/>
          <a:ext cx="7664400" cy="51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219320"/>
                    <a:ext cx="7664400" cy="51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Box 7"/>
          <p:cNvSpPr/>
          <p:nvPr/>
        </p:nvSpPr>
        <p:spPr>
          <a:xfrm>
            <a:off x="1046160" y="573120"/>
            <a:ext cx="6964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The FV scaffolding, putting it all togeth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843E-207D-46EE-96C9-D154B734C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266760" y="4054320"/>
            <a:ext cx="8610480" cy="19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052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3600"/>
                </a:solidFill>
                <a:latin typeface="Verdana"/>
              </a:rPr>
              <a:t>Assertions cast in terms of trkState (in LTL not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Eurostile"/>
              </a:rPr>
              <a:t>/* We should never be in ERROR state *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165"/>
                </a:solidFill>
                <a:latin typeface="Eurostile"/>
              </a:rPr>
              <a:t>assert</a:t>
            </a:r>
            <a:r>
              <a:rPr b="0" lang="en-US" sz="12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Eurostile"/>
              </a:rPr>
              <a:t>G ( trkState!=ERROR);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Eurostile"/>
              </a:rPr>
              <a:t>/* We’re in IDLE and allocated magic page -&gt; goto ALC state *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165"/>
                </a:solidFill>
                <a:latin typeface="Eurostile"/>
              </a:rPr>
              <a:t>assert</a:t>
            </a:r>
            <a:r>
              <a:rPr b="1" lang="en-US" sz="1200" spc="-1" strike="noStrike">
                <a:solidFill>
                  <a:srgbClr val="000000"/>
                </a:solidFill>
                <a:latin typeface="Eurostile"/>
              </a:rPr>
              <a:t> G (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Eurostile"/>
              </a:rPr>
              <a:t>(trkState=IDLE &amp; alloc_rsp &amp; alloc_pgnum=magicPage) -&gt; (trkStateNxt=AL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Eurostile"/>
              </a:rPr>
              <a:t>/* We’re not in IDLE state and (re)allocated magic page -&gt; goto ERROR *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165"/>
                </a:solidFill>
                <a:latin typeface="Eurostile"/>
              </a:rPr>
              <a:t>assert </a:t>
            </a:r>
            <a:r>
              <a:rPr b="1" lang="en-US" sz="1200" spc="-1" strike="noStrike">
                <a:solidFill>
                  <a:srgbClr val="000000"/>
                </a:solidFill>
                <a:latin typeface="Eurostile"/>
              </a:rPr>
              <a:t>G (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Eurostile"/>
              </a:rPr>
              <a:t>(trkState!=IDLE &amp; alloc_rsp &amp; alloc_pgnum=magicPage) -&gt; (trkStateNxt=ERRO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Eurostile"/>
              </a:rPr>
              <a:t>/* We’re in LCNT1 state and issue a dealloc for magic page -&gt; goto IDLE and see free *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165"/>
                </a:solidFill>
                <a:latin typeface="Eurostile"/>
              </a:rPr>
              <a:t>assert </a:t>
            </a:r>
            <a:r>
              <a:rPr b="1" lang="en-US" sz="1200" spc="-1" strike="noStrike">
                <a:solidFill>
                  <a:srgbClr val="000000"/>
                </a:solidFill>
                <a:latin typeface="Eurostile"/>
              </a:rPr>
              <a:t>G (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Eurostile"/>
              </a:rPr>
              <a:t>(trkState=LCNT1 &amp; dlloc_rsp &amp; dlloc_pgnum=magicPage) -&gt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Eurostile"/>
              </a:rPr>
              <a:t>(trkStateNxt=IDLE &amp; free_valid &amp; free_pgnum=magicPag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Eurostile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2132280" y="573120"/>
            <a:ext cx="483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xamples of assertions us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8B34-D0DD-451F-8C2C-CB5C6D776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266760" y="4054320"/>
            <a:ext cx="8610480" cy="19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052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ata-Indepen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 signals not derived from data cont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ed integrity of FIFO type modules by using </a:t>
            </a:r>
            <a:r>
              <a:rPr b="1" i="1" lang="en-US" sz="1800" spc="-1" strike="noStrike">
                <a:solidFill>
                  <a:srgbClr val="4d6600"/>
                </a:solidFill>
                <a:latin typeface="Verdana"/>
              </a:rPr>
              <a:t>Wolper’s Theorem</a:t>
            </a:r>
            <a:r>
              <a:rPr b="1" lang="en-US" sz="1800" spc="-1" strike="noStrike">
                <a:solidFill>
                  <a:srgbClr val="4d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nual Abstractions/Refin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laced stateful sub-modules with abstr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E.g.  RRA/Free List Manager replaced with abstr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ploit symmetry for data-type re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mmetry: any 2 values of this type =&gt; semantics identic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ofs against “reduced” (</a:t>
            </a:r>
            <a:r>
              <a:rPr b="1" i="1" lang="en-US" sz="1800" spc="-1" strike="noStrike">
                <a:solidFill>
                  <a:srgbClr val="4d6600"/>
                </a:solidFill>
                <a:latin typeface="Verdana"/>
              </a:rPr>
              <a:t>protocol mod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desig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E.g. FIFO -  data-integrity can be proven for a reduced dep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2149560" y="573120"/>
            <a:ext cx="474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eneral FV techniques us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A084-6F92-4AE9-847D-54B7091C5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66760" y="3033720"/>
            <a:ext cx="861048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33520" y="28195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V effort started alongside design and lasted 6 month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verage module level FV proof run-time ~ 1 h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verage number of assertions per module ~ 15-20 prope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3 bugs found in DV, slipped through F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Missing properties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Incorrect assumptions (constraints too tigh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bugs found later in emulation/bring-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V’ed block 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 withstand significant data-integr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V’ed deemed tape-out ready 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2+ month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fore other bloc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133720" y="1600200"/>
          <a:ext cx="5715000" cy="1371600"/>
        </p:xfrm>
        <a:graphic>
          <a:graphicData uri="http://schemas.openxmlformats.org/drawingml/2006/table">
            <a:tbl>
              <a:tblPr/>
              <a:tblGrid>
                <a:gridCol w="2508120"/>
                <a:gridCol w="320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ification 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Bugs 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(52 critical + 3 non-critic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 sim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(3 critical + 0 non-critic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ulation/Bring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203" name="TextBox 9"/>
          <p:cNvSpPr/>
          <p:nvPr/>
        </p:nvSpPr>
        <p:spPr>
          <a:xfrm>
            <a:off x="3832200" y="573120"/>
            <a:ext cx="1384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01A7-D9C8-489D-B75A-BB1F1B03A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266760" y="4054320"/>
            <a:ext cx="8610480" cy="19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18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ture Work (model checker improvemen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6600"/>
                </a:solidFill>
                <a:latin typeface="Verdana"/>
              </a:rPr>
              <a:t>Abstractio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need to be proven  “sound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6600"/>
                </a:solidFill>
                <a:latin typeface="Verdana"/>
              </a:rPr>
              <a:t>Data-Independe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needs to be prov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6600"/>
                </a:solidFill>
                <a:latin typeface="Verdana"/>
              </a:rPr>
              <a:t>Data type reduc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fety che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imi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isn’t a silver bullet!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te-box study required to deduce abstractions – risks bi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level FV sensitive to interface chan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y good cooperation needed between Design/D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Experience needed for Verification Engine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2054880" y="573120"/>
            <a:ext cx="493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uture Work and Limi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B149-AD83-4C41-AE84-43ED1467F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266760" y="4054320"/>
            <a:ext cx="8610480" cy="19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52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4d6600"/>
                </a:solidFill>
                <a:latin typeface="Verdana"/>
              </a:rPr>
              <a:t>“</a:t>
            </a:r>
            <a:r>
              <a:rPr b="1" i="1" lang="en-US" sz="1400" spc="-1" strike="noStrike">
                <a:solidFill>
                  <a:srgbClr val="4d6600"/>
                </a:solidFill>
                <a:latin typeface="Verdana"/>
              </a:rPr>
              <a:t>The use of clean, debugged components saves much more time in system testing than that spent on scaffolding and thorough component testing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ederick P. Brooks Jr,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“Mythical Man Month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0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V done early, can serve as </a:t>
            </a:r>
            <a:r>
              <a:rPr b="1" i="1" lang="en-US" sz="1600" spc="-1" strike="noStrike">
                <a:solidFill>
                  <a:srgbClr val="4d6600"/>
                </a:solidFill>
                <a:latin typeface="Verdana"/>
              </a:rPr>
              <a:t>‘first line of defense’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bugging FV failures at module level </a:t>
            </a:r>
            <a:r>
              <a:rPr b="1" lang="en-US" sz="1600" spc="-1" strike="noStrike">
                <a:solidFill>
                  <a:srgbClr val="4d6600"/>
                </a:solidFill>
                <a:latin typeface="Verdana"/>
              </a:rPr>
              <a:t>very efficient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ared to D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5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FV Engineer could root-cause analyze in ~ 5-10 minu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5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Design Engineer confirmed/denied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-effective when FV is integrated into the design flow ear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5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FV’ed block first to be deemed robu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5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Proven FV reference models serve as concrete spec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lap between FV/DV always good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3639960" y="573120"/>
            <a:ext cx="1768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9978-48F9-4E98-85D7-0360B3102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266760" y="4054320"/>
            <a:ext cx="8610480" cy="19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AC organizers, for this for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sgeir Eiriksson, CTO, Chelsio Commun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in Ju and the Cadence IFV team, tools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3521880" y="573120"/>
            <a:ext cx="200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8574-7128-4B0A-B4C9-F55842085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66760" y="441972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6600"/>
                </a:solidFill>
                <a:latin typeface="Verdana"/>
              </a:rPr>
              <a:t>Verification alternatives at ASIC block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6600"/>
                </a:solidFill>
                <a:latin typeface="Verdana"/>
              </a:rPr>
              <a:t>Traditional approa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ock level DV/simu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y specific modules FV’ed based on feasi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ort-coming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ck of confidence in cover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V insufficient to prove lack of starvation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6600"/>
                </a:solidFill>
                <a:latin typeface="Verdana"/>
              </a:rPr>
              <a:t>Our approa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V </a:t>
            </a:r>
            <a:r>
              <a:rPr b="1" lang="en-US" sz="1800" spc="-1" strike="noStrike">
                <a:solidFill>
                  <a:srgbClr val="4d6600"/>
                </a:solidFill>
                <a:latin typeface="Verdana"/>
              </a:rPr>
              <a:t>primary verification too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increased confi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 early, influence design &amp; </a:t>
            </a:r>
            <a:r>
              <a:rPr b="1" lang="en-US" sz="1800" spc="-1" strike="noStrike">
                <a:solidFill>
                  <a:srgbClr val="4d6600"/>
                </a:solidFill>
                <a:latin typeface="Verdana"/>
              </a:rPr>
              <a:t>“End to End” F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 DV to happen in parall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al - generate proofs &amp; find all issues using F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re results across FV/D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3581280" y="57312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BA8A-1F9E-41AD-9D18-60798EE4B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66760" y="441972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ck is a </a:t>
            </a:r>
            <a:r>
              <a:rPr b="1" lang="en-US" sz="2000" spc="-1" strike="noStrike">
                <a:solidFill>
                  <a:srgbClr val="4d6600"/>
                </a:solidFill>
                <a:latin typeface="Verdana"/>
              </a:rPr>
              <a:t>L2 ethernet packet swit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ck is fairly big, of high complexity ~ 650k g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6600"/>
                </a:solidFill>
                <a:latin typeface="Verdana"/>
              </a:rPr>
              <a:t>Motivation for FV</a:t>
            </a:r>
            <a:r>
              <a:rPr b="0" lang="en-US" sz="2000" spc="-1" strike="noStrike">
                <a:solidFill>
                  <a:srgbClr val="4d66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ritical IP – in middle of ASIC data pat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omponents require liveness (unbounded in time) guarante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omponents have FIFOs with no backpressure mechanis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 consists of 18 modules, 14 (most complex) FV’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2705760" y="45720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5CDE-5CF1-4EBE-AC63-4849D7A01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33520" y="458784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55120" y="1599840"/>
            <a:ext cx="807732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ical  FV challe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chable </a:t>
            </a:r>
            <a:r>
              <a:rPr b="1" lang="en-US" sz="2000" spc="-1" strike="noStrike">
                <a:solidFill>
                  <a:srgbClr val="4d6600"/>
                </a:solidFill>
                <a:latin typeface="Verdana"/>
              </a:rPr>
              <a:t>state space too lar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an properties be made tractable under model checking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dence in </a:t>
            </a:r>
            <a:r>
              <a:rPr b="1" lang="en-US" sz="2000" spc="-1" strike="noStrike">
                <a:solidFill>
                  <a:srgbClr val="4d6600"/>
                </a:solidFill>
                <a:latin typeface="Verdana"/>
              </a:rPr>
              <a:t>lega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assumptions and asser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re our assumptions exhaustive and not over-constraine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sing </a:t>
            </a:r>
            <a:r>
              <a:rPr b="1" lang="en-US" sz="2000" spc="-1" strike="noStrike">
                <a:solidFill>
                  <a:srgbClr val="4d6600"/>
                </a:solidFill>
                <a:latin typeface="Verdana"/>
              </a:rPr>
              <a:t>sufficient asser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w do we address the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design/FV collaboration ear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luence design to render logic cones trac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erate between designer/FV to obtain rigorous spe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FV/design insights to abstract away design complex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2004120" y="573120"/>
            <a:ext cx="55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vercoming FV hurd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CFB4-1998-476C-B9F6-B2F8AFE56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266760" y="441972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lock’s design guide-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ke modules highly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4d6600"/>
                </a:solidFill>
                <a:latin typeface="Verdana"/>
              </a:rPr>
              <a:t>parameteriz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Careful Interface Desig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ear/Crisp Interface defini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gically and temporally simple transaction ru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ndful of assertions should capture all function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olate components with </a:t>
            </a:r>
            <a:r>
              <a:rPr b="1" lang="en-US" sz="1800" spc="-1" strike="noStrike">
                <a:solidFill>
                  <a:srgbClr val="4d6600"/>
                </a:solidFill>
                <a:latin typeface="Verdana"/>
              </a:rPr>
              <a:t>‘liveness’</a:t>
            </a:r>
            <a:r>
              <a:rPr b="1" i="1" lang="en-US" sz="1800" spc="-1" strike="noStrike">
                <a:solidFill>
                  <a:srgbClr val="4d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uarante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olate components with FIFO characterist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eakdown Architectural invariants into module level asser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Reuse cod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e.g.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ee List Manager, arbiters, aligner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Iterate on interfa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spe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until deemed rigoro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Re-parti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sign based on Formal tracta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2259360" y="573120"/>
            <a:ext cx="49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signing for Form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8BA9-53A8-43FC-A9E1-FD08B5997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66760" y="441972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81120"/>
            <a:ext cx="82296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age Manager Mo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ages pages associated with packets on Rx path of L2 Ethernet swit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pports high level switch primitiv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Allocate, Enqueue, Duplicate, Dequeue &amp; Discar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ists o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Free List Manager</a:t>
            </a:r>
            <a:r>
              <a:rPr b="1" lang="en-US" sz="1600" spc="-1" strike="noStrike">
                <a:solidFill>
                  <a:srgbClr val="4d66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Maintains list of free pag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Life Count Memory</a:t>
            </a:r>
            <a:r>
              <a:rPr b="0" lang="en-US" sz="1600" spc="-1" strike="noStrike">
                <a:solidFill>
                  <a:srgbClr val="4d66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Reference  count on a per page basi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y this case stud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ry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‘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stateful’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state maintained per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hibits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‘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liveness’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behavior not bounded in tim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Critical component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failures can cause hang or data corru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V technique uses 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manual abstraction</a:t>
            </a:r>
            <a:r>
              <a:rPr b="1" lang="en-US" sz="1600" spc="-1" strike="noStrike">
                <a:solidFill>
                  <a:srgbClr val="4d66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void state explo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ch modules often classified as un-FV’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3422160" y="57312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se Stud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EF5A-3CE0-4015-9CD5-9D1CA8965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266760" y="441972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-517680" y="0"/>
          <a:ext cx="6034320" cy="724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17680" y="0"/>
                    <a:ext cx="6034320" cy="72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67200" y="1677960"/>
            <a:ext cx="47196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put/Output sequ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: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lloc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: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queu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Lcnt:={1,2,3}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: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alloc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 (Lcnt decrement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: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alloc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Lcnt decrement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utput: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age Fre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Lcnt := 1-&gt;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th1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c00000"/>
                </a:solidFill>
                <a:latin typeface="Verdana"/>
              </a:rPr>
              <a:t>Alloc, ENQ(lcnt=1), DLC, Fr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th2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c00000"/>
                </a:solidFill>
                <a:latin typeface="Verdana"/>
              </a:rPr>
              <a:t>Alloc, ENQ(lcnt=2), DLC, DLC, Fr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th3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c00000"/>
                </a:solidFill>
                <a:latin typeface="Verdana"/>
              </a:rPr>
              <a:t>Alloc, ENQ(lcnt=3), DLC, DLC, DLC, Fr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queu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  Lcnt initialized to: {1,2,3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queu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  Lcnt value re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alloc: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cnt is decremen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e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         Lcnt goes from 1-&gt;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3018240" y="573120"/>
            <a:ext cx="34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ge Manag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547D-EB16-4F70-A2B6-F0600EE0C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66760" y="441972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008600" y="1523880"/>
            <a:ext cx="496728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ree List Manager Asser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ge once allocated, will not be reallocated, until freed (</a:t>
            </a:r>
            <a:r>
              <a:rPr b="1" lang="en-US" sz="1600" spc="-1" strike="noStrike">
                <a:solidFill>
                  <a:srgbClr val="4d6600"/>
                </a:solidFill>
                <a:latin typeface="Verdana"/>
              </a:rPr>
              <a:t>safet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 page allocation requests will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ventuall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be satisfied (</a:t>
            </a:r>
            <a:r>
              <a:rPr b="1" lang="en-US" sz="1600" spc="-1" strike="noStrike">
                <a:solidFill>
                  <a:srgbClr val="4d6600"/>
                </a:solidFill>
                <a:latin typeface="Verdana"/>
              </a:rPr>
              <a:t>livenes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Rod"/>
              </a:rPr>
              <a:t>Input constrai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 outstanding allocated pages will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ventually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 freed (</a:t>
            </a:r>
            <a:r>
              <a:rPr b="1" lang="en-US" sz="1600" spc="-1" strike="noStrike">
                <a:solidFill>
                  <a:srgbClr val="4d6600"/>
                </a:solidFill>
                <a:latin typeface="Verdana"/>
              </a:rPr>
              <a:t>fairnes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* Properties in LTL notation *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pg_i_alc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:= (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alloc_srdy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amp;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 alloc_drdy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amp;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 alloc_pgnum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pg_i_free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:= (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free_srdy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amp;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 free_drdy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amp;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 free_pgnum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ssert 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pg_i_alc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-&gt;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(!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pg_i_alc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 pg_i_free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ssert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alloc_srdy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-&gt;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alloc_drdy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ssume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pg_i_alc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-&gt;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 (</a:t>
            </a:r>
            <a:r>
              <a:rPr b="1" lang="en-US" sz="1400" spc="-1" strike="noStrike">
                <a:solidFill>
                  <a:srgbClr val="a50021"/>
                </a:solidFill>
                <a:latin typeface="Century Gothic"/>
              </a:rPr>
              <a:t>pg_i_free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Object 7"/>
          <p:cNvGraphicFramePr/>
          <p:nvPr/>
        </p:nvGraphicFramePr>
        <p:xfrm>
          <a:off x="363600" y="1523880"/>
          <a:ext cx="339876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1523880"/>
                    <a:ext cx="339876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Box 8"/>
          <p:cNvSpPr/>
          <p:nvPr/>
        </p:nvSpPr>
        <p:spPr>
          <a:xfrm>
            <a:off x="928800" y="573120"/>
            <a:ext cx="71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V Strategy – first verify Free List Manag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Isosceles Triangle 9"/>
          <p:cNvSpPr/>
          <p:nvPr/>
        </p:nvSpPr>
        <p:spPr>
          <a:xfrm rot="5400000">
            <a:off x="3363840" y="990360"/>
            <a:ext cx="2065320" cy="326880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8305920" y="6534000"/>
            <a:ext cx="990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B0E7-E6CB-400E-B8EF-A68CBB624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66760" y="4054320"/>
            <a:ext cx="8610480" cy="19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4200" y="378900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’s an abstrac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tity/Representation replacing design compon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 exhibits </a:t>
            </a:r>
            <a:r>
              <a:rPr b="1" lang="en-US" sz="1800" spc="-1" strike="noStrike">
                <a:solidFill>
                  <a:srgbClr val="4d6600"/>
                </a:solidFill>
                <a:latin typeface="Verdana"/>
              </a:rPr>
              <a:t>“super-set”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avior but less statef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of using abstraction holds for replaced RT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w to abstract away state in Free List Manag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cus on the life of a </a:t>
            </a:r>
            <a:r>
              <a:rPr b="1" lang="en-US" sz="1800" spc="-1" strike="noStrike">
                <a:solidFill>
                  <a:srgbClr val="4d6600"/>
                </a:solidFill>
                <a:latin typeface="Verdana"/>
              </a:rPr>
              <a:t>sing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y single page’s life, all </a:t>
            </a:r>
            <a:r>
              <a:rPr b="1" lang="en-US" sz="1800" spc="-1" strike="noStrike">
                <a:solidFill>
                  <a:srgbClr val="4d6600"/>
                </a:solidFill>
                <a:latin typeface="Verdana"/>
              </a:rPr>
              <a:t>oth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age activity just “noise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Isosceles Triangle 8"/>
          <p:cNvSpPr/>
          <p:nvPr/>
        </p:nvSpPr>
        <p:spPr>
          <a:xfrm rot="5400000">
            <a:off x="3175560" y="1612080"/>
            <a:ext cx="1128960" cy="19526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1728720" y="1654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4759200" y="241128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730920" y="2463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1726560" y="2103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1724760" y="2441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ight Arrow 15"/>
          <p:cNvSpPr/>
          <p:nvPr/>
        </p:nvSpPr>
        <p:spPr>
          <a:xfrm>
            <a:off x="2023920" y="2178000"/>
            <a:ext cx="728640" cy="18432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ight Arrow 17"/>
          <p:cNvSpPr/>
          <p:nvPr/>
        </p:nvSpPr>
        <p:spPr>
          <a:xfrm>
            <a:off x="2022480" y="2514600"/>
            <a:ext cx="728640" cy="1857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ight Arrow 18"/>
          <p:cNvSpPr/>
          <p:nvPr/>
        </p:nvSpPr>
        <p:spPr>
          <a:xfrm>
            <a:off x="2011320" y="2854440"/>
            <a:ext cx="730440" cy="183960"/>
          </a:xfrm>
          <a:prstGeom prst="rightArrow">
            <a:avLst>
              <a:gd name="adj1" fmla="val 50000"/>
              <a:gd name="adj2" fmla="val 50056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ight Arrow 19"/>
          <p:cNvSpPr/>
          <p:nvPr/>
        </p:nvSpPr>
        <p:spPr>
          <a:xfrm>
            <a:off x="2011320" y="3357720"/>
            <a:ext cx="730440" cy="183960"/>
          </a:xfrm>
          <a:prstGeom prst="rightArrow">
            <a:avLst>
              <a:gd name="adj1" fmla="val 50000"/>
              <a:gd name="adj2" fmla="val 50056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1734480" y="2778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ight Arrow 22"/>
          <p:cNvSpPr/>
          <p:nvPr/>
        </p:nvSpPr>
        <p:spPr>
          <a:xfrm>
            <a:off x="2031840" y="1712880"/>
            <a:ext cx="730440" cy="1857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23"/>
          <p:cNvSpPr/>
          <p:nvPr/>
        </p:nvSpPr>
        <p:spPr>
          <a:xfrm>
            <a:off x="1737000" y="32907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ight Arrow 24"/>
          <p:cNvSpPr/>
          <p:nvPr/>
        </p:nvSpPr>
        <p:spPr>
          <a:xfrm>
            <a:off x="6048360" y="2533680"/>
            <a:ext cx="728640" cy="18396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Isosceles Triangle 25"/>
          <p:cNvSpPr/>
          <p:nvPr/>
        </p:nvSpPr>
        <p:spPr>
          <a:xfrm rot="5400000">
            <a:off x="3184560" y="1609560"/>
            <a:ext cx="1130040" cy="19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2960640" y="23684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{0,1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1481040" y="573120"/>
            <a:ext cx="608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How to ‘Abstract’ away Stateful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53:39Z</dcterms:created>
  <dc:creator>Kartik Srinivasan</dc:creator>
  <dc:description/>
  <dc:language>en-US</dc:language>
  <cp:lastModifiedBy> </cp:lastModifiedBy>
  <dcterms:modified xsi:type="dcterms:W3CDTF">2010-05-04T15:30:43Z</dcterms:modified>
  <cp:revision>267</cp:revision>
  <dc:subject/>
  <dc:title>Slide 1</dc:title>
</cp:coreProperties>
</file>