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45339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31480" y="2476080"/>
            <a:ext cx="27203400" cy="348984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ctr">
            <a:noAutofit/>
          </a:bodyPr>
          <a:p>
            <a:pPr indent="0" algn="ctr"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2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31840" y="9491760"/>
            <a:ext cx="27219600" cy="796896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31840" y="18218160"/>
            <a:ext cx="27219600" cy="796896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31480" y="2476080"/>
            <a:ext cx="27203400" cy="348984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ctr">
            <a:noAutofit/>
          </a:bodyPr>
          <a:p>
            <a:pPr indent="0" algn="ctr"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2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31840" y="9491760"/>
            <a:ext cx="13282920" cy="796896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979320" y="9491760"/>
            <a:ext cx="13282920" cy="796896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31840" y="18218160"/>
            <a:ext cx="13282920" cy="796896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979320" y="18218160"/>
            <a:ext cx="13282920" cy="796896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31480" y="2476080"/>
            <a:ext cx="27203400" cy="348984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ctr">
            <a:noAutofit/>
          </a:bodyPr>
          <a:p>
            <a:pPr indent="0" algn="ctr"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2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31840" y="9491760"/>
            <a:ext cx="8764560" cy="796896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234880" y="9491760"/>
            <a:ext cx="8764560" cy="796896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438280" y="9491760"/>
            <a:ext cx="8764560" cy="796896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31840" y="18218160"/>
            <a:ext cx="8764560" cy="796896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234880" y="18218160"/>
            <a:ext cx="8764560" cy="796896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438280" y="18218160"/>
            <a:ext cx="8764560" cy="796896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31480" y="2476080"/>
            <a:ext cx="27203400" cy="348984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ctr">
            <a:noAutofit/>
          </a:bodyPr>
          <a:p>
            <a:pPr indent="0" algn="ctr"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2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31840" y="9491760"/>
            <a:ext cx="27219600" cy="167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31480" y="2476080"/>
            <a:ext cx="27203400" cy="348984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ctr">
            <a:noAutofit/>
          </a:bodyPr>
          <a:p>
            <a:pPr indent="0" algn="ctr"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2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31840" y="9491760"/>
            <a:ext cx="27219600" cy="1670688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31480" y="2476080"/>
            <a:ext cx="27203400" cy="348984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ctr">
            <a:noAutofit/>
          </a:bodyPr>
          <a:p>
            <a:pPr indent="0" algn="ctr"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2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31840" y="9491760"/>
            <a:ext cx="13282920" cy="1670688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979320" y="9491760"/>
            <a:ext cx="13282920" cy="1670688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31480" y="2476080"/>
            <a:ext cx="27203400" cy="348984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ctr">
            <a:noAutofit/>
          </a:bodyPr>
          <a:p>
            <a:pPr indent="0" algn="ctr"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20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31480" y="2506320"/>
            <a:ext cx="27203400" cy="158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31480" y="2476080"/>
            <a:ext cx="27203400" cy="348984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ctr">
            <a:noAutofit/>
          </a:bodyPr>
          <a:p>
            <a:pPr indent="0" algn="ctr"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2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31840" y="9491760"/>
            <a:ext cx="13282920" cy="796896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979320" y="9491760"/>
            <a:ext cx="13282920" cy="1670688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31840" y="18218160"/>
            <a:ext cx="13282920" cy="796896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31480" y="2476080"/>
            <a:ext cx="27203400" cy="348984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ctr">
            <a:noAutofit/>
          </a:bodyPr>
          <a:p>
            <a:pPr indent="0" algn="ctr"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2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31840" y="9491760"/>
            <a:ext cx="13282920" cy="1670688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979320" y="9491760"/>
            <a:ext cx="13282920" cy="796896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979320" y="18218160"/>
            <a:ext cx="13282920" cy="796896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31480" y="2476080"/>
            <a:ext cx="27203400" cy="348984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ctr">
            <a:noAutofit/>
          </a:bodyPr>
          <a:p>
            <a:pPr indent="0" algn="ctr"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2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31840" y="9491760"/>
            <a:ext cx="13282920" cy="796896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979320" y="9491760"/>
            <a:ext cx="13282920" cy="796896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31840" y="18218160"/>
            <a:ext cx="27219600" cy="796896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31840" y="9491760"/>
            <a:ext cx="27219600" cy="1670688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rmAutofit/>
          </a:bodyPr>
          <a:p>
            <a:pPr indent="0">
              <a:spcBef>
                <a:spcPts val="2299"/>
              </a:spcBef>
              <a:tabLst>
                <a:tab algn="l" pos="0"/>
                <a:tab algn="l" pos="4416480"/>
                <a:tab algn="l" pos="883296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  <a:p>
            <a:pPr lvl="1" marL="3589200" indent="-1377720">
              <a:spcBef>
                <a:spcPts val="22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16480"/>
                <a:tab algn="l" pos="883296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  <a:p>
            <a:pPr lvl="2" marL="5565600" indent="-1104840">
              <a:spcBef>
                <a:spcPts val="22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16480"/>
                <a:tab algn="l" pos="883296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  <a:p>
            <a:pPr lvl="3" marL="7734240" indent="-1106280">
              <a:spcBef>
                <a:spcPts val="22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16480"/>
                <a:tab algn="l" pos="883296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  <a:p>
            <a:pPr lvl="4" marL="9945720" indent="-1104840">
              <a:spcBef>
                <a:spcPts val="22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16480"/>
                <a:tab algn="l" pos="883296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  <a:p>
            <a:pPr lvl="5" marL="9945720" indent="-1104840">
              <a:spcBef>
                <a:spcPts val="22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16480"/>
                <a:tab algn="l" pos="883296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  <a:p>
            <a:pPr lvl="6" marL="9945720" indent="-1104840">
              <a:spcBef>
                <a:spcPts val="22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16480"/>
                <a:tab algn="l" pos="883296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031480" y="2506320"/>
            <a:ext cx="27203400" cy="342900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ctr">
            <a:noAutofit/>
          </a:bodyPr>
          <a:p>
            <a:pPr indent="0" algn="ctr">
              <a:buNone/>
              <a:tabLst>
                <a:tab algn="l" pos="0"/>
                <a:tab algn="l" pos="4416480"/>
                <a:tab algn="l" pos="883296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2004000" cy="9504360"/>
          </a:xfrm>
          <a:prstGeom prst="rect">
            <a:avLst/>
          </a:prstGeom>
          <a:gradFill rotWithShape="0">
            <a:gsLst>
              <a:gs pos="0">
                <a:srgbClr val="3e647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5834760"/>
            <a:ext cx="32004000" cy="950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e64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3706000" y="922320"/>
            <a:ext cx="6697800" cy="468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image" Target="../media/image12.png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10499" r="0" b="0"/>
          <a:stretch/>
        </p:blipFill>
        <p:spPr>
          <a:xfrm>
            <a:off x="16162200" y="8466120"/>
            <a:ext cx="9144000" cy="613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858720" y="8844120"/>
            <a:ext cx="6208560" cy="4655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2625" t="0" r="0" b="0"/>
          <a:stretch/>
        </p:blipFill>
        <p:spPr>
          <a:xfrm>
            <a:off x="152280" y="18132480"/>
            <a:ext cx="13095360" cy="17930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850680"/>
            <a:ext cx="23258520" cy="367164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ctr">
            <a:noAutofit/>
          </a:bodyPr>
          <a:p>
            <a:pPr indent="0" algn="ctr">
              <a:buNone/>
              <a:tabLst>
                <a:tab algn="l" pos="0"/>
                <a:tab algn="l" pos="4416480"/>
                <a:tab algn="l" pos="8832960"/>
              </a:tabLst>
            </a:pPr>
            <a:r>
              <a:rPr b="0" lang="en-US" sz="9900" spc="-1" strike="noStrike">
                <a:solidFill>
                  <a:srgbClr val="ffffff"/>
                </a:solidFill>
                <a:latin typeface="Verdana"/>
              </a:rPr>
              <a:t>A Practical Approach to Thermal Modeling and Validation of 3D ICs</a:t>
            </a:r>
            <a:endParaRPr b="0" lang="en-US" sz="9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888920" y="5746320"/>
            <a:ext cx="28730520" cy="3457800"/>
          </a:xfrm>
          <a:prstGeom prst="rect">
            <a:avLst/>
          </a:prstGeom>
          <a:noFill/>
          <a:ln w="0">
            <a:noFill/>
          </a:ln>
        </p:spPr>
        <p:txBody>
          <a:bodyPr lIns="441720" rIns="441720" tIns="220680" bIns="2206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4416480"/>
                <a:tab algn="l" pos="8832960"/>
              </a:tabLst>
            </a:pPr>
            <a:r>
              <a:rPr b="0" lang="en-US" sz="4000" spc="-1" strike="noStrike">
                <a:solidFill>
                  <a:srgbClr val="3e647e"/>
                </a:solidFill>
                <a:latin typeface="Arial"/>
                <a:ea typeface="MS Mincho"/>
              </a:rPr>
              <a:t>Miroslav Cupak</a:t>
            </a:r>
            <a:r>
              <a:rPr b="0" lang="en-US" sz="4000" spc="-1" strike="noStrike" baseline="30000">
                <a:solidFill>
                  <a:srgbClr val="3e647e"/>
                </a:solidFill>
                <a:latin typeface="Arial"/>
                <a:ea typeface="MS Mincho"/>
              </a:rPr>
              <a:t>1</a:t>
            </a:r>
            <a:r>
              <a:rPr b="0" lang="en-US" sz="4000" spc="-1" strike="noStrike">
                <a:solidFill>
                  <a:srgbClr val="3e647e"/>
                </a:solidFill>
                <a:latin typeface="Arial"/>
                <a:ea typeface="MS Mincho"/>
              </a:rPr>
              <a:t>, Herman Oprins</a:t>
            </a:r>
            <a:r>
              <a:rPr b="0" lang="en-US" sz="4000" spc="-1" strike="noStrike" baseline="30000">
                <a:solidFill>
                  <a:srgbClr val="3e647e"/>
                </a:solidFill>
                <a:latin typeface="Arial"/>
                <a:ea typeface="MS Mincho"/>
              </a:rPr>
              <a:t>1</a:t>
            </a:r>
            <a:r>
              <a:rPr b="0" lang="en-US" sz="4000" spc="-1" strike="noStrike">
                <a:solidFill>
                  <a:srgbClr val="3e647e"/>
                </a:solidFill>
                <a:latin typeface="Arial"/>
                <a:ea typeface="MS Mincho"/>
              </a:rPr>
              <a:t>, Geert Van der Plas</a:t>
            </a:r>
            <a:r>
              <a:rPr b="0" lang="en-US" sz="4000" spc="-1" strike="noStrike" baseline="30000">
                <a:solidFill>
                  <a:srgbClr val="3e647e"/>
                </a:solidFill>
                <a:latin typeface="Arial"/>
                <a:ea typeface="MS Mincho"/>
              </a:rPr>
              <a:t>1</a:t>
            </a:r>
            <a:r>
              <a:rPr b="0" lang="en-US" sz="4000" spc="-1" strike="noStrike">
                <a:solidFill>
                  <a:srgbClr val="3e647e"/>
                </a:solidFill>
                <a:latin typeface="Arial"/>
                <a:ea typeface="MS Mincho"/>
              </a:rPr>
              <a:t>, Pol Marchal</a:t>
            </a:r>
            <a:r>
              <a:rPr b="0" lang="en-US" sz="4000" spc="-1" strike="noStrike" baseline="30000">
                <a:solidFill>
                  <a:srgbClr val="3e647e"/>
                </a:solidFill>
                <a:latin typeface="Arial"/>
                <a:ea typeface="MS Mincho"/>
              </a:rPr>
              <a:t>1</a:t>
            </a:r>
            <a:r>
              <a:rPr b="0" lang="en-US" sz="4000" spc="-1" strike="noStrike">
                <a:solidFill>
                  <a:srgbClr val="3e647e"/>
                </a:solidFill>
                <a:latin typeface="Arial"/>
                <a:ea typeface="MS Mincho"/>
              </a:rPr>
              <a:t>, Bart Vandevelde</a:t>
            </a:r>
            <a:r>
              <a:rPr b="0" lang="en-US" sz="4000" spc="-1" strike="noStrike" baseline="30000">
                <a:solidFill>
                  <a:srgbClr val="3e647e"/>
                </a:solidFill>
                <a:latin typeface="Arial"/>
                <a:ea typeface="MS Mincho"/>
              </a:rPr>
              <a:t>1</a:t>
            </a:r>
            <a:r>
              <a:rPr b="0" lang="en-US" sz="4000" spc="-1" strike="noStrike">
                <a:solidFill>
                  <a:srgbClr val="3e647e"/>
                </a:solidFill>
                <a:latin typeface="Arial"/>
                <a:ea typeface="MS Mincho"/>
              </a:rPr>
              <a:t>, Adi Srinivasan</a:t>
            </a:r>
            <a:r>
              <a:rPr b="0" lang="en-US" sz="4000" spc="-1" strike="noStrike" baseline="30000">
                <a:solidFill>
                  <a:srgbClr val="3e647e"/>
                </a:solidFill>
                <a:latin typeface="Arial"/>
                <a:ea typeface="MS Mincho"/>
              </a:rPr>
              <a:t>2</a:t>
            </a:r>
            <a:r>
              <a:rPr b="0" lang="en-US" sz="4000" spc="-1" strike="noStrike">
                <a:solidFill>
                  <a:srgbClr val="3e647e"/>
                </a:solidFill>
                <a:latin typeface="Arial"/>
                <a:ea typeface="MS Mincho"/>
              </a:rPr>
              <a:t>,  Edmund Cheng</a:t>
            </a:r>
            <a:r>
              <a:rPr b="0" lang="en-US" sz="4000" spc="-1" strike="noStrike" baseline="30000">
                <a:solidFill>
                  <a:srgbClr val="3e647e"/>
                </a:solidFill>
                <a:latin typeface="Arial"/>
                <a:ea typeface="MS Mincho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4416480"/>
                <a:tab algn="l" pos="8832960"/>
              </a:tabLst>
            </a:pPr>
            <a:r>
              <a:rPr b="0" i="1" lang="en-US" sz="4000" spc="-1" strike="noStrike" baseline="30000">
                <a:solidFill>
                  <a:srgbClr val="3e647e"/>
                </a:solidFill>
                <a:latin typeface="Arial"/>
                <a:ea typeface="MS Mincho"/>
              </a:rPr>
              <a:t>                            </a:t>
            </a:r>
            <a:r>
              <a:rPr b="0" i="1" lang="en-US" sz="4000" spc="-1" strike="noStrike" baseline="30000">
                <a:solidFill>
                  <a:srgbClr val="3e647e"/>
                </a:solidFill>
                <a:latin typeface="Arial"/>
                <a:ea typeface="MS Mincho"/>
              </a:rPr>
              <a:t>1 </a:t>
            </a:r>
            <a:r>
              <a:rPr b="0" i="1" lang="en-US" sz="3600" spc="-1" strike="noStrike">
                <a:solidFill>
                  <a:srgbClr val="3e647e"/>
                </a:solidFill>
                <a:latin typeface="Arial"/>
                <a:ea typeface="MS Mincho"/>
              </a:rPr>
              <a:t>IMEC vzw, Leuven, BELGIUM                      </a:t>
            </a:r>
            <a:r>
              <a:rPr b="0" i="1" lang="en-US" sz="3600" spc="-1" strike="noStrike" baseline="30000">
                <a:solidFill>
                  <a:srgbClr val="3e647e"/>
                </a:solidFill>
                <a:latin typeface="Arial"/>
                <a:ea typeface="MS Mincho"/>
              </a:rPr>
              <a:t>2 </a:t>
            </a:r>
            <a:r>
              <a:rPr b="0" i="1" lang="en-US" sz="3600" spc="-1" strike="noStrike">
                <a:solidFill>
                  <a:srgbClr val="3e647e"/>
                </a:solidFill>
                <a:latin typeface="Arial"/>
                <a:ea typeface="MS Mincho"/>
              </a:rPr>
              <a:t>Gradient Design Automation Inc., Santa Clara, CA, USA</a:t>
            </a:r>
            <a:r>
              <a:rPr b="0" i="1" lang="en-US" sz="4000" spc="-1" strike="noStrike">
                <a:solidFill>
                  <a:srgbClr val="3e647e"/>
                </a:solidFill>
                <a:latin typeface="Arial"/>
                <a:ea typeface="MS Mincho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16480"/>
                <a:tab algn="l" pos="883296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2104920" y="5819760"/>
            <a:ext cx="27939960" cy="0"/>
          </a:xfrm>
          <a:prstGeom prst="line">
            <a:avLst/>
          </a:prstGeom>
          <a:ln w="9360">
            <a:solidFill>
              <a:srgbClr val="b1c6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03480" y="7404120"/>
            <a:ext cx="27939960" cy="0"/>
          </a:xfrm>
          <a:prstGeom prst="line">
            <a:avLst/>
          </a:prstGeom>
          <a:ln w="9360">
            <a:solidFill>
              <a:srgbClr val="b1c6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513640" y="10194840"/>
            <a:ext cx="7415280" cy="556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2200" y="16764120"/>
            <a:ext cx="141145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720" rIns="441720" tIns="220680" bIns="22068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416480"/>
                <a:tab algn="l" pos="8832960"/>
              </a:tabLst>
            </a:pPr>
            <a:r>
              <a:rPr b="0" lang="en-US" sz="4800" spc="-1" strike="noStrike">
                <a:solidFill>
                  <a:srgbClr val="3e647e"/>
                </a:solidFill>
                <a:latin typeface="Verdana"/>
              </a:rPr>
              <a:t>Thermal Simulation Methodolo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480" y="8699400"/>
            <a:ext cx="141145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720" rIns="441720" tIns="220680" bIns="22068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416480"/>
                <a:tab algn="l" pos="8832960"/>
              </a:tabLst>
            </a:pPr>
            <a:r>
              <a:rPr b="0" lang="en-US" sz="4800" spc="-1" strike="noStrike">
                <a:solidFill>
                  <a:srgbClr val="3e647e"/>
                </a:solidFill>
                <a:latin typeface="Verdana"/>
              </a:rPr>
              <a:t>Introduction/Motiv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23203080" y="19932480"/>
            <a:ext cx="7561080" cy="6340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rcRect l="-6368" t="-2237" r="-13964" b="-2677"/>
          <a:stretch/>
        </p:blipFill>
        <p:spPr>
          <a:xfrm>
            <a:off x="15641640" y="19789920"/>
            <a:ext cx="7632720" cy="6713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rcRect l="-8161" t="0" r="0" b="0"/>
          <a:stretch/>
        </p:blipFill>
        <p:spPr>
          <a:xfrm>
            <a:off x="16938720" y="29551320"/>
            <a:ext cx="5781600" cy="334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02000" y="38079360"/>
            <a:ext cx="141145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720" rIns="441720" tIns="220680" bIns="22068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416480"/>
                <a:tab algn="l" pos="8832960"/>
              </a:tabLst>
            </a:pPr>
            <a:r>
              <a:rPr b="0" lang="en-US" sz="4800" spc="-1" strike="noStrike">
                <a:solidFill>
                  <a:srgbClr val="3e647e"/>
                </a:solidFill>
                <a:latin typeface="Verdana"/>
              </a:rPr>
              <a:t>Conclus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52560" y="10067760"/>
            <a:ext cx="11880720" cy="63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ing power density in transistors and 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876"/>
              </a:spcBef>
              <a:spcAft>
                <a:spcPts val="1225"/>
              </a:spcAft>
              <a:buClr>
                <a:srgbClr val="3e647e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647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e647e"/>
                </a:solidFill>
                <a:latin typeface="Verdana"/>
              </a:rPr>
              <a:t>Miniaturization of compon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876"/>
              </a:spcBef>
              <a:spcAft>
                <a:spcPts val="1225"/>
              </a:spcAft>
              <a:buClr>
                <a:srgbClr val="3e647e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647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e647e"/>
                </a:solidFill>
                <a:latin typeface="Verdana"/>
              </a:rPr>
              <a:t>Increasing proximity of heat-generating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er dissipation might lead to excessive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Clr>
                <a:srgbClr val="3e647e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647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e647e"/>
                </a:solidFill>
                <a:latin typeface="Verdana"/>
              </a:rPr>
              <a:t>Degraded electrical performance and re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mal challenges become even worse for 3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Clr>
                <a:srgbClr val="3e647e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647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e647e"/>
                </a:solidFill>
                <a:latin typeface="Verdana"/>
              </a:rPr>
              <a:t>Vertical integration of different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Clr>
                <a:srgbClr val="3e647e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647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e647e"/>
                </a:solidFill>
                <a:latin typeface="Verdana"/>
              </a:rPr>
              <a:t>Use of poorly conductiv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Clr>
                <a:srgbClr val="3e647e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647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e647e"/>
                </a:solidFill>
                <a:latin typeface="Verdana"/>
              </a:rPr>
              <a:t>Thinned stacked d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Clr>
                <a:srgbClr val="3e647e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647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e647e"/>
                </a:solidFill>
                <a:latin typeface="Verdana"/>
              </a:rPr>
              <a:t>TSVs, Cu nails, complex interconn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647e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3e647e"/>
                </a:solidFill>
                <a:latin typeface="Verdana"/>
              </a:rPr>
              <a:t>Verify thermal distribution at fine granu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857640" y="9131400"/>
            <a:ext cx="0" cy="32477040"/>
          </a:xfrm>
          <a:prstGeom prst="line">
            <a:avLst/>
          </a:prstGeom>
          <a:ln w="9360">
            <a:solidFill>
              <a:srgbClr val="b1c6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75480" y="19213560"/>
            <a:ext cx="936720" cy="863640"/>
          </a:xfrm>
          <a:prstGeom prst="sun">
            <a:avLst>
              <a:gd name="adj" fmla="val 25000"/>
            </a:avLst>
          </a:prstGeom>
          <a:solidFill>
            <a:srgbClr val="3e6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77280" y="21589920"/>
            <a:ext cx="936360" cy="863640"/>
          </a:xfrm>
          <a:prstGeom prst="sun">
            <a:avLst>
              <a:gd name="adj" fmla="val 25000"/>
            </a:avLst>
          </a:prstGeom>
          <a:solidFill>
            <a:srgbClr val="3e6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77280" y="24253920"/>
            <a:ext cx="936360" cy="863640"/>
          </a:xfrm>
          <a:prstGeom prst="sun">
            <a:avLst>
              <a:gd name="adj" fmla="val 25000"/>
            </a:avLst>
          </a:prstGeom>
          <a:solidFill>
            <a:srgbClr val="3e6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75480" y="26774640"/>
            <a:ext cx="936720" cy="863640"/>
          </a:xfrm>
          <a:prstGeom prst="sun">
            <a:avLst>
              <a:gd name="adj" fmla="val 25000"/>
            </a:avLst>
          </a:prstGeom>
          <a:solidFill>
            <a:srgbClr val="3e6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77280" y="29727360"/>
            <a:ext cx="936360" cy="863640"/>
          </a:xfrm>
          <a:prstGeom prst="sun">
            <a:avLst>
              <a:gd name="adj" fmla="val 25000"/>
            </a:avLst>
          </a:prstGeom>
          <a:solidFill>
            <a:srgbClr val="3e6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77280" y="34191720"/>
            <a:ext cx="936360" cy="863280"/>
          </a:xfrm>
          <a:prstGeom prst="sun">
            <a:avLst>
              <a:gd name="adj" fmla="val 25000"/>
            </a:avLst>
          </a:prstGeom>
          <a:solidFill>
            <a:srgbClr val="3e6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656560" y="18637200"/>
            <a:ext cx="720108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different physical length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 detailed simulation in die stack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macro model for region outside die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729640" y="21589920"/>
            <a:ext cx="7488360" cy="29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ckage model extraction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876"/>
              </a:spcBef>
              <a:spcAft>
                <a:spcPts val="1225"/>
              </a:spcAft>
              <a:buClr>
                <a:srgbClr val="3e647e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647e"/>
                </a:solidFill>
                <a:latin typeface="Verdana"/>
              </a:rPr>
              <a:t>Thermal resistance values from data she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876"/>
              </a:spcBef>
              <a:spcAft>
                <a:spcPts val="1225"/>
              </a:spcAft>
              <a:buClr>
                <a:srgbClr val="3e647e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647e"/>
                </a:solidFill>
                <a:latin typeface="Verdana"/>
              </a:rPr>
              <a:t>Extract from thermal FE model of package and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729640" y="24182280"/>
            <a:ext cx="748836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a “thermal tech file”, specifying for each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751"/>
              </a:spcBef>
              <a:spcAft>
                <a:spcPts val="1049"/>
              </a:spcAft>
              <a:buClr>
                <a:srgbClr val="3e647e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647e"/>
                </a:solidFill>
                <a:latin typeface="Verdana"/>
              </a:rPr>
              <a:t>Layer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751"/>
              </a:spcBef>
              <a:spcAft>
                <a:spcPts val="1049"/>
              </a:spcAft>
              <a:buClr>
                <a:srgbClr val="3e647e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647e"/>
                </a:solidFill>
                <a:latin typeface="Verdana"/>
              </a:rPr>
              <a:t>Thermal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751"/>
              </a:spcBef>
              <a:spcAft>
                <a:spcPts val="1049"/>
              </a:spcAft>
              <a:buClr>
                <a:srgbClr val="3e647e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647e"/>
                </a:solidFill>
                <a:latin typeface="Verdana"/>
              </a:rPr>
              <a:t>Temperature dependent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656560" y="28933920"/>
            <a:ext cx="7488360" cy="54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w IC electro-thermal si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aptive resolution to match device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detailed design file   (layout,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sely coupled electric – thermal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ady state, transi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647e"/>
                </a:solidFill>
                <a:latin typeface="Verdana"/>
              </a:rPr>
              <a:t>Extending simulation technology to 3D layer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729640" y="27135000"/>
            <a:ext cx="7488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D to 3D layout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mal analysis data 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85280" y="18494280"/>
            <a:ext cx="7200720" cy="22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b1c6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585280" y="21518640"/>
            <a:ext cx="7200720" cy="2303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b1c6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585280" y="24182280"/>
            <a:ext cx="7200720" cy="223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b1c6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85280" y="26990640"/>
            <a:ext cx="7200720" cy="115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b1c6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585280" y="28719360"/>
            <a:ext cx="7200720" cy="525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b1c6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2200" y="36133200"/>
            <a:ext cx="141145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720" rIns="441720" tIns="220680" bIns="22068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416480"/>
                <a:tab algn="l" pos="8832960"/>
              </a:tabLst>
            </a:pPr>
            <a:r>
              <a:rPr b="0" lang="en-US" sz="4800" spc="-1" strike="noStrike">
                <a:solidFill>
                  <a:srgbClr val="3e647e"/>
                </a:solidFill>
                <a:latin typeface="Verdana"/>
              </a:rPr>
              <a:t>Thermal Simulation Resul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8200" y="37503000"/>
            <a:ext cx="936360" cy="863640"/>
          </a:xfrm>
          <a:prstGeom prst="sun">
            <a:avLst>
              <a:gd name="adj" fmla="val 25000"/>
            </a:avLst>
          </a:prstGeom>
          <a:solidFill>
            <a:srgbClr val="3e6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6" descr="overview2"/>
          <p:cNvPicPr/>
          <p:nvPr/>
        </p:nvPicPr>
        <p:blipFill>
          <a:blip r:embed="rId8"/>
          <a:srcRect l="16869" t="9561" r="7297" b="19791"/>
          <a:stretch/>
        </p:blipFill>
        <p:spPr>
          <a:xfrm>
            <a:off x="17730720" y="16332120"/>
            <a:ext cx="3286080" cy="22845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7"/>
          <p:cNvSpPr/>
          <p:nvPr/>
        </p:nvSpPr>
        <p:spPr>
          <a:xfrm>
            <a:off x="24699960" y="16441560"/>
            <a:ext cx="1935000" cy="207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mple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Verdana"/>
              </a:rPr>
              <a:t>tot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= 21.44 K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Verdana"/>
              </a:rPr>
              <a:t>bot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= 24.67 K/W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Verdana"/>
              </a:rPr>
              <a:t>top 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= 351.5 K/W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Verdana"/>
              </a:rPr>
              <a:t>front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= 649.7 K/W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Verdana"/>
              </a:rPr>
              <a:t>back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= 649.7 K/W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Verdana"/>
              </a:rPr>
              <a:t>left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 = 649.7 K/W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Verdana"/>
              </a:rPr>
              <a:t>right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= 649.7 K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21450240" y="16370280"/>
            <a:ext cx="2925720" cy="1938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183080" y="16116480"/>
            <a:ext cx="936360" cy="863280"/>
          </a:xfrm>
          <a:prstGeom prst="sun">
            <a:avLst>
              <a:gd name="adj" fmla="val 25000"/>
            </a:avLst>
          </a:prstGeom>
          <a:solidFill>
            <a:srgbClr val="3e6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81280" y="19213560"/>
            <a:ext cx="936720" cy="863640"/>
          </a:xfrm>
          <a:prstGeom prst="sun">
            <a:avLst>
              <a:gd name="adj" fmla="val 25000"/>
            </a:avLst>
          </a:prstGeom>
          <a:solidFill>
            <a:srgbClr val="3e6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698000" y="19356480"/>
            <a:ext cx="936720" cy="863640"/>
          </a:xfrm>
          <a:prstGeom prst="sun">
            <a:avLst>
              <a:gd name="adj" fmla="val 25000"/>
            </a:avLst>
          </a:prstGeom>
          <a:solidFill>
            <a:srgbClr val="3e6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183080" y="27062280"/>
            <a:ext cx="936360" cy="863280"/>
          </a:xfrm>
          <a:prstGeom prst="sun">
            <a:avLst>
              <a:gd name="adj" fmla="val 25000"/>
            </a:avLst>
          </a:prstGeom>
          <a:solidFill>
            <a:srgbClr val="3e6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181280" y="29294280"/>
            <a:ext cx="936720" cy="863280"/>
          </a:xfrm>
          <a:prstGeom prst="sun">
            <a:avLst>
              <a:gd name="adj" fmla="val 25000"/>
            </a:avLst>
          </a:prstGeom>
          <a:solidFill>
            <a:srgbClr val="3e64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04920" y="42759360"/>
            <a:ext cx="27939960" cy="0"/>
          </a:xfrm>
          <a:prstGeom prst="line">
            <a:avLst/>
          </a:prstGeom>
          <a:ln w="9360">
            <a:solidFill>
              <a:srgbClr val="b1c6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89280" y="42687720"/>
            <a:ext cx="28225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720" rIns="441720" tIns="220680" bIns="2206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4416480"/>
                <a:tab algn="l" pos="8832960"/>
              </a:tabLst>
            </a:pPr>
            <a:r>
              <a:rPr b="0" lang="en-US" sz="2400" spc="-1" strike="noStrike">
                <a:solidFill>
                  <a:srgbClr val="3e647e"/>
                </a:solidFill>
                <a:latin typeface="Arial"/>
                <a:ea typeface="MS Mincho"/>
              </a:rPr>
              <a:t>DAC 2010 User Track, June 15</a:t>
            </a:r>
            <a:r>
              <a:rPr b="0" lang="en-US" sz="2400" spc="-1" strike="noStrike" baseline="30000">
                <a:solidFill>
                  <a:srgbClr val="3e647e"/>
                </a:solidFill>
                <a:latin typeface="Arial"/>
                <a:ea typeface="MS Mincho"/>
              </a:rPr>
              <a:t>th</a:t>
            </a:r>
            <a:r>
              <a:rPr b="0" lang="en-US" sz="2400" spc="-1" strike="noStrike">
                <a:solidFill>
                  <a:srgbClr val="3e647e"/>
                </a:solidFill>
                <a:latin typeface="Arial"/>
                <a:ea typeface="MS Mincho"/>
              </a:rPr>
              <a:t>, 2010.</a:t>
            </a:r>
            <a:r>
              <a:rPr b="0" i="1" lang="en-US" sz="2400" spc="-1" strike="noStrike">
                <a:solidFill>
                  <a:srgbClr val="3e647e"/>
                </a:solidFill>
                <a:latin typeface="Arial"/>
                <a:ea typeface="MS Mincho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16480"/>
                <a:tab algn="l" pos="8832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362360" y="39376440"/>
            <a:ext cx="14978160" cy="25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ology and tool available to perform detailed thermal analysis of 3D-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876"/>
              </a:spcBef>
              <a:spcAft>
                <a:spcPts val="1225"/>
              </a:spcAft>
              <a:buClr>
                <a:srgbClr val="3e647e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647e"/>
                </a:solidFill>
                <a:latin typeface="Verdana"/>
              </a:rPr>
              <a:t>Including TSVs, BEOL and interconnection between 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876"/>
              </a:spcBef>
              <a:spcAft>
                <a:spcPts val="1225"/>
              </a:spcAft>
              <a:buClr>
                <a:srgbClr val="3e647e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647e"/>
                </a:solidFill>
                <a:latin typeface="Verdana"/>
              </a:rPr>
              <a:t>Compatible with existing design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monstrated on a two stacked die structure in a BGA 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ults validated with sili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239840" y="38008080"/>
            <a:ext cx="8686800" cy="3508200"/>
            <a:chOff x="1239840" y="38008080"/>
            <a:chExt cx="8686800" cy="3508200"/>
          </a:xfrm>
        </p:grpSpPr>
        <p:pic>
          <p:nvPicPr>
            <p:cNvPr id="87" name="Picture 150" descr=""/>
            <p:cNvPicPr/>
            <p:nvPr/>
          </p:nvPicPr>
          <p:blipFill>
            <a:blip r:embed="rId10"/>
            <a:stretch/>
          </p:blipFill>
          <p:spPr>
            <a:xfrm>
              <a:off x="1239840" y="38720520"/>
              <a:ext cx="8686800" cy="23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151"/>
            <p:cNvSpPr/>
            <p:nvPr/>
          </p:nvSpPr>
          <p:spPr>
            <a:xfrm>
              <a:off x="2409840" y="39088800"/>
              <a:ext cx="5985000" cy="71892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52"/>
            <p:cNvSpPr/>
            <p:nvPr/>
          </p:nvSpPr>
          <p:spPr>
            <a:xfrm>
              <a:off x="4525920" y="41148000"/>
              <a:ext cx="43336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gion for detailed thermal 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53"/>
            <p:cNvSpPr/>
            <p:nvPr/>
          </p:nvSpPr>
          <p:spPr>
            <a:xfrm>
              <a:off x="3446280" y="39531600"/>
              <a:ext cx="765360" cy="175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54"/>
            <p:cNvSpPr/>
            <p:nvPr/>
          </p:nvSpPr>
          <p:spPr>
            <a:xfrm>
              <a:off x="5475240" y="38008080"/>
              <a:ext cx="2387520" cy="642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bstracted part -&gt; package 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55"/>
            <p:cNvSpPr/>
            <p:nvPr/>
          </p:nvSpPr>
          <p:spPr>
            <a:xfrm>
              <a:off x="7877160" y="38398320"/>
              <a:ext cx="1014480" cy="63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2771080" y="29583000"/>
            <a:ext cx="5623560" cy="3331440"/>
            <a:chOff x="22771080" y="29583000"/>
            <a:chExt cx="5623560" cy="3331440"/>
          </a:xfrm>
        </p:grpSpPr>
        <p:pic>
          <p:nvPicPr>
            <p:cNvPr id="94" name="Picture 23" descr="REF_M2T_SURF_FROM_LEFT"/>
            <p:cNvPicPr/>
            <p:nvPr/>
          </p:nvPicPr>
          <p:blipFill>
            <a:blip r:embed="rId11"/>
            <a:stretch/>
          </p:blipFill>
          <p:spPr>
            <a:xfrm>
              <a:off x="22771080" y="29583000"/>
              <a:ext cx="5162400" cy="32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Line 11"/>
            <p:cNvSpPr/>
            <p:nvPr/>
          </p:nvSpPr>
          <p:spPr>
            <a:xfrm flipH="1">
              <a:off x="25179120" y="30098880"/>
              <a:ext cx="347400" cy="4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2"/>
            <p:cNvSpPr/>
            <p:nvPr/>
          </p:nvSpPr>
          <p:spPr>
            <a:xfrm>
              <a:off x="25596720" y="30098880"/>
              <a:ext cx="0" cy="6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3"/>
            <p:cNvSpPr/>
            <p:nvPr/>
          </p:nvSpPr>
          <p:spPr>
            <a:xfrm>
              <a:off x="25701480" y="30098880"/>
              <a:ext cx="34956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4"/>
            <p:cNvSpPr/>
            <p:nvPr/>
          </p:nvSpPr>
          <p:spPr>
            <a:xfrm>
              <a:off x="25067520" y="29799000"/>
              <a:ext cx="23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50 x 50 µm² hea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5"/>
            <p:cNvSpPr/>
            <p:nvPr/>
          </p:nvSpPr>
          <p:spPr>
            <a:xfrm>
              <a:off x="24645960" y="32308920"/>
              <a:ext cx="25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00 x 100 µm² hea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6"/>
            <p:cNvSpPr/>
            <p:nvPr/>
          </p:nvSpPr>
          <p:spPr>
            <a:xfrm flipH="1" flipV="1">
              <a:off x="24858720" y="31957560"/>
              <a:ext cx="34776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7"/>
            <p:cNvSpPr/>
            <p:nvPr/>
          </p:nvSpPr>
          <p:spPr>
            <a:xfrm flipH="1" flipV="1">
              <a:off x="25402680" y="31929480"/>
              <a:ext cx="3492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8"/>
            <p:cNvSpPr/>
            <p:nvPr/>
          </p:nvSpPr>
          <p:spPr>
            <a:xfrm flipV="1">
              <a:off x="25542720" y="31957920"/>
              <a:ext cx="31464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19"/>
            <p:cNvSpPr/>
            <p:nvPr/>
          </p:nvSpPr>
          <p:spPr>
            <a:xfrm>
              <a:off x="26169120" y="30687840"/>
              <a:ext cx="10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ff"/>
                  </a:solidFill>
                  <a:latin typeface="Verdana"/>
                </a:rPr>
                <a:t>no TSV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20"/>
            <p:cNvSpPr/>
            <p:nvPr/>
          </p:nvSpPr>
          <p:spPr>
            <a:xfrm>
              <a:off x="25269120" y="3077856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Verdana"/>
                </a:rPr>
                <a:t>11 x 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21"/>
            <p:cNvSpPr/>
            <p:nvPr/>
          </p:nvSpPr>
          <p:spPr>
            <a:xfrm>
              <a:off x="25135200" y="3121488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7 x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22"/>
            <p:cNvSpPr/>
            <p:nvPr/>
          </p:nvSpPr>
          <p:spPr>
            <a:xfrm>
              <a:off x="26420040" y="32607360"/>
              <a:ext cx="197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[source: Gradient DA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25"/>
            <p:cNvSpPr/>
            <p:nvPr/>
          </p:nvSpPr>
          <p:spPr>
            <a:xfrm>
              <a:off x="26170920" y="31367520"/>
              <a:ext cx="10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 TSV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26"/>
            <p:cNvSpPr/>
            <p:nvPr/>
          </p:nvSpPr>
          <p:spPr>
            <a:xfrm>
              <a:off x="24053400" y="31367520"/>
              <a:ext cx="9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11 x 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27"/>
            <p:cNvSpPr/>
            <p:nvPr/>
          </p:nvSpPr>
          <p:spPr>
            <a:xfrm>
              <a:off x="24544800" y="30573720"/>
              <a:ext cx="69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ff"/>
                  </a:solidFill>
                  <a:latin typeface="Verdana"/>
                </a:rPr>
                <a:t>7 x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8729640" y="34336080"/>
            <a:ext cx="74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idated with chip m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85280" y="34191720"/>
            <a:ext cx="7200720" cy="718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b1c6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880560" y="38008080"/>
            <a:ext cx="5905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GA type 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370360" y="27206640"/>
            <a:ext cx="11377800" cy="17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retized approach with multiple sol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ady state thermal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ameterized Resolution (0.1 µm ; 0.05 °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ent temperature (27°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873640" y="14244480"/>
            <a:ext cx="43210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p die:       thickness 25 </a:t>
            </a:r>
            <a:r>
              <a:rPr b="0" lang="el-GR" sz="14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, T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ottom die:  thickness 250 </a:t>
            </a:r>
            <a:r>
              <a:rPr b="0" lang="el-GR" sz="1400" spc="-1" strike="noStrike">
                <a:solidFill>
                  <a:srgbClr val="000000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442000" y="18635760"/>
            <a:ext cx="3889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ull 3D FE model of the package and P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402720" y="18419760"/>
            <a:ext cx="288144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resentation of the boundary conditions applied on the simulation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378000" y="13596840"/>
            <a:ext cx="432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x7 TSV array with heater and moni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2" descr=""/>
          <p:cNvPicPr/>
          <p:nvPr/>
        </p:nvPicPr>
        <p:blipFill>
          <a:blip r:embed="rId12"/>
          <a:srcRect l="0" t="0" r="-4982" b="0"/>
          <a:stretch/>
        </p:blipFill>
        <p:spPr>
          <a:xfrm>
            <a:off x="22410720" y="35342640"/>
            <a:ext cx="5211720" cy="2181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1" descr=""/>
          <p:cNvPicPr/>
          <p:nvPr/>
        </p:nvPicPr>
        <p:blipFill>
          <a:blip r:embed="rId13"/>
          <a:stretch/>
        </p:blipFill>
        <p:spPr>
          <a:xfrm>
            <a:off x="17226000" y="33399360"/>
            <a:ext cx="4824360" cy="4143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337640" y="34053480"/>
            <a:ext cx="113778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idation of temperature in diodes in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5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od agreements between simulations an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08:41:48Z</dcterms:created>
  <dc:creator>cupac</dc:creator>
  <dc:description>© IMEC 2006</dc:description>
  <dc:language>en-US</dc:language>
  <cp:lastModifiedBy>cupac</cp:lastModifiedBy>
  <dcterms:modified xsi:type="dcterms:W3CDTF">2010-04-29T10:24:43Z</dcterms:modified>
  <cp:revision>11</cp:revision>
  <dc:subject/>
  <dc:title>A Practical Approach to Thermal Modeling and Validation of 3D ICs</dc:title>
</cp:coreProperties>
</file>