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65AA-A46B-43C2-B967-66EDAFEFE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4C03-D62B-49CF-B958-E2EDB486A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17E0-A723-437E-80AB-6DE252A21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2054-F0A7-4C8E-9ACD-9562927E0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7692-A92C-4484-88EF-A5936AB8F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556A-312B-4BC4-8B2C-D3C6981C72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9548-039F-46EE-953D-90A8D73F7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8643B-DED9-4E2E-A7F2-E1C3A9F44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9CAD-C130-4103-93DC-26BDDB529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39B9-1898-4944-8834-DDF3044E2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B127-36FC-4648-9BEC-D0650887C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D12F-68C4-471A-AF72-F7DA71B2B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01" t="0" r="0" b="41287"/>
          <a:stretch/>
        </p:blipFill>
        <p:spPr>
          <a:xfrm>
            <a:off x="0" y="6470640"/>
            <a:ext cx="9140760" cy="38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33553" r="0" b="23221"/>
          <a:stretch/>
        </p:blipFill>
        <p:spPr>
          <a:xfrm>
            <a:off x="0" y="0"/>
            <a:ext cx="9144000" cy="38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7136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-17172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-171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-17172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444320" y="52560"/>
            <a:ext cx="20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nm DF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076960" y="6506640"/>
            <a:ext cx="1006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9BEC-88DD-442D-BDFA-962BB58DE7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vid E. Lacke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|  June  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51602" t="0" r="0" b="0"/>
          <a:stretch/>
        </p:blipFill>
        <p:spPr>
          <a:xfrm>
            <a:off x="0" y="1695600"/>
            <a:ext cx="913464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201" t="0" r="0" b="0"/>
          <a:stretch/>
        </p:blipFill>
        <p:spPr>
          <a:xfrm>
            <a:off x="0" y="5168880"/>
            <a:ext cx="9140760" cy="17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6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695600"/>
            <a:ext cx="9144000" cy="3463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10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524720" y="684360"/>
            <a:ext cx="1123920" cy="410760"/>
            <a:chOff x="7524720" y="684360"/>
            <a:chExt cx="1123920" cy="410760"/>
          </a:xfrm>
        </p:grpSpPr>
        <p:pic>
          <p:nvPicPr>
            <p:cNvPr id="54" name="" descr=""/>
            <p:cNvPicPr/>
            <p:nvPr/>
          </p:nvPicPr>
          <p:blipFill>
            <a:blip r:embed="rId5"/>
            <a:srcRect l="0" t="0" r="6654" b="0"/>
            <a:stretch/>
          </p:blipFill>
          <p:spPr>
            <a:xfrm>
              <a:off x="7524720" y="684360"/>
              <a:ext cx="100188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6"/>
            <a:stretch/>
          </p:blipFill>
          <p:spPr>
            <a:xfrm>
              <a:off x="8539200" y="993600"/>
              <a:ext cx="109440" cy="10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lvl="1" marL="343080" indent="0" algn="ctr">
              <a:spcBef>
                <a:spcPts val="437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85800" algn="ctr"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71640" algn="ctr"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4360" algn="ctr"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4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4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2811240"/>
            <a:ext cx="788508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2nm IBM ASIC Design for Test Methodolog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06240" y="3858840"/>
            <a:ext cx="505476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Dave Lackey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Distinguished Engineer, EDA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delacke@us.ibm.co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TG      DFT Methodolog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49280" y="6226200"/>
            <a:ext cx="5869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June 20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u32 Methodology Change for Memory BIST/BIS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5200" y="1649520"/>
            <a:ext cx="780588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methodologies inserted BIST/BISR IP at the netlist lev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32nm ASICs, IP will be introduced at the RTL Level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 can simulate their in-system usage of Array BIST at RT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’ Synthesis and early floorplanning have visibility to all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verification and functional ECO processing are simplifi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ictions to PD and Timing Closure greatly re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need to preserve IP boundaries for BIST IP recognition by verification an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too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CB5A-CAED-4BC3-A6E6-46B7490F38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4520" y="502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32nm ASIC flow with RTL BIST/BISR IP inser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971800" y="1790640"/>
            <a:ext cx="1283040" cy="4496040"/>
            <a:chOff x="2971800" y="1790640"/>
            <a:chExt cx="1283040" cy="4496040"/>
          </a:xfrm>
        </p:grpSpPr>
        <p:sp>
          <p:nvSpPr>
            <p:cNvPr id="353" name=""/>
            <p:cNvSpPr/>
            <p:nvPr/>
          </p:nvSpPr>
          <p:spPr>
            <a:xfrm>
              <a:off x="2971800" y="1790640"/>
              <a:ext cx="1207080" cy="4496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13000" y="2768760"/>
              <a:ext cx="519120" cy="393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13000" y="3327480"/>
              <a:ext cx="519120" cy="393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13000" y="3962520"/>
              <a:ext cx="519120" cy="39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13000" y="4533840"/>
              <a:ext cx="519120" cy="393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13000" y="5130720"/>
              <a:ext cx="519120" cy="393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91960" y="1839960"/>
              <a:ext cx="1262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TL Design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with BIST IP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oc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13000" y="5778360"/>
              <a:ext cx="519120" cy="393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69960" y="5905440"/>
              <a:ext cx="168840" cy="16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8480" y="1511280"/>
            <a:ext cx="140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90840" y="15112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37960" y="1204920"/>
            <a:ext cx="514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Manual approach: Design-in BIST/BISR from the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78160" y="2247840"/>
            <a:ext cx="444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1866960"/>
            <a:ext cx="1066680" cy="799920"/>
          </a:xfrm>
          <a:prstGeom prst="rect">
            <a:avLst/>
          </a:prstGeom>
          <a:solidFill>
            <a:srgbClr val="2db6b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D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19640" y="2666880"/>
            <a:ext cx="0" cy="31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3454560"/>
            <a:ext cx="1079640" cy="7491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conn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6480" y="2997360"/>
            <a:ext cx="1041120" cy="9522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li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p 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2413080"/>
            <a:ext cx="1079640" cy="95256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 I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27600" y="379728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727600" y="31240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620120" y="1801800"/>
            <a:ext cx="1257120" cy="1360440"/>
            <a:chOff x="7620120" y="1801800"/>
            <a:chExt cx="1257120" cy="1360440"/>
          </a:xfrm>
        </p:grpSpPr>
        <p:sp>
          <p:nvSpPr>
            <p:cNvPr id="374" name=""/>
            <p:cNvSpPr/>
            <p:nvPr/>
          </p:nvSpPr>
          <p:spPr>
            <a:xfrm>
              <a:off x="7620120" y="1816200"/>
              <a:ext cx="1257120" cy="134604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71600" y="1801800"/>
              <a:ext cx="118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IST IP </a:t>
              </a:r>
              <a:br>
                <a:rPr sz="1400"/>
              </a:b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TL 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797600" y="233676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115120" y="233676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32640" y="2336760"/>
              <a:ext cx="24084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97600" y="267984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115120" y="2679840"/>
              <a:ext cx="24120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432640" y="2679840"/>
              <a:ext cx="240840" cy="2286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7188120" y="25909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454560"/>
            <a:ext cx="1155600" cy="7365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175520" y="36702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99080" y="4356000"/>
            <a:ext cx="1130400" cy="8128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tten to P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94440" y="3949560"/>
            <a:ext cx="0" cy="406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99080" y="5372280"/>
            <a:ext cx="1130400" cy="8125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83360" y="5181480"/>
            <a:ext cx="0" cy="203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84800" y="5308560"/>
            <a:ext cx="1041480" cy="9525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Ne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83280" y="4546440"/>
            <a:ext cx="1231920" cy="54612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quival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816520" y="577836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3936960"/>
            <a:ext cx="8888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603840" y="5092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81960" y="4876920"/>
            <a:ext cx="1333440" cy="1396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T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terns for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 BI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 Repair Flow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26280" y="579132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7760" y="4203720"/>
            <a:ext cx="0" cy="66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81560" y="1676520"/>
            <a:ext cx="4597200" cy="261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81560" y="4292640"/>
            <a:ext cx="4610160" cy="210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676520"/>
            <a:ext cx="4381560" cy="4724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1790640"/>
            <a:ext cx="1104840" cy="4496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520" y="2768760"/>
            <a:ext cx="546120" cy="393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7520" y="3327480"/>
            <a:ext cx="546120" cy="393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7520" y="3962520"/>
            <a:ext cx="546120" cy="3934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7520" y="4533840"/>
            <a:ext cx="546120" cy="3938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17520" y="5130720"/>
            <a:ext cx="546120" cy="3938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" y="1839960"/>
            <a:ext cx="119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TL Design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-BIST I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7520" y="5778360"/>
            <a:ext cx="546120" cy="3938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2760" y="5905440"/>
            <a:ext cx="177480" cy="16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11280" y="3898800"/>
            <a:ext cx="660600" cy="1117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9440" y="1816200"/>
            <a:ext cx="1257120" cy="196848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601280" y="1801800"/>
            <a:ext cx="118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IST IP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TL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27280" y="233676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44800" y="233676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233676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27280" y="267984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044800" y="267984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62320" y="2679840"/>
            <a:ext cx="241200" cy="228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38360" y="2997360"/>
            <a:ext cx="1092240" cy="64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ST/BIS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34960" y="5156280"/>
            <a:ext cx="1384560" cy="11174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r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BI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Inser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BIST/BI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yG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Che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501660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463840" y="3809880"/>
            <a:ext cx="0" cy="1333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93760" y="5664240"/>
            <a:ext cx="241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19520" y="56516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C972-D1C7-49D8-8AF4-34A1CE06D5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17440" y="406440"/>
            <a:ext cx="60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nm Memory BIST/BISR Architecture for a sample C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User describes this in the Memory OR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19720" y="1378080"/>
            <a:ext cx="12906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K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Keyboar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48640" y="2136600"/>
            <a:ext cx="911160" cy="532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04760" y="2062080"/>
            <a:ext cx="758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C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27720" y="5402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62148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43080" y="50212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859464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759440" y="250200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14308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290080" y="2822400"/>
            <a:ext cx="1440" cy="21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97828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4423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3432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63640" y="5402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15740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7232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93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7024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49000" y="250200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4936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3684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3684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2880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2880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9288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9288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00092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0092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07160" y="502128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607160" y="502128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21376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75112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5112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380360" y="4186080"/>
            <a:ext cx="45540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4186080"/>
            <a:ext cx="45576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22952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3576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2148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45812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21480" y="3579480"/>
            <a:ext cx="144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988400" y="3579480"/>
            <a:ext cx="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7759440" y="357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58120" y="479412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7303680" y="3657600"/>
            <a:ext cx="180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0080" y="3124080"/>
            <a:ext cx="911160" cy="53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ST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55440" y="3657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0896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00920" y="403560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6540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06436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4696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545160" y="47959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15320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6621120" y="35798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14480" y="4186080"/>
            <a:ext cx="45576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308240" y="4186080"/>
            <a:ext cx="45540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6364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37024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95360" y="3351240"/>
            <a:ext cx="15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9224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155600" y="3579480"/>
            <a:ext cx="180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522520" y="3579480"/>
            <a:ext cx="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293560" y="357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92240" y="479412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837800" y="3657600"/>
            <a:ext cx="180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84200" y="3124080"/>
            <a:ext cx="911160" cy="53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ST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5916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4308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35040" y="403560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3684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9884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8108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79640" y="47959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68768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155240" y="3579840"/>
            <a:ext cx="22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925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8632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01344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79916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5772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57720" y="5021280"/>
            <a:ext cx="60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5400" y="502128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6540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0" y="502128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178600" y="5021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44840" y="4186080"/>
            <a:ext cx="45576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38600" y="4186080"/>
            <a:ext cx="455400" cy="4557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19400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0060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86320" y="4414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42260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586320" y="3579480"/>
            <a:ext cx="144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952880" y="3579480"/>
            <a:ext cx="0" cy="83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723920" y="3579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22600" y="4794120"/>
            <a:ext cx="6080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268880" y="3657600"/>
            <a:ext cx="1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14920" y="3124080"/>
            <a:ext cx="911160" cy="53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ST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20280" y="3657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7344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65400" y="403560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2920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11440" y="4794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10000" y="479592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18040" y="4643280"/>
            <a:ext cx="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586320" y="35798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07200" y="54021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55768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013440" y="2517840"/>
            <a:ext cx="0" cy="28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507840" y="250200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013440" y="250200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752920" y="40942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206880" y="2670120"/>
            <a:ext cx="1440" cy="23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07160" y="282240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607160" y="2668680"/>
            <a:ext cx="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68880" y="2973240"/>
            <a:ext cx="0" cy="15084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289728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304040" y="2668680"/>
            <a:ext cx="0" cy="45540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839960" y="2973240"/>
            <a:ext cx="0" cy="15084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39960" y="2971800"/>
            <a:ext cx="2428920" cy="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54240" y="2668680"/>
            <a:ext cx="0" cy="30312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304040" y="1986120"/>
            <a:ext cx="0" cy="1504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4240" y="1986120"/>
            <a:ext cx="4249800" cy="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054240" y="1986120"/>
            <a:ext cx="0" cy="1504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103720" y="1076400"/>
            <a:ext cx="0" cy="3016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799760" y="259380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161760" y="24256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155600" y="4414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24280" y="3351240"/>
            <a:ext cx="212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759800" y="335124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59800" y="2290680"/>
            <a:ext cx="834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745480" y="1455480"/>
            <a:ext cx="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5711400" y="1455840"/>
            <a:ext cx="30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701640" y="1608120"/>
            <a:ext cx="371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98520" y="1455480"/>
            <a:ext cx="0" cy="18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8660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16572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38036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30824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2252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164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16280" y="5173560"/>
            <a:ext cx="45540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73680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95144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13056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44840" y="5173560"/>
            <a:ext cx="455760" cy="455760"/>
          </a:xfrm>
          <a:prstGeom prst="rect">
            <a:avLst/>
          </a:prstGeom>
          <a:solidFill>
            <a:srgbClr val="99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89560" y="36576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C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8160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4348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76592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37636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952520" y="1968480"/>
            <a:ext cx="100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xx, Bxx, F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3920" y="45655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70560" y="2897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xx, B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73200" y="2425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80120" y="33512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66200" y="3351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92320" y="265284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MABIST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29880" y="242568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44200" y="33512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30280" y="3351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07240" y="335124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693680" y="33512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D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227720" y="28954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30516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3684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669160" y="2820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69240" y="2668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002360" y="4035600"/>
            <a:ext cx="0" cy="15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19256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90520" y="37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654516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4032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76364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461600" y="37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2772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925680" y="3730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07964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7444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91064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70544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44620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4136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87512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7028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93712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228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851868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31348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13056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2392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48172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7652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821376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1036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473040" y="3882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8200" y="3730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6089760" y="1909440"/>
            <a:ext cx="7776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28800" y="26686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320760" y="282096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5560" y="2668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508200" y="38829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40000" y="1984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417920" y="1909440"/>
            <a:ext cx="7776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268160" y="19843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025960" y="115236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647600" y="1074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18440" y="24256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R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07160" y="19098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9880" y="174312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POR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31920" y="183528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79760" y="160812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POR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40440" y="289728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60560" y="26686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MABIST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503360" y="28954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0840" y="2668680"/>
            <a:ext cx="16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MABIST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103720" y="1682640"/>
            <a:ext cx="0" cy="30348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978280" y="274464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599920" y="2666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48000" y="2897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xx, B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2200" y="3125880"/>
            <a:ext cx="2732040" cy="2808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98840" y="2136600"/>
            <a:ext cx="911160" cy="532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CN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8520" y="3351240"/>
            <a:ext cx="98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510000" y="2290680"/>
            <a:ext cx="33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01640" y="229068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63640" y="2290680"/>
            <a:ext cx="83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98520" y="1455840"/>
            <a:ext cx="4021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5711760" y="1606680"/>
            <a:ext cx="2882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701640" y="1608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8594640" y="160812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17640" y="190980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70360" y="1743120"/>
            <a:ext cx="148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S_POR_GO,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3040" y="6081840"/>
            <a:ext cx="91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use download (FUSECNTL) and Array BIST (BISTCNTL) can be integrated &amp; operated on a partition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342C2-73D5-4278-B3FE-87C3581557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4080" y="630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38040" y="1293840"/>
            <a:ext cx="85550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32nm technology node, IBM has made major changes for DFT interoperability, to simplify Tool Flow, and improve Turnaround Time (TA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d from Level-Sensitive Scan Design (LSSD) to Mux-s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d BIST insertion from the Netlist, to the Register Transfer Level (RT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Hierarchical DFT synthesis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design handoffs between the frontend, DFT, and backend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has successfully integrated these changes in i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to-Back ASIC flow,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within its EDA and Methodology orga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with key EDA partners including Cadence, Atrenta, and Synop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E286-7EC0-46F4-A86F-2E1E56DA3D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630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8040" y="1179000"/>
            <a:ext cx="855504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32nm technology node, IBM has made major changes in its Design for Testability (DFT) architecture and tool f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ed from Level-Sensitive Scan Design (LSSD) to Mux-scan (Edge-ba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bled greater IP sharing (internally and externally) and jointly developed IP with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ties, used across IBM-internal design teams and ASIC/foundry offer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d it’s method of BIST insertion from the netlist  to the Register Transfer Level (RT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y Hierarchical DFT synthesis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design handoffs between the Front-end, DFT, and Back-end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has worked within its EDA organization, and with EDA partners, to incorporate thes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A619-2438-48C7-84EB-717D005F8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92040"/>
            <a:ext cx="82296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SSD and Mux Scan pros and c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5920" y="919080"/>
          <a:ext cx="8229600" cy="5081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731960"/>
                <a:gridCol w="1697040"/>
                <a:gridCol w="20574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S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x-S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Scan Test Interoper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3PIP &amp; Joint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 to share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 sharing is impacted by different scan styl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IBM server 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ed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s for at-speed te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br>
                        <a:rPr sz="20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light advant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es same test focus regardless of scan sty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ST, SerDes, PLL,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-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ology complex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 Risk to DFT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st Tim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-free test, Test timing rela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timing across process sp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-unique hold issues can break test – new methodologies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T/Test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 button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aware automation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ally mitigate  domain crossing 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Pattern Re-use due to race free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br>
                        <a:rPr sz="20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timing scal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n hold timing closure to extended voltage/te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p / Core Desig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33"/>
                        </a:gs>
                        <a:gs pos="100000">
                          <a:srgbClr val="ffff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-2% at chip-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Po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33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7% Clock pwr dif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50BA-4AB0-44A2-9385-81AFEF6C65F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257480" y="3814920"/>
            <a:ext cx="1482480" cy="44424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57400" y="3902040"/>
            <a:ext cx="1482480" cy="4446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86000" y="1411200"/>
            <a:ext cx="1482480" cy="116388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4920" y="1530360"/>
            <a:ext cx="1482840" cy="11635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4381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889fb"/>
                </a:solidFill>
                <a:latin typeface="Arial"/>
              </a:rPr>
              <a:t>DFT Tool Flow – Front end Integration in 32nm</a:t>
            </a:r>
            <a:endParaRPr b="0" lang="en-US" sz="25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23840" y="1635120"/>
            <a:ext cx="1482840" cy="11635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/Physic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 D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360" y="2798640"/>
            <a:ext cx="0" cy="56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34200" y="281628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52640" y="3367080"/>
            <a:ext cx="1482480" cy="4446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7600" y="3990960"/>
            <a:ext cx="1482840" cy="4446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4429080"/>
            <a:ext cx="1482840" cy="444600"/>
          </a:xfrm>
          <a:prstGeom prst="rect">
            <a:avLst/>
          </a:prstGeom>
          <a:solidFill>
            <a:srgbClr val="586bf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-Level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84440" y="516096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82000" y="512928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11520" y="3740040"/>
            <a:ext cx="2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1840" y="3951360"/>
            <a:ext cx="6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68400" y="5597640"/>
            <a:ext cx="1565280" cy="817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ing 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8920" y="1015920"/>
            <a:ext cx="28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ology through 45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21120" y="1230480"/>
            <a:ext cx="1482840" cy="174456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0400" y="1336680"/>
            <a:ext cx="1482480" cy="17575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59320" y="1428840"/>
            <a:ext cx="1482840" cy="1770120"/>
          </a:xfrm>
          <a:prstGeom prst="rect">
            <a:avLst/>
          </a:prstGeom>
          <a:solidFill>
            <a:srgbClr val="8bff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/Physic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FT Synthesi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FT Rule 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42520" y="847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n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56240" y="1560600"/>
            <a:ext cx="101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11600" y="2455560"/>
            <a:ext cx="1600200" cy="1498680"/>
          </a:xfrm>
          <a:prstGeom prst="line">
            <a:avLst/>
          </a:prstGeom>
          <a:ln w="381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95880" y="3220920"/>
            <a:ext cx="0" cy="56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73720" y="3789360"/>
            <a:ext cx="1482480" cy="44460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64000" y="4226040"/>
            <a:ext cx="1482840" cy="444240"/>
          </a:xfrm>
          <a:prstGeom prst="rect">
            <a:avLst/>
          </a:prstGeom>
          <a:solidFill>
            <a:srgbClr val="586b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”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27080" y="4867200"/>
            <a:ext cx="1482840" cy="29232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968720"/>
            <a:ext cx="0" cy="4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9480" y="5405400"/>
            <a:ext cx="1565280" cy="934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ing Cl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60760" y="4675320"/>
            <a:ext cx="1482840" cy="291960"/>
          </a:xfrm>
          <a:prstGeom prst="rect">
            <a:avLst/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S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43480" y="3944880"/>
            <a:ext cx="182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 (BTS, R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48160" y="2914560"/>
            <a:ext cx="141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seudo-l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43400" y="33163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al l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39520" y="4730760"/>
            <a:ext cx="190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 (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(CMOS Che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62560" y="3784680"/>
            <a:ext cx="1485720" cy="8776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51400" y="4687920"/>
            <a:ext cx="1508040" cy="27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35000" y="3349800"/>
            <a:ext cx="1719360" cy="1508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3840" y="4846680"/>
            <a:ext cx="1497240" cy="30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25240" y="5607000"/>
            <a:ext cx="30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Timing across process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ld margin for reliability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63200" y="323532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3600" y="495144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of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3160" y="374976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86240" y="4535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13200" y="2125800"/>
            <a:ext cx="1482840" cy="8506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9760" y="2212920"/>
            <a:ext cx="1482840" cy="87624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64000" y="2301840"/>
            <a:ext cx="1482840" cy="88920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ck-Level F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T Synthe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FT Rule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6960" y="3772080"/>
            <a:ext cx="76320" cy="901440"/>
          </a:xfrm>
          <a:custGeom>
            <a:avLst/>
            <a:gdLst>
              <a:gd name="textAreaLeft" fmla="*/ 0 w 76320"/>
              <a:gd name="textAreaRight" fmla="*/ 27360 w 7632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94360" y="4699080"/>
            <a:ext cx="88920" cy="228600"/>
          </a:xfrm>
          <a:custGeom>
            <a:avLst/>
            <a:gdLst>
              <a:gd name="textAreaLeft" fmla="*/ 0 w 88920"/>
              <a:gd name="textAreaRight" fmla="*/ 32040 w 889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26560" y="1562040"/>
            <a:ext cx="927000" cy="1435320"/>
          </a:xfrm>
          <a:custGeom>
            <a:avLst/>
            <a:gdLst>
              <a:gd name="textAreaLeft" fmla="*/ 124200 w 927000"/>
              <a:gd name="textAreaRight" fmla="*/ 802800 w 927000"/>
              <a:gd name="textAreaTop" fmla="*/ 250920 h 1435320"/>
              <a:gd name="textAreaBottom" fmla="*/ 1040760 h 143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78344"/>
                <a:lnTo>
                  <a:pt x="7216" y="21166"/>
                </a:lnTo>
                <a:lnTo>
                  <a:pt x="0" y="17280"/>
                </a:lnTo>
                <a:lnTo>
                  <a:pt x="7216" y="12526"/>
                </a:lnTo>
                <a:lnTo>
                  <a:pt x="7216" y="14686"/>
                </a:lnTo>
                <a:arcTo wR="21600" hR="7560" stAng="2678344" swAng="-232090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bff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93600" y="1882800"/>
            <a:ext cx="149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er turn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wer hand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59680" y="1293840"/>
            <a:ext cx="101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86320" y="2284560"/>
            <a:ext cx="12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ence 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43200" y="4495680"/>
            <a:ext cx="1689120" cy="114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E65B-720E-459D-B8DC-82985870700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080" y="693360"/>
            <a:ext cx="880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otal DFT Synthesis Runtime – Comparison of 90k Flop Desig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84080" y="1476360"/>
          <a:ext cx="4588200" cy="20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476360"/>
                    <a:ext cx="45882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762120" y="3733920"/>
          <a:ext cx="6984720" cy="24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>
                    <a:alphaModFix amt="92000"/>
                  </a:blip>
                  <a:stretch/>
                </p:blipFill>
                <p:spPr>
                  <a:xfrm>
                    <a:off x="762120" y="3733920"/>
                    <a:ext cx="6984720" cy="2469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5426280" y="1839960"/>
            <a:ext cx="3768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909f9"/>
                </a:solidFill>
                <a:uFillTx/>
                <a:latin typeface="Arial"/>
              </a:rPr>
              <a:t>Improvements realized several 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ed handoff into DFT 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-of-Context block and top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wer steps (no LSSD clock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ion of netlist-level MBIST proces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tails discussed la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68D7-7022-4F38-ACEB-8B7AAD4325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32nm ASIC Mux-Scan Architecture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9600" y="1369800"/>
            <a:ext cx="804672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x-Scan Fl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kup latches to support domain crossings in scan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/DFT is inserted bottoms up (cores-&gt;RLMs-&gt;top), fully out-of-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MISR+ Compres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ling with cross-domain capture rac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 (on/off) control for each do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ncing supported at input to each domain (supports DC, AC and At-speed require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664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-step ATPG approach for pattern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6676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all domains at the same time with domain boundaries f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26676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all boundaries (unfenced) – grouping unrelated domains in each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BM and Cadence worked together to provide fully-automated fencing support in both RTL Compiler (insertion) and Encounter Test </a:t>
            </a:r>
            <a:br>
              <a:rPr sz="1800"/>
            </a:br>
            <a:r>
              <a:rPr b="1" i="1" lang="en-US" sz="1800" spc="-1" strike="noStrike">
                <a:solidFill>
                  <a:srgbClr val="0909f9"/>
                </a:solidFill>
                <a:latin typeface="Wingdings"/>
                <a:ea typeface="Wingdings"/>
              </a:rPr>
              <a:t></a:t>
            </a:r>
            <a:r>
              <a:rPr b="1" i="1" lang="en-US" sz="1800" spc="-1" strike="noStrike">
                <a:solidFill>
                  <a:srgbClr val="0909f9"/>
                </a:solidFill>
                <a:latin typeface="Arial"/>
              </a:rPr>
              <a:t> Automated Domain-Aware DFT insertion and ATPG</a:t>
            </a:r>
            <a:br>
              <a:rPr sz="1800"/>
            </a:br>
            <a:r>
              <a:rPr b="1" i="1" lang="en-US" sz="1800" spc="-1" strike="noStrike">
                <a:solidFill>
                  <a:srgbClr val="0909f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0523-1031-423A-AD27-718184B5F5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097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main-Aware DFT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Cloud"/>
          <p:cNvSpPr/>
          <p:nvPr/>
        </p:nvSpPr>
        <p:spPr>
          <a:xfrm>
            <a:off x="771480" y="4275000"/>
            <a:ext cx="2763720" cy="1827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loud"/>
          <p:cNvSpPr/>
          <p:nvPr/>
        </p:nvSpPr>
        <p:spPr>
          <a:xfrm>
            <a:off x="5981760" y="4255920"/>
            <a:ext cx="2763720" cy="1827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loud"/>
          <p:cNvSpPr/>
          <p:nvPr/>
        </p:nvSpPr>
        <p:spPr>
          <a:xfrm>
            <a:off x="3467160" y="3025800"/>
            <a:ext cx="2763720" cy="1771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96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160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082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446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732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654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018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40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30440" y="545940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2600" y="536724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467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831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753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117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039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403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325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689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611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97560" y="335448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9720" y="3262320"/>
            <a:ext cx="13644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706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074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992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7360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8278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646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564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932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850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21840" y="51213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513640" y="5029200"/>
            <a:ext cx="136800" cy="228600"/>
          </a:xfrm>
          <a:prstGeom prst="rect">
            <a:avLst/>
          </a:prstGeom>
          <a:solidFill>
            <a:srgbClr val="0909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45240" y="5548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/Out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26840" y="341460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/Out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93720" y="5224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/Out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68680" y="5011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60840" y="491976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7280" y="5011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491976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5880" y="5011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18040" y="491976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62160" y="4362480"/>
            <a:ext cx="138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71080" y="467208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35560" y="4435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27720" y="434340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64160" y="4435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56320" y="434340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92760" y="44355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84920" y="4343400"/>
            <a:ext cx="13644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23960" y="409572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9600" y="510228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51400" y="5010120"/>
            <a:ext cx="136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88200" y="510228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80000" y="5010120"/>
            <a:ext cx="136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16800" y="510228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8600" y="5010120"/>
            <a:ext cx="136800" cy="228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62200" y="4762440"/>
            <a:ext cx="110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L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75480" y="3817800"/>
            <a:ext cx="487080" cy="1106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9480" y="5173200"/>
            <a:ext cx="3132360" cy="26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227400" y="3664080"/>
            <a:ext cx="1123920" cy="117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3504960" y="4965480"/>
            <a:ext cx="2493720" cy="1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5181120" y="4478040"/>
            <a:ext cx="2273400" cy="22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408480" y="4495320"/>
            <a:ext cx="928440" cy="38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10240" y="3660840"/>
            <a:ext cx="742680" cy="276120"/>
          </a:xfrm>
          <a:custGeom>
            <a:avLst/>
            <a:gdLst>
              <a:gd name="textAreaLeft" fmla="*/ 129960 w 742680"/>
              <a:gd name="textAreaRight" fmla="*/ 538560 w 74268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634160" y="4698360"/>
            <a:ext cx="743040" cy="276120"/>
          </a:xfrm>
          <a:custGeom>
            <a:avLst/>
            <a:gdLst>
              <a:gd name="textAreaLeft" fmla="*/ 129960 w 743040"/>
              <a:gd name="textAreaRight" fmla="*/ 538920 w 74304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500120" y="5050800"/>
            <a:ext cx="743040" cy="276120"/>
          </a:xfrm>
          <a:custGeom>
            <a:avLst/>
            <a:gdLst>
              <a:gd name="textAreaLeft" fmla="*/ 129960 w 743040"/>
              <a:gd name="textAreaRight" fmla="*/ 538920 w 74304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0600" y="5838840"/>
            <a:ext cx="123840" cy="152280"/>
          </a:xfrm>
          <a:prstGeom prst="rect">
            <a:avLst/>
          </a:pr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08720" y="5746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ed during all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25920" y="6119640"/>
            <a:ext cx="123840" cy="15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13040" y="6041880"/>
            <a:ext cx="33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ed one domain/group at a time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517880" y="3148200"/>
            <a:ext cx="1170360" cy="39024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513560" y="3586320"/>
            <a:ext cx="1170000" cy="39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0309400">
            <a:off x="7605360" y="29858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(normal flo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0309400">
            <a:off x="7356960" y="338436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+ fencing (input flo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928800" y="1825200"/>
            <a:ext cx="5597280" cy="1800"/>
          </a:xfrm>
          <a:prstGeom prst="line">
            <a:avLst/>
          </a:prstGeom>
          <a:ln w="381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7640" y="163656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_clk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68480" y="2558880"/>
            <a:ext cx="27000" cy="176076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8520" y="2603520"/>
            <a:ext cx="14400" cy="168912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68600" y="3041280"/>
            <a:ext cx="679320" cy="1477800"/>
          </a:xfrm>
          <a:prstGeom prst="irregularSeal1">
            <a:avLst/>
          </a:pr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35680" y="3064680"/>
            <a:ext cx="679680" cy="1477440"/>
          </a:xfrm>
          <a:prstGeom prst="irregularSeal1">
            <a:avLst/>
          </a:prstGeom>
          <a:solidFill>
            <a:srgbClr val="090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914400" y="1620360"/>
            <a:ext cx="5997600" cy="11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7360" y="14749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_clk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68440" y="1812960"/>
            <a:ext cx="0" cy="19368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43200" y="1631880"/>
            <a:ext cx="0" cy="374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96160" y="1627200"/>
            <a:ext cx="0" cy="374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19720" y="1827360"/>
            <a:ext cx="0" cy="16488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738320" y="1631880"/>
            <a:ext cx="12600" cy="37476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17960" y="2616120"/>
            <a:ext cx="0" cy="45720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29320" y="1836720"/>
            <a:ext cx="0" cy="165240"/>
          </a:xfrm>
          <a:prstGeom prst="line">
            <a:avLst/>
          </a:prstGeom>
          <a:ln w="381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19320" y="1411200"/>
            <a:ext cx="0" cy="568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2040" y="1420920"/>
            <a:ext cx="0" cy="56808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24840" y="1415880"/>
            <a:ext cx="0" cy="5684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47160" y="113832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l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42640" y="113364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l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67000" y="114300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cl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6040" y="2036880"/>
            <a:ext cx="1287360" cy="520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Cloc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1560" y="2043360"/>
            <a:ext cx="1493640" cy="520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GD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80120" y="2052720"/>
            <a:ext cx="1494000" cy="52020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GD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70640" y="263376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T-tes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09280" y="2585880"/>
            <a:ext cx="119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T-test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90960" y="25383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S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4200" y="2284560"/>
            <a:ext cx="63828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37000" y="2293920"/>
            <a:ext cx="159516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04040" y="2289240"/>
            <a:ext cx="66816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670880" y="2284560"/>
            <a:ext cx="668160" cy="0"/>
          </a:xfrm>
          <a:prstGeom prst="line">
            <a:avLst/>
          </a:prstGeom>
          <a:ln w="19080">
            <a:solidFill>
              <a:srgbClr val="d1821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78480" y="2046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sidescan p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480" y="2478240"/>
            <a:ext cx="486000" cy="0"/>
          </a:xfrm>
          <a:prstGeom prst="line">
            <a:avLst/>
          </a:prstGeom>
          <a:ln w="1260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8640" y="241776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2120" y="2487600"/>
            <a:ext cx="486000" cy="0"/>
          </a:xfrm>
          <a:prstGeom prst="line">
            <a:avLst/>
          </a:prstGeom>
          <a:ln w="1260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54280" y="242712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84760" y="2482920"/>
            <a:ext cx="486000" cy="0"/>
          </a:xfrm>
          <a:prstGeom prst="line">
            <a:avLst/>
          </a:prstGeom>
          <a:ln w="1260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21320" y="22654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8213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C84E-8AAA-434A-AA38-0DCB9010E5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8041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veraging Domain Awareness in DFT Synthesis,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TPG and Timing Analysi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9360" y="2171880"/>
            <a:ext cx="546120" cy="39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360" y="2730600"/>
            <a:ext cx="546120" cy="39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9360" y="3365640"/>
            <a:ext cx="546120" cy="39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9360" y="3936960"/>
            <a:ext cx="546120" cy="393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9360" y="4533840"/>
            <a:ext cx="546120" cy="393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1600" y="1370160"/>
            <a:ext cx="82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9360" y="5181480"/>
            <a:ext cx="546120" cy="393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4600" y="5308560"/>
            <a:ext cx="177840" cy="16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93600" y="2324160"/>
            <a:ext cx="169920" cy="3073320"/>
          </a:xfrm>
          <a:custGeom>
            <a:avLst/>
            <a:gdLst>
              <a:gd name="textAreaLeft" fmla="*/ 0 w 169920"/>
              <a:gd name="textAreaRight" fmla="*/ 61200 w 169920"/>
              <a:gd name="textAreaTop" fmla="*/ 79920 h 3073320"/>
              <a:gd name="textAreaBottom" fmla="*/ 2993400 h 307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46040" y="3187800"/>
            <a:ext cx="1435320" cy="118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FT Synth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ock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25960" y="2387520"/>
            <a:ext cx="2298600" cy="11811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st Structur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rif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main A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dentifie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Domain Crossings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Fenced/Un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38560" y="4241880"/>
            <a:ext cx="2247840" cy="1727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Experi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ll domains/fenced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Force X for un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uped experiments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Test Unfenced/unrelat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xperiment for each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30720" y="35812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24000" y="3639960"/>
            <a:ext cx="2099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rom/to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fenced vs un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93960" y="334008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30720" y="3873600"/>
            <a:ext cx="622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657600"/>
            <a:ext cx="673200" cy="4698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75240" y="3886200"/>
            <a:ext cx="4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0920" y="3035160"/>
            <a:ext cx="2413080" cy="157500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all scan 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l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clude extende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oltage/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data within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ime data between 2 domains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only if not fully fen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363680" y="28306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TL Compi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24400" y="204300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ncounter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97200" y="267804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ins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55600" y="3860640"/>
            <a:ext cx="20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45800" y="5154480"/>
            <a:ext cx="1686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C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t-speed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C975-FB1A-430E-A520-9F4DB1F7F6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6210360" y="649440"/>
            <a:ext cx="685800" cy="1066680"/>
            <a:chOff x="6210360" y="649440"/>
            <a:chExt cx="685800" cy="1066680"/>
          </a:xfrm>
        </p:grpSpPr>
        <p:sp>
          <p:nvSpPr>
            <p:cNvPr id="305" name=""/>
            <p:cNvSpPr/>
            <p:nvPr/>
          </p:nvSpPr>
          <p:spPr>
            <a:xfrm>
              <a:off x="6210360" y="649440"/>
              <a:ext cx="685800" cy="106668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438960" y="14871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515280" y="14875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8115480" y="2935440"/>
            <a:ext cx="761400" cy="1066680"/>
            <a:chOff x="8115480" y="2935440"/>
            <a:chExt cx="761400" cy="1066680"/>
          </a:xfrm>
        </p:grpSpPr>
        <p:sp>
          <p:nvSpPr>
            <p:cNvPr id="309" name=""/>
            <p:cNvSpPr/>
            <p:nvPr/>
          </p:nvSpPr>
          <p:spPr>
            <a:xfrm>
              <a:off x="8115480" y="2935440"/>
              <a:ext cx="761400" cy="1066680"/>
            </a:xfrm>
            <a:prstGeom prst="rect">
              <a:avLst/>
            </a:prstGeom>
            <a:solidFill>
              <a:srgbClr val="788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8369280" y="3773160"/>
              <a:ext cx="8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453880" y="3773520"/>
              <a:ext cx="84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6896160" y="118260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loud"/>
          <p:cNvSpPr/>
          <p:nvPr/>
        </p:nvSpPr>
        <p:spPr>
          <a:xfrm>
            <a:off x="6972480" y="176364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29680" y="118260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29680" y="2401920"/>
            <a:ext cx="0" cy="7621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429680" y="316404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099640" y="302256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n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loud"/>
          <p:cNvSpPr/>
          <p:nvPr/>
        </p:nvSpPr>
        <p:spPr>
          <a:xfrm>
            <a:off x="4686480" y="445932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0909f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loud"/>
          <p:cNvSpPr/>
          <p:nvPr/>
        </p:nvSpPr>
        <p:spPr>
          <a:xfrm>
            <a:off x="4686480" y="206856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loud"/>
          <p:cNvSpPr/>
          <p:nvPr/>
        </p:nvSpPr>
        <p:spPr>
          <a:xfrm>
            <a:off x="1943280" y="3211560"/>
            <a:ext cx="1028520" cy="638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86080" y="354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33640" y="3544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72080" y="3530520"/>
            <a:ext cx="0" cy="115740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72080" y="240192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72080" y="4687920"/>
            <a:ext cx="914400" cy="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53160" y="2401920"/>
            <a:ext cx="762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515280" y="17157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76840" y="4687920"/>
            <a:ext cx="2743200" cy="0"/>
          </a:xfrm>
          <a:prstGeom prst="line">
            <a:avLst/>
          </a:prstGeom>
          <a:ln w="9360">
            <a:solidFill>
              <a:srgbClr val="090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8420040" y="4001760"/>
            <a:ext cx="0" cy="685800"/>
          </a:xfrm>
          <a:prstGeom prst="line">
            <a:avLst/>
          </a:prstGeom>
          <a:ln w="9360">
            <a:solidFill>
              <a:srgbClr val="0909f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43280" y="3849840"/>
            <a:ext cx="1180800" cy="405720"/>
            <a:chOff x="1943280" y="3849840"/>
            <a:chExt cx="1180800" cy="405720"/>
          </a:xfrm>
        </p:grpSpPr>
        <p:sp>
          <p:nvSpPr>
            <p:cNvPr id="331" name=""/>
            <p:cNvSpPr/>
            <p:nvPr/>
          </p:nvSpPr>
          <p:spPr>
            <a:xfrm>
              <a:off x="1943280" y="3889440"/>
              <a:ext cx="259200" cy="2282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28760" y="3849840"/>
              <a:ext cx="895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991040" y="5145120"/>
            <a:ext cx="1097640" cy="405720"/>
            <a:chOff x="4991040" y="5145120"/>
            <a:chExt cx="1097640" cy="405720"/>
          </a:xfrm>
        </p:grpSpPr>
        <p:sp>
          <p:nvSpPr>
            <p:cNvPr id="334" name=""/>
            <p:cNvSpPr/>
            <p:nvPr/>
          </p:nvSpPr>
          <p:spPr>
            <a:xfrm>
              <a:off x="4991040" y="5185080"/>
              <a:ext cx="25668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66440" y="5145120"/>
              <a:ext cx="822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cap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991040" y="2720880"/>
            <a:ext cx="1041840" cy="405720"/>
            <a:chOff x="4991040" y="2720880"/>
            <a:chExt cx="1041840" cy="405720"/>
          </a:xfrm>
        </p:grpSpPr>
        <p:sp>
          <p:nvSpPr>
            <p:cNvPr id="337" name=""/>
            <p:cNvSpPr/>
            <p:nvPr/>
          </p:nvSpPr>
          <p:spPr>
            <a:xfrm>
              <a:off x="4991040" y="2760840"/>
              <a:ext cx="25776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62480" y="2720880"/>
              <a:ext cx="77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115480" y="1868400"/>
            <a:ext cx="647280" cy="368280"/>
            <a:chOff x="8115480" y="1868400"/>
            <a:chExt cx="647280" cy="368280"/>
          </a:xfrm>
        </p:grpSpPr>
        <p:sp>
          <p:nvSpPr>
            <p:cNvPr id="340" name=""/>
            <p:cNvSpPr/>
            <p:nvPr/>
          </p:nvSpPr>
          <p:spPr>
            <a:xfrm>
              <a:off x="8115480" y="1908360"/>
              <a:ext cx="34020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429760" y="1868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V="1">
            <a:off x="3772080" y="23871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2280" y="5348160"/>
            <a:ext cx="87631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Scan Hold Timing Requirem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launch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+ X(CLK-&gt;Q) +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909f9"/>
                </a:solidFill>
                <a:latin typeface="Arial"/>
              </a:rPr>
              <a:t>capture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 + Y(Hol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Margin Appli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ly_Margin *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( C</a:t>
            </a:r>
            <a:r>
              <a:rPr b="0" lang="en-US" sz="1600" spc="-1" strike="noStrike" baseline="-25000">
                <a:solidFill>
                  <a:srgbClr val="ff3300"/>
                </a:solidFill>
                <a:latin typeface="Arial"/>
              </a:rPr>
              <a:t>launch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+ X(CLK-&gt;Q) + S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Late_Margin 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* ( C</a:t>
            </a:r>
            <a:r>
              <a:rPr b="0" lang="en-US" sz="1600" spc="-1" strike="noStrike" baseline="-25000">
                <a:solidFill>
                  <a:srgbClr val="0909f9"/>
                </a:solidFill>
                <a:latin typeface="Arial"/>
              </a:rPr>
              <a:t>capture</a:t>
            </a:r>
            <a:r>
              <a:rPr b="0" lang="en-US" sz="1600" spc="-1" strike="noStrike">
                <a:solidFill>
                  <a:srgbClr val="0909f9"/>
                </a:solidFill>
                <a:latin typeface="Arial"/>
              </a:rPr>
              <a:t> + Y(Hold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364440" y="900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29680" y="32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8360" y="582480"/>
            <a:ext cx="51382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909f9"/>
                </a:solidFill>
                <a:latin typeface="Arial"/>
              </a:rPr>
              <a:t>Early and Late Margins applied to Scan Chai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ynamic Voltage Screen (DVS) and Burn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 Voltage Stress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94760" y="2373480"/>
            <a:ext cx="58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7360" y="4202280"/>
            <a:ext cx="5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3E20-10B4-4893-9471-0F8A5B5D54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6:30:14Z</dcterms:created>
  <dc:creator>IBM_USER</dc:creator>
  <dc:description/>
  <dc:language>en-US</dc:language>
  <cp:lastModifiedBy>Davis Lackey</cp:lastModifiedBy>
  <dcterms:modified xsi:type="dcterms:W3CDTF">2010-05-06T20:00:58Z</dcterms:modified>
  <cp:revision>2229</cp:revision>
  <dc:subject/>
  <dc:title>P7 Nest Concept Review   Physical Design </dc:title>
</cp:coreProperties>
</file>