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45720000"/>
  <p:notesSz cx="20562888" cy="2859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288032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24549120"/>
            <a:ext cx="288032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35912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2454912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359120" y="2454912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338560" y="1069848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076920" y="1069848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2454912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338560" y="2454912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1076920" y="24549120"/>
            <a:ext cx="927432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10698480"/>
            <a:ext cx="288032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75"/>
              </a:spcBef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288032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140558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359120" y="10698480"/>
            <a:ext cx="140558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1824120"/>
            <a:ext cx="28803240" cy="353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75"/>
              </a:spcBef>
              <a:tabLst>
                <a:tab algn="l" pos="0"/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359120" y="10698480"/>
            <a:ext cx="140558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2454912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14055840" cy="2651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35912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359120" y="2454912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824120"/>
            <a:ext cx="28803240" cy="76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41680"/>
                <a:tab algn="l" pos="8883720"/>
              </a:tabLst>
            </a:pPr>
            <a:endParaRPr b="0" lang="en-US" sz="2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359120" y="10698480"/>
            <a:ext cx="140558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24549120"/>
            <a:ext cx="28803240" cy="12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875"/>
              </a:spcBef>
              <a:buNone/>
              <a:tabLst>
                <a:tab algn="l" pos="4441680"/>
                <a:tab algn="l" pos="8883720"/>
              </a:tabLst>
            </a:pPr>
            <a:endParaRPr b="0" lang="en-US" sz="1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arte"/>
          <p:cNvPicPr/>
          <p:nvPr/>
        </p:nvPicPr>
        <p:blipFill>
          <a:blip r:embed="rId2"/>
          <a:stretch/>
        </p:blipFill>
        <p:spPr>
          <a:xfrm>
            <a:off x="0" y="0"/>
            <a:ext cx="32004000" cy="23539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arte"/>
          <p:cNvPicPr/>
          <p:nvPr/>
        </p:nvPicPr>
        <p:blipFill>
          <a:blip r:embed="rId3"/>
          <a:stretch/>
        </p:blipFill>
        <p:spPr>
          <a:xfrm>
            <a:off x="0" y="22987080"/>
            <a:ext cx="32004000" cy="22840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609480" y="495360"/>
            <a:ext cx="309373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"/>
              </a:rPr>
              <a:t>Hardware/Software co-design experience for onboard satellite navigation recei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8" descr="LogoTESA_VersionFinale"/>
          <p:cNvPicPr/>
          <p:nvPr/>
        </p:nvPicPr>
        <p:blipFill>
          <a:blip r:embed="rId4"/>
          <a:stretch/>
        </p:blipFill>
        <p:spPr>
          <a:xfrm>
            <a:off x="25495200" y="40757400"/>
            <a:ext cx="5213520" cy="496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http://lester.univ-ubs.fr/templates/labsticcTmpl15/images/labsticc.png"/>
          <p:cNvPicPr/>
          <p:nvPr/>
        </p:nvPicPr>
        <p:blipFill>
          <a:blip r:embed="rId5"/>
          <a:stretch/>
        </p:blipFill>
        <p:spPr>
          <a:xfrm>
            <a:off x="9416880" y="42378480"/>
            <a:ext cx="6126480" cy="280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38" descr="C:\These\Articles\2007 ION\Présentation\Logo-couleur-400.gif"/>
          <p:cNvPicPr/>
          <p:nvPr/>
        </p:nvPicPr>
        <p:blipFill>
          <a:blip r:embed="rId6"/>
          <a:stretch/>
        </p:blipFill>
        <p:spPr>
          <a:xfrm>
            <a:off x="17010000" y="41738400"/>
            <a:ext cx="6650280" cy="35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0" y="41897160"/>
            <a:ext cx="7539120" cy="321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7201080"/>
            <a:ext cx="1692900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8560" y="35750520"/>
            <a:ext cx="18910080" cy="529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3440" y="26047800"/>
            <a:ext cx="19596240" cy="842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61120" y="17043480"/>
            <a:ext cx="10261800" cy="613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6120" y="13614480"/>
            <a:ext cx="17996040" cy="1123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62040" y="3817800"/>
            <a:ext cx="1939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 Dio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(arnaud.dion@isae.f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. Boutillo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V. Calmettes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E. Liegeo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versité de Toulouse, ISAE, 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-STICC, 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les Alenia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14680" y="6477120"/>
            <a:ext cx="369540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36760" y="13119120"/>
            <a:ext cx="369576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8694440" y="6108840"/>
            <a:ext cx="11633040" cy="9600840"/>
            <a:chOff x="18694440" y="6108840"/>
            <a:chExt cx="11633040" cy="9600840"/>
          </a:xfrm>
        </p:grpSpPr>
        <p:sp>
          <p:nvSpPr>
            <p:cNvPr id="52" name=""/>
            <p:cNvSpPr/>
            <p:nvPr/>
          </p:nvSpPr>
          <p:spPr>
            <a:xfrm>
              <a:off x="18694440" y="6593760"/>
              <a:ext cx="11633040" cy="9115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20275560" y="8097120"/>
              <a:ext cx="8523720" cy="61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égende encadrée 2 5"/>
            <p:cNvSpPr/>
            <p:nvPr/>
          </p:nvSpPr>
          <p:spPr>
            <a:xfrm flipH="1">
              <a:off x="26100000" y="7038720"/>
              <a:ext cx="2325960" cy="1533600"/>
            </a:xfrm>
            <a:prstGeom prst="borderCallout2">
              <a:avLst>
                <a:gd name="adj1" fmla="val 18750"/>
                <a:gd name="adj2" fmla="val -8333"/>
                <a:gd name="adj3" fmla="val 10666"/>
                <a:gd name="adj4" fmla="val 113402"/>
                <a:gd name="adj5" fmla="val 111111"/>
                <a:gd name="adj6" fmla="val 181569"/>
              </a:avLst>
            </a:prstGeom>
            <a:solidFill>
              <a:srgbClr val="ccffff"/>
            </a:solidFill>
            <a:ln w="25560">
              <a:solidFill>
                <a:srgbClr val="1718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GPS  and Galile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57 sa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égende encadrée 2 6"/>
            <p:cNvSpPr/>
            <p:nvPr/>
          </p:nvSpPr>
          <p:spPr>
            <a:xfrm flipH="1">
              <a:off x="19046160" y="13897080"/>
              <a:ext cx="2493000" cy="1125000"/>
            </a:xfrm>
            <a:prstGeom prst="borderCallout2">
              <a:avLst>
                <a:gd name="adj1" fmla="val 18750"/>
                <a:gd name="adj2" fmla="val -8333"/>
                <a:gd name="adj3" fmla="val 14541"/>
                <a:gd name="adj4" fmla="val -36217"/>
                <a:gd name="adj5" fmla="val -195152"/>
                <a:gd name="adj6" fmla="val -110537"/>
              </a:avLst>
            </a:prstGeom>
            <a:solidFill>
              <a:srgbClr val="ccffff"/>
            </a:solidFill>
            <a:ln w="25560">
              <a:solidFill>
                <a:srgbClr val="1718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LEO sa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Spot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9720" y="13743000"/>
              <a:ext cx="2421000" cy="1238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79" y="2854"/>
                  </a:moveTo>
                  <a:lnTo>
                    <a:pt x="25774" y="2854"/>
                  </a:lnTo>
                  <a:lnTo>
                    <a:pt x="25774" y="-16091"/>
                  </a:lnTo>
                  <a:lnTo>
                    <a:pt x="12868" y="-28219"/>
                  </a:lnTo>
                </a:path>
              </a:pathLst>
            </a:custGeom>
            <a:solidFill>
              <a:srgbClr val="ccffff"/>
            </a:solidFill>
            <a:ln w="25560">
              <a:solidFill>
                <a:srgbClr val="1718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GEO Sa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Meteosat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72360" y="6108840"/>
              <a:ext cx="3295800" cy="10396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ase stud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561400" y="16205040"/>
            <a:ext cx="403848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28800" y="15163920"/>
            <a:ext cx="12925080" cy="8891280"/>
            <a:chOff x="928800" y="15163920"/>
            <a:chExt cx="12925080" cy="8891280"/>
          </a:xfrm>
        </p:grpSpPr>
        <p:sp>
          <p:nvSpPr>
            <p:cNvPr id="60" name="Ellipse 12"/>
            <p:cNvSpPr/>
            <p:nvPr/>
          </p:nvSpPr>
          <p:spPr>
            <a:xfrm>
              <a:off x="3918960" y="15163920"/>
              <a:ext cx="4305240" cy="1416960"/>
            </a:xfrm>
            <a:prstGeom prst="ellipse">
              <a:avLst/>
            </a:prstGeom>
            <a:solidFill>
              <a:srgbClr val="b3ffb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Algorithm specific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Ellipse 13"/>
            <p:cNvSpPr/>
            <p:nvPr/>
          </p:nvSpPr>
          <p:spPr>
            <a:xfrm>
              <a:off x="9549000" y="17407080"/>
              <a:ext cx="4304880" cy="151020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Platform defini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Ellipse 14"/>
            <p:cNvSpPr/>
            <p:nvPr/>
          </p:nvSpPr>
          <p:spPr>
            <a:xfrm>
              <a:off x="6788880" y="19885680"/>
              <a:ext cx="4305240" cy="151164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Mapp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Ellipse 15"/>
            <p:cNvSpPr/>
            <p:nvPr/>
          </p:nvSpPr>
          <p:spPr>
            <a:xfrm>
              <a:off x="3147120" y="17052480"/>
              <a:ext cx="5850360" cy="2125080"/>
            </a:xfrm>
            <a:prstGeom prst="ellipse">
              <a:avLst/>
            </a:prstGeom>
            <a:solidFill>
              <a:srgbClr val="ffcc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Modules cod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Communic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Ellipse 16"/>
            <p:cNvSpPr/>
            <p:nvPr/>
          </p:nvSpPr>
          <p:spPr>
            <a:xfrm>
              <a:off x="6265080" y="21892680"/>
              <a:ext cx="5353920" cy="151164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71851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onnecteur droit avec flèche 17"/>
            <p:cNvCxnSpPr>
              <a:stCxn id="60" idx="4"/>
              <a:endCxn id="63" idx="0"/>
            </p:cNvCxnSpPr>
            <p:nvPr/>
          </p:nvCxnSpPr>
          <p:spPr>
            <a:xfrm>
              <a:off x="6071760" y="16580880"/>
              <a:ext cx="1080" cy="471960"/>
            </a:xfrm>
            <a:prstGeom prst="straightConnector1">
              <a:avLst/>
            </a:prstGeom>
            <a:ln w="38160">
              <a:solidFill>
                <a:srgbClr val="292a7e"/>
              </a:solidFill>
              <a:miter/>
              <a:tailEnd len="med" type="arrow" w="med"/>
            </a:ln>
          </p:spPr>
        </p:cxnSp>
        <p:cxnSp>
          <p:nvCxnSpPr>
            <p:cNvPr id="66" name="Connecteur droit avec flèche 18"/>
            <p:cNvCxnSpPr>
              <a:stCxn id="63" idx="4"/>
              <a:endCxn id="62" idx="0"/>
            </p:cNvCxnSpPr>
            <p:nvPr/>
          </p:nvCxnSpPr>
          <p:spPr>
            <a:xfrm>
              <a:off x="6072480" y="19177560"/>
              <a:ext cx="2869560" cy="708480"/>
            </a:xfrm>
            <a:prstGeom prst="straightConnector1">
              <a:avLst/>
            </a:prstGeom>
            <a:ln w="38160">
              <a:solidFill>
                <a:srgbClr val="292a7e"/>
              </a:solidFill>
              <a:miter/>
              <a:tailEnd len="med" type="arrow" w="med"/>
            </a:ln>
          </p:spPr>
        </p:cxnSp>
        <p:cxnSp>
          <p:nvCxnSpPr>
            <p:cNvPr id="67" name="Connecteur droit avec flèche 19"/>
            <p:cNvCxnSpPr>
              <a:stCxn id="61" idx="4"/>
              <a:endCxn id="62" idx="0"/>
            </p:cNvCxnSpPr>
            <p:nvPr/>
          </p:nvCxnSpPr>
          <p:spPr>
            <a:xfrm flipH="1">
              <a:off x="8941680" y="18917280"/>
              <a:ext cx="2760120" cy="968760"/>
            </a:xfrm>
            <a:prstGeom prst="straightConnector1">
              <a:avLst/>
            </a:prstGeom>
            <a:ln w="38160">
              <a:solidFill>
                <a:srgbClr val="292a7e"/>
              </a:solidFill>
              <a:miter/>
              <a:tailEnd len="med" type="arrow" w="med"/>
            </a:ln>
          </p:spPr>
        </p:cxnSp>
        <p:cxnSp>
          <p:nvCxnSpPr>
            <p:cNvPr id="68" name="Connecteur droit avec flèche 20"/>
            <p:cNvCxnSpPr>
              <a:stCxn id="62" idx="4"/>
              <a:endCxn id="64" idx="0"/>
            </p:cNvCxnSpPr>
            <p:nvPr/>
          </p:nvCxnSpPr>
          <p:spPr>
            <a:xfrm>
              <a:off x="8941680" y="21397320"/>
              <a:ext cx="720" cy="495720"/>
            </a:xfrm>
            <a:prstGeom prst="straightConnector1">
              <a:avLst/>
            </a:prstGeom>
            <a:ln w="38160">
              <a:solidFill>
                <a:srgbClr val="292a7e"/>
              </a:solidFill>
              <a:miter/>
              <a:tailEnd len="med" type="arrow" w="med"/>
            </a:ln>
          </p:spPr>
        </p:cxnSp>
        <p:sp>
          <p:nvSpPr>
            <p:cNvPr id="69" name="ZoneTexte 56"/>
            <p:cNvSpPr/>
            <p:nvPr/>
          </p:nvSpPr>
          <p:spPr>
            <a:xfrm>
              <a:off x="8448120" y="15400080"/>
              <a:ext cx="43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timed function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ZoneTexte 57"/>
            <p:cNvSpPr/>
            <p:nvPr/>
          </p:nvSpPr>
          <p:spPr>
            <a:xfrm>
              <a:off x="1513080" y="16653240"/>
              <a:ext cx="513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ycle approxima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ZoneTexte 58"/>
            <p:cNvSpPr/>
            <p:nvPr/>
          </p:nvSpPr>
          <p:spPr>
            <a:xfrm>
              <a:off x="2384280" y="19602000"/>
              <a:ext cx="4246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ycle approximat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ycle tr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à coins arrondis 60"/>
            <p:cNvSpPr/>
            <p:nvPr/>
          </p:nvSpPr>
          <p:spPr>
            <a:xfrm>
              <a:off x="928800" y="23227920"/>
              <a:ext cx="5077080" cy="827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ystemC Langu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orme libre 71"/>
            <p:cNvSpPr/>
            <p:nvPr/>
          </p:nvSpPr>
          <p:spPr>
            <a:xfrm>
              <a:off x="7135200" y="16477920"/>
              <a:ext cx="413640" cy="6296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268515" h="381000">
                  <a:moveTo>
                    <a:pt x="0" y="381000"/>
                  </a:moveTo>
                  <a:cubicBezTo>
                    <a:pt x="116114" y="309336"/>
                    <a:pt x="232229" y="237672"/>
                    <a:pt x="250372" y="174172"/>
                  </a:cubicBezTo>
                  <a:cubicBezTo>
                    <a:pt x="268515" y="110672"/>
                    <a:pt x="83457" y="23586"/>
                    <a:pt x="108857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orme libre 72"/>
            <p:cNvSpPr/>
            <p:nvPr/>
          </p:nvSpPr>
          <p:spPr>
            <a:xfrm>
              <a:off x="9769680" y="21303000"/>
              <a:ext cx="413640" cy="63000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268515" h="381000">
                  <a:moveTo>
                    <a:pt x="0" y="381000"/>
                  </a:moveTo>
                  <a:cubicBezTo>
                    <a:pt x="116114" y="309336"/>
                    <a:pt x="232229" y="237672"/>
                    <a:pt x="250372" y="174172"/>
                  </a:cubicBezTo>
                  <a:cubicBezTo>
                    <a:pt x="268515" y="110672"/>
                    <a:pt x="83457" y="23586"/>
                    <a:pt x="108857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orme libre 73"/>
            <p:cNvSpPr/>
            <p:nvPr/>
          </p:nvSpPr>
          <p:spPr>
            <a:xfrm>
              <a:off x="11094120" y="18941040"/>
              <a:ext cx="2097720" cy="1653840"/>
            </a:xfrm>
            <a:custGeom>
              <a:avLst/>
              <a:gdLst>
                <a:gd name="textAreaLeft" fmla="*/ 0 w 2097720"/>
                <a:gd name="textAreaRight" fmla="*/ 2098080 w 209772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268515" h="381000">
                  <a:moveTo>
                    <a:pt x="0" y="381000"/>
                  </a:moveTo>
                  <a:cubicBezTo>
                    <a:pt x="116114" y="309336"/>
                    <a:pt x="232229" y="237672"/>
                    <a:pt x="250372" y="174172"/>
                  </a:cubicBezTo>
                  <a:cubicBezTo>
                    <a:pt x="268515" y="110672"/>
                    <a:pt x="83457" y="23586"/>
                    <a:pt x="108857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orme libre 74"/>
            <p:cNvSpPr/>
            <p:nvPr/>
          </p:nvSpPr>
          <p:spPr>
            <a:xfrm flipH="1">
              <a:off x="4801320" y="19177560"/>
              <a:ext cx="2017080" cy="1369800"/>
            </a:xfrm>
            <a:custGeom>
              <a:avLst/>
              <a:gdLst>
                <a:gd name="textAreaLeft" fmla="*/ -360 w 2017080"/>
                <a:gd name="textAreaRight" fmla="*/ 2017080 w 2017080"/>
                <a:gd name="textAreaTop" fmla="*/ 0 h 1369800"/>
                <a:gd name="textAreaBottom" fmla="*/ 1370160 h 1369800"/>
              </a:gdLst>
              <a:ahLst/>
              <a:rect l="textAreaLeft" t="textAreaTop" r="textAreaRight" b="textAreaBottom"/>
              <a:pathLst>
                <a:path w="268515" h="381000">
                  <a:moveTo>
                    <a:pt x="0" y="381000"/>
                  </a:moveTo>
                  <a:cubicBezTo>
                    <a:pt x="116114" y="309336"/>
                    <a:pt x="232229" y="237672"/>
                    <a:pt x="250372" y="174172"/>
                  </a:cubicBezTo>
                  <a:cubicBezTo>
                    <a:pt x="268515" y="110672"/>
                    <a:pt x="83457" y="23586"/>
                    <a:pt x="108857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ZoneTexte 75"/>
            <p:cNvSpPr/>
            <p:nvPr/>
          </p:nvSpPr>
          <p:spPr>
            <a:xfrm>
              <a:off x="7676280" y="16344720"/>
              <a:ext cx="200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Refin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62160" y="15597720"/>
              <a:ext cx="0" cy="7510320"/>
            </a:xfrm>
            <a:prstGeom prst="line">
              <a:avLst/>
            </a:prstGeom>
            <a:ln w="12708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ZoneTexte 58"/>
            <p:cNvSpPr/>
            <p:nvPr/>
          </p:nvSpPr>
          <p:spPr>
            <a:xfrm>
              <a:off x="3533040" y="22327920"/>
              <a:ext cx="25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ycle tr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3090680" y="15827400"/>
            <a:ext cx="6432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C+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icrosof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ce Studi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pace Codesig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tapul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ntor 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entor Graph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ilin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contenu 2"/>
          <p:cNvSpPr/>
          <p:nvPr/>
        </p:nvSpPr>
        <p:spPr>
          <a:xfrm>
            <a:off x="20013480" y="17411760"/>
            <a:ext cx="97552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of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, direc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Granular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imation of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at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53640" y="24460200"/>
            <a:ext cx="8775720" cy="727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198680" y="25731720"/>
            <a:ext cx="7744680" cy="5412240"/>
            <a:chOff x="22198680" y="25731720"/>
            <a:chExt cx="7744680" cy="54122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3053680" y="26605440"/>
              <a:ext cx="5559840" cy="36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flipV="1">
              <a:off x="23053680" y="26435160"/>
              <a:ext cx="0" cy="3869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98680" y="27600120"/>
              <a:ext cx="1477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00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0840" y="2573172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053680" y="30331800"/>
              <a:ext cx="5951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421680" y="30389040"/>
              <a:ext cx="124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99320" y="30219480"/>
              <a:ext cx="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946400" y="27397080"/>
              <a:ext cx="19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858520" y="30501360"/>
              <a:ext cx="15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5m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37000" y="25817400"/>
              <a:ext cx="190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moun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516680" y="27366840"/>
              <a:ext cx="19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516680" y="28890000"/>
              <a:ext cx="195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724760" y="27002880"/>
              <a:ext cx="121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.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24760" y="28526400"/>
              <a:ext cx="121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.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8615680" y="26519400"/>
              <a:ext cx="0" cy="3785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6116560" y="26407800"/>
              <a:ext cx="0" cy="38937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3866920" y="26435520"/>
              <a:ext cx="0" cy="389592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5258320" y="26435520"/>
              <a:ext cx="0" cy="389592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1615480" y="24003000"/>
            <a:ext cx="403848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66840" y="26497080"/>
            <a:ext cx="8981640" cy="7538040"/>
            <a:chOff x="2166840" y="26497080"/>
            <a:chExt cx="8981640" cy="7538040"/>
          </a:xfrm>
        </p:grpSpPr>
        <p:sp>
          <p:nvSpPr>
            <p:cNvPr id="104" name=""/>
            <p:cNvSpPr/>
            <p:nvPr/>
          </p:nvSpPr>
          <p:spPr>
            <a:xfrm>
              <a:off x="8242200" y="27422280"/>
              <a:ext cx="2816640" cy="260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8320" y="30515400"/>
              <a:ext cx="8628120" cy="481320"/>
            </a:xfrm>
            <a:prstGeom prst="rect">
              <a:avLst/>
            </a:prstGeom>
            <a:solidFill>
              <a:srgbClr val="ead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PB B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8160" y="29453400"/>
              <a:ext cx="1409400" cy="579960"/>
            </a:xfrm>
            <a:prstGeom prst="rect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6120" y="31483440"/>
              <a:ext cx="1760040" cy="579600"/>
            </a:xfrm>
            <a:prstGeom prst="rect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Correlat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6640" y="31483440"/>
              <a:ext cx="1727640" cy="581400"/>
            </a:xfrm>
            <a:prstGeom prst="rect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4040" y="28799280"/>
              <a:ext cx="2587320" cy="460080"/>
            </a:xfrm>
            <a:prstGeom prst="rect">
              <a:avLst/>
            </a:prstGeom>
            <a:solidFill>
              <a:srgbClr val="ffee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6440" y="28198080"/>
              <a:ext cx="2410920" cy="481680"/>
            </a:xfrm>
            <a:prstGeom prst="rect">
              <a:avLst/>
            </a:prstGeom>
            <a:solidFill>
              <a:srgbClr val="ffee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40840" y="29453400"/>
              <a:ext cx="1515960" cy="579960"/>
            </a:xfrm>
            <a:prstGeom prst="rect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70680" y="31386960"/>
              <a:ext cx="1917720" cy="77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SDRAM controll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8040" y="32256720"/>
              <a:ext cx="1935000" cy="773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</a:rPr>
                <a:t>Flash controll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3760" y="32644800"/>
              <a:ext cx="1760760" cy="581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Q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39760" y="28195920"/>
              <a:ext cx="1409400" cy="75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RI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948520" y="29319480"/>
              <a:ext cx="1569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µC/OS-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45680" y="27422280"/>
              <a:ext cx="1143360" cy="251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45680" y="26497080"/>
              <a:ext cx="22899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fr-FR" sz="2800" spc="-1" strike="noStrike">
                  <a:solidFill>
                    <a:srgbClr val="000000"/>
                  </a:solidFill>
                  <a:latin typeface="Arial"/>
                </a:rPr>
                <a:t>RF Fronte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91200" y="28098000"/>
              <a:ext cx="351000" cy="4813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947080" y="27567000"/>
              <a:ext cx="1496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µBlaz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88760" y="32256720"/>
              <a:ext cx="1762560" cy="579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6840" y="27326520"/>
              <a:ext cx="8981640" cy="599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7600" y="33442200"/>
              <a:ext cx="6728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8680" y="33514560"/>
              <a:ext cx="1143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87720" y="33514560"/>
              <a:ext cx="15836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863640"/>
                  <a:tab algn="l" pos="1727280"/>
                  <a:tab algn="l" pos="2590920"/>
                  <a:tab algn="l" pos="3454560"/>
                  <a:tab algn="l" pos="4317840"/>
                  <a:tab algn="l" pos="5181480"/>
                  <a:tab algn="l" pos="6045120"/>
                  <a:tab algn="l" pos="6908760"/>
                  <a:tab algn="l" pos="7772400"/>
                  <a:tab algn="l" pos="8636040"/>
                  <a:tab algn="l" pos="9499680"/>
                  <a:tab algn="l" pos="1036332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SDRA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99120" y="27132120"/>
              <a:ext cx="0" cy="23212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7520" y="32836680"/>
              <a:ext cx="0" cy="67752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06440" y="33030720"/>
              <a:ext cx="0" cy="4838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092600" y="32160960"/>
              <a:ext cx="0" cy="13532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87800" y="2880144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25400"/>
                  <a:tab algn="l" pos="1450800"/>
                  <a:tab algn="l" pos="2176560"/>
                  <a:tab algn="l" pos="2901960"/>
                  <a:tab algn="l" pos="3627360"/>
                  <a:tab algn="l" pos="4352760"/>
                  <a:tab algn="l" pos="5078520"/>
                  <a:tab algn="l" pos="5803920"/>
                  <a:tab algn="l" pos="6529320"/>
                  <a:tab algn="l" pos="7254720"/>
                  <a:tab algn="l" pos="7980480"/>
                  <a:tab algn="l" pos="8705880"/>
                  <a:tab algn="l" pos="9431280"/>
                  <a:tab algn="l" pos="10156680"/>
                  <a:tab algn="l" pos="108824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F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2720" y="31001400"/>
              <a:ext cx="0" cy="48168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3360" y="30033720"/>
              <a:ext cx="0" cy="48168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23760" y="30033720"/>
              <a:ext cx="0" cy="48168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17920" y="31001400"/>
              <a:ext cx="0" cy="48168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26560" y="31001400"/>
              <a:ext cx="0" cy="38556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51960" y="30033720"/>
              <a:ext cx="0" cy="48168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67520" y="31001400"/>
              <a:ext cx="0" cy="125532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30040" y="31001400"/>
              <a:ext cx="0" cy="1255320"/>
            </a:xfrm>
            <a:prstGeom prst="line">
              <a:avLst/>
            </a:prstGeom>
            <a:ln w="31680">
              <a:solidFill>
                <a:srgbClr val="cc99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04000" y="28969560"/>
              <a:ext cx="0" cy="481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5280" y="28969560"/>
              <a:ext cx="0" cy="481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7920" y="32063040"/>
              <a:ext cx="0" cy="581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69680" y="30928680"/>
              <a:ext cx="186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25400"/>
                  <a:tab algn="l" pos="1450800"/>
                  <a:tab algn="l" pos="2176560"/>
                  <a:tab algn="l" pos="2901960"/>
                  <a:tab algn="l" pos="3627360"/>
                  <a:tab algn="l" pos="4352760"/>
                  <a:tab algn="l" pos="5078520"/>
                  <a:tab algn="l" pos="5803920"/>
                  <a:tab algn="l" pos="6529320"/>
                  <a:tab algn="l" pos="7254720"/>
                  <a:tab algn="l" pos="7980480"/>
                  <a:tab algn="l" pos="8705880"/>
                  <a:tab algn="l" pos="9431280"/>
                  <a:tab algn="l" pos="10156680"/>
                  <a:tab algn="l" pos="108824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219640" y="25514280"/>
            <a:ext cx="403884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878120" y="36703080"/>
          <a:ext cx="11336400" cy="3838320"/>
        </p:xfrm>
        <a:graphic>
          <a:graphicData uri="http://schemas.openxmlformats.org/drawingml/2006/table">
            <a:tbl>
              <a:tblPr/>
              <a:tblGrid>
                <a:gridCol w="3836160"/>
                <a:gridCol w="1998720"/>
                <a:gridCol w="1999440"/>
                <a:gridCol w="1499040"/>
                <a:gridCol w="200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c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modu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form I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4650920" y="36269640"/>
            <a:ext cx="4395960" cy="1981080"/>
          </a:xfrm>
          <a:prstGeom prst="borderCallout2">
            <a:avLst>
              <a:gd name="adj1" fmla="val 18750"/>
              <a:gd name="adj2" fmla="val -8333"/>
              <a:gd name="adj3" fmla="val 5768"/>
              <a:gd name="adj4" fmla="val -5199"/>
              <a:gd name="adj5" fmla="val 97675"/>
              <a:gd name="adj6" fmla="val -32250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optimizatio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ing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p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644800" y="39024000"/>
            <a:ext cx="4128840" cy="1790640"/>
          </a:xfrm>
          <a:prstGeom prst="borderCallout2">
            <a:avLst>
              <a:gd name="adj1" fmla="val 18750"/>
              <a:gd name="adj2" fmla="val -8333"/>
              <a:gd name="adj3" fmla="val 6384"/>
              <a:gd name="adj4" fmla="val -20300"/>
              <a:gd name="adj5" fmla="val -1064"/>
              <a:gd name="adj6" fmla="val -36023"/>
            </a:avLst>
          </a:prstGeom>
          <a:solidFill>
            <a:srgbClr val="d0eaec"/>
          </a:solidFill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 user interfaces to OP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ul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0760" y="35293320"/>
            <a:ext cx="403884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107520" y="32867640"/>
            <a:ext cx="9690120" cy="796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69560" y="32258160"/>
            <a:ext cx="4038480" cy="1143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contenu 2"/>
          <p:cNvSpPr/>
          <p:nvPr/>
        </p:nvSpPr>
        <p:spPr>
          <a:xfrm>
            <a:off x="21221640" y="33642360"/>
            <a:ext cx="944892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65360" indent="-166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esign ti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re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.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mul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f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pecifications, of th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a more comple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libr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-dedicated LEON processor, AMBA b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65360" indent="-166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41680"/>
                <a:tab algn="l" pos="888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ynamic add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604600" y="26598600"/>
            <a:ext cx="9417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s Mapping betwee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rdw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du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s a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iv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automatically generated for commun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dwar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stom I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still cycle approx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IP are cycle true: Software IP, bu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mul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sol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contenu 2"/>
          <p:cNvSpPr/>
          <p:nvPr/>
        </p:nvSpPr>
        <p:spPr>
          <a:xfrm>
            <a:off x="1370160" y="7645320"/>
            <a:ext cx="13374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alid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a new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Thales Alenia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ace 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, power, life of the satelli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, image processing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N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ual method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reusing, no flexibility, design br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requiremen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am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ign flow, desig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2:54:59Z</dcterms:created>
  <dc:creator>Yoann Chevalier</dc:creator>
  <dc:description/>
  <dc:language>en-US</dc:language>
  <cp:lastModifiedBy>a.dion</cp:lastModifiedBy>
  <cp:lastPrinted>2004-09-10T12:42:00Z</cp:lastPrinted>
  <dcterms:modified xsi:type="dcterms:W3CDTF">2010-05-07T13:54:12Z</dcterms:modified>
  <cp:revision>46</cp:revision>
  <dc:subject/>
  <dc:title>Aucun titre de diapositive</dc:title>
</cp:coreProperties>
</file>