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media/image12.jpeg" ContentType="image/jpeg"/>
  <Override PartName="/ppt/media/image11.wmf" ContentType="image/x-wmf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4279900" cy="548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42804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854360" cy="2746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p>
            <a:pPr marL="216000" indent="0"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2424240" y="-360"/>
            <a:ext cx="1854000" cy="2746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marL="216000" indent="0" algn="r"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  <a:defRPr b="0" lang="ja-JP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770040" y="410760"/>
            <a:ext cx="27432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428400" y="2606400"/>
            <a:ext cx="3422520" cy="24685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5211360"/>
            <a:ext cx="1854360" cy="27324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b">
            <a:noAutofit/>
          </a:bodyPr>
          <a:lstStyle>
            <a:lvl1pPr marL="216000" indent="0"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  <a:defRPr b="0" lang="ja-JP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2424240" y="5211360"/>
            <a:ext cx="1854000" cy="27324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b">
            <a:noAutofit/>
          </a:bodyPr>
          <a:lstStyle>
            <a:lvl1pPr marL="216000" indent="0" algn="r"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  <a:defRPr b="0" lang="ja-JP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fld id="{8FA45560-CEC7-4C1A-A722-3FEF648B1761}" type="slidenum">
              <a:rPr b="0" lang="ja-JP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770040" y="411120"/>
            <a:ext cx="2743200" cy="20574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28400" y="2606400"/>
            <a:ext cx="3422520" cy="24685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Mr. Chairm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would like to talk about a Multi-Reference and Multi-Block-Size Motion Estimation with Flexible Mode Selection for Professional 4:2:2 H.264/AVC Encoder L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719-B92D-42C1-8BAC-E6A20A38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5597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4920" y="3980880"/>
            <a:ext cx="85597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96DD-AA4B-44EB-ABA6-B9A824F0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1770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1160" y="1628280"/>
            <a:ext cx="41770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3980880"/>
            <a:ext cx="41770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1160" y="3980880"/>
            <a:ext cx="41770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025-B931-46E3-888C-6C7FEC99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27561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9320" y="1628280"/>
            <a:ext cx="27561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720" y="1628280"/>
            <a:ext cx="27561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4920" y="3980880"/>
            <a:ext cx="27561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9320" y="3980880"/>
            <a:ext cx="27561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720" y="3980880"/>
            <a:ext cx="27561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D2EA-A92E-4857-9099-B5B65930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606BD-B971-4ADF-B8FB-9C7C93924B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8559720" cy="45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34D51-A70B-4A91-85A5-DDDA29BC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55972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744D1-D2D6-4BCA-92D0-CB5ED213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17708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1160" y="1628280"/>
            <a:ext cx="417708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7E774-E4A5-4810-B30E-4B51D21F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9B65E-B9BA-425A-A645-5B1E4844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5280" y="144360"/>
            <a:ext cx="854856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2DC4F-E45C-4266-AAB2-DBBF0702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1770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1160" y="1628280"/>
            <a:ext cx="417708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4920" y="3980880"/>
            <a:ext cx="41770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48D5F-3984-47BF-BD5E-AD7011D3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8559720" cy="45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9FC-33A8-4711-9E11-0C676CD8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17708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1160" y="1628280"/>
            <a:ext cx="41770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81160" y="3980880"/>
            <a:ext cx="41770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FC426-1FDC-4355-8A5A-41D8CA9E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1770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1160" y="1628280"/>
            <a:ext cx="41770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4920" y="3980880"/>
            <a:ext cx="85597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EB66E-14C7-498D-B91D-14920B3E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5597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4920" y="3980880"/>
            <a:ext cx="85597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97FE1-01AC-46E4-8CAB-08054768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1770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1160" y="1628280"/>
            <a:ext cx="41770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4920" y="3980880"/>
            <a:ext cx="41770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81160" y="3980880"/>
            <a:ext cx="41770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803A5-039D-470E-A160-CB732E78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27561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9320" y="1628280"/>
            <a:ext cx="27561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720" y="1628280"/>
            <a:ext cx="27561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4920" y="3980880"/>
            <a:ext cx="27561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9320" y="3980880"/>
            <a:ext cx="27561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720" y="3980880"/>
            <a:ext cx="27561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707F1-492A-485A-AD5A-5D605524F6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55972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F12-34A0-4546-9D45-705AA7AF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17708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1160" y="1628280"/>
            <a:ext cx="417708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EF2-3E70-4561-B08A-1DCEA831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135B-9190-4DF0-95EE-7CCA59AD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144360"/>
            <a:ext cx="854856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3403-A729-41AF-BEC5-D0F65C80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1770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1160" y="1628280"/>
            <a:ext cx="417708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4920" y="3980880"/>
            <a:ext cx="41770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E5C-CCF2-4394-A260-0C45921C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17708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1160" y="1628280"/>
            <a:ext cx="41770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1160" y="3980880"/>
            <a:ext cx="41770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8994-2FA7-418E-841C-325B8E79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1770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1160" y="1628280"/>
            <a:ext cx="41770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4920" y="3980880"/>
            <a:ext cx="85597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CF54-E2B8-4BF3-AFDD-70D791A0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628280"/>
            <a:ext cx="855972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640" y="62434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3640" y="6243480"/>
            <a:ext cx="5256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24720" y="6243480"/>
            <a:ext cx="12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E5EC-5A45-4F3C-8E6F-FB252CAA6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12920" y="1236600"/>
            <a:ext cx="8731080" cy="10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7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1197000"/>
            <a:ext cx="8007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55640" y="6248520"/>
            <a:ext cx="127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7524720" y="6248520"/>
            <a:ext cx="12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0D10-7E65-4386-A4F8-DECB01B8B6E3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3487680"/>
            <a:ext cx="81532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7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836280"/>
            <a:ext cx="8964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333399"/>
                </a:solidFill>
                <a:latin typeface="Arial"/>
              </a:rPr>
              <a:t>SystemC-based High-Level Synthesis</a:t>
            </a:r>
            <a:br>
              <a:rPr sz="3600"/>
            </a:br>
            <a:r>
              <a:rPr b="1" lang="ja-JP" sz="3600" spc="-1" strike="noStrike">
                <a:solidFill>
                  <a:srgbClr val="333399"/>
                </a:solidFill>
                <a:latin typeface="Arial"/>
              </a:rPr>
              <a:t>of an AVC/H.264 Intra HDTV Encod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55280" y="4076640"/>
            <a:ext cx="79930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Takayuki Onishi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Koyo Nitt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roe Iwasaki, and Kazuto Kamik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TT Cyber Space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ippon Telegraph and Telephone Corporation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3333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C2010 Tuesday User Track Poster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U.26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0343C-F631-44BF-9A61-FDC164A4A7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sults: Lines of c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5280" y="5257440"/>
            <a:ext cx="78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 increases mainly due to sub-module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eaders, constructors, reset, I/O protoc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advanced synthesis with no need to divide will lead to more coding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5457960" cy="35146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632120" y="4680000"/>
            <a:ext cx="312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*1] Written codes +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*2] Written codes + generated c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884C-D55F-4AF5-82B7-FD87CD74D9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sults: Verification spee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4920" y="5802120"/>
            <a:ext cx="855972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OSCI SystemC and Verilator are mainly used due to shorter verific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ub-module division may cause prolonged SystemC verific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696440" cy="440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B3B6-CE21-443B-B752-710DD01795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utcom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733560" cy="21002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3733560" cy="2100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981080" y="4495680"/>
            <a:ext cx="762120" cy="644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19720" y="2666880"/>
            <a:ext cx="168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deo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 form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 dep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ropy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ctur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bi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1800" y="2666880"/>
            <a:ext cx="2945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20x1080 59.94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:2:0 / 4:2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 / 10 / 12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a 8x8, 16x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V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C/H.264 ES / MPEG-2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5 - 125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e 67.5 MHz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ipheral 27, 74, 81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590920"/>
            <a:ext cx="4647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19720" y="5638680"/>
            <a:ext cx="4647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95880" y="25909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72480" y="6248520"/>
            <a:ext cx="43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-bit 4:2:2 HDTV AVC/H.264 Intra Enc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70F-08D0-4E51-97BA-2790BD14A4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clusion and future wor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55972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Complex design of 12-bit 4:2:2 AVC/H.264 HDTV intra encoder is successful with high-level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Division to sub-modules is required due to synthesis tool limitations, adaptability of tools to larger scale / more complex synthesis is preferred for modern encod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Future work may include more speed-demanding CABAC binary arithmetic coding module with System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With higher clocking and shorter feedback lo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6A88-30BE-45A7-96CC-4E02D50482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55972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Motivation and challenges for high-level synthesis of video enco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Hardwar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Timing analysis and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SystemC coding &amp; 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Lines of code, verifica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Encoder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onclusion and futur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FD5-66E6-4052-A33F-A24EBC4795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 rot="214200">
            <a:off x="1761840" y="3613320"/>
            <a:ext cx="6980040" cy="895320"/>
          </a:xfrm>
          <a:custGeom>
            <a:avLst/>
            <a:gdLst/>
            <a:ahLst/>
            <a:rect l="l" t="t" r="r" b="b"/>
            <a:pathLst>
              <a:path w="5380" h="1513">
                <a:moveTo>
                  <a:pt x="0" y="1179"/>
                </a:moveTo>
                <a:lnTo>
                  <a:pt x="75" y="1513"/>
                </a:lnTo>
                <a:lnTo>
                  <a:pt x="5213" y="1067"/>
                </a:lnTo>
                <a:lnTo>
                  <a:pt x="5380" y="502"/>
                </a:lnTo>
                <a:lnTo>
                  <a:pt x="4956" y="0"/>
                </a:lnTo>
                <a:lnTo>
                  <a:pt x="0" y="117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6239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der complexity explo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ivity and verification efficiency have become critical for modern video encode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2541600"/>
            <a:ext cx="6483240" cy="1560600"/>
          </a:xfrm>
          <a:custGeom>
            <a:avLst/>
            <a:gdLst/>
            <a:ahLst/>
            <a:rect l="l" t="t" r="r" b="b"/>
            <a:pathLst>
              <a:path w="5380" h="1513">
                <a:moveTo>
                  <a:pt x="0" y="1179"/>
                </a:moveTo>
                <a:lnTo>
                  <a:pt x="75" y="1513"/>
                </a:lnTo>
                <a:lnTo>
                  <a:pt x="5213" y="1067"/>
                </a:lnTo>
                <a:lnTo>
                  <a:pt x="5380" y="502"/>
                </a:lnTo>
                <a:lnTo>
                  <a:pt x="4956" y="0"/>
                </a:lnTo>
                <a:lnTo>
                  <a:pt x="0" y="117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1720" y="3705120"/>
            <a:ext cx="1272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-C/-M (’9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HotChips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70800" y="3668760"/>
            <a:ext cx="1258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ENC (‘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HotChips1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01000" y="3452760"/>
            <a:ext cx="130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ENCII(‘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70520" y="2136600"/>
            <a:ext cx="1762200" cy="857520"/>
          </a:xfrm>
          <a:custGeom>
            <a:avLst/>
            <a:gdLst>
              <a:gd name="textAreaLeft" fmla="*/ 275400 w 1762200"/>
              <a:gd name="textAreaRight" fmla="*/ 1542240 w 1762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MPEG2</a:t>
            </a:r>
            <a:r>
              <a:rPr b="1" lang="en-US" sz="1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ffff"/>
                </a:solidFill>
                <a:latin typeface="Arial"/>
              </a:rPr>
              <a:t>H.26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69120" y="2878200"/>
            <a:ext cx="14396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ARA* (’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HotChips1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66880" y="3278160"/>
            <a:ext cx="128700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ASA (’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HotChips1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3800" y="3144960"/>
            <a:ext cx="522360" cy="574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300400" y="3213000"/>
            <a:ext cx="463320" cy="522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097080" y="3300480"/>
            <a:ext cx="363600" cy="387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051440" y="3127320"/>
            <a:ext cx="277560" cy="303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4932360" y="3137040"/>
            <a:ext cx="471600" cy="506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6753240" y="2181240"/>
            <a:ext cx="731880" cy="730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387600" y="2432160"/>
            <a:ext cx="1760760" cy="784080"/>
          </a:xfrm>
          <a:custGeom>
            <a:avLst/>
            <a:gdLst>
              <a:gd name="textAreaLeft" fmla="*/ 275040 w 1760760"/>
              <a:gd name="textAreaRight" fmla="*/ 1540800 w 1760760"/>
              <a:gd name="textAreaTop" fmla="*/ 195840 h 784080"/>
              <a:gd name="textAreaBottom" fmla="*/ 588240 h 784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SDTV</a:t>
            </a:r>
            <a:r>
              <a:rPr b="1" lang="en-US" sz="1000" spc="-1" strike="noStrike">
                <a:solidFill>
                  <a:srgbClr val="ccffff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ccffff"/>
                </a:solidFill>
                <a:latin typeface="Arial"/>
              </a:rPr>
              <a:t>HDT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95600" y="404820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Transis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30160" y="386568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140,0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57600" y="398772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60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90520" y="401796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5,8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3080" y="5540400"/>
            <a:ext cx="358920" cy="264960"/>
          </a:xfrm>
          <a:prstGeom prst="rightArrow">
            <a:avLst>
              <a:gd name="adj1" fmla="val 50000"/>
              <a:gd name="adj2" fmla="val 3386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1840" y="544500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level design could be a lifesa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82480" y="5877000"/>
            <a:ext cx="71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iveness (coding overhead, verification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ptability to heavy tasks (4:2:2 12-bit HDTV video encod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E9D-3A95-4DFC-ACA0-22ACE2D535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559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High-level synthesis of encoder blocks working in “real-time” – no busy at the pixe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Larger macroblock (MB) processing loop than the dec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Tighter latency restr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06480" y="3357720"/>
            <a:ext cx="5400720" cy="136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0" y="3860640"/>
            <a:ext cx="718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ux/Bu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4840" y="3573360"/>
            <a:ext cx="71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02120" y="3646440"/>
            <a:ext cx="71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29040" y="3719520"/>
            <a:ext cx="71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59200" y="3789360"/>
            <a:ext cx="71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527200" y="37159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27200" y="3716280"/>
            <a:ext cx="46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74840" y="350028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3500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36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94120" y="378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25760" y="3500280"/>
            <a:ext cx="36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6480" y="3716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30840" y="350028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62480" y="3716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07200" y="3500280"/>
            <a:ext cx="576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83200" y="3716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07200" y="4221000"/>
            <a:ext cx="576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6480" y="44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30840" y="422100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62480" y="4437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22840" y="4221000"/>
            <a:ext cx="863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Recon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526840" y="4437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527200" y="4292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26120" y="3716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81760" y="44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4840" y="3716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66840" y="37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7440" y="326376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p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9560" y="347976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ighbor p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66840" y="4292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374840" y="44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6320" y="413244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ighbor p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15200" y="3500280"/>
            <a:ext cx="576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V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91200" y="3716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07560" y="3429000"/>
            <a:ext cx="45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11280" y="3571920"/>
            <a:ext cx="3840120" cy="1009440"/>
          </a:xfrm>
          <a:custGeom>
            <a:avLst/>
            <a:gdLst/>
            <a:ahLst/>
            <a:rect l="l" t="t" r="r" b="b"/>
            <a:pathLst>
              <a:path w="2419" h="953">
                <a:moveTo>
                  <a:pt x="0" y="341"/>
                </a:moveTo>
                <a:cubicBezTo>
                  <a:pt x="208" y="231"/>
                  <a:pt x="416" y="122"/>
                  <a:pt x="726" y="69"/>
                </a:cubicBezTo>
                <a:cubicBezTo>
                  <a:pt x="1036" y="16"/>
                  <a:pt x="1596" y="0"/>
                  <a:pt x="1860" y="23"/>
                </a:cubicBezTo>
                <a:cubicBezTo>
                  <a:pt x="2124" y="46"/>
                  <a:pt x="2222" y="122"/>
                  <a:pt x="2313" y="205"/>
                </a:cubicBezTo>
                <a:cubicBezTo>
                  <a:pt x="2404" y="288"/>
                  <a:pt x="2419" y="424"/>
                  <a:pt x="2404" y="522"/>
                </a:cubicBezTo>
                <a:cubicBezTo>
                  <a:pt x="2389" y="620"/>
                  <a:pt x="2350" y="726"/>
                  <a:pt x="2222" y="794"/>
                </a:cubicBezTo>
                <a:cubicBezTo>
                  <a:pt x="2094" y="862"/>
                  <a:pt x="1867" y="907"/>
                  <a:pt x="1633" y="930"/>
                </a:cubicBezTo>
                <a:cubicBezTo>
                  <a:pt x="1399" y="953"/>
                  <a:pt x="1050" y="945"/>
                  <a:pt x="816" y="930"/>
                </a:cubicBezTo>
                <a:cubicBezTo>
                  <a:pt x="582" y="915"/>
                  <a:pt x="363" y="885"/>
                  <a:pt x="227" y="840"/>
                </a:cubicBezTo>
                <a:cubicBezTo>
                  <a:pt x="91" y="795"/>
                  <a:pt x="45" y="726"/>
                  <a:pt x="0" y="65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7440" y="474804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57440" y="414972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B loop  (&lt; 256 cyc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5157720"/>
            <a:ext cx="5400720" cy="136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26240" y="654840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5300640"/>
            <a:ext cx="57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V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60360" y="551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59280" y="5229360"/>
            <a:ext cx="45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37080" y="595008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13080" y="5950080"/>
            <a:ext cx="863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Recon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7800" y="5950080"/>
            <a:ext cx="5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2360" y="6165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67280" y="616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5516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5516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0360" y="61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5300640"/>
            <a:ext cx="7189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5734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5640" y="5589720"/>
            <a:ext cx="718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ux/Bu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76720" y="618156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796000" y="602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796000" y="5516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003280" y="5516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74960" y="593244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p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154560" y="571644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56360" y="59324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8560" y="542916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ighbor p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78560" y="564516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ighbor p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716360" y="5372280"/>
            <a:ext cx="1008000" cy="1009440"/>
          </a:xfrm>
          <a:custGeom>
            <a:avLst/>
            <a:gdLst/>
            <a:ahLst/>
            <a:rect l="l" t="t" r="r" b="b"/>
            <a:pathLst>
              <a:path w="2419" h="953">
                <a:moveTo>
                  <a:pt x="0" y="341"/>
                </a:moveTo>
                <a:cubicBezTo>
                  <a:pt x="208" y="231"/>
                  <a:pt x="416" y="122"/>
                  <a:pt x="726" y="69"/>
                </a:cubicBezTo>
                <a:cubicBezTo>
                  <a:pt x="1036" y="16"/>
                  <a:pt x="1596" y="0"/>
                  <a:pt x="1860" y="23"/>
                </a:cubicBezTo>
                <a:cubicBezTo>
                  <a:pt x="2124" y="46"/>
                  <a:pt x="2222" y="122"/>
                  <a:pt x="2313" y="205"/>
                </a:cubicBezTo>
                <a:cubicBezTo>
                  <a:pt x="2404" y="288"/>
                  <a:pt x="2419" y="424"/>
                  <a:pt x="2404" y="522"/>
                </a:cubicBezTo>
                <a:cubicBezTo>
                  <a:pt x="2389" y="620"/>
                  <a:pt x="2350" y="726"/>
                  <a:pt x="2222" y="794"/>
                </a:cubicBezTo>
                <a:cubicBezTo>
                  <a:pt x="2094" y="862"/>
                  <a:pt x="1867" y="907"/>
                  <a:pt x="1633" y="930"/>
                </a:cubicBezTo>
                <a:cubicBezTo>
                  <a:pt x="1399" y="953"/>
                  <a:pt x="1050" y="945"/>
                  <a:pt x="816" y="930"/>
                </a:cubicBezTo>
                <a:cubicBezTo>
                  <a:pt x="582" y="915"/>
                  <a:pt x="363" y="885"/>
                  <a:pt x="227" y="840"/>
                </a:cubicBezTo>
                <a:cubicBezTo>
                  <a:pt x="91" y="795"/>
                  <a:pt x="45" y="726"/>
                  <a:pt x="0" y="65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84400" y="623736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B loop  (&lt; 256 cyc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DFB1-FA1E-47A4-BB96-E82B4589AF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orkflo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89080" y="1600200"/>
            <a:ext cx="1676520" cy="80496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32080" y="2286000"/>
            <a:ext cx="3657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iming analysis &amp;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5400000">
            <a:off x="2698920" y="24382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698920" y="38098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2698920" y="5257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89080" y="5791320"/>
            <a:ext cx="1676520" cy="80460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FP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99440" y="5181480"/>
            <a:ext cx="1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006600"/>
                </a:solidFill>
                <a:latin typeface="Arial"/>
              </a:rPr>
              <a:t>Synplify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006600"/>
                </a:solidFill>
                <a:latin typeface="Arial"/>
              </a:rPr>
              <a:t>Quartus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00880" y="385452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006600"/>
                </a:solidFill>
                <a:latin typeface="Arial"/>
              </a:rPr>
              <a:t>Cynthes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50480" y="358128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006600"/>
                </a:solidFill>
                <a:latin typeface="Arial"/>
              </a:rPr>
              <a:t>OSCI Syste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99120" y="3124080"/>
            <a:ext cx="2514600" cy="4572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ehavior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89280" y="32004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89080" y="2928960"/>
            <a:ext cx="1676520" cy="80496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3300"/>
                </a:solidFill>
                <a:latin typeface="Arial"/>
              </a:rPr>
              <a:t>Syste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99120" y="4572000"/>
            <a:ext cx="2514600" cy="4572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TL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89280" y="46483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89080" y="4343400"/>
            <a:ext cx="1676520" cy="8049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6600"/>
                </a:solidFill>
                <a:latin typeface="Arial"/>
              </a:rPr>
              <a:t>Verilog R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43720" y="511956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006600"/>
                </a:solidFill>
                <a:latin typeface="Arial"/>
              </a:rPr>
              <a:t>Verilator, VCS, Cynthesizer RTL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0800000">
            <a:off x="3460320" y="3657240"/>
            <a:ext cx="1295640" cy="76212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56320" y="4038480"/>
            <a:ext cx="121896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1000" y="2666880"/>
            <a:ext cx="13716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B079-870A-4D21-909F-3ABCC33007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114560" y="3213000"/>
            <a:ext cx="6730920" cy="2870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iming analysis and estim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97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ze overall encoding operation and data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required paralleling, pipelining and latency in each computational block to meet 256 cycles/MB as a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21280" y="6453360"/>
            <a:ext cx="27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Example 1: Luma 8x8 D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49480" y="3789360"/>
            <a:ext cx="289080" cy="43164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50920" y="4221000"/>
            <a:ext cx="289080" cy="4320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14920" y="5084640"/>
            <a:ext cx="504720" cy="2160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75280" y="5516640"/>
            <a:ext cx="431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1280" y="5805360"/>
            <a:ext cx="58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ight pixels input &amp; transform per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s required to achieve overall operation in 17 cyc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8C9A-9B1D-4ED3-849A-FAE3C6C4CA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iming analysis and estim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28600" y="5756400"/>
            <a:ext cx="74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Example 2: Luma 8x8 Predict-&gt;Sel-&gt;DCT-&gt;Quant-&gt;Dequant-&gt;IDCT-&gt;Recon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7704000" cy="3203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40200" y="5149800"/>
            <a:ext cx="85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deal latency is estimated to be 45 cycles ( &lt; 64 cycles required for real-tim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5280" y="5084640"/>
            <a:ext cx="24494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590B-0E4C-4E3C-82BD-72C326B5CB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333399"/>
                </a:solidFill>
                <a:latin typeface="Arial"/>
              </a:rPr>
              <a:t>SystemC cod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5914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 reference C++ functions to sub-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tage: Pipelined hardware synthesis, less compil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back: Increased coding burden (headers, constructors, reset, I/O protoco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s and latency directives are set as determined by timing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modules need deeper division and addition due to synthesis tool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my input creation and dummy output elimination in order to achieve pipelined data d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 bugs in synthesi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5257800"/>
            <a:ext cx="1600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 while ( condition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68640" y="5257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97240" y="5257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25840" y="5257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54440" y="5257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44960" y="55627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73560" y="55627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02160" y="55627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30760" y="55627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97240" y="5867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25840" y="5867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54440" y="5867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83040" y="5867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09680" y="52578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99600" y="553572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10040" y="5821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5715000"/>
            <a:ext cx="304920" cy="304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257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5257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15000" y="5257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5257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72200" y="5257800"/>
            <a:ext cx="22860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0800" y="5257800"/>
            <a:ext cx="22860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9400" y="5257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0" y="5257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86600" y="5257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15200" y="5257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43800" y="5257800"/>
            <a:ext cx="22860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772400" y="5257800"/>
            <a:ext cx="22860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55627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55627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91320" y="55627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19920" y="55627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48520" y="5562720"/>
            <a:ext cx="22860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77120" y="5562720"/>
            <a:ext cx="22860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05720" y="55627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34320" y="55627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62920" y="55627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391520" y="55627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20120" y="5562720"/>
            <a:ext cx="22860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848720" y="5562720"/>
            <a:ext cx="22860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5867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5867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5867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72200" y="5867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00800" y="5867280"/>
            <a:ext cx="22860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29400" y="5867280"/>
            <a:ext cx="22860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5867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086600" y="5867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315200" y="5867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43800" y="5867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772400" y="5867280"/>
            <a:ext cx="22860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001000" y="5867280"/>
            <a:ext cx="22860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54864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6019920"/>
            <a:ext cx="228600" cy="228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416480" y="6149880"/>
            <a:ext cx="115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output st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6324480" y="5029200"/>
            <a:ext cx="457200" cy="2286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477120" y="5029200"/>
            <a:ext cx="304560" cy="228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04280" y="487692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dummy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477120" y="5029200"/>
            <a:ext cx="304560" cy="2286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6248160" y="6019560"/>
            <a:ext cx="152280" cy="152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264720" y="609588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utput contin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AAE1-FB4B-4750-BC41-60517A0B99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85485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333399"/>
                </a:solidFill>
                <a:latin typeface="Arial"/>
              </a:rPr>
              <a:t>SystemC cod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010280" cy="44737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402240" y="502920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 sub-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05480" y="614052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Example: Luma 8x8 Predict-&gt;Sel-&gt;DCT-&gt;Quant-&gt;IQuant-&gt;IDCT-&gt;Recon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BAFA-0E8D-4FB1-A836-E17FB3F740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15:00:00Z</dcterms:created>
  <dc:creator/>
  <dc:description/>
  <dc:language>en-US</dc:language>
  <cp:lastModifiedBy/>
  <dcterms:modified xsi:type="dcterms:W3CDTF">2010-05-07T09:14:25Z</dcterms:modified>
  <cp:revision>472</cp:revision>
  <dc:subject/>
  <dc:title>放送プロ向けHDTV対応H.264/AVCエンコーダLSI (SARA) ー探索部の構成 ー</dc:title>
</cp:coreProperties>
</file>