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918400" cy="32918400"/>
  <p:notesSz cx="32458025" cy="32458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87C8-5D4A-4E06-898F-337F2827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296258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027440"/>
            <a:ext cx="296258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98B-BD18-48A9-9FA2-DC110202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76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02744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760" y="1902744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F3C4-CAFE-4DE9-B99A-664F58E3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920" y="767988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560" y="767988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02744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920" y="1902744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560" y="19027440"/>
            <a:ext cx="953928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7FF9-AC96-41A4-AB92-6767DE3C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7679880"/>
            <a:ext cx="2962584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B1A-7070-4299-954A-93A0773E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296258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71C-0982-4650-BF3C-D3A2EFE8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144572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760" y="7679880"/>
            <a:ext cx="144572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3C2-DD57-4BDF-A82F-B1E83091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F946-B30A-48C9-B62B-3E924AC2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1317600"/>
            <a:ext cx="296258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79E-E51B-4A5B-A345-01D14965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760" y="7679880"/>
            <a:ext cx="144572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02744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D04-56FC-4382-915A-2FB6751E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144572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76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760" y="1902744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677-B20A-4555-AF09-D71294FB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760" y="7679880"/>
            <a:ext cx="144572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027440"/>
            <a:ext cx="29625840" cy="10362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3950-A61E-44BB-8086-3D8D90E9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1317600"/>
            <a:ext cx="2962584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18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7679880"/>
            <a:ext cx="29625840" cy="217249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marL="1411200" indent="-141120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2" marL="4702320" indent="-9399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3" marL="6583320" indent="-93960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4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5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6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76840"/>
            <a:ext cx="7680240" cy="22860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lstStyle>
            <a:lvl1pPr indent="0">
              <a:buNone/>
              <a:tabLst>
                <a:tab algn="l" pos="0"/>
                <a:tab algn="l" pos="3762360"/>
                <a:tab algn="l" pos="7524720"/>
              </a:tabLst>
              <a:defRPr b="0" lang="en-US" sz="5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480" y="29976840"/>
            <a:ext cx="10423440" cy="22860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lstStyle>
            <a:lvl1pPr indent="0" algn="ctr">
              <a:buNone/>
              <a:tabLst>
                <a:tab algn="l" pos="0"/>
                <a:tab algn="l" pos="3762360"/>
                <a:tab algn="l" pos="7524720"/>
              </a:tabLst>
              <a:defRPr b="0" lang="en-US" sz="5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880" y="29976840"/>
            <a:ext cx="7680240" cy="22860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lstStyle>
            <a:lvl1pPr indent="0" algn="r">
              <a:buNone/>
              <a:tabLst>
                <a:tab algn="l" pos="0"/>
                <a:tab algn="l" pos="3762360"/>
                <a:tab algn="l" pos="7524720"/>
              </a:tabLst>
              <a:defRPr b="0" lang="en-US" sz="5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762360"/>
                <a:tab algn="l" pos="7524720"/>
              </a:tabLst>
            </a:pPr>
            <a:fld id="{EF38428F-49C9-4A33-9D46-70EAE2F08B4D}" type="slidenum">
              <a:rPr b="0" lang="en-US" sz="5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package" Target="../embeddings/oleObject3.xlsx"/><Relationship Id="rId8" Type="http://schemas.openxmlformats.org/officeDocument/2006/relationships/image" Target="../media/image5.wmf"/><Relationship Id="rId9" Type="http://schemas.openxmlformats.org/officeDocument/2006/relationships/package" Target="../embeddings/oleObject4.xlsx"/><Relationship Id="rId10" Type="http://schemas.openxmlformats.org/officeDocument/2006/relationships/image" Target="../media/image6.wmf"/><Relationship Id="rId11" Type="http://schemas.openxmlformats.org/officeDocument/2006/relationships/image" Target="../media/image7.png"/><Relationship Id="rId12" Type="http://schemas.openxmlformats.org/officeDocument/2006/relationships/image" Target="../media/image8.wmf"/><Relationship Id="rId13" Type="http://schemas.openxmlformats.org/officeDocument/2006/relationships/image" Target="../media/image9.wm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276720"/>
            <a:ext cx="31927680" cy="29108160"/>
          </a:xfrm>
          <a:prstGeom prst="rect">
            <a:avLst/>
          </a:prstGeom>
          <a:solidFill>
            <a:srgbClr val="ffff99">
              <a:alpha val="32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154280" y="26060400"/>
            <a:ext cx="8001000" cy="6172200"/>
          </a:xfrm>
          <a:prstGeom prst="flowChartAlternateProcess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306920" y="26822520"/>
            <a:ext cx="761976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frequency range of our interest, synthesis method resulted in better area efficiency due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ilt-in IP has shown significant gains vs. manual design for arithmetic circu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 is able to pick up area optimized implementation depending on sl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brary cell enhancements for datapath synthesi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savings results may differ for very high frequency designs beyond a couple of GHz and also for non-arithmetic type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54280" y="19811880"/>
            <a:ext cx="16002000" cy="6096240"/>
          </a:xfrm>
          <a:prstGeom prst="flowChartAlternateProcess">
            <a:avLst/>
          </a:prstGeom>
          <a:solidFill>
            <a:srgbClr val="99ccff">
              <a:alpha val="32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611480" y="24460200"/>
            <a:ext cx="150876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Helvetica-Narrow-Bold"/>
              <a:buChar char="•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-Narrow-Bold"/>
              </a:rPr>
              <a:t>Library cell content plays a significant role in design optimization as indicated by larger area gain w/enhanced library under same synthesis tool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Helvetica-Narrow-Bold"/>
              <a:buChar char="•"/>
              <a:tabLst>
                <a:tab algn="l" pos="3762360"/>
                <a:tab algn="l" pos="7524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220320" y="3505320"/>
            <a:ext cx="6629400" cy="8610480"/>
          </a:xfrm>
          <a:prstGeom prst="flowChartAlternateProcess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57200"/>
            <a:ext cx="31775400" cy="2666880"/>
          </a:xfrm>
          <a:prstGeom prst="flowChartAlternateProcess">
            <a:avLst/>
          </a:prstGeom>
          <a:solidFill>
            <a:srgbClr val="3366ff">
              <a:alpha val="32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609480"/>
            <a:ext cx="3009888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ynthesis vs. Hand design: A Case Study on an Arithmetic Datapath Design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reekanth Madgula, Subramaniam Maiyuran, Nowjand Attaie, K K Ram Ramakrishnan                                                                                                                 Intel Corporation, Folsom, CA 95630                                                                                                                                                                                            Email:&lt;First Name&gt;.&lt;Last Name&gt;@intel.com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54280" y="3505320"/>
            <a:ext cx="16002000" cy="8610480"/>
          </a:xfrm>
          <a:prstGeom prst="flowChartAlternateProcess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69480" y="12344400"/>
            <a:ext cx="8763120" cy="7238880"/>
          </a:xfrm>
          <a:prstGeom prst="flowChartAlternateProcess">
            <a:avLst/>
          </a:prstGeom>
          <a:solidFill>
            <a:srgbClr val="ccffff">
              <a:alpha val="32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2344400"/>
            <a:ext cx="15087600" cy="19811880"/>
          </a:xfrm>
          <a:prstGeom prst="flowChartAlternateProcess">
            <a:avLst/>
          </a:prstGeom>
          <a:solidFill>
            <a:srgbClr val="ffcc99">
              <a:alpha val="32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307920" y="26060400"/>
            <a:ext cx="7848360" cy="6172200"/>
          </a:xfrm>
          <a:prstGeom prst="flowChartAlternateProcess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505320"/>
            <a:ext cx="8077320" cy="8610480"/>
          </a:xfrm>
          <a:prstGeom prst="flowChartAlternateProcess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916400" y="4724280"/>
          <a:ext cx="6781680" cy="38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16400" y="4724280"/>
                    <a:ext cx="678168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4536520" y="4648320"/>
          <a:ext cx="6705360" cy="3886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536520" y="4648320"/>
                    <a:ext cx="6705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6535520" y="8763120"/>
            <a:ext cx="1485900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OR Metrics: Area, Power and Perform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pipeline: 36% lower area for similar performance w/Synthesis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pipeline: 27% lower area for similar performance w/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, measured as device width, has improved only marginally (2%) w/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*: Device widths in flip-flops were not included in hand design for post-pipeline 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54280" y="12344400"/>
            <a:ext cx="7010640" cy="7315200"/>
          </a:xfrm>
          <a:prstGeom prst="flowChartAlternateProcess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066680" y="18821520"/>
            <a:ext cx="3724560" cy="3200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4876920" y="18821520"/>
            <a:ext cx="6078240" cy="344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23622120" y="13335120"/>
          <a:ext cx="4038480" cy="34718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2120" y="13335120"/>
                    <a:ext cx="4038480" cy="34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7736920" y="13411080"/>
          <a:ext cx="4038480" cy="26812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736920" y="13411080"/>
                    <a:ext cx="403848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612960" y="3657600"/>
            <a:ext cx="19850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Helvetica-Narrow-Bold"/>
              </a:rPr>
              <a:t>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522080" y="3733920"/>
            <a:ext cx="38642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Helvetica-Narrow-Bold"/>
              </a:rPr>
              <a:t>Design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351560" y="3809880"/>
            <a:ext cx="70891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Helvetica-Narrow-Bold"/>
              </a:rPr>
              <a:t>Quality of Results Compa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440200" y="12496680"/>
            <a:ext cx="442980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Helvetica-Narrow-Bold"/>
              </a:rPr>
              <a:t>Analysis of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232760" y="12496680"/>
            <a:ext cx="45669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Helvetica-Narrow-Bold"/>
              </a:rPr>
              <a:t>Technology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93880" y="12573000"/>
            <a:ext cx="4446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Helvetica-Narrow-Bold"/>
              </a:rPr>
              <a:t>Tools &amp; Built-in 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200520" y="26212680"/>
            <a:ext cx="290880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Helvetica-Narrow-Bold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67520" y="26136720"/>
            <a:ext cx="325008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Helvetica-Narrow-Bold"/>
              </a:rPr>
              <a:t>Further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30480120" y="457200"/>
            <a:ext cx="190476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14400" y="4343400"/>
            <a:ext cx="7391520" cy="82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datapath in modern processing cores often targeted for hand design approach for better area /power /performance optim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design often not sustainable because of late design changes due to continuously evolving external specs and short time to market driven by mobile/CE segments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goal was to assess QoR tradeoffs of synthesis compared to hand design in light of recent datapath synthesis tool adv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n adopt an efficient design methodology for datapath that is nimble enough to absorb late changes but not leave area/power/performance on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0" y="4724280"/>
            <a:ext cx="7315200" cy="67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L coding for arithmetic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c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 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ing driven placement/optimization and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/Hand desig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mat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placement (for minimizing interconn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binational datapath optimization for        bes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ual insertion of latch/flop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3944600"/>
            <a:ext cx="1386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14401800"/>
            <a:ext cx="1379196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path Synthesis has made several advances in last few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mized arithmetic algorithms provided as built-in IPs with the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matic pipelining for insertion of registers and re-timing for better area/latency tradeo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clusive arithmetic optimization techniques in tool’s datapath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for industry standard RTL instead of proprietary custom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inging in well established optimization methods from regular synthesis: operator merging, resource sharing and gate level sizing etc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23012280"/>
            <a:ext cx="1440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 multiplier (left) and hand drawn multiplier (right), plotted to same sc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-in multiplier IP synthesis component is 45% smaller than hand design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portion of the design uses many instances of same multipl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29413080"/>
            <a:ext cx="136396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er areas are compared over bit widths of 20 – 60 bi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nthesis built-in IPs for adders show 55 – 60% lower placed are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e the gains are higher with high bit widths as more space wastage with alignment of cells in higher MSB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42040" y="18059400"/>
            <a:ext cx="541404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Helvetica-Narrow-Bold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Helvetica-Narrow-Bold"/>
              </a:rPr>
              <a:t>Arithmetic IP: Multip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90120" y="24917400"/>
            <a:ext cx="463068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Helvetica-Narrow-Bold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Helvetica-Narrow-Bold"/>
              </a:rPr>
              <a:t>Arithmetic IP: Ad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622120" y="16840080"/>
            <a:ext cx="8762760" cy="32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design space exploration by using wide variety of cells from library in synthesis (30 families) vs. limited cell usage by human designer (12 families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-n-match of area-efficient full adders/half adders/compressors with delay efficient XORs/MUX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3880" y="27203400"/>
            <a:ext cx="701064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work in optimizing sequential cell count is in pro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quential cell count tends to be higher in synthesis with auto-pipelining vs. manual pipelining in hand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L re-coding, low level constraint directives for tool guidance etc., being explored</a:t>
            </a:r>
            <a:r>
              <a:rPr b="0" lang="en-US" sz="2400" spc="-1" strike="noStrike">
                <a:solidFill>
                  <a:srgbClr val="000000"/>
                </a:solidFill>
                <a:latin typeface="Helvetica-Narrow-Bold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3762360"/>
                <a:tab algn="l" pos="7524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4720" y="13487400"/>
            <a:ext cx="530748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Helvetica-Narrow-Bold"/>
              </a:rPr>
              <a:t>Datapath Synthesis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2"/>
          <a:stretch/>
        </p:blipFill>
        <p:spPr>
          <a:xfrm>
            <a:off x="20878920" y="20802600"/>
            <a:ext cx="8636040" cy="1866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802600" y="22707720"/>
            <a:ext cx="10972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ly lower area with Synthesis for similar tim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 produced area-efficient design w/enhanced library containing full adders/half adders and compress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4600" y="20040480"/>
            <a:ext cx="127627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Helvetica-Narrow-Bold"/>
              </a:rPr>
              <a:t>Contribution of  Library vs. Tool in Design Optim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25080" y="17830800"/>
            <a:ext cx="441972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s on inefficiencies of hand desig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3762360"/>
                <a:tab algn="l" pos="752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 wastage from longer rows dictated by structured placement of cells for vertical alignment to minimize wir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3762360"/>
                <a:tab algn="l" pos="752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cal cells repeated in multiple rows showing fairly limited cell family usage vs. rich usage 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562720" y="19811880"/>
            <a:ext cx="58672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10820160" y="21183120"/>
            <a:ext cx="6858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0286640" y="214884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3"/>
          <a:stretch/>
        </p:blipFill>
        <p:spPr>
          <a:xfrm>
            <a:off x="1371600" y="25755480"/>
            <a:ext cx="5514840" cy="32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7238880" y="25374600"/>
          <a:ext cx="8001000" cy="3554280"/>
        </p:xfrm>
        <a:graphic>
          <a:graphicData uri="http://schemas.openxmlformats.org/drawingml/2006/table">
            <a:tbl>
              <a:tblPr/>
              <a:tblGrid>
                <a:gridCol w="2590920"/>
                <a:gridCol w="3352680"/>
                <a:gridCol w="20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3762360"/>
                          <a:tab algn="l" pos="7524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r bit wid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3762360"/>
                          <a:tab algn="l" pos="7524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Area (post synthesis Area) gai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3762360"/>
                          <a:tab algn="l" pos="7524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d area g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3762360"/>
                          <a:tab algn="l" pos="7524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3762360"/>
                          <a:tab algn="l" pos="7524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4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3762360"/>
                          <a:tab algn="l" pos="7524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3762360"/>
                          <a:tab algn="l" pos="7524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3762360"/>
                          <a:tab algn="l" pos="7524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5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3762360"/>
                          <a:tab algn="l" pos="7524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4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3762360"/>
                          <a:tab algn="l" pos="7524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3762360"/>
                          <a:tab algn="l" pos="7524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4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3762360"/>
                          <a:tab algn="l" pos="7524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6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3762360"/>
                          <a:tab algn="l" pos="7524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3762360"/>
                          <a:tab algn="l" pos="7524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3762360"/>
                          <a:tab algn="l" pos="7524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0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3762360"/>
                          <a:tab algn="l" pos="7524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3762360"/>
                          <a:tab algn="l" pos="7524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3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3762360"/>
                          <a:tab algn="l" pos="7524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8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3762360"/>
                          <a:tab algn="l" pos="7524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3762360"/>
                          <a:tab algn="l" pos="7524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3762360"/>
                          <a:tab algn="l" pos="7524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14"/>
          <a:stretch/>
        </p:blipFill>
        <p:spPr>
          <a:xfrm>
            <a:off x="16459200" y="20802600"/>
            <a:ext cx="3530520" cy="1619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5"/>
          <a:stretch/>
        </p:blipFill>
        <p:spPr>
          <a:xfrm>
            <a:off x="16459200" y="22555080"/>
            <a:ext cx="4140360" cy="1640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544800" y="13411080"/>
            <a:ext cx="609480" cy="12193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54280" y="13335120"/>
            <a:ext cx="7010640" cy="1373760"/>
          </a:xfrm>
          <a:prstGeom prst="rect">
            <a:avLst/>
          </a:prstGeom>
          <a:solidFill>
            <a:srgbClr val="ffcc99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vances in datapath synthesis tools w/better IPs and datapath-specific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54280" y="14706720"/>
            <a:ext cx="7010640" cy="2653560"/>
          </a:xfrm>
          <a:prstGeom prst="rect">
            <a:avLst/>
          </a:prstGeom>
          <a:solidFill>
            <a:srgbClr val="cc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ra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.Wide variety of cell family selection in synthesis vs. limited selection by human. 2. Rich cell content in library to enable area-optimized cells in non-critical paths and delay-optimized cells in critical paths for synth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54280" y="1767852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54280" y="17297280"/>
            <a:ext cx="6934320" cy="2226960"/>
          </a:xfrm>
          <a:prstGeom prst="rect">
            <a:avLst/>
          </a:prstGeom>
          <a:solidFill>
            <a:srgbClr val="99cc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Tool vs. Library?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eriments done to determine the influence of library vs. tool in design optimization so that we can make right tradeoffs in selecting library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164920" y="15239520"/>
            <a:ext cx="380880" cy="12193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9202400" y="19202400"/>
            <a:ext cx="457200" cy="12189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reekanth Madgula</cp:lastModifiedBy>
  <dcterms:modified xsi:type="dcterms:W3CDTF">2010-05-08T00:00:50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