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dt" idx="1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Img"/>
          </p:nvPr>
        </p:nvSpPr>
        <p:spPr>
          <a:xfrm>
            <a:off x="446040" y="77760"/>
            <a:ext cx="619776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body"/>
          </p:nvPr>
        </p:nvSpPr>
        <p:spPr>
          <a:xfrm>
            <a:off x="312840" y="4881240"/>
            <a:ext cx="6308640" cy="4105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ftr" idx="18"/>
          </p:nvPr>
        </p:nvSpPr>
        <p:spPr>
          <a:xfrm>
            <a:off x="-360" y="8831160"/>
            <a:ext cx="3281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11 Plan Roll-Out Employee Presentation_March 2010_Rev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 type="sldNum" idx="1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Page </a:t>
            </a:r>
            <a:fld id="{9345704E-CA45-414C-8EB4-4C435B6D56A1}" type="slidenum"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SMSC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0" y="8831160"/>
            <a:ext cx="3281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filename or description]_Rev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CBBBCE-DFD3-4E17-B942-D4AA5B8A41A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SMSC CONFIDENTIAL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446040" y="77760"/>
            <a:ext cx="6197760" cy="464832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312840" y="4881240"/>
            <a:ext cx="63086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6"/>
          <p:cNvSpPr/>
          <p:nvPr/>
        </p:nvSpPr>
        <p:spPr>
          <a:xfrm>
            <a:off x="0" y="8831160"/>
            <a:ext cx="3281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1 2007 Conf Call Slides_Rev 5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ge </a:t>
            </a:r>
            <a:fld id="{9BC38AFF-CA38-438B-B24C-F5968C4993C5}" type="slidenum"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8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800" spc="-1" strike="noStrike">
                <a:solidFill>
                  <a:srgbClr val="f84100"/>
                </a:solidFill>
                <a:latin typeface="Arial"/>
                <a:ea typeface="ＭＳ Ｐゴシック"/>
              </a:rPr>
              <a:t>SMSC CONFIDENTIAL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446040" y="77760"/>
            <a:ext cx="6197760" cy="46483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312840" y="4881240"/>
            <a:ext cx="63086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1200" y="3040560"/>
            <a:ext cx="861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6600" y="67644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12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56600" y="3040560"/>
            <a:ext cx="420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5468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68520" y="67644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24120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5468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68520" y="3040560"/>
            <a:ext cx="277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B754-FDCC-46CA-9FB6-ADC3F96DC97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12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6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E80-D532-434A-B164-AA2FBC07903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64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466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9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7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9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4656-9487-48FE-B562-8A4108923F5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2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3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5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517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0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8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0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C214-D0F2-4956-A3BC-DC0641EC3CD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2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3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6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568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11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9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1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2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09DA-2CA4-4426-A024-E1F9FA79ECF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3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4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5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6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17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619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12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60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2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3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2582-7C7C-4928-BBD3-525AB8484F1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4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5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6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7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68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670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13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1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3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4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8D3-E015-470A-9B5E-5273334521E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5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6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9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721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14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2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4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4DB2-C7DA-4F78-B28D-5FFB67EBF96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6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7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8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9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0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772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15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13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5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6AC-E7B9-46DD-95DA-5155C840B69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7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8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9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0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21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823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16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1"/>
          <p:cNvSpPr/>
          <p:nvPr/>
        </p:nvSpPr>
        <p:spPr>
          <a:xfrm>
            <a:off x="0" y="5575320"/>
            <a:ext cx="9144000" cy="128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Picture 96" descr="wave_large"/>
          <p:cNvPicPr/>
          <p:nvPr/>
        </p:nvPicPr>
        <p:blipFill>
          <a:blip r:embed="rId2"/>
          <a:stretch/>
        </p:blipFill>
        <p:spPr>
          <a:xfrm>
            <a:off x="0" y="5575320"/>
            <a:ext cx="7151760" cy="1282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0"/>
          <p:cNvSpPr/>
          <p:nvPr/>
        </p:nvSpPr>
        <p:spPr>
          <a:xfrm>
            <a:off x="0" y="6662880"/>
            <a:ext cx="245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2010 SMSC. All rights reserved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Rectangle 9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" name="Picture 93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sp>
        <p:nvSpPr>
          <p:cNvPr id="56" name="Line 52"/>
          <p:cNvSpPr/>
          <p:nvPr/>
        </p:nvSpPr>
        <p:spPr>
          <a:xfrm>
            <a:off x="0" y="520560"/>
            <a:ext cx="9144000" cy="0"/>
          </a:xfrm>
          <a:prstGeom prst="line">
            <a:avLst/>
          </a:prstGeom>
          <a:ln w="12600">
            <a:solidFill>
              <a:srgbClr val="d55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95"/>
          <p:cNvSpPr/>
          <p:nvPr/>
        </p:nvSpPr>
        <p:spPr>
          <a:xfrm>
            <a:off x="0" y="5580000"/>
            <a:ext cx="9144000" cy="0"/>
          </a:xfrm>
          <a:prstGeom prst="line">
            <a:avLst/>
          </a:prstGeom>
          <a:ln w="12600">
            <a:solidFill>
              <a:srgbClr val="d55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8" name="Picture 97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8"/>
          <p:cNvSpPr/>
          <p:nvPr/>
        </p:nvSpPr>
        <p:spPr>
          <a:xfrm>
            <a:off x="0" y="64962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9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DE45-3400-4A32-A121-F181C8FA697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7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109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2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0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60D-7347-42A3-8F2F-8B57F80F092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8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160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1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2FE0-8696-4B6B-8E31-F96B6C159F1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9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211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46A9-E41F-4408-BF0B-1BE274AD21D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0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262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5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03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CF37-8AF0-4C00-AE92-4B456FAA899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8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11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313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6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54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09D5-1694-4FBA-8D03-D99ABFCFF72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9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62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364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7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05" name="Picture 45" descr="wave"/>
          <p:cNvPicPr/>
          <p:nvPr/>
        </p:nvPicPr>
        <p:blipFill>
          <a:blip r:embed="rId2"/>
          <a:stretch/>
        </p:blipFill>
        <p:spPr>
          <a:xfrm>
            <a:off x="0" y="6319800"/>
            <a:ext cx="2995560" cy="5382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Line 4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Rectangle 51"/>
          <p:cNvSpPr/>
          <p:nvPr/>
        </p:nvSpPr>
        <p:spPr>
          <a:xfrm>
            <a:off x="1371600" y="6324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05D8-523A-4DBC-860D-C943D7EBB7D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Line 53"/>
          <p:cNvSpPr/>
          <p:nvPr/>
        </p:nvSpPr>
        <p:spPr>
          <a:xfrm>
            <a:off x="129528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Line 54"/>
          <p:cNvSpPr/>
          <p:nvPr/>
        </p:nvSpPr>
        <p:spPr>
          <a:xfrm>
            <a:off x="2057400" y="6324480"/>
            <a:ext cx="0" cy="22860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6720"/>
                </a:solidFill>
                <a:latin typeface="Arial"/>
                <a:ea typeface="ＭＳ Ｐゴシック"/>
              </a:rPr>
              <a:t>www.smsc.com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0" y="6657840"/>
            <a:ext cx="233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13" name="Picture 57" descr="wave_top"/>
          <p:cNvPicPr/>
          <p:nvPr/>
        </p:nvPicPr>
        <p:blipFill>
          <a:blip r:embed="rId3"/>
          <a:stretch/>
        </p:blipFill>
        <p:spPr>
          <a:xfrm>
            <a:off x="6148440" y="0"/>
            <a:ext cx="2995560" cy="530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8" descr="smsc_logo"/>
          <p:cNvPicPr/>
          <p:nvPr/>
        </p:nvPicPr>
        <p:blipFill>
          <a:blip r:embed="rId4"/>
          <a:stretch/>
        </p:blipFill>
        <p:spPr>
          <a:xfrm>
            <a:off x="7238880" y="6400800"/>
            <a:ext cx="1828800" cy="334800"/>
          </a:xfrm>
          <a:prstGeom prst="rect">
            <a:avLst/>
          </a:prstGeom>
          <a:ln w="0">
            <a:noFill/>
          </a:ln>
        </p:spPr>
      </p:pic>
      <p:sp>
        <p:nvSpPr>
          <p:cNvPr id="415" name="Line 59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db6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8"/>
          </p:nvPr>
        </p:nvSpPr>
        <p:spPr>
          <a:xfrm>
            <a:off x="2133360" y="6324120"/>
            <a:ext cx="3011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ign Automation Conference – June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7320" y="23587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55c19"/>
                </a:solidFill>
                <a:latin typeface="Arial"/>
              </a:rPr>
              <a:t>Hard IP Integration – From Analog to SoC Integration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d55c19"/>
                </a:solidFill>
                <a:latin typeface="Arial"/>
              </a:rPr>
              <a:t>James McCollum, Steve Klass</a:t>
            </a:r>
            <a:br>
              <a:rPr sz="2400"/>
            </a:br>
            <a:r>
              <a:rPr b="1" lang="en-US" sz="2000" spc="-1" strike="noStrike">
                <a:solidFill>
                  <a:srgbClr val="d55c19"/>
                </a:solidFill>
                <a:latin typeface="Arial"/>
              </a:rPr>
              <a:t>June 15,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243000" y="4088880"/>
            <a:ext cx="864864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3d3"/>
                </a:solidFill>
                <a:latin typeface="Arial"/>
              </a:rPr>
              <a:t>DAC 2010 – Anaheim, CA</a:t>
            </a:r>
            <a:endParaRPr b="0" lang="en-US" sz="1800" spc="-1" strike="noStrike">
              <a:solidFill>
                <a:srgbClr val="d55c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processing cycle (Verif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41200" y="649080"/>
            <a:ext cx="861696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Defined tests/validations for IP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st runs, when criteria are met, the job will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validation is special, it runs each cycle as more views are assimi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e, direction, P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or CAA and CFA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S sanit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S layer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name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yway-Verilog integr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cells, autoroutes, validate bus order, F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stream out of MW lib (testing against the source G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Example:  smscIPCHK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pic>
        <p:nvPicPr>
          <p:cNvPr id="933" name="Picture 10" descr="verify_end.jpg"/>
          <p:cNvPicPr/>
          <p:nvPr/>
        </p:nvPicPr>
        <p:blipFill>
          <a:blip r:embed="rId1"/>
          <a:stretch/>
        </p:blipFill>
        <p:spPr>
          <a:xfrm>
            <a:off x="5208480" y="1890720"/>
            <a:ext cx="3149640" cy="235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8" descr="ipchk_errors.jpg"/>
          <p:cNvPicPr/>
          <p:nvPr/>
        </p:nvPicPr>
        <p:blipFill>
          <a:blip r:embed="rId2"/>
          <a:stretch/>
        </p:blipFill>
        <p:spPr>
          <a:xfrm>
            <a:off x="4343400" y="5213520"/>
            <a:ext cx="40132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processing cycle (Gene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Generated/derived views given IP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ol will work with whatever inputs a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f a GDS is available, and LEF is not, LEF will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When GDS, LEF, and LIB are available, MW will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views in generation built from pin valid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_stub used in place of V2L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_pgv used for power/grou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berty DBs are compiled within IPGen to ensure consistency and eliminate issues arising when designs point at DBs that were compiled with different versions of Library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yway libraries are built to minimize human error in the complex BPV and FRAM generation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8" name="Picture 4" descr="generate_start.jpg"/>
          <p:cNvPicPr/>
          <p:nvPr/>
        </p:nvPicPr>
        <p:blipFill>
          <a:blip r:embed="rId1"/>
          <a:stretch/>
        </p:blipFill>
        <p:spPr>
          <a:xfrm>
            <a:off x="5970600" y="2624040"/>
            <a:ext cx="29844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 &amp; Motivation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41200" y="676440"/>
            <a:ext cx="861696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orporate movement to increase and improve IP reuse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er internally-developed IP was difficult to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no real “IP Catalog” also hampered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quality was not known or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Hard IP reuse committee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requirements and recommendations for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standards and metrics for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wide team of IP providers and end-users con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Use of externally-procured IP is increasing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expertise for specific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 team integration requirements for hard 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241200" y="676080"/>
            <a:ext cx="861696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op-level place/route capability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ty-specified cell timing/power/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/cell/pin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/LEF functionality and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file consistency (All IP used in SMSC libraries need to use a common set of SMSC techfiles for layers, contacts, etc.) Working with existing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Physical verification enabled at top-leve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DRC logs from processing time (that can be referr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P must be LVS clean to the SMSC official PD decks at process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nect by colon, no split gate reduction, no hcells fil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Need to run using existing IP releases for validation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tool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41200" y="676440"/>
            <a:ext cx="8616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Provide a consistent data structure when building IP releases for analog vs. mixed-signal vs. digital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Consistency checks (particularly with pins)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Ensure any generated or derived views/data maintains consistency with input data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Work with multiple types of IP (analog, mixed-signal, digital)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s (including memo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Enable IP to work with SoC teams using tools from multiple vendors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psys ICC/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nce SoC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80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tool requirements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1200" y="676440"/>
            <a:ext cx="86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Be capable of using multiple vendors as required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verification using Mento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yway library generation using Synopsy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 generation using Cadenc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Enforce SMSC Hard IP specifications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, attribute requirements, vers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Perform basic tests to ensure SoC usability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Support metrics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Be usable by IP providers and end-users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Low-cos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Use as much automation as possible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83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Gen – an application in Pyth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41200" y="676080"/>
            <a:ext cx="861696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Decision: Develop IPGen in-house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P packaging and generation tools wer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 met enough of the requirements to justify us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This tool was developed using Python because: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, open-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python language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 to drive EDA tools direct from 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testability due to this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IPVerify – the underlying core on which IPGen is built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validation and IP generation will see the same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the IP generation process to run as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ication Methodology to check IP (IPGe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41200" y="4993920"/>
            <a:ext cx="861696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PGen establishes a systematic methodology to provide the necessary collateral to the SOC integration teams in a consistent and verified manner.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sp>
        <p:nvSpPr>
          <p:cNvPr id="889" name="AutoShape 4"/>
          <p:cNvSpPr/>
          <p:nvPr/>
        </p:nvSpPr>
        <p:spPr>
          <a:xfrm>
            <a:off x="366840" y="1716120"/>
            <a:ext cx="1143000" cy="3650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GD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0" name="AutoShape 8"/>
          <p:cNvSpPr/>
          <p:nvPr/>
        </p:nvSpPr>
        <p:spPr>
          <a:xfrm>
            <a:off x="366840" y="2173320"/>
            <a:ext cx="1143000" cy="3650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Verilog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1" name="AutoShape 9"/>
          <p:cNvSpPr/>
          <p:nvPr/>
        </p:nvSpPr>
        <p:spPr>
          <a:xfrm>
            <a:off x="379440" y="2643120"/>
            <a:ext cx="1143000" cy="3650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Liberty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2" name="AutoShape 10"/>
          <p:cNvSpPr/>
          <p:nvPr/>
        </p:nvSpPr>
        <p:spPr>
          <a:xfrm>
            <a:off x="379440" y="3112920"/>
            <a:ext cx="1143000" cy="365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Netlis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93" name="Group 38"/>
          <p:cNvGrpSpPr/>
          <p:nvPr/>
        </p:nvGrpSpPr>
        <p:grpSpPr>
          <a:xfrm>
            <a:off x="1638360" y="1660320"/>
            <a:ext cx="1414440" cy="2741400"/>
            <a:chOff x="1638360" y="1660320"/>
            <a:chExt cx="1414440" cy="2741400"/>
          </a:xfrm>
        </p:grpSpPr>
        <p:sp>
          <p:nvSpPr>
            <p:cNvPr id="894" name="Rectangle 15"/>
            <p:cNvSpPr/>
            <p:nvPr/>
          </p:nvSpPr>
          <p:spPr>
            <a:xfrm rot="16200000">
              <a:off x="1494000" y="2842920"/>
              <a:ext cx="2741400" cy="376200"/>
            </a:xfrm>
            <a:prstGeom prst="rect">
              <a:avLst/>
            </a:prstGeom>
            <a:solidFill>
              <a:srgbClr val="d55c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</a:rPr>
                <a:t>smscIPVerif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5" name="AutoShape 21"/>
            <p:cNvSpPr/>
            <p:nvPr/>
          </p:nvSpPr>
          <p:spPr>
            <a:xfrm>
              <a:off x="1638360" y="1828800"/>
              <a:ext cx="914400" cy="1790640"/>
            </a:xfrm>
            <a:prstGeom prst="rightArrow">
              <a:avLst>
                <a:gd name="adj1" fmla="val 34398"/>
                <a:gd name="adj2" fmla="val 72917"/>
              </a:avLst>
            </a:prstGeom>
            <a:gradFill rotWithShape="0">
              <a:gsLst>
                <a:gs pos="0">
                  <a:srgbClr val="d55c19"/>
                </a:gs>
                <a:gs pos="100000">
                  <a:srgbClr val="632b0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96" name="AutoShape 23"/>
          <p:cNvSpPr/>
          <p:nvPr/>
        </p:nvSpPr>
        <p:spPr>
          <a:xfrm flipH="1" flipV="1">
            <a:off x="2031840" y="862920"/>
            <a:ext cx="4902480" cy="749160"/>
          </a:xfrm>
          <a:custGeom>
            <a:avLst/>
            <a:gdLst>
              <a:gd name="textAreaLeft" fmla="*/ 912240 w 4902480"/>
              <a:gd name="textAreaRight" fmla="*/ 3499920 w 4902480"/>
              <a:gd name="textAreaTop" fmla="*/ 100080 h 749160"/>
              <a:gd name="textAreaBottom" fmla="*/ 64908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40" hR="21600" stAng="10800000" swAng="-5400000"/>
                <a:lnTo>
                  <a:pt x="11400" y="21600"/>
                </a:lnTo>
                <a:arcTo wR="8040" hR="21600" stAng="5400000" swAng="-2788408"/>
                <a:lnTo>
                  <a:pt x="21140" y="7200"/>
                </a:lnTo>
                <a:lnTo>
                  <a:pt x="17760" y="0"/>
                </a:lnTo>
                <a:lnTo>
                  <a:pt x="13460" y="7200"/>
                </a:lnTo>
                <a:lnTo>
                  <a:pt x="15620" y="7200"/>
                </a:lnTo>
                <a:arcTo wR="8040" hR="21600" stAng="2611592" swAng="2515567"/>
                <a:lnTo>
                  <a:pt x="9720" y="21123"/>
                </a:lnTo>
                <a:arcTo wR="8040" hR="21600" stAng="5672842" swAng="5127158"/>
                <a:close/>
              </a:path>
              <a:path fill="darkenLess" w="21600" h="21600">
                <a:moveTo>
                  <a:pt x="0" y="0"/>
                </a:moveTo>
                <a:arcTo wR="8040" hR="21600" stAng="10800000" swAng="-5400000"/>
                <a:lnTo>
                  <a:pt x="11400" y="21600"/>
                </a:lnTo>
                <a:arcTo wR="8040" hR="21600" stAng="5400000" swAng="272842"/>
                <a:lnTo>
                  <a:pt x="9720" y="21123"/>
                </a:lnTo>
                <a:arcTo wR="8040" hR="21600" stAng="5672842" swAng="5127158"/>
                <a:close/>
              </a:path>
            </a:pathLst>
          </a:custGeom>
          <a:solidFill>
            <a:srgbClr val="d55c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97" name="Group 41"/>
          <p:cNvGrpSpPr/>
          <p:nvPr/>
        </p:nvGrpSpPr>
        <p:grpSpPr>
          <a:xfrm>
            <a:off x="6043680" y="1716120"/>
            <a:ext cx="1155600" cy="2232000"/>
            <a:chOff x="6043680" y="1716120"/>
            <a:chExt cx="1155600" cy="2232000"/>
          </a:xfrm>
        </p:grpSpPr>
        <p:sp>
          <p:nvSpPr>
            <p:cNvPr id="898" name="AutoShape 11"/>
            <p:cNvSpPr/>
            <p:nvPr/>
          </p:nvSpPr>
          <p:spPr>
            <a:xfrm>
              <a:off x="6043680" y="171612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GD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9" name="AutoShape 12"/>
            <p:cNvSpPr/>
            <p:nvPr/>
          </p:nvSpPr>
          <p:spPr>
            <a:xfrm>
              <a:off x="6043680" y="217332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Verilog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0" name="AutoShape 13"/>
            <p:cNvSpPr/>
            <p:nvPr/>
          </p:nvSpPr>
          <p:spPr>
            <a:xfrm>
              <a:off x="6056280" y="264312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Libert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1" name="AutoShape 14"/>
            <p:cNvSpPr/>
            <p:nvPr/>
          </p:nvSpPr>
          <p:spPr>
            <a:xfrm>
              <a:off x="6056280" y="3112920"/>
              <a:ext cx="1143000" cy="365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Netlis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2" name="AutoShape 24"/>
            <p:cNvSpPr/>
            <p:nvPr/>
          </p:nvSpPr>
          <p:spPr>
            <a:xfrm>
              <a:off x="6056280" y="358308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LEF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03" name="AutoShape 25"/>
          <p:cNvSpPr/>
          <p:nvPr/>
        </p:nvSpPr>
        <p:spPr>
          <a:xfrm>
            <a:off x="6056280" y="4052880"/>
            <a:ext cx="1143000" cy="3650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MW lib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4" name="AutoShape 26"/>
          <p:cNvSpPr/>
          <p:nvPr/>
        </p:nvSpPr>
        <p:spPr>
          <a:xfrm>
            <a:off x="6056280" y="4522680"/>
            <a:ext cx="1143000" cy="365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05" name="Group 39"/>
          <p:cNvGrpSpPr/>
          <p:nvPr/>
        </p:nvGrpSpPr>
        <p:grpSpPr>
          <a:xfrm>
            <a:off x="3211560" y="1716120"/>
            <a:ext cx="1155600" cy="1762200"/>
            <a:chOff x="3211560" y="1716120"/>
            <a:chExt cx="1155600" cy="1762200"/>
          </a:xfrm>
        </p:grpSpPr>
        <p:sp>
          <p:nvSpPr>
            <p:cNvPr id="906" name="AutoShape 27"/>
            <p:cNvSpPr/>
            <p:nvPr/>
          </p:nvSpPr>
          <p:spPr>
            <a:xfrm>
              <a:off x="3211560" y="171612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GD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7" name="AutoShape 28"/>
            <p:cNvSpPr/>
            <p:nvPr/>
          </p:nvSpPr>
          <p:spPr>
            <a:xfrm>
              <a:off x="3211560" y="217332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Verilog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8" name="AutoShape 29"/>
            <p:cNvSpPr/>
            <p:nvPr/>
          </p:nvSpPr>
          <p:spPr>
            <a:xfrm>
              <a:off x="3224160" y="2643120"/>
              <a:ext cx="1143000" cy="365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Libert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9" name="AutoShape 30"/>
            <p:cNvSpPr/>
            <p:nvPr/>
          </p:nvSpPr>
          <p:spPr>
            <a:xfrm>
              <a:off x="3224160" y="3112920"/>
              <a:ext cx="1143000" cy="365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d55c19"/>
                </a:gs>
                <a:gs pos="50000">
                  <a:srgbClr val="632b0c"/>
                </a:gs>
                <a:gs pos="100000">
                  <a:srgbClr val="d55c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  <a:ea typeface="ＭＳ Ｐゴシック"/>
                </a:rPr>
                <a:t>Netlis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0" name="AutoShape 31"/>
          <p:cNvSpPr/>
          <p:nvPr/>
        </p:nvSpPr>
        <p:spPr>
          <a:xfrm>
            <a:off x="3224160" y="3583080"/>
            <a:ext cx="1143000" cy="3650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LEF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3224160" y="4052880"/>
            <a:ext cx="1143000" cy="3650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MW lib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3224160" y="4522680"/>
            <a:ext cx="1143000" cy="365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5c19"/>
              </a:gs>
              <a:gs pos="50000">
                <a:srgbClr val="632b0c"/>
              </a:gs>
              <a:gs pos="100000">
                <a:srgbClr val="d55c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ＭＳ Ｐゴシック"/>
              </a:rPr>
              <a:t>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3" name="Group 40"/>
          <p:cNvGrpSpPr/>
          <p:nvPr/>
        </p:nvGrpSpPr>
        <p:grpSpPr>
          <a:xfrm>
            <a:off x="4508640" y="1711080"/>
            <a:ext cx="1401480" cy="2741400"/>
            <a:chOff x="4508640" y="1711080"/>
            <a:chExt cx="1401480" cy="2741400"/>
          </a:xfrm>
        </p:grpSpPr>
        <p:sp>
          <p:nvSpPr>
            <p:cNvPr id="914" name="Rectangle 16"/>
            <p:cNvSpPr/>
            <p:nvPr/>
          </p:nvSpPr>
          <p:spPr>
            <a:xfrm rot="16200000">
              <a:off x="4351320" y="2893680"/>
              <a:ext cx="2741400" cy="376200"/>
            </a:xfrm>
            <a:prstGeom prst="rect">
              <a:avLst/>
            </a:prstGeom>
            <a:solidFill>
              <a:srgbClr val="d55c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</a:rPr>
                <a:t>smscIPGe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5" name="AutoShape 35"/>
            <p:cNvSpPr/>
            <p:nvPr/>
          </p:nvSpPr>
          <p:spPr>
            <a:xfrm>
              <a:off x="4508640" y="1828800"/>
              <a:ext cx="914400" cy="1790640"/>
            </a:xfrm>
            <a:prstGeom prst="rightArrow">
              <a:avLst>
                <a:gd name="adj1" fmla="val 34398"/>
                <a:gd name="adj2" fmla="val 72917"/>
              </a:avLst>
            </a:prstGeom>
            <a:gradFill rotWithShape="0">
              <a:gsLst>
                <a:gs pos="0">
                  <a:srgbClr val="d55c19"/>
                </a:gs>
                <a:gs pos="100000">
                  <a:srgbClr val="632b0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16" name="Group 42"/>
          <p:cNvGrpSpPr/>
          <p:nvPr/>
        </p:nvGrpSpPr>
        <p:grpSpPr>
          <a:xfrm>
            <a:off x="7327800" y="1711080"/>
            <a:ext cx="1401840" cy="2741400"/>
            <a:chOff x="7327800" y="1711080"/>
            <a:chExt cx="1401840" cy="2741400"/>
          </a:xfrm>
        </p:grpSpPr>
        <p:sp>
          <p:nvSpPr>
            <p:cNvPr id="917" name="Rectangle 36"/>
            <p:cNvSpPr/>
            <p:nvPr/>
          </p:nvSpPr>
          <p:spPr>
            <a:xfrm rot="16200000">
              <a:off x="7170840" y="2893680"/>
              <a:ext cx="2741400" cy="376200"/>
            </a:xfrm>
            <a:prstGeom prst="rect">
              <a:avLst/>
            </a:prstGeom>
            <a:solidFill>
              <a:srgbClr val="d55c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ddddd"/>
                  </a:solidFill>
                  <a:latin typeface="Arial"/>
                </a:rPr>
                <a:t>Release to Perfor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8" name="AutoShape 37"/>
            <p:cNvSpPr/>
            <p:nvPr/>
          </p:nvSpPr>
          <p:spPr>
            <a:xfrm>
              <a:off x="7327800" y="1828800"/>
              <a:ext cx="914400" cy="1790640"/>
            </a:xfrm>
            <a:prstGeom prst="rightArrow">
              <a:avLst>
                <a:gd name="adj1" fmla="val 34398"/>
                <a:gd name="adj2" fmla="val 72917"/>
              </a:avLst>
            </a:prstGeom>
            <a:gradFill rotWithShape="0">
              <a:gsLst>
                <a:gs pos="0">
                  <a:srgbClr val="d55c19"/>
                </a:gs>
                <a:gs pos="100000">
                  <a:srgbClr val="632b0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9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Hard IP Process (Internal/Externa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40840" y="558720"/>
            <a:ext cx="4232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55c19"/>
                </a:solidFill>
                <a:latin typeface="Arial"/>
              </a:rPr>
              <a:t>Benefits</a:t>
            </a:r>
            <a:endParaRPr b="0" lang="en-US" sz="2200" spc="-1" strike="noStrike">
              <a:solidFill>
                <a:srgbClr val="d55c1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udit up front can be informational to both the IP Consumer and IP Provi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inputs - can be as little or as many as deliv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are known early and can be fed back to proc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55c19"/>
                </a:solidFill>
                <a:latin typeface="Arial"/>
              </a:rPr>
              <a:t>Process</a:t>
            </a:r>
            <a:endParaRPr b="0" lang="en-US" sz="2200" spc="-1" strike="noStrike">
              <a:solidFill>
                <a:srgbClr val="d55c1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IP can be pushed into perforce by IP providers or by the Hard IP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P can be pushed into perforce by sending a request email to the Hard IP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g and issue tracking request email to Hard IP Team is required for Bugzilla support and to establish a point person for 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4473720" y="4968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ocess is facilitated by the IP Providers or the “Hard IP” Team including Design Automatio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3" name="Picture 5" descr=""/>
          <p:cNvPicPr/>
          <p:nvPr/>
        </p:nvPicPr>
        <p:blipFill>
          <a:blip r:embed="rId1"/>
          <a:stretch/>
        </p:blipFill>
        <p:spPr>
          <a:xfrm>
            <a:off x="4314960" y="1220760"/>
            <a:ext cx="4730760" cy="3191040"/>
          </a:xfrm>
          <a:prstGeom prst="rect">
            <a:avLst/>
          </a:prstGeom>
          <a:ln w="0">
            <a:noFill/>
          </a:ln>
        </p:spPr>
      </p:pic>
      <p:sp>
        <p:nvSpPr>
          <p:cNvPr id="924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processing cycle (Health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Date Placeholder 3"/>
          <p:cNvSpPr/>
          <p:nvPr/>
        </p:nvSpPr>
        <p:spPr>
          <a:xfrm>
            <a:off x="2133720" y="6324480"/>
            <a:ext cx="30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 Automation Conference – June 2010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241200" y="676080"/>
            <a:ext cx="861696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IPGen first will run health checks on views provided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hecks only occur once p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On a successive loop, completed checks are skipped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One output of the Health cycle involves metrics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s the IP against the Hard IP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93d3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ata will be available in the IP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5c19"/>
                </a:solidFill>
                <a:latin typeface="Arial"/>
              </a:rPr>
              <a:t>Example: Liberty model metrics</a:t>
            </a: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3d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55c19"/>
              </a:solidFill>
              <a:latin typeface="Arial"/>
            </a:endParaRPr>
          </a:p>
        </p:txBody>
      </p:sp>
      <p:pic>
        <p:nvPicPr>
          <p:cNvPr id="928" name="Picture 11" descr="health_end.jpg"/>
          <p:cNvPicPr/>
          <p:nvPr/>
        </p:nvPicPr>
        <p:blipFill>
          <a:blip r:embed="rId1"/>
          <a:stretch/>
        </p:blipFill>
        <p:spPr>
          <a:xfrm>
            <a:off x="2479680" y="1990800"/>
            <a:ext cx="3301920" cy="1638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2" descr="metrics_liberty.jpg"/>
          <p:cNvPicPr/>
          <p:nvPr/>
        </p:nvPicPr>
        <p:blipFill>
          <a:blip r:embed="rId2"/>
          <a:stretch/>
        </p:blipFill>
        <p:spPr>
          <a:xfrm>
            <a:off x="5259240" y="4962600"/>
            <a:ext cx="34545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9:25:04Z</dcterms:created>
  <dc:creator>James McCollum</dc:creator>
  <dc:description/>
  <cp:keywords/>
  <dc:language>en-US</dc:language>
  <cp:lastModifiedBy>James McCollum</cp:lastModifiedBy>
  <dcterms:modified xsi:type="dcterms:W3CDTF">2010-05-07T23:41:25Z</dcterms:modified>
  <cp:revision>103</cp:revision>
  <dc:subject>IP reuse</dc:subject>
  <dc:title>Hard IP Integration -- from Analog to SoC Integration</dc:title>
</cp:coreProperties>
</file>