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.wmf" ContentType="image/x-wmf"/>
  <Override PartName="/ppt/media/image2.wmf" ContentType="image/x-wmf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329184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7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BFEB6-1ED2-454D-80E6-DB50BB97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773360" y="692280"/>
            <a:ext cx="3463560" cy="3463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7"/>
          </p:nvPr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9C13C5-8AFB-4ED0-A076-6441DB7908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BC9-1A87-4705-8B77-A577FEEC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2962620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45920" y="17674920"/>
            <a:ext cx="2962620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8FB-7D5C-4B0A-AA7B-7895264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640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45920" y="1767492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6826400" y="1767492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9A5-2838-4E7A-B876-AF65BC04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662560" y="770256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679200" y="770256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45920" y="1767492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1662560" y="1767492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1679200" y="17674920"/>
            <a:ext cx="953928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8E6-9777-4D78-9D89-D3B02945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45920" y="7702560"/>
            <a:ext cx="2962620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9BF-55F9-4C17-8996-6E392040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2962620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450-2A1D-476B-A110-D5BFCEC5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1445724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6826400" y="7702560"/>
            <a:ext cx="1445724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00F-A853-49F5-BAAA-EBDADA2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A2C-2F04-4000-BD25-C345A525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5920" y="1313280"/>
            <a:ext cx="29626200" cy="254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6F7-487C-4276-A68C-81F23BE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6826400" y="7702560"/>
            <a:ext cx="1445724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45920" y="1767492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D26-1BAC-4B5C-9928-684B60C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14457240" cy="19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82640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826400" y="1767492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701-2D0C-42C8-BAF2-3B170FEA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5920" y="1313280"/>
            <a:ext cx="29626200" cy="54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4592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826400" y="7702560"/>
            <a:ext cx="1445724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45920" y="17674920"/>
            <a:ext cx="29626200" cy="9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A78-D48C-4E0B-83EB-6B82966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646280" y="29976840"/>
            <a:ext cx="767988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76200" rIns="376200" tIns="188280" bIns="18828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1247480" y="29976840"/>
            <a:ext cx="1042308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76200" rIns="376200" tIns="188280" bIns="18828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23591880" y="29976840"/>
            <a:ext cx="767988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76200" rIns="376200" tIns="188280" bIns="18828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5FB4C8-5287-42EE-AB19-C088D074BC24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37"/>
          <p:cNvGrpSpPr/>
          <p:nvPr/>
        </p:nvGrpSpPr>
        <p:grpSpPr>
          <a:xfrm>
            <a:off x="2057400" y="24383880"/>
            <a:ext cx="8305560" cy="7086240"/>
            <a:chOff x="2057400" y="24383880"/>
            <a:chExt cx="8305560" cy="7086240"/>
          </a:xfrm>
        </p:grpSpPr>
        <p:sp>
          <p:nvSpPr>
            <p:cNvPr id="46" name="Rectangle 224"/>
            <p:cNvSpPr/>
            <p:nvPr/>
          </p:nvSpPr>
          <p:spPr>
            <a:xfrm>
              <a:off x="2057400" y="24383880"/>
              <a:ext cx="8305560" cy="708624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"/>
            <p:cNvSpPr/>
            <p:nvPr/>
          </p:nvSpPr>
          <p:spPr>
            <a:xfrm>
              <a:off x="2514600" y="2461248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" name="Picture 122" descr="MCj04244660000[1]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5264280" y="25352280"/>
              <a:ext cx="1974600" cy="16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598"/>
            <p:cNvSpPr/>
            <p:nvPr/>
          </p:nvSpPr>
          <p:spPr>
            <a:xfrm>
              <a:off x="2514600" y="25298280"/>
              <a:ext cx="7391160" cy="18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remental Via Filling was used on “Lincroft” (Next generation System On Chip for Intel® Atom™ process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% density violations were removed in a DRC aware fashion with reasonable run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of the density errors were contributed by KOR layers in the 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4"/>
          <p:cNvSpPr/>
          <p:nvPr/>
        </p:nvSpPr>
        <p:spPr>
          <a:xfrm>
            <a:off x="0" y="815760"/>
            <a:ext cx="3291804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 Incremental, Correct by Construction Approach of Addressing Via Den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byendu Goswami, Swami Gangadharan, Albert Hol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55" descr=""/>
          <p:cNvPicPr/>
          <p:nvPr/>
        </p:nvPicPr>
        <p:blipFill>
          <a:blip r:embed="rId2"/>
          <a:stretch/>
        </p:blipFill>
        <p:spPr>
          <a:xfrm>
            <a:off x="26060400" y="29718000"/>
            <a:ext cx="4343040" cy="1750680"/>
          </a:xfrm>
          <a:prstGeom prst="rect">
            <a:avLst/>
          </a:prstGeom>
          <a:ln w="9525">
            <a:noFill/>
          </a:ln>
        </p:spPr>
      </p:pic>
      <p:sp>
        <p:nvSpPr>
          <p:cNvPr id="52" name="Rectangle 939"/>
          <p:cNvSpPr/>
          <p:nvPr/>
        </p:nvSpPr>
        <p:spPr>
          <a:xfrm>
            <a:off x="3017880" y="29176920"/>
            <a:ext cx="34747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99"/>
          <p:cNvSpPr/>
          <p:nvPr/>
        </p:nvSpPr>
        <p:spPr>
          <a:xfrm>
            <a:off x="3581280" y="27127080"/>
            <a:ext cx="5714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Machine: 4CPU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Xeon(R)5150@2.66GH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66GB 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time: 15hrs 30m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able 600"/>
          <p:cNvGraphicFramePr/>
          <p:nvPr/>
        </p:nvGraphicFramePr>
        <p:xfrm>
          <a:off x="2666880" y="27965520"/>
          <a:ext cx="7162560" cy="3380400"/>
        </p:xfrm>
        <a:graphic>
          <a:graphicData uri="http://schemas.openxmlformats.org/drawingml/2006/table">
            <a:tbl>
              <a:tblPr/>
              <a:tblGrid>
                <a:gridCol w="754560"/>
                <a:gridCol w="957960"/>
                <a:gridCol w="1117080"/>
                <a:gridCol w="754560"/>
                <a:gridCol w="811800"/>
                <a:gridCol w="2765880"/>
              </a:tblGrid>
              <a:tr h="402120">
                <a:tc rowSpan="2"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gridSpan="2"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 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Min Density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no 2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 for vi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6820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Via4 Violations. No K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5492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of the remaining density errors were due to KOR layers in the design that prevented v5 fills in certain reg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2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Via6 violations. No K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61760"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a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of the remaining density errors were due to KOR layers in the design that prevented v7 fills in certain reg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4572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pSp>
        <p:nvGrpSpPr>
          <p:cNvPr id="55" name="Group 234"/>
          <p:cNvGrpSpPr/>
          <p:nvPr/>
        </p:nvGrpSpPr>
        <p:grpSpPr>
          <a:xfrm>
            <a:off x="22555080" y="23469480"/>
            <a:ext cx="8305560" cy="5409720"/>
            <a:chOff x="22555080" y="23469480"/>
            <a:chExt cx="8305560" cy="5409720"/>
          </a:xfrm>
        </p:grpSpPr>
        <p:sp>
          <p:nvSpPr>
            <p:cNvPr id="56" name="Rectangle 225"/>
            <p:cNvSpPr/>
            <p:nvPr/>
          </p:nvSpPr>
          <p:spPr>
            <a:xfrm>
              <a:off x="22555080" y="23469480"/>
              <a:ext cx="8305560" cy="540972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"/>
            <p:cNvSpPr/>
            <p:nvPr/>
          </p:nvSpPr>
          <p:spPr>
            <a:xfrm>
              <a:off x="22993200" y="2369808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clusions and Future Wor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1"/>
            <p:cNvSpPr/>
            <p:nvPr/>
          </p:nvSpPr>
          <p:spPr>
            <a:xfrm>
              <a:off x="23012280" y="24612480"/>
              <a:ext cx="7391160" cy="39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al Via Filling can address stringent via density in UDSM node in a DRC-aware fash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al, Via fills are grown in DRC correct by Con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o types of Via filling based on timing and reli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e types of metal fill stitching schemes to maximize on Via fi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filling contributes to 8% more via f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eudo-Iterative filling wherein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, via fills are grown at the 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itself improves on runtime by ~1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r>
                <a:rPr b="0" lang="en-US" sz="20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rd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Pass Via filling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o address the rest of the density errors is a potential o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2"/>
          <p:cNvGrpSpPr/>
          <p:nvPr/>
        </p:nvGrpSpPr>
        <p:grpSpPr>
          <a:xfrm>
            <a:off x="22555080" y="3962520"/>
            <a:ext cx="8305560" cy="8229240"/>
            <a:chOff x="22555080" y="3962520"/>
            <a:chExt cx="8305560" cy="8229240"/>
          </a:xfrm>
        </p:grpSpPr>
        <p:sp>
          <p:nvSpPr>
            <p:cNvPr id="60" name="Rectangle 221"/>
            <p:cNvSpPr/>
            <p:nvPr/>
          </p:nvSpPr>
          <p:spPr>
            <a:xfrm>
              <a:off x="22555080" y="3962520"/>
              <a:ext cx="8305560" cy="822924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83"/>
            <p:cNvSpPr/>
            <p:nvPr/>
          </p:nvSpPr>
          <p:spPr>
            <a:xfrm>
              <a:off x="22980600" y="4952880"/>
              <a:ext cx="746712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a fills maximized by employing different metal fill stitching schemes 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Via Filling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l Fill to Upper pwr, gnd (f2up) St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l Fill to Down pwr, gnd (f2dp) St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lX Fill to Metal(X+1) Fill (f2f) St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a fills at the intersection MetalX and Metal(X+1) fills of same pola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"/>
            <p:cNvPicPr/>
            <p:nvPr/>
          </p:nvPicPr>
          <p:blipFill>
            <a:blip r:embed="rId3"/>
            <a:stretch/>
          </p:blipFill>
          <p:spPr>
            <a:xfrm>
              <a:off x="24787080" y="8714520"/>
              <a:ext cx="3495240" cy="268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4"/>
            <a:stretch/>
          </p:blipFill>
          <p:spPr>
            <a:xfrm>
              <a:off x="28438200" y="9781560"/>
              <a:ext cx="8568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5"/>
            <p:cNvSpPr/>
            <p:nvPr/>
          </p:nvSpPr>
          <p:spPr>
            <a:xfrm>
              <a:off x="22838040" y="8839080"/>
              <a:ext cx="2002680" cy="975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55800" rIns="55800" tIns="27720" bIns="27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ll to Upper Power Stitc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V4 Fill that stitches M4 Fill with M5 V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24906960" y="10008720"/>
              <a:ext cx="557280" cy="18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55800" rIns="55800" tIns="27720" bIns="27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alibri"/>
                </a:rPr>
                <a:t>M5 V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28438200" y="8853840"/>
              <a:ext cx="1965240" cy="823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55800" rIns="55800" tIns="27720" bIns="27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ll to Fill Stitc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V4 Fill that stitches M4 Fill with M5 F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8368360" y="10695960"/>
              <a:ext cx="2057040" cy="733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55800" rIns="55800" tIns="27720" bIns="27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ll to Down Power Stitch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V4 Fill that stitches M5 Fill with M4 V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9"/>
            <p:cNvSpPr/>
            <p:nvPr/>
          </p:nvSpPr>
          <p:spPr>
            <a:xfrm>
              <a:off x="28017360" y="11000520"/>
              <a:ext cx="350640" cy="36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 flipH="1">
              <a:off x="24710400" y="8938440"/>
              <a:ext cx="496080" cy="30924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 flipV="1">
              <a:off x="24634440" y="9552600"/>
              <a:ext cx="524520" cy="11304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24003360" y="11038680"/>
              <a:ext cx="1021320" cy="232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55800" rIns="55800" tIns="27720" bIns="27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4 V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>
              <a:off x="24558120" y="11139840"/>
              <a:ext cx="1000440" cy="1296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>
              <a:off x="28026000" y="8929800"/>
              <a:ext cx="411840" cy="36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 flipV="1">
              <a:off x="28056960" y="9387000"/>
              <a:ext cx="380880" cy="304560"/>
            </a:xfrm>
            <a:prstGeom prst="line">
              <a:avLst/>
            </a:prstGeom>
            <a:ln w="28575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501"/>
            <p:cNvSpPr/>
            <p:nvPr/>
          </p:nvSpPr>
          <p:spPr>
            <a:xfrm>
              <a:off x="24460200" y="11582280"/>
              <a:ext cx="4593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fferent stitching schemes during 1st Pass Via F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22860000" y="7161120"/>
              <a:ext cx="7705440" cy="1144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77" name="Rectangle 2"/>
            <p:cNvSpPr/>
            <p:nvPr/>
          </p:nvSpPr>
          <p:spPr>
            <a:xfrm>
              <a:off x="22980600" y="425016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tal Fill Stitching Schem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Group 230"/>
          <p:cNvGrpSpPr/>
          <p:nvPr/>
        </p:nvGrpSpPr>
        <p:grpSpPr>
          <a:xfrm>
            <a:off x="2057400" y="3962520"/>
            <a:ext cx="8305560" cy="6552720"/>
            <a:chOff x="2057400" y="3962520"/>
            <a:chExt cx="8305560" cy="6552720"/>
          </a:xfrm>
        </p:grpSpPr>
        <p:sp>
          <p:nvSpPr>
            <p:cNvPr id="79" name="Rectangle 219"/>
            <p:cNvSpPr/>
            <p:nvPr/>
          </p:nvSpPr>
          <p:spPr>
            <a:xfrm>
              <a:off x="2057400" y="3962520"/>
              <a:ext cx="8305560" cy="655272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95"/>
            <p:cNvSpPr/>
            <p:nvPr/>
          </p:nvSpPr>
          <p:spPr>
            <a:xfrm>
              <a:off x="2514600" y="5029200"/>
              <a:ext cx="7314840" cy="51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tremely stringent via density rules in UDSM n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ventional Via filling by stitching metal fills with power, ground buses is not enou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emendous increase in number and complexity of DR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es challenge to make Via fills DRC a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itional constraint for via fill patterning – limits the no of via f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connects becoming taller, thinner and clo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ificant increase in cross-coupling capaci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ximize Via fill to reduce IR-dr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gle pass” Via filling often results in “density Violation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"/>
            <p:cNvSpPr/>
            <p:nvPr/>
          </p:nvSpPr>
          <p:spPr>
            <a:xfrm>
              <a:off x="2514600" y="425052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otiv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Group 233"/>
          <p:cNvGrpSpPr/>
          <p:nvPr/>
        </p:nvGrpSpPr>
        <p:grpSpPr>
          <a:xfrm>
            <a:off x="22555080" y="12725280"/>
            <a:ext cx="8305560" cy="10210320"/>
            <a:chOff x="22555080" y="12725280"/>
            <a:chExt cx="8305560" cy="10210320"/>
          </a:xfrm>
        </p:grpSpPr>
        <p:sp>
          <p:nvSpPr>
            <p:cNvPr id="83" name="Rectangle 222"/>
            <p:cNvSpPr/>
            <p:nvPr/>
          </p:nvSpPr>
          <p:spPr>
            <a:xfrm>
              <a:off x="22555080" y="12725280"/>
              <a:ext cx="8305560" cy="1021032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06"/>
            <p:cNvSpPr/>
            <p:nvPr/>
          </p:nvSpPr>
          <p:spPr>
            <a:xfrm>
              <a:off x="22936320" y="13552560"/>
              <a:ext cx="7467120" cy="10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ill not Enough!! Need more Via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oot Cause: Presence of excessive signal metals resulting in sparse metal fills (“3X DR” spac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60"/>
            <p:cNvSpPr/>
            <p:nvPr/>
          </p:nvSpPr>
          <p:spPr>
            <a:xfrm>
              <a:off x="23088600" y="18505440"/>
              <a:ext cx="7391160" cy="27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a density rules are checked on 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, Via fill inserted lay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en-US" sz="20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nd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pass metal fil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Metal fills that are created at “1X” distance from signal met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en-US" sz="20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nd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pass Via fil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Stitch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 fills by employing all three types of stitching sche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seudo-Iterative Filli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Both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 and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Vias are grown in the 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itse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322"/>
            <p:cNvGrpSpPr/>
            <p:nvPr/>
          </p:nvGrpSpPr>
          <p:grpSpPr>
            <a:xfrm>
              <a:off x="23774400" y="14695560"/>
              <a:ext cx="5933880" cy="3712680"/>
              <a:chOff x="23774400" y="14695560"/>
              <a:chExt cx="5933880" cy="3712680"/>
            </a:xfrm>
          </p:grpSpPr>
          <p:pic>
            <p:nvPicPr>
              <p:cNvPr id="87" name="Picture 508" descr=""/>
              <p:cNvPicPr/>
              <p:nvPr/>
            </p:nvPicPr>
            <p:blipFill>
              <a:blip r:embed="rId6"/>
              <a:stretch/>
            </p:blipFill>
            <p:spPr>
              <a:xfrm>
                <a:off x="23774400" y="15133680"/>
                <a:ext cx="3180960" cy="263808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88" name="Text Box 5"/>
              <p:cNvSpPr/>
              <p:nvPr/>
            </p:nvSpPr>
            <p:spPr>
              <a:xfrm>
                <a:off x="27117720" y="17267400"/>
                <a:ext cx="2590560" cy="685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ia5 density violating window Only 2 more V5 fills requ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8"/>
              <p:cNvSpPr/>
              <p:nvPr/>
            </p:nvSpPr>
            <p:spPr>
              <a:xfrm>
                <a:off x="24239520" y="16757640"/>
                <a:ext cx="533160" cy="342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9"/>
              <p:cNvSpPr/>
              <p:nvPr/>
            </p:nvSpPr>
            <p:spPr>
              <a:xfrm>
                <a:off x="24258600" y="16643520"/>
                <a:ext cx="304560" cy="456840"/>
              </a:xfrm>
              <a:prstGeom prst="ellipse">
                <a:avLst/>
              </a:pr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7"/>
              <p:cNvSpPr/>
              <p:nvPr/>
            </p:nvSpPr>
            <p:spPr>
              <a:xfrm>
                <a:off x="24603120" y="14695560"/>
                <a:ext cx="1904400" cy="234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5 power/gnd b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8"/>
              <p:cNvSpPr/>
              <p:nvPr/>
            </p:nvSpPr>
            <p:spPr>
              <a:xfrm>
                <a:off x="23993640" y="15590880"/>
                <a:ext cx="1353600" cy="328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5 sig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9"/>
              <p:cNvSpPr/>
              <p:nvPr/>
            </p:nvSpPr>
            <p:spPr>
              <a:xfrm flipV="1">
                <a:off x="24277680" y="15843240"/>
                <a:ext cx="75960" cy="342720"/>
              </a:xfrm>
              <a:prstGeom prst="line">
                <a:avLst/>
              </a:prstGeom>
              <a:ln w="28575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 flipV="1">
                <a:off x="24452280" y="15843240"/>
                <a:ext cx="104760" cy="529560"/>
              </a:xfrm>
              <a:prstGeom prst="line">
                <a:avLst/>
              </a:prstGeom>
              <a:ln w="28575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4"/>
              <p:cNvSpPr/>
              <p:nvPr/>
            </p:nvSpPr>
            <p:spPr>
              <a:xfrm>
                <a:off x="25908120" y="16838640"/>
                <a:ext cx="1161000" cy="2426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Via5 Fi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8"/>
              <p:cNvSpPr/>
              <p:nvPr/>
            </p:nvSpPr>
            <p:spPr>
              <a:xfrm>
                <a:off x="23972760" y="15157440"/>
                <a:ext cx="2896200" cy="2514240"/>
              </a:xfrm>
              <a:prstGeom prst="rect">
                <a:avLst/>
              </a:prstGeom>
              <a:noFill/>
              <a:ln w="28575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27498600" y="16048080"/>
                <a:ext cx="1190160" cy="79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Line 11"/>
              <p:cNvSpPr/>
              <p:nvPr/>
            </p:nvSpPr>
            <p:spPr>
              <a:xfrm>
                <a:off x="26888760" y="17519400"/>
                <a:ext cx="304920" cy="5256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1"/>
              <p:cNvSpPr/>
              <p:nvPr/>
            </p:nvSpPr>
            <p:spPr>
              <a:xfrm flipV="1">
                <a:off x="24993360" y="14981040"/>
                <a:ext cx="219240" cy="47628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 flipH="1" flipV="1">
                <a:off x="25517160" y="14981040"/>
                <a:ext cx="381240" cy="22860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514"/>
              <p:cNvSpPr/>
              <p:nvPr/>
            </p:nvSpPr>
            <p:spPr>
              <a:xfrm>
                <a:off x="24679440" y="18105480"/>
                <a:ext cx="38095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5 Density  Violation after 1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s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pass Via Fil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 flipH="1" flipV="1">
                <a:off x="26364960" y="17085960"/>
                <a:ext cx="304920" cy="228600"/>
              </a:xfrm>
              <a:prstGeom prst="line">
                <a:avLst/>
              </a:prstGeom>
              <a:ln w="28575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Picture 7" descr=""/>
            <p:cNvPicPr/>
            <p:nvPr/>
          </p:nvPicPr>
          <p:blipFill>
            <a:blip r:embed="rId8"/>
            <a:stretch/>
          </p:blipFill>
          <p:spPr>
            <a:xfrm>
              <a:off x="23926680" y="21629520"/>
              <a:ext cx="5994000" cy="1153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04" name="Rectangle 2"/>
            <p:cNvSpPr/>
            <p:nvPr/>
          </p:nvSpPr>
          <p:spPr>
            <a:xfrm>
              <a:off x="22983840" y="1294272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Incremental Via Fil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31"/>
          <p:cNvGrpSpPr/>
          <p:nvPr/>
        </p:nvGrpSpPr>
        <p:grpSpPr>
          <a:xfrm>
            <a:off x="12268080" y="3962520"/>
            <a:ext cx="8305560" cy="11581920"/>
            <a:chOff x="12268080" y="3962520"/>
            <a:chExt cx="8305560" cy="11581920"/>
          </a:xfrm>
        </p:grpSpPr>
        <p:sp>
          <p:nvSpPr>
            <p:cNvPr id="106" name="Rectangle 220"/>
            <p:cNvSpPr/>
            <p:nvPr/>
          </p:nvSpPr>
          <p:spPr>
            <a:xfrm>
              <a:off x="12268080" y="3962520"/>
              <a:ext cx="8305560" cy="1158192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21" descr="gradient blue arrow.png"/>
            <p:cNvPicPr/>
            <p:nvPr/>
          </p:nvPicPr>
          <p:blipFill>
            <a:blip r:embed="rId9"/>
            <a:stretch/>
          </p:blipFill>
          <p:spPr>
            <a:xfrm>
              <a:off x="14250960" y="12364920"/>
              <a:ext cx="4870080" cy="114732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08" name="Group 204"/>
            <p:cNvGrpSpPr/>
            <p:nvPr/>
          </p:nvGrpSpPr>
          <p:grpSpPr>
            <a:xfrm>
              <a:off x="14367960" y="7620120"/>
              <a:ext cx="3919680" cy="2066760"/>
              <a:chOff x="14367960" y="7620120"/>
              <a:chExt cx="3919680" cy="2066760"/>
            </a:xfrm>
          </p:grpSpPr>
          <p:sp>
            <p:nvSpPr>
              <p:cNvPr id="109" name="TextBox 464"/>
              <p:cNvSpPr/>
              <p:nvPr/>
            </p:nvSpPr>
            <p:spPr>
              <a:xfrm>
                <a:off x="15724440" y="9384120"/>
                <a:ext cx="17251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4 Fill Patter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9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954400" y="7647840"/>
                <a:ext cx="3333240" cy="16855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1" name="Straight Arrow Connector 466"/>
              <p:cNvCxnSpPr/>
              <p:nvPr/>
            </p:nvCxnSpPr>
            <p:spPr>
              <a:xfrm>
                <a:off x="15792120" y="8104680"/>
                <a:ext cx="228960" cy="21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cxnSp>
            <p:nvCxnSpPr>
              <p:cNvPr id="112" name="Straight Arrow Connector 467"/>
              <p:cNvCxnSpPr/>
              <p:nvPr/>
            </p:nvCxnSpPr>
            <p:spPr>
              <a:xfrm flipH="1">
                <a:off x="16858800" y="7800120"/>
                <a:ext cx="2160" cy="2289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cxnSp>
            <p:nvCxnSpPr>
              <p:cNvPr id="113" name="Straight Arrow Connector 468"/>
              <p:cNvCxnSpPr/>
              <p:nvPr/>
            </p:nvCxnSpPr>
            <p:spPr>
              <a:xfrm>
                <a:off x="15792120" y="8866800"/>
                <a:ext cx="305280" cy="180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round/>
                <a:tailEnd len="med" type="arrow" w="med"/>
              </a:ln>
            </p:spPr>
          </p:cxnSp>
          <p:cxnSp>
            <p:nvCxnSpPr>
              <p:cNvPr id="114" name="Straight Arrow Connector 469"/>
              <p:cNvCxnSpPr/>
              <p:nvPr/>
            </p:nvCxnSpPr>
            <p:spPr>
              <a:xfrm flipH="1" flipV="1">
                <a:off x="16197120" y="8866800"/>
                <a:ext cx="457560" cy="180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round/>
                <a:tailEnd len="med" type="arrow" w="med"/>
              </a:ln>
            </p:spPr>
          </p:cxnSp>
          <p:sp>
            <p:nvSpPr>
              <p:cNvPr id="115" name="TextBox 470"/>
              <p:cNvSpPr/>
              <p:nvPr/>
            </p:nvSpPr>
            <p:spPr>
              <a:xfrm>
                <a:off x="16860600" y="780012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471"/>
              <p:cNvSpPr/>
              <p:nvPr/>
            </p:nvSpPr>
            <p:spPr>
              <a:xfrm>
                <a:off x="15640200" y="781920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472"/>
              <p:cNvSpPr/>
              <p:nvPr/>
            </p:nvSpPr>
            <p:spPr>
              <a:xfrm>
                <a:off x="15868800" y="887580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473"/>
              <p:cNvSpPr/>
              <p:nvPr/>
            </p:nvSpPr>
            <p:spPr>
              <a:xfrm>
                <a:off x="16993800" y="8610480"/>
                <a:ext cx="10663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4 Pow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474"/>
              <p:cNvSpPr/>
              <p:nvPr/>
            </p:nvSpPr>
            <p:spPr>
              <a:xfrm>
                <a:off x="17070120" y="8153280"/>
                <a:ext cx="10663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4 Sig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Straight Arrow Connector 475"/>
              <p:cNvCxnSpPr/>
              <p:nvPr/>
            </p:nvCxnSpPr>
            <p:spPr>
              <a:xfrm>
                <a:off x="16793640" y="8096040"/>
                <a:ext cx="305280" cy="228960"/>
              </a:xfrm>
              <a:prstGeom prst="straightConnector1">
                <a:avLst/>
              </a:prstGeom>
              <a:ln w="12700">
                <a:solidFill>
                  <a:srgbClr val="ffffff"/>
                </a:solidFill>
                <a:round/>
                <a:tailEnd len="med" type="arrow" w="med"/>
              </a:ln>
            </p:spPr>
          </p:cxnSp>
          <p:sp>
            <p:nvSpPr>
              <p:cNvPr id="121" name="Left Brace 476"/>
              <p:cNvSpPr/>
              <p:nvPr/>
            </p:nvSpPr>
            <p:spPr>
              <a:xfrm>
                <a:off x="14687640" y="7620120"/>
                <a:ext cx="342720" cy="1752120"/>
              </a:xfrm>
              <a:prstGeom prst="leftBrace">
                <a:avLst>
                  <a:gd name="adj1" fmla="val 8333"/>
                  <a:gd name="adj2" fmla="val 50000"/>
                </a:avLst>
              </a:prstGeom>
              <a:noFill/>
              <a:ln w="28575">
                <a:solidFill>
                  <a:srgbClr val="0000ff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477"/>
              <p:cNvSpPr/>
              <p:nvPr/>
            </p:nvSpPr>
            <p:spPr>
              <a:xfrm rot="16200000">
                <a:off x="13804920" y="8335440"/>
                <a:ext cx="14284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Fil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480"/>
            <p:cNvSpPr/>
            <p:nvPr/>
          </p:nvSpPr>
          <p:spPr>
            <a:xfrm>
              <a:off x="12725280" y="5103000"/>
              <a:ext cx="746712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al fills are based on pre-defined “fill grids”, at 3X DR (Design Rule) from Signal and 1X DR from pwr, gnd bu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C-cleanliness: Min-length, min-width checks with “Metal Fill Segmentation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a Fill polygons are grown by Group Selection Boxes (GSB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itional restriction on Via fills due to Via Patterning Iss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" descr=""/>
            <p:cNvPicPr/>
            <p:nvPr/>
          </p:nvPicPr>
          <p:blipFill>
            <a:blip r:embed="rId11"/>
            <a:stretch/>
          </p:blipFill>
          <p:spPr>
            <a:xfrm>
              <a:off x="13450320" y="13507920"/>
              <a:ext cx="6246360" cy="17316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25" name="Group 286"/>
            <p:cNvGrpSpPr/>
            <p:nvPr/>
          </p:nvGrpSpPr>
          <p:grpSpPr>
            <a:xfrm>
              <a:off x="13106520" y="9774360"/>
              <a:ext cx="6705360" cy="2445840"/>
              <a:chOff x="13106520" y="9774360"/>
              <a:chExt cx="6705360" cy="2445840"/>
            </a:xfrm>
          </p:grpSpPr>
          <p:sp>
            <p:nvSpPr>
              <p:cNvPr id="126" name="Text Box 84"/>
              <p:cNvSpPr/>
              <p:nvPr/>
            </p:nvSpPr>
            <p:spPr>
              <a:xfrm>
                <a:off x="15728040" y="10164600"/>
                <a:ext cx="1492920" cy="15235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ia can’t be placed her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loating Metal fi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itched Metal fi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51"/>
              <p:cNvSpPr/>
              <p:nvPr/>
            </p:nvSpPr>
            <p:spPr>
              <a:xfrm rot="5400000">
                <a:off x="14044680" y="9253440"/>
                <a:ext cx="520200" cy="2327400"/>
              </a:xfrm>
              <a:prstGeom prst="rect">
                <a:avLst/>
              </a:prstGeom>
              <a:solidFill>
                <a:srgbClr val="ffff99">
                  <a:alpha val="20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2760" rIns="32760" tIns="65880" bIns="65880" anchor="ctr" vert="vert" rot="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52"/>
              <p:cNvSpPr/>
              <p:nvPr/>
            </p:nvSpPr>
            <p:spPr>
              <a:xfrm rot="5400000">
                <a:off x="14250240" y="9444240"/>
                <a:ext cx="8532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53"/>
              <p:cNvSpPr/>
              <p:nvPr/>
            </p:nvSpPr>
            <p:spPr>
              <a:xfrm rot="5400000">
                <a:off x="14250240" y="9617760"/>
                <a:ext cx="8604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54"/>
              <p:cNvSpPr/>
              <p:nvPr/>
            </p:nvSpPr>
            <p:spPr>
              <a:xfrm rot="5400000">
                <a:off x="14250240" y="9790920"/>
                <a:ext cx="8604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5"/>
              <p:cNvSpPr/>
              <p:nvPr/>
            </p:nvSpPr>
            <p:spPr>
              <a:xfrm rot="5400000">
                <a:off x="14250240" y="9964800"/>
                <a:ext cx="8532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56"/>
              <p:cNvSpPr/>
              <p:nvPr/>
            </p:nvSpPr>
            <p:spPr>
              <a:xfrm rot="5400000">
                <a:off x="14249520" y="10138680"/>
                <a:ext cx="8676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7"/>
              <p:cNvSpPr/>
              <p:nvPr/>
            </p:nvSpPr>
            <p:spPr>
              <a:xfrm rot="5400000">
                <a:off x="14250240" y="10310760"/>
                <a:ext cx="8604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58"/>
              <p:cNvSpPr/>
              <p:nvPr/>
            </p:nvSpPr>
            <p:spPr>
              <a:xfrm rot="5400000">
                <a:off x="14250240" y="10484640"/>
                <a:ext cx="8532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59"/>
              <p:cNvSpPr/>
              <p:nvPr/>
            </p:nvSpPr>
            <p:spPr>
              <a:xfrm rot="5400000">
                <a:off x="14249520" y="10658520"/>
                <a:ext cx="86760" cy="191520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1"/>
              <p:cNvSpPr/>
              <p:nvPr/>
            </p:nvSpPr>
            <p:spPr>
              <a:xfrm rot="5400000">
                <a:off x="13966200" y="1052748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62"/>
              <p:cNvSpPr/>
              <p:nvPr/>
            </p:nvSpPr>
            <p:spPr>
              <a:xfrm rot="5400000">
                <a:off x="13966200" y="1156860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3"/>
              <p:cNvSpPr/>
              <p:nvPr/>
            </p:nvSpPr>
            <p:spPr>
              <a:xfrm rot="5400000">
                <a:off x="13966200" y="10179720"/>
                <a:ext cx="5724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64"/>
              <p:cNvSpPr/>
              <p:nvPr/>
            </p:nvSpPr>
            <p:spPr>
              <a:xfrm rot="5400000">
                <a:off x="13966200" y="1122048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5"/>
              <p:cNvSpPr/>
              <p:nvPr/>
            </p:nvSpPr>
            <p:spPr>
              <a:xfrm rot="5400000">
                <a:off x="14242680" y="9270000"/>
                <a:ext cx="86040" cy="1914480"/>
              </a:xfrm>
              <a:prstGeom prst="rect">
                <a:avLst/>
              </a:prstGeom>
              <a:solidFill>
                <a:srgbClr val="00ff00"/>
              </a:solidFill>
              <a:ln w="9525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66"/>
              <p:cNvSpPr/>
              <p:nvPr/>
            </p:nvSpPr>
            <p:spPr>
              <a:xfrm rot="5400000">
                <a:off x="13952880" y="1017468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67"/>
              <p:cNvSpPr/>
              <p:nvPr/>
            </p:nvSpPr>
            <p:spPr>
              <a:xfrm rot="5400000">
                <a:off x="15079320" y="1052748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68"/>
              <p:cNvSpPr/>
              <p:nvPr/>
            </p:nvSpPr>
            <p:spPr>
              <a:xfrm rot="5400000">
                <a:off x="15079320" y="10179720"/>
                <a:ext cx="5724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9"/>
              <p:cNvSpPr/>
              <p:nvPr/>
            </p:nvSpPr>
            <p:spPr>
              <a:xfrm rot="5400000">
                <a:off x="15084720" y="1157040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0"/>
              <p:cNvSpPr/>
              <p:nvPr/>
            </p:nvSpPr>
            <p:spPr>
              <a:xfrm rot="5400000">
                <a:off x="15084720" y="11222640"/>
                <a:ext cx="5724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1"/>
              <p:cNvSpPr/>
              <p:nvPr/>
            </p:nvSpPr>
            <p:spPr>
              <a:xfrm rot="5400000">
                <a:off x="14493240" y="11046960"/>
                <a:ext cx="57960" cy="9540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72"/>
              <p:cNvSpPr/>
              <p:nvPr/>
            </p:nvSpPr>
            <p:spPr>
              <a:xfrm rot="5400000">
                <a:off x="14493600" y="10698840"/>
                <a:ext cx="56880" cy="9540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3"/>
              <p:cNvSpPr/>
              <p:nvPr/>
            </p:nvSpPr>
            <p:spPr>
              <a:xfrm rot="5400000">
                <a:off x="13421520" y="11044080"/>
                <a:ext cx="5796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74"/>
              <p:cNvSpPr/>
              <p:nvPr/>
            </p:nvSpPr>
            <p:spPr>
              <a:xfrm rot="5400000">
                <a:off x="13421520" y="10696320"/>
                <a:ext cx="57240" cy="96840"/>
              </a:xfrm>
              <a:prstGeom prst="rect">
                <a:avLst/>
              </a:prstGeom>
              <a:solidFill>
                <a:srgbClr val="ffff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75"/>
              <p:cNvSpPr/>
              <p:nvPr/>
            </p:nvSpPr>
            <p:spPr>
              <a:xfrm>
                <a:off x="15032520" y="10026720"/>
                <a:ext cx="156600" cy="1777320"/>
              </a:xfrm>
              <a:prstGeom prst="rect">
                <a:avLst/>
              </a:prstGeom>
              <a:solidFill>
                <a:srgbClr val="ffcccc">
                  <a:alpha val="39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76"/>
              <p:cNvSpPr/>
              <p:nvPr/>
            </p:nvSpPr>
            <p:spPr>
              <a:xfrm>
                <a:off x="13368960" y="10026720"/>
                <a:ext cx="156600" cy="1777320"/>
              </a:xfrm>
              <a:prstGeom prst="rect">
                <a:avLst/>
              </a:prstGeom>
              <a:solidFill>
                <a:srgbClr val="99ffcc">
                  <a:alpha val="39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7"/>
              <p:cNvSpPr/>
              <p:nvPr/>
            </p:nvSpPr>
            <p:spPr>
              <a:xfrm>
                <a:off x="14448240" y="10026720"/>
                <a:ext cx="155880" cy="1777320"/>
              </a:xfrm>
              <a:prstGeom prst="rect">
                <a:avLst/>
              </a:prstGeom>
              <a:solidFill>
                <a:srgbClr val="99ffcc">
                  <a:alpha val="39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78"/>
              <p:cNvSpPr/>
              <p:nvPr/>
            </p:nvSpPr>
            <p:spPr>
              <a:xfrm>
                <a:off x="13906800" y="10026720"/>
                <a:ext cx="156600" cy="1777320"/>
              </a:xfrm>
              <a:prstGeom prst="rect">
                <a:avLst/>
              </a:prstGeom>
              <a:solidFill>
                <a:srgbClr val="ffcccc">
                  <a:alpha val="39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85"/>
              <p:cNvSpPr/>
              <p:nvPr/>
            </p:nvSpPr>
            <p:spPr>
              <a:xfrm>
                <a:off x="15392160" y="10240920"/>
                <a:ext cx="838440" cy="759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6"/>
              <p:cNvSpPr/>
              <p:nvPr/>
            </p:nvSpPr>
            <p:spPr>
              <a:xfrm flipH="1">
                <a:off x="16687800" y="10316880"/>
                <a:ext cx="838080" cy="288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87"/>
              <p:cNvSpPr/>
              <p:nvPr/>
            </p:nvSpPr>
            <p:spPr>
              <a:xfrm>
                <a:off x="13759560" y="9783720"/>
                <a:ext cx="437040" cy="175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C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88"/>
              <p:cNvSpPr/>
              <p:nvPr/>
            </p:nvSpPr>
            <p:spPr>
              <a:xfrm>
                <a:off x="13219920" y="9783720"/>
                <a:ext cx="539280" cy="2426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89"/>
              <p:cNvSpPr/>
              <p:nvPr/>
            </p:nvSpPr>
            <p:spPr>
              <a:xfrm>
                <a:off x="14877000" y="9783720"/>
                <a:ext cx="437040" cy="175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C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90"/>
              <p:cNvSpPr/>
              <p:nvPr/>
            </p:nvSpPr>
            <p:spPr>
              <a:xfrm>
                <a:off x="14337360" y="9783720"/>
                <a:ext cx="464400" cy="2426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91"/>
              <p:cNvSpPr/>
              <p:nvPr/>
            </p:nvSpPr>
            <p:spPr>
              <a:xfrm>
                <a:off x="15005880" y="10326960"/>
                <a:ext cx="205920" cy="142920"/>
              </a:xfrm>
              <a:prstGeom prst="ellipse">
                <a:avLst/>
              </a:prstGeom>
              <a:noFill/>
              <a:ln w="285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440"/>
              <p:cNvSpPr/>
              <p:nvPr/>
            </p:nvSpPr>
            <p:spPr>
              <a:xfrm>
                <a:off x="13106520" y="11917440"/>
                <a:ext cx="67053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YPE 2 Via Fill                                                                         TYPE 1 Via Fi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87"/>
              <p:cNvSpPr/>
              <p:nvPr/>
            </p:nvSpPr>
            <p:spPr>
              <a:xfrm>
                <a:off x="17988480" y="9774360"/>
                <a:ext cx="437040" cy="175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C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8"/>
              <p:cNvSpPr/>
              <p:nvPr/>
            </p:nvSpPr>
            <p:spPr>
              <a:xfrm>
                <a:off x="17448480" y="9774360"/>
                <a:ext cx="539280" cy="2426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89"/>
              <p:cNvSpPr/>
              <p:nvPr/>
            </p:nvSpPr>
            <p:spPr>
              <a:xfrm>
                <a:off x="19105920" y="9774360"/>
                <a:ext cx="437040" cy="175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C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90"/>
              <p:cNvSpPr/>
              <p:nvPr/>
            </p:nvSpPr>
            <p:spPr>
              <a:xfrm>
                <a:off x="18565920" y="9774360"/>
                <a:ext cx="464400" cy="2426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5880" rIns="65880" tIns="32760" bIns="3276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V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278"/>
              <p:cNvGrpSpPr/>
              <p:nvPr/>
            </p:nvGrpSpPr>
            <p:grpSpPr>
              <a:xfrm>
                <a:off x="17484120" y="10017360"/>
                <a:ext cx="2327760" cy="1777320"/>
                <a:chOff x="17484120" y="10017360"/>
                <a:chExt cx="2327760" cy="1777320"/>
              </a:xfrm>
            </p:grpSpPr>
            <p:sp>
              <p:nvSpPr>
                <p:cNvPr id="167" name="Rectangle 76"/>
                <p:cNvSpPr/>
                <p:nvPr/>
              </p:nvSpPr>
              <p:spPr>
                <a:xfrm>
                  <a:off x="17712360" y="10017360"/>
                  <a:ext cx="156600" cy="1777320"/>
                </a:xfrm>
                <a:prstGeom prst="rect">
                  <a:avLst/>
                </a:prstGeom>
                <a:solidFill>
                  <a:srgbClr val="99ffcc">
                    <a:alpha val="39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51"/>
                <p:cNvSpPr/>
                <p:nvPr/>
              </p:nvSpPr>
              <p:spPr>
                <a:xfrm rot="5400000">
                  <a:off x="18388080" y="9243720"/>
                  <a:ext cx="520200" cy="2327400"/>
                </a:xfrm>
                <a:prstGeom prst="rect">
                  <a:avLst/>
                </a:prstGeom>
                <a:solidFill>
                  <a:srgbClr val="ffff99">
                    <a:alpha val="20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lIns="32760" rIns="32760" tIns="65880" bIns="65880" anchor="ctr" vert="vert" rot="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52"/>
                <p:cNvSpPr/>
                <p:nvPr/>
              </p:nvSpPr>
              <p:spPr>
                <a:xfrm rot="5400000">
                  <a:off x="18593640" y="9434880"/>
                  <a:ext cx="8532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53"/>
                <p:cNvSpPr/>
                <p:nvPr/>
              </p:nvSpPr>
              <p:spPr>
                <a:xfrm rot="5400000">
                  <a:off x="18593640" y="9608040"/>
                  <a:ext cx="8604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54"/>
                <p:cNvSpPr/>
                <p:nvPr/>
              </p:nvSpPr>
              <p:spPr>
                <a:xfrm rot="5400000">
                  <a:off x="18593640" y="9781200"/>
                  <a:ext cx="8604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55"/>
                <p:cNvSpPr/>
                <p:nvPr/>
              </p:nvSpPr>
              <p:spPr>
                <a:xfrm rot="5400000">
                  <a:off x="18593640" y="9955080"/>
                  <a:ext cx="8532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lIns="65880" rIns="6588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56"/>
                <p:cNvSpPr/>
                <p:nvPr/>
              </p:nvSpPr>
              <p:spPr>
                <a:xfrm rot="5400000">
                  <a:off x="18592920" y="10129320"/>
                  <a:ext cx="8676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57"/>
                <p:cNvSpPr/>
                <p:nvPr/>
              </p:nvSpPr>
              <p:spPr>
                <a:xfrm rot="5400000">
                  <a:off x="18593640" y="10301040"/>
                  <a:ext cx="8604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58"/>
                <p:cNvSpPr/>
                <p:nvPr/>
              </p:nvSpPr>
              <p:spPr>
                <a:xfrm rot="5400000">
                  <a:off x="18593640" y="10474920"/>
                  <a:ext cx="8532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59"/>
                <p:cNvSpPr/>
                <p:nvPr/>
              </p:nvSpPr>
              <p:spPr>
                <a:xfrm rot="5400000">
                  <a:off x="18592920" y="10649160"/>
                  <a:ext cx="86760" cy="191520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60"/>
                <p:cNvSpPr/>
                <p:nvPr/>
              </p:nvSpPr>
              <p:spPr>
                <a:xfrm rot="5400000">
                  <a:off x="18388080" y="10256040"/>
                  <a:ext cx="519480" cy="2327400"/>
                </a:xfrm>
                <a:prstGeom prst="rect">
                  <a:avLst/>
                </a:prstGeom>
                <a:solidFill>
                  <a:srgbClr val="ffff99">
                    <a:alpha val="20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lIns="32760" rIns="32760" tIns="65880" bIns="65880" anchor="ctr" vert="vert" rot="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61"/>
                <p:cNvSpPr/>
                <p:nvPr/>
              </p:nvSpPr>
              <p:spPr>
                <a:xfrm rot="5400000">
                  <a:off x="19428480" y="1034208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62"/>
                <p:cNvSpPr/>
                <p:nvPr/>
              </p:nvSpPr>
              <p:spPr>
                <a:xfrm rot="5400000">
                  <a:off x="18309600" y="1155888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63"/>
                <p:cNvSpPr/>
                <p:nvPr/>
              </p:nvSpPr>
              <p:spPr>
                <a:xfrm rot="5400000">
                  <a:off x="18309600" y="10170000"/>
                  <a:ext cx="5724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4"/>
                <p:cNvSpPr/>
                <p:nvPr/>
              </p:nvSpPr>
              <p:spPr>
                <a:xfrm rot="5400000">
                  <a:off x="18309600" y="1121112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5"/>
                <p:cNvSpPr/>
                <p:nvPr/>
              </p:nvSpPr>
              <p:spPr>
                <a:xfrm rot="5400000">
                  <a:off x="18586080" y="9260280"/>
                  <a:ext cx="86040" cy="1914480"/>
                </a:xfrm>
                <a:prstGeom prst="rect">
                  <a:avLst/>
                </a:prstGeom>
                <a:solidFill>
                  <a:srgbClr val="00ff00"/>
                </a:solidFill>
                <a:ln w="9525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66"/>
                <p:cNvSpPr/>
                <p:nvPr/>
              </p:nvSpPr>
              <p:spPr>
                <a:xfrm rot="5400000">
                  <a:off x="18296280" y="1016496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69"/>
                <p:cNvSpPr/>
                <p:nvPr/>
              </p:nvSpPr>
              <p:spPr>
                <a:xfrm rot="5400000">
                  <a:off x="19428120" y="1138032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71"/>
                <p:cNvSpPr/>
                <p:nvPr/>
              </p:nvSpPr>
              <p:spPr>
                <a:xfrm rot="5400000">
                  <a:off x="18836640" y="11037240"/>
                  <a:ext cx="57960" cy="9540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2"/>
                <p:cNvSpPr/>
                <p:nvPr/>
              </p:nvSpPr>
              <p:spPr>
                <a:xfrm rot="5400000">
                  <a:off x="18837000" y="10689480"/>
                  <a:ext cx="56880" cy="9540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74"/>
                <p:cNvSpPr/>
                <p:nvPr/>
              </p:nvSpPr>
              <p:spPr>
                <a:xfrm rot="5400000">
                  <a:off x="17764920" y="10865160"/>
                  <a:ext cx="5724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77"/>
                <p:cNvSpPr/>
                <p:nvPr/>
              </p:nvSpPr>
              <p:spPr>
                <a:xfrm>
                  <a:off x="18791640" y="10017360"/>
                  <a:ext cx="155880" cy="1777320"/>
                </a:xfrm>
                <a:prstGeom prst="rect">
                  <a:avLst/>
                </a:prstGeom>
                <a:solidFill>
                  <a:srgbClr val="99ffcc">
                    <a:alpha val="39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64"/>
                <p:cNvSpPr/>
                <p:nvPr/>
              </p:nvSpPr>
              <p:spPr>
                <a:xfrm rot="5400000">
                  <a:off x="18302760" y="10518480"/>
                  <a:ext cx="57960" cy="96840"/>
                </a:xfrm>
                <a:prstGeom prst="rect">
                  <a:avLst/>
                </a:prstGeom>
                <a:solidFill>
                  <a:srgbClr val="ffff00"/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75"/>
                <p:cNvSpPr/>
                <p:nvPr/>
              </p:nvSpPr>
              <p:spPr>
                <a:xfrm>
                  <a:off x="19375920" y="10017360"/>
                  <a:ext cx="156600" cy="1777320"/>
                </a:xfrm>
                <a:prstGeom prst="rect">
                  <a:avLst/>
                </a:prstGeom>
                <a:solidFill>
                  <a:srgbClr val="ffcccc">
                    <a:alpha val="39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78"/>
                <p:cNvSpPr/>
                <p:nvPr/>
              </p:nvSpPr>
              <p:spPr>
                <a:xfrm>
                  <a:off x="18250200" y="10017360"/>
                  <a:ext cx="156600" cy="1777320"/>
                </a:xfrm>
                <a:prstGeom prst="rect">
                  <a:avLst/>
                </a:prstGeom>
                <a:solidFill>
                  <a:srgbClr val="ffcccc">
                    <a:alpha val="39000"/>
                  </a:srgbClr>
                </a:solidFill>
                <a:ln w="9525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60"/>
              <p:cNvSpPr/>
              <p:nvPr/>
            </p:nvSpPr>
            <p:spPr>
              <a:xfrm rot="5400000">
                <a:off x="14044680" y="10265760"/>
                <a:ext cx="519480" cy="2327400"/>
              </a:xfrm>
              <a:prstGeom prst="rect">
                <a:avLst/>
              </a:prstGeom>
              <a:solidFill>
                <a:srgbClr val="ffff99">
                  <a:alpha val="20000"/>
                </a:srgbClr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32760" rIns="32760" tIns="65880" bIns="65880" anchor="ctr" vert="vert" rot="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85"/>
              <p:cNvSpPr/>
              <p:nvPr/>
            </p:nvSpPr>
            <p:spPr>
              <a:xfrm>
                <a:off x="15192360" y="10412280"/>
                <a:ext cx="838080" cy="30492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85"/>
              <p:cNvSpPr/>
              <p:nvPr/>
            </p:nvSpPr>
            <p:spPr>
              <a:xfrm flipV="1">
                <a:off x="15249240" y="11231280"/>
                <a:ext cx="514440" cy="22860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5"/>
              <p:cNvSpPr/>
              <p:nvPr/>
            </p:nvSpPr>
            <p:spPr>
              <a:xfrm flipH="1" flipV="1">
                <a:off x="17145000" y="11536200"/>
                <a:ext cx="609480" cy="7632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85"/>
              <p:cNvSpPr/>
              <p:nvPr/>
            </p:nvSpPr>
            <p:spPr>
              <a:xfrm flipV="1">
                <a:off x="15239880" y="11536200"/>
                <a:ext cx="533520" cy="7632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160" bIns="38160" anchor="t" anchorCtr="1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2"/>
            <p:cNvSpPr/>
            <p:nvPr/>
          </p:nvSpPr>
          <p:spPr>
            <a:xfrm>
              <a:off x="12801600" y="425124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tal, Via Fill Patter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Group 236"/>
          <p:cNvGrpSpPr/>
          <p:nvPr/>
        </p:nvGrpSpPr>
        <p:grpSpPr>
          <a:xfrm>
            <a:off x="2057400" y="11049120"/>
            <a:ext cx="8305560" cy="12724920"/>
            <a:chOff x="2057400" y="11049120"/>
            <a:chExt cx="8305560" cy="12724920"/>
          </a:xfrm>
        </p:grpSpPr>
        <p:sp>
          <p:nvSpPr>
            <p:cNvPr id="199" name="Rectangle 223"/>
            <p:cNvSpPr/>
            <p:nvPr/>
          </p:nvSpPr>
          <p:spPr>
            <a:xfrm>
              <a:off x="2057400" y="11049120"/>
              <a:ext cx="8305560" cy="12724920"/>
            </a:xfrm>
            <a:prstGeom prst="rect">
              <a:avLst/>
            </a:prstGeom>
            <a:gradFill rotWithShape="0">
              <a:gsLst>
                <a:gs pos="0">
                  <a:srgbClr val="defcff"/>
                </a:gs>
                <a:gs pos="100000">
                  <a:srgbClr val="f2fcff"/>
                </a:gs>
              </a:gsLst>
              <a:lin ang="16200000"/>
            </a:gradFill>
            <a:ln>
              <a:solidFill>
                <a:srgbClr val="b5dcde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7"/>
            <p:cNvSpPr/>
            <p:nvPr/>
          </p:nvSpPr>
          <p:spPr>
            <a:xfrm>
              <a:off x="2514600" y="12205800"/>
              <a:ext cx="739116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al treatment to ensure DRC Correctnes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s can be thrown or retained in the end based on density vio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should not result in DRCs in either c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X KOR (Keep Out Region) Box”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grow 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ss metal f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legalize metal fills (min lengt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 fill is discarded if it i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side of Via Density violated 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esn’t contain any Via f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ion of discarded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 fill is ret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ensure min length of 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metal f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legalize enclosure of 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pass Via f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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eudo-Iterative Filling saves runtime with a little bit more memory and compute overh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327"/>
            <p:cNvGrpSpPr/>
            <p:nvPr/>
          </p:nvGrpSpPr>
          <p:grpSpPr>
            <a:xfrm>
              <a:off x="2774880" y="17918640"/>
              <a:ext cx="7283160" cy="5012280"/>
              <a:chOff x="2774880" y="17918640"/>
              <a:chExt cx="7283160" cy="501228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17880" y="18833040"/>
                <a:ext cx="1294920" cy="65700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203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5943600" y="18387360"/>
                <a:ext cx="3371400" cy="15141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204" name="Picture 5" descr=""/>
              <p:cNvPicPr/>
              <p:nvPr/>
            </p:nvPicPr>
            <p:blipFill>
              <a:blip r:embed="rId14"/>
              <a:srcRect l="6627" t="0" r="0" b="0"/>
              <a:stretch/>
            </p:blipFill>
            <p:spPr>
              <a:xfrm>
                <a:off x="5943600" y="20521080"/>
                <a:ext cx="3352320" cy="157140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05" name="TextBox 292"/>
              <p:cNvSpPr/>
              <p:nvPr/>
            </p:nvSpPr>
            <p:spPr>
              <a:xfrm>
                <a:off x="5943600" y="17918640"/>
                <a:ext cx="32000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Pass Metal Fill violating min lengt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1"/>
              <p:cNvSpPr/>
              <p:nvPr/>
            </p:nvSpPr>
            <p:spPr>
              <a:xfrm>
                <a:off x="7010280" y="21816360"/>
                <a:ext cx="360" cy="38088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Box 294"/>
              <p:cNvSpPr/>
              <p:nvPr/>
            </p:nvSpPr>
            <p:spPr>
              <a:xfrm>
                <a:off x="5410080" y="22197600"/>
                <a:ext cx="46479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X KOR Box incremented horizontally to satisfy min lengt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1"/>
              <p:cNvSpPr/>
              <p:nvPr/>
            </p:nvSpPr>
            <p:spPr>
              <a:xfrm flipV="1">
                <a:off x="7391160" y="18223200"/>
                <a:ext cx="31680" cy="89748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297"/>
              <p:cNvSpPr/>
              <p:nvPr/>
            </p:nvSpPr>
            <p:spPr>
              <a:xfrm>
                <a:off x="7848720" y="1881612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" name="Straight Arrow Connector 298"/>
              <p:cNvCxnSpPr/>
              <p:nvPr/>
            </p:nvCxnSpPr>
            <p:spPr>
              <a:xfrm flipH="1">
                <a:off x="8076240" y="18578520"/>
                <a:ext cx="1800" cy="30528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tailEnd len="med" type="arrow" w="med"/>
              </a:ln>
            </p:spPr>
          </p:cxnSp>
          <p:cxnSp>
            <p:nvCxnSpPr>
              <p:cNvPr id="211" name="Straight Arrow Connector 299"/>
              <p:cNvCxnSpPr/>
              <p:nvPr/>
            </p:nvCxnSpPr>
            <p:spPr>
              <a:xfrm flipV="1">
                <a:off x="8076240" y="19035720"/>
                <a:ext cx="1800" cy="2289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tailEnd len="med" type="arrow" w="med"/>
              </a:ln>
            </p:spPr>
          </p:cxnSp>
          <p:cxnSp>
            <p:nvCxnSpPr>
              <p:cNvPr id="212" name="Straight Arrow Connector 300"/>
              <p:cNvCxnSpPr/>
              <p:nvPr/>
            </p:nvCxnSpPr>
            <p:spPr>
              <a:xfrm flipH="1">
                <a:off x="8610480" y="18584280"/>
                <a:ext cx="1080" cy="4575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sp>
            <p:nvSpPr>
              <p:cNvPr id="213" name="TextBox 301"/>
              <p:cNvSpPr/>
              <p:nvPr/>
            </p:nvSpPr>
            <p:spPr>
              <a:xfrm>
                <a:off x="8586720" y="1864800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" name="Straight Arrow Connector 302"/>
              <p:cNvCxnSpPr/>
              <p:nvPr/>
            </p:nvCxnSpPr>
            <p:spPr>
              <a:xfrm>
                <a:off x="7239600" y="19160640"/>
                <a:ext cx="456840" cy="180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sp>
            <p:nvSpPr>
              <p:cNvPr id="215" name="TextBox 303"/>
              <p:cNvSpPr/>
              <p:nvPr/>
            </p:nvSpPr>
            <p:spPr>
              <a:xfrm>
                <a:off x="7199280" y="1916208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Connector 304"/>
              <p:cNvCxnSpPr/>
              <p:nvPr/>
            </p:nvCxnSpPr>
            <p:spPr>
              <a:xfrm>
                <a:off x="7223040" y="19598760"/>
                <a:ext cx="360" cy="1676520"/>
              </a:xfrm>
              <a:prstGeom prst="straightConnector1">
                <a:avLst/>
              </a:prstGeom>
              <a:ln w="19050">
                <a:solidFill>
                  <a:srgbClr val="ff33cc"/>
                </a:solidFill>
                <a:prstDash val="dash"/>
                <a:round/>
              </a:ln>
            </p:spPr>
          </p:cxnSp>
          <p:cxnSp>
            <p:nvCxnSpPr>
              <p:cNvPr id="217" name="Straight Arrow Connector 305"/>
              <p:cNvCxnSpPr/>
              <p:nvPr/>
            </p:nvCxnSpPr>
            <p:spPr>
              <a:xfrm flipH="1" flipV="1">
                <a:off x="6973920" y="20368440"/>
                <a:ext cx="228960" cy="2160"/>
              </a:xfrm>
              <a:prstGeom prst="straightConnector1">
                <a:avLst/>
              </a:prstGeom>
              <a:ln w="19050">
                <a:solidFill>
                  <a:srgbClr val="ff33cc"/>
                </a:solidFill>
                <a:round/>
                <a:tailEnd len="med" type="arrow" w="med"/>
              </a:ln>
            </p:spPr>
          </p:cxnSp>
          <p:cxnSp>
            <p:nvCxnSpPr>
              <p:cNvPr id="218" name="Straight Connector 306"/>
              <p:cNvCxnSpPr/>
              <p:nvPr/>
            </p:nvCxnSpPr>
            <p:spPr>
              <a:xfrm>
                <a:off x="6973920" y="19751040"/>
                <a:ext cx="360" cy="1676880"/>
              </a:xfrm>
              <a:prstGeom prst="straightConnector1">
                <a:avLst/>
              </a:prstGeom>
              <a:ln w="19050">
                <a:solidFill>
                  <a:srgbClr val="ff33cc"/>
                </a:solidFill>
                <a:prstDash val="dash"/>
                <a:round/>
              </a:ln>
            </p:spPr>
          </p:cxnSp>
          <p:cxnSp>
            <p:nvCxnSpPr>
              <p:cNvPr id="219" name="Straight Arrow Connector 307"/>
              <p:cNvCxnSpPr/>
              <p:nvPr/>
            </p:nvCxnSpPr>
            <p:spPr>
              <a:xfrm>
                <a:off x="6974640" y="21330720"/>
                <a:ext cx="823320" cy="180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sp>
            <p:nvSpPr>
              <p:cNvPr id="220" name="TextBox 308"/>
              <p:cNvSpPr/>
              <p:nvPr/>
            </p:nvSpPr>
            <p:spPr>
              <a:xfrm>
                <a:off x="6629400" y="21332160"/>
                <a:ext cx="19047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in Length + 1X Spa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309"/>
              <p:cNvCxnSpPr/>
              <p:nvPr/>
            </p:nvCxnSpPr>
            <p:spPr>
              <a:xfrm flipH="1">
                <a:off x="8253360" y="20748600"/>
                <a:ext cx="1080" cy="4575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</p:cxnSp>
          <p:sp>
            <p:nvSpPr>
              <p:cNvPr id="222" name="TextBox 310"/>
              <p:cNvSpPr/>
              <p:nvPr/>
            </p:nvSpPr>
            <p:spPr>
              <a:xfrm>
                <a:off x="8229600" y="20812320"/>
                <a:ext cx="685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X D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311"/>
              <p:cNvSpPr/>
              <p:nvPr/>
            </p:nvSpPr>
            <p:spPr>
              <a:xfrm>
                <a:off x="2774880" y="19911600"/>
                <a:ext cx="2819160" cy="94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ection of discarded 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pass Metal fill could get retained to satisfy via enclosure, min length requirement of the 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pass met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312"/>
              <p:cNvSpPr/>
              <p:nvPr/>
            </p:nvSpPr>
            <p:spPr>
              <a:xfrm>
                <a:off x="6781680" y="20921040"/>
                <a:ext cx="151920" cy="75960"/>
              </a:xfrm>
              <a:prstGeom prst="rect">
                <a:avLst/>
              </a:prstGeom>
              <a:solidFill>
                <a:srgbClr val="ffff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7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25" name="Oval 313"/>
              <p:cNvSpPr/>
              <p:nvPr/>
            </p:nvSpPr>
            <p:spPr>
              <a:xfrm>
                <a:off x="6705720" y="20835360"/>
                <a:ext cx="304560" cy="228240"/>
              </a:xfrm>
              <a:prstGeom prst="ellipse">
                <a:avLst/>
              </a:prstGeom>
              <a:noFill/>
              <a:ln w="19050">
                <a:solidFill>
                  <a:srgbClr val="ff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74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 flipH="1" flipV="1">
                <a:off x="5638680" y="20597040"/>
                <a:ext cx="1066680" cy="38124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1"/>
              <p:cNvSpPr/>
              <p:nvPr/>
            </p:nvSpPr>
            <p:spPr>
              <a:xfrm flipH="1" flipV="1">
                <a:off x="5638680" y="20292480"/>
                <a:ext cx="1523880" cy="685800"/>
              </a:xfrm>
              <a:prstGeom prst="line">
                <a:avLst/>
              </a:prstGeom>
              <a:ln w="28575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 anchorCtr="1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Picture 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91520" y="19911600"/>
                <a:ext cx="769680" cy="61704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29" name="Rectangle 319"/>
              <p:cNvSpPr/>
              <p:nvPr/>
            </p:nvSpPr>
            <p:spPr>
              <a:xfrm>
                <a:off x="5194800" y="22566960"/>
                <a:ext cx="2639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X KOR Box adjust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"/>
            <p:cNvSpPr/>
            <p:nvPr/>
          </p:nvSpPr>
          <p:spPr>
            <a:xfrm>
              <a:off x="2514600" y="11277720"/>
              <a:ext cx="7391160" cy="539280"/>
            </a:xfrm>
            <a:prstGeom prst="rect">
              <a:avLst/>
            </a:prstGeom>
            <a:solidFill>
              <a:srgbClr val="0000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seudo-Iterative Fil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1" name="Picture 2" descr=""/>
            <p:cNvPicPr/>
            <p:nvPr/>
          </p:nvPicPr>
          <p:blipFill>
            <a:blip r:embed="rId16"/>
            <a:stretch/>
          </p:blipFill>
          <p:spPr>
            <a:xfrm>
              <a:off x="2514600" y="23012280"/>
              <a:ext cx="7451280" cy="5662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32" name="Group 235"/>
          <p:cNvGrpSpPr/>
          <p:nvPr/>
        </p:nvGrpSpPr>
        <p:grpSpPr>
          <a:xfrm>
            <a:off x="12344400" y="16459200"/>
            <a:ext cx="8381520" cy="14325120"/>
            <a:chOff x="12344400" y="16459200"/>
            <a:chExt cx="8381520" cy="14325120"/>
          </a:xfrm>
        </p:grpSpPr>
        <p:pic>
          <p:nvPicPr>
            <p:cNvPr id="233" name="Picture 19" descr=""/>
            <p:cNvPicPr/>
            <p:nvPr/>
          </p:nvPicPr>
          <p:blipFill>
            <a:blip r:embed="rId17"/>
            <a:stretch/>
          </p:blipFill>
          <p:spPr>
            <a:xfrm>
              <a:off x="13878000" y="20240640"/>
              <a:ext cx="5162040" cy="10162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4" name="TextBox 193"/>
            <p:cNvSpPr/>
            <p:nvPr/>
          </p:nvSpPr>
          <p:spPr>
            <a:xfrm>
              <a:off x="18059400" y="20831040"/>
              <a:ext cx="2285640" cy="1002240"/>
            </a:xfrm>
            <a:prstGeom prst="rect">
              <a:avLst/>
            </a:prstGeom>
            <a:gradFill rotWithShape="0">
              <a:gsLst>
                <a:gs pos="0">
                  <a:srgbClr val="1b1b7d"/>
                </a:gs>
                <a:gs pos="100000">
                  <a:srgbClr val="2222a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Signal to Fill Spa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Final 1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st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metal fill = “3X Dr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Provisional 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metal fill = “1X DR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94"/>
            <p:cNvSpPr/>
            <p:nvPr/>
          </p:nvSpPr>
          <p:spPr>
            <a:xfrm>
              <a:off x="18068760" y="22250520"/>
              <a:ext cx="2285640" cy="1184760"/>
            </a:xfrm>
            <a:prstGeom prst="rect">
              <a:avLst/>
            </a:prstGeom>
            <a:gradFill rotWithShape="0">
              <a:gsLst>
                <a:gs pos="0">
                  <a:srgbClr val="1b1b7d"/>
                </a:gs>
                <a:gs pos="100000">
                  <a:srgbClr val="2222a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1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st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and 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Via fills are grown by f2up, f2dp &amp; f2f Stitch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Combined 1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st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and 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metal/via fills must be DRC-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95"/>
            <p:cNvSpPr/>
            <p:nvPr/>
          </p:nvSpPr>
          <p:spPr>
            <a:xfrm>
              <a:off x="18068760" y="24383880"/>
              <a:ext cx="2285640" cy="819720"/>
            </a:xfrm>
            <a:prstGeom prst="rect">
              <a:avLst/>
            </a:prstGeom>
            <a:gradFill rotWithShape="0">
              <a:gsLst>
                <a:gs pos="0">
                  <a:srgbClr val="1b1b7d"/>
                </a:gs>
                <a:gs pos="100000">
                  <a:srgbClr val="2222a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Provisional 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Via Fills are retained separately, not combined with 1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st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final via f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96"/>
            <p:cNvSpPr/>
            <p:nvPr/>
          </p:nvSpPr>
          <p:spPr>
            <a:xfrm>
              <a:off x="12649320" y="25908120"/>
              <a:ext cx="2158560" cy="1002240"/>
            </a:xfrm>
            <a:prstGeom prst="rect">
              <a:avLst/>
            </a:prstGeom>
            <a:gradFill rotWithShape="0">
              <a:gsLst>
                <a:gs pos="0">
                  <a:srgbClr val="1b1b7d"/>
                </a:gs>
                <a:gs pos="100000">
                  <a:srgbClr val="2222a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metal fill outside of via density violated window thrown a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Courier New"/>
                <a:buChar char="o"/>
              </a:pP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Floating 2</a:t>
              </a:r>
              <a:r>
                <a:rPr b="0" lang="en-US" sz="1200" spc="-1" strike="noStrike" baseline="30000">
                  <a:solidFill>
                    <a:schemeClr val="lt1"/>
                  </a:solidFill>
                  <a:latin typeface="Arial"/>
                </a:rPr>
                <a:t>nd</a:t>
              </a:r>
              <a:r>
                <a:rPr b="0" lang="en-US" sz="1200" spc="-1" strike="noStrike">
                  <a:solidFill>
                    <a:schemeClr val="lt1"/>
                  </a:solidFill>
                  <a:latin typeface="Arial"/>
                </a:rPr>
                <a:t> Pass metal thrown a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0" descr="C:\Documents and Settings\dgoswami\Local Settings\Temporary Internet Files\Content.IE5\1TJOV8YO\MCj04397990000[1].png"/>
            <p:cNvPicPr/>
            <p:nvPr/>
          </p:nvPicPr>
          <p:blipFill>
            <a:blip r:embed="rId18"/>
            <a:stretch/>
          </p:blipFill>
          <p:spPr>
            <a:xfrm rot="2398200">
              <a:off x="17307720" y="21127680"/>
              <a:ext cx="716400" cy="8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" descr="C:\Documents and Settings\dgoswami\Local Settings\Temporary Internet Files\Content.IE5\1TJOV8YO\MCj04397990000[1].png"/>
            <p:cNvPicPr/>
            <p:nvPr/>
          </p:nvPicPr>
          <p:blipFill>
            <a:blip r:embed="rId19"/>
            <a:stretch/>
          </p:blipFill>
          <p:spPr>
            <a:xfrm rot="2095800">
              <a:off x="17271000" y="22599720"/>
              <a:ext cx="828360" cy="6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0" descr="C:\Documents and Settings\dgoswami\Local Settings\Temporary Internet Files\Content.IE5\1TJOV8YO\MCj04397990000[1].png"/>
            <p:cNvPicPr/>
            <p:nvPr/>
          </p:nvPicPr>
          <p:blipFill>
            <a:blip r:embed="rId20"/>
            <a:stretch/>
          </p:blipFill>
          <p:spPr>
            <a:xfrm flipH="1" rot="4733400">
              <a:off x="17616960" y="24912360"/>
              <a:ext cx="1039680" cy="12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" descr="C:\Documents and Settings\dgoswami\Local Settings\Temporary Internet Files\Content.IE5\1TJOV8YO\MCj04397990000[1].png"/>
            <p:cNvPicPr/>
            <p:nvPr/>
          </p:nvPicPr>
          <p:blipFill>
            <a:blip r:embed="rId21"/>
            <a:stretch/>
          </p:blipFill>
          <p:spPr>
            <a:xfrm rot="17991000">
              <a:off x="13397760" y="26865360"/>
              <a:ext cx="897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Cloud Callout 203"/>
            <p:cNvSpPr/>
            <p:nvPr/>
          </p:nvSpPr>
          <p:spPr>
            <a:xfrm>
              <a:off x="13411080" y="16459200"/>
              <a:ext cx="6095520" cy="266652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c2c2ef"/>
                </a:gs>
                <a:gs pos="100000">
                  <a:srgbClr val="e8e8f9"/>
                </a:gs>
              </a:gsLst>
              <a:lin ang="16200000"/>
            </a:gradFill>
            <a:ln>
              <a:solidFill>
                <a:srgbClr val="2f2f9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7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204"/>
            <p:cNvSpPr/>
            <p:nvPr/>
          </p:nvSpPr>
          <p:spPr>
            <a:xfrm>
              <a:off x="14270760" y="17449920"/>
              <a:ext cx="38448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The Flow Ch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6"/>
            <p:cNvSpPr/>
            <p:nvPr/>
          </p:nvSpPr>
          <p:spPr>
            <a:xfrm>
              <a:off x="12344400" y="19811880"/>
              <a:ext cx="8381520" cy="10972440"/>
            </a:xfrm>
            <a:prstGeom prst="rect">
              <a:avLst/>
            </a:prstGeom>
            <a:noFill/>
            <a:ln w="63500">
              <a:solidFill>
                <a:srgbClr val="0000ff"/>
              </a:solidFill>
              <a:round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7400" spc="-1" strike="noStrike">
                <a:solidFill>
                  <a:schemeClr val="accent2"/>
                </a:solidFill>
                <a:latin typeface="Arial"/>
              </a:endParaRPr>
            </a:p>
          </p:txBody>
        </p:sp>
      </p:grpSp>
      <p:sp>
        <p:nvSpPr>
          <p:cNvPr id="245" name="Rectangle 207"/>
          <p:cNvSpPr/>
          <p:nvPr/>
        </p:nvSpPr>
        <p:spPr>
          <a:xfrm>
            <a:off x="1568520" y="3581280"/>
            <a:ext cx="29793960" cy="28346040"/>
          </a:xfrm>
          <a:prstGeom prst="rect">
            <a:avLst/>
          </a:prstGeom>
          <a:noFill/>
          <a:ln w="1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  <Words>997</Words>
  <Paragraphs>150</Paragraphs>
  <Company>Intel Corpor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2:27:18Z</dcterms:created>
  <dc:creator>rvarada</dc:creator>
  <dc:description/>
  <dc:language>en-US</dc:language>
  <cp:lastModifiedBy>dgoswami</cp:lastModifiedBy>
  <dcterms:modified xsi:type="dcterms:W3CDTF">2010-05-07T06:35:59Z</dcterms:modified>
  <cp:revision>1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1</vt:r8>
  </property>
</Properties>
</file>