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32918400" cy="3291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3760920"/>
                <a:tab algn="l" pos="7521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3760920"/>
                <a:tab algn="l" pos="7521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714320" y="685440"/>
            <a:ext cx="3429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760920"/>
                <a:tab algn="l" pos="7521480"/>
              </a:tabLst>
            </a:pPr>
            <a:r>
              <a:rPr b="0" lang="en-US" sz="181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837"/>
              </a:spcBef>
              <a:buNone/>
              <a:tabLst>
                <a:tab algn="l" pos="0"/>
                <a:tab algn="l" pos="3760920"/>
                <a:tab algn="l" pos="7521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3760920"/>
                <a:tab algn="l" pos="7521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3760920"/>
                <a:tab algn="l" pos="7521480"/>
              </a:tabLst>
            </a:pPr>
            <a:fld id="{21B0BBA4-3103-45A4-A48B-DE5775B6F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37"/>
              </a:spcBef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3760920"/>
                <a:tab algn="l" pos="7521480"/>
              </a:tabLst>
            </a:pPr>
            <a:fld id="{E80213D5-49F0-4E1D-ACE7-0D2D243DD1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E851-D5F6-4EDA-9442-A0F98B0A8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46280" y="1317600"/>
            <a:ext cx="2962584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46280" y="7679880"/>
            <a:ext cx="2962584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46280" y="19027440"/>
            <a:ext cx="2962584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3FA6-86E9-40C0-BF5F-E0C2A312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46280" y="1317600"/>
            <a:ext cx="2962584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46280" y="7679880"/>
            <a:ext cx="1445724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826760" y="7679880"/>
            <a:ext cx="1445724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46280" y="19027440"/>
            <a:ext cx="1445724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6826760" y="19027440"/>
            <a:ext cx="1445724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893B-C52D-4A7C-AC9A-46CE0AAA5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46280" y="1317600"/>
            <a:ext cx="2962584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46280" y="7679880"/>
            <a:ext cx="953928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662920" y="7679880"/>
            <a:ext cx="953928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1679560" y="7679880"/>
            <a:ext cx="953928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46280" y="19027440"/>
            <a:ext cx="953928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1662920" y="19027440"/>
            <a:ext cx="953928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21679560" y="19027440"/>
            <a:ext cx="953928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928F-E1CB-4A69-A671-1684AED2B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46280" y="1317600"/>
            <a:ext cx="2962584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646280" y="7679880"/>
            <a:ext cx="29625840" cy="2172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300"/>
              </a:spcBef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46280" y="1317600"/>
            <a:ext cx="2962584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46280" y="7679880"/>
            <a:ext cx="29625840" cy="217249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46280" y="1317600"/>
            <a:ext cx="2962584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46280" y="7679880"/>
            <a:ext cx="14457240" cy="217249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6826760" y="7679880"/>
            <a:ext cx="14457240" cy="217249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46280" y="1317600"/>
            <a:ext cx="2962584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8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646280" y="1317600"/>
            <a:ext cx="2962584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300"/>
              </a:spcBef>
              <a:tabLst>
                <a:tab algn="l" pos="0"/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46280" y="1317600"/>
            <a:ext cx="2962584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46280" y="7679880"/>
            <a:ext cx="1445724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6826760" y="7679880"/>
            <a:ext cx="14457240" cy="217249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646280" y="19027440"/>
            <a:ext cx="1445724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46280" y="1317600"/>
            <a:ext cx="2962584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46280" y="7679880"/>
            <a:ext cx="29625840" cy="2172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300"/>
              </a:spcBef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F461-A9B4-4661-9EE4-FD22F5D5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46280" y="1317600"/>
            <a:ext cx="2962584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46280" y="7679880"/>
            <a:ext cx="14457240" cy="217249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6826760" y="7679880"/>
            <a:ext cx="1445724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6826760" y="19027440"/>
            <a:ext cx="1445724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46280" y="1317600"/>
            <a:ext cx="2962584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46280" y="7679880"/>
            <a:ext cx="1445724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6826760" y="7679880"/>
            <a:ext cx="1445724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646280" y="19027440"/>
            <a:ext cx="2962584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46280" y="1317600"/>
            <a:ext cx="2962584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46280" y="7679880"/>
            <a:ext cx="2962584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646280" y="19027440"/>
            <a:ext cx="2962584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46280" y="1317600"/>
            <a:ext cx="2962584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46280" y="7679880"/>
            <a:ext cx="1445724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6826760" y="7679880"/>
            <a:ext cx="1445724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646280" y="19027440"/>
            <a:ext cx="1445724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6826760" y="19027440"/>
            <a:ext cx="1445724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46280" y="1317600"/>
            <a:ext cx="2962584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46280" y="7679880"/>
            <a:ext cx="953928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662920" y="7679880"/>
            <a:ext cx="953928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679560" y="7679880"/>
            <a:ext cx="953928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646280" y="19027440"/>
            <a:ext cx="953928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11662920" y="19027440"/>
            <a:ext cx="953928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21679560" y="19027440"/>
            <a:ext cx="953928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46280" y="1317600"/>
            <a:ext cx="2962584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46280" y="7679880"/>
            <a:ext cx="29625840" cy="217249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8799-0DCE-4746-AC87-7DB13C4F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46280" y="1317600"/>
            <a:ext cx="2962584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46280" y="7679880"/>
            <a:ext cx="14457240" cy="217249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6826760" y="7679880"/>
            <a:ext cx="14457240" cy="217249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7AD5-3B47-4AEC-A752-3B153758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46280" y="1317600"/>
            <a:ext cx="2962584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21EE-A037-4B14-8EC6-292E5706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46280" y="1317600"/>
            <a:ext cx="2962584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300"/>
              </a:spcBef>
              <a:tabLst>
                <a:tab algn="l" pos="0"/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78C9-9423-4BEF-AACC-CBFD6CCF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46280" y="1317600"/>
            <a:ext cx="2962584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46280" y="7679880"/>
            <a:ext cx="1445724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6826760" y="7679880"/>
            <a:ext cx="14457240" cy="217249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46280" y="19027440"/>
            <a:ext cx="1445724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5572-5C82-440D-A36C-4C2D832A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46280" y="1317600"/>
            <a:ext cx="2962584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46280" y="7679880"/>
            <a:ext cx="14457240" cy="217249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6826760" y="7679880"/>
            <a:ext cx="1445724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6826760" y="19027440"/>
            <a:ext cx="1445724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58A7-21D0-4E7D-8454-BDC34FC9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46280" y="1317600"/>
            <a:ext cx="2962584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46280" y="7679880"/>
            <a:ext cx="1445724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6826760" y="7679880"/>
            <a:ext cx="1445724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46280" y="19027440"/>
            <a:ext cx="2962584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52E6-468A-4781-80B6-F98ECA1B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6280" y="1317600"/>
            <a:ext cx="2962584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0920"/>
                <a:tab algn="l" pos="7521480"/>
              </a:tabLst>
            </a:pPr>
            <a:r>
              <a:rPr b="0" lang="en-US" sz="18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6280" y="7679880"/>
            <a:ext cx="29625840" cy="217249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marL="1409760" indent="-1409760">
              <a:spcBef>
                <a:spcPts val="3300"/>
              </a:spcBef>
              <a:buClr>
                <a:srgbClr val="000000"/>
              </a:buClr>
              <a:buFont typeface="Arial"/>
              <a:buChar char="•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  <a:p>
            <a:pPr lvl="1" marL="3056040" indent="-1174680">
              <a:spcBef>
                <a:spcPts val="3300"/>
              </a:spcBef>
              <a:buClr>
                <a:srgbClr val="000000"/>
              </a:buClr>
              <a:buFont typeface="Arial"/>
              <a:buChar char="–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  <a:p>
            <a:pPr lvl="2" marL="4702320" indent="-939960">
              <a:spcBef>
                <a:spcPts val="3300"/>
              </a:spcBef>
              <a:buClr>
                <a:srgbClr val="000000"/>
              </a:buClr>
              <a:buFont typeface="Arial"/>
              <a:buChar char="•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  <a:p>
            <a:pPr lvl="3" marL="6583320" indent="-939600">
              <a:spcBef>
                <a:spcPts val="3300"/>
              </a:spcBef>
              <a:buClr>
                <a:srgbClr val="000000"/>
              </a:buClr>
              <a:buFont typeface="Arial"/>
              <a:buChar char="–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  <a:p>
            <a:pPr lvl="4" marL="8464680" indent="-939960">
              <a:spcBef>
                <a:spcPts val="3300"/>
              </a:spcBef>
              <a:buClr>
                <a:srgbClr val="000000"/>
              </a:buClr>
              <a:buFont typeface="Arial"/>
              <a:buChar char="»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  <a:p>
            <a:pPr lvl="5" marL="8464680" indent="-939960">
              <a:spcBef>
                <a:spcPts val="3300"/>
              </a:spcBef>
              <a:buClr>
                <a:srgbClr val="000000"/>
              </a:buClr>
              <a:buFont typeface="Arial"/>
              <a:buChar char="»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  <a:p>
            <a:pPr lvl="6" marL="8464680" indent="-939960">
              <a:spcBef>
                <a:spcPts val="3300"/>
              </a:spcBef>
              <a:buClr>
                <a:srgbClr val="000000"/>
              </a:buClr>
              <a:buFont typeface="Arial"/>
              <a:buChar char="»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46280" y="30509640"/>
            <a:ext cx="7680240" cy="17528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lstStyle>
            <a:lvl1pPr indent="0">
              <a:buNone/>
              <a:tabLst>
                <a:tab algn="l" pos="0"/>
                <a:tab algn="l" pos="3760920"/>
                <a:tab algn="l" pos="7521480"/>
              </a:tabLst>
              <a:defRPr b="0" lang="en-US" sz="4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r>
              <a:rPr b="0" lang="en-US" sz="4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47480" y="30509640"/>
            <a:ext cx="10423440" cy="17528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591880" y="30509640"/>
            <a:ext cx="7680240" cy="17528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lstStyle>
            <a:lvl1pPr indent="0" algn="r">
              <a:buNone/>
              <a:tabLst>
                <a:tab algn="l" pos="0"/>
                <a:tab algn="l" pos="3760920"/>
                <a:tab algn="l" pos="7521480"/>
              </a:tabLst>
              <a:defRPr b="0" lang="en-US" sz="4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760920"/>
                <a:tab algn="l" pos="7521480"/>
              </a:tabLst>
            </a:pPr>
            <a:fld id="{E3EFA976-11CD-45DE-8EF2-B3BDE2E120BE}" type="slidenum">
              <a:rPr b="0" lang="en-US" sz="4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456" descr="background_ls1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-9360" y="-9360"/>
            <a:ext cx="33010200" cy="3292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56" descr="background_ls1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-9360" y="-9360"/>
            <a:ext cx="33010200" cy="32927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46280" y="1317600"/>
            <a:ext cx="2962584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0920"/>
                <a:tab algn="l" pos="7521480"/>
              </a:tabLst>
            </a:pPr>
            <a:r>
              <a:rPr b="0" lang="en-US" sz="18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646280" y="7679880"/>
            <a:ext cx="29625840" cy="217249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marL="1409760" indent="-1409760">
              <a:spcBef>
                <a:spcPts val="3300"/>
              </a:spcBef>
              <a:buClr>
                <a:srgbClr val="000000"/>
              </a:buClr>
              <a:buFont typeface="Arial"/>
              <a:buChar char="•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  <a:p>
            <a:pPr lvl="1" marL="3056040" indent="-1174680">
              <a:spcBef>
                <a:spcPts val="3300"/>
              </a:spcBef>
              <a:buClr>
                <a:srgbClr val="000000"/>
              </a:buClr>
              <a:buFont typeface="Arial"/>
              <a:buChar char="–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  <a:p>
            <a:pPr lvl="2" marL="4702320" indent="-939960">
              <a:spcBef>
                <a:spcPts val="3300"/>
              </a:spcBef>
              <a:buClr>
                <a:srgbClr val="000000"/>
              </a:buClr>
              <a:buFont typeface="Arial"/>
              <a:buChar char="•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  <a:p>
            <a:pPr lvl="3" marL="6583320" indent="-939600">
              <a:spcBef>
                <a:spcPts val="3300"/>
              </a:spcBef>
              <a:buClr>
                <a:srgbClr val="000000"/>
              </a:buClr>
              <a:buFont typeface="Arial"/>
              <a:buChar char="–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  <a:p>
            <a:pPr lvl="4" marL="8464680" indent="-939960">
              <a:spcBef>
                <a:spcPts val="3300"/>
              </a:spcBef>
              <a:buClr>
                <a:srgbClr val="000000"/>
              </a:buClr>
              <a:buFont typeface="Arial"/>
              <a:buChar char="»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  <a:p>
            <a:pPr lvl="5" marL="8464680" indent="-939960">
              <a:spcBef>
                <a:spcPts val="3300"/>
              </a:spcBef>
              <a:buClr>
                <a:srgbClr val="000000"/>
              </a:buClr>
              <a:buFont typeface="Arial"/>
              <a:buChar char="»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  <a:p>
            <a:pPr lvl="6" marL="8464680" indent="-939960">
              <a:spcBef>
                <a:spcPts val="3300"/>
              </a:spcBef>
              <a:buClr>
                <a:srgbClr val="000000"/>
              </a:buClr>
              <a:buFont typeface="Arial"/>
              <a:buChar char="»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wmf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slideLayout" Target="../slideLayouts/slideLayout13.xml"/><Relationship Id="rId2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ed Rectangle 376"/>
          <p:cNvGrpSpPr/>
          <p:nvPr/>
        </p:nvGrpSpPr>
        <p:grpSpPr>
          <a:xfrm>
            <a:off x="701640" y="17184600"/>
            <a:ext cx="30291120" cy="15806880"/>
            <a:chOff x="701640" y="17184600"/>
            <a:chExt cx="30291120" cy="15806880"/>
          </a:xfrm>
        </p:grpSpPr>
        <p:pic>
          <p:nvPicPr>
            <p:cNvPr id="89" name="Rounded Rectangle 376" descr=""/>
            <p:cNvPicPr/>
            <p:nvPr/>
          </p:nvPicPr>
          <p:blipFill>
            <a:blip r:embed="rId1"/>
            <a:stretch/>
          </p:blipFill>
          <p:spPr>
            <a:xfrm>
              <a:off x="701640" y="17184600"/>
              <a:ext cx="30291120" cy="1580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006560" y="17465760"/>
              <a:ext cx="29686320" cy="1520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3760920"/>
                  <a:tab algn="l" pos="7521480"/>
                </a:tabLst>
              </a:pPr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TextBox 3"/>
          <p:cNvSpPr/>
          <p:nvPr/>
        </p:nvSpPr>
        <p:spPr>
          <a:xfrm>
            <a:off x="6400800" y="0"/>
            <a:ext cx="2011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3760920"/>
                <a:tab algn="l" pos="7521480"/>
              </a:tabLst>
            </a:pPr>
            <a:r>
              <a:rPr b="1" lang="en-US" sz="13800" spc="-1" strike="noStrike">
                <a:solidFill>
                  <a:srgbClr val="000000"/>
                </a:solidFill>
                <a:latin typeface="Calibri"/>
              </a:rPr>
              <a:t>DFM scoring &amp; fixing from business goal to tape out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26517600" y="0"/>
            <a:ext cx="640080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3760920"/>
                <a:tab algn="l" pos="7521480"/>
              </a:tabLst>
            </a:pPr>
            <a:endParaRPr b="0" lang="en-US" sz="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0" y="0"/>
            <a:ext cx="640080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3760920"/>
                <a:tab algn="l" pos="7521480"/>
              </a:tabLst>
            </a:pPr>
            <a:endParaRPr b="0" lang="en-US" sz="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6400800" y="4114800"/>
            <a:ext cx="20116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3760920"/>
                <a:tab algn="l" pos="752148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Lionel Riviere </a:t>
            </a:r>
            <a:r>
              <a:rPr b="0" lang="en-US" sz="6200" spc="-1" strike="noStrike" baseline="30000">
                <a:solidFill>
                  <a:srgbClr val="000000"/>
                </a:solidFill>
                <a:latin typeface="Calibri"/>
              </a:rPr>
              <a:t>(1 @)</a:t>
            </a: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 ,  Robert Boone </a:t>
            </a:r>
            <a:r>
              <a:rPr b="0" lang="en-US" sz="6200" spc="-1" strike="noStrike" baseline="30000">
                <a:solidFill>
                  <a:srgbClr val="000000"/>
                </a:solidFill>
                <a:latin typeface="Calibri"/>
              </a:rPr>
              <a:t>(1)</a:t>
            </a: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 , Domenico Loparco </a:t>
            </a:r>
            <a:r>
              <a:rPr b="0" lang="en-US" sz="6200" spc="-1" strike="noStrike" baseline="30000">
                <a:solidFill>
                  <a:srgbClr val="000000"/>
                </a:solidFill>
                <a:latin typeface="Calibri"/>
              </a:rPr>
              <a:t>(2)</a:t>
            </a: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 , Fabio Melchiori </a:t>
            </a:r>
            <a:r>
              <a:rPr b="0" lang="en-US" sz="6200" spc="-1" strike="noStrike" baseline="30000">
                <a:solidFill>
                  <a:srgbClr val="000000"/>
                </a:solidFill>
                <a:latin typeface="Calibri"/>
              </a:rPr>
              <a:t>(2)</a:t>
            </a: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, Philippe Sardin </a:t>
            </a:r>
            <a:r>
              <a:rPr b="0" lang="en-US" sz="6200" spc="-1" strike="noStrike" baseline="30000">
                <a:solidFill>
                  <a:srgbClr val="000000"/>
                </a:solidFill>
                <a:latin typeface="Calibri"/>
              </a:rPr>
              <a:t>(3)</a:t>
            </a: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 , Matt Thompson </a:t>
            </a:r>
            <a:r>
              <a:rPr b="0" lang="en-US" sz="6200" spc="-1" strike="noStrike" baseline="30000">
                <a:solidFill>
                  <a:srgbClr val="000000"/>
                </a:solidFill>
                <a:latin typeface="Calibri"/>
              </a:rPr>
              <a:t>(1)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3760920"/>
                <a:tab algn="l" pos="75214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reescale semiconductor, Austin, TX USA / (2) STMicroelectronics, Agrate Brianza, MI Italy / (3) STMicroelectronics, Crolles300mm, Fran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3760920"/>
                <a:tab algn="l" pos="75214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@) Paper copies and additional information : lionelriviere@freescale.co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3760920"/>
                <a:tab algn="l" pos="75214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3760920"/>
                <a:tab algn="l" pos="75214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TextBox 7"/>
          <p:cNvGrpSpPr/>
          <p:nvPr/>
        </p:nvGrpSpPr>
        <p:grpSpPr>
          <a:xfrm>
            <a:off x="19080" y="5877000"/>
            <a:ext cx="32954760" cy="7424640"/>
            <a:chOff x="19080" y="5877000"/>
            <a:chExt cx="32954760" cy="7424640"/>
          </a:xfrm>
        </p:grpSpPr>
        <p:pic>
          <p:nvPicPr>
            <p:cNvPr id="96" name="TextBox 7" descr=""/>
            <p:cNvPicPr/>
            <p:nvPr/>
          </p:nvPicPr>
          <p:blipFill>
            <a:blip r:embed="rId2"/>
            <a:stretch/>
          </p:blipFill>
          <p:spPr>
            <a:xfrm>
              <a:off x="19080" y="5877000"/>
              <a:ext cx="32954760" cy="742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76320" y="6400800"/>
              <a:ext cx="32842080" cy="57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3760920"/>
                  <a:tab algn="l" pos="7521480"/>
                </a:tabLst>
              </a:pPr>
              <a:r>
                <a:rPr b="1" lang="en-US" sz="8200" spc="-1" strike="noStrike">
                  <a:solidFill>
                    <a:srgbClr val="000000"/>
                  </a:solidFill>
                  <a:latin typeface="Calibri"/>
                </a:rPr>
                <a:t>Issue #1: Rule based detection</a:t>
              </a:r>
              <a:endParaRPr b="0" lang="en-US" sz="8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3760920"/>
                  <a:tab algn="l" pos="7521480"/>
                </a:tabLst>
              </a:pPr>
              <a:r>
                <a:rPr b="0" lang="en-US" sz="55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0" lang="en-US" sz="4400" spc="-1" strike="noStrike">
                  <a:solidFill>
                    <a:srgbClr val="000000"/>
                  </a:solidFill>
                  <a:latin typeface="Calibri"/>
                </a:rPr>
                <a:t>Process complexity not emulated by DFM rules.</a:t>
              </a:r>
              <a:r>
                <a:rPr b="0" lang="en-US" sz="4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US" sz="55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r>
                <a:rPr b="1" lang="en-US" sz="5500" spc="-1" strike="noStrike">
                  <a:solidFill>
                    <a:srgbClr val="000000"/>
                  </a:solidFill>
                  <a:latin typeface="Calibri"/>
                </a:rPr>
                <a:t> over detection / under detection</a:t>
              </a:r>
              <a:endParaRPr b="0" lang="en-US" sz="5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3760920"/>
                  <a:tab algn="l" pos="7521480"/>
                </a:tabLst>
              </a:pPr>
              <a:r>
                <a:rPr b="0" lang="en-US" sz="55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0" lang="en-US" sz="4400" spc="-1" strike="noStrike">
                  <a:solidFill>
                    <a:srgbClr val="000000"/>
                  </a:solidFill>
                  <a:latin typeface="Calibri"/>
                </a:rPr>
                <a:t>Multiple DFM violations but constrained area </a:t>
              </a:r>
              <a:r>
                <a:rPr b="0" lang="en-US" sz="41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55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r>
                <a:rPr b="1" lang="en-US" sz="5500" spc="-1" strike="noStrike">
                  <a:solidFill>
                    <a:srgbClr val="000000"/>
                  </a:solidFill>
                  <a:latin typeface="Calibri"/>
                </a:rPr>
                <a:t> limited capability for yield tradeoff decision</a:t>
              </a:r>
              <a:endParaRPr b="0" lang="en-US" sz="55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3760920"/>
                  <a:tab algn="l" pos="7521480"/>
                </a:tabLst>
              </a:pPr>
              <a:endParaRPr b="0" lang="en-US" sz="8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3760920"/>
                  <a:tab algn="l" pos="7521480"/>
                </a:tabLst>
              </a:pPr>
              <a:r>
                <a:rPr b="1" lang="en-US" sz="8200" spc="-1" strike="noStrike">
                  <a:solidFill>
                    <a:srgbClr val="000000"/>
                  </a:solidFill>
                  <a:latin typeface="Calibri"/>
                </a:rPr>
                <a:t>Issue #2: Fix </a:t>
              </a:r>
              <a:r>
                <a:rPr b="1" lang="en-US" sz="8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</a:t>
              </a:r>
              <a:r>
                <a:rPr b="1" lang="en-US" sz="8200" spc="-1" strike="noStrike">
                  <a:solidFill>
                    <a:srgbClr val="000000"/>
                  </a:solidFill>
                  <a:latin typeface="Calibri"/>
                </a:rPr>
                <a:t> Analysis disconnect</a:t>
              </a:r>
              <a:r>
                <a:rPr b="0" lang="en-US" sz="8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8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3760920"/>
                  <a:tab algn="l" pos="7521480"/>
                </a:tabLst>
              </a:pPr>
              <a:r>
                <a:rPr b="0" lang="en-US" sz="55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0" lang="en-US" sz="4400" spc="-1" strike="noStrike">
                  <a:solidFill>
                    <a:srgbClr val="000000"/>
                  </a:solidFill>
                  <a:latin typeface="Calibri"/>
                </a:rPr>
                <a:t>When IP is designed , SOC precise contents are unknown </a:t>
              </a:r>
              <a:r>
                <a:rPr b="0" lang="en-US" sz="4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US" sz="55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r>
                <a:rPr b="1" lang="en-US" sz="5500" spc="-1" strike="noStrike">
                  <a:solidFill>
                    <a:srgbClr val="000000"/>
                  </a:solidFill>
                  <a:latin typeface="Calibri"/>
                </a:rPr>
                <a:t> How much IP DFM fixing effort is enough ?</a:t>
              </a:r>
              <a:endParaRPr b="0" lang="en-US" sz="5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3760920"/>
                  <a:tab algn="l" pos="7521480"/>
                </a:tabLst>
              </a:pPr>
              <a:r>
                <a:rPr b="0" lang="en-US" sz="55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0" lang="en-US" sz="4400" spc="-1" strike="noStrike">
                  <a:solidFill>
                    <a:srgbClr val="000000"/>
                  </a:solidFill>
                  <a:latin typeface="Calibri"/>
                </a:rPr>
                <a:t>When IP are integrated in SOC, time for IPs fixing is over </a:t>
              </a:r>
              <a:r>
                <a:rPr b="0" lang="en-US" sz="4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US" sz="55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r>
                <a:rPr b="1" lang="en-US" sz="5500" spc="-1" strike="noStrike">
                  <a:solidFill>
                    <a:srgbClr val="000000"/>
                  </a:solidFill>
                  <a:latin typeface="Calibri"/>
                </a:rPr>
                <a:t> No improvement of SOC yield loss.</a:t>
              </a:r>
              <a:endParaRPr b="0" lang="en-US" sz="5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3760920"/>
                  <a:tab algn="l" pos="7521480"/>
                </a:tabLst>
              </a:pPr>
              <a:endParaRPr b="0" lang="en-US" sz="5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3760920"/>
                  <a:tab algn="l" pos="7521480"/>
                </a:tabLst>
              </a:pPr>
              <a:endParaRPr b="0" lang="en-US" sz="5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8" name="Picture 2" descr=""/>
          <p:cNvPicPr/>
          <p:nvPr/>
        </p:nvPicPr>
        <p:blipFill>
          <a:blip r:embed="rId3"/>
          <a:stretch/>
        </p:blipFill>
        <p:spPr>
          <a:xfrm>
            <a:off x="28654200" y="2514600"/>
            <a:ext cx="2283120" cy="1695600"/>
          </a:xfrm>
          <a:prstGeom prst="rect">
            <a:avLst/>
          </a:prstGeom>
          <a:ln w="0">
            <a:noFill/>
          </a:ln>
        </p:spPr>
      </p:pic>
      <p:grpSp>
        <p:nvGrpSpPr>
          <p:cNvPr id="99" name="TextBox 30"/>
          <p:cNvGrpSpPr/>
          <p:nvPr/>
        </p:nvGrpSpPr>
        <p:grpSpPr>
          <a:xfrm>
            <a:off x="19080" y="11893680"/>
            <a:ext cx="32954760" cy="4346280"/>
            <a:chOff x="19080" y="11893680"/>
            <a:chExt cx="32954760" cy="4346280"/>
          </a:xfrm>
        </p:grpSpPr>
        <p:pic>
          <p:nvPicPr>
            <p:cNvPr id="100" name="TextBox 30" descr=""/>
            <p:cNvPicPr/>
            <p:nvPr/>
          </p:nvPicPr>
          <p:blipFill>
            <a:blip r:embed="rId4"/>
            <a:stretch/>
          </p:blipFill>
          <p:spPr>
            <a:xfrm>
              <a:off x="19080" y="11893680"/>
              <a:ext cx="32954760" cy="43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76320" y="12192120"/>
              <a:ext cx="32842080" cy="39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3760920"/>
                  <a:tab algn="l" pos="7521480"/>
                </a:tabLst>
              </a:pPr>
              <a:r>
                <a:rPr b="1" lang="en-US" sz="8200" spc="-1" strike="noStrike">
                  <a:solidFill>
                    <a:srgbClr val="000000"/>
                  </a:solidFill>
                  <a:latin typeface="Calibri"/>
                </a:rPr>
                <a:t>Yield loss partitioning.</a:t>
              </a:r>
              <a:endParaRPr b="0" lang="en-US" sz="8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Calibri"/>
                <a:buChar char="-"/>
                <a:tabLst>
                  <a:tab algn="l" pos="3760920"/>
                  <a:tab algn="l" pos="752148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3760920"/>
                  <a:tab algn="l" pos="752148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Rectangle 21"/>
          <p:cNvGrpSpPr/>
          <p:nvPr/>
        </p:nvGrpSpPr>
        <p:grpSpPr>
          <a:xfrm>
            <a:off x="11631600" y="13381200"/>
            <a:ext cx="9771120" cy="2449440"/>
            <a:chOff x="11631600" y="13381200"/>
            <a:chExt cx="9771120" cy="2449440"/>
          </a:xfrm>
        </p:grpSpPr>
        <p:pic>
          <p:nvPicPr>
            <p:cNvPr id="103" name="Rectangle 21" descr=""/>
            <p:cNvPicPr/>
            <p:nvPr/>
          </p:nvPicPr>
          <p:blipFill>
            <a:blip r:embed="rId5"/>
            <a:stretch/>
          </p:blipFill>
          <p:spPr>
            <a:xfrm>
              <a:off x="11631600" y="13381200"/>
              <a:ext cx="9771120" cy="24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11963520" y="13544640"/>
              <a:ext cx="9235800" cy="22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3760920"/>
                  <a:tab algn="l" pos="752148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alibri"/>
                </a:rPr>
                <a:t>Fix process hot spots  (litho , CMP…)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 41"/>
          <p:cNvGrpSpPr/>
          <p:nvPr/>
        </p:nvGrpSpPr>
        <p:grpSpPr>
          <a:xfrm>
            <a:off x="12192120" y="14284440"/>
            <a:ext cx="4723560" cy="1489680"/>
            <a:chOff x="12192120" y="14284440"/>
            <a:chExt cx="4723560" cy="1489680"/>
          </a:xfrm>
        </p:grpSpPr>
        <p:sp>
          <p:nvSpPr>
            <p:cNvPr id="106" name="Freeform 32"/>
            <p:cNvSpPr/>
            <p:nvPr/>
          </p:nvSpPr>
          <p:spPr>
            <a:xfrm>
              <a:off x="12401640" y="14663520"/>
              <a:ext cx="3296160" cy="1110600"/>
            </a:xfrm>
            <a:custGeom>
              <a:avLst/>
              <a:gdLst>
                <a:gd name="textAreaLeft" fmla="*/ 0 w 3296160"/>
                <a:gd name="textAreaRight" fmla="*/ 3296520 w 3296160"/>
                <a:gd name="textAreaTop" fmla="*/ 0 h 1110600"/>
                <a:gd name="textAreaBottom" fmla="*/ 1110960 h 1110600"/>
              </a:gdLst>
              <a:ahLst/>
              <a:rect l="textAreaLeft" t="textAreaTop" r="textAreaRight" b="textAreaBottom"/>
              <a:pathLst>
                <a:path w="1005" h="378">
                  <a:moveTo>
                    <a:pt x="0" y="141"/>
                  </a:moveTo>
                  <a:cubicBezTo>
                    <a:pt x="57" y="156"/>
                    <a:pt x="245" y="229"/>
                    <a:pt x="344" y="229"/>
                  </a:cubicBezTo>
                  <a:cubicBezTo>
                    <a:pt x="443" y="229"/>
                    <a:pt x="525" y="169"/>
                    <a:pt x="592" y="141"/>
                  </a:cubicBezTo>
                  <a:cubicBezTo>
                    <a:pt x="659" y="113"/>
                    <a:pt x="701" y="84"/>
                    <a:pt x="744" y="61"/>
                  </a:cubicBezTo>
                  <a:cubicBezTo>
                    <a:pt x="787" y="38"/>
                    <a:pt x="809" y="0"/>
                    <a:pt x="848" y="5"/>
                  </a:cubicBezTo>
                  <a:cubicBezTo>
                    <a:pt x="887" y="10"/>
                    <a:pt x="952" y="50"/>
                    <a:pt x="976" y="93"/>
                  </a:cubicBezTo>
                  <a:cubicBezTo>
                    <a:pt x="1000" y="136"/>
                    <a:pt x="1005" y="214"/>
                    <a:pt x="992" y="261"/>
                  </a:cubicBezTo>
                  <a:cubicBezTo>
                    <a:pt x="979" y="308"/>
                    <a:pt x="951" y="368"/>
                    <a:pt x="896" y="373"/>
                  </a:cubicBezTo>
                  <a:cubicBezTo>
                    <a:pt x="841" y="378"/>
                    <a:pt x="809" y="306"/>
                    <a:pt x="664" y="293"/>
                  </a:cubicBezTo>
                  <a:cubicBezTo>
                    <a:pt x="519" y="280"/>
                    <a:pt x="271" y="286"/>
                    <a:pt x="24" y="293"/>
                  </a:cubicBezTo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Rectangle 34"/>
            <p:cNvSpPr/>
            <p:nvPr/>
          </p:nvSpPr>
          <p:spPr>
            <a:xfrm>
              <a:off x="12192120" y="14284440"/>
              <a:ext cx="4723560" cy="423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3760920"/>
                  <a:tab algn="l" pos="7521480"/>
                </a:tabLst>
              </a:pPr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Oval 36"/>
            <p:cNvSpPr/>
            <p:nvPr/>
          </p:nvSpPr>
          <p:spPr>
            <a:xfrm>
              <a:off x="14684760" y="14490360"/>
              <a:ext cx="1049400" cy="44640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3760920"/>
                  <a:tab algn="l" pos="7521480"/>
                </a:tabLst>
              </a:pPr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Oval 39"/>
            <p:cNvSpPr/>
            <p:nvPr/>
          </p:nvSpPr>
          <p:spPr>
            <a:xfrm>
              <a:off x="12979080" y="15174720"/>
              <a:ext cx="1049400" cy="44640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3760920"/>
                  <a:tab algn="l" pos="7521480"/>
                </a:tabLst>
              </a:pPr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0" name="Picture 4" descr="D:\Profiles\r37064\Local Settings\Temporary Internet Files\Content.IE5\1GIALXYT\MC900442139[1].png"/>
          <p:cNvPicPr/>
          <p:nvPr/>
        </p:nvPicPr>
        <p:blipFill>
          <a:blip r:embed="rId6"/>
          <a:stretch/>
        </p:blipFill>
        <p:spPr>
          <a:xfrm>
            <a:off x="20345400" y="14793840"/>
            <a:ext cx="1919160" cy="18288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21"/>
          <p:cNvSpPr/>
          <p:nvPr/>
        </p:nvSpPr>
        <p:spPr>
          <a:xfrm>
            <a:off x="16078320" y="14811480"/>
            <a:ext cx="43434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60920"/>
                <a:tab algn="l" pos="752148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No Yield Los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" name="Rectangle 81"/>
          <p:cNvGrpSpPr/>
          <p:nvPr/>
        </p:nvGrpSpPr>
        <p:grpSpPr>
          <a:xfrm>
            <a:off x="22829760" y="13319280"/>
            <a:ext cx="9077400" cy="2450880"/>
            <a:chOff x="22829760" y="13319280"/>
            <a:chExt cx="9077400" cy="2450880"/>
          </a:xfrm>
        </p:grpSpPr>
        <p:pic>
          <p:nvPicPr>
            <p:cNvPr id="113" name="Rectangle 81" descr=""/>
            <p:cNvPicPr/>
            <p:nvPr/>
          </p:nvPicPr>
          <p:blipFill>
            <a:blip r:embed="rId7"/>
            <a:stretch/>
          </p:blipFill>
          <p:spPr>
            <a:xfrm>
              <a:off x="22829760" y="13319280"/>
              <a:ext cx="9077400" cy="24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23164920" y="13487400"/>
              <a:ext cx="8686800" cy="22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3760920"/>
                  <a:tab algn="l" pos="752148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alibri"/>
                </a:rPr>
                <a:t>Process aware parametric </a:t>
              </a:r>
              <a:br>
                <a:rPr sz="4800"/>
              </a:br>
              <a:r>
                <a:rPr b="0" lang="en-US" sz="4800" spc="-1" strike="noStrike">
                  <a:solidFill>
                    <a:srgbClr val="ffffff"/>
                  </a:solidFill>
                  <a:latin typeface="Calibri"/>
                </a:rPr>
                <a:t>           extraction (Litho, Stress ,…)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82"/>
          <p:cNvGrpSpPr/>
          <p:nvPr/>
        </p:nvGrpSpPr>
        <p:grpSpPr>
          <a:xfrm>
            <a:off x="23622120" y="14294160"/>
            <a:ext cx="3123720" cy="1323720"/>
            <a:chOff x="23622120" y="14294160"/>
            <a:chExt cx="3123720" cy="1323720"/>
          </a:xfrm>
        </p:grpSpPr>
        <p:sp>
          <p:nvSpPr>
            <p:cNvPr id="116" name="Freeform 83"/>
            <p:cNvSpPr/>
            <p:nvPr/>
          </p:nvSpPr>
          <p:spPr>
            <a:xfrm rot="16200000">
              <a:off x="24981480" y="14489640"/>
              <a:ext cx="758520" cy="1497600"/>
            </a:xfrm>
            <a:custGeom>
              <a:avLst/>
              <a:gdLst>
                <a:gd name="textAreaLeft" fmla="*/ 0 w 758520"/>
                <a:gd name="textAreaRight" fmla="*/ 758880 w 758520"/>
                <a:gd name="textAreaTop" fmla="*/ 0 h 1497600"/>
                <a:gd name="textAreaBottom" fmla="*/ 1497960 h 1497600"/>
              </a:gdLst>
              <a:ahLst/>
              <a:rect l="textAreaLeft" t="textAreaTop" r="textAreaRight" b="textAreaBottom"/>
              <a:pathLst>
                <a:path w="1177" h="1099">
                  <a:moveTo>
                    <a:pt x="184" y="40"/>
                  </a:moveTo>
                  <a:cubicBezTo>
                    <a:pt x="336" y="0"/>
                    <a:pt x="784" y="16"/>
                    <a:pt x="936" y="40"/>
                  </a:cubicBezTo>
                  <a:cubicBezTo>
                    <a:pt x="1088" y="64"/>
                    <a:pt x="1064" y="109"/>
                    <a:pt x="1096" y="184"/>
                  </a:cubicBezTo>
                  <a:cubicBezTo>
                    <a:pt x="1128" y="259"/>
                    <a:pt x="1123" y="377"/>
                    <a:pt x="1128" y="488"/>
                  </a:cubicBezTo>
                  <a:cubicBezTo>
                    <a:pt x="1133" y="599"/>
                    <a:pt x="1144" y="756"/>
                    <a:pt x="1128" y="848"/>
                  </a:cubicBezTo>
                  <a:cubicBezTo>
                    <a:pt x="1112" y="940"/>
                    <a:pt x="1177" y="1004"/>
                    <a:pt x="1032" y="1040"/>
                  </a:cubicBezTo>
                  <a:cubicBezTo>
                    <a:pt x="887" y="1076"/>
                    <a:pt x="417" y="1099"/>
                    <a:pt x="256" y="1064"/>
                  </a:cubicBezTo>
                  <a:cubicBezTo>
                    <a:pt x="95" y="1029"/>
                    <a:pt x="103" y="963"/>
                    <a:pt x="64" y="832"/>
                  </a:cubicBezTo>
                  <a:cubicBezTo>
                    <a:pt x="25" y="701"/>
                    <a:pt x="0" y="411"/>
                    <a:pt x="24" y="280"/>
                  </a:cubicBezTo>
                  <a:cubicBezTo>
                    <a:pt x="48" y="149"/>
                    <a:pt x="32" y="80"/>
                    <a:pt x="184" y="40"/>
                  </a:cubicBez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84"/>
            <p:cNvSpPr/>
            <p:nvPr/>
          </p:nvSpPr>
          <p:spPr>
            <a:xfrm rot="16200000">
              <a:off x="24698520" y="13217760"/>
              <a:ext cx="970920" cy="3123720"/>
            </a:xfrm>
            <a:custGeom>
              <a:avLst/>
              <a:gdLst>
                <a:gd name="textAreaLeft" fmla="*/ 0 w 970920"/>
                <a:gd name="textAreaRight" fmla="*/ 971280 w 970920"/>
                <a:gd name="textAreaTop" fmla="*/ 0 h 3123720"/>
                <a:gd name="textAreaBottom" fmla="*/ 3124080 h 3123720"/>
              </a:gdLst>
              <a:ahLst/>
              <a:rect l="textAreaLeft" t="textAreaTop" r="textAreaRight" b="textAreaBottom"/>
              <a:pathLst>
                <a:path w="1070" h="1700">
                  <a:moveTo>
                    <a:pt x="27" y="1248"/>
                  </a:moveTo>
                  <a:cubicBezTo>
                    <a:pt x="30" y="1152"/>
                    <a:pt x="76" y="1107"/>
                    <a:pt x="75" y="992"/>
                  </a:cubicBezTo>
                  <a:cubicBezTo>
                    <a:pt x="74" y="877"/>
                    <a:pt x="28" y="685"/>
                    <a:pt x="19" y="560"/>
                  </a:cubicBezTo>
                  <a:cubicBezTo>
                    <a:pt x="10" y="435"/>
                    <a:pt x="0" y="313"/>
                    <a:pt x="19" y="240"/>
                  </a:cubicBezTo>
                  <a:cubicBezTo>
                    <a:pt x="38" y="167"/>
                    <a:pt x="56" y="157"/>
                    <a:pt x="131" y="120"/>
                  </a:cubicBezTo>
                  <a:cubicBezTo>
                    <a:pt x="206" y="83"/>
                    <a:pt x="324" y="28"/>
                    <a:pt x="467" y="16"/>
                  </a:cubicBezTo>
                  <a:cubicBezTo>
                    <a:pt x="610" y="4"/>
                    <a:pt x="904" y="0"/>
                    <a:pt x="987" y="48"/>
                  </a:cubicBezTo>
                  <a:cubicBezTo>
                    <a:pt x="1070" y="96"/>
                    <a:pt x="1060" y="251"/>
                    <a:pt x="963" y="304"/>
                  </a:cubicBezTo>
                  <a:cubicBezTo>
                    <a:pt x="866" y="357"/>
                    <a:pt x="526" y="201"/>
                    <a:pt x="403" y="368"/>
                  </a:cubicBezTo>
                  <a:cubicBezTo>
                    <a:pt x="280" y="535"/>
                    <a:pt x="266" y="1090"/>
                    <a:pt x="227" y="1304"/>
                  </a:cubicBezTo>
                  <a:cubicBezTo>
                    <a:pt x="188" y="1518"/>
                    <a:pt x="199" y="1612"/>
                    <a:pt x="171" y="1656"/>
                  </a:cubicBezTo>
                  <a:cubicBezTo>
                    <a:pt x="143" y="1700"/>
                    <a:pt x="82" y="1636"/>
                    <a:pt x="59" y="1568"/>
                  </a:cubicBezTo>
                  <a:cubicBezTo>
                    <a:pt x="36" y="1500"/>
                    <a:pt x="24" y="1344"/>
                    <a:pt x="27" y="124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" name="Rectangle 21"/>
          <p:cNvSpPr/>
          <p:nvPr/>
        </p:nvSpPr>
        <p:spPr>
          <a:xfrm>
            <a:off x="26593920" y="14927400"/>
            <a:ext cx="43434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60920"/>
                <a:tab algn="l" pos="752148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No Yield Los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4" descr="D:\Profiles\r37064\Local Settings\Temporary Internet Files\Content.IE5\1GIALXYT\MC900442139[1].png"/>
          <p:cNvPicPr/>
          <p:nvPr/>
        </p:nvPicPr>
        <p:blipFill>
          <a:blip r:embed="rId8"/>
          <a:stretch/>
        </p:blipFill>
        <p:spPr>
          <a:xfrm>
            <a:off x="30861000" y="14706720"/>
            <a:ext cx="1874880" cy="182880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421"/>
          <p:cNvGrpSpPr/>
          <p:nvPr/>
        </p:nvGrpSpPr>
        <p:grpSpPr>
          <a:xfrm>
            <a:off x="171360" y="1066680"/>
            <a:ext cx="6381360" cy="1904760"/>
            <a:chOff x="171360" y="1066680"/>
            <a:chExt cx="6381360" cy="1904760"/>
          </a:xfrm>
        </p:grpSpPr>
        <p:sp>
          <p:nvSpPr>
            <p:cNvPr id="121" name="Freeform 422"/>
            <p:cNvSpPr/>
            <p:nvPr/>
          </p:nvSpPr>
          <p:spPr>
            <a:xfrm>
              <a:off x="6255720" y="1991160"/>
              <a:ext cx="117360" cy="1652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34" h="48">
                  <a:moveTo>
                    <a:pt x="14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34" y="6"/>
                  </a:lnTo>
                  <a:lnTo>
                    <a:pt x="20" y="6"/>
                  </a:lnTo>
                  <a:lnTo>
                    <a:pt x="20" y="48"/>
                  </a:lnTo>
                  <a:lnTo>
                    <a:pt x="14" y="48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423"/>
            <p:cNvSpPr/>
            <p:nvPr/>
          </p:nvSpPr>
          <p:spPr>
            <a:xfrm>
              <a:off x="6395400" y="1991160"/>
              <a:ext cx="157320" cy="1652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46" h="48">
                  <a:moveTo>
                    <a:pt x="0" y="0"/>
                  </a:moveTo>
                  <a:lnTo>
                    <a:pt x="8" y="0"/>
                  </a:lnTo>
                  <a:lnTo>
                    <a:pt x="22" y="38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46" y="48"/>
                  </a:lnTo>
                  <a:lnTo>
                    <a:pt x="38" y="48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26" y="48"/>
                  </a:lnTo>
                  <a:lnTo>
                    <a:pt x="20" y="4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48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424"/>
            <p:cNvSpPr/>
            <p:nvPr/>
          </p:nvSpPr>
          <p:spPr>
            <a:xfrm>
              <a:off x="3479040" y="2764080"/>
              <a:ext cx="201240" cy="20736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207360"/>
                <a:gd name="textAreaBottom" fmla="*/ 207720 h 207360"/>
              </a:gdLst>
              <a:ahLst/>
              <a:rect l="textAreaLeft" t="textAreaTop" r="textAreaRight" b="textAreaBottom"/>
              <a:pathLst>
                <a:path w="29" h="30">
                  <a:moveTo>
                    <a:pt x="7" y="19"/>
                  </a:moveTo>
                  <a:cubicBezTo>
                    <a:pt x="6" y="25"/>
                    <a:pt x="10" y="26"/>
                    <a:pt x="14" y="26"/>
                  </a:cubicBezTo>
                  <a:cubicBezTo>
                    <a:pt x="16" y="26"/>
                    <a:pt x="20" y="26"/>
                    <a:pt x="21" y="21"/>
                  </a:cubicBezTo>
                  <a:cubicBezTo>
                    <a:pt x="22" y="14"/>
                    <a:pt x="2" y="20"/>
                    <a:pt x="5" y="8"/>
                  </a:cubicBezTo>
                  <a:cubicBezTo>
                    <a:pt x="6" y="2"/>
                    <a:pt x="12" y="0"/>
                    <a:pt x="17" y="0"/>
                  </a:cubicBezTo>
                  <a:cubicBezTo>
                    <a:pt x="21" y="0"/>
                    <a:pt x="29" y="2"/>
                    <a:pt x="28" y="9"/>
                  </a:cubicBezTo>
                  <a:cubicBezTo>
                    <a:pt x="23" y="10"/>
                    <a:pt x="23" y="10"/>
                    <a:pt x="23" y="10"/>
                  </a:cubicBezTo>
                  <a:cubicBezTo>
                    <a:pt x="23" y="6"/>
                    <a:pt x="20" y="4"/>
                    <a:pt x="17" y="4"/>
                  </a:cubicBezTo>
                  <a:cubicBezTo>
                    <a:pt x="14" y="4"/>
                    <a:pt x="10" y="4"/>
                    <a:pt x="10" y="8"/>
                  </a:cubicBezTo>
                  <a:cubicBezTo>
                    <a:pt x="8" y="15"/>
                    <a:pt x="28" y="10"/>
                    <a:pt x="26" y="21"/>
                  </a:cubicBezTo>
                  <a:cubicBezTo>
                    <a:pt x="25" y="27"/>
                    <a:pt x="18" y="30"/>
                    <a:pt x="12" y="30"/>
                  </a:cubicBezTo>
                  <a:cubicBezTo>
                    <a:pt x="6" y="30"/>
                    <a:pt x="0" y="27"/>
                    <a:pt x="1" y="20"/>
                  </a:cubicBezTo>
                  <a:lnTo>
                    <a:pt x="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425"/>
            <p:cNvSpPr/>
            <p:nvPr/>
          </p:nvSpPr>
          <p:spPr>
            <a:xfrm>
              <a:off x="3686040" y="2764080"/>
              <a:ext cx="207360" cy="207360"/>
            </a:xfrm>
            <a:custGeom>
              <a:avLst/>
              <a:gdLst>
                <a:gd name="textAreaLeft" fmla="*/ 0 w 207360"/>
                <a:gd name="textAreaRight" fmla="*/ 207720 w 207360"/>
                <a:gd name="textAreaTop" fmla="*/ 0 h 207360"/>
                <a:gd name="textAreaBottom" fmla="*/ 207720 h 207360"/>
              </a:gdLst>
              <a:ahLst/>
              <a:rect l="textAreaLeft" t="textAreaTop" r="textAreaRight" b="textAreaBottom"/>
              <a:pathLst>
                <a:path w="30" h="30">
                  <a:moveTo>
                    <a:pt x="7" y="16"/>
                  </a:moveTo>
                  <a:cubicBezTo>
                    <a:pt x="5" y="22"/>
                    <a:pt x="8" y="26"/>
                    <a:pt x="13" y="26"/>
                  </a:cubicBezTo>
                  <a:cubicBezTo>
                    <a:pt x="18" y="26"/>
                    <a:pt x="21" y="24"/>
                    <a:pt x="23" y="20"/>
                  </a:cubicBezTo>
                  <a:cubicBezTo>
                    <a:pt x="27" y="20"/>
                    <a:pt x="27" y="20"/>
                    <a:pt x="27" y="20"/>
                  </a:cubicBezTo>
                  <a:cubicBezTo>
                    <a:pt x="24" y="27"/>
                    <a:pt x="19" y="30"/>
                    <a:pt x="12" y="30"/>
                  </a:cubicBezTo>
                  <a:cubicBezTo>
                    <a:pt x="3" y="30"/>
                    <a:pt x="0" y="23"/>
                    <a:pt x="1" y="15"/>
                  </a:cubicBezTo>
                  <a:cubicBezTo>
                    <a:pt x="3" y="6"/>
                    <a:pt x="9" y="0"/>
                    <a:pt x="18" y="0"/>
                  </a:cubicBezTo>
                  <a:cubicBezTo>
                    <a:pt x="27" y="0"/>
                    <a:pt x="30" y="6"/>
                    <a:pt x="29" y="15"/>
                  </a:cubicBezTo>
                  <a:cubicBezTo>
                    <a:pt x="28" y="16"/>
                    <a:pt x="28" y="16"/>
                    <a:pt x="28" y="16"/>
                  </a:cubicBezTo>
                  <a:lnTo>
                    <a:pt x="7" y="16"/>
                  </a:lnTo>
                  <a:close/>
                  <a:moveTo>
                    <a:pt x="24" y="12"/>
                  </a:moveTo>
                  <a:cubicBezTo>
                    <a:pt x="24" y="8"/>
                    <a:pt x="22" y="4"/>
                    <a:pt x="17" y="4"/>
                  </a:cubicBezTo>
                  <a:cubicBezTo>
                    <a:pt x="12" y="4"/>
                    <a:pt x="8" y="8"/>
                    <a:pt x="7" y="12"/>
                  </a:cubicBezTo>
                  <a:lnTo>
                    <a:pt x="2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426"/>
            <p:cNvSpPr/>
            <p:nvPr/>
          </p:nvSpPr>
          <p:spPr>
            <a:xfrm>
              <a:off x="3907800" y="2764080"/>
              <a:ext cx="302760" cy="199080"/>
            </a:xfrm>
            <a:custGeom>
              <a:avLst/>
              <a:gdLst>
                <a:gd name="textAreaLeft" fmla="*/ 0 w 302760"/>
                <a:gd name="textAreaRight" fmla="*/ 303120 w 30276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44" h="29">
                  <a:moveTo>
                    <a:pt x="5" y="1"/>
                  </a:moveTo>
                  <a:cubicBezTo>
                    <a:pt x="10" y="1"/>
                    <a:pt x="10" y="1"/>
                    <a:pt x="10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12" y="2"/>
                    <a:pt x="15" y="0"/>
                    <a:pt x="18" y="0"/>
                  </a:cubicBezTo>
                  <a:cubicBezTo>
                    <a:pt x="21" y="0"/>
                    <a:pt x="25" y="1"/>
                    <a:pt x="26" y="5"/>
                  </a:cubicBezTo>
                  <a:cubicBezTo>
                    <a:pt x="28" y="2"/>
                    <a:pt x="32" y="0"/>
                    <a:pt x="35" y="0"/>
                  </a:cubicBezTo>
                  <a:cubicBezTo>
                    <a:pt x="40" y="0"/>
                    <a:pt x="44" y="2"/>
                    <a:pt x="43" y="10"/>
                  </a:cubicBezTo>
                  <a:cubicBezTo>
                    <a:pt x="39" y="29"/>
                    <a:pt x="39" y="29"/>
                    <a:pt x="39" y="29"/>
                  </a:cubicBezTo>
                  <a:cubicBezTo>
                    <a:pt x="34" y="29"/>
                    <a:pt x="34" y="29"/>
                    <a:pt x="34" y="29"/>
                  </a:cubicBezTo>
                  <a:cubicBezTo>
                    <a:pt x="38" y="10"/>
                    <a:pt x="38" y="10"/>
                    <a:pt x="38" y="10"/>
                  </a:cubicBezTo>
                  <a:cubicBezTo>
                    <a:pt x="39" y="7"/>
                    <a:pt x="37" y="4"/>
                    <a:pt x="34" y="4"/>
                  </a:cubicBezTo>
                  <a:cubicBezTo>
                    <a:pt x="31" y="4"/>
                    <a:pt x="26" y="6"/>
                    <a:pt x="26" y="10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1" y="7"/>
                    <a:pt x="20" y="4"/>
                    <a:pt x="17" y="4"/>
                  </a:cubicBezTo>
                  <a:cubicBezTo>
                    <a:pt x="14" y="4"/>
                    <a:pt x="9" y="6"/>
                    <a:pt x="8" y="10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0" y="29"/>
                    <a:pt x="0" y="29"/>
                    <a:pt x="0" y="29"/>
                  </a:cubicBezTo>
                  <a:lnTo>
                    <a:pt x="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427"/>
            <p:cNvSpPr/>
            <p:nvPr/>
          </p:nvSpPr>
          <p:spPr>
            <a:xfrm>
              <a:off x="4232520" y="2668680"/>
              <a:ext cx="90000" cy="29448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294480"/>
                <a:gd name="textAreaBottom" fmla="*/ 294840 h 294480"/>
              </a:gdLst>
              <a:ahLst/>
              <a:rect l="textAreaLeft" t="textAreaTop" r="textAreaRight" b="textAreaBottom"/>
              <a:pathLst>
                <a:path w="26" h="86">
                  <a:moveTo>
                    <a:pt x="10" y="30"/>
                  </a:moveTo>
                  <a:lnTo>
                    <a:pt x="20" y="30"/>
                  </a:lnTo>
                  <a:lnTo>
                    <a:pt x="8" y="86"/>
                  </a:lnTo>
                  <a:lnTo>
                    <a:pt x="0" y="86"/>
                  </a:lnTo>
                  <a:lnTo>
                    <a:pt x="10" y="30"/>
                  </a:lnTo>
                  <a:close/>
                  <a:moveTo>
                    <a:pt x="16" y="0"/>
                  </a:moveTo>
                  <a:lnTo>
                    <a:pt x="26" y="0"/>
                  </a:lnTo>
                  <a:lnTo>
                    <a:pt x="24" y="12"/>
                  </a:lnTo>
                  <a:lnTo>
                    <a:pt x="14" y="1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428"/>
            <p:cNvSpPr/>
            <p:nvPr/>
          </p:nvSpPr>
          <p:spPr>
            <a:xfrm>
              <a:off x="4308480" y="2764080"/>
              <a:ext cx="207360" cy="207360"/>
            </a:xfrm>
            <a:custGeom>
              <a:avLst/>
              <a:gdLst>
                <a:gd name="textAreaLeft" fmla="*/ 0 w 207360"/>
                <a:gd name="textAreaRight" fmla="*/ 207720 w 207360"/>
                <a:gd name="textAreaTop" fmla="*/ 0 h 207360"/>
                <a:gd name="textAreaBottom" fmla="*/ 207720 h 207360"/>
              </a:gdLst>
              <a:ahLst/>
              <a:rect l="textAreaLeft" t="textAreaTop" r="textAreaRight" b="textAreaBottom"/>
              <a:pathLst>
                <a:path w="30" h="30">
                  <a:moveTo>
                    <a:pt x="25" y="10"/>
                  </a:moveTo>
                  <a:cubicBezTo>
                    <a:pt x="25" y="6"/>
                    <a:pt x="22" y="4"/>
                    <a:pt x="19" y="4"/>
                  </a:cubicBezTo>
                  <a:cubicBezTo>
                    <a:pt x="12" y="4"/>
                    <a:pt x="8" y="10"/>
                    <a:pt x="7" y="15"/>
                  </a:cubicBezTo>
                  <a:cubicBezTo>
                    <a:pt x="6" y="21"/>
                    <a:pt x="8" y="26"/>
                    <a:pt x="14" y="26"/>
                  </a:cubicBezTo>
                  <a:cubicBezTo>
                    <a:pt x="19" y="26"/>
                    <a:pt x="23" y="23"/>
                    <a:pt x="24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7" y="26"/>
                    <a:pt x="21" y="30"/>
                    <a:pt x="13" y="30"/>
                  </a:cubicBezTo>
                  <a:cubicBezTo>
                    <a:pt x="4" y="30"/>
                    <a:pt x="0" y="24"/>
                    <a:pt x="2" y="15"/>
                  </a:cubicBezTo>
                  <a:cubicBezTo>
                    <a:pt x="4" y="6"/>
                    <a:pt x="10" y="0"/>
                    <a:pt x="19" y="0"/>
                  </a:cubicBezTo>
                  <a:cubicBezTo>
                    <a:pt x="25" y="0"/>
                    <a:pt x="30" y="3"/>
                    <a:pt x="30" y="10"/>
                  </a:cubicBezTo>
                  <a:lnTo>
                    <a:pt x="2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429"/>
            <p:cNvSpPr/>
            <p:nvPr/>
          </p:nvSpPr>
          <p:spPr>
            <a:xfrm>
              <a:off x="4529880" y="2764080"/>
              <a:ext cx="213480" cy="207360"/>
            </a:xfrm>
            <a:custGeom>
              <a:avLst/>
              <a:gdLst>
                <a:gd name="textAreaLeft" fmla="*/ 0 w 213480"/>
                <a:gd name="textAreaRight" fmla="*/ 213840 w 213480"/>
                <a:gd name="textAreaTop" fmla="*/ 0 h 207360"/>
                <a:gd name="textAreaBottom" fmla="*/ 207720 h 207360"/>
              </a:gdLst>
              <a:ahLst/>
              <a:rect l="textAreaLeft" t="textAreaTop" r="textAreaRight" b="textAreaBottom"/>
              <a:pathLst>
                <a:path w="31" h="30">
                  <a:moveTo>
                    <a:pt x="18" y="0"/>
                  </a:moveTo>
                  <a:cubicBezTo>
                    <a:pt x="27" y="0"/>
                    <a:pt x="31" y="6"/>
                    <a:pt x="30" y="15"/>
                  </a:cubicBezTo>
                  <a:cubicBezTo>
                    <a:pt x="28" y="24"/>
                    <a:pt x="21" y="30"/>
                    <a:pt x="13" y="30"/>
                  </a:cubicBezTo>
                  <a:cubicBezTo>
                    <a:pt x="4" y="30"/>
                    <a:pt x="0" y="24"/>
                    <a:pt x="1" y="15"/>
                  </a:cubicBezTo>
                  <a:cubicBezTo>
                    <a:pt x="3" y="6"/>
                    <a:pt x="10" y="0"/>
                    <a:pt x="18" y="0"/>
                  </a:cubicBezTo>
                  <a:close/>
                  <a:moveTo>
                    <a:pt x="13" y="26"/>
                  </a:moveTo>
                  <a:cubicBezTo>
                    <a:pt x="20" y="26"/>
                    <a:pt x="23" y="20"/>
                    <a:pt x="24" y="15"/>
                  </a:cubicBezTo>
                  <a:cubicBezTo>
                    <a:pt x="25" y="10"/>
                    <a:pt x="25" y="4"/>
                    <a:pt x="18" y="4"/>
                  </a:cubicBezTo>
                  <a:cubicBezTo>
                    <a:pt x="11" y="4"/>
                    <a:pt x="8" y="10"/>
                    <a:pt x="7" y="15"/>
                  </a:cubicBezTo>
                  <a:cubicBezTo>
                    <a:pt x="6" y="20"/>
                    <a:pt x="6" y="26"/>
                    <a:pt x="13" y="2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430"/>
            <p:cNvSpPr/>
            <p:nvPr/>
          </p:nvSpPr>
          <p:spPr>
            <a:xfrm>
              <a:off x="4757400" y="2764080"/>
              <a:ext cx="199440" cy="19908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29" h="29">
                  <a:moveTo>
                    <a:pt x="5" y="1"/>
                  </a:moveTo>
                  <a:cubicBezTo>
                    <a:pt x="10" y="1"/>
                    <a:pt x="10" y="1"/>
                    <a:pt x="10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2" y="2"/>
                    <a:pt x="15" y="0"/>
                    <a:pt x="19" y="0"/>
                  </a:cubicBezTo>
                  <a:cubicBezTo>
                    <a:pt x="25" y="0"/>
                    <a:pt x="29" y="2"/>
                    <a:pt x="27" y="10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3" y="6"/>
                    <a:pt x="21" y="4"/>
                    <a:pt x="17" y="4"/>
                  </a:cubicBezTo>
                  <a:cubicBezTo>
                    <a:pt x="13" y="4"/>
                    <a:pt x="9" y="7"/>
                    <a:pt x="8" y="12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0" y="29"/>
                    <a:pt x="0" y="29"/>
                    <a:pt x="0" y="29"/>
                  </a:cubicBezTo>
                  <a:lnTo>
                    <a:pt x="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431"/>
            <p:cNvSpPr/>
            <p:nvPr/>
          </p:nvSpPr>
          <p:spPr>
            <a:xfrm>
              <a:off x="4970880" y="2668680"/>
              <a:ext cx="241560" cy="302400"/>
            </a:xfrm>
            <a:custGeom>
              <a:avLst/>
              <a:gdLst>
                <a:gd name="textAreaLeft" fmla="*/ 0 w 241560"/>
                <a:gd name="textAreaRight" fmla="*/ 241920 w 241560"/>
                <a:gd name="textAreaTop" fmla="*/ 0 h 302400"/>
                <a:gd name="textAreaBottom" fmla="*/ 302760 h 302400"/>
              </a:gdLst>
              <a:ahLst/>
              <a:rect l="textAreaLeft" t="textAreaTop" r="textAreaRight" b="textAreaBottom"/>
              <a:pathLst>
                <a:path w="35" h="44">
                  <a:moveTo>
                    <a:pt x="26" y="43"/>
                  </a:moveTo>
                  <a:cubicBezTo>
                    <a:pt x="21" y="43"/>
                    <a:pt x="21" y="43"/>
                    <a:pt x="21" y="43"/>
                  </a:cubicBezTo>
                  <a:cubicBezTo>
                    <a:pt x="22" y="40"/>
                    <a:pt x="22" y="40"/>
                    <a:pt x="22" y="40"/>
                  </a:cubicBezTo>
                  <a:cubicBezTo>
                    <a:pt x="22" y="40"/>
                    <a:pt x="22" y="40"/>
                    <a:pt x="22" y="40"/>
                  </a:cubicBezTo>
                  <a:cubicBezTo>
                    <a:pt x="22" y="40"/>
                    <a:pt x="22" y="40"/>
                    <a:pt x="22" y="40"/>
                  </a:cubicBezTo>
                  <a:cubicBezTo>
                    <a:pt x="19" y="43"/>
                    <a:pt x="16" y="44"/>
                    <a:pt x="12" y="44"/>
                  </a:cubicBezTo>
                  <a:cubicBezTo>
                    <a:pt x="2" y="44"/>
                    <a:pt x="0" y="37"/>
                    <a:pt x="1" y="29"/>
                  </a:cubicBezTo>
                  <a:cubicBezTo>
                    <a:pt x="3" y="21"/>
                    <a:pt x="8" y="14"/>
                    <a:pt x="18" y="14"/>
                  </a:cubicBezTo>
                  <a:cubicBezTo>
                    <a:pt x="22" y="14"/>
                    <a:pt x="25" y="15"/>
                    <a:pt x="26" y="18"/>
                  </a:cubicBezTo>
                  <a:cubicBezTo>
                    <a:pt x="26" y="18"/>
                    <a:pt x="26" y="18"/>
                    <a:pt x="26" y="18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5" y="0"/>
                    <a:pt x="35" y="0"/>
                    <a:pt x="35" y="0"/>
                  </a:cubicBezTo>
                  <a:lnTo>
                    <a:pt x="26" y="43"/>
                  </a:lnTo>
                  <a:close/>
                  <a:moveTo>
                    <a:pt x="13" y="40"/>
                  </a:moveTo>
                  <a:cubicBezTo>
                    <a:pt x="20" y="40"/>
                    <a:pt x="23" y="35"/>
                    <a:pt x="24" y="29"/>
                  </a:cubicBezTo>
                  <a:cubicBezTo>
                    <a:pt x="25" y="23"/>
                    <a:pt x="23" y="18"/>
                    <a:pt x="17" y="18"/>
                  </a:cubicBezTo>
                  <a:cubicBezTo>
                    <a:pt x="11" y="18"/>
                    <a:pt x="7" y="23"/>
                    <a:pt x="6" y="29"/>
                  </a:cubicBezTo>
                  <a:cubicBezTo>
                    <a:pt x="5" y="35"/>
                    <a:pt x="7" y="40"/>
                    <a:pt x="13" y="4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432"/>
            <p:cNvSpPr/>
            <p:nvPr/>
          </p:nvSpPr>
          <p:spPr>
            <a:xfrm>
              <a:off x="5205960" y="2772360"/>
              <a:ext cx="199440" cy="19908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29" h="29">
                  <a:moveTo>
                    <a:pt x="23" y="28"/>
                  </a:moveTo>
                  <a:cubicBezTo>
                    <a:pt x="18" y="28"/>
                    <a:pt x="18" y="28"/>
                    <a:pt x="18" y="28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7" y="27"/>
                    <a:pt x="13" y="29"/>
                    <a:pt x="10" y="29"/>
                  </a:cubicBezTo>
                  <a:cubicBezTo>
                    <a:pt x="4" y="29"/>
                    <a:pt x="0" y="27"/>
                    <a:pt x="1" y="19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23"/>
                    <a:pt x="8" y="25"/>
                    <a:pt x="11" y="25"/>
                  </a:cubicBezTo>
                  <a:cubicBezTo>
                    <a:pt x="16" y="25"/>
                    <a:pt x="20" y="22"/>
                    <a:pt x="21" y="17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9" y="0"/>
                    <a:pt x="29" y="0"/>
                    <a:pt x="29" y="0"/>
                  </a:cubicBezTo>
                  <a:lnTo>
                    <a:pt x="23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433"/>
            <p:cNvSpPr/>
            <p:nvPr/>
          </p:nvSpPr>
          <p:spPr>
            <a:xfrm>
              <a:off x="5413680" y="2764080"/>
              <a:ext cx="207360" cy="207360"/>
            </a:xfrm>
            <a:custGeom>
              <a:avLst/>
              <a:gdLst>
                <a:gd name="textAreaLeft" fmla="*/ 0 w 207360"/>
                <a:gd name="textAreaRight" fmla="*/ 207720 w 207360"/>
                <a:gd name="textAreaTop" fmla="*/ 0 h 207360"/>
                <a:gd name="textAreaBottom" fmla="*/ 207720 h 207360"/>
              </a:gdLst>
              <a:ahLst/>
              <a:rect l="textAreaLeft" t="textAreaTop" r="textAreaRight" b="textAreaBottom"/>
              <a:pathLst>
                <a:path w="30" h="30">
                  <a:moveTo>
                    <a:pt x="25" y="10"/>
                  </a:moveTo>
                  <a:cubicBezTo>
                    <a:pt x="25" y="6"/>
                    <a:pt x="22" y="4"/>
                    <a:pt x="18" y="4"/>
                  </a:cubicBezTo>
                  <a:cubicBezTo>
                    <a:pt x="11" y="4"/>
                    <a:pt x="8" y="10"/>
                    <a:pt x="7" y="15"/>
                  </a:cubicBezTo>
                  <a:cubicBezTo>
                    <a:pt x="6" y="21"/>
                    <a:pt x="7" y="26"/>
                    <a:pt x="14" y="26"/>
                  </a:cubicBezTo>
                  <a:cubicBezTo>
                    <a:pt x="19" y="26"/>
                    <a:pt x="23" y="23"/>
                    <a:pt x="24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7" y="26"/>
                    <a:pt x="21" y="30"/>
                    <a:pt x="13" y="30"/>
                  </a:cubicBezTo>
                  <a:cubicBezTo>
                    <a:pt x="4" y="30"/>
                    <a:pt x="0" y="24"/>
                    <a:pt x="2" y="15"/>
                  </a:cubicBezTo>
                  <a:cubicBezTo>
                    <a:pt x="4" y="6"/>
                    <a:pt x="10" y="0"/>
                    <a:pt x="19" y="0"/>
                  </a:cubicBezTo>
                  <a:cubicBezTo>
                    <a:pt x="25" y="0"/>
                    <a:pt x="30" y="3"/>
                    <a:pt x="30" y="10"/>
                  </a:cubicBezTo>
                  <a:lnTo>
                    <a:pt x="2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434"/>
            <p:cNvSpPr/>
            <p:nvPr/>
          </p:nvSpPr>
          <p:spPr>
            <a:xfrm>
              <a:off x="5641200" y="2708640"/>
              <a:ext cx="117360" cy="2628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17" h="38">
                  <a:moveTo>
                    <a:pt x="1" y="9"/>
                  </a:moveTo>
                  <a:cubicBezTo>
                    <a:pt x="6" y="9"/>
                    <a:pt x="6" y="9"/>
                    <a:pt x="6" y="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7" y="33"/>
                    <a:pt x="6" y="34"/>
                    <a:pt x="8" y="34"/>
                  </a:cubicBezTo>
                  <a:cubicBezTo>
                    <a:pt x="9" y="34"/>
                    <a:pt x="10" y="34"/>
                    <a:pt x="11" y="33"/>
                  </a:cubicBezTo>
                  <a:cubicBezTo>
                    <a:pt x="11" y="38"/>
                    <a:pt x="11" y="38"/>
                    <a:pt x="11" y="38"/>
                  </a:cubicBezTo>
                  <a:cubicBezTo>
                    <a:pt x="9" y="38"/>
                    <a:pt x="7" y="38"/>
                    <a:pt x="6" y="38"/>
                  </a:cubicBezTo>
                  <a:cubicBezTo>
                    <a:pt x="0" y="38"/>
                    <a:pt x="1" y="36"/>
                    <a:pt x="2" y="32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1" y="13"/>
                    <a:pt x="1" y="13"/>
                    <a:pt x="1" y="13"/>
                  </a:cubicBezTo>
                  <a:lnTo>
                    <a:pt x="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435"/>
            <p:cNvSpPr/>
            <p:nvPr/>
          </p:nvSpPr>
          <p:spPr>
            <a:xfrm>
              <a:off x="5744880" y="2764080"/>
              <a:ext cx="221040" cy="20736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207360"/>
                <a:gd name="textAreaBottom" fmla="*/ 207720 h 207360"/>
              </a:gdLst>
              <a:ahLst/>
              <a:rect l="textAreaLeft" t="textAreaTop" r="textAreaRight" b="textAreaBottom"/>
              <a:pathLst>
                <a:path w="32" h="30">
                  <a:moveTo>
                    <a:pt x="19" y="0"/>
                  </a:moveTo>
                  <a:cubicBezTo>
                    <a:pt x="28" y="0"/>
                    <a:pt x="32" y="6"/>
                    <a:pt x="30" y="15"/>
                  </a:cubicBezTo>
                  <a:cubicBezTo>
                    <a:pt x="29" y="24"/>
                    <a:pt x="22" y="30"/>
                    <a:pt x="13" y="30"/>
                  </a:cubicBezTo>
                  <a:cubicBezTo>
                    <a:pt x="4" y="30"/>
                    <a:pt x="0" y="24"/>
                    <a:pt x="2" y="15"/>
                  </a:cubicBezTo>
                  <a:cubicBezTo>
                    <a:pt x="4" y="6"/>
                    <a:pt x="10" y="0"/>
                    <a:pt x="19" y="0"/>
                  </a:cubicBezTo>
                  <a:close/>
                  <a:moveTo>
                    <a:pt x="14" y="26"/>
                  </a:moveTo>
                  <a:cubicBezTo>
                    <a:pt x="21" y="26"/>
                    <a:pt x="24" y="20"/>
                    <a:pt x="25" y="15"/>
                  </a:cubicBezTo>
                  <a:cubicBezTo>
                    <a:pt x="26" y="10"/>
                    <a:pt x="25" y="4"/>
                    <a:pt x="18" y="4"/>
                  </a:cubicBezTo>
                  <a:cubicBezTo>
                    <a:pt x="11" y="4"/>
                    <a:pt x="8" y="10"/>
                    <a:pt x="7" y="15"/>
                  </a:cubicBezTo>
                  <a:cubicBezTo>
                    <a:pt x="6" y="20"/>
                    <a:pt x="7" y="26"/>
                    <a:pt x="14" y="2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436"/>
            <p:cNvSpPr/>
            <p:nvPr/>
          </p:nvSpPr>
          <p:spPr>
            <a:xfrm>
              <a:off x="5972400" y="2764080"/>
              <a:ext cx="145440" cy="19908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21" h="29">
                  <a:moveTo>
                    <a:pt x="6" y="1"/>
                  </a:moveTo>
                  <a:cubicBezTo>
                    <a:pt x="11" y="1"/>
                    <a:pt x="11" y="1"/>
                    <a:pt x="11" y="1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3" y="2"/>
                    <a:pt x="16" y="0"/>
                    <a:pt x="21" y="0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19" y="6"/>
                    <a:pt x="18" y="6"/>
                    <a:pt x="17" y="6"/>
                  </a:cubicBezTo>
                  <a:cubicBezTo>
                    <a:pt x="12" y="6"/>
                    <a:pt x="9" y="10"/>
                    <a:pt x="8" y="13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0" y="29"/>
                    <a:pt x="0" y="29"/>
                    <a:pt x="0" y="29"/>
                  </a:cubicBez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437"/>
            <p:cNvSpPr/>
            <p:nvPr/>
          </p:nvSpPr>
          <p:spPr>
            <a:xfrm>
              <a:off x="598320" y="1066680"/>
              <a:ext cx="504720" cy="28260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146" h="82">
                  <a:moveTo>
                    <a:pt x="56" y="82"/>
                  </a:moveTo>
                  <a:lnTo>
                    <a:pt x="146" y="28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2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438"/>
            <p:cNvSpPr/>
            <p:nvPr/>
          </p:nvSpPr>
          <p:spPr>
            <a:xfrm>
              <a:off x="889560" y="1212120"/>
              <a:ext cx="496440" cy="289080"/>
            </a:xfrm>
            <a:custGeom>
              <a:avLst/>
              <a:gdLst>
                <a:gd name="textAreaLeft" fmla="*/ 0 w 496440"/>
                <a:gd name="textAreaRight" fmla="*/ 496800 w 49644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44" h="84">
                  <a:moveTo>
                    <a:pt x="54" y="84"/>
                  </a:moveTo>
                  <a:lnTo>
                    <a:pt x="144" y="30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4" y="8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439"/>
            <p:cNvSpPr/>
            <p:nvPr/>
          </p:nvSpPr>
          <p:spPr>
            <a:xfrm>
              <a:off x="1172880" y="1363320"/>
              <a:ext cx="504720" cy="28260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146" h="82">
                  <a:moveTo>
                    <a:pt x="56" y="82"/>
                  </a:moveTo>
                  <a:lnTo>
                    <a:pt x="146" y="28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2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440"/>
            <p:cNvSpPr/>
            <p:nvPr/>
          </p:nvSpPr>
          <p:spPr>
            <a:xfrm>
              <a:off x="743760" y="1618560"/>
              <a:ext cx="504360" cy="29088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290880"/>
                <a:gd name="textAreaBottom" fmla="*/ 291240 h 290880"/>
              </a:gdLst>
              <a:ahLst/>
              <a:rect l="textAreaLeft" t="textAreaTop" r="textAreaRight" b="textAreaBottom"/>
              <a:pathLst>
                <a:path w="146" h="84">
                  <a:moveTo>
                    <a:pt x="56" y="84"/>
                  </a:moveTo>
                  <a:lnTo>
                    <a:pt x="146" y="30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441"/>
            <p:cNvSpPr/>
            <p:nvPr/>
          </p:nvSpPr>
          <p:spPr>
            <a:xfrm>
              <a:off x="1027080" y="1771920"/>
              <a:ext cx="504720" cy="28080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280800"/>
                <a:gd name="textAreaBottom" fmla="*/ 280800 h 280800"/>
              </a:gdLst>
              <a:ahLst/>
              <a:rect l="textAreaLeft" t="textAreaTop" r="textAreaRight" b="textAreaBottom"/>
              <a:pathLst>
                <a:path w="146" h="82">
                  <a:moveTo>
                    <a:pt x="56" y="82"/>
                  </a:moveTo>
                  <a:lnTo>
                    <a:pt x="146" y="28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2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442"/>
            <p:cNvSpPr/>
            <p:nvPr/>
          </p:nvSpPr>
          <p:spPr>
            <a:xfrm>
              <a:off x="315000" y="1873440"/>
              <a:ext cx="504360" cy="29088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290880"/>
                <a:gd name="textAreaBottom" fmla="*/ 291240 h 290880"/>
              </a:gdLst>
              <a:ahLst/>
              <a:rect l="textAreaLeft" t="textAreaTop" r="textAreaRight" b="textAreaBottom"/>
              <a:pathLst>
                <a:path w="146" h="84">
                  <a:moveTo>
                    <a:pt x="56" y="84"/>
                  </a:moveTo>
                  <a:lnTo>
                    <a:pt x="146" y="30"/>
                  </a:lnTo>
                  <a:lnTo>
                    <a:pt x="90" y="0"/>
                  </a:lnTo>
                  <a:lnTo>
                    <a:pt x="0" y="56"/>
                  </a:lnTo>
                  <a:lnTo>
                    <a:pt x="56" y="84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443"/>
            <p:cNvSpPr/>
            <p:nvPr/>
          </p:nvSpPr>
          <p:spPr>
            <a:xfrm>
              <a:off x="598320" y="2027160"/>
              <a:ext cx="504720" cy="28260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146" h="82">
                  <a:moveTo>
                    <a:pt x="56" y="82"/>
                  </a:moveTo>
                  <a:lnTo>
                    <a:pt x="146" y="28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444"/>
            <p:cNvSpPr/>
            <p:nvPr/>
          </p:nvSpPr>
          <p:spPr>
            <a:xfrm>
              <a:off x="171360" y="2282040"/>
              <a:ext cx="502560" cy="289080"/>
            </a:xfrm>
            <a:custGeom>
              <a:avLst/>
              <a:gdLst>
                <a:gd name="textAreaLeft" fmla="*/ 0 w 502560"/>
                <a:gd name="textAreaRight" fmla="*/ 502920 w 50256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46" h="84">
                  <a:moveTo>
                    <a:pt x="56" y="84"/>
                  </a:moveTo>
                  <a:lnTo>
                    <a:pt x="146" y="30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4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445"/>
            <p:cNvSpPr/>
            <p:nvPr/>
          </p:nvSpPr>
          <p:spPr>
            <a:xfrm>
              <a:off x="1677600" y="1811520"/>
              <a:ext cx="406440" cy="75924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759240"/>
                <a:gd name="textAreaBottom" fmla="*/ 759600 h 759240"/>
              </a:gdLst>
              <a:ahLst/>
              <a:rect l="textAreaLeft" t="textAreaTop" r="textAreaRight" b="textAreaBottom"/>
              <a:pathLst>
                <a:path w="59" h="110">
                  <a:moveTo>
                    <a:pt x="12" y="45"/>
                  </a:moveTo>
                  <a:cubicBezTo>
                    <a:pt x="0" y="45"/>
                    <a:pt x="0" y="45"/>
                    <a:pt x="0" y="45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8" y="13"/>
                    <a:pt x="24" y="0"/>
                    <a:pt x="44" y="0"/>
                  </a:cubicBezTo>
                  <a:cubicBezTo>
                    <a:pt x="49" y="0"/>
                    <a:pt x="57" y="0"/>
                    <a:pt x="59" y="1"/>
                  </a:cubicBezTo>
                  <a:cubicBezTo>
                    <a:pt x="56" y="19"/>
                    <a:pt x="56" y="19"/>
                    <a:pt x="56" y="19"/>
                  </a:cubicBezTo>
                  <a:cubicBezTo>
                    <a:pt x="49" y="19"/>
                    <a:pt x="49" y="19"/>
                    <a:pt x="49" y="19"/>
                  </a:cubicBezTo>
                  <a:cubicBezTo>
                    <a:pt x="45" y="19"/>
                    <a:pt x="41" y="20"/>
                    <a:pt x="40" y="25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54" y="30"/>
                    <a:pt x="54" y="30"/>
                    <a:pt x="54" y="30"/>
                  </a:cubicBezTo>
                  <a:cubicBezTo>
                    <a:pt x="51" y="45"/>
                    <a:pt x="51" y="45"/>
                    <a:pt x="51" y="45"/>
                  </a:cubicBezTo>
                  <a:cubicBezTo>
                    <a:pt x="36" y="45"/>
                    <a:pt x="36" y="45"/>
                    <a:pt x="36" y="45"/>
                  </a:cubicBezTo>
                  <a:cubicBezTo>
                    <a:pt x="23" y="110"/>
                    <a:pt x="23" y="110"/>
                    <a:pt x="23" y="110"/>
                  </a:cubicBezTo>
                  <a:cubicBezTo>
                    <a:pt x="0" y="110"/>
                    <a:pt x="0" y="110"/>
                    <a:pt x="0" y="110"/>
                  </a:cubicBezTo>
                  <a:lnTo>
                    <a:pt x="12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446"/>
            <p:cNvSpPr/>
            <p:nvPr/>
          </p:nvSpPr>
          <p:spPr>
            <a:xfrm>
              <a:off x="2014560" y="2004840"/>
              <a:ext cx="428760" cy="56592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565920"/>
                <a:gd name="textAreaBottom" fmla="*/ 566280 h 565920"/>
              </a:gdLst>
              <a:ahLst/>
              <a:rect l="textAreaLeft" t="textAreaTop" r="textAreaRight" b="textAreaBottom"/>
              <a:pathLst>
                <a:path w="62" h="82">
                  <a:moveTo>
                    <a:pt x="16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38" y="9"/>
                    <a:pt x="38" y="9"/>
                    <a:pt x="38" y="9"/>
                  </a:cubicBezTo>
                  <a:cubicBezTo>
                    <a:pt x="44" y="4"/>
                    <a:pt x="53" y="1"/>
                    <a:pt x="62" y="0"/>
                  </a:cubicBezTo>
                  <a:cubicBezTo>
                    <a:pt x="58" y="21"/>
                    <a:pt x="58" y="21"/>
                    <a:pt x="58" y="21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41" y="23"/>
                    <a:pt x="35" y="26"/>
                    <a:pt x="33" y="35"/>
                  </a:cubicBezTo>
                  <a:cubicBezTo>
                    <a:pt x="24" y="82"/>
                    <a:pt x="24" y="82"/>
                    <a:pt x="24" y="82"/>
                  </a:cubicBezTo>
                  <a:cubicBezTo>
                    <a:pt x="0" y="82"/>
                    <a:pt x="0" y="82"/>
                    <a:pt x="0" y="82"/>
                  </a:cubicBez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447"/>
            <p:cNvSpPr/>
            <p:nvPr/>
          </p:nvSpPr>
          <p:spPr>
            <a:xfrm>
              <a:off x="4743360" y="1991160"/>
              <a:ext cx="600480" cy="593640"/>
            </a:xfrm>
            <a:custGeom>
              <a:avLst/>
              <a:gdLst>
                <a:gd name="textAreaLeft" fmla="*/ 0 w 600480"/>
                <a:gd name="textAreaRight" fmla="*/ 600840 w 60048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87" h="86">
                  <a:moveTo>
                    <a:pt x="76" y="67"/>
                  </a:moveTo>
                  <a:cubicBezTo>
                    <a:pt x="75" y="72"/>
                    <a:pt x="74" y="79"/>
                    <a:pt x="75" y="84"/>
                  </a:cubicBezTo>
                  <a:cubicBezTo>
                    <a:pt x="53" y="84"/>
                    <a:pt x="53" y="84"/>
                    <a:pt x="53" y="84"/>
                  </a:cubicBezTo>
                  <a:cubicBezTo>
                    <a:pt x="52" y="81"/>
                    <a:pt x="52" y="78"/>
                    <a:pt x="53" y="75"/>
                  </a:cubicBezTo>
                  <a:cubicBezTo>
                    <a:pt x="52" y="75"/>
                    <a:pt x="52" y="75"/>
                    <a:pt x="52" y="75"/>
                  </a:cubicBezTo>
                  <a:cubicBezTo>
                    <a:pt x="47" y="82"/>
                    <a:pt x="34" y="86"/>
                    <a:pt x="26" y="86"/>
                  </a:cubicBezTo>
                  <a:cubicBezTo>
                    <a:pt x="10" y="86"/>
                    <a:pt x="0" y="77"/>
                    <a:pt x="3" y="62"/>
                  </a:cubicBezTo>
                  <a:cubicBezTo>
                    <a:pt x="7" y="42"/>
                    <a:pt x="24" y="35"/>
                    <a:pt x="51" y="32"/>
                  </a:cubicBezTo>
                  <a:cubicBezTo>
                    <a:pt x="60" y="30"/>
                    <a:pt x="60" y="30"/>
                    <a:pt x="60" y="30"/>
                  </a:cubicBezTo>
                  <a:cubicBezTo>
                    <a:pt x="61" y="24"/>
                    <a:pt x="61" y="24"/>
                    <a:pt x="61" y="24"/>
                  </a:cubicBezTo>
                  <a:cubicBezTo>
                    <a:pt x="62" y="17"/>
                    <a:pt x="58" y="15"/>
                    <a:pt x="51" y="15"/>
                  </a:cubicBezTo>
                  <a:cubicBezTo>
                    <a:pt x="44" y="15"/>
                    <a:pt x="40" y="18"/>
                    <a:pt x="37" y="26"/>
                  </a:cubicBezTo>
                  <a:cubicBezTo>
                    <a:pt x="14" y="26"/>
                    <a:pt x="14" y="26"/>
                    <a:pt x="14" y="26"/>
                  </a:cubicBezTo>
                  <a:cubicBezTo>
                    <a:pt x="19" y="2"/>
                    <a:pt x="41" y="0"/>
                    <a:pt x="52" y="0"/>
                  </a:cubicBezTo>
                  <a:cubicBezTo>
                    <a:pt x="75" y="0"/>
                    <a:pt x="87" y="5"/>
                    <a:pt x="84" y="24"/>
                  </a:cubicBezTo>
                  <a:lnTo>
                    <a:pt x="76" y="67"/>
                  </a:lnTo>
                  <a:close/>
                  <a:moveTo>
                    <a:pt x="57" y="44"/>
                  </a:moveTo>
                  <a:cubicBezTo>
                    <a:pt x="40" y="49"/>
                    <a:pt x="40" y="49"/>
                    <a:pt x="40" y="49"/>
                  </a:cubicBezTo>
                  <a:cubicBezTo>
                    <a:pt x="34" y="50"/>
                    <a:pt x="28" y="53"/>
                    <a:pt x="27" y="59"/>
                  </a:cubicBezTo>
                  <a:cubicBezTo>
                    <a:pt x="25" y="66"/>
                    <a:pt x="30" y="68"/>
                    <a:pt x="36" y="68"/>
                  </a:cubicBezTo>
                  <a:cubicBezTo>
                    <a:pt x="45" y="68"/>
                    <a:pt x="54" y="62"/>
                    <a:pt x="56" y="50"/>
                  </a:cubicBezTo>
                  <a:lnTo>
                    <a:pt x="57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448"/>
            <p:cNvSpPr/>
            <p:nvPr/>
          </p:nvSpPr>
          <p:spPr>
            <a:xfrm>
              <a:off x="5365800" y="1819800"/>
              <a:ext cx="309240" cy="75132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751320"/>
                <a:gd name="textAreaBottom" fmla="*/ 751680 h 751320"/>
              </a:gdLst>
              <a:ahLst/>
              <a:rect l="textAreaLeft" t="textAreaTop" r="textAreaRight" b="textAreaBottom"/>
              <a:pathLst>
                <a:path w="90" h="218">
                  <a:moveTo>
                    <a:pt x="0" y="218"/>
                  </a:moveTo>
                  <a:lnTo>
                    <a:pt x="42" y="0"/>
                  </a:lnTo>
                  <a:lnTo>
                    <a:pt x="90" y="0"/>
                  </a:lnTo>
                  <a:lnTo>
                    <a:pt x="48" y="218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449"/>
            <p:cNvSpPr/>
            <p:nvPr/>
          </p:nvSpPr>
          <p:spPr>
            <a:xfrm>
              <a:off x="2395440" y="1991160"/>
              <a:ext cx="614160" cy="593640"/>
            </a:xfrm>
            <a:custGeom>
              <a:avLst/>
              <a:gdLst>
                <a:gd name="textAreaLeft" fmla="*/ 0 w 614160"/>
                <a:gd name="textAreaRight" fmla="*/ 614520 w 61416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89" h="86">
                  <a:moveTo>
                    <a:pt x="42" y="68"/>
                  </a:moveTo>
                  <a:cubicBezTo>
                    <a:pt x="34" y="68"/>
                    <a:pt x="25" y="63"/>
                    <a:pt x="28" y="48"/>
                  </a:cubicBezTo>
                  <a:cubicBezTo>
                    <a:pt x="84" y="48"/>
                    <a:pt x="84" y="48"/>
                    <a:pt x="84" y="48"/>
                  </a:cubicBezTo>
                  <a:cubicBezTo>
                    <a:pt x="89" y="23"/>
                    <a:pt x="83" y="0"/>
                    <a:pt x="53" y="0"/>
                  </a:cubicBezTo>
                  <a:cubicBezTo>
                    <a:pt x="28" y="0"/>
                    <a:pt x="10" y="17"/>
                    <a:pt x="4" y="45"/>
                  </a:cubicBezTo>
                  <a:cubicBezTo>
                    <a:pt x="0" y="68"/>
                    <a:pt x="11" y="86"/>
                    <a:pt x="37" y="86"/>
                  </a:cubicBezTo>
                  <a:cubicBezTo>
                    <a:pt x="55" y="86"/>
                    <a:pt x="69" y="79"/>
                    <a:pt x="80" y="63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55" y="64"/>
                    <a:pt x="50" y="68"/>
                    <a:pt x="42" y="68"/>
                  </a:cubicBezTo>
                  <a:close/>
                  <a:moveTo>
                    <a:pt x="50" y="18"/>
                  </a:moveTo>
                  <a:cubicBezTo>
                    <a:pt x="56" y="18"/>
                    <a:pt x="64" y="21"/>
                    <a:pt x="63" y="33"/>
                  </a:cubicBezTo>
                  <a:cubicBezTo>
                    <a:pt x="30" y="33"/>
                    <a:pt x="30" y="33"/>
                    <a:pt x="30" y="33"/>
                  </a:cubicBezTo>
                  <a:cubicBezTo>
                    <a:pt x="34" y="22"/>
                    <a:pt x="43" y="18"/>
                    <a:pt x="50" y="1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450"/>
            <p:cNvSpPr/>
            <p:nvPr/>
          </p:nvSpPr>
          <p:spPr>
            <a:xfrm>
              <a:off x="3009960" y="1991160"/>
              <a:ext cx="614160" cy="593640"/>
            </a:xfrm>
            <a:custGeom>
              <a:avLst/>
              <a:gdLst>
                <a:gd name="textAreaLeft" fmla="*/ 0 w 614160"/>
                <a:gd name="textAreaRight" fmla="*/ 614520 w 61416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89" h="86">
                  <a:moveTo>
                    <a:pt x="42" y="68"/>
                  </a:moveTo>
                  <a:cubicBezTo>
                    <a:pt x="34" y="68"/>
                    <a:pt x="25" y="63"/>
                    <a:pt x="28" y="48"/>
                  </a:cubicBezTo>
                  <a:cubicBezTo>
                    <a:pt x="84" y="48"/>
                    <a:pt x="84" y="48"/>
                    <a:pt x="84" y="48"/>
                  </a:cubicBezTo>
                  <a:cubicBezTo>
                    <a:pt x="89" y="23"/>
                    <a:pt x="83" y="0"/>
                    <a:pt x="53" y="0"/>
                  </a:cubicBezTo>
                  <a:cubicBezTo>
                    <a:pt x="29" y="0"/>
                    <a:pt x="10" y="17"/>
                    <a:pt x="5" y="45"/>
                  </a:cubicBezTo>
                  <a:cubicBezTo>
                    <a:pt x="0" y="68"/>
                    <a:pt x="12" y="86"/>
                    <a:pt x="37" y="86"/>
                  </a:cubicBezTo>
                  <a:cubicBezTo>
                    <a:pt x="55" y="86"/>
                    <a:pt x="69" y="79"/>
                    <a:pt x="81" y="63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55" y="64"/>
                    <a:pt x="50" y="68"/>
                    <a:pt x="42" y="68"/>
                  </a:cubicBezTo>
                  <a:close/>
                  <a:moveTo>
                    <a:pt x="50" y="18"/>
                  </a:moveTo>
                  <a:cubicBezTo>
                    <a:pt x="57" y="18"/>
                    <a:pt x="65" y="21"/>
                    <a:pt x="63" y="33"/>
                  </a:cubicBezTo>
                  <a:cubicBezTo>
                    <a:pt x="31" y="33"/>
                    <a:pt x="31" y="33"/>
                    <a:pt x="31" y="33"/>
                  </a:cubicBezTo>
                  <a:cubicBezTo>
                    <a:pt x="34" y="22"/>
                    <a:pt x="43" y="18"/>
                    <a:pt x="50" y="1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451"/>
            <p:cNvSpPr/>
            <p:nvPr/>
          </p:nvSpPr>
          <p:spPr>
            <a:xfrm>
              <a:off x="5627160" y="1991160"/>
              <a:ext cx="608400" cy="593640"/>
            </a:xfrm>
            <a:custGeom>
              <a:avLst/>
              <a:gdLst>
                <a:gd name="textAreaLeft" fmla="*/ 0 w 608400"/>
                <a:gd name="textAreaRight" fmla="*/ 608760 w 608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88" h="86">
                  <a:moveTo>
                    <a:pt x="41" y="68"/>
                  </a:moveTo>
                  <a:cubicBezTo>
                    <a:pt x="34" y="68"/>
                    <a:pt x="25" y="63"/>
                    <a:pt x="28" y="48"/>
                  </a:cubicBezTo>
                  <a:cubicBezTo>
                    <a:pt x="84" y="48"/>
                    <a:pt x="84" y="48"/>
                    <a:pt x="84" y="48"/>
                  </a:cubicBezTo>
                  <a:cubicBezTo>
                    <a:pt x="88" y="23"/>
                    <a:pt x="83" y="0"/>
                    <a:pt x="53" y="0"/>
                  </a:cubicBezTo>
                  <a:cubicBezTo>
                    <a:pt x="28" y="0"/>
                    <a:pt x="10" y="17"/>
                    <a:pt x="4" y="45"/>
                  </a:cubicBezTo>
                  <a:cubicBezTo>
                    <a:pt x="0" y="68"/>
                    <a:pt x="11" y="86"/>
                    <a:pt x="36" y="86"/>
                  </a:cubicBezTo>
                  <a:cubicBezTo>
                    <a:pt x="55" y="86"/>
                    <a:pt x="69" y="79"/>
                    <a:pt x="80" y="63"/>
                  </a:cubicBezTo>
                  <a:cubicBezTo>
                    <a:pt x="63" y="55"/>
                    <a:pt x="63" y="55"/>
                    <a:pt x="63" y="55"/>
                  </a:cubicBezTo>
                  <a:cubicBezTo>
                    <a:pt x="55" y="64"/>
                    <a:pt x="50" y="68"/>
                    <a:pt x="41" y="68"/>
                  </a:cubicBezTo>
                  <a:close/>
                  <a:moveTo>
                    <a:pt x="49" y="18"/>
                  </a:moveTo>
                  <a:cubicBezTo>
                    <a:pt x="56" y="18"/>
                    <a:pt x="64" y="21"/>
                    <a:pt x="63" y="33"/>
                  </a:cubicBezTo>
                  <a:cubicBezTo>
                    <a:pt x="30" y="33"/>
                    <a:pt x="30" y="33"/>
                    <a:pt x="30" y="33"/>
                  </a:cubicBezTo>
                  <a:cubicBezTo>
                    <a:pt x="33" y="22"/>
                    <a:pt x="42" y="18"/>
                    <a:pt x="49" y="1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452"/>
            <p:cNvSpPr/>
            <p:nvPr/>
          </p:nvSpPr>
          <p:spPr>
            <a:xfrm>
              <a:off x="4170960" y="1991160"/>
              <a:ext cx="591840" cy="593640"/>
            </a:xfrm>
            <a:custGeom>
              <a:avLst/>
              <a:gdLst>
                <a:gd name="textAreaLeft" fmla="*/ 0 w 591840"/>
                <a:gd name="textAreaRight" fmla="*/ 592200 w 59184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86" h="86">
                  <a:moveTo>
                    <a:pt x="63" y="56"/>
                  </a:moveTo>
                  <a:cubicBezTo>
                    <a:pt x="57" y="65"/>
                    <a:pt x="51" y="67"/>
                    <a:pt x="44" y="67"/>
                  </a:cubicBezTo>
                  <a:cubicBezTo>
                    <a:pt x="31" y="67"/>
                    <a:pt x="27" y="57"/>
                    <a:pt x="30" y="43"/>
                  </a:cubicBezTo>
                  <a:cubicBezTo>
                    <a:pt x="33" y="29"/>
                    <a:pt x="40" y="19"/>
                    <a:pt x="53" y="19"/>
                  </a:cubicBezTo>
                  <a:cubicBezTo>
                    <a:pt x="57" y="19"/>
                    <a:pt x="65" y="21"/>
                    <a:pt x="67" y="31"/>
                  </a:cubicBezTo>
                  <a:cubicBezTo>
                    <a:pt x="86" y="19"/>
                    <a:pt x="86" y="19"/>
                    <a:pt x="86" y="19"/>
                  </a:cubicBezTo>
                  <a:cubicBezTo>
                    <a:pt x="81" y="6"/>
                    <a:pt x="69" y="0"/>
                    <a:pt x="54" y="0"/>
                  </a:cubicBezTo>
                  <a:cubicBezTo>
                    <a:pt x="31" y="0"/>
                    <a:pt x="10" y="16"/>
                    <a:pt x="5" y="43"/>
                  </a:cubicBezTo>
                  <a:cubicBezTo>
                    <a:pt x="0" y="70"/>
                    <a:pt x="14" y="86"/>
                    <a:pt x="38" y="86"/>
                  </a:cubicBezTo>
                  <a:cubicBezTo>
                    <a:pt x="54" y="86"/>
                    <a:pt x="69" y="77"/>
                    <a:pt x="79" y="64"/>
                  </a:cubicBezTo>
                  <a:lnTo>
                    <a:pt x="63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453"/>
            <p:cNvSpPr/>
            <p:nvPr/>
          </p:nvSpPr>
          <p:spPr>
            <a:xfrm>
              <a:off x="3582360" y="1991160"/>
              <a:ext cx="622440" cy="593640"/>
            </a:xfrm>
            <a:custGeom>
              <a:avLst/>
              <a:gdLst>
                <a:gd name="textAreaLeft" fmla="*/ 0 w 622440"/>
                <a:gd name="textAreaRight" fmla="*/ 622800 w 62244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90" h="86">
                  <a:moveTo>
                    <a:pt x="38" y="24"/>
                  </a:moveTo>
                  <a:cubicBezTo>
                    <a:pt x="39" y="20"/>
                    <a:pt x="43" y="18"/>
                    <a:pt x="49" y="18"/>
                  </a:cubicBezTo>
                  <a:cubicBezTo>
                    <a:pt x="57" y="18"/>
                    <a:pt x="66" y="21"/>
                    <a:pt x="70" y="26"/>
                  </a:cubicBezTo>
                  <a:cubicBezTo>
                    <a:pt x="90" y="14"/>
                    <a:pt x="90" y="14"/>
                    <a:pt x="90" y="14"/>
                  </a:cubicBezTo>
                  <a:cubicBezTo>
                    <a:pt x="79" y="4"/>
                    <a:pt x="66" y="0"/>
                    <a:pt x="54" y="0"/>
                  </a:cubicBezTo>
                  <a:cubicBezTo>
                    <a:pt x="37" y="0"/>
                    <a:pt x="18" y="8"/>
                    <a:pt x="14" y="29"/>
                  </a:cubicBezTo>
                  <a:cubicBezTo>
                    <a:pt x="8" y="58"/>
                    <a:pt x="59" y="47"/>
                    <a:pt x="56" y="60"/>
                  </a:cubicBezTo>
                  <a:cubicBezTo>
                    <a:pt x="55" y="67"/>
                    <a:pt x="45" y="68"/>
                    <a:pt x="41" y="68"/>
                  </a:cubicBezTo>
                  <a:cubicBezTo>
                    <a:pt x="31" y="68"/>
                    <a:pt x="24" y="64"/>
                    <a:pt x="18" y="57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9" y="81"/>
                    <a:pt x="20" y="86"/>
                    <a:pt x="37" y="86"/>
                  </a:cubicBezTo>
                  <a:cubicBezTo>
                    <a:pt x="55" y="86"/>
                    <a:pt x="76" y="78"/>
                    <a:pt x="80" y="57"/>
                  </a:cubicBezTo>
                  <a:cubicBezTo>
                    <a:pt x="86" y="26"/>
                    <a:pt x="35" y="38"/>
                    <a:pt x="38" y="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3" name="Picture 454" descr="chip"/>
          <p:cNvPicPr/>
          <p:nvPr/>
        </p:nvPicPr>
        <p:blipFill>
          <a:blip r:embed="rId9"/>
          <a:srcRect l="0" t="0" r="0" b="27015"/>
          <a:stretch/>
        </p:blipFill>
        <p:spPr>
          <a:xfrm>
            <a:off x="1752480" y="3103560"/>
            <a:ext cx="3124440" cy="329724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11"/>
          <p:cNvSpPr/>
          <p:nvPr/>
        </p:nvSpPr>
        <p:spPr>
          <a:xfrm rot="16200000">
            <a:off x="-55440" y="28350720"/>
            <a:ext cx="4165560" cy="1006560"/>
          </a:xfrm>
          <a:prstGeom prst="downArrowCallout">
            <a:avLst>
              <a:gd name="adj1" fmla="val 76683"/>
              <a:gd name="adj2" fmla="val 76675"/>
              <a:gd name="adj3" fmla="val 35778"/>
              <a:gd name="adj4" fmla="val 52588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3760920"/>
                <a:tab algn="l" pos="75214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roduct N cost go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22"/>
          <p:cNvSpPr/>
          <p:nvPr/>
        </p:nvSpPr>
        <p:spPr>
          <a:xfrm>
            <a:off x="4495680" y="17602200"/>
            <a:ext cx="14401800" cy="60958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760920"/>
                <a:tab algn="l" pos="7521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RRAYS ( RAMS and NVM 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AutoShape 11"/>
          <p:cNvSpPr/>
          <p:nvPr/>
        </p:nvSpPr>
        <p:spPr>
          <a:xfrm rot="16200000">
            <a:off x="-55440" y="23931000"/>
            <a:ext cx="4165560" cy="1006560"/>
          </a:xfrm>
          <a:prstGeom prst="downArrowCallout">
            <a:avLst>
              <a:gd name="adj1" fmla="val 76683"/>
              <a:gd name="adj2" fmla="val 76675"/>
              <a:gd name="adj3" fmla="val 35778"/>
              <a:gd name="adj4" fmla="val 52588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3760920"/>
                <a:tab algn="l" pos="75214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roduct 2 cost go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AutoShape 11"/>
          <p:cNvSpPr/>
          <p:nvPr/>
        </p:nvSpPr>
        <p:spPr>
          <a:xfrm rot="16200000">
            <a:off x="-55440" y="19511280"/>
            <a:ext cx="4165560" cy="1006560"/>
          </a:xfrm>
          <a:prstGeom prst="downArrowCallout">
            <a:avLst>
              <a:gd name="adj1" fmla="val 76683"/>
              <a:gd name="adj2" fmla="val 76675"/>
              <a:gd name="adj3" fmla="val 35778"/>
              <a:gd name="adj4" fmla="val 52588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3760920"/>
                <a:tab algn="l" pos="75214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roduct 1 cost go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AutoShape 11"/>
          <p:cNvSpPr/>
          <p:nvPr/>
        </p:nvSpPr>
        <p:spPr>
          <a:xfrm rot="16200000">
            <a:off x="1011240" y="28325520"/>
            <a:ext cx="4165560" cy="1006200"/>
          </a:xfrm>
          <a:prstGeom prst="downArrowCallout">
            <a:avLst>
              <a:gd name="adj1" fmla="val 76710"/>
              <a:gd name="adj2" fmla="val 76703"/>
              <a:gd name="adj3" fmla="val 35778"/>
              <a:gd name="adj4" fmla="val 52588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3760920"/>
                <a:tab algn="l" pos="75214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roduct N yield go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AutoShape 11"/>
          <p:cNvSpPr/>
          <p:nvPr/>
        </p:nvSpPr>
        <p:spPr>
          <a:xfrm rot="16200000">
            <a:off x="990720" y="23885280"/>
            <a:ext cx="4206600" cy="1006200"/>
          </a:xfrm>
          <a:prstGeom prst="downArrowCallout">
            <a:avLst>
              <a:gd name="adj1" fmla="val 76691"/>
              <a:gd name="adj2" fmla="val 76703"/>
              <a:gd name="adj3" fmla="val 35778"/>
              <a:gd name="adj4" fmla="val 52588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3760920"/>
                <a:tab algn="l" pos="75214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roduct 2 yield go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AutoShape 11"/>
          <p:cNvSpPr/>
          <p:nvPr/>
        </p:nvSpPr>
        <p:spPr>
          <a:xfrm rot="16200000">
            <a:off x="1011240" y="19486440"/>
            <a:ext cx="4165560" cy="1006200"/>
          </a:xfrm>
          <a:prstGeom prst="downArrowCallout">
            <a:avLst>
              <a:gd name="adj1" fmla="val 76710"/>
              <a:gd name="adj2" fmla="val 76703"/>
              <a:gd name="adj3" fmla="val 35778"/>
              <a:gd name="adj4" fmla="val 52588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3760920"/>
                <a:tab algn="l" pos="75214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roduct 1 yield go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AutoShape 11"/>
          <p:cNvSpPr/>
          <p:nvPr/>
        </p:nvSpPr>
        <p:spPr>
          <a:xfrm rot="16200000">
            <a:off x="-2341080" y="23855400"/>
            <a:ext cx="13004640" cy="1006560"/>
          </a:xfrm>
          <a:prstGeom prst="downArrowCallout">
            <a:avLst>
              <a:gd name="adj1" fmla="val -14445"/>
              <a:gd name="adj2" fmla="val 72256"/>
              <a:gd name="adj3" fmla="val 36176"/>
              <a:gd name="adj4" fmla="val 51787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3760920"/>
                <a:tab algn="l" pos="75214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echnology defect density go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68"/>
          <p:cNvSpPr/>
          <p:nvPr/>
        </p:nvSpPr>
        <p:spPr>
          <a:xfrm>
            <a:off x="4813920" y="18364320"/>
            <a:ext cx="351648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3760920"/>
                <a:tab algn="l" pos="7521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tcell D0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iler sco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3" name="Group 307"/>
          <p:cNvGrpSpPr/>
          <p:nvPr/>
        </p:nvGrpSpPr>
        <p:grpSpPr>
          <a:xfrm>
            <a:off x="4800600" y="19811880"/>
            <a:ext cx="9393120" cy="3818880"/>
            <a:chOff x="4800600" y="19811880"/>
            <a:chExt cx="9393120" cy="3818880"/>
          </a:xfrm>
        </p:grpSpPr>
        <p:sp>
          <p:nvSpPr>
            <p:cNvPr id="164" name="Rectangle 7"/>
            <p:cNvSpPr/>
            <p:nvPr/>
          </p:nvSpPr>
          <p:spPr>
            <a:xfrm>
              <a:off x="5800680" y="20151360"/>
              <a:ext cx="5870520" cy="331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Rectangle 8"/>
            <p:cNvSpPr/>
            <p:nvPr/>
          </p:nvSpPr>
          <p:spPr>
            <a:xfrm>
              <a:off x="5800680" y="20151360"/>
              <a:ext cx="5870520" cy="3316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Line 9"/>
            <p:cNvSpPr/>
            <p:nvPr/>
          </p:nvSpPr>
          <p:spPr>
            <a:xfrm>
              <a:off x="5800680" y="20151360"/>
              <a:ext cx="0" cy="3316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Line 11"/>
            <p:cNvSpPr/>
            <p:nvPr/>
          </p:nvSpPr>
          <p:spPr>
            <a:xfrm>
              <a:off x="5722920" y="23134680"/>
              <a:ext cx="77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Line 12"/>
            <p:cNvSpPr/>
            <p:nvPr/>
          </p:nvSpPr>
          <p:spPr>
            <a:xfrm>
              <a:off x="5722920" y="22801320"/>
              <a:ext cx="77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Line 13"/>
            <p:cNvSpPr/>
            <p:nvPr/>
          </p:nvSpPr>
          <p:spPr>
            <a:xfrm>
              <a:off x="5722920" y="22467960"/>
              <a:ext cx="77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Line 14"/>
            <p:cNvSpPr/>
            <p:nvPr/>
          </p:nvSpPr>
          <p:spPr>
            <a:xfrm>
              <a:off x="5722920" y="22134600"/>
              <a:ext cx="77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Line 15"/>
            <p:cNvSpPr/>
            <p:nvPr/>
          </p:nvSpPr>
          <p:spPr>
            <a:xfrm>
              <a:off x="5722920" y="21801240"/>
              <a:ext cx="77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Line 16"/>
            <p:cNvSpPr/>
            <p:nvPr/>
          </p:nvSpPr>
          <p:spPr>
            <a:xfrm>
              <a:off x="5722920" y="21483720"/>
              <a:ext cx="77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Line 17"/>
            <p:cNvSpPr/>
            <p:nvPr/>
          </p:nvSpPr>
          <p:spPr>
            <a:xfrm>
              <a:off x="5722920" y="21150000"/>
              <a:ext cx="77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Line 18"/>
            <p:cNvSpPr/>
            <p:nvPr/>
          </p:nvSpPr>
          <p:spPr>
            <a:xfrm>
              <a:off x="5722920" y="20818440"/>
              <a:ext cx="77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Line 19"/>
            <p:cNvSpPr/>
            <p:nvPr/>
          </p:nvSpPr>
          <p:spPr>
            <a:xfrm>
              <a:off x="5722920" y="20485080"/>
              <a:ext cx="77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Line 20"/>
            <p:cNvSpPr/>
            <p:nvPr/>
          </p:nvSpPr>
          <p:spPr>
            <a:xfrm>
              <a:off x="5722920" y="20151360"/>
              <a:ext cx="77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28"/>
            <p:cNvSpPr/>
            <p:nvPr/>
          </p:nvSpPr>
          <p:spPr>
            <a:xfrm>
              <a:off x="9466200" y="20881800"/>
              <a:ext cx="95040" cy="950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29"/>
            <p:cNvSpPr/>
            <p:nvPr/>
          </p:nvSpPr>
          <p:spPr>
            <a:xfrm>
              <a:off x="10022040" y="20691360"/>
              <a:ext cx="95040" cy="950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30"/>
            <p:cNvSpPr/>
            <p:nvPr/>
          </p:nvSpPr>
          <p:spPr>
            <a:xfrm>
              <a:off x="8134200" y="21610440"/>
              <a:ext cx="95040" cy="950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31"/>
            <p:cNvSpPr/>
            <p:nvPr/>
          </p:nvSpPr>
          <p:spPr>
            <a:xfrm>
              <a:off x="6134040" y="22436280"/>
              <a:ext cx="95040" cy="950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32"/>
            <p:cNvSpPr/>
            <p:nvPr/>
          </p:nvSpPr>
          <p:spPr>
            <a:xfrm>
              <a:off x="9132840" y="21056400"/>
              <a:ext cx="95040" cy="936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60" h="59">
                  <a:moveTo>
                    <a:pt x="30" y="0"/>
                  </a:moveTo>
                  <a:lnTo>
                    <a:pt x="60" y="29"/>
                  </a:lnTo>
                  <a:lnTo>
                    <a:pt x="30" y="59"/>
                  </a:lnTo>
                  <a:lnTo>
                    <a:pt x="0" y="29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33"/>
            <p:cNvSpPr/>
            <p:nvPr/>
          </p:nvSpPr>
          <p:spPr>
            <a:xfrm>
              <a:off x="9688680" y="20802600"/>
              <a:ext cx="95040" cy="950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34"/>
            <p:cNvSpPr/>
            <p:nvPr/>
          </p:nvSpPr>
          <p:spPr>
            <a:xfrm>
              <a:off x="7419960" y="21864600"/>
              <a:ext cx="95040" cy="950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35"/>
            <p:cNvSpPr/>
            <p:nvPr/>
          </p:nvSpPr>
          <p:spPr>
            <a:xfrm>
              <a:off x="8244000" y="21483720"/>
              <a:ext cx="95040" cy="950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36"/>
            <p:cNvSpPr/>
            <p:nvPr/>
          </p:nvSpPr>
          <p:spPr>
            <a:xfrm>
              <a:off x="7912080" y="21721680"/>
              <a:ext cx="95040" cy="950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37"/>
            <p:cNvSpPr/>
            <p:nvPr/>
          </p:nvSpPr>
          <p:spPr>
            <a:xfrm>
              <a:off x="9752040" y="20897640"/>
              <a:ext cx="95040" cy="950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38"/>
            <p:cNvSpPr/>
            <p:nvPr/>
          </p:nvSpPr>
          <p:spPr>
            <a:xfrm>
              <a:off x="10545840" y="20564280"/>
              <a:ext cx="95040" cy="950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39"/>
            <p:cNvSpPr/>
            <p:nvPr/>
          </p:nvSpPr>
          <p:spPr>
            <a:xfrm>
              <a:off x="10149120" y="20754720"/>
              <a:ext cx="95040" cy="950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40"/>
            <p:cNvSpPr/>
            <p:nvPr/>
          </p:nvSpPr>
          <p:spPr>
            <a:xfrm>
              <a:off x="6483240" y="22325040"/>
              <a:ext cx="95040" cy="950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41"/>
            <p:cNvSpPr/>
            <p:nvPr/>
          </p:nvSpPr>
          <p:spPr>
            <a:xfrm>
              <a:off x="6530760" y="22230000"/>
              <a:ext cx="95040" cy="950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42"/>
            <p:cNvSpPr/>
            <p:nvPr/>
          </p:nvSpPr>
          <p:spPr>
            <a:xfrm>
              <a:off x="9228240" y="21102480"/>
              <a:ext cx="95040" cy="950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43"/>
            <p:cNvSpPr/>
            <p:nvPr/>
          </p:nvSpPr>
          <p:spPr>
            <a:xfrm>
              <a:off x="7657920" y="21769560"/>
              <a:ext cx="95040" cy="950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44"/>
            <p:cNvSpPr/>
            <p:nvPr/>
          </p:nvSpPr>
          <p:spPr>
            <a:xfrm>
              <a:off x="10117080" y="20595960"/>
              <a:ext cx="95040" cy="950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45"/>
            <p:cNvSpPr/>
            <p:nvPr/>
          </p:nvSpPr>
          <p:spPr>
            <a:xfrm>
              <a:off x="10371240" y="20500920"/>
              <a:ext cx="95040" cy="950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Line 46"/>
            <p:cNvSpPr/>
            <p:nvPr/>
          </p:nvSpPr>
          <p:spPr>
            <a:xfrm flipV="1">
              <a:off x="6181560" y="20532600"/>
              <a:ext cx="4411800" cy="19670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Rectangle 48"/>
            <p:cNvSpPr/>
            <p:nvPr/>
          </p:nvSpPr>
          <p:spPr>
            <a:xfrm>
              <a:off x="5513760" y="23325480"/>
              <a:ext cx="130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3760920"/>
                  <a:tab algn="l" pos="75214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Rectangle 49"/>
            <p:cNvSpPr/>
            <p:nvPr/>
          </p:nvSpPr>
          <p:spPr>
            <a:xfrm>
              <a:off x="5315040" y="22992120"/>
              <a:ext cx="323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3760920"/>
                  <a:tab algn="l" pos="75214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0.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Rectangle 50"/>
            <p:cNvSpPr/>
            <p:nvPr/>
          </p:nvSpPr>
          <p:spPr>
            <a:xfrm>
              <a:off x="5315040" y="22658400"/>
              <a:ext cx="323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3760920"/>
                  <a:tab algn="l" pos="75214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0.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Rectangle 51"/>
            <p:cNvSpPr/>
            <p:nvPr/>
          </p:nvSpPr>
          <p:spPr>
            <a:xfrm>
              <a:off x="5315040" y="22325040"/>
              <a:ext cx="323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3760920"/>
                  <a:tab algn="l" pos="75214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0.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Rectangle 52"/>
            <p:cNvSpPr/>
            <p:nvPr/>
          </p:nvSpPr>
          <p:spPr>
            <a:xfrm>
              <a:off x="5315040" y="21991680"/>
              <a:ext cx="323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3760920"/>
                  <a:tab algn="l" pos="75214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0.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Rectangle 53"/>
            <p:cNvSpPr/>
            <p:nvPr/>
          </p:nvSpPr>
          <p:spPr>
            <a:xfrm>
              <a:off x="5315040" y="21658320"/>
              <a:ext cx="323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3760920"/>
                  <a:tab algn="l" pos="75214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0.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Rectangle 54"/>
            <p:cNvSpPr/>
            <p:nvPr/>
          </p:nvSpPr>
          <p:spPr>
            <a:xfrm>
              <a:off x="5315040" y="21340800"/>
              <a:ext cx="323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3760920"/>
                  <a:tab algn="l" pos="75214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0.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Rectangle 55"/>
            <p:cNvSpPr/>
            <p:nvPr/>
          </p:nvSpPr>
          <p:spPr>
            <a:xfrm>
              <a:off x="5315040" y="21008880"/>
              <a:ext cx="323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3760920"/>
                  <a:tab algn="l" pos="75214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0.7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Rectangle 56"/>
            <p:cNvSpPr/>
            <p:nvPr/>
          </p:nvSpPr>
          <p:spPr>
            <a:xfrm>
              <a:off x="5315040" y="20675520"/>
              <a:ext cx="323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3760920"/>
                  <a:tab algn="l" pos="75214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0.8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Rectangle 57"/>
            <p:cNvSpPr/>
            <p:nvPr/>
          </p:nvSpPr>
          <p:spPr>
            <a:xfrm>
              <a:off x="5315040" y="20342160"/>
              <a:ext cx="323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3760920"/>
                  <a:tab algn="l" pos="75214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0.9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Rectangle 58"/>
            <p:cNvSpPr/>
            <p:nvPr/>
          </p:nvSpPr>
          <p:spPr>
            <a:xfrm>
              <a:off x="5513760" y="20008440"/>
              <a:ext cx="130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3760920"/>
                  <a:tab algn="l" pos="75214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7" name="Group 70"/>
            <p:cNvGrpSpPr/>
            <p:nvPr/>
          </p:nvGrpSpPr>
          <p:grpSpPr>
            <a:xfrm>
              <a:off x="5722920" y="20153160"/>
              <a:ext cx="6076080" cy="525960"/>
              <a:chOff x="5722920" y="20153160"/>
              <a:chExt cx="6076080" cy="525960"/>
            </a:xfrm>
          </p:grpSpPr>
          <p:sp>
            <p:nvSpPr>
              <p:cNvPr id="208" name="Line 10"/>
              <p:cNvSpPr/>
              <p:nvPr/>
            </p:nvSpPr>
            <p:spPr>
              <a:xfrm>
                <a:off x="5722920" y="20153160"/>
                <a:ext cx="777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7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Line 21"/>
              <p:cNvSpPr/>
              <p:nvPr/>
            </p:nvSpPr>
            <p:spPr>
              <a:xfrm>
                <a:off x="5800680" y="20153160"/>
                <a:ext cx="58705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7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Line 22"/>
              <p:cNvSpPr/>
              <p:nvPr/>
            </p:nvSpPr>
            <p:spPr>
              <a:xfrm flipV="1">
                <a:off x="5800680" y="20153160"/>
                <a:ext cx="0" cy="77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7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Line 23"/>
              <p:cNvSpPr/>
              <p:nvPr/>
            </p:nvSpPr>
            <p:spPr>
              <a:xfrm flipV="1">
                <a:off x="6975360" y="20153160"/>
                <a:ext cx="0" cy="77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7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" name="Line 24"/>
              <p:cNvSpPr/>
              <p:nvPr/>
            </p:nvSpPr>
            <p:spPr>
              <a:xfrm flipV="1">
                <a:off x="8150040" y="20153160"/>
                <a:ext cx="0" cy="77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7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Line 25"/>
              <p:cNvSpPr/>
              <p:nvPr/>
            </p:nvSpPr>
            <p:spPr>
              <a:xfrm flipV="1">
                <a:off x="9323280" y="20153160"/>
                <a:ext cx="0" cy="77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7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Line 26"/>
              <p:cNvSpPr/>
              <p:nvPr/>
            </p:nvSpPr>
            <p:spPr>
              <a:xfrm flipV="1">
                <a:off x="10497960" y="20153160"/>
                <a:ext cx="0" cy="77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7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" name="Line 27"/>
              <p:cNvSpPr/>
              <p:nvPr/>
            </p:nvSpPr>
            <p:spPr>
              <a:xfrm flipV="1">
                <a:off x="11671200" y="20153160"/>
                <a:ext cx="0" cy="77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7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tangle 59"/>
              <p:cNvSpPr/>
              <p:nvPr/>
            </p:nvSpPr>
            <p:spPr>
              <a:xfrm>
                <a:off x="5864040" y="20373840"/>
                <a:ext cx="144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3760920"/>
                    <a:tab algn="l" pos="7521480"/>
                  </a:tabLst>
                </a:pPr>
                <a:endParaRPr b="0" lang="en-US" sz="7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Rectangle 60"/>
              <p:cNvSpPr/>
              <p:nvPr/>
            </p:nvSpPr>
            <p:spPr>
              <a:xfrm>
                <a:off x="6869160" y="20373840"/>
                <a:ext cx="3236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3760920"/>
                    <a:tab algn="l" pos="75214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0.2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Rectangle 61"/>
              <p:cNvSpPr/>
              <p:nvPr/>
            </p:nvSpPr>
            <p:spPr>
              <a:xfrm>
                <a:off x="8043840" y="20373840"/>
                <a:ext cx="3236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3760920"/>
                    <a:tab algn="l" pos="75214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0.4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Rectangle 62"/>
              <p:cNvSpPr/>
              <p:nvPr/>
            </p:nvSpPr>
            <p:spPr>
              <a:xfrm>
                <a:off x="9217080" y="20373840"/>
                <a:ext cx="3236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3760920"/>
                    <a:tab algn="l" pos="75214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0.6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Rectangle 63"/>
              <p:cNvSpPr/>
              <p:nvPr/>
            </p:nvSpPr>
            <p:spPr>
              <a:xfrm>
                <a:off x="10391760" y="20373840"/>
                <a:ext cx="3236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3760920"/>
                    <a:tab algn="l" pos="75214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0.8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Rectangle 64"/>
              <p:cNvSpPr/>
              <p:nvPr/>
            </p:nvSpPr>
            <p:spPr>
              <a:xfrm>
                <a:off x="11668680" y="20373840"/>
                <a:ext cx="130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3760920"/>
                    <a:tab algn="l" pos="75214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Rectangle 65"/>
            <p:cNvSpPr/>
            <p:nvPr/>
          </p:nvSpPr>
          <p:spPr>
            <a:xfrm>
              <a:off x="7578000" y="19811880"/>
              <a:ext cx="259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3760920"/>
                  <a:tab algn="l" pos="75214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itcellsVsAll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Area Rati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Rectangle 66"/>
            <p:cNvSpPr/>
            <p:nvPr/>
          </p:nvSpPr>
          <p:spPr>
            <a:xfrm rot="16200000">
              <a:off x="3838680" y="21558600"/>
              <a:ext cx="2289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3760920"/>
                  <a:tab algn="l" pos="75214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itcellsVsAll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D0 rati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Rectangle 71"/>
            <p:cNvSpPr/>
            <p:nvPr/>
          </p:nvSpPr>
          <p:spPr>
            <a:xfrm>
              <a:off x="6314400" y="22860000"/>
              <a:ext cx="380772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3760920"/>
                  <a:tab algn="l" pos="75214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D0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alibri"/>
                </a:rPr>
                <a:t>bit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/D0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alibri"/>
                </a:rPr>
                <a:t>all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 =K2*(Area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alibri"/>
                </a:rPr>
                <a:t>Array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/ Area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alibri"/>
                </a:rPr>
                <a:t>All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) + K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Rectangle 72"/>
            <p:cNvSpPr/>
            <p:nvPr/>
          </p:nvSpPr>
          <p:spPr>
            <a:xfrm>
              <a:off x="9732600" y="21412080"/>
              <a:ext cx="446112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3760920"/>
                  <a:tab algn="l" pos="75214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D0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alibri"/>
                </a:rPr>
                <a:t>all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 = D0bit  / ( K2*( Area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alibri"/>
                </a:rPr>
                <a:t>Array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/ Area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alibri"/>
                </a:rPr>
                <a:t>All 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) + K1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6" name="Rectangle 68"/>
          <p:cNvSpPr/>
          <p:nvPr/>
        </p:nvSpPr>
        <p:spPr>
          <a:xfrm>
            <a:off x="9080280" y="18364320"/>
            <a:ext cx="440208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3760920"/>
                <a:tab algn="l" pos="7521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iable &amp; earl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stimate of cuts D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ight Brace 301"/>
          <p:cNvSpPr/>
          <p:nvPr/>
        </p:nvSpPr>
        <p:spPr>
          <a:xfrm>
            <a:off x="8305920" y="18364320"/>
            <a:ext cx="609480" cy="1371600"/>
          </a:xfrm>
          <a:custGeom>
            <a:avLst/>
            <a:gdLst>
              <a:gd name="textAreaLeft" fmla="*/ 0 w 609480"/>
              <a:gd name="textAreaRight" fmla="*/ 219960 w 609480"/>
              <a:gd name="textAreaTop" fmla="*/ 15840 h 1371600"/>
              <a:gd name="textAreaBottom" fmla="*/ 13557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0"/>
                  <a:pt x="10800" y="800"/>
                </a:cubicBezTo>
                <a:lnTo>
                  <a:pt x="10800" y="10000"/>
                </a:lnTo>
                <a:cubicBezTo>
                  <a:pt x="10800" y="10400"/>
                  <a:pt x="16200" y="10800"/>
                  <a:pt x="21600" y="10800"/>
                </a:cubicBezTo>
                <a:cubicBezTo>
                  <a:pt x="16200" y="10800"/>
                  <a:pt x="10800" y="11200"/>
                  <a:pt x="10800" y="11600"/>
                </a:cubicBezTo>
                <a:lnTo>
                  <a:pt x="10800" y="20800"/>
                </a:lnTo>
                <a:cubicBezTo>
                  <a:pt x="10800" y="212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3760920"/>
                <a:tab algn="l" pos="7521480"/>
              </a:tabLst>
            </a:pPr>
            <a:endParaRPr b="0" lang="en-US" sz="7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8" name="Straight Arrow Connector 303"/>
          <p:cNvCxnSpPr>
            <a:stCxn id="227" idx="1"/>
            <a:endCxn id="226" idx="1"/>
          </p:cNvCxnSpPr>
          <p:nvPr/>
        </p:nvCxnSpPr>
        <p:spPr>
          <a:xfrm flipV="1">
            <a:off x="8305920" y="19034640"/>
            <a:ext cx="774720" cy="70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229" name="Group 332"/>
          <p:cNvGrpSpPr/>
          <p:nvPr/>
        </p:nvGrpSpPr>
        <p:grpSpPr>
          <a:xfrm>
            <a:off x="13792320" y="18745200"/>
            <a:ext cx="4647960" cy="4552200"/>
            <a:chOff x="13792320" y="18745200"/>
            <a:chExt cx="4647960" cy="4552200"/>
          </a:xfrm>
        </p:grpSpPr>
        <p:sp>
          <p:nvSpPr>
            <p:cNvPr id="230" name="Text Box 3"/>
            <p:cNvSpPr/>
            <p:nvPr/>
          </p:nvSpPr>
          <p:spPr>
            <a:xfrm>
              <a:off x="13792320" y="18749880"/>
              <a:ext cx="2325600" cy="50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3760920"/>
                  <a:tab algn="l" pos="752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Bitcells Layouting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Text Box 8"/>
            <p:cNvSpPr/>
            <p:nvPr/>
          </p:nvSpPr>
          <p:spPr>
            <a:xfrm>
              <a:off x="14166720" y="19672200"/>
              <a:ext cx="415440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3760920"/>
                  <a:tab algn="l" pos="752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edicted Natural D0 sco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AutoShape 9"/>
            <p:cNvSpPr/>
            <p:nvPr/>
          </p:nvSpPr>
          <p:spPr>
            <a:xfrm>
              <a:off x="15343200" y="22020120"/>
              <a:ext cx="1800000" cy="53640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3760920"/>
                  <a:tab algn="l" pos="752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D0 targe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Text Box 10"/>
            <p:cNvSpPr/>
            <p:nvPr/>
          </p:nvSpPr>
          <p:spPr>
            <a:xfrm>
              <a:off x="15832440" y="2283768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3760920"/>
                  <a:tab algn="l" pos="752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Don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34" name="AutoShape 11"/>
            <p:cNvCxnSpPr>
              <a:stCxn id="230" idx="2"/>
              <a:endCxn id="231" idx="0"/>
            </p:cNvCxnSpPr>
            <p:nvPr/>
          </p:nvCxnSpPr>
          <p:spPr>
            <a:xfrm flipH="1" rot="16200000">
              <a:off x="15389280" y="18817200"/>
              <a:ext cx="421200" cy="1289160"/>
            </a:xfrm>
            <a:prstGeom prst="bentConnector3">
              <a:avLst>
                <a:gd name="adj1" fmla="val 4995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5" name="AutoShape 12"/>
            <p:cNvCxnSpPr>
              <a:stCxn id="231" idx="2"/>
              <a:endCxn id="236" idx="0"/>
            </p:cNvCxnSpPr>
            <p:nvPr/>
          </p:nvCxnSpPr>
          <p:spPr>
            <a:xfrm flipH="1" rot="16200000">
              <a:off x="16176240" y="20242440"/>
              <a:ext cx="178560" cy="43200"/>
            </a:xfrm>
            <a:prstGeom prst="bentConnector3">
              <a:avLst>
                <a:gd name="adj1" fmla="val 5010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7" name="AutoShape 13"/>
            <p:cNvCxnSpPr>
              <a:stCxn id="232" idx="2"/>
              <a:endCxn id="233" idx="0"/>
            </p:cNvCxnSpPr>
            <p:nvPr/>
          </p:nvCxnSpPr>
          <p:spPr>
            <a:xfrm flipH="1" rot="16200000">
              <a:off x="16107480" y="22692240"/>
              <a:ext cx="281520" cy="9720"/>
            </a:xfrm>
            <a:prstGeom prst="bentConnector3">
              <a:avLst>
                <a:gd name="adj1" fmla="val 5083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8" name="AutoShape 17"/>
            <p:cNvCxnSpPr>
              <a:stCxn id="232" idx="3"/>
              <a:endCxn id="236" idx="3"/>
            </p:cNvCxnSpPr>
            <p:nvPr/>
          </p:nvCxnSpPr>
          <p:spPr>
            <a:xfrm flipV="1">
              <a:off x="17143200" y="20764440"/>
              <a:ext cx="535320" cy="1524240"/>
            </a:xfrm>
            <a:prstGeom prst="bentConnector3">
              <a:avLst>
                <a:gd name="adj1" fmla="val 14333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9" name="Text Box 19"/>
            <p:cNvSpPr/>
            <p:nvPr/>
          </p:nvSpPr>
          <p:spPr>
            <a:xfrm>
              <a:off x="17226360" y="21901320"/>
              <a:ext cx="40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3760920"/>
                  <a:tab algn="l" pos="752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fai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Text Box 23"/>
            <p:cNvSpPr/>
            <p:nvPr/>
          </p:nvSpPr>
          <p:spPr>
            <a:xfrm>
              <a:off x="16353000" y="18745200"/>
              <a:ext cx="2087280" cy="501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3760920"/>
                  <a:tab algn="l" pos="752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ompiler scop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41" name="AutoShape 24"/>
            <p:cNvCxnSpPr>
              <a:stCxn id="240" idx="2"/>
              <a:endCxn id="231" idx="0"/>
            </p:cNvCxnSpPr>
            <p:nvPr/>
          </p:nvCxnSpPr>
          <p:spPr>
            <a:xfrm rot="5400000">
              <a:off x="16607520" y="18883080"/>
              <a:ext cx="425880" cy="1153080"/>
            </a:xfrm>
            <a:prstGeom prst="bentConnector3">
              <a:avLst>
                <a:gd name="adj1" fmla="val 5016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6" name="Text Box 25"/>
            <p:cNvSpPr/>
            <p:nvPr/>
          </p:nvSpPr>
          <p:spPr>
            <a:xfrm>
              <a:off x="14895360" y="20353320"/>
              <a:ext cx="2782800" cy="82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3760920"/>
                  <a:tab algn="l" pos="752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Definition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test &amp;repair rul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Text Box 26"/>
            <p:cNvSpPr/>
            <p:nvPr/>
          </p:nvSpPr>
          <p:spPr>
            <a:xfrm>
              <a:off x="14859000" y="21367800"/>
              <a:ext cx="278280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3760920"/>
                  <a:tab algn="l" pos="752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RepairedD0 score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43" name="AutoShape 27"/>
            <p:cNvCxnSpPr>
              <a:stCxn id="236" idx="2"/>
              <a:endCxn id="242" idx="0"/>
            </p:cNvCxnSpPr>
            <p:nvPr/>
          </p:nvCxnSpPr>
          <p:spPr>
            <a:xfrm rot="5400000">
              <a:off x="16172280" y="21253680"/>
              <a:ext cx="192600" cy="367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4" name="AutoShape 28"/>
            <p:cNvCxnSpPr>
              <a:stCxn id="242" idx="2"/>
              <a:endCxn id="232" idx="0"/>
            </p:cNvCxnSpPr>
            <p:nvPr/>
          </p:nvCxnSpPr>
          <p:spPr>
            <a:xfrm rot="5400000">
              <a:off x="16171920" y="21941640"/>
              <a:ext cx="149760" cy="7560"/>
            </a:xfrm>
            <a:prstGeom prst="bentConnector3">
              <a:avLst>
                <a:gd name="adj1" fmla="val 4987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5" name="Text Box 29"/>
            <p:cNvSpPr/>
            <p:nvPr/>
          </p:nvSpPr>
          <p:spPr>
            <a:xfrm>
              <a:off x="16281000" y="22560120"/>
              <a:ext cx="49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3760920"/>
                  <a:tab algn="l" pos="752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as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246" name="Straight Arrow Connector 354"/>
          <p:cNvCxnSpPr/>
          <p:nvPr/>
        </p:nvCxnSpPr>
        <p:spPr>
          <a:xfrm flipV="1">
            <a:off x="7162560" y="21716280"/>
            <a:ext cx="2515320" cy="1143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356"/>
          <p:cNvCxnSpPr>
            <a:endCxn id="231" idx="1"/>
          </p:cNvCxnSpPr>
          <p:nvPr/>
        </p:nvCxnSpPr>
        <p:spPr>
          <a:xfrm flipV="1">
            <a:off x="10058400" y="19923480"/>
            <a:ext cx="4108680" cy="1488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8" name="Group 360"/>
          <p:cNvGrpSpPr/>
          <p:nvPr/>
        </p:nvGrpSpPr>
        <p:grpSpPr>
          <a:xfrm>
            <a:off x="9144000" y="23774400"/>
            <a:ext cx="18288000" cy="1219320"/>
            <a:chOff x="9144000" y="23774400"/>
            <a:chExt cx="18288000" cy="1219320"/>
          </a:xfrm>
        </p:grpSpPr>
        <p:sp>
          <p:nvSpPr>
            <p:cNvPr id="249" name="TextBox 328"/>
            <p:cNvSpPr/>
            <p:nvPr/>
          </p:nvSpPr>
          <p:spPr>
            <a:xfrm>
              <a:off x="9144000" y="23774400"/>
              <a:ext cx="18288000" cy="121932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3760920"/>
                  <a:tab algn="l" pos="752148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alibri"/>
                </a:rPr>
                <a:t>D0 goals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0" name="TextBox 322"/>
            <p:cNvGrpSpPr/>
            <p:nvPr/>
          </p:nvGrpSpPr>
          <p:grpSpPr>
            <a:xfrm>
              <a:off x="14965560" y="23835240"/>
              <a:ext cx="4358520" cy="1085400"/>
              <a:chOff x="14965560" y="23835240"/>
              <a:chExt cx="4358520" cy="1085400"/>
            </a:xfrm>
          </p:grpSpPr>
          <p:pic>
            <p:nvPicPr>
              <p:cNvPr id="251" name="TextBox 32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4965560" y="23835240"/>
                <a:ext cx="4358520" cy="108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"/>
              <p:cNvSpPr/>
              <p:nvPr/>
            </p:nvSpPr>
            <p:spPr>
              <a:xfrm>
                <a:off x="15315840" y="24002640"/>
                <a:ext cx="3657600" cy="83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3760920"/>
                    <a:tab algn="l" pos="752148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Calibri"/>
                  </a:rPr>
                  <a:t>Standard Cells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53" name="TextBox 323"/>
            <p:cNvGrpSpPr/>
            <p:nvPr/>
          </p:nvGrpSpPr>
          <p:grpSpPr>
            <a:xfrm>
              <a:off x="18897480" y="23841360"/>
              <a:ext cx="4254840" cy="1085400"/>
              <a:chOff x="18897480" y="23841360"/>
              <a:chExt cx="4254840" cy="1085400"/>
            </a:xfrm>
          </p:grpSpPr>
          <p:pic>
            <p:nvPicPr>
              <p:cNvPr id="254" name="TextBox 323" descr=""/>
              <p:cNvPicPr/>
              <p:nvPr/>
            </p:nvPicPr>
            <p:blipFill>
              <a:blip r:embed="rId11"/>
              <a:stretch/>
            </p:blipFill>
            <p:spPr>
              <a:xfrm>
                <a:off x="18897480" y="23841360"/>
                <a:ext cx="4254840" cy="108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>
                <a:off x="19202040" y="24010200"/>
                <a:ext cx="3657600" cy="83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3760920"/>
                    <a:tab algn="l" pos="752148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Calibri"/>
                  </a:rPr>
                  <a:t>Interconnects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56" name="TextBox 324"/>
            <p:cNvGrpSpPr/>
            <p:nvPr/>
          </p:nvGrpSpPr>
          <p:grpSpPr>
            <a:xfrm>
              <a:off x="11289600" y="23835240"/>
              <a:ext cx="3925800" cy="1085400"/>
              <a:chOff x="11289600" y="23835240"/>
              <a:chExt cx="3925800" cy="1085400"/>
            </a:xfrm>
          </p:grpSpPr>
          <p:pic>
            <p:nvPicPr>
              <p:cNvPr id="257" name="TextBox 324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289600" y="23835240"/>
                <a:ext cx="3925800" cy="108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>
                <a:off x="11429640" y="24002640"/>
                <a:ext cx="3657600" cy="83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3760920"/>
                    <a:tab algn="l" pos="752148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Calibri"/>
                  </a:rPr>
                  <a:t>RAMs NVMs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59" name="TextBox 326"/>
            <p:cNvGrpSpPr/>
            <p:nvPr/>
          </p:nvGrpSpPr>
          <p:grpSpPr>
            <a:xfrm>
              <a:off x="23030640" y="23841360"/>
              <a:ext cx="3773160" cy="1085400"/>
              <a:chOff x="23030640" y="23841360"/>
              <a:chExt cx="3773160" cy="1085400"/>
            </a:xfrm>
          </p:grpSpPr>
          <p:pic>
            <p:nvPicPr>
              <p:cNvPr id="260" name="TextBox 326" descr=""/>
              <p:cNvPicPr/>
              <p:nvPr/>
            </p:nvPicPr>
            <p:blipFill>
              <a:blip r:embed="rId13"/>
              <a:stretch/>
            </p:blipFill>
            <p:spPr>
              <a:xfrm>
                <a:off x="23030640" y="23841360"/>
                <a:ext cx="3773160" cy="108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1" name=""/>
              <p:cNvSpPr/>
              <p:nvPr/>
            </p:nvSpPr>
            <p:spPr>
              <a:xfrm>
                <a:off x="23088240" y="24010200"/>
                <a:ext cx="3657600" cy="83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3760920"/>
                    <a:tab algn="l" pos="752148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Calibri"/>
                  </a:rPr>
                  <a:t>Full custom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62" name="Right Arrow Callout 357"/>
          <p:cNvSpPr/>
          <p:nvPr/>
        </p:nvSpPr>
        <p:spPr>
          <a:xfrm>
            <a:off x="4876920" y="23774400"/>
            <a:ext cx="3886200" cy="1219320"/>
          </a:xfrm>
          <a:prstGeom prst="rightArrowCallout">
            <a:avLst>
              <a:gd name="adj1" fmla="val 25002"/>
              <a:gd name="adj2" fmla="val 39472"/>
              <a:gd name="adj3" fmla="val 24996"/>
              <a:gd name="adj4" fmla="val 84023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3760920"/>
                <a:tab algn="l" pos="752148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D0 budget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by I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3" name="Curved Connector 362"/>
          <p:cNvCxnSpPr/>
          <p:nvPr/>
        </p:nvCxnSpPr>
        <p:spPr>
          <a:xfrm flipH="1" flipV="1" rot="5400000">
            <a:off x="13334760" y="22249800"/>
            <a:ext cx="1677240" cy="1829520"/>
          </a:xfrm>
          <a:prstGeom prst="curvedConnector2">
            <a:avLst/>
          </a:prstGeom>
          <a:ln w="127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64" name="Curved Connector 362"/>
          <p:cNvCxnSpPr/>
          <p:nvPr/>
        </p:nvCxnSpPr>
        <p:spPr>
          <a:xfrm rot="5400000">
            <a:off x="15235920" y="24075000"/>
            <a:ext cx="1151640" cy="2667240"/>
          </a:xfrm>
          <a:prstGeom prst="curvedConnector2">
            <a:avLst/>
          </a:prstGeom>
          <a:ln w="127080">
            <a:solidFill>
              <a:srgbClr val="ffc000"/>
            </a:solidFill>
            <a:miter/>
            <a:tailEnd len="med" type="triangle" w="med"/>
          </a:ln>
        </p:spPr>
      </p:cxnSp>
      <p:cxnSp>
        <p:nvCxnSpPr>
          <p:cNvPr id="265" name="Curved Connector 362"/>
          <p:cNvCxnSpPr/>
          <p:nvPr/>
        </p:nvCxnSpPr>
        <p:spPr>
          <a:xfrm flipH="1" flipV="1" rot="5400000">
            <a:off x="21276360" y="22163400"/>
            <a:ext cx="1602360" cy="2092680"/>
          </a:xfrm>
          <a:prstGeom prst="curvedConnector2">
            <a:avLst/>
          </a:prstGeom>
          <a:ln w="127080">
            <a:solidFill>
              <a:srgbClr val="cc99ff"/>
            </a:solidFill>
            <a:miter/>
            <a:tailEnd len="med" type="triangle" w="med"/>
          </a:ln>
        </p:spPr>
      </p:cxnSp>
      <p:cxnSp>
        <p:nvCxnSpPr>
          <p:cNvPr id="266" name="Curved Connector 362"/>
          <p:cNvCxnSpPr/>
          <p:nvPr/>
        </p:nvCxnSpPr>
        <p:spPr>
          <a:xfrm flipH="1" rot="16200000">
            <a:off x="25869600" y="23888160"/>
            <a:ext cx="1296360" cy="3201120"/>
          </a:xfrm>
          <a:prstGeom prst="curvedConnector2">
            <a:avLst/>
          </a:prstGeom>
          <a:ln w="127080">
            <a:solidFill>
              <a:srgbClr val="99ccff"/>
            </a:solidFill>
            <a:miter/>
            <a:tailEnd len="med" type="triangle" w="med"/>
          </a:ln>
        </p:spPr>
      </p:cxnSp>
      <p:sp>
        <p:nvSpPr>
          <p:cNvPr id="267" name="Text Box 22"/>
          <p:cNvSpPr/>
          <p:nvPr/>
        </p:nvSpPr>
        <p:spPr>
          <a:xfrm>
            <a:off x="19126080" y="25069680"/>
            <a:ext cx="11049120" cy="746784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3760920"/>
                <a:tab algn="l" pos="7521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FULL CUSTOMS AND ANALO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 Box 2"/>
          <p:cNvSpPr/>
          <p:nvPr/>
        </p:nvSpPr>
        <p:spPr>
          <a:xfrm>
            <a:off x="24422040" y="25989120"/>
            <a:ext cx="27828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3760920"/>
                <a:tab algn="l" pos="752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a Budg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25101720" y="26758800"/>
            <a:ext cx="4255920" cy="45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3760920"/>
                <a:tab algn="l" pos="752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ield go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AutoShape 6"/>
          <p:cNvSpPr/>
          <p:nvPr/>
        </p:nvSpPr>
        <p:spPr>
          <a:xfrm>
            <a:off x="26328600" y="30787920"/>
            <a:ext cx="1800360" cy="73980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3760920"/>
                <a:tab algn="l" pos="752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ield go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26057880" y="31927680"/>
            <a:ext cx="23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760920"/>
                <a:tab algn="l" pos="752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xt layout st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2" name="AutoShape 8"/>
          <p:cNvCxnSpPr>
            <a:stCxn id="268" idx="2"/>
            <a:endCxn id="269" idx="0"/>
          </p:cNvCxnSpPr>
          <p:nvPr/>
        </p:nvCxnSpPr>
        <p:spPr>
          <a:xfrm flipH="1" rot="16200000">
            <a:off x="26387640" y="25916400"/>
            <a:ext cx="268560" cy="1416600"/>
          </a:xfrm>
          <a:prstGeom prst="bentConnector3">
            <a:avLst>
              <a:gd name="adj1" fmla="val 489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9"/>
          <p:cNvCxnSpPr>
            <a:stCxn id="269" idx="2"/>
            <a:endCxn id="274" idx="0"/>
          </p:cNvCxnSpPr>
          <p:nvPr/>
        </p:nvCxnSpPr>
        <p:spPr>
          <a:xfrm flipH="1" rot="16200000">
            <a:off x="27105120" y="27335880"/>
            <a:ext cx="251280" cy="1800"/>
          </a:xfrm>
          <a:prstGeom prst="bentConnector3">
            <a:avLst>
              <a:gd name="adj1" fmla="val 500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1"/>
          <p:cNvCxnSpPr>
            <a:stCxn id="270" idx="3"/>
            <a:endCxn id="276" idx="3"/>
          </p:cNvCxnSpPr>
          <p:nvPr/>
        </p:nvCxnSpPr>
        <p:spPr>
          <a:xfrm flipV="1">
            <a:off x="28128960" y="29475000"/>
            <a:ext cx="1224360" cy="1683360"/>
          </a:xfrm>
          <a:prstGeom prst="bentConnector3">
            <a:avLst>
              <a:gd name="adj1" fmla="val 11894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7" name="Text Box 12"/>
          <p:cNvSpPr/>
          <p:nvPr/>
        </p:nvSpPr>
        <p:spPr>
          <a:xfrm>
            <a:off x="28135800" y="31151520"/>
            <a:ext cx="40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760920"/>
                <a:tab algn="l" pos="752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ai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 Box 13"/>
          <p:cNvSpPr/>
          <p:nvPr/>
        </p:nvSpPr>
        <p:spPr>
          <a:xfrm>
            <a:off x="27274680" y="25984080"/>
            <a:ext cx="2789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3760920"/>
                <a:tab algn="l" pos="752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0 targ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9" name="AutoShape 14"/>
          <p:cNvCxnSpPr>
            <a:stCxn id="278" idx="2"/>
            <a:endCxn id="269" idx="0"/>
          </p:cNvCxnSpPr>
          <p:nvPr/>
        </p:nvCxnSpPr>
        <p:spPr>
          <a:xfrm rot="5400000">
            <a:off x="27812880" y="25902720"/>
            <a:ext cx="273240" cy="1440000"/>
          </a:xfrm>
          <a:prstGeom prst="bentConnector3">
            <a:avLst>
              <a:gd name="adj1" fmla="val 4920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4" name="Text Box 15"/>
          <p:cNvSpPr/>
          <p:nvPr/>
        </p:nvSpPr>
        <p:spPr>
          <a:xfrm>
            <a:off x="25109640" y="27462240"/>
            <a:ext cx="424332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3760920"/>
                <a:tab algn="l" pos="752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ine architecture rul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0" name="AutoShape 16"/>
          <p:cNvCxnSpPr>
            <a:stCxn id="274" idx="2"/>
            <a:endCxn id="281" idx="0"/>
          </p:cNvCxnSpPr>
          <p:nvPr/>
        </p:nvCxnSpPr>
        <p:spPr>
          <a:xfrm>
            <a:off x="27231120" y="27890640"/>
            <a:ext cx="360" cy="25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2" name="Text Box 17"/>
          <p:cNvSpPr/>
          <p:nvPr/>
        </p:nvSpPr>
        <p:spPr>
          <a:xfrm>
            <a:off x="27304560" y="31581720"/>
            <a:ext cx="49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760920"/>
                <a:tab algn="l" pos="752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 Box 81"/>
          <p:cNvSpPr/>
          <p:nvPr/>
        </p:nvSpPr>
        <p:spPr>
          <a:xfrm>
            <a:off x="25109640" y="28143360"/>
            <a:ext cx="4243320" cy="82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3760920"/>
                <a:tab algn="l" pos="752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ine Programmable cel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FM qualit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3" name="AutoShape 82"/>
          <p:cNvCxnSpPr>
            <a:stCxn id="276" idx="2"/>
          </p:cNvCxnSpPr>
          <p:nvPr/>
        </p:nvCxnSpPr>
        <p:spPr>
          <a:xfrm rot="5400000">
            <a:off x="26973720" y="29918160"/>
            <a:ext cx="486000" cy="28800"/>
          </a:xfrm>
          <a:prstGeom prst="bentConnector3">
            <a:avLst>
              <a:gd name="adj1" fmla="val 738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6" name="Text Box 83"/>
          <p:cNvSpPr/>
          <p:nvPr/>
        </p:nvSpPr>
        <p:spPr>
          <a:xfrm>
            <a:off x="25109640" y="29260800"/>
            <a:ext cx="424332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3760920"/>
                <a:tab algn="l" pos="752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yout stage 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4" name="AutoShape 84"/>
          <p:cNvCxnSpPr>
            <a:stCxn id="281" idx="2"/>
            <a:endCxn id="276" idx="0"/>
          </p:cNvCxnSpPr>
          <p:nvPr/>
        </p:nvCxnSpPr>
        <p:spPr>
          <a:xfrm>
            <a:off x="27231120" y="28965600"/>
            <a:ext cx="360" cy="29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AutoShape 85"/>
          <p:cNvCxnSpPr>
            <a:stCxn id="270" idx="2"/>
            <a:endCxn id="271" idx="0"/>
          </p:cNvCxnSpPr>
          <p:nvPr/>
        </p:nvCxnSpPr>
        <p:spPr>
          <a:xfrm flipH="1">
            <a:off x="27228600" y="31527720"/>
            <a:ext cx="720" cy="400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86" name="Group 232"/>
          <p:cNvGrpSpPr/>
          <p:nvPr/>
        </p:nvGrpSpPr>
        <p:grpSpPr>
          <a:xfrm>
            <a:off x="20116800" y="26441280"/>
            <a:ext cx="3727440" cy="5562720"/>
            <a:chOff x="20116800" y="26441280"/>
            <a:chExt cx="3727440" cy="5562720"/>
          </a:xfrm>
        </p:grpSpPr>
        <p:sp>
          <p:nvSpPr>
            <p:cNvPr id="287" name="Rectangle 65"/>
            <p:cNvSpPr/>
            <p:nvPr/>
          </p:nvSpPr>
          <p:spPr>
            <a:xfrm>
              <a:off x="20703240" y="27303120"/>
              <a:ext cx="2419920" cy="32907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Rectangle 66"/>
            <p:cNvSpPr/>
            <p:nvPr/>
          </p:nvSpPr>
          <p:spPr>
            <a:xfrm>
              <a:off x="21680280" y="26694720"/>
              <a:ext cx="519480" cy="444168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Rectangle 67"/>
            <p:cNvSpPr/>
            <p:nvPr/>
          </p:nvSpPr>
          <p:spPr>
            <a:xfrm>
              <a:off x="20929320" y="29854800"/>
              <a:ext cx="454680" cy="471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Rectangle 68"/>
            <p:cNvSpPr/>
            <p:nvPr/>
          </p:nvSpPr>
          <p:spPr>
            <a:xfrm>
              <a:off x="20942640" y="28794960"/>
              <a:ext cx="452160" cy="471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Rectangle 69"/>
            <p:cNvSpPr/>
            <p:nvPr/>
          </p:nvSpPr>
          <p:spPr>
            <a:xfrm>
              <a:off x="20929320" y="27652320"/>
              <a:ext cx="454680" cy="471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Rectangle 70"/>
            <p:cNvSpPr/>
            <p:nvPr/>
          </p:nvSpPr>
          <p:spPr>
            <a:xfrm>
              <a:off x="22533840" y="29863440"/>
              <a:ext cx="454680" cy="474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Rectangle 71"/>
            <p:cNvSpPr/>
            <p:nvPr/>
          </p:nvSpPr>
          <p:spPr>
            <a:xfrm>
              <a:off x="22547160" y="28803600"/>
              <a:ext cx="452160" cy="477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Rectangle 72"/>
            <p:cNvSpPr/>
            <p:nvPr/>
          </p:nvSpPr>
          <p:spPr>
            <a:xfrm>
              <a:off x="22533840" y="27660960"/>
              <a:ext cx="454680" cy="477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95" name="Rectangle 73"/>
            <p:cNvGrpSpPr/>
            <p:nvPr/>
          </p:nvGrpSpPr>
          <p:grpSpPr>
            <a:xfrm>
              <a:off x="22106520" y="27237600"/>
              <a:ext cx="1297800" cy="3525840"/>
              <a:chOff x="22106520" y="27237600"/>
              <a:chExt cx="1297800" cy="3525840"/>
            </a:xfrm>
          </p:grpSpPr>
          <p:pic>
            <p:nvPicPr>
              <p:cNvPr id="296" name="Rectangle 73" descr=""/>
              <p:cNvPicPr/>
              <p:nvPr/>
            </p:nvPicPr>
            <p:blipFill>
              <a:blip r:embed="rId14"/>
              <a:stretch/>
            </p:blipFill>
            <p:spPr>
              <a:xfrm>
                <a:off x="22106520" y="27237600"/>
                <a:ext cx="1297800" cy="352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"/>
              <p:cNvSpPr/>
              <p:nvPr/>
            </p:nvSpPr>
            <p:spPr>
              <a:xfrm>
                <a:off x="22331160" y="27479880"/>
                <a:ext cx="847800" cy="304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7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8" name="Rectangle 75"/>
            <p:cNvSpPr/>
            <p:nvPr/>
          </p:nvSpPr>
          <p:spPr>
            <a:xfrm>
              <a:off x="21104280" y="31119480"/>
              <a:ext cx="1701000" cy="82692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99" name="Group 76"/>
            <p:cNvGrpSpPr/>
            <p:nvPr/>
          </p:nvGrpSpPr>
          <p:grpSpPr>
            <a:xfrm>
              <a:off x="21238920" y="31304520"/>
              <a:ext cx="1377360" cy="448200"/>
              <a:chOff x="21238920" y="31304520"/>
              <a:chExt cx="1377360" cy="448200"/>
            </a:xfrm>
          </p:grpSpPr>
          <p:sp>
            <p:nvSpPr>
              <p:cNvPr id="300" name="Rectangle 77"/>
              <p:cNvSpPr/>
              <p:nvPr/>
            </p:nvSpPr>
            <p:spPr>
              <a:xfrm rot="16200000">
                <a:off x="22184640" y="31321080"/>
                <a:ext cx="438120" cy="4251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7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" name="Rectangle 78"/>
              <p:cNvSpPr/>
              <p:nvPr/>
            </p:nvSpPr>
            <p:spPr>
              <a:xfrm rot="16200000">
                <a:off x="21233520" y="31309920"/>
                <a:ext cx="435960" cy="4251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7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2" name="Rectangle 79"/>
            <p:cNvGrpSpPr/>
            <p:nvPr/>
          </p:nvGrpSpPr>
          <p:grpSpPr>
            <a:xfrm>
              <a:off x="20722680" y="27387360"/>
              <a:ext cx="868680" cy="3162240"/>
              <a:chOff x="20722680" y="27387360"/>
              <a:chExt cx="868680" cy="3162240"/>
            </a:xfrm>
          </p:grpSpPr>
          <p:pic>
            <p:nvPicPr>
              <p:cNvPr id="303" name="Rectangle 79" descr=""/>
              <p:cNvPicPr/>
              <p:nvPr/>
            </p:nvPicPr>
            <p:blipFill>
              <a:blip r:embed="rId15"/>
              <a:stretch/>
            </p:blipFill>
            <p:spPr>
              <a:xfrm>
                <a:off x="20722680" y="27387360"/>
                <a:ext cx="868680" cy="316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"/>
              <p:cNvSpPr/>
              <p:nvPr/>
            </p:nvSpPr>
            <p:spPr>
              <a:xfrm>
                <a:off x="20945160" y="27632160"/>
                <a:ext cx="419760" cy="267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7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5" name="Rectangle 80"/>
            <p:cNvGrpSpPr/>
            <p:nvPr/>
          </p:nvGrpSpPr>
          <p:grpSpPr>
            <a:xfrm>
              <a:off x="20990880" y="31052160"/>
              <a:ext cx="1855800" cy="951840"/>
              <a:chOff x="20990880" y="31052160"/>
              <a:chExt cx="1855800" cy="951840"/>
            </a:xfrm>
          </p:grpSpPr>
          <p:pic>
            <p:nvPicPr>
              <p:cNvPr id="306" name="Rectangle 80" descr=""/>
              <p:cNvPicPr/>
              <p:nvPr/>
            </p:nvPicPr>
            <p:blipFill>
              <a:blip r:embed="rId16"/>
              <a:stretch/>
            </p:blipFill>
            <p:spPr>
              <a:xfrm>
                <a:off x="20990880" y="31052160"/>
                <a:ext cx="1855800" cy="95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>
                <a:off x="21216960" y="31295520"/>
                <a:ext cx="140508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7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8" name="Rectangle 88"/>
            <p:cNvGrpSpPr/>
            <p:nvPr/>
          </p:nvGrpSpPr>
          <p:grpSpPr>
            <a:xfrm>
              <a:off x="21447000" y="26441280"/>
              <a:ext cx="992160" cy="1038600"/>
              <a:chOff x="21447000" y="26441280"/>
              <a:chExt cx="992160" cy="1038600"/>
            </a:xfrm>
          </p:grpSpPr>
          <p:pic>
            <p:nvPicPr>
              <p:cNvPr id="309" name="Rectangle 88" descr=""/>
              <p:cNvPicPr/>
              <p:nvPr/>
            </p:nvPicPr>
            <p:blipFill>
              <a:blip r:embed="rId17"/>
              <a:stretch/>
            </p:blipFill>
            <p:spPr>
              <a:xfrm>
                <a:off x="21447000" y="26441280"/>
                <a:ext cx="992160" cy="103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"/>
              <p:cNvSpPr/>
              <p:nvPr/>
            </p:nvSpPr>
            <p:spPr>
              <a:xfrm>
                <a:off x="21669480" y="26680680"/>
                <a:ext cx="543600" cy="55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7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1" name="Rectangle 89"/>
            <p:cNvGrpSpPr/>
            <p:nvPr/>
          </p:nvGrpSpPr>
          <p:grpSpPr>
            <a:xfrm>
              <a:off x="23179320" y="26591040"/>
              <a:ext cx="664920" cy="4922280"/>
              <a:chOff x="23179320" y="26591040"/>
              <a:chExt cx="664920" cy="4922280"/>
            </a:xfrm>
          </p:grpSpPr>
          <p:pic>
            <p:nvPicPr>
              <p:cNvPr id="312" name="Rectangle 89" descr=""/>
              <p:cNvPicPr/>
              <p:nvPr/>
            </p:nvPicPr>
            <p:blipFill>
              <a:blip r:embed="rId18"/>
              <a:stretch/>
            </p:blipFill>
            <p:spPr>
              <a:xfrm>
                <a:off x="23179320" y="26591040"/>
                <a:ext cx="664920" cy="492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"/>
              <p:cNvSpPr/>
              <p:nvPr/>
            </p:nvSpPr>
            <p:spPr>
              <a:xfrm>
                <a:off x="23402880" y="26830800"/>
                <a:ext cx="217800" cy="444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7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4" name="Rectangle 90"/>
            <p:cNvGrpSpPr/>
            <p:nvPr/>
          </p:nvGrpSpPr>
          <p:grpSpPr>
            <a:xfrm>
              <a:off x="20116800" y="26464320"/>
              <a:ext cx="670320" cy="4928040"/>
              <a:chOff x="20116800" y="26464320"/>
              <a:chExt cx="670320" cy="4928040"/>
            </a:xfrm>
          </p:grpSpPr>
          <p:pic>
            <p:nvPicPr>
              <p:cNvPr id="315" name="Rectangle 90" descr=""/>
              <p:cNvPicPr/>
              <p:nvPr/>
            </p:nvPicPr>
            <p:blipFill>
              <a:blip r:embed="rId19"/>
              <a:stretch/>
            </p:blipFill>
            <p:spPr>
              <a:xfrm>
                <a:off x="20116800" y="26464320"/>
                <a:ext cx="670320" cy="492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6" name=""/>
              <p:cNvSpPr/>
              <p:nvPr/>
            </p:nvSpPr>
            <p:spPr>
              <a:xfrm>
                <a:off x="20341800" y="26708040"/>
                <a:ext cx="217800" cy="444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7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17" name="AutoShape 92"/>
          <p:cNvSpPr/>
          <p:nvPr/>
        </p:nvSpPr>
        <p:spPr>
          <a:xfrm>
            <a:off x="24155280" y="28346400"/>
            <a:ext cx="930240" cy="665280"/>
          </a:xfrm>
          <a:prstGeom prst="leftRightArrow">
            <a:avLst>
              <a:gd name="adj1" fmla="val 50000"/>
              <a:gd name="adj2" fmla="val 26470"/>
            </a:avLst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ext Box 22"/>
          <p:cNvSpPr/>
          <p:nvPr/>
        </p:nvSpPr>
        <p:spPr>
          <a:xfrm>
            <a:off x="19050120" y="17602200"/>
            <a:ext cx="10972800" cy="609588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3760920"/>
                <a:tab algn="l" pos="7521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NTERCONNECT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22286880" y="18197640"/>
            <a:ext cx="27828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3760920"/>
                <a:tab algn="l" pos="752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al sta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19354680" y="1790712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760920"/>
                <a:tab algn="l" pos="752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b/DFM informa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out big offen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20497680" y="19431000"/>
            <a:ext cx="6389640" cy="90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3760920"/>
                <a:tab algn="l" pos="752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pdate technology file (router , CTS,..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 robust rule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 twinVias, wideWires,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7"/>
          <p:cNvSpPr/>
          <p:nvPr/>
        </p:nvSpPr>
        <p:spPr>
          <a:xfrm>
            <a:off x="22783680" y="22043880"/>
            <a:ext cx="1800360" cy="73980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3760920"/>
                <a:tab algn="l" pos="752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0 targ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 Box 8"/>
          <p:cNvSpPr/>
          <p:nvPr/>
        </p:nvSpPr>
        <p:spPr>
          <a:xfrm>
            <a:off x="21651120" y="23088600"/>
            <a:ext cx="41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760920"/>
                <a:tab algn="l" pos="752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ne ( technology file qualifi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24" name="AutoShape 9"/>
          <p:cNvCxnSpPr>
            <a:stCxn id="319" idx="2"/>
            <a:endCxn id="321" idx="0"/>
          </p:cNvCxnSpPr>
          <p:nvPr/>
        </p:nvCxnSpPr>
        <p:spPr>
          <a:xfrm flipH="1" rot="16200000">
            <a:off x="23319360" y="19057680"/>
            <a:ext cx="732240" cy="14400"/>
          </a:xfrm>
          <a:prstGeom prst="bentConnector3">
            <a:avLst>
              <a:gd name="adj1" fmla="val 496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5" name="AutoShape 10"/>
          <p:cNvCxnSpPr>
            <a:stCxn id="321" idx="2"/>
            <a:endCxn id="326" idx="0"/>
          </p:cNvCxnSpPr>
          <p:nvPr/>
        </p:nvCxnSpPr>
        <p:spPr>
          <a:xfrm flipH="1" rot="16200000">
            <a:off x="23543280" y="20489760"/>
            <a:ext cx="304920" cy="6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7" name="AutoShape 11"/>
          <p:cNvCxnSpPr>
            <a:stCxn id="322" idx="2"/>
            <a:endCxn id="323" idx="0"/>
          </p:cNvCxnSpPr>
          <p:nvPr/>
        </p:nvCxnSpPr>
        <p:spPr>
          <a:xfrm flipH="1" rot="16200000">
            <a:off x="23550480" y="22916880"/>
            <a:ext cx="305280" cy="38160"/>
          </a:xfrm>
          <a:prstGeom prst="bentConnector3">
            <a:avLst>
              <a:gd name="adj1" fmla="val 508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8" name="AutoShape 12"/>
          <p:cNvCxnSpPr>
            <a:stCxn id="322" idx="3"/>
            <a:endCxn id="321" idx="3"/>
          </p:cNvCxnSpPr>
          <p:nvPr/>
        </p:nvCxnSpPr>
        <p:spPr>
          <a:xfrm flipV="1">
            <a:off x="24584040" y="19885680"/>
            <a:ext cx="2303640" cy="2528640"/>
          </a:xfrm>
          <a:prstGeom prst="bentConnector3">
            <a:avLst>
              <a:gd name="adj1" fmla="val 1100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9" name="Text Box 13"/>
          <p:cNvSpPr/>
          <p:nvPr/>
        </p:nvSpPr>
        <p:spPr>
          <a:xfrm>
            <a:off x="24562440" y="22075920"/>
            <a:ext cx="40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760920"/>
                <a:tab algn="l" pos="752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ai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 Box 14"/>
          <p:cNvSpPr/>
          <p:nvPr/>
        </p:nvSpPr>
        <p:spPr>
          <a:xfrm>
            <a:off x="24945840" y="18243720"/>
            <a:ext cx="27892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3760920"/>
                <a:tab algn="l" pos="752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0 targ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1" name="AutoShape 15"/>
          <p:cNvCxnSpPr>
            <a:stCxn id="330" idx="2"/>
            <a:endCxn id="321" idx="0"/>
          </p:cNvCxnSpPr>
          <p:nvPr/>
        </p:nvCxnSpPr>
        <p:spPr>
          <a:xfrm rot="5400000">
            <a:off x="24673320" y="17763840"/>
            <a:ext cx="686160" cy="2648520"/>
          </a:xfrm>
          <a:prstGeom prst="bentConnector3">
            <a:avLst>
              <a:gd name="adj1" fmla="val 496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6" name="Text Box 16"/>
          <p:cNvSpPr/>
          <p:nvPr/>
        </p:nvSpPr>
        <p:spPr>
          <a:xfrm>
            <a:off x="21793320" y="20645280"/>
            <a:ext cx="381132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3760920"/>
                <a:tab algn="l" pos="752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rate test rout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 Box 20"/>
          <p:cNvSpPr/>
          <p:nvPr/>
        </p:nvSpPr>
        <p:spPr>
          <a:xfrm>
            <a:off x="23756400" y="22759920"/>
            <a:ext cx="49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760920"/>
                <a:tab algn="l" pos="752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3" name="AutoShape 40"/>
          <p:cNvCxnSpPr>
            <a:stCxn id="320" idx="2"/>
            <a:endCxn id="321" idx="0"/>
          </p:cNvCxnSpPr>
          <p:nvPr/>
        </p:nvCxnSpPr>
        <p:spPr>
          <a:xfrm flipH="1" rot="16200000">
            <a:off x="22069440" y="17808120"/>
            <a:ext cx="698760" cy="2547360"/>
          </a:xfrm>
          <a:prstGeom prst="bentConnector3">
            <a:avLst>
              <a:gd name="adj1" fmla="val 496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34" name="Group 375"/>
          <p:cNvGrpSpPr/>
          <p:nvPr/>
        </p:nvGrpSpPr>
        <p:grpSpPr>
          <a:xfrm>
            <a:off x="4572000" y="25069680"/>
            <a:ext cx="14401800" cy="7467840"/>
            <a:chOff x="4572000" y="25069680"/>
            <a:chExt cx="14401800" cy="7467840"/>
          </a:xfrm>
        </p:grpSpPr>
        <p:sp>
          <p:nvSpPr>
            <p:cNvPr id="335" name="Text Box 20"/>
            <p:cNvSpPr/>
            <p:nvPr/>
          </p:nvSpPr>
          <p:spPr>
            <a:xfrm>
              <a:off x="4572000" y="25069680"/>
              <a:ext cx="14401800" cy="7467840"/>
            </a:xfrm>
            <a:prstGeom prst="rect">
              <a:avLst/>
            </a:prstGeom>
            <a:solidFill>
              <a:srgbClr val="ffc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3760920"/>
                  <a:tab algn="l" pos="752148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alibri"/>
                </a:rPr>
                <a:t>STANDARD CELLS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Text Box 5"/>
            <p:cNvSpPr/>
            <p:nvPr/>
          </p:nvSpPr>
          <p:spPr>
            <a:xfrm>
              <a:off x="4876560" y="26060040"/>
              <a:ext cx="8001000" cy="330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3760920"/>
                  <a:tab algn="l" pos="752148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alibri"/>
                </a:rPr>
                <a:t>D0_module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 ≈ YieldLoss / Are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3760920"/>
                  <a:tab algn="l" pos="752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= ( 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*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  + 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 * 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 + …+ 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alibri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* 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alibri"/>
                </a:rPr>
                <a:t>N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) / 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3760920"/>
                  <a:tab algn="l" pos="752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Where [ D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is defect density of cell i ] and  [ A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is area of all cell i ]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3760920"/>
                  <a:tab algn="l" pos="752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= eff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  + eff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 + …+ eff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alibri"/>
                </a:rPr>
                <a:t>N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3760920"/>
                  <a:tab algn="l" pos="752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effDi = 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* 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/A = 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* cntCel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alibri"/>
                </a:rPr>
                <a:t>i *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AreaCel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 /Area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3760920"/>
                  <a:tab algn="l" pos="752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= D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* %Ut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 * Area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 /(( %U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 * Are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+..+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%Ut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 * Area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 )*density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3760920"/>
                  <a:tab algn="l" pos="752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where %Uti  is the percentage utilization rate of cell i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Text Box 3"/>
            <p:cNvSpPr/>
            <p:nvPr/>
          </p:nvSpPr>
          <p:spPr>
            <a:xfrm>
              <a:off x="10439280" y="25450560"/>
              <a:ext cx="278280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3760920"/>
                  <a:tab algn="l" pos="752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ells Layouting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Text Box 8"/>
            <p:cNvSpPr/>
            <p:nvPr/>
          </p:nvSpPr>
          <p:spPr>
            <a:xfrm>
              <a:off x="10972800" y="26212680"/>
              <a:ext cx="17524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3760920"/>
                  <a:tab algn="l" pos="752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D0_modu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AutoShape 9"/>
            <p:cNvSpPr/>
            <p:nvPr/>
          </p:nvSpPr>
          <p:spPr>
            <a:xfrm>
              <a:off x="13182480" y="25984080"/>
              <a:ext cx="1800000" cy="114624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3760920"/>
                  <a:tab algn="l" pos="752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D0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targe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Text Box 10"/>
            <p:cNvSpPr/>
            <p:nvPr/>
          </p:nvSpPr>
          <p:spPr>
            <a:xfrm>
              <a:off x="13487400" y="27432000"/>
              <a:ext cx="118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3760920"/>
                  <a:tab algn="l" pos="752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Don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341" name="AutoShape 11"/>
            <p:cNvCxnSpPr>
              <a:stCxn id="337" idx="2"/>
              <a:endCxn id="338" idx="0"/>
            </p:cNvCxnSpPr>
            <p:nvPr/>
          </p:nvCxnSpPr>
          <p:spPr>
            <a:xfrm flipH="1" rot="16200000">
              <a:off x="11709360" y="26073000"/>
              <a:ext cx="261000" cy="18720"/>
            </a:xfrm>
            <a:prstGeom prst="bentConnector3">
              <a:avLst>
                <a:gd name="adj1" fmla="val 490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2" name="AutoShape 12"/>
            <p:cNvCxnSpPr>
              <a:stCxn id="338" idx="3"/>
              <a:endCxn id="339" idx="1"/>
            </p:cNvCxnSpPr>
            <p:nvPr/>
          </p:nvCxnSpPr>
          <p:spPr>
            <a:xfrm>
              <a:off x="12725280" y="26463960"/>
              <a:ext cx="457560" cy="93600"/>
            </a:xfrm>
            <a:prstGeom prst="bentConnector3">
              <a:avLst>
                <a:gd name="adj1" fmla="val 4960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3" name="AutoShape 13"/>
            <p:cNvCxnSpPr>
              <a:stCxn id="339" idx="2"/>
              <a:endCxn id="340" idx="0"/>
            </p:cNvCxnSpPr>
            <p:nvPr/>
          </p:nvCxnSpPr>
          <p:spPr>
            <a:xfrm rot="5400000">
              <a:off x="13929120" y="27279000"/>
              <a:ext cx="302040" cy="5040"/>
            </a:xfrm>
            <a:prstGeom prst="bentConnector3">
              <a:avLst>
                <a:gd name="adj1" fmla="val 5095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4" name="Text Box 17"/>
            <p:cNvSpPr/>
            <p:nvPr/>
          </p:nvSpPr>
          <p:spPr>
            <a:xfrm>
              <a:off x="15773400" y="27127080"/>
              <a:ext cx="2743200" cy="807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3760920"/>
                  <a:tab algn="l" pos="752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Rework worst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effective D0 cell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Text Box 18"/>
            <p:cNvSpPr/>
            <p:nvPr/>
          </p:nvSpPr>
          <p:spPr>
            <a:xfrm>
              <a:off x="15773400" y="26055360"/>
              <a:ext cx="2743200" cy="99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3760920"/>
                  <a:tab algn="l" pos="752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reate DFM cells</a:t>
              </a:r>
              <a:br>
                <a:rPr sz="2400"/>
              </a:b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(biased Yield/Performance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rade off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346" name="AutoShape 19"/>
            <p:cNvCxnSpPr>
              <a:stCxn id="339" idx="3"/>
              <a:endCxn id="344" idx="1"/>
            </p:cNvCxnSpPr>
            <p:nvPr/>
          </p:nvCxnSpPr>
          <p:spPr>
            <a:xfrm>
              <a:off x="14982480" y="26557200"/>
              <a:ext cx="791280" cy="974160"/>
            </a:xfrm>
            <a:prstGeom prst="bentConnector3">
              <a:avLst>
                <a:gd name="adj1" fmla="val 5029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7" name="AutoShape 20"/>
            <p:cNvCxnSpPr>
              <a:stCxn id="339" idx="3"/>
              <a:endCxn id="345" idx="1"/>
            </p:cNvCxnSpPr>
            <p:nvPr/>
          </p:nvCxnSpPr>
          <p:spPr>
            <a:xfrm flipV="1">
              <a:off x="14982480" y="26552880"/>
              <a:ext cx="791280" cy="4680"/>
            </a:xfrm>
            <a:prstGeom prst="bentConnector3">
              <a:avLst>
                <a:gd name="adj1" fmla="val 5029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8" name="Text Box 23"/>
            <p:cNvSpPr/>
            <p:nvPr/>
          </p:nvSpPr>
          <p:spPr>
            <a:xfrm>
              <a:off x="14140800" y="27203400"/>
              <a:ext cx="49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3760920"/>
                  <a:tab algn="l" pos="752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as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Text Box 24"/>
            <p:cNvSpPr/>
            <p:nvPr/>
          </p:nvSpPr>
          <p:spPr>
            <a:xfrm>
              <a:off x="14894640" y="26669880"/>
              <a:ext cx="40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3760920"/>
                  <a:tab algn="l" pos="752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fai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350" name="Straight Arrow Connector 177"/>
            <p:cNvCxnSpPr>
              <a:endCxn id="338" idx="1"/>
            </p:cNvCxnSpPr>
            <p:nvPr/>
          </p:nvCxnSpPr>
          <p:spPr>
            <a:xfrm flipV="1">
              <a:off x="10210680" y="26463960"/>
              <a:ext cx="762480" cy="53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51" name="Elbow Connector 215"/>
            <p:cNvCxnSpPr>
              <a:stCxn id="344" idx="3"/>
              <a:endCxn id="339" idx="0"/>
            </p:cNvCxnSpPr>
            <p:nvPr/>
          </p:nvCxnSpPr>
          <p:spPr>
            <a:xfrm flipH="1" flipV="1">
              <a:off x="14082480" y="25984080"/>
              <a:ext cx="4434480" cy="1547280"/>
            </a:xfrm>
            <a:prstGeom prst="bentConnector4">
              <a:avLst>
                <a:gd name="adj1" fmla="val -5228"/>
                <a:gd name="adj2" fmla="val 115033"/>
              </a:avLst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pic>
          <p:nvPicPr>
            <p:cNvPr id="352" name="Line Callout 1 (Accent Bar) 308" descr=""/>
            <p:cNvPicPr/>
            <p:nvPr/>
          </p:nvPicPr>
          <p:blipFill>
            <a:blip r:embed="rId20"/>
            <a:stretch/>
          </p:blipFill>
          <p:spPr>
            <a:xfrm>
              <a:off x="6217920" y="28687680"/>
              <a:ext cx="2279880" cy="99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Line Callout 1 (Accent Bar) 309" descr=""/>
            <p:cNvPicPr/>
            <p:nvPr/>
          </p:nvPicPr>
          <p:blipFill>
            <a:blip r:embed="rId21"/>
            <a:stretch/>
          </p:blipFill>
          <p:spPr>
            <a:xfrm>
              <a:off x="5004720" y="28596240"/>
              <a:ext cx="1621440" cy="1091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4" name="Group 325"/>
            <p:cNvGrpSpPr/>
            <p:nvPr/>
          </p:nvGrpSpPr>
          <p:grpSpPr>
            <a:xfrm>
              <a:off x="4723920" y="29793960"/>
              <a:ext cx="4017240" cy="2667240"/>
              <a:chOff x="4723920" y="29793960"/>
              <a:chExt cx="4017240" cy="2667240"/>
            </a:xfrm>
          </p:grpSpPr>
          <p:pic>
            <p:nvPicPr>
              <p:cNvPr id="355" name="Picture 2" descr=""/>
              <p:cNvPicPr/>
              <p:nvPr/>
            </p:nvPicPr>
            <p:blipFill>
              <a:blip r:embed="rId22"/>
              <a:srcRect l="18032" t="11499" r="0" b="0"/>
              <a:stretch/>
            </p:blipFill>
            <p:spPr>
              <a:xfrm flipH="1" rot="5400000">
                <a:off x="5437080" y="29080800"/>
                <a:ext cx="2590920" cy="401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TextBox 224"/>
              <p:cNvSpPr/>
              <p:nvPr/>
            </p:nvSpPr>
            <p:spPr>
              <a:xfrm flipH="1">
                <a:off x="6658200" y="31878720"/>
                <a:ext cx="941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3760920"/>
                    <a:tab algn="l" pos="752148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Cell Id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TextBox 225"/>
              <p:cNvSpPr/>
              <p:nvPr/>
            </p:nvSpPr>
            <p:spPr>
              <a:xfrm flipH="1">
                <a:off x="7471440" y="29897280"/>
                <a:ext cx="76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3760920"/>
                    <a:tab algn="l" pos="752148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effDi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358" name="Straight Arrow Connector 227"/>
              <p:cNvCxnSpPr>
                <a:stCxn id="357" idx="2"/>
              </p:cNvCxnSpPr>
              <p:nvPr/>
            </p:nvCxnSpPr>
            <p:spPr>
              <a:xfrm>
                <a:off x="7855920" y="30357000"/>
                <a:ext cx="737280" cy="98856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miter/>
                <a:tailEnd len="med" type="arrow" w="med"/>
              </a:ln>
            </p:spPr>
          </p:cxnSp>
          <p:sp>
            <p:nvSpPr>
              <p:cNvPr id="359" name="Rectangle 229"/>
              <p:cNvSpPr/>
              <p:nvPr/>
            </p:nvSpPr>
            <p:spPr>
              <a:xfrm flipH="1">
                <a:off x="8457840" y="29946600"/>
                <a:ext cx="271800" cy="251460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3760920"/>
                    <a:tab algn="l" pos="7521480"/>
                  </a:tabLst>
                </a:pPr>
                <a:endParaRPr b="0" lang="en-US" sz="7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" name="TextBox 310"/>
              <p:cNvSpPr/>
              <p:nvPr/>
            </p:nvSpPr>
            <p:spPr>
              <a:xfrm flipH="1">
                <a:off x="5322240" y="30735720"/>
                <a:ext cx="23781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3760920"/>
                    <a:tab algn="l" pos="752148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effDi pareto chart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by Cell Id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361" name="Straight Arrow Connector 327"/>
            <p:cNvCxnSpPr>
              <a:stCxn id="359" idx="1"/>
              <a:endCxn id="362" idx="1"/>
            </p:cNvCxnSpPr>
            <p:nvPr/>
          </p:nvCxnSpPr>
          <p:spPr>
            <a:xfrm flipV="1">
              <a:off x="8458200" y="30391920"/>
              <a:ext cx="746640" cy="81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363" name="Straight Arrow Connector 329"/>
            <p:cNvCxnSpPr>
              <a:stCxn id="362" idx="0"/>
            </p:cNvCxnSpPr>
            <p:nvPr/>
          </p:nvCxnSpPr>
          <p:spPr>
            <a:xfrm flipV="1">
              <a:off x="14093640" y="27659880"/>
              <a:ext cx="1603080" cy="15649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364" name="Straight Arrow Connector 352"/>
            <p:cNvCxnSpPr>
              <a:stCxn id="362" idx="0"/>
            </p:cNvCxnSpPr>
            <p:nvPr/>
          </p:nvCxnSpPr>
          <p:spPr>
            <a:xfrm flipV="1">
              <a:off x="14093640" y="26745480"/>
              <a:ext cx="1680120" cy="24793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365" name="Rectangle 56"/>
          <p:cNvGrpSpPr/>
          <p:nvPr/>
        </p:nvGrpSpPr>
        <p:grpSpPr>
          <a:xfrm>
            <a:off x="353880" y="13381200"/>
            <a:ext cx="9625320" cy="2449440"/>
            <a:chOff x="353880" y="13381200"/>
            <a:chExt cx="9625320" cy="2449440"/>
          </a:xfrm>
        </p:grpSpPr>
        <p:pic>
          <p:nvPicPr>
            <p:cNvPr id="366" name="Rectangle 56" descr=""/>
            <p:cNvPicPr/>
            <p:nvPr/>
          </p:nvPicPr>
          <p:blipFill>
            <a:blip r:embed="rId23"/>
            <a:stretch/>
          </p:blipFill>
          <p:spPr>
            <a:xfrm>
              <a:off x="353880" y="13381200"/>
              <a:ext cx="9625320" cy="24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685800" y="13544640"/>
              <a:ext cx="9236160" cy="22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3760920"/>
                  <a:tab algn="l" pos="752148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alibri"/>
                </a:rPr>
                <a:t>Particles random defectivity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8" name="Group 57"/>
          <p:cNvGrpSpPr/>
          <p:nvPr/>
        </p:nvGrpSpPr>
        <p:grpSpPr>
          <a:xfrm>
            <a:off x="762120" y="14277960"/>
            <a:ext cx="3504600" cy="1342440"/>
            <a:chOff x="762120" y="14277960"/>
            <a:chExt cx="3504600" cy="1342440"/>
          </a:xfrm>
        </p:grpSpPr>
        <p:sp>
          <p:nvSpPr>
            <p:cNvPr id="369" name="Rectangle 58"/>
            <p:cNvSpPr/>
            <p:nvPr/>
          </p:nvSpPr>
          <p:spPr>
            <a:xfrm>
              <a:off x="762120" y="14277960"/>
              <a:ext cx="3504600" cy="4424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3760920"/>
                  <a:tab algn="l" pos="7521480"/>
                </a:tabLst>
              </a:pPr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Rectangle 59"/>
            <p:cNvSpPr/>
            <p:nvPr/>
          </p:nvSpPr>
          <p:spPr>
            <a:xfrm>
              <a:off x="762120" y="15236640"/>
              <a:ext cx="3122640" cy="3837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3760920"/>
                  <a:tab algn="l" pos="7521480"/>
                </a:tabLst>
              </a:pPr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60"/>
            <p:cNvSpPr/>
            <p:nvPr/>
          </p:nvSpPr>
          <p:spPr>
            <a:xfrm>
              <a:off x="1962000" y="14548320"/>
              <a:ext cx="759240" cy="948960"/>
            </a:xfrm>
            <a:custGeom>
              <a:avLst/>
              <a:gdLst>
                <a:gd name="textAreaLeft" fmla="*/ 0 w 759240"/>
                <a:gd name="textAreaRight" fmla="*/ 759600 w 759240"/>
                <a:gd name="textAreaTop" fmla="*/ 0 h 948960"/>
                <a:gd name="textAreaBottom" fmla="*/ 949320 h 948960"/>
              </a:gdLst>
              <a:ahLst/>
              <a:rect l="textAreaLeft" t="textAreaTop" r="textAreaRight" b="textAreaBottom"/>
              <a:pathLst>
                <a:path w="312" h="309">
                  <a:moveTo>
                    <a:pt x="75" y="256"/>
                  </a:moveTo>
                  <a:cubicBezTo>
                    <a:pt x="62" y="253"/>
                    <a:pt x="47" y="255"/>
                    <a:pt x="35" y="248"/>
                  </a:cubicBezTo>
                  <a:cubicBezTo>
                    <a:pt x="12" y="235"/>
                    <a:pt x="7" y="180"/>
                    <a:pt x="3" y="160"/>
                  </a:cubicBezTo>
                  <a:cubicBezTo>
                    <a:pt x="6" y="139"/>
                    <a:pt x="0" y="115"/>
                    <a:pt x="11" y="96"/>
                  </a:cubicBezTo>
                  <a:cubicBezTo>
                    <a:pt x="21" y="79"/>
                    <a:pt x="43" y="75"/>
                    <a:pt x="59" y="64"/>
                  </a:cubicBezTo>
                  <a:cubicBezTo>
                    <a:pt x="86" y="46"/>
                    <a:pt x="104" y="18"/>
                    <a:pt x="131" y="0"/>
                  </a:cubicBezTo>
                  <a:cubicBezTo>
                    <a:pt x="153" y="15"/>
                    <a:pt x="160" y="15"/>
                    <a:pt x="171" y="40"/>
                  </a:cubicBezTo>
                  <a:cubicBezTo>
                    <a:pt x="182" y="64"/>
                    <a:pt x="178" y="97"/>
                    <a:pt x="211" y="104"/>
                  </a:cubicBezTo>
                  <a:cubicBezTo>
                    <a:pt x="242" y="110"/>
                    <a:pt x="275" y="109"/>
                    <a:pt x="307" y="112"/>
                  </a:cubicBezTo>
                  <a:cubicBezTo>
                    <a:pt x="302" y="166"/>
                    <a:pt x="312" y="210"/>
                    <a:pt x="267" y="240"/>
                  </a:cubicBezTo>
                  <a:cubicBezTo>
                    <a:pt x="250" y="309"/>
                    <a:pt x="272" y="261"/>
                    <a:pt x="155" y="280"/>
                  </a:cubicBezTo>
                  <a:cubicBezTo>
                    <a:pt x="138" y="283"/>
                    <a:pt x="107" y="296"/>
                    <a:pt x="107" y="296"/>
                  </a:cubicBezTo>
                  <a:cubicBezTo>
                    <a:pt x="102" y="288"/>
                    <a:pt x="98" y="279"/>
                    <a:pt x="91" y="272"/>
                  </a:cubicBezTo>
                  <a:cubicBezTo>
                    <a:pt x="74" y="255"/>
                    <a:pt x="55" y="256"/>
                    <a:pt x="75" y="256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2" name="Rectangle 21"/>
          <p:cNvSpPr/>
          <p:nvPr/>
        </p:nvSpPr>
        <p:spPr>
          <a:xfrm>
            <a:off x="4038480" y="14984280"/>
            <a:ext cx="434340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60920"/>
                <a:tab algn="l" pos="752148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some Yield Los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http://t0.gstatic.com/images?q=tbn:CL90D8oqEmal_M:http://www.dac.com/47th/images/47DAClogo.jpg"/>
          <p:cNvPicPr/>
          <p:nvPr/>
        </p:nvPicPr>
        <p:blipFill>
          <a:blip r:embed="rId24"/>
          <a:stretch/>
        </p:blipFill>
        <p:spPr>
          <a:xfrm>
            <a:off x="31042080" y="32080320"/>
            <a:ext cx="1876320" cy="838080"/>
          </a:xfrm>
          <a:prstGeom prst="rect">
            <a:avLst/>
          </a:prstGeom>
          <a:ln w="0">
            <a:noFill/>
          </a:ln>
        </p:spPr>
      </p:pic>
      <p:sp>
        <p:nvSpPr>
          <p:cNvPr id="374" name="Freeform 425"/>
          <p:cNvSpPr/>
          <p:nvPr/>
        </p:nvSpPr>
        <p:spPr>
          <a:xfrm>
            <a:off x="2390760" y="15621120"/>
            <a:ext cx="26107920" cy="1523880"/>
          </a:xfrm>
          <a:custGeom>
            <a:avLst/>
            <a:gdLst/>
            <a:ahLst/>
            <a:rect l="l" t="t" r="r" b="b"/>
            <a:pathLst>
              <a:path w="26107709" h="1524001">
                <a:moveTo>
                  <a:pt x="26031509" y="1524001"/>
                </a:moveTo>
                <a:lnTo>
                  <a:pt x="199709" y="1524001"/>
                </a:lnTo>
                <a:lnTo>
                  <a:pt x="0" y="1524000"/>
                </a:lnTo>
                <a:cubicBezTo>
                  <a:pt x="143191" y="1515753"/>
                  <a:pt x="724041" y="1488703"/>
                  <a:pt x="1058854" y="1474519"/>
                </a:cubicBezTo>
                <a:cubicBezTo>
                  <a:pt x="1393667" y="1460335"/>
                  <a:pt x="1615015" y="1464623"/>
                  <a:pt x="2008880" y="1438893"/>
                </a:cubicBezTo>
                <a:cubicBezTo>
                  <a:pt x="2402745" y="1413163"/>
                  <a:pt x="3422044" y="1320140"/>
                  <a:pt x="3422044" y="1320140"/>
                </a:cubicBezTo>
                <a:cubicBezTo>
                  <a:pt x="3869348" y="1280556"/>
                  <a:pt x="4364153" y="1252847"/>
                  <a:pt x="4692704" y="1201387"/>
                </a:cubicBezTo>
                <a:cubicBezTo>
                  <a:pt x="5021255" y="1149927"/>
                  <a:pt x="5201364" y="1076696"/>
                  <a:pt x="5393348" y="1011382"/>
                </a:cubicBezTo>
                <a:cubicBezTo>
                  <a:pt x="5585332" y="946068"/>
                  <a:pt x="5706065" y="892628"/>
                  <a:pt x="5844610" y="809501"/>
                </a:cubicBezTo>
                <a:cubicBezTo>
                  <a:pt x="5983155" y="726374"/>
                  <a:pt x="6101909" y="615537"/>
                  <a:pt x="6224621" y="512618"/>
                </a:cubicBezTo>
                <a:cubicBezTo>
                  <a:pt x="6347333" y="409699"/>
                  <a:pt x="6495774" y="273132"/>
                  <a:pt x="6580880" y="191984"/>
                </a:cubicBezTo>
                <a:cubicBezTo>
                  <a:pt x="6665986" y="110836"/>
                  <a:pt x="6703592" y="51460"/>
                  <a:pt x="6735260" y="25730"/>
                </a:cubicBezTo>
                <a:cubicBezTo>
                  <a:pt x="6766928" y="0"/>
                  <a:pt x="6664008" y="35626"/>
                  <a:pt x="6770886" y="37605"/>
                </a:cubicBezTo>
                <a:cubicBezTo>
                  <a:pt x="6877764" y="39584"/>
                  <a:pt x="7144958" y="41563"/>
                  <a:pt x="7376527" y="37605"/>
                </a:cubicBezTo>
                <a:cubicBezTo>
                  <a:pt x="7608096" y="33647"/>
                  <a:pt x="8013837" y="15833"/>
                  <a:pt x="8160299" y="13854"/>
                </a:cubicBezTo>
                <a:cubicBezTo>
                  <a:pt x="8306761" y="11875"/>
                  <a:pt x="8219675" y="9896"/>
                  <a:pt x="8255301" y="25730"/>
                </a:cubicBezTo>
                <a:cubicBezTo>
                  <a:pt x="8290927" y="41564"/>
                  <a:pt x="8344366" y="79169"/>
                  <a:pt x="8374054" y="108857"/>
                </a:cubicBezTo>
                <a:cubicBezTo>
                  <a:pt x="8403742" y="138545"/>
                  <a:pt x="8381971" y="152399"/>
                  <a:pt x="8433431" y="203859"/>
                </a:cubicBezTo>
                <a:cubicBezTo>
                  <a:pt x="8484891" y="255319"/>
                  <a:pt x="8583852" y="356259"/>
                  <a:pt x="8682813" y="417615"/>
                </a:cubicBezTo>
                <a:cubicBezTo>
                  <a:pt x="8781774" y="478971"/>
                  <a:pt x="8896568" y="522514"/>
                  <a:pt x="9027197" y="571995"/>
                </a:cubicBezTo>
                <a:cubicBezTo>
                  <a:pt x="9157826" y="621476"/>
                  <a:pt x="9244911" y="655122"/>
                  <a:pt x="9466584" y="714498"/>
                </a:cubicBezTo>
                <a:cubicBezTo>
                  <a:pt x="9688257" y="773874"/>
                  <a:pt x="10056392" y="872836"/>
                  <a:pt x="10357234" y="928254"/>
                </a:cubicBezTo>
                <a:cubicBezTo>
                  <a:pt x="10658076" y="983672"/>
                  <a:pt x="11271634" y="1047008"/>
                  <a:pt x="11271634" y="1047008"/>
                </a:cubicBezTo>
                <a:lnTo>
                  <a:pt x="11841649" y="1118259"/>
                </a:lnTo>
                <a:lnTo>
                  <a:pt x="14102909" y="1243940"/>
                </a:lnTo>
                <a:lnTo>
                  <a:pt x="20011873" y="1450769"/>
                </a:lnTo>
                <a:lnTo>
                  <a:pt x="26107709" y="1524001"/>
                </a:lnTo>
              </a:path>
            </a:pathLst>
          </a:custGeom>
          <a:gradFill rotWithShape="0">
            <a:gsLst>
              <a:gs pos="0">
                <a:srgbClr val="31859c"/>
              </a:gs>
              <a:gs pos="100000">
                <a:srgbClr val="95b3d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7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Picture 8" descr="D:\Profiles\r37064\Local Settings\Temporary Internet Files\Content.IE5\K27ZH9DY\MC900442125[1].png"/>
          <p:cNvPicPr/>
          <p:nvPr/>
        </p:nvPicPr>
        <p:blipFill>
          <a:blip r:embed="rId25"/>
          <a:stretch/>
        </p:blipFill>
        <p:spPr>
          <a:xfrm>
            <a:off x="8991720" y="14782680"/>
            <a:ext cx="1877760" cy="1752840"/>
          </a:xfrm>
          <a:prstGeom prst="rect">
            <a:avLst/>
          </a:prstGeom>
          <a:ln w="0">
            <a:noFill/>
          </a:ln>
        </p:spPr>
      </p:pic>
      <p:pic>
        <p:nvPicPr>
          <p:cNvPr id="376" name="Line Callout 1 (Accent Bar) 349" descr=""/>
          <p:cNvPicPr/>
          <p:nvPr/>
        </p:nvPicPr>
        <p:blipFill>
          <a:blip r:embed="rId26"/>
          <a:stretch/>
        </p:blipFill>
        <p:spPr>
          <a:xfrm>
            <a:off x="10266480" y="21659760"/>
            <a:ext cx="1620720" cy="10908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83"/>
          <p:cNvSpPr/>
          <p:nvPr/>
        </p:nvSpPr>
        <p:spPr>
          <a:xfrm>
            <a:off x="25146000" y="30022920"/>
            <a:ext cx="424332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3760920"/>
                <a:tab algn="l" pos="752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itical Area An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78" name="AutoShape 82"/>
          <p:cNvCxnSpPr>
            <a:stCxn id="377" idx="2"/>
            <a:endCxn id="270" idx="0"/>
          </p:cNvCxnSpPr>
          <p:nvPr/>
        </p:nvCxnSpPr>
        <p:spPr>
          <a:xfrm rot="5400000">
            <a:off x="27079560" y="30600360"/>
            <a:ext cx="336960" cy="38880"/>
          </a:xfrm>
          <a:prstGeom prst="bentConnector3">
            <a:avLst>
              <a:gd name="adj1" fmla="val 4994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9" name="Text Box 16"/>
          <p:cNvSpPr/>
          <p:nvPr/>
        </p:nvSpPr>
        <p:spPr>
          <a:xfrm>
            <a:off x="21793320" y="21367800"/>
            <a:ext cx="381132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3760920"/>
                <a:tab algn="l" pos="752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itical Area An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80" name="Straight Arrow Connector 373"/>
          <p:cNvCxnSpPr>
            <a:stCxn id="379" idx="2"/>
            <a:endCxn id="322" idx="0"/>
          </p:cNvCxnSpPr>
          <p:nvPr/>
        </p:nvCxnSpPr>
        <p:spPr>
          <a:xfrm flipH="1">
            <a:off x="23684040" y="21796200"/>
            <a:ext cx="15120" cy="24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1" name="Straight Arrow Connector 374"/>
          <p:cNvCxnSpPr>
            <a:stCxn id="326" idx="2"/>
            <a:endCxn id="379" idx="0"/>
          </p:cNvCxnSpPr>
          <p:nvPr/>
        </p:nvCxnSpPr>
        <p:spPr>
          <a:xfrm>
            <a:off x="23698800" y="21074040"/>
            <a:ext cx="3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382" name="Rounded Rectangle 317"/>
          <p:cNvGrpSpPr/>
          <p:nvPr/>
        </p:nvGrpSpPr>
        <p:grpSpPr>
          <a:xfrm>
            <a:off x="9204480" y="29224440"/>
            <a:ext cx="9778680" cy="2334960"/>
            <a:chOff x="9204480" y="29224440"/>
            <a:chExt cx="9778680" cy="2334960"/>
          </a:xfrm>
        </p:grpSpPr>
        <p:pic>
          <p:nvPicPr>
            <p:cNvPr id="383" name="Rounded Rectangle 317" descr=""/>
            <p:cNvPicPr/>
            <p:nvPr/>
          </p:nvPicPr>
          <p:blipFill>
            <a:blip r:embed="rId27"/>
            <a:stretch/>
          </p:blipFill>
          <p:spPr>
            <a:xfrm>
              <a:off x="9204480" y="29224440"/>
              <a:ext cx="9778680" cy="23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9480600" y="29368800"/>
              <a:ext cx="9308880" cy="19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3760920"/>
                  <a:tab algn="l" pos="752148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libri"/>
                </a:rPr>
                <a:t>Focused &amp; effective cells DFM optimization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3760920"/>
                  <a:tab algn="l" pos="752148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20+ cells make 50% the modules yield loss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3760920"/>
                  <a:tab algn="l" pos="752148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50+                     75%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4:46:03Z</dcterms:created>
  <dc:creator>r37064</dc:creator>
  <dc:description/>
  <dc:language>en-US</dc:language>
  <cp:lastModifiedBy>r37064</cp:lastModifiedBy>
  <dcterms:modified xsi:type="dcterms:W3CDTF">2010-05-03T14:15:36Z</dcterms:modified>
  <cp:revision>39</cp:revision>
  <dc:subject/>
  <dc:title>Slide 1</dc:title>
</cp:coreProperties>
</file>