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404800" cy="38404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44E-1E2F-4BB9-9CBA-8260513F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9160" y="8959320"/>
            <a:ext cx="3456648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19160" y="22199400"/>
            <a:ext cx="3456648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FD5-EEAA-4415-9FE3-36561924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9160" y="895932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631160" y="895932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9160" y="2219940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631160" y="2219940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041-5E1F-4AF7-A227-FA2E0B26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19160" y="8959320"/>
            <a:ext cx="1113012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06200" y="8959320"/>
            <a:ext cx="1113012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93240" y="8959320"/>
            <a:ext cx="1113012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19160" y="22199400"/>
            <a:ext cx="1113012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606200" y="22199400"/>
            <a:ext cx="1113012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93240" y="22199400"/>
            <a:ext cx="1113012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0D9-4B47-4073-B41E-45254584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19160" y="8959320"/>
            <a:ext cx="34566480" cy="253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99"/>
              </a:spcBef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C55-CD66-4F16-89CB-CAFE0AA6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19160" y="8959320"/>
            <a:ext cx="34566480" cy="25347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A57-26A0-4436-90C6-6C60C3B9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19160" y="8959320"/>
            <a:ext cx="16868160" cy="25347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631160" y="8959320"/>
            <a:ext cx="16868160" cy="25347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EDB-0E7C-4843-A010-E45BF74B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73C-1D15-4203-80F2-25C38971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19160" y="1536840"/>
            <a:ext cx="34566480" cy="296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99"/>
              </a:spcBef>
              <a:tabLst>
                <a:tab algn="l" pos="0"/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466-4265-452A-93B6-99BD609F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9160" y="895932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631160" y="8959320"/>
            <a:ext cx="16868160" cy="25347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19160" y="2219940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148-C71F-4D4C-A8A0-432F0684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9160" y="8959320"/>
            <a:ext cx="16868160" cy="25347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631160" y="895932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31160" y="2219940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225-9872-49B4-BFDB-84B5CE51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9160" y="895932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631160" y="8959320"/>
            <a:ext cx="1686816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19160" y="22199400"/>
            <a:ext cx="34566480" cy="1209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4099"/>
              </a:spcBef>
              <a:buNone/>
              <a:tabLst>
                <a:tab algn="l" pos="4703760"/>
                <a:tab algn="l" pos="9407520"/>
              </a:tabLst>
            </a:pP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83C-EA11-4986-84F0-09815E0E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9160" y="1536840"/>
            <a:ext cx="34566480" cy="640080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r>
              <a:rPr b="0" lang="en-US" sz="2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19160" y="8959320"/>
            <a:ext cx="34566480" cy="25347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marL="1766880" indent="-1766880">
              <a:spcBef>
                <a:spcPts val="4099"/>
              </a:spcBef>
              <a:buClr>
                <a:srgbClr val="000000"/>
              </a:buClr>
              <a:buFont typeface="Arial"/>
              <a:buChar char="•"/>
              <a:tabLst>
                <a:tab algn="l" pos="4703760"/>
                <a:tab algn="l" pos="9407520"/>
              </a:tabLst>
            </a:pPr>
            <a:r>
              <a:rPr b="0" lang="en-US" sz="1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  <a:p>
            <a:pPr lvl="1" marL="3822840" indent="-1471680">
              <a:spcBef>
                <a:spcPts val="4099"/>
              </a:spcBef>
              <a:buClr>
                <a:srgbClr val="000000"/>
              </a:buClr>
              <a:buFont typeface="Arial"/>
              <a:buChar char="–"/>
              <a:tabLst>
                <a:tab algn="l" pos="4703760"/>
                <a:tab algn="l" pos="9407520"/>
              </a:tabLst>
            </a:pPr>
            <a:r>
              <a:rPr b="0" lang="en-US" sz="1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  <a:p>
            <a:pPr lvl="2" marL="5880240" indent="-1176480">
              <a:spcBef>
                <a:spcPts val="4099"/>
              </a:spcBef>
              <a:buClr>
                <a:srgbClr val="000000"/>
              </a:buClr>
              <a:buFont typeface="Arial"/>
              <a:buChar char="•"/>
              <a:tabLst>
                <a:tab algn="l" pos="4703760"/>
                <a:tab algn="l" pos="9407520"/>
              </a:tabLst>
            </a:pPr>
            <a:r>
              <a:rPr b="0" lang="en-US" sz="1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  <a:p>
            <a:pPr lvl="3" marL="8229600" indent="-1174680">
              <a:spcBef>
                <a:spcPts val="4099"/>
              </a:spcBef>
              <a:buClr>
                <a:srgbClr val="000000"/>
              </a:buClr>
              <a:buFont typeface="Arial"/>
              <a:buChar char="–"/>
              <a:tabLst>
                <a:tab algn="l" pos="4703760"/>
                <a:tab algn="l" pos="9407520"/>
              </a:tabLst>
            </a:pPr>
            <a:r>
              <a:rPr b="0" lang="en-US" sz="1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  <a:p>
            <a:pPr lvl="4" marL="10580760" indent="-1176480">
              <a:spcBef>
                <a:spcPts val="4099"/>
              </a:spcBef>
              <a:buClr>
                <a:srgbClr val="000000"/>
              </a:buClr>
              <a:buFont typeface="Arial"/>
              <a:buChar char="»"/>
              <a:tabLst>
                <a:tab algn="l" pos="4703760"/>
                <a:tab algn="l" pos="9407520"/>
              </a:tabLst>
            </a:pPr>
            <a:r>
              <a:rPr b="0" lang="en-US" sz="1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  <a:p>
            <a:pPr lvl="5" marL="10580760" indent="-1176480">
              <a:spcBef>
                <a:spcPts val="4099"/>
              </a:spcBef>
              <a:buClr>
                <a:srgbClr val="000000"/>
              </a:buClr>
              <a:buFont typeface="Arial"/>
              <a:buChar char="»"/>
              <a:tabLst>
                <a:tab algn="l" pos="4703760"/>
                <a:tab algn="l" pos="9407520"/>
              </a:tabLst>
            </a:pPr>
            <a:r>
              <a:rPr b="0" lang="en-US" sz="1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  <a:p>
            <a:pPr lvl="6" marL="10580760" indent="-1176480">
              <a:spcBef>
                <a:spcPts val="4099"/>
              </a:spcBef>
              <a:buClr>
                <a:srgbClr val="000000"/>
              </a:buClr>
              <a:buFont typeface="Arial"/>
              <a:buChar char="»"/>
              <a:tabLst>
                <a:tab algn="l" pos="4703760"/>
                <a:tab algn="l" pos="9407520"/>
              </a:tabLst>
            </a:pPr>
            <a:r>
              <a:rPr b="0" lang="en-US" sz="1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19160" y="34974360"/>
            <a:ext cx="8963280" cy="26668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lstStyle>
            <a:lvl1pPr indent="0">
              <a:buNone/>
              <a:tabLst>
                <a:tab algn="l" pos="0"/>
                <a:tab algn="l" pos="4703760"/>
                <a:tab algn="l" pos="9407520"/>
              </a:tabLst>
              <a:defRPr b="0" lang="en-US" sz="7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703760"/>
                <a:tab algn="l" pos="94075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120560" y="34974360"/>
            <a:ext cx="12163680" cy="26668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lstStyle>
            <a:lvl1pPr indent="0" algn="ctr">
              <a:buNone/>
              <a:tabLst>
                <a:tab algn="l" pos="0"/>
                <a:tab algn="l" pos="4703760"/>
                <a:tab algn="l" pos="9407520"/>
              </a:tabLst>
              <a:defRPr b="0" lang="en-US" sz="7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703760"/>
                <a:tab algn="l" pos="94075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522360" y="34974360"/>
            <a:ext cx="8963280" cy="26668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lstStyle>
            <a:lvl1pPr indent="0" algn="r">
              <a:buNone/>
              <a:tabLst>
                <a:tab algn="l" pos="0"/>
                <a:tab algn="l" pos="4703760"/>
                <a:tab algn="l" pos="9407520"/>
              </a:tabLst>
              <a:defRPr b="0" lang="en-US" sz="7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703760"/>
                <a:tab algn="l" pos="9407520"/>
              </a:tabLst>
            </a:pPr>
            <a:fld id="{6F2722FA-792F-4598-8391-FEDB3127D0B1}" type="slidenum">
              <a:rPr b="0" lang="en-US" sz="7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52680" y="29260800"/>
            <a:ext cx="13792320" cy="8381520"/>
            <a:chOff x="3352680" y="29260800"/>
            <a:chExt cx="13792320" cy="8381520"/>
          </a:xfrm>
        </p:grpSpPr>
        <p:sp>
          <p:nvSpPr>
            <p:cNvPr id="42" name=""/>
            <p:cNvSpPr/>
            <p:nvPr/>
          </p:nvSpPr>
          <p:spPr>
            <a:xfrm>
              <a:off x="3352680" y="29260800"/>
              <a:ext cx="13792320" cy="8381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ff">
                    <a:alpha val="50196"/>
                  </a:srgbClr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52680" y="29306880"/>
              <a:ext cx="13639680" cy="34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920" rIns="205920" tIns="102960" bIns="102960" anchor="t">
              <a:spAutoFit/>
            </a:bodyPr>
            <a:p>
              <a:pPr algn="ctr">
                <a:spcBef>
                  <a:spcPts val="3501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56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812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1" i="1" lang="en-US" sz="4500" spc="-1" strike="noStrike">
                  <a:solidFill>
                    <a:srgbClr val="000000"/>
                  </a:solidFill>
                  <a:latin typeface="Arial"/>
                </a:rPr>
                <a:t>Total distribution latency is 4 times less sensitive to VDD variation than would be true of a silicon-delay dominated distribution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933480" y="1200240"/>
            <a:ext cx="36404640" cy="420048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920" rIns="205920" tIns="102960" bIns="102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obust Variation-Tolerant Clock Rout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i="1" lang="en-US" sz="4900" spc="-1" strike="noStrike">
                <a:solidFill>
                  <a:srgbClr val="000000"/>
                </a:solidFill>
                <a:latin typeface="Arial"/>
              </a:rPr>
              <a:t>Joseph Kozhaya, Phillip Restle, Haifeng Qian, Jan Feder, Mehmet Yildiz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i="1" lang="en-US" sz="4900" spc="-1" strike="noStrike">
                <a:solidFill>
                  <a:srgbClr val="000000"/>
                </a:solidFill>
                <a:latin typeface="Arial"/>
              </a:rPr>
              <a:t>IBM STG &amp; IBM Resear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375600" y="1219320"/>
            <a:ext cx="3962520" cy="41907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04920" y="6324480"/>
            <a:ext cx="13944600" cy="13106520"/>
            <a:chOff x="304920" y="6324480"/>
            <a:chExt cx="13944600" cy="13106520"/>
          </a:xfrm>
        </p:grpSpPr>
        <p:sp>
          <p:nvSpPr>
            <p:cNvPr id="47" name=""/>
            <p:cNvSpPr/>
            <p:nvPr/>
          </p:nvSpPr>
          <p:spPr>
            <a:xfrm>
              <a:off x="304920" y="6476760"/>
              <a:ext cx="13944600" cy="12954240"/>
            </a:xfrm>
            <a:prstGeom prst="roundRect">
              <a:avLst>
                <a:gd name="adj" fmla="val 16667"/>
              </a:avLst>
            </a:prstGeom>
            <a:solidFill>
              <a:srgbClr val="ffff9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6324480"/>
              <a:ext cx="13792320" cy="128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920" rIns="205920" tIns="102960" bIns="102960" anchor="t">
              <a:spAutoFit/>
            </a:bodyPr>
            <a:p>
              <a:pPr algn="ctr">
                <a:spcBef>
                  <a:spcPts val="3501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5600" spc="-1" strike="noStrike">
                  <a:solidFill>
                    <a:srgbClr val="000000"/>
                  </a:solidFill>
                  <a:latin typeface="Arial"/>
                </a:rPr>
                <a:t>Key Message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812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4703760"/>
                  <a:tab algn="l" pos="940752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PVT variations significantly impact chip performance.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28880">
                <a:lnSpc>
                  <a:spcPct val="100000"/>
                </a:lnSpc>
                <a:spcBef>
                  <a:spcPts val="2812"/>
                </a:spcBef>
                <a:buClr>
                  <a:srgbClr val="000000"/>
                </a:buClr>
                <a:buFont typeface="Wingdings" charset="2"/>
                <a:buChar char=""/>
                <a:tabLst>
                  <a:tab algn="l" pos="4703760"/>
                  <a:tab algn="l" pos="940752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Minimizing clock skew, both nominal and variation induced, is critical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812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4703760"/>
                  <a:tab algn="l" pos="940752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For robust clock distribution, minimize total latency and maximize wire-delay component.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28880">
                <a:lnSpc>
                  <a:spcPct val="100000"/>
                </a:lnSpc>
                <a:spcBef>
                  <a:spcPts val="2812"/>
                </a:spcBef>
                <a:buClr>
                  <a:srgbClr val="000000"/>
                </a:buClr>
                <a:buFont typeface="Wingdings" charset="2"/>
                <a:buChar char=""/>
                <a:tabLst>
                  <a:tab algn="l" pos="4703760"/>
                  <a:tab algn="l" pos="940752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High drive strength buffers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28880">
                <a:lnSpc>
                  <a:spcPct val="100000"/>
                </a:lnSpc>
                <a:spcBef>
                  <a:spcPts val="2812"/>
                </a:spcBef>
                <a:buClr>
                  <a:srgbClr val="000000"/>
                </a:buClr>
                <a:buFont typeface="Wingdings" charset="2"/>
                <a:buChar char=""/>
                <a:tabLst>
                  <a:tab algn="l" pos="4703760"/>
                  <a:tab algn="l" pos="940752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Long wires on top thick metal layers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812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4703760"/>
                  <a:tab algn="l" pos="940752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Methodology involves an automated tuning utility that iterates between routing and simulation.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28880">
                <a:lnSpc>
                  <a:spcPct val="100000"/>
                </a:lnSpc>
                <a:spcBef>
                  <a:spcPts val="2812"/>
                </a:spcBef>
                <a:buClr>
                  <a:srgbClr val="000000"/>
                </a:buClr>
                <a:buFont typeface="Wingdings" charset="2"/>
                <a:buChar char=""/>
                <a:tabLst>
                  <a:tab algn="l" pos="4703760"/>
                  <a:tab algn="l" pos="940752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Clock router supports specialized wiring topologies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028880">
                <a:lnSpc>
                  <a:spcPct val="100000"/>
                </a:lnSpc>
                <a:spcBef>
                  <a:spcPts val="2812"/>
                </a:spcBef>
                <a:buClr>
                  <a:srgbClr val="000000"/>
                </a:buClr>
                <a:buFont typeface="Wingdings" charset="2"/>
                <a:buChar char=""/>
                <a:tabLst>
                  <a:tab algn="l" pos="4703760"/>
                  <a:tab algn="l" pos="940752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Arial"/>
                </a:rPr>
                <a:t>Simulation engine is SPICE-accurate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4114800" cy="419076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533520" y="20497680"/>
            <a:ext cx="9601200" cy="8229600"/>
            <a:chOff x="533520" y="20497680"/>
            <a:chExt cx="9601200" cy="8229600"/>
          </a:xfrm>
        </p:grpSpPr>
        <p:sp>
          <p:nvSpPr>
            <p:cNvPr id="51" name=""/>
            <p:cNvSpPr/>
            <p:nvPr/>
          </p:nvSpPr>
          <p:spPr>
            <a:xfrm>
              <a:off x="533520" y="20497680"/>
              <a:ext cx="9601200" cy="8229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5600" spc="-1" strike="noStrike">
                  <a:solidFill>
                    <a:srgbClr val="ffffff"/>
                  </a:solidFill>
                  <a:latin typeface="Arial"/>
                </a:rPr>
                <a:t>Root Adjustment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143000" y="22097880"/>
              <a:ext cx="84297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281560" y="22136040"/>
              <a:ext cx="88920" cy="16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21869280"/>
              <a:ext cx="327672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itial Rout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ew: 13.4 p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95560" y="23640840"/>
              <a:ext cx="1364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1280" y="23640840"/>
              <a:ext cx="1364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434520" y="23640840"/>
              <a:ext cx="13680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1148040" y="26212680"/>
              <a:ext cx="847692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357880" y="26250840"/>
              <a:ext cx="88920" cy="16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0200" y="2640960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ew: 1.7 p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57960" y="25898400"/>
              <a:ext cx="657000" cy="2403360"/>
            </a:xfrm>
            <a:custGeom>
              <a:avLst/>
              <a:gdLst/>
              <a:ahLst/>
              <a:rect l="l" t="t" r="r" b="b"/>
              <a:pathLst>
                <a:path w="414" h="1514">
                  <a:moveTo>
                    <a:pt x="414" y="0"/>
                  </a:moveTo>
                  <a:cubicBezTo>
                    <a:pt x="340" y="545"/>
                    <a:pt x="267" y="1090"/>
                    <a:pt x="198" y="1302"/>
                  </a:cubicBezTo>
                  <a:cubicBezTo>
                    <a:pt x="129" y="1514"/>
                    <a:pt x="64" y="1393"/>
                    <a:pt x="0" y="1272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95560" y="27698760"/>
              <a:ext cx="1364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91280" y="27698760"/>
              <a:ext cx="1364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34520" y="27698760"/>
              <a:ext cx="13680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1143000" y="24150600"/>
              <a:ext cx="8448840" cy="18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405400" y="24193440"/>
              <a:ext cx="88920" cy="16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53120" y="23802840"/>
              <a:ext cx="1076400" cy="2630520"/>
            </a:xfrm>
            <a:custGeom>
              <a:avLst/>
              <a:gdLst/>
              <a:ahLst/>
              <a:rect l="l" t="t" r="r" b="b"/>
              <a:pathLst>
                <a:path w="678" h="1657">
                  <a:moveTo>
                    <a:pt x="678" y="0"/>
                  </a:moveTo>
                  <a:cubicBezTo>
                    <a:pt x="602" y="605"/>
                    <a:pt x="527" y="1211"/>
                    <a:pt x="414" y="1434"/>
                  </a:cubicBezTo>
                  <a:cubicBezTo>
                    <a:pt x="301" y="1657"/>
                    <a:pt x="150" y="1497"/>
                    <a:pt x="0" y="133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95560" y="25688880"/>
              <a:ext cx="1364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1280" y="25688880"/>
              <a:ext cx="1364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34520" y="25688880"/>
              <a:ext cx="13680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6520" y="24504480"/>
              <a:ext cx="32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ew: 4.2 p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22478760"/>
              <a:ext cx="2819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Arial"/>
                </a:rPr>
                <a:t>Chip Y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2707720" y="5867280"/>
            <a:ext cx="15391800" cy="16001640"/>
            <a:chOff x="22707720" y="5867280"/>
            <a:chExt cx="15391800" cy="16001640"/>
          </a:xfrm>
        </p:grpSpPr>
        <p:sp>
          <p:nvSpPr>
            <p:cNvPr id="74" name=""/>
            <p:cNvSpPr/>
            <p:nvPr/>
          </p:nvSpPr>
          <p:spPr>
            <a:xfrm>
              <a:off x="22707720" y="5867280"/>
              <a:ext cx="15391800" cy="16001640"/>
            </a:xfrm>
            <a:custGeom>
              <a:avLst/>
              <a:gdLst>
                <a:gd name="textAreaLeft" fmla="*/ 751320 w 15391800"/>
                <a:gd name="textAreaRight" fmla="*/ 14640480 w 15391800"/>
                <a:gd name="textAreaTop" fmla="*/ 751320 h 16001640"/>
                <a:gd name="textAreaBottom" fmla="*/ 15250320 h 16001640"/>
              </a:gdLst>
              <a:ahLst/>
              <a:rect l="textAreaLeft" t="textAreaTop" r="textAreaRight" b="textAreaBottom"/>
              <a:pathLst>
                <a:path w="21600" h="22456">
                  <a:moveTo>
                    <a:pt x="3600" y="0"/>
                  </a:moveTo>
                  <a:arcTo wR="3600" hR="3600" stAng="16200000" swAng="-5400000"/>
                  <a:lnTo>
                    <a:pt x="0" y="18856"/>
                  </a:lnTo>
                  <a:arcTo wR="3600" hR="3600" stAng="10800000" swAng="-5400000"/>
                  <a:lnTo>
                    <a:pt x="18000" y="22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6"/>
            <a:stretch/>
          </p:blipFill>
          <p:spPr>
            <a:xfrm>
              <a:off x="23729040" y="6383160"/>
              <a:ext cx="13386240" cy="14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rot="20086800">
              <a:off x="31631760" y="19047960"/>
              <a:ext cx="27255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4500" spc="-1" strike="noStrike">
                  <a:solidFill>
                    <a:srgbClr val="ffffff"/>
                  </a:solidFill>
                  <a:latin typeface="Arial"/>
                </a:rPr>
                <a:t>Chip Y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3115800">
              <a:off x="24691320" y="20005200"/>
              <a:ext cx="2241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4500" spc="-1" strike="noStrike">
                  <a:solidFill>
                    <a:srgbClr val="ffffff"/>
                  </a:solidFill>
                  <a:latin typeface="Arial"/>
                </a:rPr>
                <a:t>Chip X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483000">
              <a:off x="22049280" y="15845760"/>
              <a:ext cx="4428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812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4500" spc="-1" strike="noStrike">
                  <a:solidFill>
                    <a:srgbClr val="ffffff"/>
                  </a:solidFill>
                  <a:latin typeface="Arial"/>
                </a:rPr>
                <a:t>Clock Latency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4409800" y="13609440"/>
              <a:ext cx="884880" cy="5015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1201400" y="20421720"/>
            <a:ext cx="9448560" cy="8229240"/>
            <a:chOff x="11201400" y="20421720"/>
            <a:chExt cx="9448560" cy="8229240"/>
          </a:xfrm>
        </p:grpSpPr>
        <p:sp>
          <p:nvSpPr>
            <p:cNvPr id="81" name=""/>
            <p:cNvSpPr/>
            <p:nvPr/>
          </p:nvSpPr>
          <p:spPr>
            <a:xfrm>
              <a:off x="11201400" y="20421720"/>
              <a:ext cx="9448560" cy="8229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5600" spc="-1" strike="noStrike">
                  <a:solidFill>
                    <a:srgbClr val="ffffff"/>
                  </a:solidFill>
                  <a:latin typeface="Arial"/>
                </a:rPr>
                <a:t>Trunk Lengthening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7"/>
            <a:stretch/>
          </p:blipFill>
          <p:spPr>
            <a:xfrm>
              <a:off x="11368080" y="22206960"/>
              <a:ext cx="9075240" cy="115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8"/>
            <a:stretch/>
          </p:blipFill>
          <p:spPr>
            <a:xfrm>
              <a:off x="11368080" y="23716080"/>
              <a:ext cx="908496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3139280" y="23992560"/>
              <a:ext cx="7429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ddle trunk Multiplier: 2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ew: 5.2 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890400" y="23724360"/>
              <a:ext cx="93960" cy="142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368080" y="24578640"/>
              <a:ext cx="131040" cy="158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879960" y="24578640"/>
              <a:ext cx="131040" cy="158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301840" y="24586560"/>
              <a:ext cx="131040" cy="15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9"/>
            <a:stretch/>
          </p:blipFill>
          <p:spPr>
            <a:xfrm>
              <a:off x="11362680" y="25700760"/>
              <a:ext cx="9085320" cy="22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5890400" y="25744680"/>
              <a:ext cx="93960" cy="138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27760" y="25855920"/>
              <a:ext cx="6068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ddle trunk Multiplier: 4.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ew: 2.0 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368080" y="26550000"/>
              <a:ext cx="131040" cy="154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879960" y="26550000"/>
              <a:ext cx="131040" cy="154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301840" y="26558280"/>
              <a:ext cx="131040" cy="154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90400" y="22221720"/>
              <a:ext cx="93960" cy="164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073760" y="22284720"/>
              <a:ext cx="3376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itial Rou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ew: 13.4 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68080" y="23202000"/>
              <a:ext cx="131040" cy="184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879960" y="23202000"/>
              <a:ext cx="131040" cy="184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301840" y="23211360"/>
              <a:ext cx="131040" cy="184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288920" y="22439880"/>
              <a:ext cx="14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5900120" y="22376880"/>
              <a:ext cx="469440" cy="295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4630400" y="8534520"/>
            <a:ext cx="7772400" cy="9524880"/>
            <a:chOff x="14630400" y="8534520"/>
            <a:chExt cx="7772400" cy="9524880"/>
          </a:xfrm>
        </p:grpSpPr>
        <p:sp>
          <p:nvSpPr>
            <p:cNvPr id="103" name=""/>
            <p:cNvSpPr/>
            <p:nvPr/>
          </p:nvSpPr>
          <p:spPr>
            <a:xfrm>
              <a:off x="14630400" y="8534520"/>
              <a:ext cx="7772400" cy="9524880"/>
            </a:xfrm>
            <a:custGeom>
              <a:avLst/>
              <a:gdLst>
                <a:gd name="textAreaLeft" fmla="*/ 379080 w 7772400"/>
                <a:gd name="textAreaRight" fmla="*/ 7393320 w 7772400"/>
                <a:gd name="textAreaTop" fmla="*/ 379080 h 9524880"/>
                <a:gd name="textAreaBottom" fmla="*/ 9145800 h 9524880"/>
              </a:gdLst>
              <a:ahLst/>
              <a:rect l="textAreaLeft" t="textAreaTop" r="textAreaRight" b="textAreaBottom"/>
              <a:pathLst>
                <a:path w="21600" h="26470">
                  <a:moveTo>
                    <a:pt x="3600" y="0"/>
                  </a:moveTo>
                  <a:arcTo wR="3600" hR="3600" stAng="16200000" swAng="-5400000"/>
                  <a:lnTo>
                    <a:pt x="0" y="22870"/>
                  </a:lnTo>
                  <a:arcTo wR="3600" hR="3600" stAng="10800000" swAng="-5400000"/>
                  <a:lnTo>
                    <a:pt x="18000" y="264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703760"/>
                  <a:tab algn="l" pos="9407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011640" y="8534520"/>
              <a:ext cx="7315200" cy="62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5920" rIns="205920" tIns="102960" bIns="102960" anchor="t">
              <a:spAutoFit/>
            </a:bodyPr>
            <a:p>
              <a:pPr algn="ctr">
                <a:spcBef>
                  <a:spcPts val="3501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5600" spc="-1" strike="noStrike">
                  <a:solidFill>
                    <a:srgbClr val="000000"/>
                  </a:solidFill>
                  <a:latin typeface="Arial"/>
                </a:rPr>
                <a:t>Routing Topologies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501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5600" spc="-1" strike="noStrike">
                  <a:solidFill>
                    <a:srgbClr val="000000"/>
                  </a:solidFill>
                  <a:latin typeface="Arial"/>
                </a:rPr>
                <a:t>Binary Routing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501"/>
                </a:spcBef>
                <a:tabLst>
                  <a:tab algn="l" pos="0"/>
                  <a:tab algn="l" pos="4703760"/>
                  <a:tab algn="l" pos="9407520"/>
                </a:tabLst>
              </a:pP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501"/>
                </a:spcBef>
                <a:tabLst>
                  <a:tab algn="l" pos="0"/>
                  <a:tab algn="l" pos="4703760"/>
                  <a:tab algn="l" pos="9407520"/>
                </a:tabLst>
              </a:pP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501"/>
                </a:spcBef>
                <a:tabLst>
                  <a:tab algn="l" pos="0"/>
                  <a:tab algn="l" pos="4703760"/>
                  <a:tab algn="l" pos="9407520"/>
                </a:tabLst>
              </a:pPr>
              <a:r>
                <a:rPr b="1" lang="en-US" sz="5600" spc="-1" strike="noStrike">
                  <a:solidFill>
                    <a:srgbClr val="000000"/>
                  </a:solidFill>
                  <a:latin typeface="Arial"/>
                </a:rPr>
                <a:t>Star Routing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6611840" y="10896480"/>
              <a:ext cx="3657240" cy="2972880"/>
              <a:chOff x="16611840" y="10896480"/>
              <a:chExt cx="3657240" cy="2972880"/>
            </a:xfrm>
          </p:grpSpPr>
          <p:sp>
            <p:nvSpPr>
              <p:cNvPr id="106" name=""/>
              <p:cNvSpPr/>
              <p:nvPr/>
            </p:nvSpPr>
            <p:spPr>
              <a:xfrm>
                <a:off x="18440640" y="11143800"/>
                <a:ext cx="366120" cy="747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538280" y="10896480"/>
                <a:ext cx="363960" cy="497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902600" y="13376880"/>
                <a:ext cx="366480" cy="492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611840" y="10896480"/>
                <a:ext cx="366480" cy="497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709120" y="13376880"/>
                <a:ext cx="364680" cy="492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171440" y="11143800"/>
                <a:ext cx="0" cy="247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78320" y="11143800"/>
                <a:ext cx="363960" cy="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342640" y="13622040"/>
                <a:ext cx="366480" cy="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7342640" y="11143440"/>
                <a:ext cx="0" cy="247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9171440" y="11143800"/>
                <a:ext cx="366480" cy="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171440" y="13622040"/>
                <a:ext cx="730800" cy="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342640" y="12384360"/>
                <a:ext cx="182880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8074160" y="1139328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052920" y="11393640"/>
                <a:ext cx="387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916400" y="14859000"/>
              <a:ext cx="3124080" cy="2896920"/>
              <a:chOff x="16916400" y="14859000"/>
              <a:chExt cx="3124080" cy="2896920"/>
            </a:xfrm>
          </p:grpSpPr>
          <p:sp>
            <p:nvSpPr>
              <p:cNvPr id="121" name=""/>
              <p:cNvSpPr/>
              <p:nvPr/>
            </p:nvSpPr>
            <p:spPr>
              <a:xfrm>
                <a:off x="18478440" y="15099480"/>
                <a:ext cx="312840" cy="72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416240" y="14859000"/>
                <a:ext cx="311040" cy="484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727640" y="17275320"/>
                <a:ext cx="312840" cy="480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916400" y="14859000"/>
                <a:ext cx="312840" cy="484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854200" y="17275320"/>
                <a:ext cx="311040" cy="480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103040" y="15584760"/>
                <a:ext cx="0" cy="192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229240" y="15099480"/>
                <a:ext cx="95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3360" y="17516520"/>
                <a:ext cx="33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541000" y="15584400"/>
                <a:ext cx="0" cy="192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9085760" y="15102000"/>
                <a:ext cx="33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085760" y="17516520"/>
                <a:ext cx="6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18165240" y="15099120"/>
                <a:ext cx="0" cy="24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147600" y="15343560"/>
                <a:ext cx="36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523360" y="15584760"/>
                <a:ext cx="993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751320" y="15343560"/>
                <a:ext cx="36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751320" y="15584760"/>
                <a:ext cx="36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19103040" y="15099120"/>
                <a:ext cx="0" cy="24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8" name=""/>
          <p:cNvGraphicFramePr/>
          <p:nvPr/>
        </p:nvGraphicFramePr>
        <p:xfrm>
          <a:off x="3581280" y="32918400"/>
          <a:ext cx="13182840" cy="4038120"/>
        </p:xfrm>
        <a:graphic>
          <a:graphicData uri="http://schemas.openxmlformats.org/drawingml/2006/table">
            <a:tbl>
              <a:tblPr/>
              <a:tblGrid>
                <a:gridCol w="2895840"/>
                <a:gridCol w="2057400"/>
                <a:gridCol w="2019240"/>
                <a:gridCol w="2062080"/>
                <a:gridCol w="414828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D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5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 (0.8/1.0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e De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.8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7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.4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Dela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8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5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2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.6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.2 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.6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8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22631400" y="22479120"/>
            <a:ext cx="15239880" cy="13226760"/>
          </a:xfrm>
          <a:prstGeom prst="roundRect">
            <a:avLst>
              <a:gd name="adj" fmla="val 16667"/>
            </a:avLst>
          </a:prstGeom>
          <a:solidFill>
            <a:srgbClr val="ffff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393520" y="22860000"/>
            <a:ext cx="14401800" cy="13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920" rIns="205920" tIns="102960" bIns="10296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4703760"/>
                <a:tab algn="l" pos="940752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703760"/>
                <a:tab algn="l" pos="9407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Robust variation-tolerant clock distribution achieved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28880">
              <a:lnSpc>
                <a:spcPct val="100000"/>
              </a:lnSpc>
              <a:spcBef>
                <a:spcPts val="2812"/>
              </a:spcBef>
              <a:buClr>
                <a:srgbClr val="000000"/>
              </a:buClr>
              <a:buFont typeface="Wingdings" charset="2"/>
              <a:buChar char=""/>
              <a:tabLst>
                <a:tab algn="l" pos="4703760"/>
                <a:tab algn="l" pos="9407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Minimizing buffer delay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28880">
              <a:lnSpc>
                <a:spcPct val="100000"/>
              </a:lnSpc>
              <a:spcBef>
                <a:spcPts val="2812"/>
              </a:spcBef>
              <a:buClr>
                <a:srgbClr val="000000"/>
              </a:buClr>
              <a:buFont typeface="Wingdings" charset="2"/>
              <a:buChar char=""/>
              <a:tabLst>
                <a:tab algn="l" pos="4703760"/>
                <a:tab algn="l" pos="9407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Maintaining electrical symmetry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703760"/>
                <a:tab algn="l" pos="9407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Methodology involves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28880">
              <a:lnSpc>
                <a:spcPct val="100000"/>
              </a:lnSpc>
              <a:spcBef>
                <a:spcPts val="2812"/>
              </a:spcBef>
              <a:buClr>
                <a:srgbClr val="000000"/>
              </a:buClr>
              <a:buFont typeface="Wingdings" charset="2"/>
              <a:buChar char=""/>
              <a:tabLst>
                <a:tab algn="l" pos="4703760"/>
                <a:tab algn="l" pos="9407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ock router that supports unique wiring topologi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28880">
              <a:lnSpc>
                <a:spcPct val="100000"/>
              </a:lnSpc>
              <a:spcBef>
                <a:spcPts val="2812"/>
              </a:spcBef>
              <a:buClr>
                <a:srgbClr val="000000"/>
              </a:buClr>
              <a:buFont typeface="Wingdings" charset="2"/>
              <a:buChar char=""/>
              <a:tabLst>
                <a:tab algn="l" pos="4703760"/>
                <a:tab algn="l" pos="9407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PICE-accurate simulation engin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28880">
              <a:lnSpc>
                <a:spcPct val="100000"/>
              </a:lnSpc>
              <a:spcBef>
                <a:spcPts val="2812"/>
              </a:spcBef>
              <a:buClr>
                <a:srgbClr val="000000"/>
              </a:buClr>
              <a:buFont typeface="Wingdings" charset="2"/>
              <a:buChar char=""/>
              <a:tabLst>
                <a:tab algn="l" pos="4703760"/>
                <a:tab algn="l" pos="9407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uning wrapper which iterates between routing and simulation until target skew is achieve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703760"/>
                <a:tab algn="l" pos="9407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Outlined methodology promises significant productivity improvements in clock distribution design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28880">
              <a:lnSpc>
                <a:spcPct val="100000"/>
              </a:lnSpc>
              <a:spcBef>
                <a:spcPts val="2812"/>
              </a:spcBef>
              <a:buClr>
                <a:srgbClr val="000000"/>
              </a:buClr>
              <a:buFont typeface="Wingdings" charset="2"/>
              <a:buChar char=""/>
              <a:tabLst>
                <a:tab algn="l" pos="4703760"/>
                <a:tab algn="l" pos="94075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kew reduced from 30.20 ps to 3.10 ps in ~ 30 minut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8:54:58Z</dcterms:created>
  <dc:creator>Cindy Kranz</dc:creator>
  <dc:description/>
  <dc:language>en-US</dc:language>
  <cp:lastModifiedBy>jkozhaya</cp:lastModifiedBy>
  <dcterms:modified xsi:type="dcterms:W3CDTF">2010-05-07T05:32:41Z</dcterms:modified>
  <cp:revision>40</cp:revision>
  <dc:subject/>
  <dc:title>Style F square 42</dc:title>
</cp:coreProperties>
</file>