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9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954240" y="-360"/>
            <a:ext cx="302868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9840" y="4403880"/>
            <a:ext cx="558468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8807040"/>
            <a:ext cx="3029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954240" y="880704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52963E-29ED-4B15-8AA7-AA4100C2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954240" y="880704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573733B-447C-41BA-9472-C92817A6C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8807040"/>
            <a:ext cx="3029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029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03520"/>
            <a:ext cx="558828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954240" y="880704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1822FC-F780-49A5-842A-697519B49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8807040"/>
            <a:ext cx="3029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-360"/>
            <a:ext cx="3029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98040" y="4403520"/>
            <a:ext cx="558828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954240" y="8807040"/>
            <a:ext cx="30286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4C6BF6-F36F-45D5-98AE-262B367CC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8807040"/>
            <a:ext cx="30290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-360"/>
            <a:ext cx="302904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8040" y="4403520"/>
            <a:ext cx="558828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628D-9124-4469-9027-280E74D2B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4040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B789-64AF-410C-848E-1EE85A9BF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914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40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40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979C-38D3-4F5B-A5C3-2EF073AC3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91440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91440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4040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4040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40400"/>
            <a:ext cx="2698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FF37-557A-4A5B-85FD-1FDF180D8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3724-613E-4792-A6FD-2EF770BBAB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56AE-631D-4FF4-BE38-81E4EA865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91440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0CE4-F558-474D-8672-E3EFF5AB0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E233-F706-4678-A072-20F4B41E3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6095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E910-73C4-47B9-ADBE-95420DDD9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91440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40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7DEF-0FA2-4D54-931B-905108D41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4090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914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40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6FD3-0423-4AA0-BF9D-203ED8DC2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914400"/>
            <a:ext cx="4090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40400"/>
            <a:ext cx="838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9FBA-5267-4F4B-9F76-826E20812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248520" y="6476760"/>
            <a:ext cx="2743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4CD-51F7-46EA-880A-BD177477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85800"/>
            <a:ext cx="87627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ystematic Architecture Exploration</a:t>
            </a:r>
            <a:br>
              <a:rPr sz="32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Through High-Level Synthesis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358128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aj S. Mitra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*,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aveen K. Tiwari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 baseline="30000">
                <a:solidFill>
                  <a:srgbClr val="333399"/>
                </a:solidFill>
                <a:latin typeface="ＭＳ Ｐゴシック"/>
              </a:rPr>
              <a:t>‡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,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ahesh Mehendale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(Contact email: rsm@ti.com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333399"/>
                </a:solidFill>
                <a:latin typeface="Arial"/>
              </a:rPr>
              <a:t>* Texas Instrum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333399"/>
                </a:solidFill>
                <a:latin typeface="ＭＳ Ｐゴシック"/>
              </a:rPr>
              <a:t>‡ </a:t>
            </a:r>
            <a:r>
              <a:rPr b="1" lang="nb-NO" sz="2400" spc="-1" strike="noStrike">
                <a:solidFill>
                  <a:srgbClr val="333399"/>
                </a:solidFill>
                <a:latin typeface="Arial"/>
              </a:rPr>
              <a:t>Interra System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822320" cy="45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cess (contd)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n to stop model refinements and try a different architecture?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 in the process – HLS inefficiencies create errors in the PPA estimates – are corrected partially by model refin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depends on target set by architect – has to be 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process, efficient coding styles were evolved, which reduced the number of model refinement it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hough HLS was not used for final silicon, one pass of Logic synthesis and P&amp;R was ru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ct the presence of major choke points - large muxes, cross-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events late su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 handoff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model used as golden reference for verification, sequential equivalence checking (formal), and virtual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adhere to coding styles for thes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FAAE-FA97-402B-A617-07F2B13423AD}" type="slidenum">
              <a:t>10</a:t>
            </a:fld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ypical Model Refinement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ptimize functional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Use optimal bit-widths for loc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o not clip already clipp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hange “if-else-if” to “switch”, if priority is no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information is engrained in the semantics of the model, the tool cannot do such 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ify compu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hange average function from “(a+b+1)&gt;&gt;1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“(2a+1)+(2b+1)&gt;&gt;2”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n to “((a&lt;&lt;1)|0x1 + (b&lt;&lt;1)|0x1)&gt;&gt;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s reduces number of adders, but increases width of add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ill help if the function is in the critical pa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ving Mux before oper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reduce resources, but increase Mux – trade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2C81-0223-40E5-AD5D-8D35FC6B9DB0}" type="slidenum">
              <a:t>11</a:t>
            </a:fld>
          </a:p>
        </p:txBody>
      </p: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ypical Model Refinements (contd)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ve iteration (on array elements of input) from DUT to TB, by repeated calls to DU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liminates extra logic in D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on Sub Expression (CSE) elimin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doing this explicitly in model, instead of relying on HLS tool to do it, gives a better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use computations where possible by storing values from previous iter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 between registers and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enable further changes and optimization (e.g. reduce array sizes) – since one level of computation is de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changes the structure of the algorithm (code readability decr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l depend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tool-friendly coding style – e.g. do not use glob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 with different too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58BA-E3C8-40E5-8FC4-C86ACA522578}" type="slidenum">
              <a:t>12</a:t>
            </a:fld>
          </a:p>
        </p:txBody>
      </p:sp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LS provides valuable and near-accurate data to influence architectural deci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exploration of a large variety of architectures in a shor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compromise silicon quality, since it is not necessary to use HLS for implementation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ever, use this data with judgment and discre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refinement may change the data – know what changes to make for getting accur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st of these refinements are what would be done for a typical manual RTL also, except that these can be done much quicker for HLS mode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on how much effort to put in for model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LS is used as a vehicle for exploration, but architect still needs to make judgments on which path to pursue and what is the target (entitlement) to be achieve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right HLS tools – for PPA, runtime, ease of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D8AF-46F1-43B2-B067-751E2E86E07C}" type="slidenum">
              <a:t>13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82440"/>
            <a:ext cx="8383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rchitecture Exploration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675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bjective: To define System / Sub-system / IP Architectur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performance goals – latencies,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ing Area /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artitioning between software and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involves tradeoff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(height/width, ports), mux size, bus width, resource (area, latencies), resource pipelining, data pipelining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inter-related, changing one affects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.g. Combining two related functions may reduce the combined area, but increases latency, which increases number of cyc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allel processing reduces latency, but increases parallel memory acce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the process is very it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ke feedback from software and IP team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eriment with different options and paramet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deally – Implement prototypes and validate the metric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6AA0-3AC7-41F3-BA06-5CAA225319D0}" type="slidenum">
              <a:t>2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010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Architecture Exploration – State of Affair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360" y="762120"/>
            <a:ext cx="8467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PPA (Performance / Power / Area) is more influenced by architectural decisions, than by implementation decis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cope of design improvements get severely restricted by the architectural decisions already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icult to carry out architectural explorations at RTL, since the code is at a very low level and not very flexible t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owever, today most architectural decisions are taken based on spreadsheet calculations and traffic mod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ata in these calculations are based o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chitects’ intu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calculations are ofte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accur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ue t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ross aggreg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2480" indent="-1652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o not capture the finer details of component interac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852480" indent="-1652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capable of factoring in backend (Place &amp; Route) considera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573120" indent="-231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ocess of determining the optimal architecture is highly unstructured, iterative, and largely based on intu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ence – we need a methodology to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systematically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explore different architectures of a module, based on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accurate data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58E4-A50F-44C8-A5E9-95352607E6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1629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High Level Synthesis (HLS) – Scop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800280"/>
            <a:ext cx="8467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18520" indent="-218520"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LS is typically thought of as a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synthesis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tool with the benefits of flexibility and scalabilit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55840" indent="-224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rkar et al [IEEE Design &amp; Test, July 2009] showed that significant gaps exist in adopting HLS as a purely implementation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5840" indent="-224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 level of modeling abstraction often prevents fine user control over micro-architectural decisions on the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owever, this does not mean that HLS has no benefi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55840" indent="-224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igh level of abstraction can be used to explore and measure the effects of architectural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Hence, the usage of HLS can be considered separately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55840" indent="-224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rchitecture exploration – this is the topic of thi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5840" indent="-224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implementation – this was discussed in detail i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[Sarkar et al, 200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840" indent="-224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se two usages can b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epar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use HLS to explore architectures, but subsequently implement by manually coding 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73C3-794D-455D-80D5-650D456412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720" y="152280"/>
            <a:ext cx="4825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esign Phase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06600" y="568800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4040" y="3782880"/>
            <a:ext cx="238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hesizable Mode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Upper Boun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0320" y="1981080"/>
            <a:ext cx="326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/Executable Mode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/Latency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3840" y="5943600"/>
            <a:ext cx="63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254480"/>
            <a:ext cx="5715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004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83808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5480" y="647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81400" y="1714680"/>
            <a:ext cx="1600200" cy="1676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-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9560" y="3429000"/>
            <a:ext cx="16002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-Ar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32040" y="828720"/>
            <a:ext cx="3124440" cy="847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ity,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105520"/>
            <a:ext cx="31240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A Optimiz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914400"/>
            <a:ext cx="0" cy="335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67560" y="17784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99480" y="2556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nc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343400"/>
            <a:ext cx="0" cy="16002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67560" y="635040"/>
            <a:ext cx="12193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495360"/>
            <a:ext cx="10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al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99480" y="241200"/>
            <a:ext cx="7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LS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67560" y="41904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9144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362320"/>
            <a:ext cx="0" cy="3657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6235560"/>
            <a:ext cx="3200400" cy="533520"/>
          </a:xfrm>
          <a:prstGeom prst="wedgeEllipseCallout">
            <a:avLst>
              <a:gd name="adj1" fmla="val -62250"/>
              <a:gd name="adj2" fmla="val -144347"/>
            </a:avLst>
          </a:prstGeom>
          <a:solidFill>
            <a:srgbClr val="00cc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RTL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537160"/>
            <a:ext cx="3200400" cy="533520"/>
          </a:xfrm>
          <a:prstGeom prst="wedgeEllipseCallout">
            <a:avLst>
              <a:gd name="adj1" fmla="val -59870"/>
              <a:gd name="adj2" fmla="val -146726"/>
            </a:avLst>
          </a:prstGeom>
          <a:solidFill>
            <a:srgbClr val="00cc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LS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93996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362320"/>
            <a:ext cx="0" cy="1904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305240"/>
            <a:ext cx="0" cy="16765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981080"/>
            <a:ext cx="1676520" cy="838440"/>
          </a:xfrm>
          <a:prstGeom prst="wedgeEllipseCallout">
            <a:avLst>
              <a:gd name="adj1" fmla="val -116856"/>
              <a:gd name="adj2" fmla="val -60796"/>
            </a:avLst>
          </a:prstGeom>
          <a:solidFill>
            <a:srgbClr val="00cc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al HLS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0280" y="464832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9560" y="304812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8320" y="13492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C7B9-2F9B-4BB0-BF2B-0387788CF07B}" type="slidenum">
              <a:t>5</a:t>
            </a:fld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1629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Using HLS for Architecture Exploration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914400"/>
            <a:ext cx="8467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3840" indent="-213840"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urrently, modeling for Architecture Exploration is typically restricted to creating non-synthesizable C++ models, to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44320" indent="-2199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 as a golden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4320" indent="-2199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traffic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3840" indent="-213840">
              <a:spcBef>
                <a:spcPts val="10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proposal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(in this paper) is to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544320" indent="-2199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HLS models to get accurate data on the PPA, thereby influencing the architecture to be 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569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We define a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methodology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to be followed, and enumerate </a:t>
            </a:r>
            <a:r>
              <a:rPr b="0" lang="en-GB" sz="2000" spc="-1" strike="noStrike" u="sng">
                <a:solidFill>
                  <a:srgbClr val="333399"/>
                </a:solidFill>
                <a:uFillTx/>
                <a:latin typeface="Arial"/>
              </a:rPr>
              <a:t>lessons learn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from our experience with Architecture Exploration on a new generation of Video Accelerator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544320" indent="-2199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w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-lin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Architecture Exploration phase from the Implementation phase – the same models may or may not be used by both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5696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his provides the benefits of HLS for Architecture Exploration, while not succumbing to the limitations of HL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2A1C-407E-43F6-9FCF-E36217770F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roposed Flow for Architecture Exploration with HL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2760" y="990720"/>
            <a:ext cx="236196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aft initial Spec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ro-Architecture, with PPA targets for each IP 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8560" y="800280"/>
            <a:ext cx="265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war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438280"/>
            <a:ext cx="2438280" cy="685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HLS models for the component 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2760" y="3429000"/>
            <a:ext cx="2438280" cy="685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HLS to get actual PPA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419720"/>
            <a:ext cx="2057400" cy="83808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dent about optimal result from HL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3898800"/>
            <a:ext cx="838440" cy="762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ine HL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5562720"/>
            <a:ext cx="2057400" cy="68580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ure goals me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2040" y="2133720"/>
            <a:ext cx="1473480" cy="1689120"/>
          </a:xfrm>
          <a:custGeom>
            <a:avLst/>
            <a:gdLst>
              <a:gd name="textAreaLeft" fmla="*/ 71640 w 1473480"/>
              <a:gd name="textAreaRight" fmla="*/ 1401840 w 1473480"/>
              <a:gd name="textAreaTop" fmla="*/ 71640 h 1689120"/>
              <a:gd name="textAreaBottom" fmla="*/ 1617480 h 1689120"/>
            </a:gdLst>
            <a:ahLst/>
            <a:rect l="textAreaLeft" t="textAreaTop" r="textAreaRight" b="textAreaBottom"/>
            <a:pathLst>
              <a:path w="21600" h="24760">
                <a:moveTo>
                  <a:pt x="3600" y="0"/>
                </a:moveTo>
                <a:arcTo wR="3600" hR="3600" stAng="16200000" swAng="-5400000"/>
                <a:lnTo>
                  <a:pt x="0" y="21160"/>
                </a:lnTo>
                <a:arcTo wR="3600" hR="3600" stAng="10800000" swAng="-5400000"/>
                <a:lnTo>
                  <a:pt x="18000" y="247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ine architecture or refine PPA targets for the IP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1337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1148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25780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6" idx="3"/>
            <a:endCxn id="97" idx="2"/>
          </p:cNvCxnSpPr>
          <p:nvPr/>
        </p:nvCxnSpPr>
        <p:spPr>
          <a:xfrm flipV="1">
            <a:off x="2742840" y="4660920"/>
            <a:ext cx="801000" cy="178200"/>
          </a:xfrm>
          <a:prstGeom prst="bentConnector2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0"/>
            <a:endCxn id="95" idx="3"/>
          </p:cNvCxnSpPr>
          <p:nvPr/>
        </p:nvCxnSpPr>
        <p:spPr>
          <a:xfrm flipV="1" rot="16200000">
            <a:off x="3168360" y="3523680"/>
            <a:ext cx="127440" cy="623160"/>
          </a:xfrm>
          <a:prstGeom prst="bentConnector2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8" idx="3"/>
            <a:endCxn id="99" idx="2"/>
          </p:cNvCxnSpPr>
          <p:nvPr/>
        </p:nvCxnSpPr>
        <p:spPr>
          <a:xfrm flipV="1">
            <a:off x="2730240" y="3822120"/>
            <a:ext cx="1639080" cy="2083320"/>
          </a:xfrm>
          <a:prstGeom prst="bentConnector2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9" idx="0"/>
            <a:endCxn id="94" idx="3"/>
          </p:cNvCxnSpPr>
          <p:nvPr/>
        </p:nvCxnSpPr>
        <p:spPr>
          <a:xfrm rot="5400000">
            <a:off x="3307680" y="1719720"/>
            <a:ext cx="648360" cy="1474200"/>
          </a:xfrm>
          <a:prstGeom prst="bentConnector4">
            <a:avLst>
              <a:gd name="adj1" fmla="val -35277"/>
              <a:gd name="adj2" fmla="val 74987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854440" y="4886280"/>
            <a:ext cx="7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0640" y="5295960"/>
            <a:ext cx="7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613480"/>
            <a:ext cx="7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705040"/>
            <a:ext cx="2057400" cy="457200"/>
          </a:xfrm>
          <a:prstGeom prst="octagon">
            <a:avLst>
              <a:gd name="adj" fmla="val 2928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&amp;R Problem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117440"/>
            <a:ext cx="1981080" cy="1295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esize RTL to gates, and run P&amp;R, to early detect major bottlene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98" idx="2"/>
            <a:endCxn id="112" idx="0"/>
          </p:cNvCxnSpPr>
          <p:nvPr/>
        </p:nvCxnSpPr>
        <p:spPr>
          <a:xfrm flipH="1" flipV="1" rot="5400000">
            <a:off x="1955520" y="862920"/>
            <a:ext cx="5131800" cy="5639760"/>
          </a:xfrm>
          <a:prstGeom prst="bentConnector5">
            <a:avLst>
              <a:gd name="adj1" fmla="val -4447"/>
              <a:gd name="adj2" fmla="val 69671"/>
              <a:gd name="adj3" fmla="val 104447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1" idx="1"/>
            <a:endCxn id="99" idx="3"/>
          </p:cNvCxnSpPr>
          <p:nvPr/>
        </p:nvCxnSpPr>
        <p:spPr>
          <a:xfrm flipH="1">
            <a:off x="5105160" y="2933640"/>
            <a:ext cx="1219680" cy="4536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47920" y="6324480"/>
            <a:ext cx="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27800" y="240048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3454560"/>
            <a:ext cx="2819160" cy="1904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off models to software team (for virtual prototyping), to verification team (to act as a golden reference), and to design team (for final implement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3280" y="5664240"/>
            <a:ext cx="2819520" cy="762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Optional] Optimize the same models and generate RTL through H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149640"/>
            <a:ext cx="0" cy="3049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61040" y="3213000"/>
            <a:ext cx="7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5334120"/>
            <a:ext cx="0" cy="3045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2590920"/>
            <a:ext cx="7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44720" y="1295280"/>
            <a:ext cx="60984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0"/>
                </a:moveTo>
                <a:cubicBezTo>
                  <a:pt x="324" y="12"/>
                  <a:pt x="264" y="24"/>
                  <a:pt x="240" y="48"/>
                </a:cubicBezTo>
                <a:cubicBezTo>
                  <a:pt x="216" y="72"/>
                  <a:pt x="264" y="120"/>
                  <a:pt x="240" y="144"/>
                </a:cubicBezTo>
                <a:cubicBezTo>
                  <a:pt x="216" y="168"/>
                  <a:pt x="120" y="168"/>
                  <a:pt x="96" y="192"/>
                </a:cubicBezTo>
                <a:cubicBezTo>
                  <a:pt x="72" y="216"/>
                  <a:pt x="112" y="264"/>
                  <a:pt x="96" y="288"/>
                </a:cubicBezTo>
                <a:cubicBezTo>
                  <a:pt x="80" y="312"/>
                  <a:pt x="40" y="324"/>
                  <a:pt x="0" y="336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3601-910E-480B-B52D-ACAD3D4564BA}" type="slidenum">
              <a:t>7</a:t>
            </a:fld>
          </a:p>
        </p:txBody>
      </p:sp>
    </p:spTree>
  </p:cSld>
  <p:transition>
    <p:wipe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lored different architectures of a video accelerator modu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ily data-path modules (e.g. video encoder), which are ideally suited for application of HL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exploration – each “model creation to validation” turnaround time is about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ime is smaller (2 days) when only incremental changes are made – exploring “what if” scenarios and their impact on PP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ence, about 5 architectures explored in the span of 2 months, leading to significant project impac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5E73-98D0-49B9-93B9-170FAD7E1DA2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787320"/>
            <a:ext cx="845820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PA of HLS is not expected to be as good as manu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as a lesson learnt from [Sarkar et 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to use HLS only for exploration, not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naccurate PPA data would lead us on exploration of a bad architecture. Hence, choice of a good tool was st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lected the HLS tool that provided the best comparative results with existing manual RT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ase of use of tool also a major factor in tool selection – need to be able to specify micro-architecture details (user hint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ol runtime also critical ~ 5-15 minutes on each modu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PA largely depends on quality of HLS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several iterations needed for creating / refining 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00400" y="4762440"/>
          <a:ext cx="5778360" cy="2009880"/>
        </p:xfrm>
        <a:graphic>
          <a:graphicData uri="http://schemas.openxmlformats.org/drawingml/2006/table">
            <a:tbl>
              <a:tblPr/>
              <a:tblGrid>
                <a:gridCol w="1523880"/>
                <a:gridCol w="1295280"/>
                <a:gridCol w="1219320"/>
                <a:gridCol w="1739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chite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itial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al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% Impro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ch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4.1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ch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.7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ch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0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3.8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ch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0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2.7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ch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44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0.8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69800" y="4775040"/>
            <a:ext cx="2654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minor model adjustments – typically takes a day to iterate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6026-11E6-4392-AEF4-D49240587AF4}" type="slidenum">
              <a:t>9</a:t>
            </a:fld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22:44:57Z</dcterms:created>
  <dc:creator>Roger Tran</dc:creator>
  <dc:description/>
  <dc:language>en-US</dc:language>
  <cp:lastModifiedBy>a0875586</cp:lastModifiedBy>
  <dcterms:modified xsi:type="dcterms:W3CDTF">2010-02-26T04:44:02Z</dcterms:modified>
  <cp:revision>756</cp:revision>
  <dc:subject/>
  <dc:title>Update on Collaboration with Business Units and CR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9993777</vt:r8>
  </property>
  <property fmtid="{D5CDD505-2E9C-101B-9397-08002B2CF9AE}" pid="3" name="_AuthorEmail">
    <vt:lpwstr>agupta@nec-labs.com</vt:lpwstr>
  </property>
  <property fmtid="{D5CDD505-2E9C-101B-9397-08002B2CF9AE}" pid="4" name="_AuthorEmailDisplayName">
    <vt:lpwstr>Aarti Gupta</vt:lpwstr>
  </property>
  <property fmtid="{D5CDD505-2E9C-101B-9397-08002B2CF9AE}" pid="5" name="_EmailSubject">
    <vt:lpwstr>presentations for SWED</vt:lpwstr>
  </property>
  <property fmtid="{D5CDD505-2E9C-101B-9397-08002B2CF9AE}" pid="6" name="_ReviewingToolsShownOnce">
    <vt:lpwstr/>
  </property>
</Properties>
</file>