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2A6F-05FC-472B-BBA0-9C0D3D8D7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30D3-C5B6-48D9-8924-001A7800E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6436-E624-4B1A-AC3A-61927AB39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2221-EBBE-4EF5-B3A6-6928A22DC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3B7F-7F37-4892-8F56-655EB3CCA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D304-B349-422B-9955-64995CC39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F8B1-74C8-414A-8E5A-05CEFF216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720A-412D-4FC1-8EFC-94CEAB4BD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977E-DC5E-48D0-BA98-C4CFE533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0B69-DA16-48CE-9BE5-89D245B17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5AAF-A736-479A-BEB0-B0A8E417C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663300"/>
              </a:solidFill>
              <a:latin typeface="SamsungImagination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7663-AAD4-4237-B091-9795FCF98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2"/>
          <p:cNvPicPr/>
          <p:nvPr/>
        </p:nvPicPr>
        <p:blipFill>
          <a:blip r:embed="rId2"/>
          <a:stretch/>
        </p:blipFill>
        <p:spPr>
          <a:xfrm>
            <a:off x="324000" y="6599160"/>
            <a:ext cx="1319040" cy="9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in3"/>
          <p:cNvPicPr/>
          <p:nvPr/>
        </p:nvPicPr>
        <p:blipFill>
          <a:blip r:embed="rId3"/>
          <a:stretch/>
        </p:blipFill>
        <p:spPr>
          <a:xfrm>
            <a:off x="7904160" y="6354720"/>
            <a:ext cx="1028880" cy="341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1"/>
          <p:cNvSpPr/>
          <p:nvPr/>
        </p:nvSpPr>
        <p:spPr>
          <a:xfrm>
            <a:off x="8483400" y="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ev.0.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255920" y="6560640"/>
            <a:ext cx="7653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E07E-3EE7-4B68-A2B6-CAA3354985A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6" descr="Product Guide-bar"/>
          <p:cNvPicPr/>
          <p:nvPr/>
        </p:nvPicPr>
        <p:blipFill>
          <a:blip r:embed="rId4"/>
          <a:srcRect l="24009" t="0" r="0" b="521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9" descr="hand-ling"/>
          <p:cNvPicPr/>
          <p:nvPr/>
        </p:nvPicPr>
        <p:blipFill>
          <a:blip r:embed="rId2"/>
          <a:stretch/>
        </p:blipFill>
        <p:spPr>
          <a:xfrm>
            <a:off x="11160" y="4621320"/>
            <a:ext cx="9132840" cy="186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6" descr="LOGO1"/>
          <p:cNvPicPr/>
          <p:nvPr/>
        </p:nvPicPr>
        <p:blipFill>
          <a:blip r:embed="rId3"/>
          <a:stretch/>
        </p:blipFill>
        <p:spPr>
          <a:xfrm>
            <a:off x="282600" y="6570720"/>
            <a:ext cx="1468440" cy="15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LOGO2"/>
          <p:cNvPicPr/>
          <p:nvPr/>
        </p:nvPicPr>
        <p:blipFill>
          <a:blip r:embed="rId4"/>
          <a:stretch/>
        </p:blipFill>
        <p:spPr>
          <a:xfrm>
            <a:off x="7790040" y="6311880"/>
            <a:ext cx="115884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3"/>
          <p:cNvSpPr/>
          <p:nvPr/>
        </p:nvSpPr>
        <p:spPr>
          <a:xfrm>
            <a:off x="-11160" y="1751040"/>
            <a:ext cx="914400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557280" y="1141560"/>
            <a:ext cx="8331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37"/>
          <p:cNvSpPr/>
          <p:nvPr/>
        </p:nvSpPr>
        <p:spPr>
          <a:xfrm>
            <a:off x="0" y="109044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900" spc="-1" strike="noStrike">
                <a:solidFill>
                  <a:srgbClr val="000000"/>
                </a:solidFill>
                <a:latin typeface="Arial"/>
              </a:rPr>
              <a:t>A Smart Debugging Strategy for Billion-Gate SOCs 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611280" y="3068640"/>
            <a:ext cx="7705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"/>
                <a:ea typeface="HY헤드라인M"/>
              </a:rPr>
              <a:t>Namdo Kim, Junhyuk Park, Byeong Min, K.M. Choi, 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  <a:ea typeface="HY헤드라인M"/>
              </a:rPr>
              <a:t>*Kyuho Shim, *Seiyang Yang,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  <a:ea typeface="HY헤드라인M"/>
              </a:rPr>
              <a:t>Design Technology Team, System LSI division, Samsung electronics Co., Ltd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  <a:ea typeface="HY헤드라인M"/>
              </a:rPr>
              <a:t>*Dept. of Computer Eng., Pusan National University, Korea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Arial"/>
                <a:ea typeface="HY헤드라인M"/>
              </a:rPr>
              <a:t>nd.kim@samsung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AAA6-3200-4E0B-A866-C5147F61DA6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722160" y="1732320"/>
            <a:ext cx="8107560" cy="923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st checkpoint simulation (1st pas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(On-demand based) slice re-simulation (2nd pas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343080" y="974880"/>
            <a:ext cx="7881840" cy="91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hieving reasonable simulation performance with full visibility for billion-gate SOC simul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77880" y="3454560"/>
            <a:ext cx="8215200" cy="5554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iminating repeated, long re-simulation for obtaining signal vi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AutoShape 6"/>
          <p:cNvSpPr/>
          <p:nvPr/>
        </p:nvSpPr>
        <p:spPr>
          <a:xfrm>
            <a:off x="317520" y="3067200"/>
            <a:ext cx="490212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chieving fast debugging T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660240" y="4735800"/>
            <a:ext cx="8250480" cy="9230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uring the simu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fter the simulation for back-up purpo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317520" y="4349880"/>
            <a:ext cx="725796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aving hard disk space for dump data storag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7D8D-EF18-4C04-AD81-78747FCE42F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87440" y="4763520"/>
            <a:ext cx="8016840" cy="12945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100% visibility is essential for debugg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Howe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100% visibility in HDL simulation comes with very high cost. Simulation time slows down significant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" name="Picture 3" descr="computer"/>
          <p:cNvPicPr/>
          <p:nvPr/>
        </p:nvPicPr>
        <p:blipFill>
          <a:blip r:embed="rId1"/>
          <a:stretch/>
        </p:blipFill>
        <p:spPr>
          <a:xfrm>
            <a:off x="755640" y="1628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>
            <a:off x="971640" y="2924280"/>
            <a:ext cx="7272360" cy="64908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140360" y="3284640"/>
            <a:ext cx="865080" cy="5760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132000" y="1052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Black"/>
              </a:rPr>
              <a:t>Trade-off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Picture 8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1132200" cy="10224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91" name="Text Box 9"/>
          <p:cNvSpPr/>
          <p:nvPr/>
        </p:nvSpPr>
        <p:spPr>
          <a:xfrm>
            <a:off x="6443640" y="3645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High Visi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11280" y="314172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7093080" y="2421000"/>
            <a:ext cx="1224000" cy="9651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94" name="AutoShape 12"/>
          <p:cNvSpPr/>
          <p:nvPr/>
        </p:nvSpPr>
        <p:spPr>
          <a:xfrm>
            <a:off x="313560" y="4408560"/>
            <a:ext cx="571680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mulation performance vs. visibilit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 (1/2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11D-DA54-489A-B968-CD4F30EED8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3059280" y="1557360"/>
            <a:ext cx="5846760" cy="34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signal dump requires longer simulation time, at least 2~4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059280" y="2073240"/>
            <a:ext cx="5879880" cy="34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’s hard to handle large dump data with commercial waveform view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324000" y="1569240"/>
            <a:ext cx="2576520" cy="40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low simulation 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24000" y="2067840"/>
            <a:ext cx="2576520" cy="40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arge dump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059280" y="2484360"/>
            <a:ext cx="5902200" cy="576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 signal dump” often fails to dump data with right signals necessary for debugging, and results in additional simulation ru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24000" y="2572560"/>
            <a:ext cx="2576520" cy="40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petitive simu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3059280" y="3143160"/>
            <a:ext cx="5900400" cy="34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run might stop due to lack of HDD capac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334800" y="3075840"/>
            <a:ext cx="2554920" cy="407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Lack of HDD capac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3208320" y="3710160"/>
            <a:ext cx="2160720" cy="57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443160" y="4654080"/>
            <a:ext cx="4341240" cy="44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ull signal dump is impossible !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447120" y="5589000"/>
            <a:ext cx="7989840" cy="44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petitive simulation runs with partial signal dump is painful !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1538280" y="5119560"/>
            <a:ext cx="5672160" cy="34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very long simulation time &amp; limited HDD capac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15"/>
          <p:cNvSpPr/>
          <p:nvPr/>
        </p:nvSpPr>
        <p:spPr>
          <a:xfrm>
            <a:off x="1538280" y="6041880"/>
            <a:ext cx="7128000" cy="34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e to long simulation &amp; no guarantee that target dump area holds appropriate signal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261720" y="901800"/>
            <a:ext cx="712512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bstacles for simulation with billion-gate SO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 (2/2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8C8-F55C-4027-95AA-1D08D6D94B2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55480" y="2002680"/>
            <a:ext cx="8383680" cy="1743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n-demand full signal visibility with only a few re-simula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ast turnaround time between simulation process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ging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inimal usage of storage space for full signal visi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9840" y="1046520"/>
            <a:ext cx="759456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Smarter debugging strategy for billion-gate SO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CBE7-8EB4-4CA4-904A-9F709113589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43720" y="974880"/>
            <a:ext cx="5548680" cy="91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gnal re-construction [Mar98]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visibility enhancement [Hsu06]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63680" y="2495160"/>
            <a:ext cx="8310600" cy="1530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uring a simulation run, dump essential signals (all primary inputs and outputs of storage elements) on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terpolate the missing non-essential signals, i.e. outputs of combinational logics, from the essential signals by re-constru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58840" y="2176560"/>
            <a:ext cx="119844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95360" y="4550760"/>
            <a:ext cx="8246880" cy="89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too many essential signals, so the simulation is still slowed down considerab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50920" y="4214880"/>
            <a:ext cx="177948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vious solut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C893-64F0-4A23-ABA0-6974F1B5310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11240" y="901800"/>
            <a:ext cx="8688240" cy="5094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SSi-1: Two-pass Simulation for Debugging Accele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19120" y="2637000"/>
            <a:ext cx="8210520" cy="1439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Simulation time slightly increases by our unique checkpoint technology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10240" y="2405880"/>
            <a:ext cx="4432680" cy="441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heckpoint Simulation (1st Pa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Group 6"/>
          <p:cNvGrpSpPr/>
          <p:nvPr/>
        </p:nvGrpSpPr>
        <p:grpSpPr>
          <a:xfrm>
            <a:off x="637920" y="2886120"/>
            <a:ext cx="7774200" cy="649800"/>
            <a:chOff x="637920" y="2886120"/>
            <a:chExt cx="7774200" cy="649800"/>
          </a:xfrm>
        </p:grpSpPr>
        <p:sp>
          <p:nvSpPr>
            <p:cNvPr id="128" name="Line 7"/>
            <p:cNvSpPr/>
            <p:nvPr/>
          </p:nvSpPr>
          <p:spPr>
            <a:xfrm>
              <a:off x="905040" y="28861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905040" y="3100320"/>
              <a:ext cx="52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5440320" y="3102120"/>
              <a:ext cx="1224000" cy="0"/>
            </a:xfrm>
            <a:prstGeom prst="line">
              <a:avLst/>
            </a:prstGeom>
            <a:ln w="2844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1" name="Group 10"/>
            <p:cNvGrpSpPr/>
            <p:nvPr/>
          </p:nvGrpSpPr>
          <p:grpSpPr>
            <a:xfrm>
              <a:off x="637920" y="3029040"/>
              <a:ext cx="388080" cy="506880"/>
              <a:chOff x="637920" y="3029040"/>
              <a:chExt cx="388080" cy="506880"/>
            </a:xfrm>
          </p:grpSpPr>
          <p:sp>
            <p:nvSpPr>
              <p:cNvPr id="132" name="Text Box 11"/>
              <p:cNvSpPr/>
              <p:nvPr/>
            </p:nvSpPr>
            <p:spPr>
              <a:xfrm>
                <a:off x="63792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83016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4" name="Line 13"/>
            <p:cNvSpPr/>
            <p:nvPr/>
          </p:nvSpPr>
          <p:spPr>
            <a:xfrm>
              <a:off x="148104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5" name="Group 14"/>
            <p:cNvGrpSpPr/>
            <p:nvPr/>
          </p:nvGrpSpPr>
          <p:grpSpPr>
            <a:xfrm>
              <a:off x="1213920" y="3029040"/>
              <a:ext cx="388080" cy="506880"/>
              <a:chOff x="1213920" y="3029040"/>
              <a:chExt cx="388080" cy="506880"/>
            </a:xfrm>
          </p:grpSpPr>
          <p:sp>
            <p:nvSpPr>
              <p:cNvPr id="136" name="Text Box 15"/>
              <p:cNvSpPr/>
              <p:nvPr/>
            </p:nvSpPr>
            <p:spPr>
              <a:xfrm>
                <a:off x="121392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140616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38" name="Line 17"/>
            <p:cNvSpPr/>
            <p:nvPr/>
          </p:nvSpPr>
          <p:spPr>
            <a:xfrm>
              <a:off x="205740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39" name="Group 18"/>
            <p:cNvGrpSpPr/>
            <p:nvPr/>
          </p:nvGrpSpPr>
          <p:grpSpPr>
            <a:xfrm>
              <a:off x="1790280" y="3029040"/>
              <a:ext cx="388080" cy="506880"/>
              <a:chOff x="1790280" y="3029040"/>
              <a:chExt cx="388080" cy="506880"/>
            </a:xfrm>
          </p:grpSpPr>
          <p:sp>
            <p:nvSpPr>
              <p:cNvPr id="140" name="Text Box 19"/>
              <p:cNvSpPr/>
              <p:nvPr/>
            </p:nvSpPr>
            <p:spPr>
              <a:xfrm>
                <a:off x="179028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Oval 20"/>
              <p:cNvSpPr/>
              <p:nvPr/>
            </p:nvSpPr>
            <p:spPr>
              <a:xfrm>
                <a:off x="198252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2" name="Line 21"/>
            <p:cNvSpPr/>
            <p:nvPr/>
          </p:nvSpPr>
          <p:spPr>
            <a:xfrm>
              <a:off x="263376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2366640" y="3029040"/>
              <a:ext cx="388080" cy="506880"/>
              <a:chOff x="2366640" y="3029040"/>
              <a:chExt cx="388080" cy="506880"/>
            </a:xfrm>
          </p:grpSpPr>
          <p:sp>
            <p:nvSpPr>
              <p:cNvPr id="144" name="Text Box 23"/>
              <p:cNvSpPr/>
              <p:nvPr/>
            </p:nvSpPr>
            <p:spPr>
              <a:xfrm>
                <a:off x="236664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>
                <a:off x="255888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6" name="Line 25"/>
            <p:cNvSpPr/>
            <p:nvPr/>
          </p:nvSpPr>
          <p:spPr>
            <a:xfrm>
              <a:off x="320976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7" name="Group 26"/>
            <p:cNvGrpSpPr/>
            <p:nvPr/>
          </p:nvGrpSpPr>
          <p:grpSpPr>
            <a:xfrm>
              <a:off x="2943000" y="3029040"/>
              <a:ext cx="388080" cy="506880"/>
              <a:chOff x="2943000" y="3029040"/>
              <a:chExt cx="388080" cy="506880"/>
            </a:xfrm>
          </p:grpSpPr>
          <p:sp>
            <p:nvSpPr>
              <p:cNvPr id="148" name="Text Box 27"/>
              <p:cNvSpPr/>
              <p:nvPr/>
            </p:nvSpPr>
            <p:spPr>
              <a:xfrm>
                <a:off x="294300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313524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0" name="Line 29"/>
            <p:cNvSpPr/>
            <p:nvPr/>
          </p:nvSpPr>
          <p:spPr>
            <a:xfrm>
              <a:off x="378612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1" name="Group 30"/>
            <p:cNvGrpSpPr/>
            <p:nvPr/>
          </p:nvGrpSpPr>
          <p:grpSpPr>
            <a:xfrm>
              <a:off x="3519000" y="3029040"/>
              <a:ext cx="388080" cy="506880"/>
              <a:chOff x="3519000" y="3029040"/>
              <a:chExt cx="388080" cy="506880"/>
            </a:xfrm>
          </p:grpSpPr>
          <p:sp>
            <p:nvSpPr>
              <p:cNvPr id="152" name="Text Box 31"/>
              <p:cNvSpPr/>
              <p:nvPr/>
            </p:nvSpPr>
            <p:spPr>
              <a:xfrm>
                <a:off x="351900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Oval 32"/>
              <p:cNvSpPr/>
              <p:nvPr/>
            </p:nvSpPr>
            <p:spPr>
              <a:xfrm>
                <a:off x="371124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4" name="Line 33"/>
            <p:cNvSpPr/>
            <p:nvPr/>
          </p:nvSpPr>
          <p:spPr>
            <a:xfrm>
              <a:off x="4361040" y="3100320"/>
              <a:ext cx="52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4093920" y="3029040"/>
              <a:ext cx="388080" cy="506880"/>
              <a:chOff x="4093920" y="3029040"/>
              <a:chExt cx="388080" cy="506880"/>
            </a:xfrm>
          </p:grpSpPr>
          <p:sp>
            <p:nvSpPr>
              <p:cNvPr id="156" name="Text Box 35"/>
              <p:cNvSpPr/>
              <p:nvPr/>
            </p:nvSpPr>
            <p:spPr>
              <a:xfrm>
                <a:off x="409392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7" name="Oval 36"/>
              <p:cNvSpPr/>
              <p:nvPr/>
            </p:nvSpPr>
            <p:spPr>
              <a:xfrm>
                <a:off x="428616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8" name="Line 37"/>
            <p:cNvSpPr/>
            <p:nvPr/>
          </p:nvSpPr>
          <p:spPr>
            <a:xfrm>
              <a:off x="493704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Group 38"/>
            <p:cNvGrpSpPr/>
            <p:nvPr/>
          </p:nvGrpSpPr>
          <p:grpSpPr>
            <a:xfrm>
              <a:off x="4669920" y="3029040"/>
              <a:ext cx="388080" cy="506880"/>
              <a:chOff x="4669920" y="3029040"/>
              <a:chExt cx="388080" cy="506880"/>
            </a:xfrm>
          </p:grpSpPr>
          <p:sp>
            <p:nvSpPr>
              <p:cNvPr id="160" name="Text Box 39"/>
              <p:cNvSpPr/>
              <p:nvPr/>
            </p:nvSpPr>
            <p:spPr>
              <a:xfrm>
                <a:off x="466992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Oval 40"/>
              <p:cNvSpPr/>
              <p:nvPr/>
            </p:nvSpPr>
            <p:spPr>
              <a:xfrm>
                <a:off x="486216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2" name="Line 41"/>
            <p:cNvSpPr/>
            <p:nvPr/>
          </p:nvSpPr>
          <p:spPr>
            <a:xfrm>
              <a:off x="675648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63" name="Group 42"/>
            <p:cNvGrpSpPr/>
            <p:nvPr/>
          </p:nvGrpSpPr>
          <p:grpSpPr>
            <a:xfrm>
              <a:off x="6489360" y="3029040"/>
              <a:ext cx="388080" cy="506880"/>
              <a:chOff x="6489360" y="3029040"/>
              <a:chExt cx="388080" cy="506880"/>
            </a:xfrm>
          </p:grpSpPr>
          <p:sp>
            <p:nvSpPr>
              <p:cNvPr id="164" name="Text Box 43"/>
              <p:cNvSpPr/>
              <p:nvPr/>
            </p:nvSpPr>
            <p:spPr>
              <a:xfrm>
                <a:off x="648936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Oval 44"/>
              <p:cNvSpPr/>
              <p:nvPr/>
            </p:nvSpPr>
            <p:spPr>
              <a:xfrm>
                <a:off x="668160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6" name="Line 45"/>
            <p:cNvSpPr/>
            <p:nvPr/>
          </p:nvSpPr>
          <p:spPr>
            <a:xfrm>
              <a:off x="7313760" y="3100320"/>
              <a:ext cx="522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67" name="Group 46"/>
            <p:cNvGrpSpPr/>
            <p:nvPr/>
          </p:nvGrpSpPr>
          <p:grpSpPr>
            <a:xfrm>
              <a:off x="7046640" y="3029040"/>
              <a:ext cx="388080" cy="506880"/>
              <a:chOff x="7046640" y="3029040"/>
              <a:chExt cx="388080" cy="506880"/>
            </a:xfrm>
          </p:grpSpPr>
          <p:sp>
            <p:nvSpPr>
              <p:cNvPr id="168" name="Text Box 47"/>
              <p:cNvSpPr/>
              <p:nvPr/>
            </p:nvSpPr>
            <p:spPr>
              <a:xfrm>
                <a:off x="704664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Oval 48"/>
              <p:cNvSpPr/>
              <p:nvPr/>
            </p:nvSpPr>
            <p:spPr>
              <a:xfrm>
                <a:off x="723888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0" name="Line 49"/>
            <p:cNvSpPr/>
            <p:nvPr/>
          </p:nvSpPr>
          <p:spPr>
            <a:xfrm>
              <a:off x="7889760" y="3100320"/>
              <a:ext cx="522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71" name="Group 50"/>
            <p:cNvGrpSpPr/>
            <p:nvPr/>
          </p:nvGrpSpPr>
          <p:grpSpPr>
            <a:xfrm>
              <a:off x="7622640" y="3029040"/>
              <a:ext cx="388080" cy="506880"/>
              <a:chOff x="7622640" y="3029040"/>
              <a:chExt cx="388080" cy="506880"/>
            </a:xfrm>
          </p:grpSpPr>
          <p:sp>
            <p:nvSpPr>
              <p:cNvPr id="172" name="Text Box 51"/>
              <p:cNvSpPr/>
              <p:nvPr/>
            </p:nvSpPr>
            <p:spPr>
              <a:xfrm>
                <a:off x="7622640" y="32288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HY헤드라인M"/>
                  </a:rPr>
                  <a:t>cp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Oval 52"/>
              <p:cNvSpPr/>
              <p:nvPr/>
            </p:nvSpPr>
            <p:spPr>
              <a:xfrm>
                <a:off x="7814880" y="3029040"/>
                <a:ext cx="14436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4" name="Text Box 53"/>
          <p:cNvSpPr/>
          <p:nvPr/>
        </p:nvSpPr>
        <p:spPr>
          <a:xfrm>
            <a:off x="6824520" y="2685960"/>
            <a:ext cx="1582920" cy="307080"/>
          </a:xfrm>
          <a:prstGeom prst="rect">
            <a:avLst/>
          </a:prstGeom>
          <a:solidFill>
            <a:srgbClr val="008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  <a:ea typeface="HY헤드라인M"/>
              </a:rPr>
              <a:t>* cp : check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AutoShape 54"/>
          <p:cNvSpPr/>
          <p:nvPr/>
        </p:nvSpPr>
        <p:spPr>
          <a:xfrm>
            <a:off x="519120" y="4522680"/>
            <a:ext cx="8210520" cy="216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o need for re-simulation from simulation time 0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Once re-simulation of any single slice is done, actual debugging process can star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AutoShape 55"/>
          <p:cNvSpPr/>
          <p:nvPr/>
        </p:nvSpPr>
        <p:spPr>
          <a:xfrm>
            <a:off x="241560" y="4287240"/>
            <a:ext cx="4133880" cy="4413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lice Re-Simulation (2nd Pas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7" name="Group 56"/>
          <p:cNvGrpSpPr/>
          <p:nvPr/>
        </p:nvGrpSpPr>
        <p:grpSpPr>
          <a:xfrm>
            <a:off x="632880" y="4772160"/>
            <a:ext cx="7774200" cy="1231200"/>
            <a:chOff x="632880" y="4772160"/>
            <a:chExt cx="7774200" cy="1231200"/>
          </a:xfrm>
        </p:grpSpPr>
        <p:grpSp>
          <p:nvGrpSpPr>
            <p:cNvPr id="178" name="Group 57"/>
            <p:cNvGrpSpPr/>
            <p:nvPr/>
          </p:nvGrpSpPr>
          <p:grpSpPr>
            <a:xfrm>
              <a:off x="632880" y="4772160"/>
              <a:ext cx="7774200" cy="649800"/>
              <a:chOff x="632880" y="4772160"/>
              <a:chExt cx="7774200" cy="649800"/>
            </a:xfrm>
          </p:grpSpPr>
          <p:sp>
            <p:nvSpPr>
              <p:cNvPr id="179" name="Line 58"/>
              <p:cNvSpPr/>
              <p:nvPr/>
            </p:nvSpPr>
            <p:spPr>
              <a:xfrm>
                <a:off x="900000" y="477216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0" name="Line 59"/>
              <p:cNvSpPr/>
              <p:nvPr/>
            </p:nvSpPr>
            <p:spPr>
              <a:xfrm>
                <a:off x="900000" y="4986360"/>
                <a:ext cx="52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1" name="Line 60"/>
              <p:cNvSpPr/>
              <p:nvPr/>
            </p:nvSpPr>
            <p:spPr>
              <a:xfrm>
                <a:off x="5435280" y="4988160"/>
                <a:ext cx="1224000" cy="0"/>
              </a:xfrm>
              <a:prstGeom prst="line">
                <a:avLst/>
              </a:prstGeom>
              <a:ln w="28440">
                <a:solidFill>
                  <a:srgbClr val="99cc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82" name="Group 61"/>
              <p:cNvGrpSpPr/>
              <p:nvPr/>
            </p:nvGrpSpPr>
            <p:grpSpPr>
              <a:xfrm>
                <a:off x="632880" y="4915080"/>
                <a:ext cx="388080" cy="506880"/>
                <a:chOff x="632880" y="4915080"/>
                <a:chExt cx="388080" cy="506880"/>
              </a:xfrm>
            </p:grpSpPr>
            <p:sp>
              <p:nvSpPr>
                <p:cNvPr id="183" name="Text Box 62"/>
                <p:cNvSpPr/>
                <p:nvPr/>
              </p:nvSpPr>
              <p:spPr>
                <a:xfrm>
                  <a:off x="63288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4" name="Oval 63"/>
                <p:cNvSpPr/>
                <p:nvPr/>
              </p:nvSpPr>
              <p:spPr>
                <a:xfrm>
                  <a:off x="82512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5" name="Line 64"/>
              <p:cNvSpPr/>
              <p:nvPr/>
            </p:nvSpPr>
            <p:spPr>
              <a:xfrm>
                <a:off x="145692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86" name="Group 65"/>
              <p:cNvGrpSpPr/>
              <p:nvPr/>
            </p:nvGrpSpPr>
            <p:grpSpPr>
              <a:xfrm>
                <a:off x="1190160" y="4915080"/>
                <a:ext cx="388080" cy="506880"/>
                <a:chOff x="1190160" y="4915080"/>
                <a:chExt cx="388080" cy="506880"/>
              </a:xfrm>
            </p:grpSpPr>
            <p:sp>
              <p:nvSpPr>
                <p:cNvPr id="187" name="Text Box 66"/>
                <p:cNvSpPr/>
                <p:nvPr/>
              </p:nvSpPr>
              <p:spPr>
                <a:xfrm>
                  <a:off x="119016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8" name="Oval 67"/>
                <p:cNvSpPr/>
                <p:nvPr/>
              </p:nvSpPr>
              <p:spPr>
                <a:xfrm>
                  <a:off x="138240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9" name="Line 68"/>
              <p:cNvSpPr/>
              <p:nvPr/>
            </p:nvSpPr>
            <p:spPr>
              <a:xfrm>
                <a:off x="203328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90" name="Group 69"/>
              <p:cNvGrpSpPr/>
              <p:nvPr/>
            </p:nvGrpSpPr>
            <p:grpSpPr>
              <a:xfrm>
                <a:off x="1766160" y="4915080"/>
                <a:ext cx="388080" cy="506880"/>
                <a:chOff x="1766160" y="4915080"/>
                <a:chExt cx="388080" cy="506880"/>
              </a:xfrm>
            </p:grpSpPr>
            <p:sp>
              <p:nvSpPr>
                <p:cNvPr id="191" name="Text Box 70"/>
                <p:cNvSpPr/>
                <p:nvPr/>
              </p:nvSpPr>
              <p:spPr>
                <a:xfrm>
                  <a:off x="176616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2" name="Oval 71"/>
                <p:cNvSpPr/>
                <p:nvPr/>
              </p:nvSpPr>
              <p:spPr>
                <a:xfrm>
                  <a:off x="195840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3" name="Line 72"/>
              <p:cNvSpPr/>
              <p:nvPr/>
            </p:nvSpPr>
            <p:spPr>
              <a:xfrm>
                <a:off x="260964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94" name="Group 73"/>
              <p:cNvGrpSpPr/>
              <p:nvPr/>
            </p:nvGrpSpPr>
            <p:grpSpPr>
              <a:xfrm>
                <a:off x="2342520" y="4915080"/>
                <a:ext cx="388080" cy="506880"/>
                <a:chOff x="2342520" y="4915080"/>
                <a:chExt cx="388080" cy="506880"/>
              </a:xfrm>
            </p:grpSpPr>
            <p:sp>
              <p:nvSpPr>
                <p:cNvPr id="195" name="Text Box 74"/>
                <p:cNvSpPr/>
                <p:nvPr/>
              </p:nvSpPr>
              <p:spPr>
                <a:xfrm>
                  <a:off x="234252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6" name="Oval 75"/>
                <p:cNvSpPr/>
                <p:nvPr/>
              </p:nvSpPr>
              <p:spPr>
                <a:xfrm>
                  <a:off x="253476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7" name="Line 76"/>
              <p:cNvSpPr/>
              <p:nvPr/>
            </p:nvSpPr>
            <p:spPr>
              <a:xfrm>
                <a:off x="3186000" y="4986360"/>
                <a:ext cx="52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98" name="Group 77"/>
              <p:cNvGrpSpPr/>
              <p:nvPr/>
            </p:nvGrpSpPr>
            <p:grpSpPr>
              <a:xfrm>
                <a:off x="2918880" y="4915080"/>
                <a:ext cx="388080" cy="506880"/>
                <a:chOff x="2918880" y="4915080"/>
                <a:chExt cx="388080" cy="506880"/>
              </a:xfrm>
            </p:grpSpPr>
            <p:sp>
              <p:nvSpPr>
                <p:cNvPr id="199" name="Text Box 78"/>
                <p:cNvSpPr/>
                <p:nvPr/>
              </p:nvSpPr>
              <p:spPr>
                <a:xfrm>
                  <a:off x="291888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0" name="Oval 79"/>
                <p:cNvSpPr/>
                <p:nvPr/>
              </p:nvSpPr>
              <p:spPr>
                <a:xfrm>
                  <a:off x="311112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1" name="Line 80"/>
              <p:cNvSpPr/>
              <p:nvPr/>
            </p:nvSpPr>
            <p:spPr>
              <a:xfrm>
                <a:off x="376056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02" name="Group 81"/>
              <p:cNvGrpSpPr/>
              <p:nvPr/>
            </p:nvGrpSpPr>
            <p:grpSpPr>
              <a:xfrm>
                <a:off x="3493440" y="4915080"/>
                <a:ext cx="388080" cy="506880"/>
                <a:chOff x="3493440" y="4915080"/>
                <a:chExt cx="388080" cy="506880"/>
              </a:xfrm>
            </p:grpSpPr>
            <p:sp>
              <p:nvSpPr>
                <p:cNvPr id="203" name="Text Box 82"/>
                <p:cNvSpPr/>
                <p:nvPr/>
              </p:nvSpPr>
              <p:spPr>
                <a:xfrm>
                  <a:off x="349344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Oval 83"/>
                <p:cNvSpPr/>
                <p:nvPr/>
              </p:nvSpPr>
              <p:spPr>
                <a:xfrm>
                  <a:off x="368568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5" name="Line 84"/>
              <p:cNvSpPr/>
              <p:nvPr/>
            </p:nvSpPr>
            <p:spPr>
              <a:xfrm>
                <a:off x="4336920" y="4986360"/>
                <a:ext cx="52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06" name="Group 85"/>
              <p:cNvGrpSpPr/>
              <p:nvPr/>
            </p:nvGrpSpPr>
            <p:grpSpPr>
              <a:xfrm>
                <a:off x="4069800" y="4915080"/>
                <a:ext cx="388080" cy="506880"/>
                <a:chOff x="4069800" y="4915080"/>
                <a:chExt cx="388080" cy="506880"/>
              </a:xfrm>
            </p:grpSpPr>
            <p:sp>
              <p:nvSpPr>
                <p:cNvPr id="207" name="Text Box 86"/>
                <p:cNvSpPr/>
                <p:nvPr/>
              </p:nvSpPr>
              <p:spPr>
                <a:xfrm>
                  <a:off x="406980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8" name="Oval 87"/>
                <p:cNvSpPr/>
                <p:nvPr/>
              </p:nvSpPr>
              <p:spPr>
                <a:xfrm>
                  <a:off x="426204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9" name="Line 88"/>
              <p:cNvSpPr/>
              <p:nvPr/>
            </p:nvSpPr>
            <p:spPr>
              <a:xfrm>
                <a:off x="491292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10" name="Group 89"/>
              <p:cNvGrpSpPr/>
              <p:nvPr/>
            </p:nvGrpSpPr>
            <p:grpSpPr>
              <a:xfrm>
                <a:off x="4646160" y="4915080"/>
                <a:ext cx="388080" cy="506880"/>
                <a:chOff x="4646160" y="4915080"/>
                <a:chExt cx="388080" cy="506880"/>
              </a:xfrm>
            </p:grpSpPr>
            <p:sp>
              <p:nvSpPr>
                <p:cNvPr id="211" name="Text Box 90"/>
                <p:cNvSpPr/>
                <p:nvPr/>
              </p:nvSpPr>
              <p:spPr>
                <a:xfrm>
                  <a:off x="464616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Oval 91"/>
                <p:cNvSpPr/>
                <p:nvPr/>
              </p:nvSpPr>
              <p:spPr>
                <a:xfrm>
                  <a:off x="483840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3" name="Line 92"/>
              <p:cNvSpPr/>
              <p:nvPr/>
            </p:nvSpPr>
            <p:spPr>
              <a:xfrm>
                <a:off x="673236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14" name="Group 93"/>
              <p:cNvGrpSpPr/>
              <p:nvPr/>
            </p:nvGrpSpPr>
            <p:grpSpPr>
              <a:xfrm>
                <a:off x="6465240" y="4915080"/>
                <a:ext cx="388080" cy="506880"/>
                <a:chOff x="6465240" y="4915080"/>
                <a:chExt cx="388080" cy="506880"/>
              </a:xfrm>
            </p:grpSpPr>
            <p:sp>
              <p:nvSpPr>
                <p:cNvPr id="215" name="Text Box 94"/>
                <p:cNvSpPr/>
                <p:nvPr/>
              </p:nvSpPr>
              <p:spPr>
                <a:xfrm>
                  <a:off x="646524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6" name="Oval 95"/>
                <p:cNvSpPr/>
                <p:nvPr/>
              </p:nvSpPr>
              <p:spPr>
                <a:xfrm>
                  <a:off x="665748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7" name="Line 96"/>
              <p:cNvSpPr/>
              <p:nvPr/>
            </p:nvSpPr>
            <p:spPr>
              <a:xfrm>
                <a:off x="7308720" y="4986360"/>
                <a:ext cx="5220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18" name="Group 97"/>
              <p:cNvGrpSpPr/>
              <p:nvPr/>
            </p:nvGrpSpPr>
            <p:grpSpPr>
              <a:xfrm>
                <a:off x="7041600" y="4915080"/>
                <a:ext cx="388080" cy="506880"/>
                <a:chOff x="7041600" y="4915080"/>
                <a:chExt cx="388080" cy="506880"/>
              </a:xfrm>
            </p:grpSpPr>
            <p:sp>
              <p:nvSpPr>
                <p:cNvPr id="219" name="Text Box 98"/>
                <p:cNvSpPr/>
                <p:nvPr/>
              </p:nvSpPr>
              <p:spPr>
                <a:xfrm>
                  <a:off x="704160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Oval 99"/>
                <p:cNvSpPr/>
                <p:nvPr/>
              </p:nvSpPr>
              <p:spPr>
                <a:xfrm>
                  <a:off x="723384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1" name="Line 100"/>
              <p:cNvSpPr/>
              <p:nvPr/>
            </p:nvSpPr>
            <p:spPr>
              <a:xfrm>
                <a:off x="7884720" y="4986360"/>
                <a:ext cx="522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2" name="Group 101"/>
              <p:cNvGrpSpPr/>
              <p:nvPr/>
            </p:nvGrpSpPr>
            <p:grpSpPr>
              <a:xfrm>
                <a:off x="7617960" y="4915080"/>
                <a:ext cx="388080" cy="506880"/>
                <a:chOff x="7617960" y="4915080"/>
                <a:chExt cx="388080" cy="506880"/>
              </a:xfrm>
            </p:grpSpPr>
            <p:sp>
              <p:nvSpPr>
                <p:cNvPr id="223" name="Text Box 102"/>
                <p:cNvSpPr/>
                <p:nvPr/>
              </p:nvSpPr>
              <p:spPr>
                <a:xfrm>
                  <a:off x="7617960" y="5114880"/>
                  <a:ext cx="38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HY헤드라인M"/>
                    </a:rPr>
                    <a:t>cp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4" name="Oval 103"/>
                <p:cNvSpPr/>
                <p:nvPr/>
              </p:nvSpPr>
              <p:spPr>
                <a:xfrm>
                  <a:off x="7810200" y="4915080"/>
                  <a:ext cx="144360" cy="142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225" name="Line 104"/>
            <p:cNvSpPr/>
            <p:nvPr/>
          </p:nvSpPr>
          <p:spPr>
            <a:xfrm>
              <a:off x="6740280" y="5622840"/>
              <a:ext cx="5763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Line 105"/>
            <p:cNvSpPr/>
            <p:nvPr/>
          </p:nvSpPr>
          <p:spPr>
            <a:xfrm>
              <a:off x="7387920" y="5622840"/>
              <a:ext cx="5763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7" name="Group 106"/>
            <p:cNvGrpSpPr/>
            <p:nvPr/>
          </p:nvGrpSpPr>
          <p:grpSpPr>
            <a:xfrm>
              <a:off x="828360" y="5635800"/>
              <a:ext cx="5759640" cy="367560"/>
              <a:chOff x="828360" y="5635800"/>
              <a:chExt cx="5759640" cy="367560"/>
            </a:xfrm>
          </p:grpSpPr>
          <p:sp>
            <p:nvSpPr>
              <p:cNvPr id="228" name="Line 107"/>
              <p:cNvSpPr/>
              <p:nvPr/>
            </p:nvSpPr>
            <p:spPr>
              <a:xfrm>
                <a:off x="828360" y="5635800"/>
                <a:ext cx="57596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prstDash val="dash"/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9" name="Text Box 108"/>
              <p:cNvSpPr/>
              <p:nvPr/>
            </p:nvSpPr>
            <p:spPr>
              <a:xfrm>
                <a:off x="900000" y="5635800"/>
                <a:ext cx="547344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81080" indent="-181080"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9999"/>
                    </a:solidFill>
                    <a:latin typeface="Arial"/>
                    <a:ea typeface="HY헤드라인M"/>
                  </a:rPr>
                  <a:t>Time saved</a:t>
                </a:r>
                <a:endParaRPr b="0" lang="en-US" sz="15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30" name="AutoShape 109"/>
          <p:cNvSpPr/>
          <p:nvPr/>
        </p:nvSpPr>
        <p:spPr>
          <a:xfrm>
            <a:off x="554040" y="1583640"/>
            <a:ext cx="822024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arter Simulation with SSi-1 is two-pass simulation based on unique design state checkpoint and re-star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Rectangle 110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 (1/3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Rectangle 112"/>
          <p:cNvSpPr/>
          <p:nvPr/>
        </p:nvSpPr>
        <p:spPr>
          <a:xfrm>
            <a:off x="6584040" y="5661000"/>
            <a:ext cx="7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  <a:ea typeface="HY헤드라인M"/>
              </a:rPr>
              <a:t>restart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C86-6356-4275-AA1B-1E0F8445B90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12680" y="858600"/>
            <a:ext cx="3505680" cy="340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raditional simulation with full du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Line 5"/>
          <p:cNvSpPr/>
          <p:nvPr/>
        </p:nvSpPr>
        <p:spPr>
          <a:xfrm>
            <a:off x="826920" y="2055960"/>
            <a:ext cx="792180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629160" y="2058840"/>
            <a:ext cx="154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Courier New"/>
              </a:rPr>
              <a:t>t_f0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AutoShape 26"/>
          <p:cNvSpPr/>
          <p:nvPr/>
        </p:nvSpPr>
        <p:spPr>
          <a:xfrm>
            <a:off x="116640" y="2506680"/>
            <a:ext cx="4508640" cy="340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raditional simulation with multiple partial du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3688920" y="876240"/>
            <a:ext cx="2493360" cy="306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Simulation time = t_f0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AutoShape 36"/>
          <p:cNvSpPr/>
          <p:nvPr/>
        </p:nvSpPr>
        <p:spPr>
          <a:xfrm>
            <a:off x="4683240" y="2516400"/>
            <a:ext cx="4047840" cy="306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Simulation time = </a:t>
            </a:r>
            <a:r>
              <a:rPr b="1" i="1" lang="en-US" sz="1200" spc="-1" strike="noStrike">
                <a:solidFill>
                  <a:srgbClr val="333399"/>
                </a:solidFill>
                <a:latin typeface="Courier New"/>
              </a:rPr>
              <a:t>t_p0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1200" spc="-1" strike="noStrike">
                <a:solidFill>
                  <a:srgbClr val="333399"/>
                </a:solidFill>
                <a:latin typeface="Courier New"/>
              </a:rPr>
              <a:t>t_p1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 + … + </a:t>
            </a:r>
            <a:r>
              <a:rPr b="1" i="1" lang="en-US" sz="1200" spc="-1" strike="noStrike">
                <a:solidFill>
                  <a:srgbClr val="333399"/>
                </a:solidFill>
                <a:latin typeface="Courier New"/>
              </a:rPr>
              <a:t>t_p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AutoShape 37"/>
          <p:cNvSpPr/>
          <p:nvPr/>
        </p:nvSpPr>
        <p:spPr>
          <a:xfrm>
            <a:off x="119880" y="4125960"/>
            <a:ext cx="2604960" cy="340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ew simulation with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SSi-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41"/>
          <p:cNvSpPr/>
          <p:nvPr/>
        </p:nvSpPr>
        <p:spPr>
          <a:xfrm>
            <a:off x="250920" y="4941720"/>
            <a:ext cx="2197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st Pass:</a:t>
            </a:r>
            <a:r>
              <a:rPr b="1" i="1" lang="en-US" sz="1300" spc="-1" strike="noStrike">
                <a:solidFill>
                  <a:srgbClr val="ff3300"/>
                </a:solidFill>
                <a:latin typeface="Courier New"/>
              </a:rPr>
              <a:t> t_s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42"/>
          <p:cNvSpPr/>
          <p:nvPr/>
        </p:nvSpPr>
        <p:spPr>
          <a:xfrm>
            <a:off x="250920" y="551484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ce Re-simulation with dum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nd Pass: </a:t>
            </a:r>
            <a:r>
              <a:rPr b="1" i="1" lang="en-US" sz="1300" spc="-1" strike="noStrike">
                <a:solidFill>
                  <a:srgbClr val="008000"/>
                </a:solidFill>
                <a:latin typeface="Courier New"/>
              </a:rPr>
              <a:t>t_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AutoShape 43"/>
          <p:cNvSpPr/>
          <p:nvPr/>
        </p:nvSpPr>
        <p:spPr>
          <a:xfrm>
            <a:off x="2787480" y="4141800"/>
            <a:ext cx="3656160" cy="3060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Simulation time = </a:t>
            </a:r>
            <a:r>
              <a:rPr b="1" i="1" lang="en-US" sz="1200" spc="-1" strike="noStrike">
                <a:solidFill>
                  <a:srgbClr val="ff3300"/>
                </a:solidFill>
                <a:latin typeface="Courier New"/>
              </a:rPr>
              <a:t>t_s1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1200" spc="-1" strike="noStrike">
                <a:solidFill>
                  <a:srgbClr val="008000"/>
                </a:solidFill>
                <a:latin typeface="Courier New"/>
              </a:rPr>
              <a:t>t_s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836640" y="1324080"/>
            <a:ext cx="7888320" cy="598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831960" y="1303200"/>
            <a:ext cx="7894440" cy="611280"/>
            <a:chOff x="831960" y="1303200"/>
            <a:chExt cx="7894440" cy="611280"/>
          </a:xfrm>
        </p:grpSpPr>
        <p:sp>
          <p:nvSpPr>
            <p:cNvPr id="246" name="Rectangle 47"/>
            <p:cNvSpPr/>
            <p:nvPr/>
          </p:nvSpPr>
          <p:spPr>
            <a:xfrm>
              <a:off x="831960" y="1406520"/>
              <a:ext cx="7588080" cy="4366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AutoShape 48"/>
            <p:cNvSpPr/>
            <p:nvPr/>
          </p:nvSpPr>
          <p:spPr>
            <a:xfrm rot="5400000">
              <a:off x="8264520" y="1452600"/>
              <a:ext cx="611280" cy="3124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8" name="AutoShape 49"/>
          <p:cNvSpPr/>
          <p:nvPr/>
        </p:nvSpPr>
        <p:spPr>
          <a:xfrm>
            <a:off x="6458040" y="5000400"/>
            <a:ext cx="245880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imulation faster than traditional full or partial dump 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AutoShape 50"/>
          <p:cNvSpPr/>
          <p:nvPr/>
        </p:nvSpPr>
        <p:spPr>
          <a:xfrm>
            <a:off x="5673600" y="4878360"/>
            <a:ext cx="746280" cy="110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 (2/3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Line 54"/>
          <p:cNvSpPr/>
          <p:nvPr/>
        </p:nvSpPr>
        <p:spPr>
          <a:xfrm>
            <a:off x="844560" y="3687840"/>
            <a:ext cx="16588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Text Box 55"/>
          <p:cNvSpPr/>
          <p:nvPr/>
        </p:nvSpPr>
        <p:spPr>
          <a:xfrm>
            <a:off x="1336680" y="373068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3399"/>
                </a:solidFill>
                <a:latin typeface="Courier New"/>
              </a:rPr>
              <a:t>t_p0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Line 56"/>
          <p:cNvSpPr/>
          <p:nvPr/>
        </p:nvSpPr>
        <p:spPr>
          <a:xfrm>
            <a:off x="2562120" y="3687840"/>
            <a:ext cx="16588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Text Box 57"/>
          <p:cNvSpPr/>
          <p:nvPr/>
        </p:nvSpPr>
        <p:spPr>
          <a:xfrm>
            <a:off x="3054240" y="373068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3399"/>
                </a:solidFill>
                <a:latin typeface="Courier New"/>
              </a:rPr>
              <a:t>t_p1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Line 58"/>
          <p:cNvSpPr/>
          <p:nvPr/>
        </p:nvSpPr>
        <p:spPr>
          <a:xfrm>
            <a:off x="4281480" y="3687840"/>
            <a:ext cx="162864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4773600" y="373068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3399"/>
                </a:solidFill>
                <a:latin typeface="Courier New"/>
              </a:rPr>
              <a:t>t_p2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Line 60"/>
          <p:cNvSpPr/>
          <p:nvPr/>
        </p:nvSpPr>
        <p:spPr>
          <a:xfrm>
            <a:off x="7085160" y="3687840"/>
            <a:ext cx="162864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678800" y="3730680"/>
            <a:ext cx="57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3399"/>
                </a:solidFill>
                <a:latin typeface="Courier New"/>
              </a:rPr>
              <a:t>t_p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6215040" y="3730680"/>
            <a:ext cx="57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0" name="Group 115"/>
          <p:cNvGrpSpPr/>
          <p:nvPr/>
        </p:nvGrpSpPr>
        <p:grpSpPr>
          <a:xfrm>
            <a:off x="819000" y="2997360"/>
            <a:ext cx="7925040" cy="598320"/>
            <a:chOff x="819000" y="2997360"/>
            <a:chExt cx="7925040" cy="598320"/>
          </a:xfrm>
        </p:grpSpPr>
        <p:sp>
          <p:nvSpPr>
            <p:cNvPr id="261" name="Rectangle 114"/>
            <p:cNvSpPr/>
            <p:nvPr/>
          </p:nvSpPr>
          <p:spPr>
            <a:xfrm>
              <a:off x="5972040" y="2997360"/>
              <a:ext cx="1059120" cy="59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Rectangle 64"/>
            <p:cNvSpPr/>
            <p:nvPr/>
          </p:nvSpPr>
          <p:spPr>
            <a:xfrm>
              <a:off x="836640" y="2997360"/>
              <a:ext cx="1647720" cy="59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>
              <a:off x="819000" y="3094200"/>
              <a:ext cx="1665360" cy="0"/>
            </a:xfrm>
            <a:prstGeom prst="line">
              <a:avLst/>
            </a:prstGeom>
            <a:ln w="8244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Rectangle 66"/>
            <p:cNvSpPr/>
            <p:nvPr/>
          </p:nvSpPr>
          <p:spPr>
            <a:xfrm>
              <a:off x="2556000" y="2997360"/>
              <a:ext cx="1647720" cy="59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Line 67"/>
            <p:cNvSpPr/>
            <p:nvPr/>
          </p:nvSpPr>
          <p:spPr>
            <a:xfrm>
              <a:off x="2538360" y="3166920"/>
              <a:ext cx="1665360" cy="0"/>
            </a:xfrm>
            <a:prstGeom prst="line">
              <a:avLst/>
            </a:prstGeom>
            <a:ln w="8244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Rectangle 68"/>
            <p:cNvSpPr/>
            <p:nvPr/>
          </p:nvSpPr>
          <p:spPr>
            <a:xfrm>
              <a:off x="4267080" y="2997360"/>
              <a:ext cx="1648080" cy="59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Line 69"/>
            <p:cNvSpPr/>
            <p:nvPr/>
          </p:nvSpPr>
          <p:spPr>
            <a:xfrm>
              <a:off x="4267080" y="3227400"/>
              <a:ext cx="1683000" cy="0"/>
            </a:xfrm>
            <a:prstGeom prst="line">
              <a:avLst/>
            </a:prstGeom>
            <a:ln w="8244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Rectangle 70"/>
            <p:cNvSpPr/>
            <p:nvPr/>
          </p:nvSpPr>
          <p:spPr>
            <a:xfrm>
              <a:off x="7070760" y="2997360"/>
              <a:ext cx="1647720" cy="598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Line 71"/>
            <p:cNvSpPr/>
            <p:nvPr/>
          </p:nvSpPr>
          <p:spPr>
            <a:xfrm>
              <a:off x="7078680" y="3498840"/>
              <a:ext cx="1665360" cy="0"/>
            </a:xfrm>
            <a:prstGeom prst="line">
              <a:avLst/>
            </a:prstGeom>
            <a:ln w="82440">
              <a:solidFill>
                <a:srgbClr val="ffff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Line 73"/>
            <p:cNvSpPr/>
            <p:nvPr/>
          </p:nvSpPr>
          <p:spPr>
            <a:xfrm>
              <a:off x="5985000" y="3303720"/>
              <a:ext cx="1017360" cy="0"/>
            </a:xfrm>
            <a:prstGeom prst="line">
              <a:avLst/>
            </a:prstGeom>
            <a:ln cap="rnd" w="3816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1" name="Text Box 74"/>
          <p:cNvSpPr/>
          <p:nvPr/>
        </p:nvSpPr>
        <p:spPr>
          <a:xfrm>
            <a:off x="4346640" y="6364440"/>
            <a:ext cx="54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8000"/>
                </a:solidFill>
                <a:latin typeface="Courier New"/>
              </a:rPr>
              <a:t>t_s2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2454120" y="4727520"/>
            <a:ext cx="290520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Text Box 76"/>
          <p:cNvSpPr/>
          <p:nvPr/>
        </p:nvSpPr>
        <p:spPr>
          <a:xfrm>
            <a:off x="3587760" y="4437000"/>
            <a:ext cx="716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3300"/>
                </a:solidFill>
                <a:latin typeface="Courier New"/>
              </a:rPr>
              <a:t>t_s1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Line 77"/>
          <p:cNvSpPr/>
          <p:nvPr/>
        </p:nvSpPr>
        <p:spPr>
          <a:xfrm>
            <a:off x="4540320" y="6329520"/>
            <a:ext cx="144360" cy="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5" name="Group 78"/>
          <p:cNvGrpSpPr/>
          <p:nvPr/>
        </p:nvGrpSpPr>
        <p:grpSpPr>
          <a:xfrm>
            <a:off x="2449440" y="4818240"/>
            <a:ext cx="2933640" cy="1448640"/>
            <a:chOff x="2449440" y="4818240"/>
            <a:chExt cx="2933640" cy="1448640"/>
          </a:xfrm>
        </p:grpSpPr>
        <p:sp>
          <p:nvSpPr>
            <p:cNvPr id="276" name="Rectangle 79"/>
            <p:cNvSpPr/>
            <p:nvPr/>
          </p:nvSpPr>
          <p:spPr>
            <a:xfrm>
              <a:off x="2457360" y="4818240"/>
              <a:ext cx="2925720" cy="1431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Text Box 80"/>
            <p:cNvSpPr/>
            <p:nvPr/>
          </p:nvSpPr>
          <p:spPr>
            <a:xfrm>
              <a:off x="4279680" y="587700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restor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Line 81"/>
            <p:cNvSpPr/>
            <p:nvPr/>
          </p:nvSpPr>
          <p:spPr>
            <a:xfrm>
              <a:off x="2457360" y="5645160"/>
              <a:ext cx="2095560" cy="0"/>
            </a:xfrm>
            <a:prstGeom prst="line">
              <a:avLst/>
            </a:prstGeom>
            <a:ln w="3492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79" name="Group 82"/>
            <p:cNvGrpSpPr/>
            <p:nvPr/>
          </p:nvGrpSpPr>
          <p:grpSpPr>
            <a:xfrm>
              <a:off x="4570200" y="5353200"/>
              <a:ext cx="87120" cy="587520"/>
              <a:chOff x="4570200" y="5353200"/>
              <a:chExt cx="87120" cy="587520"/>
            </a:xfrm>
          </p:grpSpPr>
          <p:sp>
            <p:nvSpPr>
              <p:cNvPr id="280" name="Line 83"/>
              <p:cNvSpPr/>
              <p:nvPr/>
            </p:nvSpPr>
            <p:spPr>
              <a:xfrm>
                <a:off x="4570200" y="5465880"/>
                <a:ext cx="0" cy="393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1" name="AutoShape 84"/>
              <p:cNvSpPr/>
              <p:nvPr/>
            </p:nvSpPr>
            <p:spPr>
              <a:xfrm rot="5400000">
                <a:off x="4326840" y="5610240"/>
                <a:ext cx="587520" cy="7308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82" name="Text Box 85"/>
            <p:cNvSpPr/>
            <p:nvPr/>
          </p:nvSpPr>
          <p:spPr>
            <a:xfrm>
              <a:off x="2760480" y="5670720"/>
              <a:ext cx="1452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kip ( time saving )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o any checkpoint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83" name="Group 86"/>
            <p:cNvGrpSpPr/>
            <p:nvPr/>
          </p:nvGrpSpPr>
          <p:grpSpPr>
            <a:xfrm>
              <a:off x="2449440" y="4926240"/>
              <a:ext cx="2933640" cy="338040"/>
              <a:chOff x="2449440" y="4926240"/>
              <a:chExt cx="2933640" cy="338040"/>
            </a:xfrm>
          </p:grpSpPr>
          <p:sp>
            <p:nvSpPr>
              <p:cNvPr id="284" name="Line 87"/>
              <p:cNvSpPr/>
              <p:nvPr/>
            </p:nvSpPr>
            <p:spPr>
              <a:xfrm>
                <a:off x="4147920" y="5264280"/>
                <a:ext cx="1235160" cy="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253692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6" name="Line 89"/>
              <p:cNvSpPr/>
              <p:nvPr/>
            </p:nvSpPr>
            <p:spPr>
              <a:xfrm>
                <a:off x="2449440" y="5262840"/>
                <a:ext cx="1209600" cy="0"/>
              </a:xfrm>
              <a:prstGeom prst="line">
                <a:avLst/>
              </a:prstGeom>
              <a:ln w="349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7" name="Line 90"/>
              <p:cNvSpPr/>
              <p:nvPr/>
            </p:nvSpPr>
            <p:spPr>
              <a:xfrm>
                <a:off x="3686040" y="5262840"/>
                <a:ext cx="432000" cy="0"/>
              </a:xfrm>
              <a:prstGeom prst="line">
                <a:avLst/>
              </a:prstGeom>
              <a:ln cap="rnd" w="34920">
                <a:solidFill>
                  <a:srgbClr val="ff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8" name="Line 91"/>
              <p:cNvSpPr/>
              <p:nvPr/>
            </p:nvSpPr>
            <p:spPr>
              <a:xfrm>
                <a:off x="26384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9" name="Line 92"/>
              <p:cNvSpPr/>
              <p:nvPr/>
            </p:nvSpPr>
            <p:spPr>
              <a:xfrm>
                <a:off x="273852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0" name="Line 93"/>
              <p:cNvSpPr/>
              <p:nvPr/>
            </p:nvSpPr>
            <p:spPr>
              <a:xfrm>
                <a:off x="28400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1" name="Line 94"/>
              <p:cNvSpPr/>
              <p:nvPr/>
            </p:nvSpPr>
            <p:spPr>
              <a:xfrm>
                <a:off x="29415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2" name="Line 95"/>
              <p:cNvSpPr/>
              <p:nvPr/>
            </p:nvSpPr>
            <p:spPr>
              <a:xfrm>
                <a:off x="30416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3" name="Line 96"/>
              <p:cNvSpPr/>
              <p:nvPr/>
            </p:nvSpPr>
            <p:spPr>
              <a:xfrm>
                <a:off x="313668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4" name="Line 97"/>
              <p:cNvSpPr/>
              <p:nvPr/>
            </p:nvSpPr>
            <p:spPr>
              <a:xfrm>
                <a:off x="32385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5" name="Line 98"/>
              <p:cNvSpPr/>
              <p:nvPr/>
            </p:nvSpPr>
            <p:spPr>
              <a:xfrm>
                <a:off x="333828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6" name="Line 99"/>
              <p:cNvSpPr/>
              <p:nvPr/>
            </p:nvSpPr>
            <p:spPr>
              <a:xfrm>
                <a:off x="34401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54168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6417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9" name="Line 102"/>
              <p:cNvSpPr/>
              <p:nvPr/>
            </p:nvSpPr>
            <p:spPr>
              <a:xfrm>
                <a:off x="416232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0" name="Line 103"/>
              <p:cNvSpPr/>
              <p:nvPr/>
            </p:nvSpPr>
            <p:spPr>
              <a:xfrm>
                <a:off x="42638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1" name="Line 104"/>
              <p:cNvSpPr/>
              <p:nvPr/>
            </p:nvSpPr>
            <p:spPr>
              <a:xfrm>
                <a:off x="436392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2" name="Line 105"/>
              <p:cNvSpPr/>
              <p:nvPr/>
            </p:nvSpPr>
            <p:spPr>
              <a:xfrm>
                <a:off x="44654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3" name="Line 106"/>
              <p:cNvSpPr/>
              <p:nvPr/>
            </p:nvSpPr>
            <p:spPr>
              <a:xfrm>
                <a:off x="456732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4" name="Line 107"/>
              <p:cNvSpPr/>
              <p:nvPr/>
            </p:nvSpPr>
            <p:spPr>
              <a:xfrm>
                <a:off x="46670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5" name="Line 108"/>
              <p:cNvSpPr/>
              <p:nvPr/>
            </p:nvSpPr>
            <p:spPr>
              <a:xfrm>
                <a:off x="47624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6" name="Line 109"/>
              <p:cNvSpPr/>
              <p:nvPr/>
            </p:nvSpPr>
            <p:spPr>
              <a:xfrm>
                <a:off x="48639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7" name="Line 110"/>
              <p:cNvSpPr/>
              <p:nvPr/>
            </p:nvSpPr>
            <p:spPr>
              <a:xfrm>
                <a:off x="496404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8" name="Line 111"/>
              <p:cNvSpPr/>
              <p:nvPr/>
            </p:nvSpPr>
            <p:spPr>
              <a:xfrm>
                <a:off x="506556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9" name="Line 112"/>
              <p:cNvSpPr/>
              <p:nvPr/>
            </p:nvSpPr>
            <p:spPr>
              <a:xfrm>
                <a:off x="5167080" y="4926240"/>
                <a:ext cx="0" cy="33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D6EF-87DD-4F2A-A36D-D1F78340A9B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09440" y="902160"/>
            <a:ext cx="8685360" cy="475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Traditional (simulation state) checkpoint and re-start </a:t>
            </a:r>
            <a:r>
              <a:rPr b="1" i="1" lang="en-US" sz="1800" spc="-1" strike="noStrike">
                <a:solidFill>
                  <a:srgbClr val="ffff99"/>
                </a:solidFill>
                <a:latin typeface="굴림"/>
              </a:rPr>
              <a:t>vs.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i="1" lang="en-US" sz="2200" spc="-1" strike="noStrike">
                <a:solidFill>
                  <a:srgbClr val="ffff99"/>
                </a:solidFill>
                <a:latin typeface="Arial"/>
              </a:rPr>
              <a:t>SSi-1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68360" y="2565360"/>
          <a:ext cx="8342280" cy="3394080"/>
        </p:xfrm>
        <a:graphic>
          <a:graphicData uri="http://schemas.openxmlformats.org/drawingml/2006/table">
            <a:tbl>
              <a:tblPr/>
              <a:tblGrid>
                <a:gridCol w="1870200"/>
                <a:gridCol w="2852640"/>
                <a:gridCol w="3619440"/>
              </a:tblGrid>
              <a:tr h="54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checkpoi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 re-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i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mulation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(Simulator's entire binary 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UT's input and internal register/memory valu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ize of one checkpoi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Very la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iga bytes for very large desig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mall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 bytes even for very large desig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heckpoints m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mall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 for re-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ill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module support through PLI/V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nual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automa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AutoShape 34"/>
          <p:cNvSpPr/>
          <p:nvPr/>
        </p:nvSpPr>
        <p:spPr>
          <a:xfrm>
            <a:off x="314280" y="1515240"/>
            <a:ext cx="8707320" cy="81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* </a:t>
            </a:r>
            <a:r>
              <a:rPr b="1" i="1" lang="en-US" sz="1400" spc="-1" strike="noStrike">
                <a:solidFill>
                  <a:srgbClr val="006600"/>
                </a:solidFill>
                <a:latin typeface="Arial"/>
              </a:rPr>
              <a:t>Traditional checkpoin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uilt-in feature of most commercial HDL simulators. Traditional checkpoint command lets users save simulator’s entire executable binary image to hard disc during the simulation, and reload it later for re-simul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35"/>
          <p:cNvSpPr/>
          <p:nvPr/>
        </p:nvSpPr>
        <p:spPr>
          <a:xfrm>
            <a:off x="179280" y="101520"/>
            <a:ext cx="511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 (3/3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슬라이드 번호 개체 틀 3"/>
          <p:cNvSpPr/>
          <p:nvPr/>
        </p:nvSpPr>
        <p:spPr>
          <a:xfrm>
            <a:off x="4255920" y="6561000"/>
            <a:ext cx="765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E35-3054-4FAA-8336-45EC2837ED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10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50920" y="917280"/>
            <a:ext cx="8685000" cy="576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RTL &amp; Gate-level simul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or: NC-Verilo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2030400"/>
          <a:ext cx="8569080" cy="4284720"/>
        </p:xfrm>
        <a:graphic>
          <a:graphicData uri="http://schemas.openxmlformats.org/drawingml/2006/table">
            <a:tbl>
              <a:tblPr/>
              <a:tblGrid>
                <a:gridCol w="1434960"/>
                <a:gridCol w="2658960"/>
                <a:gridCol w="1187640"/>
                <a:gridCol w="1127160"/>
                <a:gridCol w="1079280"/>
                <a:gridCol w="1081080"/>
              </a:tblGrid>
              <a:tr h="57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ig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ate-lev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ign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gate-lev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ig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ix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ign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RT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696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total sta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g or U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M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 rowSpan="7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ump Sim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tio 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Dump Simula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,4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3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3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tio [1.73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2.13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2.5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2.9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point Simula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4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3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tio [1.27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2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4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8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 reduc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dump vs. checkpoi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8840">
                <a:tc row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sp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Dump Simulation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U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tio [43.1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53.19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20.75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4.58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point Simulation</a:t>
                      </a:r>
                      <a:br>
                        <a:rPr sz="1400"/>
                      </a:b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U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tio 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[1.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disk space reduc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ll dump vs. checkpoi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18" name="Rectangle 102"/>
          <p:cNvSpPr/>
          <p:nvPr/>
        </p:nvSpPr>
        <p:spPr>
          <a:xfrm>
            <a:off x="179280" y="101520"/>
            <a:ext cx="648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erimental resul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Text Box 106"/>
          <p:cNvSpPr/>
          <p:nvPr/>
        </p:nvSpPr>
        <p:spPr>
          <a:xfrm>
            <a:off x="6443640" y="166356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ime (sec) / Hard disk space (GB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05:31:39Z</dcterms:created>
  <dc:creator>y</dc:creator>
  <dc:description/>
  <dc:language>en-US</dc:language>
  <cp:lastModifiedBy>USER</cp:lastModifiedBy>
  <dcterms:modified xsi:type="dcterms:W3CDTF">2010-05-06T03:44:24Z</dcterms:modified>
  <cp:revision>120</cp:revision>
  <dc:subject/>
  <dc:title>슬라이드 1</dc:title>
</cp:coreProperties>
</file>