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8CF-A535-4EF4-9EE9-7D8523D8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28F-F9DB-4B31-AB86-60838588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B61-80CA-4E5D-A23F-5CE85BD1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666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21E-39D1-4484-90B5-6766C2EB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600-F80B-48EF-94DF-9304462E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1D3-A86F-493A-9887-E45541F5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863-1AEF-41CE-A563-83E623F9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A02-0824-4057-81F6-F6909785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D2ED-158E-4C11-BD83-92E39A89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111-08D3-4E3D-A7E7-292A6B07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666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EFF-71EF-4962-94BE-D849654F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C54-E63E-4FF2-8FE1-1E607B4B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66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June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9DD9-D64A-43D3-8EEE-15435AFA008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123920"/>
            <a:ext cx="8610480" cy="2152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Bug Hunting Methodology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using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Semi-Formal Verification Techniques</a:t>
            </a:r>
            <a:endParaRPr b="1" lang="en-US" sz="44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36576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lfaen"/>
              </a:rPr>
              <a:t>Bijitendra Mittra, Deepanjan Roy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indent="0" algn="ctr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Interra Systems Inc., India</a:t>
            </a:r>
            <a:endParaRPr b="0" lang="en-US" sz="2000" spc="-1" strike="noStrike">
              <a:solidFill>
                <a:srgbClr val="0000ff"/>
              </a:solidFill>
              <a:latin typeface="Arial Narrow"/>
            </a:endParaRPr>
          </a:p>
          <a:p>
            <a:pPr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lfaen"/>
              </a:rPr>
              <a:t>Subir K. Roy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indent="0" algn="ctr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Texas Instruments Inc., India</a:t>
            </a:r>
            <a:endParaRPr b="0" lang="en-US" sz="2000" spc="-1" strike="noStrike">
              <a:solidFill>
                <a:srgbClr val="0000ff"/>
              </a:solidFill>
              <a:latin typeface="Arial Narrow"/>
            </a:endParaRPr>
          </a:p>
          <a:p>
            <a:pPr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lfaen"/>
              </a:rPr>
              <a:t>Lokesh Babu P.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indent="0" algn="ctr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Cadence Design Systems Inc., India</a:t>
            </a:r>
            <a:endParaRPr b="0" lang="en-US" sz="2000" spc="-1" strike="noStrike">
              <a:solidFill>
                <a:srgbClr val="0000ff"/>
              </a:solidFill>
              <a:latin typeface="Arial Narrow"/>
            </a:endParaRPr>
          </a:p>
        </p:txBody>
      </p:sp>
      <p:pic>
        <p:nvPicPr>
          <p:cNvPr id="44" name="Picture 1032" descr="PPHeaderRGBTechnology"/>
          <p:cNvPicPr/>
          <p:nvPr/>
        </p:nvPicPr>
        <p:blipFill>
          <a:blip r:embed="rId1"/>
          <a:stretch/>
        </p:blipFill>
        <p:spPr>
          <a:xfrm>
            <a:off x="0" y="4680"/>
            <a:ext cx="9144000" cy="1212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66400" y="5576760"/>
            <a:ext cx="54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  <a:ea typeface="Arial"/>
              </a:rPr>
              <a:t>DAC User Track 2010 Poster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934320" y="6172200"/>
            <a:ext cx="1371600" cy="444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00400" y="6172200"/>
            <a:ext cx="2838600" cy="38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467480" y="685800"/>
            <a:ext cx="144792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81200" y="6172200"/>
            <a:ext cx="14284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Results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04920" y="1258920"/>
          <a:ext cx="8458200" cy="4840200"/>
        </p:xfrm>
        <a:graphic>
          <a:graphicData uri="http://schemas.openxmlformats.org/drawingml/2006/table">
            <a:tbl>
              <a:tblPr/>
              <a:tblGrid>
                <a:gridCol w="1331640"/>
                <a:gridCol w="2349720"/>
                <a:gridCol w="814320"/>
                <a:gridCol w="990720"/>
                <a:gridCol w="990360"/>
                <a:gridCol w="1143000"/>
                <a:gridCol w="83844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traction 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mi-Formal Search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# Top S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mi Formal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H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rmal Effort 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ulation Dep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rmal Dep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cfcb"/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SL2_MC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8f9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Trigger B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Cover B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8f9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8f9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8f9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8f9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32, 5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8f9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1,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8f99d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SL2_MAd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Trigger B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Cover B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760, 612, 262, 3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1, 31, 31,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bed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SL2_M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0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Cover B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[with additional covers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0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0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0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0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0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07e"/>
                    </a:solidFill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DMA_MC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Interval B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Cover B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e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ef9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DMA_M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c0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Cover with Replay Meth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c0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c0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c0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c0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5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c09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c09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624-9DB2-485C-9417-962928250A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Future Scope of Work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Tool related usability issues to be taken care of by the vendor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Extend existing methodology as well as develop newer methodologies to handle complex, large data dominant multimedia IPs 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Leverage the power of Semi-Formal for Processor Verification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Develop flow to validate environmental constraints around IEV Constraint solver 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Come up with Bug Hunting recipes for new IPs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B4FB-12A5-44C5-80CD-DB4A45A05E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Conclusion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Eliminates capacity issues faced with IFV incorporating the pure formal approach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Can handle data dominant, sequentially deep and complex IPs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Bugs sitting deep in the design can be uncovered 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Bug Hunting becomes easy if tool is driven in the proper direction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In-depth knowledge of design is necessary to write useful covers. Often, designer’s insight is required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When to stop verification??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 Narrow"/>
              </a:rPr>
              <a:t>No explicit notion of completion of verification effort in absence of bugs. Separate coverage analysis needs to be resorted towards making a judicious decision</a:t>
            </a:r>
            <a:r>
              <a:rPr b="1" lang="en-US" sz="2200" spc="-1" strike="noStrike">
                <a:solidFill>
                  <a:srgbClr val="990033"/>
                </a:solidFill>
                <a:latin typeface="Arial Narrow"/>
              </a:rPr>
              <a:t>  </a:t>
            </a:r>
            <a:endParaRPr b="0" lang="en-US" sz="2200" spc="-1" strike="noStrike">
              <a:solidFill>
                <a:srgbClr val="a50021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No available documentation on recipes to be followed for different types of designs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E77-7570-4824-882A-88DA1DFEB9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Motivation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A case study (on a complex DMA controller) to evaluate semi-formal verification approaches based on a constraint based hybrid formal verification technology 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Share the methodology we have developed to verify the DMA Controller around </a:t>
            </a:r>
            <a:r>
              <a:rPr b="1" i="1" lang="en-US" sz="2400" spc="-1" strike="noStrike">
                <a:solidFill>
                  <a:srgbClr val="ff0000"/>
                </a:solidFill>
                <a:latin typeface="Arial Narrow"/>
              </a:rPr>
              <a:t>different user specifiable and controllable hybrid approaches</a:t>
            </a: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 integrated into Incisive Enterprise Verifier (IEV) from Cadence 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To showcase the power of user-controllable Semi-formal verification approaches to find extreme corner case bugs for large, complex and data oriented designs</a:t>
            </a:r>
            <a:endParaRPr b="0" lang="en-US" sz="2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B76-5630-415D-96C9-9788143CD1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Introduction to Semi-Formal Technology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65200" y="974880"/>
            <a:ext cx="80168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Semi-Form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Best of both worlds – Simulation &amp; F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Generate a number of simulation tr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Invoke formal engine many times in the middle of a simulation based verification run, whenever a particular state or a condition is re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Two approaches : Constraint Based and Trac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Constraint Based Semi-Form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Provide behavioral constraints in form of assumptions (SVA/PS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Constraint solver generates multiple random traces honoring th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Formal Engine is invoked on reaching a pre-specified condition called the </a:t>
            </a:r>
            <a:r>
              <a:rPr b="1" i="1" lang="en-US" sz="1800" spc="-1" strike="noStrike" u="sng">
                <a:solidFill>
                  <a:srgbClr val="990000"/>
                </a:solidFill>
                <a:uFillTx/>
                <a:latin typeface="Arial Narrow"/>
              </a:rPr>
              <a:t>Search Point</a:t>
            </a: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 in the form of a property being triggered or a cover statement being satisfi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6"/>
          <p:cNvGrpSpPr/>
          <p:nvPr/>
        </p:nvGrpSpPr>
        <p:grpSpPr>
          <a:xfrm>
            <a:off x="1752480" y="4419720"/>
            <a:ext cx="2819160" cy="1785960"/>
            <a:chOff x="1752480" y="4419720"/>
            <a:chExt cx="2819160" cy="1785960"/>
          </a:xfrm>
        </p:grpSpPr>
        <p:sp>
          <p:nvSpPr>
            <p:cNvPr id="56" name="Rectangle 5"/>
            <p:cNvSpPr/>
            <p:nvPr/>
          </p:nvSpPr>
          <p:spPr>
            <a:xfrm>
              <a:off x="2539080" y="5774760"/>
              <a:ext cx="1311480" cy="430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U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6"/>
            <p:cNvSpPr/>
            <p:nvPr/>
          </p:nvSpPr>
          <p:spPr>
            <a:xfrm>
              <a:off x="3195000" y="4666320"/>
              <a:ext cx="0" cy="30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7"/>
            <p:cNvSpPr/>
            <p:nvPr/>
          </p:nvSpPr>
          <p:spPr>
            <a:xfrm>
              <a:off x="3195000" y="5467320"/>
              <a:ext cx="0" cy="30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8"/>
            <p:cNvGrpSpPr/>
            <p:nvPr/>
          </p:nvGrpSpPr>
          <p:grpSpPr>
            <a:xfrm>
              <a:off x="1752480" y="4419720"/>
              <a:ext cx="2819160" cy="1785960"/>
              <a:chOff x="1752480" y="4419720"/>
              <a:chExt cx="2819160" cy="1785960"/>
            </a:xfrm>
          </p:grpSpPr>
          <p:sp>
            <p:nvSpPr>
              <p:cNvPr id="60" name="Rectangle 9"/>
              <p:cNvSpPr/>
              <p:nvPr/>
            </p:nvSpPr>
            <p:spPr>
              <a:xfrm>
                <a:off x="1752480" y="4419720"/>
                <a:ext cx="524520" cy="17859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"/>
              <p:cNvSpPr/>
              <p:nvPr/>
            </p:nvSpPr>
            <p:spPr>
              <a:xfrm>
                <a:off x="2277000" y="4419720"/>
                <a:ext cx="1770120" cy="343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1"/>
              <p:cNvSpPr/>
              <p:nvPr/>
            </p:nvSpPr>
            <p:spPr>
              <a:xfrm>
                <a:off x="4047480" y="4419720"/>
                <a:ext cx="524160" cy="17859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Text Box 12"/>
            <p:cNvSpPr/>
            <p:nvPr/>
          </p:nvSpPr>
          <p:spPr>
            <a:xfrm>
              <a:off x="2592720" y="4468680"/>
              <a:ext cx="130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3"/>
            <p:cNvSpPr/>
            <p:nvPr/>
          </p:nvSpPr>
          <p:spPr>
            <a:xfrm>
              <a:off x="2604960" y="4973760"/>
              <a:ext cx="1114560" cy="616320"/>
            </a:xfrm>
            <a:prstGeom prst="can">
              <a:avLst>
                <a:gd name="adj" fmla="val 17291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2669040" y="5028840"/>
              <a:ext cx="101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4" descr="tii"/>
          <p:cNvPicPr/>
          <p:nvPr/>
        </p:nvPicPr>
        <p:blipFill>
          <a:blip r:embed="rId1"/>
          <a:stretch/>
        </p:blipFill>
        <p:spPr>
          <a:xfrm>
            <a:off x="5410080" y="4184640"/>
            <a:ext cx="3076560" cy="207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E75-F014-47C0-9CF7-B346FBFA2D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Introduction to the Data Mover IP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65200" y="888840"/>
            <a:ext cx="801684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IVA-HD iCONT Data Mover (DM) – A Complex DMA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Data transfer between ICONT internal memories (ITCM &amp; DTCM), External Shared L2 memory and VDMA transversal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OCP transactions supported on Configuration, SL2 and VDMA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4 Logical channel DMA (1 queue per Phy Channel) – concurren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Hardware/Software controlled queuing of requests per Phy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 Narrow"/>
              </a:rPr>
              <a:t>In-order servicing of pending requests – 2D Chronology Matrix</a:t>
            </a:r>
            <a:r>
              <a:rPr b="1" lang="en-US" sz="2000" spc="-1" strike="noStrike">
                <a:solidFill>
                  <a:srgbClr val="8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870280" y="3124080"/>
            <a:ext cx="6114960" cy="3355200"/>
            <a:chOff x="2870280" y="3124080"/>
            <a:chExt cx="6114960" cy="3355200"/>
          </a:xfrm>
        </p:grpSpPr>
        <p:sp>
          <p:nvSpPr>
            <p:cNvPr id="70" name="Rectangle 5"/>
            <p:cNvSpPr/>
            <p:nvPr/>
          </p:nvSpPr>
          <p:spPr>
            <a:xfrm>
              <a:off x="3384720" y="3895560"/>
              <a:ext cx="5394240" cy="2535480"/>
            </a:xfrm>
            <a:prstGeom prst="rect">
              <a:avLst/>
            </a:prstGeom>
            <a:solidFill>
              <a:srgbClr val="ffffcc"/>
            </a:solidFill>
            <a:ln w="2232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5899320" y="5248440"/>
              <a:ext cx="448920" cy="8794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5"/>
            <p:cNvSpPr/>
            <p:nvPr/>
          </p:nvSpPr>
          <p:spPr>
            <a:xfrm>
              <a:off x="3408120" y="61722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 Mo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730920" y="5311800"/>
              <a:ext cx="1685880" cy="4287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7"/>
            <p:cNvSpPr/>
            <p:nvPr/>
          </p:nvSpPr>
          <p:spPr>
            <a:xfrm>
              <a:off x="6730920" y="5810400"/>
              <a:ext cx="1676520" cy="45540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8"/>
            <p:cNvSpPr/>
            <p:nvPr/>
          </p:nvSpPr>
          <p:spPr>
            <a:xfrm>
              <a:off x="5824440" y="5286240"/>
              <a:ext cx="449280" cy="8794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6357960" y="5477040"/>
              <a:ext cx="37296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0"/>
            <p:cNvSpPr/>
            <p:nvPr/>
          </p:nvSpPr>
          <p:spPr>
            <a:xfrm>
              <a:off x="6240600" y="5934240"/>
              <a:ext cx="49032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4"/>
            <p:cNvSpPr/>
            <p:nvPr/>
          </p:nvSpPr>
          <p:spPr>
            <a:xfrm>
              <a:off x="6858000" y="3124080"/>
              <a:ext cx="1066680" cy="398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dence O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55"/>
            <p:cNvGrpSpPr/>
            <p:nvPr/>
          </p:nvGrpSpPr>
          <p:grpSpPr>
            <a:xfrm>
              <a:off x="3986280" y="4121280"/>
              <a:ext cx="654120" cy="1956960"/>
              <a:chOff x="3986280" y="4121280"/>
              <a:chExt cx="654120" cy="1956960"/>
            </a:xfrm>
          </p:grpSpPr>
          <p:sp>
            <p:nvSpPr>
              <p:cNvPr id="80" name="Rectangle 21"/>
              <p:cNvSpPr/>
              <p:nvPr/>
            </p:nvSpPr>
            <p:spPr>
              <a:xfrm>
                <a:off x="3986280" y="4121280"/>
                <a:ext cx="654120" cy="1901520"/>
              </a:xfrm>
              <a:prstGeom prst="rect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26"/>
              <p:cNvSpPr/>
              <p:nvPr/>
            </p:nvSpPr>
            <p:spPr>
              <a:xfrm>
                <a:off x="4057200" y="4159080"/>
                <a:ext cx="5695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LCH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LCH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27"/>
            <p:cNvSpPr/>
            <p:nvPr/>
          </p:nvSpPr>
          <p:spPr>
            <a:xfrm>
              <a:off x="5753880" y="5324400"/>
              <a:ext cx="5454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Chronology Matr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8"/>
            <p:cNvSpPr/>
            <p:nvPr/>
          </p:nvSpPr>
          <p:spPr>
            <a:xfrm>
              <a:off x="7184520" y="5359320"/>
              <a:ext cx="692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9"/>
            <p:cNvSpPr/>
            <p:nvPr/>
          </p:nvSpPr>
          <p:spPr>
            <a:xfrm>
              <a:off x="7210080" y="5877000"/>
              <a:ext cx="692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0"/>
            <p:cNvSpPr/>
            <p:nvPr/>
          </p:nvSpPr>
          <p:spPr>
            <a:xfrm>
              <a:off x="8507520" y="4143240"/>
              <a:ext cx="19080" cy="1866960"/>
            </a:xfrm>
            <a:prstGeom prst="line">
              <a:avLst/>
            </a:prstGeom>
            <a:ln w="507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1"/>
            <p:cNvSpPr/>
            <p:nvPr/>
          </p:nvSpPr>
          <p:spPr>
            <a:xfrm flipH="1">
              <a:off x="8407080" y="6019920"/>
              <a:ext cx="120600" cy="0"/>
            </a:xfrm>
            <a:prstGeom prst="line">
              <a:avLst/>
            </a:prstGeom>
            <a:ln w="50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2"/>
            <p:cNvSpPr/>
            <p:nvPr/>
          </p:nvSpPr>
          <p:spPr>
            <a:xfrm>
              <a:off x="7172280" y="4676760"/>
              <a:ext cx="744480" cy="39204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3"/>
            <p:cNvSpPr/>
            <p:nvPr/>
          </p:nvSpPr>
          <p:spPr>
            <a:xfrm flipV="1">
              <a:off x="7566120" y="4140000"/>
              <a:ext cx="0" cy="252360"/>
            </a:xfrm>
            <a:prstGeom prst="line">
              <a:avLst/>
            </a:prstGeom>
            <a:ln w="507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4"/>
            <p:cNvSpPr/>
            <p:nvPr/>
          </p:nvSpPr>
          <p:spPr>
            <a:xfrm flipH="1" flipV="1">
              <a:off x="6656040" y="4169880"/>
              <a:ext cx="11160" cy="639720"/>
            </a:xfrm>
            <a:prstGeom prst="line">
              <a:avLst/>
            </a:prstGeom>
            <a:ln w="507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6"/>
            <p:cNvSpPr/>
            <p:nvPr/>
          </p:nvSpPr>
          <p:spPr>
            <a:xfrm flipH="1" flipV="1">
              <a:off x="5775480" y="4167000"/>
              <a:ext cx="10800" cy="1004760"/>
            </a:xfrm>
            <a:prstGeom prst="line">
              <a:avLst/>
            </a:prstGeom>
            <a:ln w="507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7"/>
            <p:cNvSpPr/>
            <p:nvPr/>
          </p:nvSpPr>
          <p:spPr>
            <a:xfrm>
              <a:off x="7165800" y="4214880"/>
              <a:ext cx="723960" cy="39204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8"/>
            <p:cNvSpPr/>
            <p:nvPr/>
          </p:nvSpPr>
          <p:spPr>
            <a:xfrm>
              <a:off x="5792760" y="5172120"/>
              <a:ext cx="2351160" cy="0"/>
            </a:xfrm>
            <a:prstGeom prst="line">
              <a:avLst/>
            </a:prstGeom>
            <a:ln w="507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9"/>
            <p:cNvSpPr/>
            <p:nvPr/>
          </p:nvSpPr>
          <p:spPr>
            <a:xfrm>
              <a:off x="8143920" y="4451400"/>
              <a:ext cx="1440" cy="94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40"/>
            <p:cNvSpPr/>
            <p:nvPr/>
          </p:nvSpPr>
          <p:spPr>
            <a:xfrm>
              <a:off x="7081200" y="43070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L2 Arbi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1"/>
            <p:cNvSpPr/>
            <p:nvPr/>
          </p:nvSpPr>
          <p:spPr>
            <a:xfrm>
              <a:off x="7233480" y="4680000"/>
              <a:ext cx="595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T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rbi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42"/>
            <p:cNvSpPr/>
            <p:nvPr/>
          </p:nvSpPr>
          <p:spPr>
            <a:xfrm>
              <a:off x="3257640" y="4029120"/>
              <a:ext cx="849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fi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49"/>
            <p:cNvGrpSpPr/>
            <p:nvPr/>
          </p:nvGrpSpPr>
          <p:grpSpPr>
            <a:xfrm>
              <a:off x="5397480" y="3544920"/>
              <a:ext cx="749160" cy="642600"/>
              <a:chOff x="5397480" y="3544920"/>
              <a:chExt cx="749160" cy="642600"/>
            </a:xfrm>
          </p:grpSpPr>
          <p:sp>
            <p:nvSpPr>
              <p:cNvPr id="98" name="AutoShape 10"/>
              <p:cNvSpPr/>
              <p:nvPr/>
            </p:nvSpPr>
            <p:spPr>
              <a:xfrm>
                <a:off x="5397480" y="3544920"/>
                <a:ext cx="749160" cy="62892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cc99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43"/>
              <p:cNvSpPr/>
              <p:nvPr/>
            </p:nvSpPr>
            <p:spPr>
              <a:xfrm>
                <a:off x="5621400" y="3544920"/>
                <a:ext cx="30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rebuchet MS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AutoShape 8"/>
            <p:cNvSpPr/>
            <p:nvPr/>
          </p:nvSpPr>
          <p:spPr>
            <a:xfrm>
              <a:off x="6276960" y="3557520"/>
              <a:ext cx="747720" cy="62856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44"/>
            <p:cNvSpPr/>
            <p:nvPr/>
          </p:nvSpPr>
          <p:spPr>
            <a:xfrm>
              <a:off x="6541920" y="3567240"/>
              <a:ext cx="24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rebuchet MS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rebuchet MS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rebuchet MS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51"/>
            <p:cNvGrpSpPr/>
            <p:nvPr/>
          </p:nvGrpSpPr>
          <p:grpSpPr>
            <a:xfrm>
              <a:off x="7194600" y="3559320"/>
              <a:ext cx="771480" cy="585720"/>
              <a:chOff x="7194600" y="3559320"/>
              <a:chExt cx="771480" cy="585720"/>
            </a:xfrm>
          </p:grpSpPr>
          <p:sp>
            <p:nvSpPr>
              <p:cNvPr id="103" name="AutoShape 7"/>
              <p:cNvSpPr/>
              <p:nvPr/>
            </p:nvSpPr>
            <p:spPr>
              <a:xfrm>
                <a:off x="7194600" y="3559320"/>
                <a:ext cx="771480" cy="585720"/>
              </a:xfrm>
              <a:prstGeom prst="upDownArrow">
                <a:avLst>
                  <a:gd name="adj1" fmla="val 50000"/>
                  <a:gd name="adj2" fmla="val 19907"/>
                </a:avLst>
              </a:prstGeom>
              <a:solidFill>
                <a:srgbClr val="cc99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45"/>
              <p:cNvSpPr/>
              <p:nvPr/>
            </p:nvSpPr>
            <p:spPr>
              <a:xfrm>
                <a:off x="7383240" y="3756240"/>
                <a:ext cx="438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rebuchet MS"/>
                  </a:rPr>
                  <a:t>SL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AutoShape 9"/>
            <p:cNvSpPr/>
            <p:nvPr/>
          </p:nvSpPr>
          <p:spPr>
            <a:xfrm>
              <a:off x="8132760" y="3540240"/>
              <a:ext cx="706320" cy="623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46"/>
            <p:cNvSpPr/>
            <p:nvPr/>
          </p:nvSpPr>
          <p:spPr>
            <a:xfrm>
              <a:off x="8366040" y="3557520"/>
              <a:ext cx="2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rebuchet MS"/>
                </a:rPr>
                <a:t>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rebuchet MS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rebuchet MS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Cloud"/>
            <p:cNvSpPr/>
            <p:nvPr/>
          </p:nvSpPr>
          <p:spPr>
            <a:xfrm>
              <a:off x="4867200" y="4226040"/>
              <a:ext cx="493920" cy="1890720"/>
            </a:xfrm>
            <a:prstGeom prst="pie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57"/>
            <p:cNvSpPr/>
            <p:nvPr/>
          </p:nvSpPr>
          <p:spPr>
            <a:xfrm>
              <a:off x="6789600" y="5370480"/>
              <a:ext cx="405000" cy="30816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58"/>
            <p:cNvSpPr/>
            <p:nvPr/>
          </p:nvSpPr>
          <p:spPr>
            <a:xfrm>
              <a:off x="7945560" y="5367240"/>
              <a:ext cx="363240" cy="30816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59"/>
            <p:cNvSpPr/>
            <p:nvPr/>
          </p:nvSpPr>
          <p:spPr>
            <a:xfrm>
              <a:off x="6784920" y="5880240"/>
              <a:ext cx="405000" cy="3078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60"/>
            <p:cNvSpPr/>
            <p:nvPr/>
          </p:nvSpPr>
          <p:spPr>
            <a:xfrm>
              <a:off x="7942320" y="5877000"/>
              <a:ext cx="363600" cy="3078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61"/>
            <p:cNvSpPr/>
            <p:nvPr/>
          </p:nvSpPr>
          <p:spPr>
            <a:xfrm>
              <a:off x="6775200" y="54212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R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2"/>
            <p:cNvSpPr/>
            <p:nvPr/>
          </p:nvSpPr>
          <p:spPr>
            <a:xfrm>
              <a:off x="6775200" y="595008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R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3"/>
            <p:cNvSpPr/>
            <p:nvPr/>
          </p:nvSpPr>
          <p:spPr>
            <a:xfrm>
              <a:off x="7918200" y="542124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4"/>
            <p:cNvSpPr/>
            <p:nvPr/>
          </p:nvSpPr>
          <p:spPr>
            <a:xfrm>
              <a:off x="7918200" y="59403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65"/>
            <p:cNvSpPr/>
            <p:nvPr/>
          </p:nvSpPr>
          <p:spPr>
            <a:xfrm flipH="1" flipV="1">
              <a:off x="6924240" y="4465440"/>
              <a:ext cx="1800" cy="9349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66"/>
            <p:cNvSpPr/>
            <p:nvPr/>
          </p:nvSpPr>
          <p:spPr>
            <a:xfrm flipV="1">
              <a:off x="6869160" y="4952520"/>
              <a:ext cx="0" cy="9255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67"/>
            <p:cNvSpPr/>
            <p:nvPr/>
          </p:nvSpPr>
          <p:spPr>
            <a:xfrm>
              <a:off x="6864480" y="4950000"/>
              <a:ext cx="30312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8"/>
            <p:cNvSpPr/>
            <p:nvPr/>
          </p:nvSpPr>
          <p:spPr>
            <a:xfrm>
              <a:off x="6924600" y="4465800"/>
              <a:ext cx="23976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9"/>
            <p:cNvSpPr/>
            <p:nvPr/>
          </p:nvSpPr>
          <p:spPr>
            <a:xfrm flipH="1">
              <a:off x="7870680" y="4457880"/>
              <a:ext cx="27000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3"/>
            <p:cNvSpPr/>
            <p:nvPr/>
          </p:nvSpPr>
          <p:spPr>
            <a:xfrm flipH="1">
              <a:off x="7877160" y="4943520"/>
              <a:ext cx="27000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74"/>
            <p:cNvSpPr/>
            <p:nvPr/>
          </p:nvSpPr>
          <p:spPr>
            <a:xfrm>
              <a:off x="4637160" y="4970520"/>
              <a:ext cx="218880" cy="24300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76"/>
            <p:cNvSpPr/>
            <p:nvPr/>
          </p:nvSpPr>
          <p:spPr>
            <a:xfrm>
              <a:off x="4875120" y="4735440"/>
              <a:ext cx="520920" cy="11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inter Log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77"/>
            <p:cNvSpPr/>
            <p:nvPr/>
          </p:nvSpPr>
          <p:spPr>
            <a:xfrm>
              <a:off x="5302080" y="5540400"/>
              <a:ext cx="500400" cy="262080"/>
            </a:xfrm>
            <a:prstGeom prst="rightArrow">
              <a:avLst>
                <a:gd name="adj1" fmla="val 50000"/>
                <a:gd name="adj2" fmla="val 47734"/>
              </a:avLst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87"/>
            <p:cNvSpPr/>
            <p:nvPr/>
          </p:nvSpPr>
          <p:spPr>
            <a:xfrm>
              <a:off x="7967880" y="3124080"/>
              <a:ext cx="1017360" cy="398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dence O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90"/>
            <p:cNvSpPr/>
            <p:nvPr/>
          </p:nvSpPr>
          <p:spPr>
            <a:xfrm rot="16200000">
              <a:off x="2539080" y="4367880"/>
              <a:ext cx="1060560" cy="398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dence O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93"/>
            <p:cNvSpPr/>
            <p:nvPr/>
          </p:nvSpPr>
          <p:spPr>
            <a:xfrm>
              <a:off x="3191040" y="5276880"/>
              <a:ext cx="779400" cy="743040"/>
            </a:xfrm>
            <a:prstGeom prst="leftRightArrow">
              <a:avLst>
                <a:gd name="adj1" fmla="val 50000"/>
                <a:gd name="adj2" fmla="val 20881"/>
              </a:avLst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110"/>
            <p:cNvGrpSpPr/>
            <p:nvPr/>
          </p:nvGrpSpPr>
          <p:grpSpPr>
            <a:xfrm>
              <a:off x="4129200" y="4838760"/>
              <a:ext cx="365040" cy="269280"/>
              <a:chOff x="4129200" y="4838760"/>
              <a:chExt cx="365040" cy="269280"/>
            </a:xfrm>
          </p:grpSpPr>
          <p:sp>
            <p:nvSpPr>
              <p:cNvPr id="129" name="Oval 104"/>
              <p:cNvSpPr/>
              <p:nvPr/>
            </p:nvSpPr>
            <p:spPr>
              <a:xfrm>
                <a:off x="4129200" y="4840560"/>
                <a:ext cx="136080" cy="10728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105"/>
              <p:cNvSpPr/>
              <p:nvPr/>
            </p:nvSpPr>
            <p:spPr>
              <a:xfrm>
                <a:off x="4357800" y="4838760"/>
                <a:ext cx="136440" cy="10728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106"/>
              <p:cNvSpPr/>
              <p:nvPr/>
            </p:nvSpPr>
            <p:spPr>
              <a:xfrm>
                <a:off x="4247280" y="5000760"/>
                <a:ext cx="136080" cy="107280"/>
              </a:xfrm>
              <a:prstGeom prst="ellipse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07"/>
              <p:cNvSpPr/>
              <p:nvPr/>
            </p:nvSpPr>
            <p:spPr>
              <a:xfrm>
                <a:off x="4219920" y="4942800"/>
                <a:ext cx="45000" cy="77400"/>
              </a:xfrm>
              <a:prstGeom prst="line">
                <a:avLst/>
              </a:prstGeom>
              <a:ln w="255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08"/>
              <p:cNvSpPr/>
              <p:nvPr/>
            </p:nvSpPr>
            <p:spPr>
              <a:xfrm flipV="1">
                <a:off x="4334040" y="4942440"/>
                <a:ext cx="68400" cy="71640"/>
              </a:xfrm>
              <a:prstGeom prst="line">
                <a:avLst/>
              </a:prstGeom>
              <a:ln w="255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09"/>
              <p:cNvSpPr/>
              <p:nvPr/>
            </p:nvSpPr>
            <p:spPr>
              <a:xfrm>
                <a:off x="4257720" y="4882680"/>
                <a:ext cx="99000" cy="0"/>
              </a:xfrm>
              <a:prstGeom prst="line">
                <a:avLst/>
              </a:prstGeom>
              <a:ln w="255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286080" y="4361040"/>
              <a:ext cx="676440" cy="471240"/>
            </a:xfrm>
            <a:prstGeom prst="rightArrow">
              <a:avLst>
                <a:gd name="adj1" fmla="val 50000"/>
                <a:gd name="adj2" fmla="val 35886"/>
              </a:avLst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97800" y="4791240"/>
              <a:ext cx="457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962520" y="640080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ig2: Verification environment for the Data M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55160" y="3124080"/>
            <a:ext cx="3044880" cy="1678320"/>
            <a:chOff x="155160" y="3124080"/>
            <a:chExt cx="3044880" cy="1678320"/>
          </a:xfrm>
        </p:grpSpPr>
        <p:sp>
          <p:nvSpPr>
            <p:cNvPr id="139" name="Text Box 17"/>
            <p:cNvSpPr/>
            <p:nvPr/>
          </p:nvSpPr>
          <p:spPr>
            <a:xfrm>
              <a:off x="1069200" y="452592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 Narrow"/>
                </a:rPr>
                <a:t>ITCM (W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"/>
            <p:cNvSpPr/>
            <p:nvPr/>
          </p:nvSpPr>
          <p:spPr>
            <a:xfrm>
              <a:off x="771120" y="3505320"/>
              <a:ext cx="981360" cy="942840"/>
            </a:xfrm>
            <a:prstGeom prst="rect">
              <a:avLst/>
            </a:prstGeom>
            <a:solidFill>
              <a:srgbClr val="c4c2c0"/>
            </a:solidFill>
            <a:ln w="19080">
              <a:solidFill>
                <a:srgbClr val="000000"/>
              </a:solidFill>
              <a:miter/>
            </a:ln>
            <a:effectLst>
              <a:outerShdw dist="36147" dir="135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5"/>
            <p:cNvSpPr/>
            <p:nvPr/>
          </p:nvSpPr>
          <p:spPr>
            <a:xfrm>
              <a:off x="1312560" y="3648240"/>
              <a:ext cx="0" cy="68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998280" y="4024440"/>
              <a:ext cx="655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rc 10"/>
            <p:cNvSpPr/>
            <p:nvPr/>
          </p:nvSpPr>
          <p:spPr>
            <a:xfrm rot="5190600">
              <a:off x="976320" y="3643920"/>
              <a:ext cx="280800" cy="2890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rc 12"/>
            <p:cNvSpPr/>
            <p:nvPr/>
          </p:nvSpPr>
          <p:spPr>
            <a:xfrm rot="10800000">
              <a:off x="1365120" y="3648240"/>
              <a:ext cx="288720" cy="3124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4"/>
            <p:cNvSpPr/>
            <p:nvPr/>
          </p:nvSpPr>
          <p:spPr>
            <a:xfrm>
              <a:off x="903240" y="4211640"/>
              <a:ext cx="41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D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5"/>
            <p:cNvSpPr/>
            <p:nvPr/>
          </p:nvSpPr>
          <p:spPr>
            <a:xfrm>
              <a:off x="155160" y="3809880"/>
              <a:ext cx="54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 Narrow"/>
                </a:rPr>
                <a:t>DTC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 Narrow"/>
                </a:rPr>
                <a:t>(R/W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6"/>
            <p:cNvSpPr/>
            <p:nvPr/>
          </p:nvSpPr>
          <p:spPr>
            <a:xfrm>
              <a:off x="1828440" y="3809880"/>
              <a:ext cx="763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 Narrow"/>
                </a:rPr>
                <a:t>vD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 Narrow"/>
                </a:rPr>
                <a:t>Transversal (W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8"/>
            <p:cNvSpPr/>
            <p:nvPr/>
          </p:nvSpPr>
          <p:spPr>
            <a:xfrm>
              <a:off x="992520" y="312408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 Narrow"/>
                </a:rPr>
                <a:t>SL2 (R/W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1314360" y="3359160"/>
              <a:ext cx="0" cy="25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1"/>
            <p:cNvSpPr/>
            <p:nvPr/>
          </p:nvSpPr>
          <p:spPr>
            <a:xfrm>
              <a:off x="625320" y="4022640"/>
              <a:ext cx="336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2"/>
            <p:cNvSpPr/>
            <p:nvPr/>
          </p:nvSpPr>
          <p:spPr>
            <a:xfrm>
              <a:off x="1666800" y="4019400"/>
              <a:ext cx="33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3"/>
            <p:cNvSpPr/>
            <p:nvPr/>
          </p:nvSpPr>
          <p:spPr>
            <a:xfrm>
              <a:off x="1312560" y="4384800"/>
              <a:ext cx="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752480" y="3477960"/>
              <a:ext cx="341280" cy="30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99840" y="327672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 Narrow"/>
                </a:rPr>
                <a:t>OCP Configu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 Narrow"/>
                </a:rPr>
                <a:t>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53360" y="4724280"/>
            <a:ext cx="23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ig1: DM Data flow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4F1E-DCC4-4EB2-8CF8-A93EB26696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Prior Verification Efforts: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565200" y="798480"/>
            <a:ext cx="825660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Narrow"/>
              </a:rPr>
              <a:t>Functionality verified primarily using simulation; OCP compliance checking done with pure Formal Verification; Signed off by both Simulation and Formal ver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Narrow"/>
              </a:rPr>
              <a:t>DUT had a corner case bug, caught neither by simulation nor by pure FV (due to properties being reported as  </a:t>
            </a:r>
            <a:r>
              <a:rPr b="1" lang="en-US" sz="2000" spc="-1" strike="noStrike">
                <a:solidFill>
                  <a:srgbClr val="cc6600"/>
                </a:solidFill>
                <a:latin typeface="Arial Narrow"/>
              </a:rPr>
              <a:t>“</a:t>
            </a:r>
            <a:r>
              <a:rPr b="1" i="1" lang="en-US" sz="2000" spc="-1" strike="noStrike">
                <a:solidFill>
                  <a:srgbClr val="cc6600"/>
                </a:solidFill>
                <a:latin typeface="Arial Narrow"/>
              </a:rPr>
              <a:t>explored</a:t>
            </a:r>
            <a:r>
              <a:rPr b="1" lang="en-US" sz="2000" spc="-1" strike="noStrike">
                <a:solidFill>
                  <a:srgbClr val="cc6600"/>
                </a:solidFill>
                <a:latin typeface="Arial Narrow"/>
              </a:rPr>
              <a:t>”</a:t>
            </a:r>
            <a:r>
              <a:rPr b="1" lang="en-US" sz="2000" spc="-1" strike="noStrike">
                <a:solidFill>
                  <a:srgbClr val="0033cc"/>
                </a:solidFill>
                <a:latin typeface="Arial Narrow"/>
              </a:rPr>
              <a:t> in IFV). Caught at the </a:t>
            </a:r>
            <a:r>
              <a:rPr b="1" i="1" lang="en-US" sz="2000" spc="-1" strike="noStrike">
                <a:solidFill>
                  <a:srgbClr val="cc6600"/>
                </a:solidFill>
                <a:latin typeface="Arial Narrow"/>
              </a:rPr>
              <a:t>emulation </a:t>
            </a:r>
            <a:r>
              <a:rPr b="1" lang="en-US" sz="2000" spc="-1" strike="noStrike">
                <a:solidFill>
                  <a:srgbClr val="cc6600"/>
                </a:solidFill>
                <a:latin typeface="Arial Narrow"/>
              </a:rPr>
              <a:t>st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Narrow"/>
              </a:rPr>
              <a:t>Unusual OCP behavior (loss of functional data due to over-writing of internal data FIFO) observed during SL2 to VDMA data transf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Narrow"/>
              </a:rPr>
              <a:t>OCP Retraction properties at SL2 and VDMA interfaces should have fai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250"/>
          <p:cNvGrpSpPr/>
          <p:nvPr/>
        </p:nvGrpSpPr>
        <p:grpSpPr>
          <a:xfrm>
            <a:off x="401760" y="4746600"/>
            <a:ext cx="1550520" cy="1250280"/>
            <a:chOff x="401760" y="4746600"/>
            <a:chExt cx="1550520" cy="1250280"/>
          </a:xfrm>
        </p:grpSpPr>
        <p:sp>
          <p:nvSpPr>
            <p:cNvPr id="159" name="Text Box 10"/>
            <p:cNvSpPr/>
            <p:nvPr/>
          </p:nvSpPr>
          <p:spPr>
            <a:xfrm>
              <a:off x="401760" y="5598000"/>
              <a:ext cx="646920" cy="39888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2"/>
            <p:cNvSpPr/>
            <p:nvPr/>
          </p:nvSpPr>
          <p:spPr>
            <a:xfrm>
              <a:off x="691920" y="4746600"/>
              <a:ext cx="1260360" cy="7491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6"/>
          <p:cNvGrpSpPr/>
          <p:nvPr/>
        </p:nvGrpSpPr>
        <p:grpSpPr>
          <a:xfrm>
            <a:off x="2057400" y="4821120"/>
            <a:ext cx="5103360" cy="384120"/>
            <a:chOff x="2057400" y="4821120"/>
            <a:chExt cx="5103360" cy="384120"/>
          </a:xfrm>
        </p:grpSpPr>
        <p:sp>
          <p:nvSpPr>
            <p:cNvPr id="162" name="Rectangle 5"/>
            <p:cNvSpPr/>
            <p:nvPr/>
          </p:nvSpPr>
          <p:spPr>
            <a:xfrm>
              <a:off x="2057400" y="4821120"/>
              <a:ext cx="5103360" cy="384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>
              <a:off x="5888880" y="48225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4612320" y="48225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>
              <a:off x="3335760" y="48225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258"/>
          <p:cNvGrpSpPr/>
          <p:nvPr/>
        </p:nvGrpSpPr>
        <p:grpSpPr>
          <a:xfrm>
            <a:off x="7361640" y="4798800"/>
            <a:ext cx="1361520" cy="1326960"/>
            <a:chOff x="7361640" y="4798800"/>
            <a:chExt cx="1361520" cy="1326960"/>
          </a:xfrm>
        </p:grpSpPr>
        <p:sp>
          <p:nvSpPr>
            <p:cNvPr id="167" name="Text Box 11"/>
            <p:cNvSpPr/>
            <p:nvPr/>
          </p:nvSpPr>
          <p:spPr>
            <a:xfrm>
              <a:off x="7792560" y="5726880"/>
              <a:ext cx="930600" cy="3988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D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32"/>
            <p:cNvSpPr/>
            <p:nvPr/>
          </p:nvSpPr>
          <p:spPr>
            <a:xfrm rot="5256600">
              <a:off x="7543800" y="4657320"/>
              <a:ext cx="839160" cy="1170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61"/>
          <p:cNvGrpSpPr/>
          <p:nvPr/>
        </p:nvGrpSpPr>
        <p:grpSpPr>
          <a:xfrm>
            <a:off x="1981080" y="3908520"/>
            <a:ext cx="685800" cy="838080"/>
            <a:chOff x="1981080" y="3908520"/>
            <a:chExt cx="685800" cy="838080"/>
          </a:xfrm>
        </p:grpSpPr>
        <p:sp>
          <p:nvSpPr>
            <p:cNvPr id="170" name="Line 55"/>
            <p:cNvSpPr/>
            <p:nvPr/>
          </p:nvSpPr>
          <p:spPr>
            <a:xfrm>
              <a:off x="2263680" y="4289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38"/>
            <p:cNvSpPr/>
            <p:nvPr/>
          </p:nvSpPr>
          <p:spPr>
            <a:xfrm>
              <a:off x="1981080" y="3908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55"/>
          <p:cNvSpPr/>
          <p:nvPr/>
        </p:nvSpPr>
        <p:spPr>
          <a:xfrm>
            <a:off x="2860560" y="4286160"/>
            <a:ext cx="0" cy="45720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8"/>
          <p:cNvSpPr/>
          <p:nvPr/>
        </p:nvSpPr>
        <p:spPr>
          <a:xfrm>
            <a:off x="2514600" y="390528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WR</a:t>
            </a:r>
            <a:r>
              <a:rPr b="1" lang="en-US" sz="1800" spc="-1" strike="noStrike" baseline="-25000">
                <a:solidFill>
                  <a:srgbClr val="96969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2057400" y="4822920"/>
            <a:ext cx="1295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3352680" y="4822920"/>
            <a:ext cx="129564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 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4572000" y="4822920"/>
            <a:ext cx="12952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 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5867280" y="4822920"/>
            <a:ext cx="129564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  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5"/>
          <p:cNvSpPr/>
          <p:nvPr/>
        </p:nvSpPr>
        <p:spPr>
          <a:xfrm>
            <a:off x="4110120" y="4289400"/>
            <a:ext cx="0" cy="45720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8"/>
          <p:cNvSpPr/>
          <p:nvPr/>
        </p:nvSpPr>
        <p:spPr>
          <a:xfrm>
            <a:off x="3733920" y="39085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WR</a:t>
            </a:r>
            <a:r>
              <a:rPr b="1" lang="en-US" sz="1800" spc="-1" strike="noStrike" baseline="-25000">
                <a:solidFill>
                  <a:srgbClr val="96969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5"/>
          <p:cNvSpPr/>
          <p:nvPr/>
        </p:nvSpPr>
        <p:spPr>
          <a:xfrm>
            <a:off x="5253120" y="4289400"/>
            <a:ext cx="0" cy="45720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8"/>
          <p:cNvSpPr/>
          <p:nvPr/>
        </p:nvSpPr>
        <p:spPr>
          <a:xfrm>
            <a:off x="4876920" y="39085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WR</a:t>
            </a:r>
            <a:r>
              <a:rPr b="1" lang="en-US" sz="1800" spc="-1" strike="noStrike" baseline="-25000">
                <a:solidFill>
                  <a:srgbClr val="96969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5867280" y="5181480"/>
            <a:ext cx="12956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  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80"/>
          <p:cNvSpPr/>
          <p:nvPr/>
        </p:nvSpPr>
        <p:spPr>
          <a:xfrm>
            <a:off x="7788240" y="3809880"/>
            <a:ext cx="135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Over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309760" y="5442120"/>
            <a:ext cx="451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33cc"/>
                </a:solidFill>
                <a:uFillTx/>
                <a:latin typeface="Arial Narrow"/>
              </a:rPr>
              <a:t>Assum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 Narrow"/>
              </a:rPr>
              <a:t>SL2 will get access at every alternat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 Narrow"/>
              </a:rPr>
              <a:t>VDMA will receive at least one data in six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82" descr="MCj04300050000[1]"/>
          <p:cNvPicPr/>
          <p:nvPr/>
        </p:nvPicPr>
        <p:blipFill>
          <a:blip r:embed="rId1"/>
          <a:stretch/>
        </p:blipFill>
        <p:spPr>
          <a:xfrm rot="16873800">
            <a:off x="8274600" y="4221360"/>
            <a:ext cx="443160" cy="533520"/>
          </a:xfrm>
          <a:prstGeom prst="rect">
            <a:avLst/>
          </a:prstGeom>
          <a:ln w="0">
            <a:noFill/>
          </a:ln>
        </p:spPr>
      </p:pic>
      <p:sp>
        <p:nvSpPr>
          <p:cNvPr id="186" name="Line 283"/>
          <p:cNvSpPr/>
          <p:nvPr/>
        </p:nvSpPr>
        <p:spPr>
          <a:xfrm flipH="1">
            <a:off x="7010280" y="411480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0800" y="522756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Deep 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5"/>
          <p:cNvSpPr/>
          <p:nvPr/>
        </p:nvSpPr>
        <p:spPr>
          <a:xfrm>
            <a:off x="6396120" y="4286160"/>
            <a:ext cx="0" cy="45720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8"/>
          <p:cNvSpPr/>
          <p:nvPr/>
        </p:nvSpPr>
        <p:spPr>
          <a:xfrm>
            <a:off x="6019920" y="39052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WR</a:t>
            </a:r>
            <a:r>
              <a:rPr b="1" lang="en-US" sz="1800" spc="-1" strike="noStrike" baseline="-25000">
                <a:solidFill>
                  <a:srgbClr val="96969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74"/>
          <p:cNvGrpSpPr/>
          <p:nvPr/>
        </p:nvGrpSpPr>
        <p:grpSpPr>
          <a:xfrm>
            <a:off x="6553080" y="3905280"/>
            <a:ext cx="914040" cy="838080"/>
            <a:chOff x="6553080" y="3905280"/>
            <a:chExt cx="914040" cy="838080"/>
          </a:xfrm>
        </p:grpSpPr>
        <p:sp>
          <p:nvSpPr>
            <p:cNvPr id="191" name="Line 55"/>
            <p:cNvSpPr/>
            <p:nvPr/>
          </p:nvSpPr>
          <p:spPr>
            <a:xfrm>
              <a:off x="6929640" y="42861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38"/>
            <p:cNvSpPr/>
            <p:nvPr/>
          </p:nvSpPr>
          <p:spPr>
            <a:xfrm>
              <a:off x="6553080" y="3905280"/>
              <a:ext cx="91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477120" y="3886200"/>
            <a:ext cx="8380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791320" y="4876560"/>
            <a:ext cx="129528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C6D-8959-48DA-A3CC-BF0528394A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Semi-Formal Verification of DM using IEV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Narrow"/>
              </a:rPr>
              <a:t>Enabled OCP Retraction properties for SL2 interface (MCmd, MAddr, MData) and VDMA interface (MCmd &amp; MData)</a:t>
            </a:r>
            <a:endParaRPr b="0" lang="en-US" sz="2000" spc="-1" strike="noStrike">
              <a:solidFill>
                <a:srgbClr val="0000ff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Narrow"/>
              </a:rPr>
              <a:t>First Step: Random simulation with formal fork-off if a property is triggered</a:t>
            </a:r>
            <a:endParaRPr b="0" lang="en-US" sz="2000" spc="-1" strike="noStrike">
              <a:solidFill>
                <a:srgbClr val="0000ff"/>
              </a:solidFill>
              <a:latin typeface="Arial Narrow"/>
            </a:endParaRPr>
          </a:p>
          <a:p>
            <a:pPr lvl="1" marL="698400" indent="-268560"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Prepared two separate environments -  one with normal constraints and another with additional constraints leading to convergence of properties during pure IFV formal runs.</a:t>
            </a:r>
            <a:endParaRPr b="0" lang="en-US" sz="1800" spc="-1" strike="noStrike">
              <a:solidFill>
                <a:srgbClr val="a50021"/>
              </a:solidFill>
              <a:latin typeface="Arial Narrow"/>
            </a:endParaRPr>
          </a:p>
          <a:p>
            <a:pPr lvl="1" marL="698400" indent="-268560"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No failures reported by IEV for the 1st environment with normal constraints.</a:t>
            </a:r>
            <a:endParaRPr b="0" lang="en-US" sz="1800" spc="-1" strike="noStrike">
              <a:solidFill>
                <a:srgbClr val="a50021"/>
              </a:solidFill>
              <a:latin typeface="Arial Narrow"/>
            </a:endParaRPr>
          </a:p>
          <a:p>
            <a:pPr lvl="1" marL="698400" indent="-268560"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All 5 properties reported as fail by IEV for second environment </a:t>
            </a:r>
            <a:r>
              <a:rPr b="1" lang="en-US" sz="1800" spc="-1" strike="noStrike">
                <a:solidFill>
                  <a:srgbClr val="3333ff"/>
                </a:solidFill>
                <a:latin typeface="Arial Narrow"/>
              </a:rPr>
              <a:t>--&gt;</a:t>
            </a: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 bug easily reached iff IEV is steered along a proper direction.</a:t>
            </a:r>
            <a:endParaRPr b="0" lang="en-US" sz="1800" spc="-1" strike="noStrike">
              <a:solidFill>
                <a:srgbClr val="a50021"/>
              </a:solidFill>
              <a:latin typeface="Arial Narrow"/>
            </a:endParaRPr>
          </a:p>
          <a:p>
            <a:pPr marL="322200" indent="-322200">
              <a:spcBef>
                <a:spcPts val="499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Narrow"/>
              </a:rPr>
              <a:t>Established and followed a two-step methodology for effective usage of IEV</a:t>
            </a:r>
            <a:endParaRPr b="0" lang="en-US" sz="2000" spc="-1" strike="noStrike">
              <a:solidFill>
                <a:srgbClr val="0000ff"/>
              </a:solidFill>
              <a:latin typeface="Arial Narrow"/>
            </a:endParaRPr>
          </a:p>
          <a:p>
            <a:pPr lvl="1" marL="698400" indent="-268560"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SimOnly:</a:t>
            </a:r>
            <a:r>
              <a:rPr b="0" lang="en-US" sz="1800" spc="-1" strike="noStrike">
                <a:solidFill>
                  <a:srgbClr val="990000"/>
                </a:solidFill>
                <a:latin typeface="Arial Narrow"/>
              </a:rPr>
              <a:t> ‘</a:t>
            </a: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N’ nos. of random simulation runs for proper “seed” selection</a:t>
            </a:r>
            <a:endParaRPr b="0" lang="en-US" sz="1800" spc="-1" strike="noStrike">
              <a:solidFill>
                <a:srgbClr val="a50021"/>
              </a:solidFill>
              <a:latin typeface="Arial Narrow"/>
            </a:endParaRPr>
          </a:p>
          <a:p>
            <a:pPr lvl="2" marL="1074240" indent="-214560">
              <a:spcBef>
                <a:spcPts val="451"/>
              </a:spcBef>
              <a:buClr>
                <a:srgbClr val="3366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 Narrow"/>
              </a:rPr>
              <a:t>100 SimOnly runs for each search-point (50 with Scout &amp; 50 with Spy solver)</a:t>
            </a:r>
            <a:endParaRPr b="0" lang="en-US" sz="1800" spc="-1" strike="noStrike">
              <a:solidFill>
                <a:srgbClr val="336600"/>
              </a:solidFill>
              <a:latin typeface="Arial Narrow"/>
            </a:endParaRPr>
          </a:p>
          <a:p>
            <a:pPr lvl="2" marL="1074240" indent="-214560">
              <a:spcBef>
                <a:spcPts val="451"/>
              </a:spcBef>
              <a:buClr>
                <a:srgbClr val="3366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 Narrow"/>
              </a:rPr>
              <a:t>Total Simulation Runtime of 8 hrs. for each set of 100 runs</a:t>
            </a:r>
            <a:endParaRPr b="0" lang="en-US" sz="1800" spc="-1" strike="noStrike">
              <a:solidFill>
                <a:srgbClr val="336600"/>
              </a:solidFill>
              <a:latin typeface="Arial Narrow"/>
            </a:endParaRPr>
          </a:p>
          <a:p>
            <a:pPr lvl="1" marL="698400" indent="-268560"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Semi-Formal:</a:t>
            </a:r>
            <a:r>
              <a:rPr b="0" lang="en-US" sz="1800" spc="-1" strike="noStrike">
                <a:solidFill>
                  <a:srgbClr val="99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Top ‘k’ seeds are used with different formal invoking methods to disprove each property</a:t>
            </a:r>
            <a:endParaRPr b="0" lang="en-US" sz="1800" spc="-1" strike="noStrike">
              <a:solidFill>
                <a:srgbClr val="a50021"/>
              </a:solidFill>
              <a:latin typeface="Arial Narrow"/>
            </a:endParaRPr>
          </a:p>
          <a:p>
            <a:pPr lvl="2" marL="1074240" indent="-214560">
              <a:spcBef>
                <a:spcPts val="451"/>
              </a:spcBef>
              <a:buClr>
                <a:srgbClr val="3366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 Narrow"/>
              </a:rPr>
              <a:t>Top 5 seeds selected for each search-point</a:t>
            </a:r>
            <a:endParaRPr b="0" lang="en-US" sz="1800" spc="-1" strike="noStrike">
              <a:solidFill>
                <a:srgbClr val="3366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57D1-CAA4-4BD2-A630-96ABF0F670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IEV Based Bug Hunting Methodology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37640" y="492480"/>
            <a:ext cx="5898960" cy="5907960"/>
            <a:chOff x="2537640" y="492480"/>
            <a:chExt cx="5898960" cy="5907960"/>
          </a:xfrm>
        </p:grpSpPr>
        <p:sp>
          <p:nvSpPr>
            <p:cNvPr id="199" name="Text Box 41"/>
            <p:cNvSpPr/>
            <p:nvPr/>
          </p:nvSpPr>
          <p:spPr>
            <a:xfrm>
              <a:off x="2537640" y="5657760"/>
              <a:ext cx="119880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 Narrow"/>
                </a:rPr>
                <a:t>Verif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 Narrow"/>
                </a:rPr>
                <a:t>Compl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"/>
            <p:cNvSpPr/>
            <p:nvPr/>
          </p:nvSpPr>
          <p:spPr>
            <a:xfrm>
              <a:off x="5009040" y="871560"/>
              <a:ext cx="1923120" cy="745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4993920" y="1929600"/>
              <a:ext cx="1949040" cy="636840"/>
            </a:xfrm>
            <a:prstGeom prst="flowChartProcess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7"/>
            <p:cNvSpPr/>
            <p:nvPr/>
          </p:nvSpPr>
          <p:spPr>
            <a:xfrm>
              <a:off x="4989240" y="2876040"/>
              <a:ext cx="1949400" cy="460440"/>
            </a:xfrm>
            <a:prstGeom prst="flowChartProcess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8"/>
            <p:cNvSpPr/>
            <p:nvPr/>
          </p:nvSpPr>
          <p:spPr>
            <a:xfrm>
              <a:off x="4958640" y="3650760"/>
              <a:ext cx="2030400" cy="923040"/>
            </a:xfrm>
            <a:prstGeom prst="flowChartDecis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1"/>
            <p:cNvSpPr/>
            <p:nvPr/>
          </p:nvSpPr>
          <p:spPr>
            <a:xfrm>
              <a:off x="4944960" y="4842000"/>
              <a:ext cx="2016000" cy="527760"/>
            </a:xfrm>
            <a:prstGeom prst="flowChartProcess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4"/>
            <p:cNvSpPr/>
            <p:nvPr/>
          </p:nvSpPr>
          <p:spPr>
            <a:xfrm rot="524400">
              <a:off x="6492240" y="533520"/>
              <a:ext cx="586440" cy="60156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5"/>
            <p:cNvSpPr/>
            <p:nvPr/>
          </p:nvSpPr>
          <p:spPr>
            <a:xfrm>
              <a:off x="3764160" y="1202400"/>
              <a:ext cx="0" cy="267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6"/>
            <p:cNvSpPr/>
            <p:nvPr/>
          </p:nvSpPr>
          <p:spPr>
            <a:xfrm flipH="1">
              <a:off x="4338360" y="4117680"/>
              <a:ext cx="64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7"/>
            <p:cNvSpPr/>
            <p:nvPr/>
          </p:nvSpPr>
          <p:spPr>
            <a:xfrm flipH="1">
              <a:off x="3750120" y="5994720"/>
              <a:ext cx="1218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 flipH="1">
              <a:off x="6932520" y="30610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0"/>
            <p:cNvSpPr/>
            <p:nvPr/>
          </p:nvSpPr>
          <p:spPr>
            <a:xfrm>
              <a:off x="7528320" y="3061080"/>
              <a:ext cx="0" cy="202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1"/>
            <p:cNvSpPr/>
            <p:nvPr/>
          </p:nvSpPr>
          <p:spPr>
            <a:xfrm flipH="1">
              <a:off x="6955200" y="5068440"/>
              <a:ext cx="57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>
              <a:off x="7879680" y="1229760"/>
              <a:ext cx="0" cy="47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3"/>
            <p:cNvSpPr/>
            <p:nvPr/>
          </p:nvSpPr>
          <p:spPr>
            <a:xfrm>
              <a:off x="6959880" y="6009840"/>
              <a:ext cx="89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>
              <a:off x="6927840" y="1237320"/>
              <a:ext cx="96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5"/>
            <p:cNvSpPr/>
            <p:nvPr/>
          </p:nvSpPr>
          <p:spPr>
            <a:xfrm flipH="1">
              <a:off x="3774960" y="1226880"/>
              <a:ext cx="12189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5401800" y="902160"/>
              <a:ext cx="113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 Narrow"/>
                </a:rPr>
                <a:t>Rand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 Narrow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7"/>
            <p:cNvSpPr/>
            <p:nvPr/>
          </p:nvSpPr>
          <p:spPr>
            <a:xfrm>
              <a:off x="7038360" y="60516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 Narrow"/>
                </a:rPr>
                <a:t>“</a:t>
              </a:r>
              <a:r>
                <a:rPr b="1" lang="en-US" sz="1800" spc="-1" strike="noStrike">
                  <a:solidFill>
                    <a:srgbClr val="990033"/>
                  </a:solidFill>
                  <a:latin typeface="Arial Narrow"/>
                </a:rPr>
                <a:t>N” Iter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>
              <a:off x="5971680" y="1623240"/>
              <a:ext cx="0" cy="31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9"/>
            <p:cNvSpPr/>
            <p:nvPr/>
          </p:nvSpPr>
          <p:spPr>
            <a:xfrm>
              <a:off x="5136120" y="1973880"/>
              <a:ext cx="166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 Narrow"/>
                </a:rPr>
                <a:t>Seed Sel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33"/>
                  </a:solidFill>
                  <a:latin typeface="Arial Narrow"/>
                </a:rPr>
                <a:t>Top K seeds (K&lt;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0"/>
            <p:cNvSpPr/>
            <p:nvPr/>
          </p:nvSpPr>
          <p:spPr>
            <a:xfrm>
              <a:off x="5971680" y="2572560"/>
              <a:ext cx="0" cy="31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31"/>
            <p:cNvSpPr/>
            <p:nvPr/>
          </p:nvSpPr>
          <p:spPr>
            <a:xfrm>
              <a:off x="5525640" y="293400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 Narrow"/>
                </a:rPr>
                <a:t>Run I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2"/>
            <p:cNvSpPr/>
            <p:nvPr/>
          </p:nvSpPr>
          <p:spPr>
            <a:xfrm>
              <a:off x="5631120" y="3960000"/>
              <a:ext cx="7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 Narrow"/>
                </a:rPr>
                <a:t>FAI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3"/>
            <p:cNvSpPr/>
            <p:nvPr/>
          </p:nvSpPr>
          <p:spPr>
            <a:xfrm>
              <a:off x="5971680" y="3342960"/>
              <a:ext cx="0" cy="32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>
              <a:off x="5967000" y="4592160"/>
              <a:ext cx="0" cy="23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5"/>
            <p:cNvSpPr/>
            <p:nvPr/>
          </p:nvSpPr>
          <p:spPr>
            <a:xfrm>
              <a:off x="4967280" y="4783680"/>
              <a:ext cx="1965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Ch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Semi-formal Approa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6"/>
            <p:cNvSpPr/>
            <p:nvPr/>
          </p:nvSpPr>
          <p:spPr>
            <a:xfrm>
              <a:off x="5483520" y="5705640"/>
              <a:ext cx="102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Cove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 Narrow"/>
                </a:rPr>
                <a:t>Achieved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37"/>
            <p:cNvSpPr/>
            <p:nvPr/>
          </p:nvSpPr>
          <p:spPr>
            <a:xfrm>
              <a:off x="5946480" y="4498920"/>
              <a:ext cx="46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8"/>
            <p:cNvSpPr/>
            <p:nvPr/>
          </p:nvSpPr>
          <p:spPr>
            <a:xfrm>
              <a:off x="4433400" y="380700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4"/>
            <p:cNvSpPr/>
            <p:nvPr/>
          </p:nvSpPr>
          <p:spPr>
            <a:xfrm>
              <a:off x="5962320" y="5359320"/>
              <a:ext cx="0" cy="23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8"/>
            <p:cNvSpPr/>
            <p:nvPr/>
          </p:nvSpPr>
          <p:spPr>
            <a:xfrm>
              <a:off x="4953960" y="5602680"/>
              <a:ext cx="2030400" cy="797760"/>
            </a:xfrm>
            <a:prstGeom prst="flowChartDecis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54400" y="569016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7"/>
            <p:cNvSpPr/>
            <p:nvPr/>
          </p:nvSpPr>
          <p:spPr>
            <a:xfrm>
              <a:off x="6959160" y="5693040"/>
              <a:ext cx="46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70600" y="3906360"/>
              <a:ext cx="105804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 Narrow"/>
                </a:rPr>
                <a:t>Debu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2"/>
            <p:cNvSpPr/>
            <p:nvPr/>
          </p:nvSpPr>
          <p:spPr>
            <a:xfrm>
              <a:off x="3203280" y="224208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Arial Narrow"/>
                </a:rPr>
                <a:t>F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04920" y="3505320"/>
            <a:ext cx="2743200" cy="1904760"/>
          </a:xfrm>
          <a:prstGeom prst="wedgeRectCallout">
            <a:avLst>
              <a:gd name="adj1" fmla="val 118578"/>
              <a:gd name="adj2" fmla="val 3208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5200" y="3594240"/>
            <a:ext cx="282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EV Search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igger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rval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SM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ver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ver with Re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3C3-D74F-48FB-B433-910A1F329E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Analysis of Different Formal Fork-off Methods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 Narrow"/>
              </a:rPr>
              <a:t>Trigger Based Formal Fork-off</a:t>
            </a:r>
            <a:endParaRPr b="0" lang="en-US" sz="1800" spc="-1" strike="noStrike">
              <a:solidFill>
                <a:srgbClr val="0000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 Narrow"/>
              </a:rPr>
              <a:t>For explored properties, search up to 5000 cycles could not be completed</a:t>
            </a:r>
            <a:endParaRPr b="0" lang="en-US" sz="1600" spc="-1" strike="noStrike">
              <a:solidFill>
                <a:srgbClr val="a50021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 Narrow"/>
              </a:rPr>
              <a:t>SL2_MCmd and SL2_MAddress properties failed</a:t>
            </a:r>
            <a:endParaRPr b="0" lang="en-US" sz="1600" spc="-1" strike="noStrike">
              <a:solidFill>
                <a:srgbClr val="a50021"/>
              </a:solidFill>
              <a:latin typeface="Arial Narrow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838080" y="2209320"/>
            <a:ext cx="8001000" cy="1145880"/>
            <a:chOff x="838080" y="2209320"/>
            <a:chExt cx="8001000" cy="1145880"/>
          </a:xfrm>
        </p:grpSpPr>
        <p:sp>
          <p:nvSpPr>
            <p:cNvPr id="240" name=""/>
            <p:cNvSpPr/>
            <p:nvPr/>
          </p:nvSpPr>
          <p:spPr>
            <a:xfrm rot="16200000">
              <a:off x="3101760" y="2261880"/>
              <a:ext cx="760680" cy="655560"/>
            </a:xfrm>
            <a:prstGeom prst="triangle">
              <a:avLst>
                <a:gd name="adj" fmla="val 50000"/>
              </a:avLst>
            </a:prstGeom>
            <a:solidFill>
              <a:srgbClr val="3366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1349280" y="2261880"/>
              <a:ext cx="760680" cy="655560"/>
            </a:xfrm>
            <a:prstGeom prst="triangle">
              <a:avLst>
                <a:gd name="adj" fmla="val 50000"/>
              </a:avLst>
            </a:prstGeom>
            <a:solidFill>
              <a:srgbClr val="3366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2339640" y="2261520"/>
              <a:ext cx="760680" cy="655920"/>
            </a:xfrm>
            <a:prstGeom prst="triangle">
              <a:avLst>
                <a:gd name="adj" fmla="val 50000"/>
              </a:avLst>
            </a:prstGeom>
            <a:solidFill>
              <a:srgbClr val="3366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200000">
              <a:off x="4321080" y="2261880"/>
              <a:ext cx="760680" cy="655560"/>
            </a:xfrm>
            <a:prstGeom prst="triangle">
              <a:avLst>
                <a:gd name="adj" fmla="val 50000"/>
              </a:avLst>
            </a:prstGeom>
            <a:solidFill>
              <a:srgbClr val="3366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200000">
              <a:off x="1044360" y="2273040"/>
              <a:ext cx="760320" cy="655560"/>
            </a:xfrm>
            <a:prstGeom prst="triangle">
              <a:avLst>
                <a:gd name="adj" fmla="val 50000"/>
              </a:avLst>
            </a:prstGeom>
            <a:solidFill>
              <a:srgbClr val="3366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8080" y="2587680"/>
              <a:ext cx="4419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31760" y="2548080"/>
              <a:ext cx="130320" cy="10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78160" y="2548080"/>
              <a:ext cx="129960" cy="10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89160" y="2548080"/>
              <a:ext cx="128880" cy="10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43400" y="2548080"/>
              <a:ext cx="128520" cy="10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53960" y="2548080"/>
              <a:ext cx="130320" cy="10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1800" y="2263680"/>
              <a:ext cx="0" cy="1087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57800" y="2209680"/>
              <a:ext cx="0" cy="1087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901440" y="3200400"/>
              <a:ext cx="181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3444840" y="3200400"/>
              <a:ext cx="181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41840" y="30481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96920" y="2362320"/>
              <a:ext cx="0" cy="652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52480" y="2438280"/>
              <a:ext cx="0" cy="652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093680" y="3048120"/>
              <a:ext cx="6588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40400" y="2773440"/>
              <a:ext cx="66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 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15000" y="2238480"/>
              <a:ext cx="3124080" cy="946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rk-off at: Trigger of Proper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arch Depth = 5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rmal Effort = 10 m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rmal Engine: Bow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57200" y="35053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 Narrow"/>
              </a:rPr>
              <a:t>Interval Based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 Narrow"/>
              </a:rPr>
              <a:t>Search of 5000 cycles could be completed; Runtime decreased to 24 hrs. per prop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 Narrow"/>
              </a:rPr>
              <a:t>VDMA_MCmd property fai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838080" y="4648320"/>
            <a:ext cx="8001000" cy="1450080"/>
            <a:chOff x="838080" y="4648320"/>
            <a:chExt cx="8001000" cy="1450080"/>
          </a:xfrm>
        </p:grpSpPr>
        <p:sp>
          <p:nvSpPr>
            <p:cNvPr id="263" name=""/>
            <p:cNvSpPr/>
            <p:nvPr/>
          </p:nvSpPr>
          <p:spPr>
            <a:xfrm rot="16200000">
              <a:off x="2324880" y="4990320"/>
              <a:ext cx="760320" cy="533520"/>
            </a:xfrm>
            <a:prstGeom prst="triangle">
              <a:avLst>
                <a:gd name="adj" fmla="val 50000"/>
              </a:avLst>
            </a:prstGeom>
            <a:solidFill>
              <a:srgbClr val="3366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200000">
              <a:off x="3162960" y="4991760"/>
              <a:ext cx="760320" cy="533160"/>
            </a:xfrm>
            <a:prstGeom prst="triangle">
              <a:avLst>
                <a:gd name="adj" fmla="val 50000"/>
              </a:avLst>
            </a:prstGeom>
            <a:solidFill>
              <a:srgbClr val="3366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6200000">
              <a:off x="4001400" y="4990320"/>
              <a:ext cx="760320" cy="533520"/>
            </a:xfrm>
            <a:prstGeom prst="triangle">
              <a:avLst>
                <a:gd name="adj" fmla="val 50000"/>
              </a:avLst>
            </a:prstGeom>
            <a:solidFill>
              <a:srgbClr val="3366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4762440" y="5067360"/>
              <a:ext cx="609840" cy="380880"/>
            </a:xfrm>
            <a:prstGeom prst="triangle">
              <a:avLst>
                <a:gd name="adj" fmla="val 50000"/>
              </a:avLst>
            </a:prstGeom>
            <a:solidFill>
              <a:srgbClr val="3366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86800" y="4991760"/>
              <a:ext cx="760320" cy="533520"/>
            </a:xfrm>
            <a:prstGeom prst="triangle">
              <a:avLst>
                <a:gd name="adj" fmla="val 50000"/>
              </a:avLst>
            </a:prstGeom>
            <a:solidFill>
              <a:srgbClr val="3366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8080" y="5254560"/>
              <a:ext cx="4419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46200" y="5214960"/>
              <a:ext cx="130320" cy="10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84280" y="5214960"/>
              <a:ext cx="130320" cy="10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24160" y="5214960"/>
              <a:ext cx="128520" cy="10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62240" y="5214960"/>
              <a:ext cx="128880" cy="10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901440" y="4724280"/>
              <a:ext cx="12600" cy="129384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7800" y="4724280"/>
              <a:ext cx="0" cy="123984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901440" y="5943600"/>
              <a:ext cx="181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44840" y="5943600"/>
              <a:ext cx="181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1840" y="579132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3720" y="5105520"/>
              <a:ext cx="0" cy="65232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00200" y="571500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43680" y="5364000"/>
              <a:ext cx="66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 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15000" y="4800600"/>
              <a:ext cx="3124080" cy="1159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rk-off at: Specified Time Interv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arch Depth = 5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Interval = 150 cyc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rmal Effort = 20 m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rmal Engine: Bow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24360" y="5227560"/>
              <a:ext cx="128520" cy="106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11880" y="4724280"/>
              <a:ext cx="650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yc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00200" y="4724280"/>
              <a:ext cx="0" cy="1067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38280" y="4724280"/>
              <a:ext cx="0" cy="892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76720" y="4724280"/>
              <a:ext cx="0" cy="892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19440" y="464832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11440" y="464832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4724280"/>
              <a:ext cx="0" cy="892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05320" y="464832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6040" y="4724280"/>
              <a:ext cx="0" cy="892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11640" y="464832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5B1-EFA9-4887-B9CF-4752CDDC75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Analysis of Different Formal Fork-off Methods contd.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Narrow"/>
              </a:rPr>
              <a:t>FSM State Based Search</a:t>
            </a:r>
            <a:r>
              <a:rPr b="0" lang="en-US" sz="1800" spc="-1" strike="noStrike">
                <a:solidFill>
                  <a:srgbClr val="0033cc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All automatic FSM checks [Reachability AFAs] with max pass depth of 14 (reachable)</a:t>
            </a:r>
            <a:endParaRPr b="0" lang="en-US" sz="1800" spc="-1" strike="noStrike">
              <a:solidFill>
                <a:srgbClr val="a50021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Both  the SL2_MData and VDMA_MData properties were explored</a:t>
            </a:r>
            <a:endParaRPr b="0" lang="en-US" sz="1800" spc="-1" strike="noStrike">
              <a:solidFill>
                <a:srgbClr val="a5002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Narrow"/>
              </a:rPr>
              <a:t>Cover Property Based Search</a:t>
            </a:r>
            <a:endParaRPr b="0" lang="en-US" sz="2000" spc="-1" strike="noStrike">
              <a:solidFill>
                <a:srgbClr val="0000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Cover statement written with the help of debug info from previously failed properties</a:t>
            </a:r>
            <a:endParaRPr b="0" lang="en-US" sz="1800" spc="-1" strike="noStrike">
              <a:solidFill>
                <a:srgbClr val="a50021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Got failures for all three properties already falsified before.</a:t>
            </a:r>
            <a:endParaRPr b="0" lang="en-US" sz="1800" spc="-1" strike="noStrike">
              <a:solidFill>
                <a:srgbClr val="a50021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SL2_MData &amp; VDMA_MData still explored</a:t>
            </a:r>
            <a:endParaRPr b="0" lang="en-US" sz="1800" spc="-1" strike="noStrike">
              <a:solidFill>
                <a:srgbClr val="a50021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 Narrow"/>
              </a:rPr>
              <a:t>Cover With Replay Method</a:t>
            </a:r>
            <a:endParaRPr b="0" lang="en-US" sz="2000" spc="-1" strike="noStrike">
              <a:solidFill>
                <a:srgbClr val="0000ff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Got a failure for SL2_MData</a:t>
            </a:r>
            <a:endParaRPr b="0" lang="en-US" sz="1800" spc="-1" strike="noStrike">
              <a:solidFill>
                <a:srgbClr val="a50021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More covers based on debug info from SL2_MData failure written to converge VDMA_MData </a:t>
            </a:r>
            <a:endParaRPr b="0" lang="en-US" sz="1800" spc="-1" strike="noStrike">
              <a:solidFill>
                <a:srgbClr val="a50021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 Narrow"/>
              </a:rPr>
              <a:t>Observed all 5 failures in a single trace</a:t>
            </a:r>
            <a:endParaRPr b="0" lang="en-US" sz="1800" spc="-1" strike="noStrike">
              <a:solidFill>
                <a:srgbClr val="a50021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660-4E7C-46F5-9674-AEB5828F35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7:53:13Z</dcterms:created>
  <dc:creator>Bijit</dc:creator>
  <dc:description/>
  <dc:language>en-US</dc:language>
  <cp:lastModifiedBy>Bijitendra Mittra</cp:lastModifiedBy>
  <dcterms:modified xsi:type="dcterms:W3CDTF">2010-05-06T06:50:29Z</dcterms:modified>
  <cp:revision>20</cp:revision>
  <dc:subject/>
  <dc:title>Bug Hunting Methodology using  Semi-Formal Verification Techniques</dc:title>
</cp:coreProperties>
</file>