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AAE-CAEE-40E4-9D16-30E7D2ED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786-A144-4458-B4EC-9FF05ED8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AAE-4D50-4293-A85F-553AA3CA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0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467-A458-4AF9-936A-5D604169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9A1-B581-40AB-A030-20950C19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046-A59B-4F9A-97D7-D2C89523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7FF-D4AD-4654-B39F-797DDAF8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599-D571-405F-8CCE-299F684B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653-8764-4CC9-928D-589E3776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EB0-B4D4-45A1-A815-E76B20C7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0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FF9-E917-4656-A2BD-4D11F4BD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0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054-71ED-4F26-B10C-72AE86E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73520"/>
            <a:ext cx="4572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6E9F-0B3D-48FA-B2FB-FDDDFD16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12193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097280"/>
            <a:ext cx="77724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rial Narrow"/>
                <a:ea typeface="Tunga"/>
              </a:rPr>
              <a:t>Configurable Sub-system Verification Using Property Based Formal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6172200"/>
            <a:ext cx="1295280" cy="41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0400" y="6164280"/>
            <a:ext cx="2838600" cy="38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60958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32" descr="PPHeaderRGBTechnology"/>
          <p:cNvPicPr/>
          <p:nvPr/>
        </p:nvPicPr>
        <p:blipFill>
          <a:blip r:embed="rId3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7840" y="3352680"/>
            <a:ext cx="630720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lfaen"/>
              </a:rPr>
              <a:t>Supriya Bhattacharjee, Bijitendra Mit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Interra Systems Inc., Bangalore,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Sylfaen"/>
              </a:rPr>
              <a:t>Subir K. R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Texas Instruments Inc., Bangalore,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495680" y="6099120"/>
            <a:ext cx="1447920" cy="53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66400" y="5513400"/>
            <a:ext cx="54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DAC User Track 2010 Poster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FV Connectivity Verification Suite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22636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sides functional checks for IPs, we have also developed an automated connectivity verification flow to ensure proper integration of IPs within the subsyst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connectivity information for all the IPs are populated in an Excel spreadshe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Perl based script is used to parse the XLS and generate the connectivity property sui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600200" y="4800600"/>
            <a:ext cx="533160" cy="685440"/>
            <a:chOff x="1600200" y="4800600"/>
            <a:chExt cx="533160" cy="68544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1659240" y="4856760"/>
              <a:ext cx="4662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600200" y="4800600"/>
              <a:ext cx="533160" cy="685440"/>
            </a:xfrm>
            <a:custGeom>
              <a:avLst/>
              <a:gdLst>
                <a:gd name="textAreaLeft" fmla="*/ 360 w 533160"/>
                <a:gd name="textAreaRight" fmla="*/ 532800 w 533160"/>
                <a:gd name="textAreaTop" fmla="*/ 360 h 685440"/>
                <a:gd name="textAreaBottom" fmla="*/ 685080 h 685440"/>
              </a:gdLst>
              <a:ahLst/>
              <a:rect l="textAreaLeft" t="textAreaTop" r="textAreaRight" b="textAreaBottom"/>
              <a:pathLst>
                <a:path w="21600" h="27765">
                  <a:moveTo>
                    <a:pt x="77" y="0"/>
                  </a:moveTo>
                  <a:arcTo wR="77" hR="77" stAng="16200000" swAng="-5400000"/>
                  <a:lnTo>
                    <a:pt x="0" y="27688"/>
                  </a:lnTo>
                  <a:arcTo wR="77" hR="77" stAng="10800000" swAng="-5400000"/>
                  <a:lnTo>
                    <a:pt x="21523" y="27765"/>
                  </a:lnTo>
                  <a:arcTo wR="77" hR="77" stAng="5400000" swAng="-5400000"/>
                  <a:lnTo>
                    <a:pt x="21600" y="77"/>
                  </a:lnTo>
                  <a:arcTo wR="77" hR="77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209680" y="50292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4648320"/>
            <a:ext cx="914400" cy="1066680"/>
          </a:xfrm>
          <a:prstGeom prst="foldedCorner">
            <a:avLst>
              <a:gd name="adj" fmla="val 12500"/>
            </a:avLst>
          </a:prstGeom>
          <a:solidFill>
            <a:srgbClr val="8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50292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648320"/>
            <a:ext cx="1905120" cy="990360"/>
          </a:xfrm>
          <a:prstGeom prst="flowChartPredefined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45480" y="5715000"/>
            <a:ext cx="107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l Sc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640" y="546588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71240" y="4724280"/>
            <a:ext cx="139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2F3-5A0B-4304-9145-257DC0B468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Results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-228600" y="3200400"/>
          <a:ext cx="502920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3200400"/>
                    <a:ext cx="502920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457200" y="914400"/>
            <a:ext cx="8226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ow run on a configurable DFT Subsystem (DFTSS) consisting of IPs like, Power Reset and Clock Management modules, Pin Muxing modules, Data &amp; Control registers, Scan Combiner Module, Burn-in module, Memory and Logic BIST controllers, PLL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4 SO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 Narrow"/>
              </a:rPr>
              <a:t>Functional Checks -  # of Configurations: 133, # of Properties: 307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 Narrow"/>
              </a:rPr>
              <a:t>Connectivity Checks - # of Configurations: 133, # of Properties: 736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91120" y="3200400"/>
          <a:ext cx="4952880" cy="34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200400"/>
                    <a:ext cx="495288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562720" y="632448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ig2: Connectivity 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4240" y="6324480"/>
            <a:ext cx="18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ig1: Functional Che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875-9FF4-4B9D-BFC9-85B5EE0CE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ully automatic push button formal verification solution to validate configurable sub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tomatic generation of Formal properties and environment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sy operation of flo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properties can be added very quick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haustive verification guaranteed by Formal verification technology itsel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figuration file and connectivity XLS creation is manual, time taking and thus error pron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eed to have a RTL generator which reads the configuration files to generate the RT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087-9B3B-4350-9C2C-B479A15548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Motivation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C typically consists of many sub-system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ach subsystem may contain various functional IPs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d on the requirement, some functional IPs may be or may not be required in a particular SO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figurable subsystems enable this level of flexibility needed in a platform SOC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fferent parameters values determine the subsystem configurations for different applications, enabling re-use of the same set of generic subsystems across many different appl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main challenge is to verify such parameterized subsystems standalone, for all possible configurations before integration into the SO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84C-CFD2-434A-8BAA-096C27102D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226360" cy="71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Configurable Subsystem – An Example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62120" y="762120"/>
            <a:ext cx="6939000" cy="5943600"/>
            <a:chOff x="762120" y="762120"/>
            <a:chExt cx="6939000" cy="5943600"/>
          </a:xfrm>
        </p:grpSpPr>
        <p:sp>
          <p:nvSpPr>
            <p:cNvPr id="54" name=""/>
            <p:cNvSpPr/>
            <p:nvPr/>
          </p:nvSpPr>
          <p:spPr>
            <a:xfrm>
              <a:off x="990720" y="762120"/>
              <a:ext cx="6553080" cy="5943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1600" y="836640"/>
              <a:ext cx="657360" cy="3201840"/>
            </a:xfrm>
            <a:prstGeom prst="flowChartDocumen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67080" y="2116080"/>
              <a:ext cx="1121040" cy="150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01920" y="912960"/>
              <a:ext cx="1716120" cy="3762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550960" y="1363680"/>
              <a:ext cx="1492560" cy="225360"/>
              <a:chOff x="2550960" y="1363680"/>
              <a:chExt cx="1492560" cy="225360"/>
            </a:xfrm>
          </p:grpSpPr>
          <p:sp>
            <p:nvSpPr>
              <p:cNvPr id="59" name=""/>
              <p:cNvSpPr/>
              <p:nvPr/>
            </p:nvSpPr>
            <p:spPr>
              <a:xfrm>
                <a:off x="2550960" y="1589040"/>
                <a:ext cx="149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255096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04352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270000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284904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9844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314784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29688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44628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359568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374472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3894120" y="1363680"/>
                <a:ext cx="0" cy="22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3297240" y="158904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78000" y="836640"/>
              <a:ext cx="5000760" cy="26337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1840" y="2341440"/>
              <a:ext cx="1119240" cy="150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38720" y="2567160"/>
              <a:ext cx="1119240" cy="1504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37160" y="2792520"/>
              <a:ext cx="1119240" cy="150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43520" y="2190600"/>
              <a:ext cx="22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94120" y="2416320"/>
              <a:ext cx="74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47840" y="2641680"/>
              <a:ext cx="209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3520" y="196524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94120" y="1965240"/>
              <a:ext cx="0" cy="45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22720" y="2116080"/>
              <a:ext cx="5968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47840" y="1965240"/>
              <a:ext cx="0" cy="6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98800" y="2868480"/>
              <a:ext cx="2538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98800" y="1965240"/>
              <a:ext cx="0" cy="90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74880" y="3017880"/>
              <a:ext cx="492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50960" y="3124080"/>
              <a:ext cx="515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74880" y="1965240"/>
              <a:ext cx="0" cy="10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50960" y="1944720"/>
              <a:ext cx="0" cy="11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2800" y="2266920"/>
              <a:ext cx="0" cy="1052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91240" y="2492280"/>
              <a:ext cx="0" cy="827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88120" y="2717640"/>
              <a:ext cx="0" cy="601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61080" y="2943360"/>
              <a:ext cx="0" cy="3762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3303720"/>
              <a:ext cx="21636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43400" y="3168360"/>
              <a:ext cx="0" cy="135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507000" y="3168360"/>
              <a:ext cx="0" cy="135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61080" y="3394080"/>
              <a:ext cx="372960" cy="2482920"/>
            </a:xfrm>
            <a:prstGeom prst="downArrow">
              <a:avLst>
                <a:gd name="adj1" fmla="val 43333"/>
                <a:gd name="adj2" fmla="val 25705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78000" y="3619440"/>
              <a:ext cx="1417680" cy="37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37160" y="3505320"/>
              <a:ext cx="1492200" cy="3016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65760" y="3243240"/>
              <a:ext cx="372960" cy="0"/>
            </a:xfrm>
            <a:prstGeom prst="line">
              <a:avLst/>
            </a:prstGeom>
            <a:ln w="507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28960" y="1138320"/>
              <a:ext cx="37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62120" y="1137960"/>
              <a:ext cx="59508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5200" y="4114800"/>
              <a:ext cx="33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5200" y="4267080"/>
              <a:ext cx="33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5200" y="4419720"/>
              <a:ext cx="335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5200" y="4876920"/>
              <a:ext cx="470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1431720" y="4444560"/>
              <a:ext cx="671400" cy="1879560"/>
            </a:xfrm>
            <a:prstGeom prst="flowChartDocumen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103480" y="6171840"/>
              <a:ext cx="559260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103480" y="6248520"/>
              <a:ext cx="55926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37160" y="3887640"/>
              <a:ext cx="1492200" cy="227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86400" y="5106960"/>
              <a:ext cx="1542960" cy="22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70200" y="3619440"/>
              <a:ext cx="447840" cy="376200"/>
            </a:xfrm>
            <a:prstGeom prst="rightArrow">
              <a:avLst>
                <a:gd name="adj1" fmla="val 50000"/>
                <a:gd name="adj2" fmla="val 29761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25840" y="3243240"/>
              <a:ext cx="550800" cy="376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93960" y="3243240"/>
              <a:ext cx="15494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14800" y="3733920"/>
              <a:ext cx="5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14800" y="4038480"/>
              <a:ext cx="5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4800" y="4267080"/>
              <a:ext cx="52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92560" y="3505320"/>
              <a:ext cx="822240" cy="25905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014800" y="6019560"/>
              <a:ext cx="268128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014800" y="5943600"/>
              <a:ext cx="26812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29360" y="5562720"/>
              <a:ext cx="666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360" y="5181480"/>
              <a:ext cx="666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9360" y="4648320"/>
              <a:ext cx="666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29360" y="4419720"/>
              <a:ext cx="666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29360" y="4191120"/>
              <a:ext cx="666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29360" y="3962520"/>
              <a:ext cx="666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29360" y="3581280"/>
              <a:ext cx="666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29360" y="3656160"/>
              <a:ext cx="66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29360" y="3730680"/>
              <a:ext cx="66672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01920" y="1739880"/>
              <a:ext cx="1716120" cy="2253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70040" y="4289400"/>
              <a:ext cx="494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62960" y="3657600"/>
              <a:ext cx="139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 Secure Ctrl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1828800"/>
              <a:ext cx="59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5334120"/>
              <a:ext cx="59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5720" y="990720"/>
              <a:ext cx="101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R (8 bit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1706400"/>
              <a:ext cx="73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c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45040" y="217800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D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4720" y="806400"/>
              <a:ext cx="197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Calibri"/>
                </a:rPr>
                <a:t>Test Mode Control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8080" y="4192560"/>
              <a:ext cx="1492200" cy="227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18080" y="4497480"/>
              <a:ext cx="1492200" cy="2268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18080" y="4802040"/>
              <a:ext cx="1492200" cy="22716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44000" y="3535200"/>
              <a:ext cx="154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BIST Ctrl + Com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41920" y="3886200"/>
              <a:ext cx="131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I Ctrl + BI M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3080" y="4191120"/>
              <a:ext cx="13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an Comb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3480" y="4495680"/>
              <a:ext cx="78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FT Ctr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17520" y="4800600"/>
              <a:ext cx="98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FT IO Ctr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505944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CM Ctr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5411880"/>
              <a:ext cx="1523880" cy="2268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38680" y="5364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PRCM Ctr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93280" y="634032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FT Sub-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47E-FC4F-4A08-8E3B-81BEE0F865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What makes the Subsystem configurable?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192320"/>
            <a:ext cx="838188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figuration and configurability of a subsystem is defined in a configuration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IPs/Modules that get instantiated in a subsystem</a:t>
            </a:r>
            <a:endParaRPr b="0" lang="en-US" sz="2000" spc="-1" strike="noStrike">
              <a:solidFill>
                <a:srgbClr val="0033cc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arameter values for each instantiated IP/Module</a:t>
            </a:r>
            <a:endParaRPr b="0" lang="en-US" sz="2000" spc="-1" strike="noStrike">
              <a:solidFill>
                <a:srgbClr val="0033c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use Veriperl (a mix of Verilog &amp; Perl) to develop generators for both RTL and the verification environ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riperl reads the configuration file and generates Verilog RTL for the complete subsyst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sed on the parameters in the configuration file, an IP will be instantiated or ignore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each instantiated IP, the configuration of that IP is controlled by the parameter values defined in the config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7D1-E743-4167-AB00-B331AB51B3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52280" y="990720"/>
          <a:ext cx="8839440" cy="4876560"/>
        </p:xfrm>
        <a:graphic>
          <a:graphicData uri="http://schemas.openxmlformats.org/drawingml/2006/table">
            <a:tbl>
              <a:tblPr/>
              <a:tblGrid>
                <a:gridCol w="1295640"/>
                <a:gridCol w="1066680"/>
                <a:gridCol w="685800"/>
                <a:gridCol w="4495680"/>
                <a:gridCol w="1295640"/>
              </a:tblGrid>
              <a:tr h="547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ser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aul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</a:tr>
              <a:tr h="44280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i_ctrl_e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burnin ctrl. 0 = not included, 1 = inclu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i_mon_e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burnin mon. 0 = not included, 1 = inclu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scm_e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scan combiner. 0 = not included, 1 = inclu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7620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tpm_e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tpm. 0 = not included, 1 = inclu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8556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i_mon_c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No. of user defined burnin monitor mux 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tpm_p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Defines the number of tester channels, 32 or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pmt_comb_c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No. of user defined PMT combiner 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scm_n_c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Defines the no. of cores to comb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scm_n_chann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Defines the no of scm channels, 8 or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30456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scm_n_si_pi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Defines the no. of scanin pipe register required per pip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scm_n_so_pi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Defines the no. of scanout pipe register required per pipe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2263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Sample Configuration File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5A1-6AE4-4DB4-8F3F-682DC6C199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3581280"/>
            <a:ext cx="6477120" cy="3124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Configurability of Sub-systems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5761080" y="3581280"/>
            <a:ext cx="372960" cy="2438640"/>
          </a:xfrm>
          <a:prstGeom prst="downArrow">
            <a:avLst>
              <a:gd name="adj1" fmla="val 43333"/>
              <a:gd name="adj2" fmla="val 25246"/>
            </a:avLst>
          </a:prstGeom>
          <a:solidFill>
            <a:srgbClr val="0080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8000" y="4000680"/>
            <a:ext cx="1417680" cy="376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5200" y="4495680"/>
            <a:ext cx="3357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" y="4648320"/>
            <a:ext cx="33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200" y="4800600"/>
            <a:ext cx="33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5200" y="5029200"/>
            <a:ext cx="4701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1431720" y="4902120"/>
            <a:ext cx="671400" cy="1727280"/>
          </a:xfrm>
          <a:prstGeom prst="flowChartDocumen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103480" y="6400440"/>
            <a:ext cx="5592600" cy="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103480" y="6552720"/>
            <a:ext cx="559260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37160" y="3962520"/>
            <a:ext cx="1492200" cy="2268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5257800"/>
            <a:ext cx="1542960" cy="22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0200" y="4000680"/>
            <a:ext cx="447840" cy="376200"/>
          </a:xfrm>
          <a:prstGeom prst="rightArrow">
            <a:avLst>
              <a:gd name="adj1" fmla="val 50000"/>
              <a:gd name="adj2" fmla="val 29761"/>
            </a:avLst>
          </a:prstGeom>
          <a:solidFill>
            <a:srgbClr val="0080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14800" y="4114800"/>
            <a:ext cx="522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14800" y="4419720"/>
            <a:ext cx="522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14800" y="4648320"/>
            <a:ext cx="522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2560" y="3886200"/>
            <a:ext cx="822240" cy="2438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14800" y="6248520"/>
            <a:ext cx="268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14800" y="6095880"/>
            <a:ext cx="268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9360" y="5715000"/>
            <a:ext cx="666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9360" y="5410080"/>
            <a:ext cx="666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9360" y="5029200"/>
            <a:ext cx="666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29360" y="4800600"/>
            <a:ext cx="666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29360" y="4572000"/>
            <a:ext cx="666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29360" y="4114800"/>
            <a:ext cx="666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70040" y="4670280"/>
            <a:ext cx="49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2960" y="4038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 Secure Ctr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71500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18080" y="4267080"/>
            <a:ext cx="1492200" cy="2271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18080" y="4573440"/>
            <a:ext cx="1492200" cy="2271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18080" y="4878360"/>
            <a:ext cx="1492200" cy="22716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65960" y="391644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 Ctrl + BI 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63080" y="426708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 Comb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3480" y="45720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FT Ct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7520" y="487692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FT IO Ct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5257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CM Ct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86400" y="5562720"/>
            <a:ext cx="1523880" cy="22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62720" y="5562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PRCM Ct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092240"/>
          <a:ext cx="8458200" cy="2413080"/>
        </p:xfrm>
        <a:graphic>
          <a:graphicData uri="http://schemas.openxmlformats.org/drawingml/2006/table">
            <a:tbl>
              <a:tblPr/>
              <a:tblGrid>
                <a:gridCol w="282600"/>
                <a:gridCol w="1241280"/>
                <a:gridCol w="838440"/>
                <a:gridCol w="950760"/>
                <a:gridCol w="3925800"/>
                <a:gridCol w="1219320"/>
              </a:tblGrid>
              <a:tr h="381240">
                <a:tc rowSpan="6">
                  <a:txBody>
                    <a:bodyPr lIns="45720" rIns="45720" tIns="0" bIns="0" anchor="t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ser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ault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i_ctrl_en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burnin ctrl. 0 = not included, 1 =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i_mon_en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burnin mon. 0 = not included, 1 =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scm_en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Scan comb. 0 = not included, 1 =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tpm_en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TPM. 0 = not included, 1 =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pbist_ctrl_en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boole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clude the PBIST ctrl. 0 = not included, 1 = inclu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5562720" y="3657600"/>
            <a:ext cx="1492200" cy="22716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7695720" y="3809880"/>
            <a:ext cx="1295640" cy="990720"/>
          </a:xfrm>
          <a:prstGeom prst="wedgeRoundRectCallout">
            <a:avLst>
              <a:gd name="adj1" fmla="val 109310"/>
              <a:gd name="adj2" fmla="val 5865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93920" y="396252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BIST 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inclu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R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581280"/>
            <a:ext cx="3124440" cy="152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619920" y="2109960"/>
            <a:ext cx="244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IGURATION 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3048120"/>
            <a:ext cx="24382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18F-5A56-4D7C-A140-383F55A150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RTL Generation from Config File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7732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TL generators are developed based on Veriper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sed on parameter values defined in the config file, Verilog RTL for the corresponding module is generated by the Veriperl genera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85800" y="2590920"/>
          <a:ext cx="8001000" cy="532800"/>
        </p:xfrm>
        <a:graphic>
          <a:graphicData uri="http://schemas.openxmlformats.org/drawingml/2006/table">
            <a:tbl>
              <a:tblPr/>
              <a:tblGrid>
                <a:gridCol w="838080"/>
                <a:gridCol w="609840"/>
                <a:gridCol w="687240"/>
                <a:gridCol w="4265640"/>
                <a:gridCol w="16002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tpm_p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inte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Defines the number of tester channels, 32 or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39760" y="4356000"/>
            <a:ext cx="280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………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l: if (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$tpm_pmt_comb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)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input  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$tpm_pins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 wpi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output 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$tpm_pins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 wpo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output 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$tpm_pins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 wpz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            ………</a:t>
            </a: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3276720"/>
            <a:ext cx="2133720" cy="152388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4952880"/>
            <a:ext cx="2210040" cy="152424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31920" y="3352680"/>
            <a:ext cx="193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………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wpi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wpo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utput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wpz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………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31920" y="4876920"/>
            <a:ext cx="193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64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wpi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64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wpo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utput 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64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wpz_p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………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3597120"/>
            <a:ext cx="1981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f ($tpm_pmt_comb == 1) &amp;&amp;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($tpm_pins == 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5425920"/>
            <a:ext cx="1981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f ($tpm_pmt_comb == 1) &amp;&amp;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($tpm_pins == 6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3809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56386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38098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809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57150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962520"/>
            <a:ext cx="3276720" cy="2209680"/>
          </a:xfrm>
          <a:prstGeom prst="flowChartMulti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6172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33"/>
                </a:solidFill>
                <a:uFillTx/>
                <a:latin typeface="Arial Narrow"/>
              </a:rPr>
              <a:t>PMT Combiner RTL with different configu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2240" y="42814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eriperl RTL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16280" y="323856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 Narrow"/>
              </a:rPr>
              <a:t>R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92600" y="4915080"/>
            <a:ext cx="5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 Narrow"/>
              </a:rPr>
              <a:t>R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12600" y="3124080"/>
            <a:ext cx="1155600" cy="1981440"/>
          </a:xfrm>
          <a:custGeom>
            <a:avLst/>
            <a:gdLst/>
            <a:ahLst/>
            <a:rect l="l" t="t" r="r" b="b"/>
            <a:pathLst>
              <a:path w="728" h="1248">
                <a:moveTo>
                  <a:pt x="392" y="0"/>
                </a:moveTo>
                <a:cubicBezTo>
                  <a:pt x="272" y="128"/>
                  <a:pt x="152" y="256"/>
                  <a:pt x="104" y="384"/>
                </a:cubicBezTo>
                <a:cubicBezTo>
                  <a:pt x="56" y="512"/>
                  <a:pt x="0" y="624"/>
                  <a:pt x="104" y="768"/>
                </a:cubicBezTo>
                <a:cubicBezTo>
                  <a:pt x="208" y="912"/>
                  <a:pt x="468" y="1080"/>
                  <a:pt x="728" y="12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666880"/>
            <a:ext cx="16002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145-D4E9-4C56-AD6A-033741B3F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2263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every module in the subsystem, parameterized formal property generators are developed in Veriperl manual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a given SOC configuration, formal properties are generated based on the parameter valu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657600"/>
            <a:ext cx="761760" cy="121932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63760" y="3124080"/>
            <a:ext cx="3844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pl: if($scm_enable == 1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vunit dftss_soc_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pl: my $msb = $scm_n_channels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property select_ser_wpi_scan_intes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always( dft_sel_bi_prpg_scan == 1'b0 -&g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bi_ser_wpi_scan_intest 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ser_wpi_scan_intest[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$msb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: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assert select_ser_wpi_inte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4720" y="3200400"/>
            <a:ext cx="3446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unit dftss_soc_scm (dft_sacra_co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perty select_ser_wpi_scan_intest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lways (dft_sel_bi_prpg_scan == 1'b0 -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i_ser_wpi_scan_intest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_wpi_scan_intest[</a:t>
            </a: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:2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ssert select_ser_wpi_scan_inte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3124080"/>
            <a:ext cx="3809880" cy="335304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3124080"/>
            <a:ext cx="3353040" cy="281952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4038480"/>
            <a:ext cx="38124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0384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600" y="3886200"/>
            <a:ext cx="7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34920" y="27432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 Narrow"/>
              </a:rPr>
              <a:t>Veriperl Property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743200"/>
            <a:ext cx="380988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75000" y="27576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 Narrow"/>
              </a:rPr>
              <a:t>Generated Propert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743200"/>
            <a:ext cx="33530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52280" y="198000"/>
            <a:ext cx="822672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Formal Property Generation from Config File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36F-CF9C-4AD4-88D9-757FA712F4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643040" y="2438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The Automated FV Flow</a:t>
            </a:r>
            <a:endParaRPr b="1" lang="en-US" sz="3600" spc="-1" strike="noStrike">
              <a:solidFill>
                <a:srgbClr val="ff0000"/>
              </a:solidFill>
              <a:latin typeface="Arial Narrow"/>
            </a:endParaRPr>
          </a:p>
        </p:txBody>
      </p:sp>
      <p:sp>
        <p:nvSpPr>
          <p:cNvPr id="238" name="Documents"/>
          <p:cNvSpPr/>
          <p:nvPr/>
        </p:nvSpPr>
        <p:spPr>
          <a:xfrm>
            <a:off x="1033560" y="1066680"/>
            <a:ext cx="914400" cy="1371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2100240" y="3505320"/>
            <a:ext cx="0" cy="35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5"/>
          <p:cNvSpPr/>
          <p:nvPr/>
        </p:nvSpPr>
        <p:spPr>
          <a:xfrm>
            <a:off x="1180440" y="4724280"/>
            <a:ext cx="1914120" cy="309600"/>
          </a:xfrm>
          <a:prstGeom prst="roundRect">
            <a:avLst>
              <a:gd name="adj" fmla="val 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3300"/>
                </a:solidFill>
                <a:latin typeface="Arial"/>
              </a:rPr>
              <a:t>Generated RTL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00240" y="35053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3"/>
          <p:cNvSpPr/>
          <p:nvPr/>
        </p:nvSpPr>
        <p:spPr>
          <a:xfrm>
            <a:off x="6900840" y="3505320"/>
            <a:ext cx="0" cy="35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71840" y="2743200"/>
            <a:ext cx="2133720" cy="609480"/>
          </a:xfrm>
          <a:prstGeom prst="flowChartAlternateProcess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14840" y="3352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43040" y="297180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5560" y="2971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58040" y="2438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367320" y="990720"/>
            <a:ext cx="1295280" cy="1447200"/>
            <a:chOff x="6367320" y="990720"/>
            <a:chExt cx="1295280" cy="1447200"/>
          </a:xfrm>
        </p:grpSpPr>
        <p:sp>
          <p:nvSpPr>
            <p:cNvPr id="249" name=""/>
            <p:cNvSpPr/>
            <p:nvPr/>
          </p:nvSpPr>
          <p:spPr>
            <a:xfrm>
              <a:off x="6367320" y="990720"/>
              <a:ext cx="1036080" cy="12247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31760" y="1046160"/>
              <a:ext cx="1036440" cy="12247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96560" y="1101960"/>
              <a:ext cx="1036440" cy="122436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61360" y="1157400"/>
              <a:ext cx="1036080" cy="12247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26160" y="1213200"/>
              <a:ext cx="1036440" cy="12247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Documents"/>
          <p:cNvSpPr/>
          <p:nvPr/>
        </p:nvSpPr>
        <p:spPr>
          <a:xfrm>
            <a:off x="3700440" y="1066680"/>
            <a:ext cx="1143000" cy="129564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2560" y="23623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1800" y="1319040"/>
            <a:ext cx="7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9600" y="124308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en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97000" y="144792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en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05360" y="28195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eri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66920" y="4876920"/>
            <a:ext cx="281952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0800000">
            <a:off x="4995360" y="4190760"/>
            <a:ext cx="1219320" cy="685800"/>
          </a:xfrm>
          <a:custGeom>
            <a:avLst/>
            <a:gdLst>
              <a:gd name="textAreaLeft" fmla="*/ 406440 w 1219320"/>
              <a:gd name="textAreaRight" fmla="*/ 1044360 w 121932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0800000">
            <a:off x="2862360" y="4190760"/>
            <a:ext cx="1295280" cy="685800"/>
          </a:xfrm>
          <a:custGeom>
            <a:avLst/>
            <a:gdLst>
              <a:gd name="textAreaLeft" fmla="*/ 432000 w 1295280"/>
              <a:gd name="textAreaRight" fmla="*/ 1109880 w 129528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30" descr="mux2_1_simulation10_waveforms"/>
          <p:cNvPicPr/>
          <p:nvPr/>
        </p:nvPicPr>
        <p:blipFill>
          <a:blip r:embed="rId2"/>
          <a:stretch/>
        </p:blipFill>
        <p:spPr>
          <a:xfrm>
            <a:off x="6595920" y="4876920"/>
            <a:ext cx="1752840" cy="1020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062760" y="502920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57640" y="5562720"/>
            <a:ext cx="762120" cy="6094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05080" y="487692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84200" y="60958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9"/>
          <p:cNvGrpSpPr/>
          <p:nvPr/>
        </p:nvGrpSpPr>
        <p:grpSpPr>
          <a:xfrm>
            <a:off x="5148360" y="6114960"/>
            <a:ext cx="379440" cy="362160"/>
            <a:chOff x="5148360" y="6114960"/>
            <a:chExt cx="379440" cy="362160"/>
          </a:xfrm>
        </p:grpSpPr>
        <p:sp>
          <p:nvSpPr>
            <p:cNvPr id="269" name="Freeform 40"/>
            <p:cNvSpPr/>
            <p:nvPr/>
          </p:nvSpPr>
          <p:spPr>
            <a:xfrm>
              <a:off x="5148360" y="6114960"/>
              <a:ext cx="379440" cy="36216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1"/>
            <p:cNvSpPr/>
            <p:nvPr/>
          </p:nvSpPr>
          <p:spPr>
            <a:xfrm>
              <a:off x="5255640" y="6221880"/>
              <a:ext cx="41040" cy="39240"/>
            </a:xfrm>
            <a:prstGeom prst="pie">
              <a:avLst/>
            </a:prstGeom>
            <a:solidFill>
              <a:srgbClr val="dbdb8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2"/>
            <p:cNvSpPr/>
            <p:nvPr/>
          </p:nvSpPr>
          <p:spPr>
            <a:xfrm>
              <a:off x="5379120" y="6221880"/>
              <a:ext cx="40680" cy="39240"/>
            </a:xfrm>
            <a:prstGeom prst="pie">
              <a:avLst/>
            </a:prstGeom>
            <a:solidFill>
              <a:srgbClr val="dbdb8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3"/>
            <p:cNvSpPr/>
            <p:nvPr/>
          </p:nvSpPr>
          <p:spPr>
            <a:xfrm>
              <a:off x="5233680" y="6374160"/>
              <a:ext cx="208440" cy="33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600240" y="58672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</a:rPr>
              <a:t>Count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15040" y="3886200"/>
            <a:ext cx="1371600" cy="7621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25920" y="4054320"/>
            <a:ext cx="90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6" descr=""/>
          <p:cNvPicPr/>
          <p:nvPr/>
        </p:nvPicPr>
        <p:blipFill>
          <a:blip r:embed="rId3"/>
          <a:stretch/>
        </p:blipFill>
        <p:spPr>
          <a:xfrm>
            <a:off x="1414440" y="3886200"/>
            <a:ext cx="1447920" cy="885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35E-468E-4C07-BF58-CE44ED611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6:55:09Z</dcterms:created>
  <dc:creator>Bijitendra Mittra</dc:creator>
  <dc:description/>
  <dc:language>en-US</dc:language>
  <cp:lastModifiedBy>Bijitendra Mittra</cp:lastModifiedBy>
  <dcterms:modified xsi:type="dcterms:W3CDTF">2010-05-06T07:02:16Z</dcterms:modified>
  <cp:revision>15</cp:revision>
  <dc:subject/>
  <dc:title>Slide 1</dc:title>
</cp:coreProperties>
</file>