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58EC-B1E1-4F0B-BA51-E30535974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6880-1C99-4804-92F3-410C55F37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FA20-83C9-4735-B921-4A76BD6E4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9759-0B35-4067-A7CA-AE56B05BA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3AD9-7161-4985-83AB-92792FB895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8EC6-7D4B-4C22-8B27-3F003AAE1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5A0B-B364-4705-AA00-2C236B7EF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4E03-76C6-45A6-ACCD-442E7F8B6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5CC2-F855-4184-BBB7-90CC57237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AEBA-C5A8-4ECC-8113-22217D7CE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425C-1FA0-49FC-A1A2-6DAF2836C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9B5C-2DC8-4BBF-9ADB-2117CC602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01" t="0" r="0" b="41287"/>
          <a:stretch/>
        </p:blipFill>
        <p:spPr>
          <a:xfrm>
            <a:off x="0" y="6470640"/>
            <a:ext cx="9140760" cy="385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33553" r="0" b="23221"/>
          <a:stretch/>
        </p:blipFill>
        <p:spPr>
          <a:xfrm>
            <a:off x="0" y="0"/>
            <a:ext cx="9144000" cy="38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7136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-17172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-1717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-1717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444320" y="5256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nm DFT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6960" y="6506640"/>
            <a:ext cx="1006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C7B4-2ADA-487C-896D-C440F62D35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vid E. Lacke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|  June  20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51602" t="0" r="0" b="0"/>
          <a:stretch/>
        </p:blipFill>
        <p:spPr>
          <a:xfrm>
            <a:off x="0" y="1695600"/>
            <a:ext cx="913464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201" t="0" r="0" b="0"/>
          <a:stretch/>
        </p:blipFill>
        <p:spPr>
          <a:xfrm>
            <a:off x="0" y="5168880"/>
            <a:ext cx="9140760" cy="17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68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695600"/>
            <a:ext cx="9144000" cy="3463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63720" y="4217760"/>
            <a:ext cx="0" cy="9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524720" y="684360"/>
            <a:ext cx="1123920" cy="410760"/>
            <a:chOff x="7524720" y="684360"/>
            <a:chExt cx="1123920" cy="410760"/>
          </a:xfrm>
        </p:grpSpPr>
        <p:pic>
          <p:nvPicPr>
            <p:cNvPr id="54" name="" descr=""/>
            <p:cNvPicPr/>
            <p:nvPr/>
          </p:nvPicPr>
          <p:blipFill>
            <a:blip r:embed="rId5"/>
            <a:srcRect l="0" t="0" r="6654" b="0"/>
            <a:stretch/>
          </p:blipFill>
          <p:spPr>
            <a:xfrm>
              <a:off x="7524720" y="684360"/>
              <a:ext cx="10018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8539200" y="993600"/>
              <a:ext cx="109440" cy="10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lvl="1" marL="343080" indent="0"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5800" algn="ctr"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71640" algn="ctr"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4360" algn="ctr"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4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4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2811240"/>
            <a:ext cx="788508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2nm IBM ASIC Design for Test Methodolog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06240" y="3858840"/>
            <a:ext cx="505476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Dave Lackey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Distinguished Engineer, EDA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delacke@us.ibm.com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TG      DFT Methodolog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49280" y="6226200"/>
            <a:ext cx="5869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u32 Methodology Change for Memory BIST/BIS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5200" y="1649520"/>
            <a:ext cx="780588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methodologies inserted BIST/BISR IP at the netlist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32nm ASICs, IP will be introduced at the RTL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s can simulate their in-system usage of Array BIST at RT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s’ Synthesis and early floorplanning have visibility to all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verification and functional ECO processing are simplifie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ions to PD and Timing Closure greatly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ed to preserve IP boundaries for BIST IP recognition by verification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too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38FC-0BF1-49C1-957F-4D46C73759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4520" y="502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32nm ASIC flow with RTL BIST/BISR IP inser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971800" y="1790640"/>
            <a:ext cx="1283040" cy="4496040"/>
            <a:chOff x="2971800" y="1790640"/>
            <a:chExt cx="1283040" cy="4496040"/>
          </a:xfrm>
        </p:grpSpPr>
        <p:sp>
          <p:nvSpPr>
            <p:cNvPr id="353" name=""/>
            <p:cNvSpPr/>
            <p:nvPr/>
          </p:nvSpPr>
          <p:spPr>
            <a:xfrm>
              <a:off x="2971800" y="1790640"/>
              <a:ext cx="1207080" cy="4496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13000" y="2768760"/>
              <a:ext cx="519120" cy="393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13000" y="3327480"/>
              <a:ext cx="519120" cy="393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13000" y="3962520"/>
              <a:ext cx="519120" cy="39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13000" y="4533840"/>
              <a:ext cx="519120" cy="393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13000" y="5130720"/>
              <a:ext cx="519120" cy="393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1960" y="1839960"/>
              <a:ext cx="1262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TL Design</a:t>
              </a:r>
              <a:br>
                <a:rPr sz="14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with BIST IP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13000" y="5778360"/>
              <a:ext cx="519120" cy="393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69960" y="5905440"/>
              <a:ext cx="168840" cy="16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8480" y="15112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90840" y="151128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7960" y="1204920"/>
            <a:ext cx="514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Manual approach: Design-in BIST/BISR from the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78160" y="2247840"/>
            <a:ext cx="44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1866960"/>
            <a:ext cx="1066680" cy="799920"/>
          </a:xfrm>
          <a:prstGeom prst="rect">
            <a:avLst/>
          </a:prstGeom>
          <a:solidFill>
            <a:srgbClr val="2db6b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D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26668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3454560"/>
            <a:ext cx="1079640" cy="7491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/BIS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onn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6480" y="2997360"/>
            <a:ext cx="1041120" cy="9522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/BI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p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2413080"/>
            <a:ext cx="1079640" cy="9525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 I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vale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27600" y="3797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7600" y="31240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620120" y="1801800"/>
            <a:ext cx="1257120" cy="1360440"/>
            <a:chOff x="7620120" y="1801800"/>
            <a:chExt cx="1257120" cy="1360440"/>
          </a:xfrm>
        </p:grpSpPr>
        <p:sp>
          <p:nvSpPr>
            <p:cNvPr id="374" name=""/>
            <p:cNvSpPr/>
            <p:nvPr/>
          </p:nvSpPr>
          <p:spPr>
            <a:xfrm>
              <a:off x="7620120" y="1816200"/>
              <a:ext cx="1257120" cy="134604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71600" y="180180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IST IP </a:t>
              </a:r>
              <a:br>
                <a:rPr sz="14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TL 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97600" y="2336760"/>
              <a:ext cx="24120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15120" y="2336760"/>
              <a:ext cx="24120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32640" y="2336760"/>
              <a:ext cx="24084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97600" y="2679840"/>
              <a:ext cx="24120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15120" y="2679840"/>
              <a:ext cx="24120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432640" y="2679840"/>
              <a:ext cx="24084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7188120" y="25909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454560"/>
            <a:ext cx="1155600" cy="736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/BIS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75520" y="3670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99080" y="4356000"/>
            <a:ext cx="1130400" cy="8128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tten to P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94440" y="394956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99080" y="5372280"/>
            <a:ext cx="1130400" cy="81252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83360" y="5181480"/>
            <a:ext cx="0" cy="20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4800" y="5308560"/>
            <a:ext cx="1041480" cy="9525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Ne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83280" y="4546440"/>
            <a:ext cx="1231920" cy="54612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va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16520" y="577836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3936960"/>
            <a:ext cx="8888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603840" y="509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81960" y="4876920"/>
            <a:ext cx="1333440" cy="1396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T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terns for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BIS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Repair Flow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26280" y="579132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7760" y="4203720"/>
            <a:ext cx="0" cy="66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81560" y="1676520"/>
            <a:ext cx="4597200" cy="261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81560" y="4292640"/>
            <a:ext cx="4610160" cy="210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1676520"/>
            <a:ext cx="4381560" cy="4724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1790640"/>
            <a:ext cx="1104840" cy="4496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520" y="2768760"/>
            <a:ext cx="546120" cy="393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7520" y="3327480"/>
            <a:ext cx="546120" cy="393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7520" y="3962520"/>
            <a:ext cx="546120" cy="393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7520" y="4533840"/>
            <a:ext cx="546120" cy="393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7520" y="5130720"/>
            <a:ext cx="546120" cy="393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" y="1839960"/>
            <a:ext cx="119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TL Design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e-BIST 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7520" y="5778360"/>
            <a:ext cx="546120" cy="393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2760" y="5905440"/>
            <a:ext cx="177480" cy="16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11280" y="3898800"/>
            <a:ext cx="660600" cy="1117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9440" y="1816200"/>
            <a:ext cx="1257120" cy="196848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1280" y="180180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IST IP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TL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27280" y="233676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44800" y="233676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233676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27280" y="267984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044800" y="267984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62320" y="267984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38360" y="2997360"/>
            <a:ext cx="109224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/BIS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34960" y="5156280"/>
            <a:ext cx="1384560" cy="11174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r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BI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Inser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BIST/BI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yG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hec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28800" y="501660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463840" y="3809880"/>
            <a:ext cx="0" cy="133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93760" y="5664240"/>
            <a:ext cx="241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56516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4A0F-35D5-4727-B5F8-7EA68C7B8E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7440" y="406440"/>
            <a:ext cx="60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nm Memory BIST/BISR Architecture for a sample C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r describes this in the Memory OR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19720" y="1378080"/>
            <a:ext cx="12906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K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Keybo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8640" y="2136600"/>
            <a:ext cx="911160" cy="532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04760" y="2062080"/>
            <a:ext cx="758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27720" y="54021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2148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43080" y="5021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594640" y="251784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759440" y="250200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4308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290080" y="2822400"/>
            <a:ext cx="1440" cy="21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97828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44236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83432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63640" y="54021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5740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72320" y="5173560"/>
            <a:ext cx="45540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936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7024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49000" y="250200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49360" y="251784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3684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3684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2880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2880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9288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9288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0092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0092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07160" y="502128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607160" y="502128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21376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5112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5112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80360" y="4186080"/>
            <a:ext cx="45540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4186080"/>
            <a:ext cx="45576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22952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835760" y="4414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2148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45812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21480" y="3579480"/>
            <a:ext cx="144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988400" y="3579480"/>
            <a:ext cx="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7759440" y="3579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58120" y="4794120"/>
            <a:ext cx="6080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7303680" y="3657600"/>
            <a:ext cx="180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50080" y="3124080"/>
            <a:ext cx="911160" cy="532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ST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55440" y="36576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0896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00920" y="403560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540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06436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4696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545160" y="479592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15320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621120" y="35798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14480" y="4186080"/>
            <a:ext cx="45576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08240" y="4186080"/>
            <a:ext cx="45540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63640" y="4414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7024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295360" y="3351240"/>
            <a:ext cx="15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9224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155600" y="3579480"/>
            <a:ext cx="180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522520" y="3579480"/>
            <a:ext cx="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293560" y="3579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92240" y="4794120"/>
            <a:ext cx="6080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837800" y="3657600"/>
            <a:ext cx="180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4200" y="3124080"/>
            <a:ext cx="911160" cy="532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ST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5916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4308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35040" y="403560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3684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9884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8108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79640" y="479592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8768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155240" y="35798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9256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8632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1344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9916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5772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5021280"/>
            <a:ext cx="60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5400" y="502128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6540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7860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44840" y="4186080"/>
            <a:ext cx="45576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38600" y="4186080"/>
            <a:ext cx="45540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94000" y="4414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8632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2260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586320" y="3579480"/>
            <a:ext cx="144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952880" y="3579480"/>
            <a:ext cx="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723920" y="3579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22600" y="4794120"/>
            <a:ext cx="6080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8880" y="3657600"/>
            <a:ext cx="144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14920" y="3124080"/>
            <a:ext cx="911160" cy="532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ST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20280" y="36576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344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65400" y="403560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1144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10000" y="479592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1804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586320" y="35798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0720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57680" y="251784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013440" y="251784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3507840" y="250200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013440" y="250200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752920" y="40942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206880" y="2670120"/>
            <a:ext cx="1440" cy="23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07160" y="282240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07160" y="266868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68880" y="2973240"/>
            <a:ext cx="0" cy="15084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48320" y="289728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04040" y="2668680"/>
            <a:ext cx="0" cy="45540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9960" y="2973240"/>
            <a:ext cx="0" cy="15084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39960" y="2971800"/>
            <a:ext cx="2428920" cy="0"/>
          </a:xfrm>
          <a:prstGeom prst="line">
            <a:avLst/>
          </a:prstGeom>
          <a:ln w="93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54240" y="2668680"/>
            <a:ext cx="0" cy="30312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304040" y="1986120"/>
            <a:ext cx="0" cy="15048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4240" y="1986120"/>
            <a:ext cx="4249800" cy="0"/>
          </a:xfrm>
          <a:prstGeom prst="line">
            <a:avLst/>
          </a:prstGeom>
          <a:ln w="93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54240" y="1986120"/>
            <a:ext cx="0" cy="15048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03720" y="1076400"/>
            <a:ext cx="0" cy="30168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799760" y="259380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61760" y="24256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55600" y="4414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24280" y="335124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759800" y="3351240"/>
            <a:ext cx="98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59800" y="2290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745480" y="1455480"/>
            <a:ext cx="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5711400" y="1455840"/>
            <a:ext cx="30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701640" y="1608120"/>
            <a:ext cx="371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98520" y="1455480"/>
            <a:ext cx="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8660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6572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380360" y="5173560"/>
            <a:ext cx="45540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308240" y="5173560"/>
            <a:ext cx="45540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2252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164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16280" y="5173560"/>
            <a:ext cx="45540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3680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5144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3056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4484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89560" y="36576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8160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4348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76592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37636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52520" y="1968480"/>
            <a:ext cx="100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xx, Bxx, F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392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70560" y="2897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xx, B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873200" y="24256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80120" y="335124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66200" y="3351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92320" y="2652840"/>
            <a:ext cx="16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MABIST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29880" y="24256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44200" y="335124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30280" y="3351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7240" y="335124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93680" y="3351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227720" y="28954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0516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3684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669160" y="2820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769240" y="2668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00236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19256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90520" y="37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54516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4032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76364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61600" y="37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2772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925680" y="37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07964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7444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91064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70544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44620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24136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87512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7028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93712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228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851868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31348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13056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2392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48172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7652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821376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1036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47304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820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6089760" y="1909440"/>
            <a:ext cx="7776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28800" y="2668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20760" y="2820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5560" y="2668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50820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40000" y="1984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4417920" y="1909440"/>
            <a:ext cx="7776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268160" y="1984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025960" y="11523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647600" y="1074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18440" y="24256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07160" y="19098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9880" y="174312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POR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31920" y="183528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79760" y="160812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POR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40440" y="289728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560560" y="2668680"/>
            <a:ext cx="16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MABIST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03360" y="289548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0840" y="2668680"/>
            <a:ext cx="16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MABIST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103720" y="1682640"/>
            <a:ext cx="0" cy="30348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978280" y="274464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99920" y="2666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48000" y="2897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xx, B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2200" y="3125880"/>
            <a:ext cx="2732040" cy="280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98840" y="2136600"/>
            <a:ext cx="911160" cy="532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8520" y="3351240"/>
            <a:ext cx="98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510000" y="2290680"/>
            <a:ext cx="33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01640" y="229068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763640" y="229068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98520" y="1455840"/>
            <a:ext cx="402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5711760" y="160668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01640" y="16081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8594640" y="16081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17640" y="19098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70360" y="174312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POR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3040" y="6081840"/>
            <a:ext cx="91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use download (FUSECNTL) and Array BIST (BISTCNTL) can be integrated &amp; operated on a partition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3A98-856F-4820-A5F0-45DE87A268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4080" y="630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38040" y="1293840"/>
            <a:ext cx="85550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32nm technology node, IBM has made major changes for DFT interoperability, to simplify Tool Flow, and improve Turnaround Time (TA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ed from Level-Sensitive Scan Design (LSSD) to Mux-s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d BIST insertion from the Netlist, to the Register Transfer Level (RT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Hierarchical DFT synthesis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d design handoffs between the frontend, DFT, and backend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has successfully integrated these changes in i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to-Back ASIC flow, 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within its EDA and Methodology orga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with key EDA partners including Cadence, Atrenta, and Synop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9DE0-B76F-40F0-81D8-59F77C1E21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630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8040" y="1179000"/>
            <a:ext cx="855504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32nm technology node, IBM has made major changes in its Design for Testability (DFT) architecture and tool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ed from Level-Sensitive Scan Design (LSSD) to Mux-scan (Edge-ba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 greater IP sharing (internally and externally) and jointly developed IP with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ies, used across IBM-internal design teams and ASIC/foundry offe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d it’s method of BIST insertion from the netlist  to the Register Transfer Level (RT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Hierarchical DFT synthesis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d design handoffs between the Front-end, DFT, and Back-end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has worked within its EDA organization, and with EDA partners, to incorporate thes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F439-B281-4BA5-99A9-E649B49BCD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9204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SSD and Mux Scan pros and c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5920" y="919080"/>
          <a:ext cx="8229600" cy="5081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731960"/>
                <a:gridCol w="1697040"/>
                <a:gridCol w="20574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x-S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Scan Test Interoper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3PIP &amp; Join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share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sharing is impacted by different scan sty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IBM ser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ed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s for at-speed te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light advant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umes same test focus regardless of scan sty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ST, SerDes, PLL,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-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ology complex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 Risk to DFT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st Tim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-free test, Test timing rela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timing across process sp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-unique hold issues can break test – new methodologies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T/Test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h button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aware automation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ally mitigate  domain cross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ility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ttern Re-use due to race free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timing scal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hold timing closure to extended voltage/te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 / Core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-2% at chip-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7% Clock pwr dif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A3AC-79D4-4737-9B19-6BEBA010E8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57480" y="3814920"/>
            <a:ext cx="1482480" cy="44424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57400" y="3902040"/>
            <a:ext cx="1482480" cy="4446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86000" y="1411200"/>
            <a:ext cx="1482480" cy="116388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04920" y="1530360"/>
            <a:ext cx="1482840" cy="116352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4381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889fb"/>
                </a:solidFill>
                <a:latin typeface="Arial"/>
              </a:rPr>
              <a:t>DFT Tool Flow – Front end Integration in 32nm</a:t>
            </a:r>
            <a:endParaRPr b="0" lang="en-US" sz="25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23840" y="1635120"/>
            <a:ext cx="1482840" cy="116352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-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ical/Physic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 D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6360" y="2798640"/>
            <a:ext cx="0" cy="56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34200" y="281628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of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52640" y="3367080"/>
            <a:ext cx="1482480" cy="4446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7600" y="3990960"/>
            <a:ext cx="1482840" cy="4446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-Level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4429080"/>
            <a:ext cx="1482840" cy="444600"/>
          </a:xfrm>
          <a:prstGeom prst="rect">
            <a:avLst/>
          </a:prstGeom>
          <a:solidFill>
            <a:srgbClr val="586bf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-Level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84440" y="5160960"/>
            <a:ext cx="0" cy="47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000" y="512928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of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11520" y="3740040"/>
            <a:ext cx="2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1840" y="39513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68400" y="5597640"/>
            <a:ext cx="1565280" cy="817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ing Cl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8920" y="101592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hodology through 45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21120" y="1230480"/>
            <a:ext cx="1482840" cy="174456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0400" y="1336680"/>
            <a:ext cx="1482480" cy="175752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59320" y="1428840"/>
            <a:ext cx="1482840" cy="177012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-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ical/Physic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FT Synthesi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FT Rule 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42520" y="847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56240" y="1560600"/>
            <a:ext cx="101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op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11600" y="2455560"/>
            <a:ext cx="1600200" cy="149868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95880" y="3220920"/>
            <a:ext cx="0" cy="56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73720" y="3789360"/>
            <a:ext cx="1482480" cy="44460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64000" y="4226040"/>
            <a:ext cx="1482840" cy="444240"/>
          </a:xfrm>
          <a:prstGeom prst="rect">
            <a:avLst/>
          </a:prstGeom>
          <a:solidFill>
            <a:srgbClr val="586b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on”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27080" y="4867200"/>
            <a:ext cx="1482840" cy="29232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968720"/>
            <a:ext cx="0" cy="4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405400"/>
            <a:ext cx="1565280" cy="9349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ing Cl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60760" y="4675320"/>
            <a:ext cx="1482840" cy="29196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43480" y="394488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 (BTS, 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48160" y="291456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seudo-l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43400" y="33163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al l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39520" y="4730760"/>
            <a:ext cx="19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 (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(CMOS Chec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62560" y="3784680"/>
            <a:ext cx="1485720" cy="877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1400" y="4687920"/>
            <a:ext cx="1508040" cy="27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35000" y="3349800"/>
            <a:ext cx="1719360" cy="15080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3840" y="4846680"/>
            <a:ext cx="149724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5240" y="5607000"/>
            <a:ext cx="30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Timing across process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 margin for reliability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63200" y="32353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of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3600" y="495144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of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3160" y="37497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86240" y="4535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13200" y="2125800"/>
            <a:ext cx="1482840" cy="8506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9760" y="2212920"/>
            <a:ext cx="1482840" cy="87624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64000" y="2301840"/>
            <a:ext cx="1482840" cy="8892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-Level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T Synthe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FT Rule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6960" y="3772080"/>
            <a:ext cx="76320" cy="90144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440"/>
              <a:gd name="textAreaBottom" fmla="*/ 8780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94360" y="4699080"/>
            <a:ext cx="88920" cy="228600"/>
          </a:xfrm>
          <a:custGeom>
            <a:avLst/>
            <a:gdLst>
              <a:gd name="textAreaLeft" fmla="*/ 0 w 88920"/>
              <a:gd name="textAreaRight" fmla="*/ 32040 w 889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26560" y="1562040"/>
            <a:ext cx="927000" cy="1435320"/>
          </a:xfrm>
          <a:custGeom>
            <a:avLst/>
            <a:gdLst>
              <a:gd name="textAreaLeft" fmla="*/ 124200 w 927000"/>
              <a:gd name="textAreaRight" fmla="*/ 802800 w 927000"/>
              <a:gd name="textAreaTop" fmla="*/ 250920 h 1435320"/>
              <a:gd name="textAreaBottom" fmla="*/ 1040760 h 143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78344"/>
                <a:lnTo>
                  <a:pt x="7216" y="21166"/>
                </a:lnTo>
                <a:lnTo>
                  <a:pt x="0" y="17280"/>
                </a:lnTo>
                <a:lnTo>
                  <a:pt x="7216" y="12526"/>
                </a:lnTo>
                <a:lnTo>
                  <a:pt x="7216" y="14686"/>
                </a:lnTo>
                <a:arcTo wR="21600" hR="7560" stAng="2678344" swAng="-232090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bff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93600" y="1882800"/>
            <a:ext cx="149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er turn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wer hand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59680" y="1293840"/>
            <a:ext cx="101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op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86320" y="2284560"/>
            <a:ext cx="12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 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743200" y="4495680"/>
            <a:ext cx="1689120" cy="114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7C61-1905-4C59-B6E2-980D3E2CC4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080" y="693360"/>
            <a:ext cx="880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otal DFT Synthesis Runtime – Comparison of 90k Flop Desig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84080" y="1476360"/>
          <a:ext cx="4588200" cy="20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476360"/>
                    <a:ext cx="45882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62120" y="3733920"/>
          <a:ext cx="6984720" cy="24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>
                    <a:alphaModFix amt="92000"/>
                  </a:blip>
                  <a:stretch/>
                </p:blipFill>
                <p:spPr>
                  <a:xfrm>
                    <a:off x="762120" y="3733920"/>
                    <a:ext cx="6984720" cy="2469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426280" y="1839960"/>
            <a:ext cx="3768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909f9"/>
                </a:solidFill>
                <a:uFillTx/>
                <a:latin typeface="Arial"/>
              </a:rPr>
              <a:t>Improvements realized several 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d handoff into DFT 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Context block and top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wer steps (no LSSD cloc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ion of netlist-level MBIST proces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tails discussed la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452F-D4FA-48A0-A5F9-54153DC9A4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32nm ASIC Mux-Scan Architecture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9600" y="1369800"/>
            <a:ext cx="804672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x-Scan Fl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kup latches to support domain crossings in scan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/DFT is inserted bottoms up (cores-&gt;RLMs-&gt;top), fully out-of-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MISR+ Compres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ling with cross-domain capture rac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 (on/off) control for each dom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ncing supported at input to each domain (supports DC, AC and At-speed requir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-step ATPG approach for pattern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6676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all domains at the same time with domain boundaries f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6676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all boundaries (unfenced) – grouping unrelated domains in each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BM and Cadence worked together to provide fully-automated fencing support in both RTL Compiler (insertion) and Encounter Test </a:t>
            </a:r>
            <a:br>
              <a:rPr sz="1800"/>
            </a:br>
            <a:r>
              <a:rPr b="1" i="1" lang="en-US" sz="1800" spc="-1" strike="noStrike">
                <a:solidFill>
                  <a:srgbClr val="0909f9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909f9"/>
                </a:solidFill>
                <a:latin typeface="Arial"/>
              </a:rPr>
              <a:t> Automated Domain-Aware DFT insertion and ATPG</a:t>
            </a:r>
            <a:br>
              <a:rPr sz="1800"/>
            </a:br>
            <a:r>
              <a:rPr b="1" i="1" lang="en-US" sz="1800" spc="-1" strike="noStrike">
                <a:solidFill>
                  <a:srgbClr val="0909f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4F86-7481-4CFF-9A41-B717199B23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09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main-Aware DFT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Cloud"/>
          <p:cNvSpPr/>
          <p:nvPr/>
        </p:nvSpPr>
        <p:spPr>
          <a:xfrm>
            <a:off x="771480" y="4275000"/>
            <a:ext cx="2763720" cy="1827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loud"/>
          <p:cNvSpPr/>
          <p:nvPr/>
        </p:nvSpPr>
        <p:spPr>
          <a:xfrm>
            <a:off x="5981760" y="4255920"/>
            <a:ext cx="2763720" cy="1827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loud"/>
          <p:cNvSpPr/>
          <p:nvPr/>
        </p:nvSpPr>
        <p:spPr>
          <a:xfrm>
            <a:off x="3467160" y="3025800"/>
            <a:ext cx="2763720" cy="1771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96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60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082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446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732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654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018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40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304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226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467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831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753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117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039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03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325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89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11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975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97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706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074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992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360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278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646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564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932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850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218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5136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45240" y="554832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/Out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26840" y="341460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/Out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93720" y="522432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/Out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011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60840" y="491976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7280" y="5011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491976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5880" y="5011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18040" y="491976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2160" y="4362480"/>
            <a:ext cx="138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71080" y="467208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35560" y="4435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27720" y="434340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64160" y="4435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56320" y="434340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92760" y="4435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84920" y="434340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23960" y="409572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9600" y="510228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51400" y="5010120"/>
            <a:ext cx="136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88200" y="510228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80000" y="5010120"/>
            <a:ext cx="136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16800" y="510228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8600" y="5010120"/>
            <a:ext cx="136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62200" y="476244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75480" y="3817800"/>
            <a:ext cx="487080" cy="1106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49480" y="5173200"/>
            <a:ext cx="3132360" cy="26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27400" y="3664080"/>
            <a:ext cx="1123920" cy="117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504960" y="4965480"/>
            <a:ext cx="2493720" cy="1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181120" y="4478040"/>
            <a:ext cx="2273400" cy="22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408480" y="4495320"/>
            <a:ext cx="928440" cy="38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10240" y="3660840"/>
            <a:ext cx="742680" cy="276120"/>
          </a:xfrm>
          <a:custGeom>
            <a:avLst/>
            <a:gdLst>
              <a:gd name="textAreaLeft" fmla="*/ 129960 w 742680"/>
              <a:gd name="textAreaRight" fmla="*/ 538560 w 74268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634160" y="4698360"/>
            <a:ext cx="743040" cy="276120"/>
          </a:xfrm>
          <a:custGeom>
            <a:avLst/>
            <a:gdLst>
              <a:gd name="textAreaLeft" fmla="*/ 129960 w 743040"/>
              <a:gd name="textAreaRight" fmla="*/ 538920 w 74304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500120" y="5050800"/>
            <a:ext cx="743040" cy="276120"/>
          </a:xfrm>
          <a:custGeom>
            <a:avLst/>
            <a:gdLst>
              <a:gd name="textAreaLeft" fmla="*/ 129960 w 743040"/>
              <a:gd name="textAreaRight" fmla="*/ 538920 w 74304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0600" y="5838840"/>
            <a:ext cx="123840" cy="152280"/>
          </a:xfrm>
          <a:prstGeom prst="rect">
            <a:avLst/>
          </a:pr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720" y="5746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ed during all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25920" y="6119640"/>
            <a:ext cx="12384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13040" y="6041880"/>
            <a:ext cx="33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ed one domain/group at a time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517880" y="3148200"/>
            <a:ext cx="1170360" cy="39024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513560" y="3586320"/>
            <a:ext cx="1170000" cy="39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0309400">
            <a:off x="7605360" y="29858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(normal flo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0309400">
            <a:off x="7356960" y="338436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+ fencing (input flo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928800" y="1825200"/>
            <a:ext cx="5597280" cy="1800"/>
          </a:xfrm>
          <a:prstGeom prst="line">
            <a:avLst/>
          </a:prstGeom>
          <a:ln w="381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7640" y="163656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_clk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68480" y="2558880"/>
            <a:ext cx="27000" cy="176076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8520" y="2603520"/>
            <a:ext cx="14400" cy="168912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68600" y="3041280"/>
            <a:ext cx="679320" cy="1477800"/>
          </a:xfrm>
          <a:prstGeom prst="irregularSeal1">
            <a:avLst/>
          </a:pr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35680" y="3064680"/>
            <a:ext cx="679680" cy="1477440"/>
          </a:xfrm>
          <a:prstGeom prst="irregularSeal1">
            <a:avLst/>
          </a:pr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914400" y="1620360"/>
            <a:ext cx="5997600" cy="111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7360" y="14749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_clk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68440" y="1812960"/>
            <a:ext cx="0" cy="19368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43200" y="1631880"/>
            <a:ext cx="0" cy="374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96160" y="1627200"/>
            <a:ext cx="0" cy="374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827360"/>
            <a:ext cx="0" cy="16488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738320" y="1631880"/>
            <a:ext cx="12600" cy="374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17960" y="2616120"/>
            <a:ext cx="0" cy="45720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29320" y="1836720"/>
            <a:ext cx="0" cy="16524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19320" y="1411200"/>
            <a:ext cx="0" cy="568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2040" y="1420920"/>
            <a:ext cx="0" cy="5680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24840" y="1415880"/>
            <a:ext cx="0" cy="568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47160" y="113832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cl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2640" y="113364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cl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67000" y="114300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cl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26040" y="2036880"/>
            <a:ext cx="1287360" cy="5202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Cloc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1560" y="2043360"/>
            <a:ext cx="1493640" cy="5202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GD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80120" y="2052720"/>
            <a:ext cx="1494000" cy="5202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GD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70640" y="26337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T-test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09280" y="258588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T-test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90960" y="25383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S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4200" y="2284560"/>
            <a:ext cx="638280" cy="0"/>
          </a:xfrm>
          <a:prstGeom prst="line">
            <a:avLst/>
          </a:prstGeom>
          <a:ln w="19080">
            <a:solidFill>
              <a:srgbClr val="d1821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37000" y="2293920"/>
            <a:ext cx="1595160" cy="0"/>
          </a:xfrm>
          <a:prstGeom prst="line">
            <a:avLst/>
          </a:prstGeom>
          <a:ln w="19080">
            <a:solidFill>
              <a:srgbClr val="d1821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04040" y="2289240"/>
            <a:ext cx="668160" cy="0"/>
          </a:xfrm>
          <a:prstGeom prst="line">
            <a:avLst/>
          </a:prstGeom>
          <a:ln w="19080">
            <a:solidFill>
              <a:srgbClr val="d1821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70880" y="2284560"/>
            <a:ext cx="668160" cy="0"/>
          </a:xfrm>
          <a:prstGeom prst="line">
            <a:avLst/>
          </a:prstGeom>
          <a:ln w="19080">
            <a:solidFill>
              <a:srgbClr val="d1821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78480" y="2046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8213"/>
                </a:solidFill>
                <a:latin typeface="Arial"/>
              </a:rPr>
              <a:t>sidescan p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480" y="2478240"/>
            <a:ext cx="486000" cy="0"/>
          </a:xfrm>
          <a:prstGeom prst="line">
            <a:avLst/>
          </a:prstGeom>
          <a:ln w="12600">
            <a:solidFill>
              <a:srgbClr val="d18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8640" y="24177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8213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2120" y="2487600"/>
            <a:ext cx="486000" cy="0"/>
          </a:xfrm>
          <a:prstGeom prst="line">
            <a:avLst/>
          </a:prstGeom>
          <a:ln w="12600">
            <a:solidFill>
              <a:srgbClr val="d18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54280" y="242712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8213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84760" y="2482920"/>
            <a:ext cx="486000" cy="0"/>
          </a:xfrm>
          <a:prstGeom prst="line">
            <a:avLst/>
          </a:prstGeom>
          <a:ln w="12600">
            <a:solidFill>
              <a:srgbClr val="d18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21320" y="22654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8213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0EC2-905B-4C6F-A822-803B25A60D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80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veraging Domain Awareness in DFT Synthesis,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TPG and Timing Analysi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9360" y="2171880"/>
            <a:ext cx="546120" cy="39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360" y="2730600"/>
            <a:ext cx="546120" cy="39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9360" y="3365640"/>
            <a:ext cx="546120" cy="393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9360" y="3936960"/>
            <a:ext cx="546120" cy="393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9360" y="4533840"/>
            <a:ext cx="546120" cy="393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1600" y="1370160"/>
            <a:ext cx="82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9360" y="5181480"/>
            <a:ext cx="546120" cy="393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4600" y="5308560"/>
            <a:ext cx="177840" cy="16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93600" y="2324160"/>
            <a:ext cx="169920" cy="3073320"/>
          </a:xfrm>
          <a:custGeom>
            <a:avLst/>
            <a:gdLst>
              <a:gd name="textAreaLeft" fmla="*/ 0 w 169920"/>
              <a:gd name="textAreaRight" fmla="*/ 61200 w 169920"/>
              <a:gd name="textAreaTop" fmla="*/ 79920 h 3073320"/>
              <a:gd name="textAreaBottom" fmla="*/ 2993400 h 307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46040" y="3187800"/>
            <a:ext cx="1435320" cy="118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FT 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e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ock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25960" y="2387520"/>
            <a:ext cx="2298600" cy="118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st Structur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main 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ntifie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Domain Crossing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Fenced/Unfe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38560" y="4241880"/>
            <a:ext cx="2247840" cy="1727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eri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l domains/fence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Force X for unfe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ouped experiments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Test Unfenced/unrelate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periment for each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30720" y="35812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24000" y="3639960"/>
            <a:ext cx="209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rom/to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fenced vs unfe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93960" y="3340080"/>
            <a:ext cx="41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30720" y="3873600"/>
            <a:ext cx="622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657600"/>
            <a:ext cx="673200" cy="4698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75240" y="3886200"/>
            <a:ext cx="4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0920" y="3035160"/>
            <a:ext cx="2413080" cy="15750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all scan 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l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clude extende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oltage/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data within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data between 2 domains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only if not fully fe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63680" y="283068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TL Comp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24400" y="204300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ncounter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97200" y="267804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ins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55600" y="3860640"/>
            <a:ext cx="20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45800" y="5154480"/>
            <a:ext cx="168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C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-speed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908B-D924-479A-B387-ADA7C27C37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6210360" y="649440"/>
            <a:ext cx="685800" cy="1066680"/>
            <a:chOff x="6210360" y="649440"/>
            <a:chExt cx="685800" cy="1066680"/>
          </a:xfrm>
        </p:grpSpPr>
        <p:sp>
          <p:nvSpPr>
            <p:cNvPr id="305" name=""/>
            <p:cNvSpPr/>
            <p:nvPr/>
          </p:nvSpPr>
          <p:spPr>
            <a:xfrm>
              <a:off x="6210360" y="649440"/>
              <a:ext cx="685800" cy="106668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438960" y="14871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15280" y="14875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115480" y="2935440"/>
            <a:ext cx="761400" cy="1066680"/>
            <a:chOff x="8115480" y="2935440"/>
            <a:chExt cx="761400" cy="1066680"/>
          </a:xfrm>
        </p:grpSpPr>
        <p:sp>
          <p:nvSpPr>
            <p:cNvPr id="309" name=""/>
            <p:cNvSpPr/>
            <p:nvPr/>
          </p:nvSpPr>
          <p:spPr>
            <a:xfrm>
              <a:off x="8115480" y="2935440"/>
              <a:ext cx="761400" cy="106668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369280" y="3773160"/>
              <a:ext cx="8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53880" y="3773520"/>
              <a:ext cx="8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896160" y="118260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loud"/>
          <p:cNvSpPr/>
          <p:nvPr/>
        </p:nvSpPr>
        <p:spPr>
          <a:xfrm>
            <a:off x="6972480" y="1763640"/>
            <a:ext cx="102852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29680" y="118260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29680" y="240192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29680" y="316404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099640" y="30225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loud"/>
          <p:cNvSpPr/>
          <p:nvPr/>
        </p:nvSpPr>
        <p:spPr>
          <a:xfrm>
            <a:off x="4686480" y="4459320"/>
            <a:ext cx="102852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0909f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loud"/>
          <p:cNvSpPr/>
          <p:nvPr/>
        </p:nvSpPr>
        <p:spPr>
          <a:xfrm>
            <a:off x="4686480" y="2068560"/>
            <a:ext cx="102852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loud"/>
          <p:cNvSpPr/>
          <p:nvPr/>
        </p:nvSpPr>
        <p:spPr>
          <a:xfrm>
            <a:off x="1943280" y="3211560"/>
            <a:ext cx="102852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86080" y="3544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33640" y="3544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72080" y="3530520"/>
            <a:ext cx="0" cy="1157400"/>
          </a:xfrm>
          <a:prstGeom prst="line">
            <a:avLst/>
          </a:prstGeom>
          <a:ln w="93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72080" y="240192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72080" y="4687920"/>
            <a:ext cx="914400" cy="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53160" y="2401920"/>
            <a:ext cx="762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515280" y="17157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76840" y="4687920"/>
            <a:ext cx="2743200" cy="0"/>
          </a:xfrm>
          <a:prstGeom prst="line">
            <a:avLst/>
          </a:prstGeom>
          <a:ln w="93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8420040" y="4001760"/>
            <a:ext cx="0" cy="68580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43280" y="3849840"/>
            <a:ext cx="1180800" cy="405720"/>
            <a:chOff x="1943280" y="3849840"/>
            <a:chExt cx="1180800" cy="405720"/>
          </a:xfrm>
        </p:grpSpPr>
        <p:sp>
          <p:nvSpPr>
            <p:cNvPr id="331" name=""/>
            <p:cNvSpPr/>
            <p:nvPr/>
          </p:nvSpPr>
          <p:spPr>
            <a:xfrm>
              <a:off x="1943280" y="3889440"/>
              <a:ext cx="259200" cy="2282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28760" y="3849840"/>
              <a:ext cx="895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991040" y="5145120"/>
            <a:ext cx="1097640" cy="405720"/>
            <a:chOff x="4991040" y="5145120"/>
            <a:chExt cx="1097640" cy="405720"/>
          </a:xfrm>
        </p:grpSpPr>
        <p:sp>
          <p:nvSpPr>
            <p:cNvPr id="334" name=""/>
            <p:cNvSpPr/>
            <p:nvPr/>
          </p:nvSpPr>
          <p:spPr>
            <a:xfrm>
              <a:off x="4991040" y="5185080"/>
              <a:ext cx="25668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66440" y="5145120"/>
              <a:ext cx="822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991040" y="2720880"/>
            <a:ext cx="1041840" cy="405720"/>
            <a:chOff x="4991040" y="2720880"/>
            <a:chExt cx="1041840" cy="405720"/>
          </a:xfrm>
        </p:grpSpPr>
        <p:sp>
          <p:nvSpPr>
            <p:cNvPr id="337" name=""/>
            <p:cNvSpPr/>
            <p:nvPr/>
          </p:nvSpPr>
          <p:spPr>
            <a:xfrm>
              <a:off x="4991040" y="2760840"/>
              <a:ext cx="25776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62480" y="2720880"/>
              <a:ext cx="77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aun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8115480" y="1868400"/>
            <a:ext cx="647280" cy="368280"/>
            <a:chOff x="8115480" y="1868400"/>
            <a:chExt cx="647280" cy="368280"/>
          </a:xfrm>
        </p:grpSpPr>
        <p:sp>
          <p:nvSpPr>
            <p:cNvPr id="340" name=""/>
            <p:cNvSpPr/>
            <p:nvPr/>
          </p:nvSpPr>
          <p:spPr>
            <a:xfrm>
              <a:off x="8115480" y="1908360"/>
              <a:ext cx="34020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429760" y="1868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V="1">
            <a:off x="3772080" y="23871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5348160"/>
            <a:ext cx="87631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ic Scan Hold Timing Requirem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launch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+ X(CLK-&gt;Q) +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1600" spc="-1" strike="noStrike">
                <a:solidFill>
                  <a:srgbClr val="0909f9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909f9"/>
                </a:solidFill>
                <a:latin typeface="Arial"/>
              </a:rPr>
              <a:t>capture</a:t>
            </a:r>
            <a:r>
              <a:rPr b="0" lang="en-US" sz="1600" spc="-1" strike="noStrike">
                <a:solidFill>
                  <a:srgbClr val="0909f9"/>
                </a:solidFill>
                <a:latin typeface="Arial"/>
              </a:rPr>
              <a:t> + Y(Hol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Margin Appli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_Margin *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 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launch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+ X(CLK-&gt;Q) + S 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Late_Margin </a:t>
            </a:r>
            <a:r>
              <a:rPr b="0" lang="en-US" sz="1600" spc="-1" strike="noStrike">
                <a:solidFill>
                  <a:srgbClr val="0909f9"/>
                </a:solidFill>
                <a:latin typeface="Arial"/>
              </a:rPr>
              <a:t>* ( C</a:t>
            </a:r>
            <a:r>
              <a:rPr b="0" lang="en-US" sz="1600" spc="-1" strike="noStrike" baseline="-25000">
                <a:solidFill>
                  <a:srgbClr val="0909f9"/>
                </a:solidFill>
                <a:latin typeface="Arial"/>
              </a:rPr>
              <a:t>capture</a:t>
            </a:r>
            <a:r>
              <a:rPr b="0" lang="en-US" sz="1600" spc="-1" strike="noStrike">
                <a:solidFill>
                  <a:srgbClr val="0909f9"/>
                </a:solidFill>
                <a:latin typeface="Arial"/>
              </a:rPr>
              <a:t> + Y(Hold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364440" y="900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29680" y="32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8360" y="582480"/>
            <a:ext cx="5138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909f9"/>
                </a:solidFill>
                <a:latin typeface="Arial"/>
              </a:rPr>
              <a:t>Early and Late Margins applied to Scan Chai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ynamic Voltage Screen (DVS) and Burn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w Voltage Stress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94760" y="237348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07360" y="4202280"/>
            <a:ext cx="5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6565-E2DE-4B39-BB55-43F752A450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6:30:14Z</dcterms:created>
  <dc:creator>IBM_USER</dc:creator>
  <dc:description/>
  <dc:language>en-US</dc:language>
  <cp:lastModifiedBy>Davis Lackey</cp:lastModifiedBy>
  <dcterms:modified xsi:type="dcterms:W3CDTF">2010-05-06T20:00:58Z</dcterms:modified>
  <cp:revision>2229</cp:revision>
  <dc:subject/>
  <dc:title>P7 Nest Concept Review   Physical Design </dc:title>
</cp:coreProperties>
</file>