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B66-8B0C-4DC3-8786-69FDB822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9F9-CD19-4E6C-862C-FF581363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26D-1B2A-48BF-9572-7D7A247C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00A-A049-4B0C-B9DA-F4615640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AA5-D923-480F-8218-D8A61F11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D9D1-4E37-4ED4-AA6D-EBFC9AD1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B40-E956-451E-8957-B60B345C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E87-FF05-4B27-A7CF-EE02DBB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C79-6F46-4314-88A5-DF45C086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985-0315-44B8-AD42-F136EDA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8DC-1091-477C-A625-B944E0F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B59-7555-486D-9D99-FBC94BC5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BF72-B933-41F1-8103-F24F16AC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ff"/>
                </a:solidFill>
                <a:latin typeface="Arial"/>
              </a:rPr>
              <a:t>A Novel approach to Complex Interrupt Controller Ver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343400"/>
            <a:ext cx="8534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Times New Roman"/>
              </a:rPr>
              <a:t>Author       : Ashish Chandra               Email: </a:t>
            </a:r>
            <a:r>
              <a:rPr b="0" lang="en-GB" sz="1400" spc="-1" strike="noStrike" u="sng">
                <a:solidFill>
                  <a:srgbClr val="006666"/>
                </a:solidFill>
                <a:uFillTx/>
                <a:latin typeface="Times New Roman"/>
              </a:rPr>
              <a:t>ashish.chandra@t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Times New Roman"/>
              </a:rPr>
              <a:t>Co- Author: Subir Roy         </a:t>
            </a:r>
            <a:r>
              <a:rPr b="0" lang="en-GB" sz="1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6666"/>
                </a:solidFill>
                <a:latin typeface="Times New Roman"/>
              </a:rPr>
              <a:t>Email: </a:t>
            </a:r>
            <a:r>
              <a:rPr b="0" lang="en-GB" sz="1400" spc="-1" strike="noStrike" u="sng">
                <a:solidFill>
                  <a:srgbClr val="006666"/>
                </a:solidFill>
                <a:uFillTx/>
                <a:latin typeface="Times New Roman"/>
              </a:rPr>
              <a:t>subir@t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6666"/>
                </a:solidFill>
                <a:latin typeface="Times New Roman"/>
              </a:rPr>
              <a:t>Co- Author: Gayathri Seshadari  </a:t>
            </a:r>
            <a:r>
              <a:rPr b="0" lang="en-GB" sz="1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6666"/>
                </a:solidFill>
                <a:latin typeface="Times New Roman"/>
              </a:rPr>
              <a:t>Email: </a:t>
            </a:r>
            <a:r>
              <a:rPr b="0" lang="en-GB" sz="1400" spc="-1" strike="noStrike" u="sng">
                <a:solidFill>
                  <a:srgbClr val="006666"/>
                </a:solidFill>
                <a:uFillTx/>
                <a:latin typeface="Times New Roman"/>
              </a:rPr>
              <a:t>gaysesh@t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rigin/Motivation of 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upt behaviors/scenarios are difficult to verif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imulus generators/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prone (illegal jumps, self-corrupting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program and debug (cryptic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ge count of testcases &amp; low quality of stim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eeds are erratic (risk manif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5200" y="17784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Why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858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590920"/>
            <a:ext cx="158760" cy="296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523880" y="2590920"/>
            <a:ext cx="158760" cy="296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971800"/>
            <a:ext cx="15264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2971440"/>
            <a:ext cx="15264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352680"/>
            <a:ext cx="15264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523880" y="3352320"/>
            <a:ext cx="15264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3733920"/>
            <a:ext cx="15264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523880" y="3733560"/>
            <a:ext cx="15264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6720" y="4038480"/>
            <a:ext cx="6645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program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Interrupt register programm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 sequ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Huge Nest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Interrupt forcing sequ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High context save &amp; re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886200" y="4343400"/>
            <a:ext cx="9907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4876560"/>
            <a:ext cx="8380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5257800"/>
            <a:ext cx="762120" cy="7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5410080"/>
            <a:ext cx="838080" cy="381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5638680"/>
            <a:ext cx="914400" cy="6098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828800"/>
            <a:ext cx="777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rupt verifica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ff"/>
                </a:solidFill>
                <a:latin typeface="Times New Roman"/>
              </a:rPr>
              <a:t>Combine the strength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What does this method propo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Comb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power of highly stable ASM  compiler/assembler with force file dump with every ISR a unique 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utomated flow to dump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ssembly 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SM) testcases with complicated 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What will we achie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N interrupts     N level nesting   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High randomness, unique IS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High quality stimulus per test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Faster coverage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65760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M compiler/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581280"/>
            <a:ext cx="19047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forc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1240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48520" y="3581280"/>
            <a:ext cx="190476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ISR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150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3276720"/>
            <a:ext cx="792468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5257800"/>
            <a:ext cx="1522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43400" y="5257440"/>
            <a:ext cx="1522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5257800"/>
            <a:ext cx="1522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629400" y="5257440"/>
            <a:ext cx="15228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66ff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quir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ff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ff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4114800"/>
            <a:ext cx="990720" cy="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352680"/>
            <a:ext cx="990720" cy="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2666880"/>
            <a:ext cx="990720" cy="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1981080"/>
            <a:ext cx="990360" cy="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962520" y="3428640"/>
            <a:ext cx="380880" cy="68580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334120" y="2742840"/>
            <a:ext cx="304560" cy="60948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629400" y="2057040"/>
            <a:ext cx="304920" cy="609480"/>
          </a:xfrm>
          <a:prstGeom prst="line">
            <a:avLst/>
          </a:prstGeom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5812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upts at different places in instruction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743200"/>
            <a:ext cx="2057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file for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47480" y="2133720"/>
            <a:ext cx="1780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sting of interru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9600" y="1219320"/>
            <a:ext cx="26740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instructions/scenar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ISR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45720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5181480"/>
            <a:ext cx="83059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ion at  individual steps divides complexity and enhances 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ripts for each step feeds input to other for complete automation [END-to-EN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ifies debugging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6483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Divide and rul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6858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Arial"/>
              </a:rPr>
              <a:t>Step1:: Dividing th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3880" y="1295280"/>
            <a:ext cx="5319720" cy="21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cript 1: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NTC_ASM_Scenarios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ert tag 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‘INTR_&lt;num_priority&gt;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assembly test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3366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itializes all the registers with proper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signature  check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3366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mps instructions in ISR body (from an instruction ban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3080" y="3525840"/>
            <a:ext cx="1524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1_P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2_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505320"/>
            <a:ext cx="1447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2_P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3_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09680" y="3733560"/>
            <a:ext cx="1219320" cy="1447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06560" y="4226040"/>
            <a:ext cx="304560" cy="955440"/>
          </a:xfrm>
          <a:custGeom>
            <a:avLst/>
            <a:gdLst>
              <a:gd name="textAreaLeft" fmla="*/ 194760 w 304560"/>
              <a:gd name="textAreaRight" fmla="*/ 304920 w 304560"/>
              <a:gd name="textAreaTop" fmla="*/ 24840 h 955440"/>
              <a:gd name="textAreaBottom" fmla="*/ 930600 h 95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73392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990720"/>
            <a:ext cx="2895480" cy="4800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INITIALIZ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1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struction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struction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R_AFTER_99_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struction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R_AFTER_26_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99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26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R_AFTER_1_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ruction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5410080"/>
            <a:ext cx="1573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32880" y="579132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imes New Roman"/>
              </a:rPr>
              <a:t>Output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357280"/>
            <a:ext cx="408240" cy="3041640"/>
          </a:xfrm>
          <a:custGeom>
            <a:avLst/>
            <a:gdLst/>
            <a:ahLst/>
            <a:rect l="l" t="t" r="r" b="b"/>
            <a:pathLst>
              <a:path w="238" h="1916">
                <a:moveTo>
                  <a:pt x="238" y="0"/>
                </a:moveTo>
                <a:cubicBezTo>
                  <a:pt x="217" y="31"/>
                  <a:pt x="200" y="65"/>
                  <a:pt x="178" y="94"/>
                </a:cubicBezTo>
                <a:cubicBezTo>
                  <a:pt x="167" y="128"/>
                  <a:pt x="148" y="168"/>
                  <a:pt x="128" y="198"/>
                </a:cubicBezTo>
                <a:cubicBezTo>
                  <a:pt x="122" y="222"/>
                  <a:pt x="117" y="243"/>
                  <a:pt x="103" y="263"/>
                </a:cubicBezTo>
                <a:cubicBezTo>
                  <a:pt x="98" y="294"/>
                  <a:pt x="86" y="323"/>
                  <a:pt x="74" y="352"/>
                </a:cubicBezTo>
                <a:cubicBezTo>
                  <a:pt x="56" y="397"/>
                  <a:pt x="44" y="449"/>
                  <a:pt x="34" y="496"/>
                </a:cubicBezTo>
                <a:cubicBezTo>
                  <a:pt x="26" y="533"/>
                  <a:pt x="19" y="610"/>
                  <a:pt x="19" y="610"/>
                </a:cubicBezTo>
                <a:cubicBezTo>
                  <a:pt x="11" y="759"/>
                  <a:pt x="0" y="915"/>
                  <a:pt x="29" y="1062"/>
                </a:cubicBezTo>
                <a:cubicBezTo>
                  <a:pt x="40" y="1119"/>
                  <a:pt x="44" y="1178"/>
                  <a:pt x="54" y="1236"/>
                </a:cubicBezTo>
                <a:cubicBezTo>
                  <a:pt x="63" y="1287"/>
                  <a:pt x="79" y="1338"/>
                  <a:pt x="84" y="1390"/>
                </a:cubicBezTo>
                <a:cubicBezTo>
                  <a:pt x="92" y="1476"/>
                  <a:pt x="94" y="1563"/>
                  <a:pt x="108" y="1648"/>
                </a:cubicBezTo>
                <a:cubicBezTo>
                  <a:pt x="121" y="1726"/>
                  <a:pt x="178" y="1843"/>
                  <a:pt x="178" y="1916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8000" y="3124080"/>
            <a:ext cx="677880" cy="1067040"/>
          </a:xfrm>
          <a:custGeom>
            <a:avLst/>
            <a:gdLst/>
            <a:ahLst/>
            <a:rect l="l" t="t" r="r" b="b"/>
            <a:pathLst>
              <a:path w="430" h="690">
                <a:moveTo>
                  <a:pt x="405" y="690"/>
                </a:moveTo>
                <a:cubicBezTo>
                  <a:pt x="355" y="680"/>
                  <a:pt x="309" y="657"/>
                  <a:pt x="261" y="641"/>
                </a:cubicBezTo>
                <a:cubicBezTo>
                  <a:pt x="256" y="638"/>
                  <a:pt x="251" y="635"/>
                  <a:pt x="247" y="631"/>
                </a:cubicBezTo>
                <a:cubicBezTo>
                  <a:pt x="240" y="625"/>
                  <a:pt x="235" y="617"/>
                  <a:pt x="227" y="611"/>
                </a:cubicBezTo>
                <a:cubicBezTo>
                  <a:pt x="190" y="583"/>
                  <a:pt x="156" y="581"/>
                  <a:pt x="127" y="537"/>
                </a:cubicBezTo>
                <a:cubicBezTo>
                  <a:pt x="114" y="518"/>
                  <a:pt x="90" y="499"/>
                  <a:pt x="83" y="477"/>
                </a:cubicBezTo>
                <a:cubicBezTo>
                  <a:pt x="73" y="448"/>
                  <a:pt x="60" y="423"/>
                  <a:pt x="43" y="398"/>
                </a:cubicBezTo>
                <a:cubicBezTo>
                  <a:pt x="33" y="358"/>
                  <a:pt x="18" y="322"/>
                  <a:pt x="3" y="283"/>
                </a:cubicBezTo>
                <a:cubicBezTo>
                  <a:pt x="6" y="216"/>
                  <a:pt x="0" y="110"/>
                  <a:pt x="68" y="65"/>
                </a:cubicBezTo>
                <a:cubicBezTo>
                  <a:pt x="77" y="37"/>
                  <a:pt x="115" y="23"/>
                  <a:pt x="142" y="15"/>
                </a:cubicBezTo>
                <a:cubicBezTo>
                  <a:pt x="152" y="12"/>
                  <a:pt x="162" y="8"/>
                  <a:pt x="172" y="5"/>
                </a:cubicBezTo>
                <a:cubicBezTo>
                  <a:pt x="177" y="3"/>
                  <a:pt x="187" y="0"/>
                  <a:pt x="187" y="0"/>
                </a:cubicBezTo>
                <a:cubicBezTo>
                  <a:pt x="268" y="2"/>
                  <a:pt x="349" y="5"/>
                  <a:pt x="430" y="5"/>
                </a:cubicBez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27840" y="3089160"/>
            <a:ext cx="73080" cy="88920"/>
          </a:xfrm>
          <a:custGeom>
            <a:avLst/>
            <a:gdLst/>
            <a:ahLst/>
            <a:rect l="l" t="t" r="r" b="b"/>
            <a:pathLst>
              <a:path w="46" h="56">
                <a:moveTo>
                  <a:pt x="2" y="0"/>
                </a:moveTo>
                <a:cubicBezTo>
                  <a:pt x="35" y="23"/>
                  <a:pt x="20" y="16"/>
                  <a:pt x="46" y="25"/>
                </a:cubicBezTo>
                <a:cubicBezTo>
                  <a:pt x="36" y="32"/>
                  <a:pt x="27" y="38"/>
                  <a:pt x="17" y="45"/>
                </a:cubicBezTo>
                <a:cubicBezTo>
                  <a:pt x="0" y="56"/>
                  <a:pt x="2" y="43"/>
                  <a:pt x="2" y="5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80240" y="3681360"/>
            <a:ext cx="212760" cy="1308240"/>
          </a:xfrm>
          <a:custGeom>
            <a:avLst/>
            <a:gdLst/>
            <a:ahLst/>
            <a:rect l="l" t="t" r="r" b="b"/>
            <a:pathLst>
              <a:path w="134" h="824">
                <a:moveTo>
                  <a:pt x="134" y="0"/>
                </a:moveTo>
                <a:cubicBezTo>
                  <a:pt x="124" y="3"/>
                  <a:pt x="111" y="1"/>
                  <a:pt x="105" y="10"/>
                </a:cubicBezTo>
                <a:cubicBezTo>
                  <a:pt x="79" y="49"/>
                  <a:pt x="59" y="87"/>
                  <a:pt x="40" y="129"/>
                </a:cubicBezTo>
                <a:cubicBezTo>
                  <a:pt x="40" y="129"/>
                  <a:pt x="28" y="166"/>
                  <a:pt x="25" y="174"/>
                </a:cubicBezTo>
                <a:cubicBezTo>
                  <a:pt x="22" y="184"/>
                  <a:pt x="15" y="203"/>
                  <a:pt x="15" y="203"/>
                </a:cubicBezTo>
                <a:cubicBezTo>
                  <a:pt x="2" y="281"/>
                  <a:pt x="7" y="243"/>
                  <a:pt x="0" y="318"/>
                </a:cubicBezTo>
                <a:cubicBezTo>
                  <a:pt x="6" y="445"/>
                  <a:pt x="20" y="565"/>
                  <a:pt x="60" y="685"/>
                </a:cubicBezTo>
                <a:cubicBezTo>
                  <a:pt x="72" y="721"/>
                  <a:pt x="83" y="777"/>
                  <a:pt x="114" y="799"/>
                </a:cubicBezTo>
                <a:cubicBezTo>
                  <a:pt x="116" y="804"/>
                  <a:pt x="116" y="810"/>
                  <a:pt x="119" y="814"/>
                </a:cubicBezTo>
                <a:cubicBezTo>
                  <a:pt x="123" y="819"/>
                  <a:pt x="134" y="824"/>
                  <a:pt x="134" y="824"/>
                </a:cubicBez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39000" y="4896000"/>
            <a:ext cx="68040" cy="114120"/>
          </a:xfrm>
          <a:custGeom>
            <a:avLst/>
            <a:gdLst/>
            <a:ahLst/>
            <a:rect l="l" t="t" r="r" b="b"/>
            <a:pathLst>
              <a:path w="43" h="72">
                <a:moveTo>
                  <a:pt x="0" y="60"/>
                </a:moveTo>
                <a:cubicBezTo>
                  <a:pt x="8" y="63"/>
                  <a:pt x="16" y="65"/>
                  <a:pt x="24" y="68"/>
                </a:cubicBezTo>
                <a:cubicBezTo>
                  <a:pt x="28" y="69"/>
                  <a:pt x="36" y="72"/>
                  <a:pt x="36" y="72"/>
                </a:cubicBezTo>
                <a:cubicBezTo>
                  <a:pt x="43" y="52"/>
                  <a:pt x="35" y="36"/>
                  <a:pt x="28" y="16"/>
                </a:cubicBezTo>
                <a:cubicBezTo>
                  <a:pt x="26" y="9"/>
                  <a:pt x="15" y="7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762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Arial"/>
              </a:rPr>
              <a:t>Step2::Search &amp; pre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560" y="1143000"/>
            <a:ext cx="539748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cript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ASM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p tag and dump vcs forc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earches for </a:t>
            </a: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INTR_AFTER_&lt;interrupt_number&gt;_&lt;priority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ag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Extracts interrupt number &amp; priority associ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Links/compiles/disassembles the 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Calls another script </a:t>
            </a: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GenDoASM.p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ump .do force file having instruction cou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upt number and priority associa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762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1523880"/>
            <a:ext cx="34290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 &lt;instruction_dec&gt;&gt; = </a:t>
            </a:r>
            <a:r>
              <a:rPr b="1" lang="en-US" sz="1000" spc="-1" strike="noStrike">
                <a:solidFill>
                  <a:srgbClr val="009900"/>
                </a:solidFill>
                <a:latin typeface="Times New Roman"/>
              </a:rPr>
              <a:t>“Instruction_count_of_INT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f&lt;Instruction_DPC &gt; = “</a:t>
            </a:r>
            <a:r>
              <a:rPr b="1" lang="en-US" sz="1000" spc="-1" strike="noStrike">
                <a:solidFill>
                  <a:srgbClr val="009900"/>
                </a:solidFill>
                <a:latin typeface="Times New Roman"/>
              </a:rPr>
              <a:t>Interrupt_loc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cc"/>
                </a:solidFill>
                <a:latin typeface="Times New Roman"/>
              </a:rPr>
              <a:t>Force &lt;CF_DPC&gt;  = “INSTR_LOCATION_DPC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cc"/>
                </a:solidFill>
                <a:latin typeface="Times New Roman"/>
              </a:rPr>
              <a:t>Force &lt;INTR_NUM&gt; =“INT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cc"/>
                </a:solidFill>
                <a:latin typeface="Times New Roman"/>
              </a:rPr>
              <a:t>Force &lt;Priority&gt;=&lt;INTR_PRIORIT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1880" y="480060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.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60640" y="4038480"/>
            <a:ext cx="1524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1_P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R2_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4267080"/>
            <a:ext cx="10666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3434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rup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655308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9000" y="583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" y="5299200"/>
            <a:ext cx="80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1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1          C1           D1           E1          F1           G1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8160" y="5562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81160" y="5562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00480" y="5562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43480" y="5562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6480" y="5562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29480" y="55627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81680" y="415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38560" y="419112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05240" y="4191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48240" y="4191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43520" y="4191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86520" y="4191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77240" y="41911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2120" y="3241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0520" y="3276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8680" y="3276720"/>
            <a:ext cx="6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6080" y="32767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18120" y="327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66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93600" y="33526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914400" y="457164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28800" y="46483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71800" y="46483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267080" y="46483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410080" y="46483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553080" y="46483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543800" y="457164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990360" y="3657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9810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297180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038480" y="37335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5410080" y="37335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705360" y="373356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696080" y="37335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04920" y="5715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61760" y="57913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715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04920" y="51811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76160" y="5791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5791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742840" y="5638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71500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885840" y="5715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7150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10516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57150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24816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57150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314840" y="57150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5715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990720" y="41907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907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345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629400" y="2971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09480" y="3048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752120" y="3048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2971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209680" y="3123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742840" y="312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809880" y="3123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038480" y="312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05160" y="312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334120" y="312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8760" y="1143000"/>
            <a:ext cx="730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ing of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N ×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rupts,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rupt calling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“any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erru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Configur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iority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mp a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hu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antity of complex scenarios in a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st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Arial"/>
              </a:rPr>
              <a:t>What do we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762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0200" y="7621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utomated Flo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ff"/>
                </a:solidFill>
                <a:latin typeface="Arial"/>
              </a:rPr>
              <a:t>Results/Returns &amp;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762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743200" y="1447920"/>
          <a:ext cx="6095880" cy="28717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ed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 of coverage ev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,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81,3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ions to reach 100% co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case 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ion time/resource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h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4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i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2we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610920" y="762120"/>
            <a:ext cx="41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 implementa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  ‘C55x processor INTC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479840"/>
            <a:ext cx="769608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igh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ught corner case bugs early in D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d verification cycle time by 5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test-suite with high quality stimulus per test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imit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ctions in ISR are randomly picked, need algo for interesting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ghtly coupled to compiler/linker ,error in compile will propa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676920" y="6286680"/>
            <a:ext cx="2467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9:37:50Z</dcterms:created>
  <dc:creator>a0393244adm</dc:creator>
  <dc:description/>
  <dc:language>en-US</dc:language>
  <cp:lastModifiedBy>a0393333</cp:lastModifiedBy>
  <dcterms:modified xsi:type="dcterms:W3CDTF">2010-06-08T05:43:57Z</dcterms:modified>
  <cp:revision>177</cp:revision>
  <dc:subject/>
  <dc:title>Interrupt Controller verification methodology</dc:title>
</cp:coreProperties>
</file>