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1E9-55CF-492F-809A-BD6369E5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1E4-9B10-4BDA-A1A7-95FD9BAB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7EA-4EB7-4662-A042-4F3C2BC5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681-61AA-40A2-868D-9B15E85D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E838-1DB0-4146-8EA4-0549C81D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C31-3B6B-40A4-ADFB-3335E9CA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50F-DE38-470C-BA70-6B482355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EB24-7EF8-4C87-BB83-A6FD3A91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8E0-7E18-4A6B-A364-5ED958E6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6B1-BEAC-4AC7-9F02-11B7CFBA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380C-0348-4D62-BA82-1E79DE63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E7F-9CA2-4230-9309-5C4843B1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8158-734F-4404-9A3D-69D4D2EFB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ccelerating DV closure through coverage adaptive techniques for optimal test-suite gener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038120"/>
            <a:ext cx="67820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Autho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Ashish Chandra, Texas Instruments, Banga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-author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Subir Roy,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Texas Instruments, Banga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Chaitanya Vaddadi, Texas Instruments, Banga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Vasant N Vaghamshi, Texas Instruments, Banga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Harsh Setia, Texas Instruments, Banga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Sai Komaravelli, Texas Instruments, Banga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76920" y="6286680"/>
            <a:ext cx="2467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371600"/>
            <a:ext cx="6856560" cy="431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V Closure time  </a:t>
            </a:r>
            <a:r>
              <a:rPr b="1" lang="el-GR" sz="1800" spc="-1" strike="noStrike">
                <a:solidFill>
                  <a:srgbClr val="0000ff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Functional co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99"/>
                </a:solidFill>
                <a:latin typeface="Arial"/>
              </a:rPr>
              <a:t>The “perfect” methodology to achieve 100% coverage in single run still eludes a DV engin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ditional approa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Limitations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features covered per simula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bug finding per simula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e count of testcases and low quality of stimulus per test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regression suit runtime and more compute resource wastage, her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sely affecting the DV closur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e scenarios’ &amp; poor random seed r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roblem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453480" y="2615400"/>
            <a:ext cx="3168720" cy="2745000"/>
            <a:chOff x="3453480" y="2615400"/>
            <a:chExt cx="3168720" cy="2745000"/>
          </a:xfrm>
        </p:grpSpPr>
        <p:sp>
          <p:nvSpPr>
            <p:cNvPr id="48" name="_s7194"/>
            <p:cNvSpPr/>
            <p:nvPr/>
          </p:nvSpPr>
          <p:spPr>
            <a:xfrm>
              <a:off x="4070520" y="2615400"/>
              <a:ext cx="1932840" cy="1932840"/>
            </a:xfrm>
            <a:custGeom>
              <a:avLst/>
              <a:gdLst>
                <a:gd name="textAreaLeft" fmla="*/ 0 w 1932840"/>
                <a:gd name="textAreaRight" fmla="*/ 1933200 w 1932840"/>
                <a:gd name="textAreaTop" fmla="*/ 0 h 1932840"/>
                <a:gd name="textAreaBottom" fmla="*/ 1933200 h 193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7195"/>
            <p:cNvSpPr/>
            <p:nvPr/>
          </p:nvSpPr>
          <p:spPr>
            <a:xfrm rot="7200000">
              <a:off x="4335120" y="3071880"/>
              <a:ext cx="1932840" cy="1933200"/>
            </a:xfrm>
            <a:custGeom>
              <a:avLst/>
              <a:gdLst>
                <a:gd name="textAreaLeft" fmla="*/ 0 w 1932840"/>
                <a:gd name="textAreaRight" fmla="*/ 1933200 w 1932840"/>
                <a:gd name="textAreaTop" fmla="*/ 0 h 1933200"/>
                <a:gd name="textAreaBottom" fmla="*/ 1933560 h 19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7197"/>
            <p:cNvSpPr/>
            <p:nvPr/>
          </p:nvSpPr>
          <p:spPr>
            <a:xfrm rot="14400000">
              <a:off x="3807000" y="3073680"/>
              <a:ext cx="1932840" cy="1932840"/>
            </a:xfrm>
            <a:custGeom>
              <a:avLst/>
              <a:gdLst>
                <a:gd name="textAreaLeft" fmla="*/ 0 w 1932840"/>
                <a:gd name="textAreaRight" fmla="*/ 1933200 w 1932840"/>
                <a:gd name="textAreaTop" fmla="*/ 0 h 1932840"/>
                <a:gd name="textAreaBottom" fmla="*/ 1933200 h 193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7192"/>
            <p:cNvSpPr/>
            <p:nvPr/>
          </p:nvSpPr>
          <p:spPr>
            <a:xfrm>
              <a:off x="5566680" y="2969280"/>
              <a:ext cx="77580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Define coverage grid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Dump testcas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7193"/>
            <p:cNvSpPr/>
            <p:nvPr/>
          </p:nvSpPr>
          <p:spPr>
            <a:xfrm>
              <a:off x="4649400" y="4557960"/>
              <a:ext cx="77580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Run simula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7196"/>
            <p:cNvSpPr/>
            <p:nvPr/>
          </p:nvSpPr>
          <p:spPr>
            <a:xfrm>
              <a:off x="3731760" y="2969280"/>
              <a:ext cx="77580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collect missing ho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52280" y="68580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676920" y="6286680"/>
            <a:ext cx="2467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What does this paper prop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methodologies with focu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Arial"/>
              </a:rPr>
              <a:t>Reduce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terations to achiever 100% functional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cc00"/>
                </a:solidFill>
                <a:latin typeface="Arial"/>
              </a:rPr>
              <a:t>Exp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local automation to a standardized process for it to be used across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83808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362320"/>
            <a:ext cx="57913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integr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ability to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implement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ing &amp; output du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on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resour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F + License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ility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new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676920" y="6286680"/>
            <a:ext cx="2467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362320" y="3352680"/>
            <a:ext cx="6400800" cy="2820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thod1:Coverage log file g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838080"/>
            <a:ext cx="784872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FEEDBACK FROM COVERGE REPORT FILE TO TESTCASE GENERATION SCR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PERL-BASED TESTCASE GENERATION FOR FUNCTIONAL COVERAG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ow it do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ication of functional coverage grid poi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ion of coverage log file with all the bucke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ication of the macros for each scenari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k suitable macro from configuration file &amp; run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Gai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-Precisely locate missing ho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-Dump “missing holes” test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-Less simulation r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83808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676920" y="6286680"/>
            <a:ext cx="2467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419360" cy="4202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thod2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:Coverage monitor dumping test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83808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676520"/>
            <a:ext cx="4572000" cy="58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ow it do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s scenario information from the monitor 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”  scenario generator to focus on specific randomization around monitor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p complete test suite in single d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Gai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Removes redundancy in test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Smaller test-suite, ‘relevant’ sce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Manifold decrease in coverage closur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83808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COVERAGE MONITOR FEEDBACK LOOP FOR BETTER STIMULUS GENERATION AND DUMP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TESTCASES USING A PERL-BASED SCRIPTING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676920" y="6286680"/>
            <a:ext cx="2467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771720" cy="424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66680" y="-228600"/>
            <a:ext cx="7467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thod3::Dynamicaly modify testcase during run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83808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06668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ADAPTIVE COVERAGE BASED TEST CASES TO ACCURATELY COVER THE REQUIRED COVERAGE G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1828800"/>
            <a:ext cx="411480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w it do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runtime, snoop the test randomization w.r.t coverage grid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nd feedback, modify testcase in pre-randomization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ver “exact” intended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Gai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Eliminates “duplicity of scenario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Real time feedback, smaller test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Fully automatic, less error pr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676920" y="6286680"/>
            <a:ext cx="2467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809880" cy="4603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-228600"/>
            <a:ext cx="8153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ethod4::Dynamicaly modification with high random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83808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06668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ADAPTIVE COVERAGE BASED TEST CASE CREATION WITH MULTI SEED RANDOM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828800"/>
            <a:ext cx="4114800" cy="43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ow it do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runtime, snoop the test randomization w.r.t coverage grid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nd feedback, modify testcase in pre-randomization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oup missing holes in bu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n ‘n’ seed regression to fill missing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Gai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High randomness, even smaller test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Smarter to catch corner case bu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Fully automatic, less error pr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676920" y="6286680"/>
            <a:ext cx="2467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Results/returns &amp; 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3520" y="1295280"/>
          <a:ext cx="3429000" cy="1886040"/>
        </p:xfrm>
        <a:graphic>
          <a:graphicData uri="http://schemas.openxmlformats.org/drawingml/2006/table">
            <a:tbl>
              <a:tblPr/>
              <a:tblGrid>
                <a:gridCol w="1143000"/>
                <a:gridCol w="654120"/>
                <a:gridCol w="1631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Flo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mated Flo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 of coverage ev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35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835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ations to reach 100% cover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case cou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ion time/resource us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h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h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for creating monito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1h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h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04920" y="83808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1066680"/>
            <a:ext cx="0" cy="5562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3657600"/>
            <a:ext cx="8763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83808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Method1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verage log grep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 C55x processor memory subsystem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91440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Method2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verage monitor gr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 C55x processor Instruction set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0" y="1371600"/>
          <a:ext cx="3581280" cy="1828800"/>
        </p:xfrm>
        <a:graphic>
          <a:graphicData uri="http://schemas.openxmlformats.org/drawingml/2006/table">
            <a:tbl>
              <a:tblPr/>
              <a:tblGrid>
                <a:gridCol w="1193760"/>
                <a:gridCol w="1193760"/>
                <a:gridCol w="1193760"/>
              </a:tblGrid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Flo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mated Flo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 of coverage ev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1,3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81,3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ations to reach 100% cover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case cou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ion time/resource us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h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h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to impl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week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wee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152280" y="3889440"/>
            <a:ext cx="403884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Method3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omated flow, feedback loop to test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tandardized process &amp; deployed across TI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siderably </a:t>
            </a:r>
            <a:r>
              <a:rPr b="1" i="1" lang="en-US" sz="1200" spc="-1" strike="noStrike">
                <a:solidFill>
                  <a:srgbClr val="009900"/>
                </a:solidFill>
                <a:latin typeface="Times New Roman"/>
              </a:rPr>
              <a:t>reduced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Verification cycle time by </a:t>
            </a:r>
            <a:r>
              <a:rPr b="1" i="1" lang="en-US" sz="1200" spc="-1" strike="noStrike">
                <a:solidFill>
                  <a:srgbClr val="009900"/>
                </a:solidFill>
                <a:latin typeface="Times New Roman"/>
              </a:rPr>
              <a:t>1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Times New Roman"/>
              </a:rPr>
              <a:t>Limitation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i="1" lang="en-US" sz="1200" spc="-1" strike="noStrike">
                <a:solidFill>
                  <a:srgbClr val="009900"/>
                </a:solidFill>
                <a:latin typeface="Times New Roman"/>
              </a:rPr>
              <a:t>-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re “coverage specific” testcase &amp; less random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-High portability effort, method hooked to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3809880"/>
            <a:ext cx="373392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Method3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omated flow, feedback loop to test case with high random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tandardized process &amp; deployed across TI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siderably reduced Verification cycle time by 1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 improvement on Method3 with </a:t>
            </a:r>
            <a:r>
              <a:rPr b="1" i="1" lang="en-US" sz="1200" spc="-1" strike="noStrike">
                <a:solidFill>
                  <a:srgbClr val="009900"/>
                </a:solidFill>
                <a:latin typeface="Times New Roman"/>
              </a:rPr>
              <a:t>higher degree of random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Times New Roman"/>
              </a:rPr>
              <a:t>Limit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nsitive to changes in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--High portability effort, method hooked to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18456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3300"/>
                </a:solidFill>
                <a:latin typeface="Arial"/>
              </a:rPr>
              <a:t>Limitation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i="1" lang="en-US" sz="1000" spc="-1" strike="noStrike">
                <a:solidFill>
                  <a:srgbClr val="009900"/>
                </a:solidFill>
                <a:latin typeface="Arial"/>
              </a:rPr>
              <a:t>--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re “coverage specific” testcase &amp; less rando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-Closely tied to coverage log file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318456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3300"/>
                </a:solidFill>
                <a:latin typeface="Arial"/>
              </a:rPr>
              <a:t>Limitation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i="1" lang="en-US" sz="1000" spc="-1" strike="noStrike">
                <a:solidFill>
                  <a:srgbClr val="009900"/>
                </a:solidFill>
                <a:latin typeface="Arial"/>
              </a:rPr>
              <a:t>--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eds stable monitor 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-Closely tied to coverage monitor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676920" y="6286680"/>
            <a:ext cx="2467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Comparison Metric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Method1 Vs Method2 Vs Method3 Vs Method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534520" cy="4245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83808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76920" y="6286680"/>
            <a:ext cx="2467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08:41:11Z</dcterms:created>
  <dc:creator>a0393333</dc:creator>
  <dc:description/>
  <dc:language>en-US</dc:language>
  <cp:lastModifiedBy>a0393333</cp:lastModifiedBy>
  <dcterms:modified xsi:type="dcterms:W3CDTF">2010-06-08T07:28:17Z</dcterms:modified>
  <cp:revision>97</cp:revision>
  <dc:subject/>
  <dc:title>Accelerating DV closure through coverage adaptive techniques for optimal test-suite generation </dc:title>
</cp:coreProperties>
</file>