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0.wmf" ContentType="image/x-wmf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452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360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452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360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452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360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452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360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938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27010" r="0" b="52127"/>
          <a:stretch/>
        </p:blipFill>
        <p:spPr>
          <a:xfrm>
            <a:off x="1440" y="1440"/>
            <a:ext cx="9144000" cy="3812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79560" y="74520"/>
            <a:ext cx="379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Electronic Design Automation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10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1447560" y="6500520"/>
            <a:ext cx="3811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DAC 2010 User Track Poster S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90720" y="146160"/>
            <a:ext cx="0" cy="23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990720" y="648000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668600"/>
            <a:ext cx="9144000" cy="3565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16420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rcRect l="0" t="0" r="-8246" b="-32877"/>
          <a:stretch/>
        </p:blipFill>
        <p:spPr>
          <a:xfrm>
            <a:off x="7524720" y="687240"/>
            <a:ext cx="1162080" cy="532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BM Electronic Design Automation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2"/>
          </p:nvPr>
        </p:nvSpPr>
        <p:spPr>
          <a:xfrm>
            <a:off x="2023560" y="6221520"/>
            <a:ext cx="32338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DAC 2010 User Track Poster Ses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63720" y="4217760"/>
            <a:ext cx="0" cy="933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862280" y="1347480"/>
            <a:ext cx="0" cy="328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6248520"/>
            <a:ext cx="16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10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-227160" algn="ctr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451"/>
              </a:spcBef>
              <a:buClr>
                <a:srgbClr val="2db6b3"/>
              </a:buClr>
              <a:buFont typeface="Arial"/>
              <a:buChar char="&gt;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s-based Process Migration and DFM Optimization using Minimum Perturbation Comp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49400" y="4106880"/>
            <a:ext cx="64008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Arial"/>
              </a:rPr>
              <a:t>Ryan Bazinet, Veit Gernhoefer, Michael Gray, Matthew Guzowski, Kevin McCullen, Rani Narayan, Bob Walker, Xin Yuan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4080" y="533520"/>
            <a:ext cx="89899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Redundant 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3716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29200" y="3048120"/>
            <a:ext cx="3809880" cy="3152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772400" y="220968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OLID 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V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220968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OLID BL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Metal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391160" y="2743200"/>
            <a:ext cx="609480" cy="61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483240" y="1981080"/>
            <a:ext cx="984240" cy="2133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05720" y="15238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ross Thatched BL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Corner/Notch F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2666880"/>
            <a:ext cx="880920" cy="2819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2920" y="3124080"/>
            <a:ext cx="53316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15200" y="5257800"/>
            <a:ext cx="457200" cy="457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24480" y="3886200"/>
            <a:ext cx="457200" cy="457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ng Redundant Vias improves yield, reliability and res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Vias identified and another via placed i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om by trying first in the metal’s primary wir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ks up any opportunities left by the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28600" y="3048120"/>
          <a:ext cx="4680000" cy="3124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048120"/>
                    <a:ext cx="46800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plate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llow Meta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49568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49"/>
              </a:spcBef>
              <a:spcAft>
                <a:spcPts val="2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ollow metal is a known failure issue. Increasing metal island dimension reduces failure rate and improves yield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562720" y="457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4038480" cy="3349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238880" y="3733920"/>
            <a:ext cx="1309680" cy="496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4120" y="4572000"/>
            <a:ext cx="1309680" cy="496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5348160"/>
            <a:ext cx="1309680" cy="497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15200" y="4572000"/>
            <a:ext cx="1309680" cy="496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33520" y="2286000"/>
          <a:ext cx="3810960" cy="3901680"/>
        </p:xfrm>
        <a:graphic>
          <a:graphicData uri="http://schemas.openxmlformats.org/drawingml/2006/table">
            <a:tbl>
              <a:tblPr/>
              <a:tblGrid>
                <a:gridCol w="2565720"/>
                <a:gridCol w="1245240"/>
              </a:tblGrid>
              <a:tr h="67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tal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 Errors 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metal layer severity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.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metal layer severity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metal layer severity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metal layer severity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.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metal layer severity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metal layer severity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metal layer severity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rd metal layer severity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6248520" y="1600200"/>
            <a:ext cx="1309680" cy="496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plate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of Cell Broadband Engine from a 65nm to a 45nm SOI Technology, Takahashi, et. al., ISSCC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al Method of Obtaining a Feasible Integer Solution in Hierarchical Layout Optimization, Tang, et. al., ICCAD,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ircuit and Physical Design of the POWER4 microprocessor, Warnock, et. al., IBM Journal of Research and Development, January 2002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VLSI Artwork Legalization Technique Based on a New Criterion of Minimum layout Perturbation, Heng, et. al., ISPD 199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 Paten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6189132, US6986109, US7062729, US7120887, US7363601, US7568173, US74903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plate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“Layout Migration?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times called “Process Migration”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ing a pre-existing layout and converting to a different set of ground rules (usually into the next process nod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xample, here we converted an existing 65 nm SOI design into a 45 nm SOI technolog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chematic is held constant (parameters scale, but the netlist is unchanged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yout Migration is not placement and rout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migration path uses “Minimum Perturbation Compactio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“longest path”.  Not area min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oal is a new design that is as close as possible (given the new ground rules) to the old desig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e “Common Library” elements first, then use newly migrated versions in migration of macro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plate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Keys to Succes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75880"/>
            <a:ext cx="38880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Migratable Technolog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chnology ground rules must “scale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>
              <a:lnSpc>
                <a:spcPct val="80000"/>
              </a:lnSpc>
              <a:spcBef>
                <a:spcPts val="3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ule value grows significantly to the others as you move from 65 nm values to 45 nm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igration tool can swap space around, move shapes back and forth, but it cannot “Create” free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ams (Litho, Process, Design, Tools) have to hammer out compromises that produce a manufacturable technology that is scal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>
              <a:lnSpc>
                <a:spcPct val="80000"/>
              </a:lnSpc>
              <a:spcBef>
                <a:spcPts val="3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are proposed and compared to existing layouts using “reverse scal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>
              <a:lnSpc>
                <a:spcPct val="80000"/>
              </a:lnSpc>
              <a:spcBef>
                <a:spcPts val="3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proposed 45 nm value, multiply it by 1/scaling-ratio, DRC check the 65 nm design against these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>
              <a:lnSpc>
                <a:spcPct val="80000"/>
              </a:lnSpc>
              <a:spcBef>
                <a:spcPts val="3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ws what layout structures in the 65 nm design will fail 45 nm DRC after sca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>
              <a:lnSpc>
                <a:spcPct val="80000"/>
              </a:lnSpc>
              <a:spcBef>
                <a:spcPts val="3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ze the results to see if there is space for the migration tool to fix the resulting errors in the migrated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9760" y="1776240"/>
            <a:ext cx="3811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gratable Subcel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subcell has to scale in outline, pin positions, and (as much as possible) internal block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553080" y="4419720"/>
            <a:ext cx="2133720" cy="1820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3429000" cy="1374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44560" y="4114800"/>
            <a:ext cx="21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plo to Lego “Migra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64600" y="6248520"/>
            <a:ext cx="22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5 nm to 45 nm Mi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plate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Library” Migration Path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523880"/>
            <a:ext cx="1067040" cy="838440"/>
          </a:xfrm>
          <a:prstGeom prst="flowChartMagneticDisk">
            <a:avLst/>
          </a:prstGeom>
          <a:solidFill>
            <a:srgbClr val="7889fb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l 65 n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523880"/>
            <a:ext cx="1066680" cy="838440"/>
          </a:xfrm>
          <a:prstGeom prst="flowChartProcess">
            <a:avLst/>
          </a:prstGeom>
          <a:solidFill>
            <a:srgbClr val="7889fb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 bound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pin cond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1523880"/>
            <a:ext cx="1066680" cy="838440"/>
          </a:xfrm>
          <a:prstGeom prst="flowChartProcess">
            <a:avLst/>
          </a:prstGeom>
          <a:solidFill>
            <a:srgbClr val="00cc00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write skill 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meet 45 n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1523880"/>
            <a:ext cx="1066680" cy="838440"/>
          </a:xfrm>
          <a:prstGeom prst="flowChartMagneticDisk">
            <a:avLst/>
          </a:prstGeom>
          <a:solidFill>
            <a:srgbClr val="9900cc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45 n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5" idx="4"/>
            <a:endCxn id="106" idx="1"/>
          </p:cNvCxnSpPr>
          <p:nvPr/>
        </p:nvCxnSpPr>
        <p:spPr>
          <a:xfrm>
            <a:off x="1676160" y="1942920"/>
            <a:ext cx="1143720" cy="1080"/>
          </a:xfrm>
          <a:prstGeom prst="straightConnector1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6" idx="3"/>
            <a:endCxn id="107" idx="1"/>
          </p:cNvCxnSpPr>
          <p:nvPr/>
        </p:nvCxnSpPr>
        <p:spPr>
          <a:xfrm>
            <a:off x="3885840" y="1942920"/>
            <a:ext cx="1220040" cy="1080"/>
          </a:xfrm>
          <a:prstGeom prst="straightConnector1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7" idx="3"/>
            <a:endCxn id="108" idx="2"/>
          </p:cNvCxnSpPr>
          <p:nvPr/>
        </p:nvCxnSpPr>
        <p:spPr>
          <a:xfrm>
            <a:off x="6172200" y="1942920"/>
            <a:ext cx="1372320" cy="1080"/>
          </a:xfrm>
          <a:prstGeom prst="straightConnector1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7543800" y="5486400"/>
            <a:ext cx="1066680" cy="762120"/>
          </a:xfrm>
          <a:prstGeom prst="flowChartMagneticDisk">
            <a:avLst/>
          </a:prstGeom>
          <a:solidFill>
            <a:srgbClr val="9900cc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45 n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819520"/>
            <a:ext cx="1067040" cy="914400"/>
          </a:xfrm>
          <a:prstGeom prst="flowChartMagneticDisk">
            <a:avLst/>
          </a:prstGeom>
          <a:solidFill>
            <a:srgbClr val="7889fb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l 65 n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2895480"/>
            <a:ext cx="1295280" cy="762120"/>
          </a:xfrm>
          <a:prstGeom prst="flowChartProcess">
            <a:avLst/>
          </a:prstGeom>
          <a:solidFill>
            <a:srgbClr val="00ffcc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le in X and Y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er scaling rat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3962520"/>
            <a:ext cx="1600200" cy="761760"/>
          </a:xfrm>
          <a:prstGeom prst="flowChartProcess">
            <a:avLst/>
          </a:prstGeom>
          <a:solidFill>
            <a:srgbClr val="7889fb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ze cell out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ze pin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5029200"/>
            <a:ext cx="1523880" cy="1066680"/>
          </a:xfrm>
          <a:prstGeom prst="flowChartProcess">
            <a:avLst/>
          </a:prstGeom>
          <a:solidFill>
            <a:srgbClr val="00ffcc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nd rule 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es wit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nimum Perturb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/Y/X/Y/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3124080"/>
            <a:ext cx="1066680" cy="990720"/>
          </a:xfrm>
          <a:prstGeom prst="flowChartMagneticDisk">
            <a:avLst/>
          </a:prstGeom>
          <a:solidFill>
            <a:srgbClr val="7889fb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d 45 n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gt; 99% cl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38880" y="4495680"/>
            <a:ext cx="1676520" cy="609840"/>
          </a:xfrm>
          <a:prstGeom prst="flowChartProcess">
            <a:avLst/>
          </a:prstGeom>
          <a:solidFill>
            <a:srgbClr val="00cc00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ual DRC 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3" idx="4"/>
            <a:endCxn id="114" idx="1"/>
          </p:cNvCxnSpPr>
          <p:nvPr/>
        </p:nvCxnSpPr>
        <p:spPr>
          <a:xfrm>
            <a:off x="1676520" y="3276360"/>
            <a:ext cx="838800" cy="1080"/>
          </a:xfrm>
          <a:prstGeom prst="straightConnector1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3"/>
            <a:endCxn id="118" idx="0"/>
          </p:cNvCxnSpPr>
          <p:nvPr/>
        </p:nvCxnSpPr>
        <p:spPr>
          <a:xfrm>
            <a:off x="8076960" y="4114800"/>
            <a:ext cx="1080" cy="381600"/>
          </a:xfrm>
          <a:prstGeom prst="straightConnector1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8" idx="2"/>
            <a:endCxn id="112" idx="1"/>
          </p:cNvCxnSpPr>
          <p:nvPr/>
        </p:nvCxnSpPr>
        <p:spPr>
          <a:xfrm>
            <a:off x="8076960" y="5105520"/>
            <a:ext cx="1080" cy="381600"/>
          </a:xfrm>
          <a:prstGeom prst="straightConnector1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3"/>
            <a:endCxn id="115" idx="0"/>
          </p:cNvCxnSpPr>
          <p:nvPr/>
        </p:nvCxnSpPr>
        <p:spPr>
          <a:xfrm>
            <a:off x="3809520" y="3276360"/>
            <a:ext cx="267120" cy="686520"/>
          </a:xfrm>
          <a:prstGeom prst="bentConnector2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endCxn id="116" idx="0"/>
          </p:cNvCxnSpPr>
          <p:nvPr/>
        </p:nvCxnSpPr>
        <p:spPr>
          <a:xfrm>
            <a:off x="4876920" y="4343040"/>
            <a:ext cx="762480" cy="686520"/>
          </a:xfrm>
          <a:prstGeom prst="bentConnector2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2"/>
            <a:endCxn id="117" idx="1"/>
          </p:cNvCxnSpPr>
          <p:nvPr/>
        </p:nvCxnSpPr>
        <p:spPr>
          <a:xfrm flipH="1" flipV="1" rot="5400000">
            <a:off x="5371920" y="3390120"/>
            <a:ext cx="2972520" cy="2439000"/>
          </a:xfrm>
          <a:prstGeom prst="bentConnector5">
            <a:avLst>
              <a:gd name="adj1" fmla="val -7691"/>
              <a:gd name="adj2" fmla="val 54694"/>
              <a:gd name="adj3" fmla="val 112754"/>
            </a:avLst>
          </a:prstGeom>
          <a:ln w="8892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304920" y="1371600"/>
            <a:ext cx="8686800" cy="1066680"/>
          </a:xfrm>
          <a:prstGeom prst="flowChartProcess">
            <a:avLst/>
          </a:prstGeom>
          <a:solidFill>
            <a:srgbClr val="7889fb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590920"/>
            <a:ext cx="8686800" cy="3809880"/>
          </a:xfrm>
          <a:prstGeom prst="flowChartProcess">
            <a:avLst/>
          </a:prstGeom>
          <a:solidFill>
            <a:srgbClr val="7889fb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plate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cro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600200"/>
            <a:ext cx="1066680" cy="762120"/>
          </a:xfrm>
          <a:prstGeom prst="flowChartMagneticDisk">
            <a:avLst/>
          </a:prstGeom>
          <a:solidFill>
            <a:srgbClr val="7889fb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l 65 n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1600200"/>
            <a:ext cx="1295280" cy="762120"/>
          </a:xfrm>
          <a:prstGeom prst="flowChartProcess">
            <a:avLst/>
          </a:prstGeom>
          <a:solidFill>
            <a:srgbClr val="00ffcc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le in X and Y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ter scaling rat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4191120"/>
            <a:ext cx="1905120" cy="761760"/>
          </a:xfrm>
          <a:prstGeom prst="flowChartProcess">
            <a:avLst/>
          </a:prstGeom>
          <a:solidFill>
            <a:srgbClr val="7889fb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ze macro out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ze pin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ze positions of sub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2895480"/>
            <a:ext cx="1752480" cy="609840"/>
          </a:xfrm>
          <a:prstGeom prst="flowChartProcess">
            <a:avLst/>
          </a:prstGeom>
          <a:solidFill>
            <a:srgbClr val="ff0000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l DRC snapsh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r comparison purpo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114800" y="1676520"/>
            <a:ext cx="2133360" cy="2743200"/>
            <a:chOff x="4114800" y="1676520"/>
            <a:chExt cx="2133360" cy="2743200"/>
          </a:xfrm>
        </p:grpSpPr>
        <p:sp>
          <p:nvSpPr>
            <p:cNvPr id="133" name=""/>
            <p:cNvSpPr/>
            <p:nvPr/>
          </p:nvSpPr>
          <p:spPr>
            <a:xfrm>
              <a:off x="4114800" y="1676520"/>
              <a:ext cx="2133360" cy="2743200"/>
            </a:xfrm>
            <a:prstGeom prst="flowChartProcess">
              <a:avLst/>
            </a:prstGeom>
            <a:solidFill>
              <a:srgbClr val="7889fb">
                <a:alpha val="2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maste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1905120"/>
              <a:ext cx="1676160" cy="762120"/>
            </a:xfrm>
            <a:prstGeom prst="flowChartProcess">
              <a:avLst/>
            </a:prstGeom>
            <a:solidFill>
              <a:srgbClr val="7889fb">
                <a:alpha val="2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name subcells to 45 n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ersions.  For PCells, sca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ameter values by mast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caling rat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67080" y="3429360"/>
              <a:ext cx="1828800" cy="761760"/>
            </a:xfrm>
            <a:prstGeom prst="flowChartProcess">
              <a:avLst/>
            </a:prstGeom>
            <a:solidFill>
              <a:srgbClr val="7889fb">
                <a:alpha val="26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mport data into Cade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5 nm environment, ex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environ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to replace subcell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086600" y="990720"/>
            <a:ext cx="1523880" cy="1066680"/>
          </a:xfrm>
          <a:prstGeom prst="flowChartProcess">
            <a:avLst/>
          </a:prstGeom>
          <a:solidFill>
            <a:srgbClr val="00ffcc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nd rule 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es wit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nimum Perturb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/Y/X/Y/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2438280"/>
            <a:ext cx="1676520" cy="609840"/>
          </a:xfrm>
          <a:prstGeom prst="flowChartProcess">
            <a:avLst/>
          </a:prstGeom>
          <a:solidFill>
            <a:srgbClr val="ff0000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DRC snapsh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r comparison purpo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3429000"/>
            <a:ext cx="1066680" cy="990720"/>
          </a:xfrm>
          <a:prstGeom prst="flowChartMagneticDisk">
            <a:avLst/>
          </a:prstGeom>
          <a:solidFill>
            <a:srgbClr val="7889fb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d 45 n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gt; 99% cl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4800600"/>
            <a:ext cx="1676520" cy="609480"/>
          </a:xfrm>
          <a:prstGeom prst="flowChartProcess">
            <a:avLst/>
          </a:prstGeom>
          <a:solidFill>
            <a:srgbClr val="00cc00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ual DRC 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5715000"/>
            <a:ext cx="1066680" cy="762120"/>
          </a:xfrm>
          <a:prstGeom prst="flowChartMagneticDisk">
            <a:avLst/>
          </a:prstGeom>
          <a:solidFill>
            <a:srgbClr val="9900cc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45 n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0" idx="2"/>
            <a:endCxn id="133" idx="0"/>
          </p:cNvCxnSpPr>
          <p:nvPr/>
        </p:nvCxnSpPr>
        <p:spPr>
          <a:xfrm flipH="1" flipV="1" rot="5400000">
            <a:off x="2228760" y="1999800"/>
            <a:ext cx="3277080" cy="2629440"/>
          </a:xfrm>
          <a:prstGeom prst="bentConnector5">
            <a:avLst>
              <a:gd name="adj1" fmla="val -6976"/>
              <a:gd name="adj2" fmla="val 47815"/>
              <a:gd name="adj3" fmla="val 113799"/>
            </a:avLst>
          </a:prstGeom>
          <a:ln w="889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3" idx="2"/>
            <a:endCxn id="136" idx="0"/>
          </p:cNvCxnSpPr>
          <p:nvPr/>
        </p:nvCxnSpPr>
        <p:spPr>
          <a:xfrm flipH="1" flipV="1" rot="5400000">
            <a:off x="4799520" y="1370880"/>
            <a:ext cx="3429720" cy="2667960"/>
          </a:xfrm>
          <a:prstGeom prst="bentConnector5">
            <a:avLst>
              <a:gd name="adj1" fmla="val -6665"/>
              <a:gd name="adj2" fmla="val 55708"/>
              <a:gd name="adj3" fmla="val 112586"/>
            </a:avLst>
          </a:prstGeom>
          <a:ln w="889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28" idx="4"/>
            <a:endCxn id="129" idx="1"/>
          </p:cNvCxnSpPr>
          <p:nvPr/>
        </p:nvCxnSpPr>
        <p:spPr>
          <a:xfrm>
            <a:off x="1295280" y="1980720"/>
            <a:ext cx="610560" cy="1080"/>
          </a:xfrm>
          <a:prstGeom prst="straightConnector1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9" idx="2"/>
            <a:endCxn id="131" idx="0"/>
          </p:cNvCxnSpPr>
          <p:nvPr/>
        </p:nvCxnSpPr>
        <p:spPr>
          <a:xfrm>
            <a:off x="2552400" y="2361960"/>
            <a:ext cx="1080" cy="533880"/>
          </a:xfrm>
          <a:prstGeom prst="straightConnector1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1" idx="2"/>
            <a:endCxn id="130" idx="0"/>
          </p:cNvCxnSpPr>
          <p:nvPr/>
        </p:nvCxnSpPr>
        <p:spPr>
          <a:xfrm>
            <a:off x="2552400" y="3504960"/>
            <a:ext cx="1080" cy="686520"/>
          </a:xfrm>
          <a:prstGeom prst="straightConnector1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6" idx="2"/>
            <a:endCxn id="137" idx="0"/>
          </p:cNvCxnSpPr>
          <p:nvPr/>
        </p:nvCxnSpPr>
        <p:spPr>
          <a:xfrm>
            <a:off x="7848360" y="2057400"/>
            <a:ext cx="1080" cy="381600"/>
          </a:xfrm>
          <a:prstGeom prst="straightConnector1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8" idx="1"/>
          </p:cNvCxnSpPr>
          <p:nvPr/>
        </p:nvCxnSpPr>
        <p:spPr>
          <a:xfrm>
            <a:off x="7848360" y="3048120"/>
            <a:ext cx="1080" cy="381600"/>
          </a:xfrm>
          <a:prstGeom prst="straightConnector1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3"/>
            <a:endCxn id="139" idx="0"/>
          </p:cNvCxnSpPr>
          <p:nvPr/>
        </p:nvCxnSpPr>
        <p:spPr>
          <a:xfrm>
            <a:off x="7848360" y="4419720"/>
            <a:ext cx="1080" cy="381600"/>
          </a:xfrm>
          <a:prstGeom prst="straightConnector1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2"/>
            <a:endCxn id="140" idx="1"/>
          </p:cNvCxnSpPr>
          <p:nvPr/>
        </p:nvCxnSpPr>
        <p:spPr>
          <a:xfrm>
            <a:off x="7848360" y="5409720"/>
            <a:ext cx="1080" cy="305640"/>
          </a:xfrm>
          <a:prstGeom prst="straightConnector1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5562720" y="5638680"/>
            <a:ext cx="1066680" cy="762120"/>
          </a:xfrm>
          <a:prstGeom prst="flowChartMagneticDisk">
            <a:avLst/>
          </a:prstGeom>
          <a:solidFill>
            <a:srgbClr val="9900cc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45 n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5638680"/>
            <a:ext cx="1067040" cy="762120"/>
          </a:xfrm>
          <a:prstGeom prst="flowChartMagneticDisk">
            <a:avLst/>
          </a:prstGeom>
          <a:solidFill>
            <a:srgbClr val="9900cc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45 n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178400">
            <a:off x="4355640" y="4420800"/>
            <a:ext cx="533520" cy="1219320"/>
          </a:xfrm>
          <a:prstGeom prst="upArrow">
            <a:avLst>
              <a:gd name="adj1" fmla="val 50000"/>
              <a:gd name="adj2" fmla="val 57136"/>
            </a:avLst>
          </a:prstGeom>
          <a:solidFill>
            <a:srgbClr val="9900cc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422800">
            <a:off x="5575320" y="4416120"/>
            <a:ext cx="533520" cy="1219320"/>
          </a:xfrm>
          <a:prstGeom prst="upArrow">
            <a:avLst>
              <a:gd name="adj1" fmla="val 50000"/>
              <a:gd name="adj2" fmla="val 57136"/>
            </a:avLst>
          </a:prstGeom>
          <a:solidFill>
            <a:srgbClr val="9900cc">
              <a:alpha val="26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plate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“Design for Manufacturability?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 for Manufacturability (DFM) is the rules and design principals that are applied to minimize defect-induced yield loss in the design of a chip. It allows fo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technology and product development because manufacturing sites typically target CA and V1 images at upper specification limits and metal spacing near lower specification limits to prevent open circu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yields because the resulting designs will be less sensitive to the random manufacturing defects that impact y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hips that fulfill the specifications soo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process variations, especially for cont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wer parasitics and improved circuit performan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house yield-checking software was used to identify areas for DFM improvement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basically a design rule checker with stricter rule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core is calcula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lnSpc>
                <a:spcPct val="90000"/>
              </a:lnSpc>
              <a:spcBef>
                <a:spcPts val="300"/>
              </a:spcBef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RE = NORM – ERROR / N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lnSpc>
                <a:spcPct val="90000"/>
              </a:lnSpc>
              <a:spcBef>
                <a:spcPts val="300"/>
              </a:spcBef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= the number of vio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lnSpc>
                <a:spcPct val="90000"/>
              </a:lnSpc>
              <a:spcBef>
                <a:spcPts val="300"/>
              </a:spcBef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 = the total number of occurr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core meets a predefined threshold value, the check p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es are defined for the rule che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lnSpc>
                <a:spcPct val="90000"/>
              </a:lnSpc>
              <a:spcBef>
                <a:spcPts val="300"/>
              </a:spcBef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the predicted relative yield le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oritization allows for making design trade offs when two changes of differing priorities w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e in confl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plate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odifying design for DFM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 modifications for DFM were done manually and with softwa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ftware was used for systematic improvements such as optimizing silicide resistance, redundant via placement, metal short edge removal, increasing area of small metal islands, and n-well optimization for stress effect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systematic improvements were implemented with additive overlay cells at the macro, unit, and chip level of desig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changes were made to the shapes in the design hierarchy that were created by the designer, router, or migration too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3429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914040" y="3809880"/>
            <a:ext cx="12193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3809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3809880"/>
            <a:ext cx="76176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4724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ro_M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47242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47242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5638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5181480"/>
            <a:ext cx="4572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905120" y="5257800"/>
            <a:ext cx="3045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0880" y="51814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51814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4876920"/>
            <a:ext cx="1218960" cy="144756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5410080"/>
            <a:ext cx="1524240" cy="91440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4876920"/>
            <a:ext cx="152424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4572000"/>
            <a:ext cx="2286000" cy="1143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3526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 metal in overlay cell to remove a metal short 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3886200"/>
            <a:ext cx="99072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plate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038480" y="2438280"/>
            <a:ext cx="4496040" cy="3429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odifying Design for DFM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2606760"/>
            <a:ext cx="1920960" cy="565200"/>
          </a:xfrm>
          <a:prstGeom prst="rect">
            <a:avLst/>
          </a:prstGeom>
          <a:solidFill>
            <a:srgbClr val="7889f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666880"/>
            <a:ext cx="206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/Unit/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3597120"/>
            <a:ext cx="1920960" cy="565200"/>
          </a:xfrm>
          <a:prstGeom prst="rect">
            <a:avLst/>
          </a:prstGeom>
          <a:solidFill>
            <a:srgbClr val="7889f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366228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2819520"/>
            <a:ext cx="106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124080" y="3047760"/>
            <a:ext cx="1062000" cy="73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727360"/>
            <a:ext cx="1920960" cy="777960"/>
          </a:xfrm>
          <a:prstGeom prst="rect">
            <a:avLst/>
          </a:prstGeom>
          <a:solidFill>
            <a:srgbClr val="7889f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2727360"/>
            <a:ext cx="18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4006800"/>
            <a:ext cx="1920960" cy="565200"/>
          </a:xfrm>
          <a:prstGeom prst="rect">
            <a:avLst/>
          </a:prstGeom>
          <a:solidFill>
            <a:srgbClr val="7889f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407196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M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5226120"/>
            <a:ext cx="1920960" cy="565200"/>
          </a:xfrm>
          <a:prstGeom prst="rect">
            <a:avLst/>
          </a:prstGeom>
          <a:solidFill>
            <a:srgbClr val="7889f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529128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3467160"/>
            <a:ext cx="1440" cy="495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86480"/>
            <a:ext cx="1440" cy="495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rot="10800000">
            <a:off x="6476040" y="3008160"/>
            <a:ext cx="355320" cy="2401920"/>
          </a:xfrm>
          <a:custGeom>
            <a:avLst/>
            <a:gdLst>
              <a:gd name="textAreaLeft" fmla="*/ 47520 w 355320"/>
              <a:gd name="textAreaRight" fmla="*/ 307800 w 355320"/>
              <a:gd name="textAreaTop" fmla="*/ 426600 h 2401920"/>
              <a:gd name="textAreaBottom" fmla="*/ 1734840 h 24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78" stAng="-5400000" swAng="5400000"/>
                <a:lnTo>
                  <a:pt x="21600" y="11763"/>
                </a:lnTo>
                <a:arcTo wR="21600" hR="7678" stAng="0" swAng="2709147"/>
                <a:lnTo>
                  <a:pt x="7200" y="21161"/>
                </a:lnTo>
                <a:lnTo>
                  <a:pt x="0" y="17398"/>
                </a:lnTo>
                <a:lnTo>
                  <a:pt x="7200" y="12756"/>
                </a:lnTo>
                <a:lnTo>
                  <a:pt x="7200" y="14916"/>
                </a:lnTo>
                <a:arcTo wR="21600" hR="7678" stAng="2709147" swAng="-2372996"/>
                <a:lnTo>
                  <a:pt x="20822" y="9720"/>
                </a:lnTo>
                <a:arcTo wR="21600" hR="7678" stAng="-336151" swAng="-5063849"/>
                <a:close/>
              </a:path>
              <a:path fill="darkenLess" w="21600" h="21600">
                <a:moveTo>
                  <a:pt x="0" y="0"/>
                </a:moveTo>
                <a:arcTo wR="21600" hR="7678" stAng="-5400000" swAng="5400000"/>
                <a:lnTo>
                  <a:pt x="21600" y="11763"/>
                </a:lnTo>
                <a:arcTo wR="21600" hR="7678" stAng="0" swAng="-336151"/>
                <a:lnTo>
                  <a:pt x="20822" y="9720"/>
                </a:lnTo>
                <a:arcTo wR="21600" hR="7678" stAng="-336151" swAng="-5063849"/>
                <a:close/>
              </a:path>
            </a:pathLst>
          </a:cu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4076640"/>
            <a:ext cx="177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rge overlay cell for next DFM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123720" y="55627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5257800"/>
            <a:ext cx="1920960" cy="565200"/>
          </a:xfrm>
          <a:prstGeom prst="rect">
            <a:avLst/>
          </a:prstGeom>
          <a:solidFill>
            <a:srgbClr val="7889fb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532296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ver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4316400"/>
            <a:ext cx="284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Cells contain blockage shapes – Wiring Contract  (i.e. macro has a wiring contract with the un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DFM optimization takes space so the optimizations are run in order of their priorit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optimization needs the result of the previou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plate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ing resistance improves perform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ct + Silicide = total contact re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lnSpc>
                <a:spcPct val="9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arrower the Silicide past Gate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less squares of Silicide = higher re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lnSpc>
                <a:spcPct val="9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s Contact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ave long runs of Uncontacted Silicide = higher re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4080" y="457200"/>
            <a:ext cx="8989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Effective Silicide + Contact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344840" cy="39621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105520" y="3352680"/>
            <a:ext cx="838080" cy="762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4343400"/>
            <a:ext cx="990720" cy="762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72400" y="3276720"/>
            <a:ext cx="121932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743200" y="3733920"/>
            <a:ext cx="2819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733920" y="4723920"/>
            <a:ext cx="1828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2514600"/>
          <a:ext cx="2766960" cy="882720"/>
        </p:xfrm>
        <a:graphic>
          <a:graphicData uri="http://schemas.openxmlformats.org/drawingml/2006/table">
            <a:tbl>
              <a:tblPr/>
              <a:tblGrid>
                <a:gridCol w="1581120"/>
                <a:gridCol w="1185840"/>
              </a:tblGrid>
              <a:tr h="60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8600" indent="-228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8600" indent="-228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 Errors 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licide past G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8600" indent="-2286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762120" y="4724280"/>
          <a:ext cx="2874960" cy="1548000"/>
        </p:xfrm>
        <a:graphic>
          <a:graphicData uri="http://schemas.openxmlformats.org/drawingml/2006/table">
            <a:tbl>
              <a:tblPr/>
              <a:tblGrid>
                <a:gridCol w="1771920"/>
                <a:gridCol w="110304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8600" indent="-228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contacted Silic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8600" indent="-228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 Errors 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verity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8600" indent="-2286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verity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8600" indent="-2286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verity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8600" indent="-2286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verity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8600" indent="-2286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3733920" y="2819520"/>
            <a:ext cx="472428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plate Document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17:22:15Z</dcterms:created>
  <dc:creator>samlin@us.ibm.com</dc:creator>
  <dc:description>Blue Onyx Deluxe, Blue Pearl Deluxe:  Generally for "customer-facing" presentations
-  Blue Pearl Deluxe is useful for one-on-one laptop presentations and for easy printing.  Textures on the opening screen carry through the blue bands on text slides.
-  Blue Onyx Deluxe relies heavily on black for maximum contrast, particularly in projection.
Blue Onyx Basic, Blue Pearl Basic:  Intended for basic internal presentations.  May also be used for customers.
-  Blue Onyx Basic uses black throughout for maximum contrast, particularly in projection.
-  Blue Pearl Basic works well for one-on-one laptop presentations and makes printing easy.
</dc:description>
  <dc:language>en-US</dc:language>
  <cp:lastModifiedBy>Michael Gray</cp:lastModifiedBy>
  <dcterms:modified xsi:type="dcterms:W3CDTF">2010-05-07T20:53:40Z</dcterms:modified>
  <cp:revision>31</cp:revision>
  <dc:subject/>
  <dc:title>IBM Presentations: Blue Pearl DeLuxe template</dc:title>
</cp:coreProperties>
</file>