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40288" cy="42473563"/>
  <p:notesSz cx="9918700" cy="1434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059-4281-4E7B-ACD3-932B3ED0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1280" y="1701360"/>
            <a:ext cx="27216000" cy="70772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1280" y="9910800"/>
            <a:ext cx="2721600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1280" y="24551640"/>
            <a:ext cx="2721600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AD5-3FFD-4ADF-B3F0-5C96995D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1280" y="1701360"/>
            <a:ext cx="27216000" cy="70772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1280" y="9910800"/>
            <a:ext cx="1328112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56960" y="9910800"/>
            <a:ext cx="1328112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1280" y="24551640"/>
            <a:ext cx="1328112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56960" y="24551640"/>
            <a:ext cx="1328112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C64-07A3-41C9-B0D7-A31D0D83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1280" y="1701360"/>
            <a:ext cx="27216000" cy="70772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1280" y="9910800"/>
            <a:ext cx="876348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13240" y="9910800"/>
            <a:ext cx="876348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915200" y="9910800"/>
            <a:ext cx="876348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1280" y="24551640"/>
            <a:ext cx="876348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13240" y="24551640"/>
            <a:ext cx="876348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915200" y="24551640"/>
            <a:ext cx="876348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AD3F-45B8-44B1-8EB1-41500679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1280" y="1701360"/>
            <a:ext cx="27216000" cy="70772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1280" y="9910800"/>
            <a:ext cx="27216000" cy="28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9FA-8024-4065-8CA7-A094F49C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1280" y="1701360"/>
            <a:ext cx="27216000" cy="70772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1280" y="9910800"/>
            <a:ext cx="27216000" cy="2803032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A63-B3F7-40D8-B430-19A0D912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1280" y="1701360"/>
            <a:ext cx="27216000" cy="70772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1280" y="9910800"/>
            <a:ext cx="13281120" cy="2803032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56960" y="9910800"/>
            <a:ext cx="13281120" cy="2803032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1D4-128F-45B9-82DC-81BDAE1A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1280" y="1701360"/>
            <a:ext cx="27216000" cy="70772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2D3-6819-4DC0-90C4-97F6921F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1280" y="1701360"/>
            <a:ext cx="27216000" cy="328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044-E3EC-47D2-BC0E-0DFE68D3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1280" y="1701360"/>
            <a:ext cx="27216000" cy="70772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1280" y="9910800"/>
            <a:ext cx="1328112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56960" y="9910800"/>
            <a:ext cx="13281120" cy="2803032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1280" y="24551640"/>
            <a:ext cx="1328112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E07-B9F5-4288-9AB6-9429C7C6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1280" y="1701360"/>
            <a:ext cx="27216000" cy="70772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1280" y="9910800"/>
            <a:ext cx="13281120" cy="2803032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56960" y="9910800"/>
            <a:ext cx="1328112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56960" y="24551640"/>
            <a:ext cx="1328112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6C6-6D99-4F3A-9ABD-C7B7938C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1280" y="1701360"/>
            <a:ext cx="27216000" cy="70772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1280" y="9910800"/>
            <a:ext cx="1328112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56960" y="9910800"/>
            <a:ext cx="1328112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1280" y="24551640"/>
            <a:ext cx="27216000" cy="1337040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985-77BF-428B-9628-EEC4A597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1280" y="1701360"/>
            <a:ext cx="27216000" cy="70772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1280" y="9910800"/>
            <a:ext cx="27216000" cy="2803032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rmAutofit/>
          </a:bodyPr>
          <a:p>
            <a:pPr marL="1565280" indent="-156528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1" marL="3392640" indent="-130500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2" marL="5218200" indent="-104292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3" marL="7305840" indent="-104328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4" marL="9393120" indent="-10429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5" marL="9393120" indent="-10429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6" marL="9393120" indent="-10429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0920" y="38677680"/>
            <a:ext cx="7056360" cy="29498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Autofit/>
          </a:bodyPr>
          <a:lstStyle>
            <a:lvl1pPr indent="0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31280" y="38677680"/>
            <a:ext cx="9576000" cy="29498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Autofit/>
          </a:bodyPr>
          <a:lstStyle>
            <a:lvl1pPr indent="0" algn="ct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670560" y="38677680"/>
            <a:ext cx="7056360" cy="2949840"/>
          </a:xfrm>
          <a:prstGeom prst="rect">
            <a:avLst/>
          </a:prstGeom>
          <a:noFill/>
          <a:ln w="0">
            <a:noFill/>
          </a:ln>
        </p:spPr>
        <p:txBody>
          <a:bodyPr lIns="417240" rIns="417240" tIns="208440" bIns="208440" anchor="t">
            <a:noAutofit/>
          </a:bodyPr>
          <a:lstStyle>
            <a:lvl1pPr indent="0" algn="r">
              <a:buNone/>
              <a:tabLst>
                <a:tab algn="l" pos="0"/>
                <a:tab algn="l" pos="4175280"/>
                <a:tab algn="l" pos="8350200"/>
              </a:tabLst>
              <a:defRPr b="0" lang="en-US" sz="6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175280"/>
                <a:tab algn="l" pos="8350200"/>
              </a:tabLst>
            </a:pPr>
            <a:fld id="{03057FD3-5806-4448-A613-FDDE7752EEB0}" type="slidenum">
              <a:rPr b="0" lang="en-US" sz="6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640" y="723960"/>
            <a:ext cx="28346400" cy="4184640"/>
          </a:xfrm>
          <a:prstGeom prst="rect">
            <a:avLst/>
          </a:prstGeom>
          <a:gradFill rotWithShape="0">
            <a:gsLst>
              <a:gs pos="0">
                <a:srgbClr val="ecf6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175280"/>
                <a:tab algn="l" pos="83502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Arial"/>
              </a:rPr>
              <a:t>Incremental Small Delay Defect Methodology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wapnil Bahl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, Akhil Garg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,                      Roberto Mattiuzzo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, Saverio Graniello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, Paolo Cavenaghi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Microelectronics,  Greater Noida, India                               </a:t>
            </a:r>
            <a:r>
              <a:rPr b="0" lang="en-US" sz="38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Microelectronics, Agrate, Ital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{swapnil.bahl, akhil.garg, roberto.mattiuzzo, saverio.graniello, paolo.cavenaghi}@st.co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3057480"/>
            <a:ext cx="2728800" cy="1785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66880" y="5108400"/>
            <a:ext cx="13998600" cy="1106640"/>
          </a:xfrm>
          <a:prstGeom prst="rect">
            <a:avLst/>
          </a:prstGeom>
          <a:gradFill rotWithShape="0">
            <a:gsLst>
              <a:gs pos="0">
                <a:srgbClr val="ecf6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troduction to SDD Fault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19691280"/>
            <a:ext cx="13731840" cy="1106640"/>
          </a:xfrm>
          <a:prstGeom prst="rect">
            <a:avLst/>
          </a:prstGeom>
          <a:gradFill rotWithShape="0">
            <a:gsLst>
              <a:gs pos="0">
                <a:srgbClr val="ecf6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DD ATPG Flow @ 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980760" y="3295800"/>
            <a:ext cx="4572000" cy="17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16665480" y="10029960"/>
          <a:ext cx="12058920" cy="751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5480" y="10029960"/>
                    <a:ext cx="12058920" cy="75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8711720" y="10780560"/>
            <a:ext cx="3240" cy="469764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99360" y="10780560"/>
            <a:ext cx="3240" cy="469764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381080" y="10780560"/>
            <a:ext cx="2880" cy="469764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01040" y="10780560"/>
            <a:ext cx="3240" cy="469764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16560" y="11242800"/>
            <a:ext cx="674640" cy="144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339520" y="10468080"/>
            <a:ext cx="1170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440" rIns="3744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δ=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361240" y="10468080"/>
            <a:ext cx="117648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440" rIns="3744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δ=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96040" y="10468080"/>
            <a:ext cx="846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440" rIns="3744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δ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712320" y="16862400"/>
            <a:ext cx="35161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47760" y="35374320"/>
            <a:ext cx="13731840" cy="1106280"/>
          </a:xfrm>
          <a:prstGeom prst="rect">
            <a:avLst/>
          </a:prstGeom>
          <a:gradFill rotWithShape="0">
            <a:gsLst>
              <a:gs pos="0">
                <a:srgbClr val="ecf6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ax </a:t>
            </a:r>
            <a:r>
              <a:rPr b="1" lang="el-GR" sz="5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nd Limit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6587720" y="23537880"/>
            <a:ext cx="12117600" cy="5719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6567200" y="29643480"/>
            <a:ext cx="12166560" cy="570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41480" y="6583320"/>
            <a:ext cx="1405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DD targets each defect to be tested via worst slack pa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 fault is considered to be detected if it is detected via any path within a deviation δmax from the worst path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27440" y="18586440"/>
            <a:ext cx="13731840" cy="1106640"/>
          </a:xfrm>
          <a:prstGeom prst="rect">
            <a:avLst/>
          </a:prstGeom>
          <a:gradFill rotWithShape="0">
            <a:gsLst>
              <a:gs pos="0">
                <a:srgbClr val="ecf6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943280" y="8305920"/>
            <a:ext cx="8470800" cy="5867280"/>
            <a:chOff x="1943280" y="8305920"/>
            <a:chExt cx="8470800" cy="5867280"/>
          </a:xfrm>
        </p:grpSpPr>
        <p:sp>
          <p:nvSpPr>
            <p:cNvPr id="63" name=""/>
            <p:cNvSpPr/>
            <p:nvPr/>
          </p:nvSpPr>
          <p:spPr>
            <a:xfrm>
              <a:off x="5410440" y="8305920"/>
              <a:ext cx="377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ath 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5840" y="9534600"/>
              <a:ext cx="1365480" cy="1320840"/>
            </a:xfrm>
            <a:prstGeom prst="flowChartDelay">
              <a:avLst/>
            </a:prstGeom>
            <a:solidFill>
              <a:srgbClr val="b1b8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54560" y="11390400"/>
              <a:ext cx="1365120" cy="1320840"/>
            </a:xfrm>
            <a:prstGeom prst="flowChartDelay">
              <a:avLst/>
            </a:prstGeom>
            <a:solidFill>
              <a:srgbClr val="b1b8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3280" y="9141120"/>
              <a:ext cx="958680" cy="1349280"/>
            </a:xfrm>
            <a:prstGeom prst="rect">
              <a:avLst/>
            </a:prstGeom>
            <a:solidFill>
              <a:srgbClr val="b1b8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43280" y="10800000"/>
              <a:ext cx="958680" cy="1349280"/>
            </a:xfrm>
            <a:prstGeom prst="rect">
              <a:avLst/>
            </a:prstGeom>
            <a:solidFill>
              <a:srgbClr val="b1b8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3280" y="12458880"/>
              <a:ext cx="958680" cy="1349280"/>
            </a:xfrm>
            <a:prstGeom prst="rect">
              <a:avLst/>
            </a:prstGeom>
            <a:solidFill>
              <a:srgbClr val="b1b8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64600" y="9141120"/>
              <a:ext cx="959040" cy="1349280"/>
            </a:xfrm>
            <a:prstGeom prst="rect">
              <a:avLst/>
            </a:prstGeom>
            <a:solidFill>
              <a:srgbClr val="b1b8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01960" y="9506160"/>
              <a:ext cx="2935440" cy="336600"/>
            </a:xfrm>
            <a:custGeom>
              <a:avLst/>
              <a:gdLst/>
              <a:ahLst/>
              <a:rect l="l" t="t" r="r" b="b"/>
              <a:pathLst>
                <a:path w="2664" h="288">
                  <a:moveTo>
                    <a:pt x="0" y="0"/>
                  </a:moveTo>
                  <a:lnTo>
                    <a:pt x="1968" y="0"/>
                  </a:lnTo>
                  <a:lnTo>
                    <a:pt x="1968" y="288"/>
                  </a:lnTo>
                  <a:lnTo>
                    <a:pt x="2664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91240" y="10603080"/>
              <a:ext cx="987480" cy="1461960"/>
            </a:xfrm>
            <a:custGeom>
              <a:avLst/>
              <a:gdLst/>
              <a:ahLst/>
              <a:rect l="l" t="t" r="r" b="b"/>
              <a:pathLst>
                <a:path w="816" h="1512">
                  <a:moveTo>
                    <a:pt x="0" y="1512"/>
                  </a:moveTo>
                  <a:lnTo>
                    <a:pt x="528" y="1512"/>
                  </a:lnTo>
                  <a:lnTo>
                    <a:pt x="528" y="0"/>
                  </a:lnTo>
                  <a:lnTo>
                    <a:pt x="81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01960" y="11052360"/>
              <a:ext cx="522360" cy="646200"/>
            </a:xfrm>
            <a:custGeom>
              <a:avLst/>
              <a:gdLst/>
              <a:ahLst/>
              <a:rect l="l" t="t" r="r" b="b"/>
              <a:pathLst>
                <a:path w="744" h="552">
                  <a:moveTo>
                    <a:pt x="0" y="0"/>
                  </a:moveTo>
                  <a:lnTo>
                    <a:pt x="552" y="0"/>
                  </a:lnTo>
                  <a:lnTo>
                    <a:pt x="552" y="552"/>
                  </a:lnTo>
                  <a:lnTo>
                    <a:pt x="744" y="5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01960" y="12288960"/>
              <a:ext cx="522360" cy="674640"/>
            </a:xfrm>
            <a:custGeom>
              <a:avLst/>
              <a:gdLst/>
              <a:ahLst/>
              <a:rect l="l" t="t" r="r" b="b"/>
              <a:pathLst>
                <a:path w="720" h="576">
                  <a:moveTo>
                    <a:pt x="0" y="576"/>
                  </a:moveTo>
                  <a:lnTo>
                    <a:pt x="408" y="576"/>
                  </a:lnTo>
                  <a:lnTo>
                    <a:pt x="408" y="0"/>
                  </a:lnTo>
                  <a:lnTo>
                    <a:pt x="7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90000" y="9450360"/>
              <a:ext cx="1074600" cy="730440"/>
            </a:xfrm>
            <a:custGeom>
              <a:avLst/>
              <a:gdLst/>
              <a:ahLst/>
              <a:rect l="l" t="t" r="r" b="b"/>
              <a:pathLst>
                <a:path w="744" h="624">
                  <a:moveTo>
                    <a:pt x="0" y="624"/>
                  </a:moveTo>
                  <a:lnTo>
                    <a:pt x="384" y="624"/>
                  </a:lnTo>
                  <a:lnTo>
                    <a:pt x="384" y="0"/>
                  </a:lnTo>
                  <a:lnTo>
                    <a:pt x="7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92480" y="8915400"/>
              <a:ext cx="711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814840" y="10800000"/>
              <a:ext cx="5840280" cy="337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37760" y="9645840"/>
              <a:ext cx="32040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59760" y="12092040"/>
              <a:ext cx="192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ath 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493480" y="11558880"/>
              <a:ext cx="192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aul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91480" y="10325160"/>
              <a:ext cx="590760" cy="1600200"/>
            </a:xfrm>
            <a:custGeom>
              <a:avLst/>
              <a:gdLst/>
              <a:ahLst/>
              <a:rect l="l" t="t" r="r" b="b"/>
              <a:pathLst>
                <a:path w="180" h="816">
                  <a:moveTo>
                    <a:pt x="12" y="0"/>
                  </a:moveTo>
                  <a:cubicBezTo>
                    <a:pt x="6" y="238"/>
                    <a:pt x="0" y="476"/>
                    <a:pt x="180" y="8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8610480" y="13844520"/>
            <a:ext cx="7619760" cy="5319720"/>
            <a:chOff x="8610480" y="13844520"/>
            <a:chExt cx="7619760" cy="5319720"/>
          </a:xfrm>
        </p:grpSpPr>
        <p:sp>
          <p:nvSpPr>
            <p:cNvPr id="82" name=""/>
            <p:cNvSpPr/>
            <p:nvPr/>
          </p:nvSpPr>
          <p:spPr>
            <a:xfrm>
              <a:off x="10477080" y="15049440"/>
              <a:ext cx="5753160" cy="761760"/>
            </a:xfrm>
            <a:custGeom>
              <a:avLst/>
              <a:gdLst/>
              <a:ahLst/>
              <a:rect l="l" t="t" r="r" b="b"/>
              <a:pathLst>
                <a:path w="3096" h="456">
                  <a:moveTo>
                    <a:pt x="0" y="456"/>
                  </a:moveTo>
                  <a:lnTo>
                    <a:pt x="1632" y="456"/>
                  </a:lnTo>
                  <a:lnTo>
                    <a:pt x="1776" y="0"/>
                  </a:lnTo>
                  <a:lnTo>
                    <a:pt x="2208" y="0"/>
                  </a:lnTo>
                  <a:lnTo>
                    <a:pt x="2352" y="456"/>
                  </a:lnTo>
                  <a:lnTo>
                    <a:pt x="3096" y="4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477080" y="16535160"/>
              <a:ext cx="5753160" cy="685800"/>
            </a:xfrm>
            <a:custGeom>
              <a:avLst/>
              <a:gdLst/>
              <a:ahLst/>
              <a:rect l="l" t="t" r="r" b="b"/>
              <a:pathLst>
                <a:path w="3552" h="432">
                  <a:moveTo>
                    <a:pt x="0" y="432"/>
                  </a:moveTo>
                  <a:lnTo>
                    <a:pt x="1464" y="432"/>
                  </a:lnTo>
                  <a:lnTo>
                    <a:pt x="1584" y="0"/>
                  </a:lnTo>
                  <a:lnTo>
                    <a:pt x="35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515240" y="17678160"/>
              <a:ext cx="5715000" cy="800280"/>
            </a:xfrm>
            <a:custGeom>
              <a:avLst/>
              <a:gdLst/>
              <a:ahLst/>
              <a:rect l="l" t="t" r="r" b="b"/>
              <a:pathLst>
                <a:path w="3600" h="504">
                  <a:moveTo>
                    <a:pt x="0" y="504"/>
                  </a:moveTo>
                  <a:lnTo>
                    <a:pt x="2112" y="504"/>
                  </a:lnTo>
                  <a:lnTo>
                    <a:pt x="2280" y="0"/>
                  </a:lnTo>
                  <a:lnTo>
                    <a:pt x="36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020560" y="14515920"/>
              <a:ext cx="0" cy="45338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953880" y="14515920"/>
              <a:ext cx="0" cy="45338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610480" y="17983080"/>
              <a:ext cx="3771720" cy="11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ath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ault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515240" y="14630400"/>
              <a:ext cx="0" cy="45338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10480" y="16459200"/>
              <a:ext cx="40384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ath B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ault fre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493440" y="13844520"/>
              <a:ext cx="249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ault dela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29520" y="15506640"/>
              <a:ext cx="40384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838080" y="13844520"/>
            <a:ext cx="7657920" cy="5209560"/>
            <a:chOff x="838080" y="13844520"/>
            <a:chExt cx="7657920" cy="5209560"/>
          </a:xfrm>
        </p:grpSpPr>
        <p:sp>
          <p:nvSpPr>
            <p:cNvPr id="93" name=""/>
            <p:cNvSpPr/>
            <p:nvPr/>
          </p:nvSpPr>
          <p:spPr>
            <a:xfrm>
              <a:off x="2705040" y="15049440"/>
              <a:ext cx="5752800" cy="761760"/>
            </a:xfrm>
            <a:custGeom>
              <a:avLst/>
              <a:gdLst/>
              <a:ahLst/>
              <a:rect l="l" t="t" r="r" b="b"/>
              <a:pathLst>
                <a:path w="3096" h="456">
                  <a:moveTo>
                    <a:pt x="0" y="456"/>
                  </a:moveTo>
                  <a:lnTo>
                    <a:pt x="1632" y="456"/>
                  </a:lnTo>
                  <a:lnTo>
                    <a:pt x="1776" y="0"/>
                  </a:lnTo>
                  <a:lnTo>
                    <a:pt x="2208" y="0"/>
                  </a:lnTo>
                  <a:lnTo>
                    <a:pt x="2352" y="456"/>
                  </a:lnTo>
                  <a:lnTo>
                    <a:pt x="3096" y="4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42840" y="17678160"/>
              <a:ext cx="5753160" cy="685800"/>
            </a:xfrm>
            <a:custGeom>
              <a:avLst/>
              <a:gdLst/>
              <a:ahLst/>
              <a:rect l="l" t="t" r="r" b="b"/>
              <a:pathLst>
                <a:path w="3552" h="432">
                  <a:moveTo>
                    <a:pt x="0" y="432"/>
                  </a:moveTo>
                  <a:lnTo>
                    <a:pt x="1464" y="432"/>
                  </a:lnTo>
                  <a:lnTo>
                    <a:pt x="1584" y="0"/>
                  </a:lnTo>
                  <a:lnTo>
                    <a:pt x="35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81480" y="14515920"/>
              <a:ext cx="0" cy="45338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440" y="14515920"/>
              <a:ext cx="0" cy="45338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906760"/>
              <a:ext cx="2247840" cy="11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ath A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ault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2840" y="14515920"/>
              <a:ext cx="0" cy="45338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080" y="16459200"/>
              <a:ext cx="40384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ath A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ault fre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21040" y="13844520"/>
              <a:ext cx="249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ault dela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57120" y="15506640"/>
              <a:ext cx="40384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2251"/>
                </a:spcBef>
                <a:tabLst>
                  <a:tab algn="l" pos="0"/>
                  <a:tab algn="l" pos="4175280"/>
                  <a:tab algn="l" pos="83502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2840" y="16421040"/>
              <a:ext cx="5715000" cy="723960"/>
            </a:xfrm>
            <a:custGeom>
              <a:avLst/>
              <a:gdLst/>
              <a:ahLst/>
              <a:rect l="l" t="t" r="r" b="b"/>
              <a:pathLst>
                <a:path w="3600" h="456">
                  <a:moveTo>
                    <a:pt x="0" y="456"/>
                  </a:moveTo>
                  <a:lnTo>
                    <a:pt x="792" y="456"/>
                  </a:lnTo>
                  <a:lnTo>
                    <a:pt x="960" y="0"/>
                  </a:lnTo>
                  <a:lnTo>
                    <a:pt x="36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Object 4" descr=""/>
          <p:cNvPicPr/>
          <p:nvPr/>
        </p:nvPicPr>
        <p:blipFill>
          <a:blip r:embed="rId7"/>
          <a:srcRect l="-1780" t="-745" r="0" b="-325"/>
          <a:stretch/>
        </p:blipFill>
        <p:spPr>
          <a:xfrm>
            <a:off x="1249200" y="23637960"/>
            <a:ext cx="12701880" cy="10977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65160" y="37025280"/>
            <a:ext cx="1402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aults can be targeted via any path within a permissible limit of worst slack path called δma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ermits flexibility and optimize the no of patter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higher value of δmax increases the probability of fault detection during fault simulation but may decrease the quality of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351120" y="5137200"/>
            <a:ext cx="13731840" cy="1106280"/>
          </a:xfrm>
          <a:prstGeom prst="rect">
            <a:avLst/>
          </a:prstGeom>
          <a:gradFill rotWithShape="0">
            <a:gsLst>
              <a:gs pos="0">
                <a:srgbClr val="ecf6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cremental SDD F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2040" y="6888240"/>
            <a:ext cx="1512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aller δmax values for the faults with lesser slack val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δmax values for the faults with higher slack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tricts fault detection during fault simulation through smaller pa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ical faults are detected close to their worst slack pa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27440" y="35629920"/>
            <a:ext cx="13807800" cy="1106280"/>
          </a:xfrm>
          <a:prstGeom prst="rect">
            <a:avLst/>
          </a:prstGeom>
          <a:gradFill rotWithShape="0">
            <a:gsLst>
              <a:gs pos="0">
                <a:srgbClr val="ecf6ff"/>
              </a:gs>
              <a:gs pos="100000">
                <a:srgbClr val="99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onclusion and Future 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9960" y="22898160"/>
            <a:ext cx="7200720" cy="293364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2M gat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279040" y="24383880"/>
            <a:ext cx="457200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ndard ATP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355360" y="30518280"/>
            <a:ext cx="4572000" cy="642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remental ATP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687800" y="33147000"/>
            <a:ext cx="2971800" cy="186696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79040" y="32118480"/>
            <a:ext cx="4343400" cy="1257120"/>
          </a:xfrm>
          <a:prstGeom prst="wedgeRoundRectCallout">
            <a:avLst>
              <a:gd name="adj1" fmla="val -140458"/>
              <a:gd name="adj2" fmla="val 57828"/>
              <a:gd name="adj3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tter Fault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9418400">
            <a:off x="6912000" y="13112280"/>
            <a:ext cx="4343400" cy="825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ault Escap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418400">
            <a:off x="10036080" y="13264920"/>
            <a:ext cx="4343400" cy="825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ault detec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8840" y="21594600"/>
            <a:ext cx="1478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DD ATPG requires data exchange between multiple too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ly automated flow @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113160" y="20147040"/>
            <a:ext cx="1512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New plot to see the quality of patter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lta-slack plot showing the deviation of detection via colors on the slack histogra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east deviation is represented by the green color and the higher values are represented with red col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494040" y="36987120"/>
            <a:ext cx="1474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igh Quality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Negligible impact on pattern 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etter ways to quantify pattern qualities need to be investiga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764280" y="10468080"/>
            <a:ext cx="113832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440" rIns="3744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δ=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702360" y="11250720"/>
            <a:ext cx="1201680" cy="324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945440" y="11242800"/>
            <a:ext cx="2055600" cy="46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94920" y="11250720"/>
            <a:ext cx="3403440" cy="61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hil garg</cp:lastModifiedBy>
  <dcterms:modified xsi:type="dcterms:W3CDTF">2010-05-07T12:38:59Z</dcterms:modified>
  <cp:revision>2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NewReviewCycle">
    <vt:lpwstr/>
  </property>
</Properties>
</file>